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2846160-5367-403F-BDF0-A2CAA1B4F90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r den gleichen Preis liefert die Mikroelektronik die doppelte Leistung in weniger als zwei Jahren (oder die 100 fache Leistung in jeweils 10 Jahre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Gesetz gilt seit 30 Jahren und entgegen wenigen pessimistischen Stimmen ist seine Gültigkeit für die nächsten 20 Jahren relativ klar belegb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nerhalb von 10 Jahren erhöht sich die Ingerationsdichte um den Faktor 100, fällt der Preis pro Bit auf 1% und erhöhen sich die Kosten der Fertigunganlagen um den Faktor 1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us der Computer-Zeitung 40/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sinkenden Strukturgrößen stoßen an die Grenzen der Physi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Chipentwicklung, wie sie sich in den nächsten Jahren aus der Sicht der Semiconductor Industry Association (SIA) darstellt: Es ist absehbar, daß die Industrie die Vorhersage übertrifft. Mit der 0,25 -Mikron-Technik senkt Intel beispielsweise die Betriebsspannung auf 1,8 Vo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45D-E3A3-4CD3-88B2-276B35FC90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181160"/>
            <a:ext cx="81914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Vorles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Technische Informatik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SS 20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Arial"/>
              </a:rPr>
              <a:t>Prof. Dr. –Ing. R. Dill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Dipl.-Ing. T. As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stitut für Rechnerentwurf und Fehlertoleranz (IR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dustrielle Anwendungen der Informatik und Mikrosystemtechnik (IA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eistungs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4" name="grafik4" descr=""/>
          <p:cNvPicPr/>
          <p:nvPr/>
        </p:nvPicPr>
        <p:blipFill>
          <a:blip r:embed="rId1"/>
          <a:stretch/>
        </p:blipFill>
        <p:spPr>
          <a:xfrm>
            <a:off x="1155600" y="1138320"/>
            <a:ext cx="6747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derne Entwickl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520" y="1252440"/>
            <a:ext cx="86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IBM und XILINX bereiten sich f</a:t>
            </a:r>
            <a:r>
              <a:rPr b="0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r die Produktion der er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90-Nanometer-Chips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 300 -mm-Wafern v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7080" y="2279520"/>
            <a:ext cx="697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Chips mit mehreren Hundert Millionen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und bis zu 72 Millionen Logik-G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Versorgungsspannung von unter 1 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Bis zu acht Kuper-Metalllagen sind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kapazitätsarme Low-K-Dielektrika als Isolator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Diffusionsbarriere zum Siliz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 die neue Fabrik hat IBM rund 2,5 Milliarden USDo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vest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3038d"/>
                </a:solidFill>
                <a:latin typeface="Tahoma"/>
              </a:rPr>
              <a:t>Zukünftige Entwicklung in Schlagwor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5520" y="1247760"/>
            <a:ext cx="816588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Quanten-Computer: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xistieren bisher nur in der Theorie und sind so exotisch wie die Quantenmechanik selbst.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s Speicher für Information in einem Quanten-Computer könnten Wasserstoffatome dien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Molekulare Computer (DNA-Computer)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önnen Moleküle sich gegenseitig beeinflussen und dadurch Berechnungen anstellen?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85920" y="114768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90840" y="1590840"/>
            <a:ext cx="0" cy="420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Struktur eines Computer mit 6 Eben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85920" y="206532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85920" y="570384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85920" y="298944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5920" y="389880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920" y="480384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560" y="302256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bene der Betriebssystemmas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36920" y="393228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A (Instruction Set Archit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9040" y="48369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archite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8560" y="20988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bene der Assemblerspr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2680" y="11811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orientierte Spr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16840" y="5737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gitale Log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400" y="118116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400" y="30225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400" y="20988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400" y="48369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400" y="573732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400" y="3932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24120" y="16462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Übersetzung (Compi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24120" y="2579760"/>
            <a:ext cx="33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Übersetzung (Assemb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3475080"/>
            <a:ext cx="56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eilinterpretation (Mikroprogramm) oder direkte Aus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26640" y="52992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4120" y="4389480"/>
            <a:ext cx="44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eilinterpretation (Betrieb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Tahoma"/>
              </a:rPr>
              <a:t>Gliederung der Steuerungsebenen im Rechnersysem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6" name="grafik5" descr=""/>
          <p:cNvPicPr/>
          <p:nvPr/>
        </p:nvPicPr>
        <p:blipFill>
          <a:blip r:embed="rId1"/>
          <a:stretch/>
        </p:blipFill>
        <p:spPr>
          <a:xfrm>
            <a:off x="279360" y="1182600"/>
            <a:ext cx="8516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57440" y="1676520"/>
            <a:ext cx="5867280" cy="3886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29200" y="3798720"/>
            <a:ext cx="121932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61240" y="2143080"/>
            <a:ext cx="121896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in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52880" y="2133720"/>
            <a:ext cx="1344600" cy="2819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6800" y="1676520"/>
            <a:ext cx="1981440" cy="388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09880" y="2133720"/>
            <a:ext cx="140652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39760" y="3809880"/>
            <a:ext cx="137664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88920" y="50292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3320" y="1015920"/>
            <a:ext cx="772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Prinzipieller Aufbau eines 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Adres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interne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ie Systembus-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RISC vs. CISC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on-Neumann- vs. Harvard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Befehls-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inzip und Funktions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ten- und Kontrollkonflikte und deren Behe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50400" y="1306440"/>
            <a:ext cx="739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Einf</a:t>
            </a:r>
            <a:r>
              <a:rPr b="1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hrung in die Assembler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grammiertechn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PS-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Organisation des 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bau von Speicher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rganisation von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peic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ache-Speicher (Prinzip, Techn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7480" y="1316160"/>
            <a:ext cx="730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ystem-Steuer- und Schnittstellen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us-Arbiter, Interrupt-Controller, Schnittstell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Mikrocontroller &amp; Digitale 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Eingabe-/Ausgabe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Zeitgeber/Zдhler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peicher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Unterbrechungs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MA (direct Memory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720" y="1085760"/>
            <a:ext cx="7773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U. Brinkschulte und Th. Unger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Mikrocontroller und Mikroprozess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Springer-Verlag,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H. Bähr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Mikrorechner-Systeme,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3. Auflage 2002 (Band I/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Th. Flick, H. Liebi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Mikroprozessortechnik;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5. Auflage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W. Oberschelp, G. Voss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Rechneraufbau und Rechnerstrukturen, 8. Auflag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Oldenbourg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378080"/>
            <a:ext cx="8109000" cy="16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154800" bIns="22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Wettrennen um die schnellsten Mikroprozessoren könnte man als Formel 1 der Computertechnik bezeichne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8040" y="3125880"/>
            <a:ext cx="4077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EIT vom 18. März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9920" y="4098960"/>
            <a:ext cx="6932520" cy="1032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Prozessor ist das Reitpferd d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sgesellschaf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3920" y="5219640"/>
            <a:ext cx="556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Waldschmidt, ARCS-Tagung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3640" y="1150920"/>
            <a:ext cx="854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. Patterson, J. Hennes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omputer Organisation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organ Kaufmann Publ. 3. Auflag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J. Silic, B. Robic and 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cessor architecture : from dataflow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uperscalar and beyond; Spring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kroprozessortechnik, Thomso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.S. Tanenb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ructured Computer Organization, 4. Auflage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Kapitel 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5360" y="2136600"/>
            <a:ext cx="754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Prinzipieller Aufbau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eines Prozessors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920" y="15228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1.1 Aufbau eines Digitalrechner (von-Neumann-Rechne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280" y="1082520"/>
            <a:ext cx="8543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Digitalrechner (Rechner, Computer)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rei Hauptkomponent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Hardware: 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Physikalische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Implementierung einer Funktionalität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Alle mechanischen und elektronischen Bau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Softw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Logische Implementierung einer Funktionalitä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Alle Programme, die auf dem Rechner ablau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3399"/>
                </a:solidFill>
                <a:latin typeface="Arial"/>
              </a:rPr>
              <a:t>Firmw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Mikroprogramme in ROMs, Mittelstellung zwischen </a:t>
            </a:r>
            <a:br>
              <a:rPr sz="2200"/>
            </a:br>
            <a:r>
              <a:rPr b="0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3399"/>
                </a:solidFill>
                <a:latin typeface="Arial"/>
              </a:rPr>
              <a:t>Hardware und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as von-Neumann-Konnzep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8280" y="1120680"/>
            <a:ext cx="799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Das </a:t>
            </a:r>
            <a:r>
              <a:rPr b="1" sz="2400" spc="-1" strike="noStrike">
                <a:solidFill>
                  <a:srgbClr val="003399"/>
                </a:solidFill>
                <a:latin typeface="Arial"/>
              </a:rPr>
              <a:t>von-Neumann-Konzept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 ist die Grundlage der in dieser Vorlesung vorgestellten Hardware-Architektur eines Digitalrech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Es besteht aus den Kompone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28080" y="3129120"/>
            <a:ext cx="4132440" cy="3082680"/>
            <a:chOff x="4528080" y="3129120"/>
            <a:chExt cx="4132440" cy="3082680"/>
          </a:xfrm>
        </p:grpSpPr>
        <p:pic>
          <p:nvPicPr>
            <p:cNvPr id="203" name="T-von-neumann-jpg" descr=""/>
            <p:cNvPicPr/>
            <p:nvPr/>
          </p:nvPicPr>
          <p:blipFill>
            <a:blip r:embed="rId1"/>
            <a:srcRect l="1875" t="0" r="7562" b="15587"/>
            <a:stretch/>
          </p:blipFill>
          <p:spPr>
            <a:xfrm>
              <a:off x="4552920" y="3129120"/>
              <a:ext cx="39387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28080" y="5843520"/>
              <a:ext cx="41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399"/>
                  </a:solidFill>
                  <a:latin typeface="Arial"/>
                </a:rPr>
                <a:t>Ursprüngliche von-Neumann-Mas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09680" y="3357720"/>
            <a:ext cx="45720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Ein-/Ausgabe-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on-Neumann-Rechn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7" name="grafik6" descr=""/>
          <p:cNvPicPr/>
          <p:nvPr/>
        </p:nvPicPr>
        <p:blipFill>
          <a:blip r:embed="rId1"/>
          <a:stretch/>
        </p:blipFill>
        <p:spPr>
          <a:xfrm>
            <a:off x="1747800" y="1241280"/>
            <a:ext cx="51976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MD Athlon Chip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grafik7" descr=""/>
          <p:cNvPicPr/>
          <p:nvPr/>
        </p:nvPicPr>
        <p:blipFill>
          <a:blip r:embed="rId1"/>
          <a:stretch/>
        </p:blipFill>
        <p:spPr>
          <a:xfrm>
            <a:off x="1469880" y="1112760"/>
            <a:ext cx="63676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1.1 Aufbau eines Digitalrechn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1520" y="1362240"/>
            <a:ext cx="84297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In der Vorlesung TI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vor allem Rechner-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oftware-Aspekte nur auf der niedrigsten Ebene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(Befehlssätze, maschinennahe Programmierung,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peicher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1.1 Aufbau eines Digitalrechn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360" y="1276200"/>
            <a:ext cx="807732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Arial"/>
              </a:rPr>
              <a:t>Rechner aus Hardware-Sicht: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Digitales, elektronisches System, in dem Daten als binärcodierte Information eingegeben, dort gespeichert und verarbeitet wer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Die Verarbeitung der Daten erfolgt nach einem vorgegebenen Programm aus Maschinenbefehlen, welche die jeweils nächste Operation und die benötigten Operanden bestimm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073480" y="1165320"/>
            <a:ext cx="213372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20880" y="1166760"/>
            <a:ext cx="213336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3040" y="2227320"/>
            <a:ext cx="2438640" cy="72396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640" y="2227320"/>
            <a:ext cx="2438280" cy="723960"/>
          </a:xfrm>
          <a:prstGeom prst="rect">
            <a:avLst/>
          </a:prstGeom>
          <a:solidFill>
            <a:srgbClr val="33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igitalrechner nach dem von-Neumann Konzep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2680" y="120024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ssystem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er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8360" y="2298600"/>
            <a:ext cx="236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rogramme und Da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43320" y="2298600"/>
            <a:ext cx="19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-/Ausgabe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8840" y="1198440"/>
            <a:ext cx="22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ipheriegerä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, Bildschri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7320" y="4141800"/>
            <a:ext cx="6553440" cy="19908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465800"/>
            <a:ext cx="243864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5080" y="4467240"/>
            <a:ext cx="243828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3480" y="4483080"/>
            <a:ext cx="172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04760" y="4483080"/>
            <a:ext cx="2518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s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371400" y="471492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390480" y="522936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71560" y="2952720"/>
            <a:ext cx="0" cy="150516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71440" y="2933640"/>
            <a:ext cx="0" cy="151452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33560" y="1819440"/>
            <a:ext cx="0" cy="409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143000" y="3476520"/>
            <a:ext cx="407664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2914560"/>
            <a:ext cx="0" cy="552600"/>
          </a:xfrm>
          <a:prstGeom prst="line">
            <a:avLst/>
          </a:prstGeom>
          <a:ln w="381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771200" y="3610080"/>
            <a:ext cx="38768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48400" y="2933640"/>
            <a:ext cx="0" cy="67644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3860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819160" y="3772080"/>
            <a:ext cx="40575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67440" y="1809720"/>
            <a:ext cx="0" cy="4190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61440" y="5457960"/>
            <a:ext cx="3724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entraleinheit 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34480" y="1841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5280" y="38228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66"/>
                </a:solidFill>
                <a:latin typeface="Arial"/>
              </a:rPr>
              <a:t>Adr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20600" y="382284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67800" y="3822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68840" y="299880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 und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5868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8640" y="44132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15560" y="4889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2104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8120" y="4865760"/>
            <a:ext cx="159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SS: Status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MS: Melde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0520" y="1127160"/>
            <a:ext cx="8637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e Leistungssteigerung bei Mikroprozessoren ist durch folgende Fortschritte erreicht word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1600" y="3676680"/>
            <a:ext cx="8683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Gatterzahl auf dem C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Taktrate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Fortschritte beim Hardware-Entwurf (Architektur, Mikroarchitektur, Entwurfswerkzeu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Exponentialgesetz der Mikroelektronik</a:t>
            </a:r>
            <a:br>
              <a:rPr sz="3200"/>
            </a:br>
            <a:r>
              <a:rPr b="0" lang="de-DE" sz="3200" spc="-1" strike="noStrike">
                <a:solidFill>
                  <a:srgbClr val="003399"/>
                </a:solidFill>
                <a:latin typeface="Tahoma"/>
              </a:rPr>
              <a:t>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90512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Die Anzahl der Transistoren pro (Prozessor-)Ch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verdoppelt sich alle zwei Jah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Die Verarbeitungsleistung der Hochleistungsprozess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Verdoppelt sich alle 18 Mon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Für den gleichen Preis liefert die Mikroelektronik d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99"/>
                </a:solidFill>
                <a:latin typeface="Arial"/>
              </a:rPr>
              <a:t>doppelte Leistung in weniger als zwei Jahr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3038d"/>
                </a:solidFill>
                <a:latin typeface="Tahoma"/>
              </a:rPr>
              <a:t>Exponentialgesetz der Mikroelektronik 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afik1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84488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eispiele bei 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" name="grafik2" descr=""/>
          <p:cNvPicPr/>
          <p:nvPr/>
        </p:nvPicPr>
        <p:blipFill>
          <a:blip r:embed="rId1"/>
          <a:stretch/>
        </p:blipFill>
        <p:spPr>
          <a:xfrm>
            <a:off x="216000" y="1187280"/>
            <a:ext cx="87120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Beispiele von Mikro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grafik3" descr=""/>
          <p:cNvPicPr/>
          <p:nvPr/>
        </p:nvPicPr>
        <p:blipFill>
          <a:blip r:embed="rId1"/>
          <a:stretch/>
        </p:blipFill>
        <p:spPr>
          <a:xfrm>
            <a:off x="3892680" y="1333440"/>
            <a:ext cx="4730760" cy="464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3080" y="1805040"/>
            <a:ext cx="319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Zwei unabhängige 6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33640"/>
            <a:ext cx="25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b"/>
                </a:solidFill>
                <a:latin typeface="Arial"/>
              </a:rPr>
              <a:t>IBM Pow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440" y="1244520"/>
            <a:ext cx="79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mmer mehr Transistoren auf einem VLSI-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SIA 1997 Roadmap für Prozessoren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97760" y="1440000"/>
            <a:ext cx="187560" cy="693720"/>
          </a:xfrm>
          <a:prstGeom prst="downArrow">
            <a:avLst>
              <a:gd name="adj1" fmla="val 50000"/>
              <a:gd name="adj2" fmla="val 924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59080" y="500544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Arial"/>
              </a:rPr>
              <a:t>SIA = American Semiconductor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Arial"/>
              </a:rPr>
              <a:t>http://public.itrs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Arial"/>
              </a:rPr>
              <a:t>http://www.sematech.org/public/hom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t501" descr=""/>
          <p:cNvPicPr/>
          <p:nvPr/>
        </p:nvPicPr>
        <p:blipFill>
          <a:blip r:embed="rId1"/>
          <a:stretch/>
        </p:blipFill>
        <p:spPr>
          <a:xfrm>
            <a:off x="723960" y="2182680"/>
            <a:ext cx="7794720" cy="2722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843680" y="4433760"/>
            <a:ext cx="543240" cy="4748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003399"/>
                </a:solidFill>
                <a:latin typeface="Arial"/>
              </a:rPr>
              <a:t>Mehr Leistung bei weniger Stromverbrauch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1240" y="139716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grö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41320" y="2144880"/>
            <a:ext cx="7232040" cy="3572640"/>
            <a:chOff x="841320" y="2144880"/>
            <a:chExt cx="7232040" cy="3572640"/>
          </a:xfrm>
        </p:grpSpPr>
        <p:grpSp>
          <p:nvGrpSpPr>
            <p:cNvPr id="82" name=""/>
            <p:cNvGrpSpPr/>
            <p:nvPr/>
          </p:nvGrpSpPr>
          <p:grpSpPr>
            <a:xfrm>
              <a:off x="922320" y="5625720"/>
              <a:ext cx="7068240" cy="79920"/>
              <a:chOff x="922320" y="5625720"/>
              <a:chExt cx="7068240" cy="79920"/>
            </a:xfrm>
          </p:grpSpPr>
          <p:sp>
            <p:nvSpPr>
              <p:cNvPr id="83" name=""/>
              <p:cNvSpPr/>
              <p:nvPr/>
            </p:nvSpPr>
            <p:spPr>
              <a:xfrm>
                <a:off x="922320" y="56257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2121480" y="5625720"/>
                <a:ext cx="4777560" cy="79920"/>
                <a:chOff x="2121480" y="5625720"/>
                <a:chExt cx="4777560" cy="799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12148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3296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2880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7092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990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"/>
            <p:cNvGrpSpPr/>
            <p:nvPr/>
          </p:nvGrpSpPr>
          <p:grpSpPr>
            <a:xfrm>
              <a:off x="841320" y="2224440"/>
              <a:ext cx="75240" cy="3493080"/>
              <a:chOff x="841320" y="2224440"/>
              <a:chExt cx="75240" cy="349308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916560" y="2224440"/>
                <a:ext cx="0" cy="349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841320" y="2554560"/>
                <a:ext cx="72000" cy="2625480"/>
                <a:chOff x="841320" y="2554560"/>
                <a:chExt cx="72000" cy="2625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841320" y="51800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41320" y="430128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41320" y="34279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1320" y="25545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907200" y="2144880"/>
              <a:ext cx="7068240" cy="79920"/>
              <a:chOff x="907200" y="2144880"/>
              <a:chExt cx="7068240" cy="7992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907200" y="22165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2106360" y="2144880"/>
                <a:ext cx="4777560" cy="79920"/>
                <a:chOff x="2106360" y="2144880"/>
                <a:chExt cx="4777560" cy="79920"/>
              </a:xfrm>
            </p:grpSpPr>
            <p:sp>
              <p:nvSpPr>
                <p:cNvPr id="100" name=""/>
                <p:cNvSpPr/>
                <p:nvPr/>
              </p:nvSpPr>
              <p:spPr>
                <a:xfrm flipV="1">
                  <a:off x="210636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>
                  <a:off x="33145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451368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6941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68839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7998120" y="2211840"/>
              <a:ext cx="75240" cy="3493440"/>
              <a:chOff x="7998120" y="2211840"/>
              <a:chExt cx="75240" cy="349344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998120" y="2211840"/>
                <a:ext cx="0" cy="34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8001360" y="2541600"/>
                <a:ext cx="72000" cy="2625840"/>
                <a:chOff x="8001360" y="2541600"/>
                <a:chExt cx="72000" cy="2625840"/>
              </a:xfrm>
            </p:grpSpPr>
            <p:sp>
              <p:nvSpPr>
                <p:cNvPr id="108" name=""/>
                <p:cNvSpPr/>
                <p:nvPr/>
              </p:nvSpPr>
              <p:spPr>
                <a:xfrm flipH="1">
                  <a:off x="8001360" y="51674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8001360" y="42883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8001360" y="34149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8001360" y="254160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2" name=""/>
          <p:cNvSpPr/>
          <p:nvPr/>
        </p:nvSpPr>
        <p:spPr>
          <a:xfrm>
            <a:off x="59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3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2800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2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3784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1432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836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7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3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8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680" y="500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680" y="410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680" y="236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7912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810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04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448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49960" y="23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49600" y="322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49240" y="411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48880" y="497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917640" y="2536920"/>
            <a:ext cx="6956280" cy="26366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25560" y="3444840"/>
            <a:ext cx="697068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25560" y="4275000"/>
            <a:ext cx="6958080" cy="9036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33480" y="4471560"/>
            <a:ext cx="6927840" cy="723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6960" y="2516040"/>
            <a:ext cx="6991200" cy="269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70800">
            <a:off x="1936080" y="294012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riebsspan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299800">
            <a:off x="5304960" y="27954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its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775000">
            <a:off x="4935960" y="34336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ogikfunktionen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46400">
            <a:off x="5473440" y="4303440"/>
            <a:ext cx="57924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1137400">
            <a:off x="4806360" y="4097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Größe der Speicher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1309600">
            <a:off x="3934440" y="476388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schlüsse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InFeRnO</cp:lastModifiedBy>
  <cp:lastPrinted>2000-05-02T16:11:13Z</cp:lastPrinted>
  <dcterms:modified xsi:type="dcterms:W3CDTF">2003-09-24T08:35:29Z</dcterms:modified>
  <cp:revision>351</cp:revision>
  <dc:subject/>
  <dc:title>TI-2</dc:title>
</cp:coreProperties>
</file>