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8C1C680-084C-4F14-ACD3-800541CDB9C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QS-Signal dient dem Chipsatz und dem Speicher als Referenz, um korrespondierende Daten zu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B8E-8D37-45E2-866C-A478A806D1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808080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8080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der Auffrischlogi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5480" y="1297080"/>
            <a:ext cx="79059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8120" y="1324080"/>
            <a:ext cx="80582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eileninhalt wird zunächst,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die Leseverstärker ausge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eine kleine Verzögerung V wird dieser Inhalt dan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Schreibverstärker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geschr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die Leitungskapazitäten besser zu verteil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bei hochintegrierten Bausteinen die Schreib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Lese-Verstärker auch oft in die Mitte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leitungen verlegt (statt am Ende wie im Bil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gestel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RAM-Controll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119" t="1521" r="0" b="939"/>
          <a:stretch/>
        </p:blipFill>
        <p:spPr>
          <a:xfrm>
            <a:off x="4062240" y="1069920"/>
            <a:ext cx="4724640" cy="5145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19040" y="1238400"/>
            <a:ext cx="33908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teuer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n der RAS-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CAS-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plexe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-Refr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33640" y="260028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9560" y="298116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echniken zur Zugriffbeschleun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0600" y="1076400"/>
            <a:ext cx="85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zugriff bei D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39840" y="1117440"/>
            <a:ext cx="81468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ast Page Mode DRAM (FPM-DRAM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6200" y="1335240"/>
            <a:ext cx="86076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t liegen aufeinander folgende Speicherzugriffe in der gleichen Zeile des DRAMs. Das wird bei FPM-DRAMs ausgenutz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itialisieren des ersten Lesezugriffs läuft wie bei normalem DR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ch dem ersten Lesezyklus lässt die Speichersteuerung das RAS-Signal einfach auf aktiv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Zeile (page) bleibt ak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i den folgenden Lesezugriffen übergibt die Speichersteuerung nur noch jeweils eine neue Spaltenadresse an das DRA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AS-Precharge-Zeit 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und die RAS-CAS-Delay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fallen bei den Folgezugriffen weg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flipH="1">
            <a:off x="2785680" y="440064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g-Diagramm eines 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89744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reduziert sich erheblich.  Erst wenn der Speicherzugriff des Prozessors auf eine andere Zeile erfolgt, muss der Chipsatz einen normalen Lesevorgang initialis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51120" y="1389240"/>
            <a:ext cx="3875040" cy="21888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4600" y="2448000"/>
            <a:ext cx="3819240" cy="26172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22680" y="3490920"/>
            <a:ext cx="411120" cy="2858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909960" y="243828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51944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2280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875200" y="243936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81200" y="244728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200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1176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9908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9576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75520" y="3502080"/>
            <a:ext cx="457200" cy="270000"/>
          </a:xfrm>
          <a:prstGeom prst="hexagon">
            <a:avLst>
              <a:gd name="adj" fmla="val 29398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44920" y="4276800"/>
            <a:ext cx="380880" cy="269640"/>
          </a:xfrm>
          <a:prstGeom prst="hexagon">
            <a:avLst>
              <a:gd name="adj" fmla="val 2452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5780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27480" y="4267080"/>
            <a:ext cx="381240" cy="270000"/>
          </a:xfrm>
          <a:prstGeom prst="hexagon">
            <a:avLst>
              <a:gd name="adj" fmla="val 24514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724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15922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38360" y="1295280"/>
            <a:ext cx="255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73440" y="12366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89280" y="23288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89280" y="34052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9280" y="4192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803680" y="45482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820600" y="377820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788920" y="27003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795760" y="16016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5120" y="1278000"/>
            <a:ext cx="25524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35160" y="195408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27240" y="1552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50760" y="347328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32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05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9240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72160" y="3463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73360" y="1803240"/>
            <a:ext cx="0" cy="257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38440" y="425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484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840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8312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43560" y="1268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43560" y="2389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39800" y="3425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30960" y="4157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28880" y="130644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33560" y="2432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EDO-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91280" y="197172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800" y="1192320"/>
            <a:ext cx="8359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DO-RAM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(Extended Data Output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ausgabe wird beim Lesen vom CAS-Sig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els interner Pufferung entkopp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 stehen länger am Ausgang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Verschachtelungsmöglichkeiten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esezugri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600" y="1093680"/>
            <a:ext cx="86072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der FPM-DRAMs. Durch eine einfache Modifikation der Steuerung wird eine Geschwindigkeitssteigerung erre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DO-DRAMs sind um einen Latch-Speicher am Ausgang erweit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lesenen Daten bleiben bis zum nächsten Aktivieren des CAS-Signal gül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Prozessor kann Daten auslesen, während die Speichersteuerung eine neue Spaltenadresse an das DRAM übergib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ses „Pipelining“ verkürzt sich die Wartezeit zwischen zwei aufeinander folgenden CAS-Impuls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öherer Datendurch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zugriffe bleiben wie bei FPM-Speicher unbeschleunigt und entsprechen von der Performance her den normalen Standard-D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 flipH="1">
            <a:off x="2385720" y="44877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972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8136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8480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EDO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6720" y="523548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neuer Lesevorgang kann beginnen, bevor der alte abgeschloss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1160" y="1465200"/>
            <a:ext cx="3875040" cy="21924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4280" y="2523960"/>
            <a:ext cx="3819600" cy="26208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22360" y="3567240"/>
            <a:ext cx="411480" cy="28548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510000" y="251460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11948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72284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75240" y="251604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181240" y="252396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3204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11440" y="357660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9912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9580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75200" y="3578400"/>
            <a:ext cx="457200" cy="269640"/>
          </a:xfrm>
          <a:prstGeom prst="hexagon">
            <a:avLst>
              <a:gd name="adj" fmla="val 2943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7808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22600" y="16686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8400" y="137160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73480" y="13129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89320" y="24051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89320" y="34815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426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403000" y="46245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420640" y="385452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388960" y="277668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95080" y="16779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84800" y="137952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35200" y="203040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162864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50440" y="35496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32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5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244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71840" y="3540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73400" y="187956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35400" y="4335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561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57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160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3600" y="1344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3600" y="2465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39840" y="350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31000" y="423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8920" y="13827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33600" y="250812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280" y="1133640"/>
            <a:ext cx="804852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Integrationsdichte aller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tweise organisiert, getrennter Dateneingang 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Datenaus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adressen gemultiplext (spart Anschlüß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eil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R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w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Spalt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C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lumn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3840" y="41241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8640" y="32097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usammenfassung: FPM, ED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0120" y="1201680"/>
            <a:ext cx="8217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3600" y="1131840"/>
            <a:ext cx="86072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arbeiten asynchron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Datenübertragung ist ein Handshaking-Verfahren notwendig. Ein Lesevorgang läuft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signalisiert der Speichersteuerung (ADS-Signal), dass eine Adresse an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die Daten am Ausgang des DRAMs bereitliegen, teilt die Speichersteuerung dem Prozessor dies mit (BRDY-Signal). Erst dann liest der Prozessor die Daten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zwischen ist die CPU im Leerlauf und führt Wartezyklen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nten von EDO-DRAM (BEDO-DRAM) können die Daten ohne Wartezyklen liefern, aber nur bis zu einem Bustakt von 66 MH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 (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Synchrone Dynamische RAM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600" y="1093680"/>
            <a:ext cx="8607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-Technologie hat sich (durch intensive Unterstützung von Intel) schnell durchgesetzt und beherrscht heute den Speich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in- und Ausgangssignale sind synchron zum Systemta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, Chipsatz und Speicher kommunizieren über ein Bussystem, das synchron mit der gleichen Frequenz getakte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 sind SDRAMs aus zwei unabhängigen Speicherbänken aufgebaut (auch bis zu 4 Speicherbän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dem Anlegen der Zeilen- und Spaltenadresse, generiert die Speichersteuerung die nachfolgenden Adressen und führt einen alternierenden und überlappenden Zugriff auf die beiden Speicherbänke selbstständig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S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7694" t="0" r="0" b="3979"/>
          <a:stretch/>
        </p:blipFill>
        <p:spPr>
          <a:xfrm>
            <a:off x="154080" y="1152360"/>
            <a:ext cx="6168960" cy="4832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811840" y="1617840"/>
            <a:ext cx="3332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0 MHz-SDRAM können alle 10 ns Daten lief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transferrat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0 Mbyte/sec (66 MH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00 M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00-Mo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06 G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33-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axis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 % Leistungssteigerung bei gleichem Prozessortakt und 100 MHz statt 6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600" y="1093680"/>
            <a:ext cx="86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3600" y="1093680"/>
            <a:ext cx="8607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ächste Stufe der SDRAM-Entwicklung (SDRAM 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en intern aus vier unabhängigen Speicherbänken, die parallel „Instruktionen“ bearbeit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rinzip der DDR-DRAMs (</a:t>
            </a:r>
            <a:r>
              <a:rPr b="1" i="1" lang="de-DE" sz="2400" spc="-1" strike="noStrike">
                <a:solidFill>
                  <a:srgbClr val="000099"/>
                </a:solidFill>
                <a:latin typeface="Times New Roman"/>
              </a:rPr>
              <a:t>Double-Data-Rate-SDRAM)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ung der Bandbreite durch Nutzung beider Taktflanken. Daten werden bei steigender und fallender Taktflanke übertrag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pelter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zeitverzögerungen sind sehr kritisch, deshalb wird zur Synchronisation nicht nur der Systemtakt, sondern auch ein bidirektionales Strobe-Signal (DQS) benu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5480" y="1182600"/>
            <a:ext cx="80740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DR-SDRAM (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ouble-Data-Rate-S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DR-SDRAMs entsprechen in Bauform und Funktionsweise den "normalen" SDRAM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n, jedoch werden im Gegensatz zu diesen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 zweimal pro Takt ausgelesen bzw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rieben. Dadurch erreichen die DDR-SDRA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 den doppelten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LDRA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ync Link DRAM) 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Rambus Dynamic RAM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der SDRAM Technologie, die höhere Busfrequenzen erlaubt und damit eine höhere Leistung ermög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DRAM (Rambus Dynamic RAM</a:t>
            </a:r>
            <a:r>
              <a:rPr b="0" i="1" lang="de-DE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26120" y="1487520"/>
            <a:ext cx="816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DRAM/ Concurrent - RDRAM / Direct RDRAM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DRAM- Technologie gibt es seit 1995 und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vielen Workstations und Spielekonsolen bewäh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zielle Bus (Rambus Channel) setzt jedoch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echendes Design der Hauptplatine vor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ariant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urrent RDRAM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600MHz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 RDRAM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800MHz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 sich hinsicht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aximalen Taktrate und der eingesetzten Protok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43080" y="2951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Times New Roman"/>
              </a:rPr>
              <a:t>DRAM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`S -E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1104840"/>
            <a:ext cx="6680160" cy="5004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739880" y="434340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346040" y="4520880"/>
            <a:ext cx="2463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97080" y="3632040"/>
            <a:ext cx="1612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18880" y="3784680"/>
            <a:ext cx="17924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2385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8772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8840" y="23623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8840" y="26161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1040" y="1689120"/>
            <a:ext cx="4597200" cy="144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1040" y="1473120"/>
            <a:ext cx="4597200" cy="180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2000" y="12891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129528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517920"/>
            <a:ext cx="800280" cy="1028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lt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3479760"/>
            <a:ext cx="800280" cy="11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16600" y="212076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288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30520" y="387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22640" y="4915080"/>
            <a:ext cx="133344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k 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88240" y="20430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se/ Schreib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530840" y="222264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9400" y="1287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2560" y="5637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434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48240" y="1285920"/>
            <a:ext cx="2095560" cy="2025360"/>
            <a:chOff x="5448240" y="1285920"/>
            <a:chExt cx="2095560" cy="2025360"/>
          </a:xfrm>
        </p:grpSpPr>
        <p:sp>
          <p:nvSpPr>
            <p:cNvPr id="94" name=""/>
            <p:cNvSpPr/>
            <p:nvPr/>
          </p:nvSpPr>
          <p:spPr>
            <a:xfrm>
              <a:off x="5448240" y="128592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0088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55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65960" y="13046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240" y="1469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240" y="1685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240" y="29559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240" y="315900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530680" y="1400040"/>
              <a:ext cx="317160" cy="342720"/>
              <a:chOff x="5530680" y="1400040"/>
              <a:chExt cx="317160" cy="342720"/>
            </a:xfrm>
          </p:grpSpPr>
          <p:sp>
            <p:nvSpPr>
              <p:cNvPr id="104" name=""/>
              <p:cNvSpPr/>
              <p:nvPr/>
            </p:nvSpPr>
            <p:spPr>
              <a:xfrm>
                <a:off x="553068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3068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2112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2112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530680" y="2873160"/>
              <a:ext cx="317160" cy="342720"/>
              <a:chOff x="5530680" y="2873160"/>
              <a:chExt cx="317160" cy="342720"/>
            </a:xfrm>
          </p:grpSpPr>
          <p:sp>
            <p:nvSpPr>
              <p:cNvPr id="109" name=""/>
              <p:cNvSpPr/>
              <p:nvPr/>
            </p:nvSpPr>
            <p:spPr>
              <a:xfrm>
                <a:off x="553068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3068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2112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2112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112160" y="1400040"/>
              <a:ext cx="317160" cy="342720"/>
              <a:chOff x="7112160" y="1400040"/>
              <a:chExt cx="317160" cy="342720"/>
            </a:xfrm>
          </p:grpSpPr>
          <p:sp>
            <p:nvSpPr>
              <p:cNvPr id="114" name=""/>
              <p:cNvSpPr/>
              <p:nvPr/>
            </p:nvSpPr>
            <p:spPr>
              <a:xfrm>
                <a:off x="711216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216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0260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0260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112160" y="2873160"/>
              <a:ext cx="317160" cy="342720"/>
              <a:chOff x="7112160" y="2873160"/>
              <a:chExt cx="317160" cy="342720"/>
            </a:xfrm>
          </p:grpSpPr>
          <p:sp>
            <p:nvSpPr>
              <p:cNvPr id="119" name=""/>
              <p:cNvSpPr/>
              <p:nvPr/>
            </p:nvSpPr>
            <p:spPr>
              <a:xfrm>
                <a:off x="711216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1216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0260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0260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448240" y="232704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8240" y="218736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36800" y="1503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622400" y="295920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635000" y="316224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019240" y="1689120"/>
            <a:ext cx="0" cy="21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09680" y="1472760"/>
            <a:ext cx="0" cy="21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71880" y="143496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650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52480" y="23619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371600" y="261612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20840" y="2577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1720" y="23241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11560" y="3867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97560" y="3619440"/>
            <a:ext cx="7747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3809880"/>
            <a:ext cx="7747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622760" y="436896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10160" y="422928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040" y="4699080"/>
            <a:ext cx="990720" cy="825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15280" y="509256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6082920" y="509220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940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0384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88200" y="44704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50040" y="4889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03840" y="525780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59600" y="5257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2560" y="51814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79960" y="5181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79960" y="56386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13400" y="51688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26360" y="51688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41800" y="560088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00600"/>
            <a:ext cx="508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44830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00880" y="474984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00880" y="444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80240" y="474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895480" y="4546440"/>
            <a:ext cx="129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57680" y="47242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2880" y="5283360"/>
            <a:ext cx="139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0" y="2997360"/>
            <a:ext cx="0" cy="17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9973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9440" y="473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4944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43480" y="500364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863960" y="32382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960" y="3251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640" y="2176560"/>
            <a:ext cx="76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120" y="243036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1520" y="4608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8920" y="50785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3040" y="4635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3040" y="511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1080" y="4995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e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85960" y="583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6920" y="57895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4680" y="57992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9960" y="5886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0840" y="1173240"/>
            <a:ext cx="82216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960" y="1104840"/>
            <a:ext cx="84870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ie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ve RAS-Flanke übernimmt die Zeilenadresse ins Adressregister, negative CAS-Flanke die Spalten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erscheinen eine gewisse Zeit nach der  negativen CAS-Flanke am Ausgang, Zyklus wird durch CAS = 1 wieder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eib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zu schreibende Datum muß gleichzeitig mit Spaltenadresse am Dateneingang anliegen.  Datenübernahme geschieht mit negativer CAS-Fla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0600" y="16095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34040" y="19908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355284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35622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10320" y="58197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52480" y="3807000"/>
            <a:ext cx="500040" cy="614160"/>
          </a:xfrm>
          <a:custGeom>
            <a:avLst/>
            <a:gdLst/>
            <a:ahLst/>
            <a:rect l="l" t="t" r="r" b="b"/>
            <a:pathLst>
              <a:path w="315" h="387">
                <a:moveTo>
                  <a:pt x="5" y="386"/>
                </a:moveTo>
                <a:lnTo>
                  <a:pt x="148" y="387"/>
                </a:lnTo>
                <a:lnTo>
                  <a:pt x="315" y="0"/>
                </a:lnTo>
                <a:lnTo>
                  <a:pt x="0" y="2"/>
                </a:lnTo>
                <a:lnTo>
                  <a:pt x="5" y="38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000680" y="198900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527800" y="1379520"/>
            <a:ext cx="0" cy="33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9160" y="228240"/>
            <a:ext cx="875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  <a:ea typeface="Arial"/>
              </a:rPr>
              <a:t>DRAM Timing-Parame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0880" y="3036960"/>
            <a:ext cx="6865920" cy="544320"/>
          </a:xfrm>
          <a:custGeom>
            <a:avLst/>
            <a:gdLst/>
            <a:ahLst/>
            <a:rect l="l" t="t" r="r" b="b"/>
            <a:pathLst>
              <a:path w="4325" h="343">
                <a:moveTo>
                  <a:pt x="0" y="0"/>
                </a:moveTo>
                <a:lnTo>
                  <a:pt x="233" y="0"/>
                </a:lnTo>
                <a:lnTo>
                  <a:pt x="437" y="343"/>
                </a:lnTo>
                <a:lnTo>
                  <a:pt x="1589" y="343"/>
                </a:lnTo>
                <a:lnTo>
                  <a:pt x="1753" y="0"/>
                </a:lnTo>
                <a:lnTo>
                  <a:pt x="2300" y="0"/>
                </a:lnTo>
                <a:lnTo>
                  <a:pt x="2460" y="340"/>
                </a:lnTo>
                <a:lnTo>
                  <a:pt x="3701" y="343"/>
                </a:lnTo>
                <a:lnTo>
                  <a:pt x="3845" y="7"/>
                </a:lnTo>
                <a:lnTo>
                  <a:pt x="4325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3809880"/>
            <a:ext cx="6934320" cy="614520"/>
          </a:xfrm>
          <a:custGeom>
            <a:avLst/>
            <a:gdLst/>
            <a:ahLst/>
            <a:rect l="l" t="t" r="r" b="b"/>
            <a:pathLst>
              <a:path w="4368" h="387">
                <a:moveTo>
                  <a:pt x="0" y="384"/>
                </a:moveTo>
                <a:lnTo>
                  <a:pt x="149" y="387"/>
                </a:lnTo>
                <a:lnTo>
                  <a:pt x="163" y="360"/>
                </a:lnTo>
                <a:lnTo>
                  <a:pt x="309" y="0"/>
                </a:lnTo>
                <a:lnTo>
                  <a:pt x="909" y="0"/>
                </a:lnTo>
                <a:lnTo>
                  <a:pt x="1056" y="384"/>
                </a:lnTo>
                <a:lnTo>
                  <a:pt x="1920" y="384"/>
                </a:lnTo>
                <a:lnTo>
                  <a:pt x="2064" y="48"/>
                </a:lnTo>
                <a:lnTo>
                  <a:pt x="2976" y="48"/>
                </a:lnTo>
                <a:lnTo>
                  <a:pt x="3120" y="384"/>
                </a:lnTo>
                <a:lnTo>
                  <a:pt x="4032" y="384"/>
                </a:lnTo>
                <a:lnTo>
                  <a:pt x="4176" y="48"/>
                </a:lnTo>
                <a:lnTo>
                  <a:pt x="4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4676760"/>
            <a:ext cx="60948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33840" y="4676760"/>
            <a:ext cx="39348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14720" y="467676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2720" y="4676760"/>
            <a:ext cx="1287360" cy="539640"/>
          </a:xfrm>
          <a:prstGeom prst="hexagon">
            <a:avLst>
              <a:gd name="adj" fmla="val 19913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27720" y="4676760"/>
            <a:ext cx="55872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676760"/>
            <a:ext cx="36972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3160" y="4676760"/>
            <a:ext cx="1008360" cy="539640"/>
          </a:xfrm>
          <a:prstGeom prst="hexagon">
            <a:avLst>
              <a:gd name="adj" fmla="val 1559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04120" y="4676760"/>
            <a:ext cx="1282680" cy="539640"/>
          </a:xfrm>
          <a:prstGeom prst="hexagon">
            <a:avLst>
              <a:gd name="adj" fmla="val 19841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66880" y="57466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43440" y="5495760"/>
            <a:ext cx="1008000" cy="540000"/>
          </a:xfrm>
          <a:prstGeom prst="hexagon">
            <a:avLst>
              <a:gd name="adj" fmla="val 1558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43840" y="548964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5480" y="1440000"/>
            <a:ext cx="0" cy="32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274920" y="2301480"/>
            <a:ext cx="0" cy="17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38520" y="19681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1650960"/>
            <a:ext cx="3249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90680" y="2066760"/>
            <a:ext cx="17146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0320" y="2071800"/>
            <a:ext cx="9730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2590920"/>
            <a:ext cx="99540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68800" y="258444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960" y="30272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960" y="3941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200" y="4714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832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20040" y="4753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09120" y="47577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8720" y="4756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61720" y="4773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4840" y="55227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01880" y="554832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1760" y="31320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89240" y="39736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33720" y="55436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13320" y="3135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7960" y="311940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48920" y="127476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6552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51960" y="220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17760" y="21924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80080" y="1700280"/>
            <a:ext cx="45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52680" y="4676760"/>
            <a:ext cx="58896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4613400"/>
            <a:ext cx="34956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5640" y="1155600"/>
            <a:ext cx="3032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yklu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C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CAS-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Precharg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04920" y="3259080"/>
            <a:ext cx="287280" cy="141912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68640" y="407844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211560"/>
            <a:ext cx="287640" cy="149220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53280" y="407196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" y="30686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39718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  <a:ea typeface="Arial"/>
              </a:rPr>
              <a:t>Pin-Belegung DRAM-ICs mit 2Mx8 Organis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17560" y="1225440"/>
            <a:ext cx="72230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  <a:ea typeface="Arial"/>
              </a:rPr>
              <a:t>16 MBit DRAM in 2Mx8 Organis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19200" y="1314360"/>
            <a:ext cx="61038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6560" y="1228680"/>
            <a:ext cx="8258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ieht zeilenweise, jede Zeile muss ca. alle 2 - 4 m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fris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die Zeilenadresse wird an den Baustein angelegt,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= 0 und CAS konstant au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5840" y="3452760"/>
            <a:ext cx="6772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11-21T07:42:04Z</dcterms:modified>
  <cp:revision>912</cp:revision>
  <dc:subject/>
  <dc:title>TI-2</dc:title>
</cp:coreProperties>
</file>