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28.wmf" ContentType="image/x-wmf"/>
  <Override PartName="/ppt/media/image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7.wmf" ContentType="image/x-wmf"/>
  <Override PartName="/ppt/media/image37.wmf" ContentType="image/x-wmf"/>
  <Override PartName="/ppt/media/image13.wmf" ContentType="image/x-wmf"/>
  <Override PartName="/ppt/media/image11.wmf" ContentType="image/x-wmf"/>
  <Override PartName="/ppt/media/image26.png" ContentType="image/png"/>
  <Override PartName="/ppt/media/image36.png" ContentType="image/png"/>
  <Override PartName="/ppt/media/image39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C6EB-B420-4777-A53B-AB84AF5E121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6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2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399"/>
                </a:solidFill>
                <a:latin typeface="Arial"/>
              </a:rPr>
              <a:t>1. Üb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37280" y="2579760"/>
            <a:ext cx="35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kroprogrammier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Aufgabe 1.3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212840"/>
            <a:ext cx="82296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Aufgabe 1.3 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29200" y="1157400"/>
            <a:ext cx="3645000" cy="455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5680" y="0"/>
            <a:ext cx="4394160" cy="2379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2408400"/>
            <a:ext cx="816624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Aufgabe 1.3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47800" y="1206360"/>
            <a:ext cx="78026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Aufgabe 1.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79400" y="1206360"/>
            <a:ext cx="612288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Aufgabe 1.4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4600" y="1149480"/>
            <a:ext cx="6730920" cy="2098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35240" y="3156120"/>
            <a:ext cx="64515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Aufgabe 1.4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1280" y="1114560"/>
            <a:ext cx="4005360" cy="4003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63600" y="5130720"/>
            <a:ext cx="3954240" cy="412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37160" y="1692360"/>
            <a:ext cx="3678120" cy="1901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422600" y="4070520"/>
            <a:ext cx="42642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ufgabe 2 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0400" y="1160640"/>
            <a:ext cx="8080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ufgabe 2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79440" y="1149480"/>
            <a:ext cx="830088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ri-State-Treiber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7400" y="1136520"/>
            <a:ext cx="765972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ri-State-Treiber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7840" y="1208160"/>
            <a:ext cx="81896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Hierarchie 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34920" y="1600200"/>
            <a:ext cx="308160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56000" y="1592280"/>
            <a:ext cx="40388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ösung 2 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6080" y="1108080"/>
            <a:ext cx="6495840" cy="2833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22760" y="3646440"/>
            <a:ext cx="49402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ösung 2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0560" y="1539720"/>
            <a:ext cx="2103480" cy="4526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14960" y="1089000"/>
            <a:ext cx="4335480" cy="2271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203560" y="1122480"/>
            <a:ext cx="11588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ösung 2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3840" y="1101600"/>
            <a:ext cx="3855960" cy="471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327560" y="1071720"/>
            <a:ext cx="4371840" cy="23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0400" y="4875120"/>
            <a:ext cx="1114200" cy="933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497640" y="4095720"/>
            <a:ext cx="1789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ösung 2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2280" y="1133640"/>
            <a:ext cx="3228840" cy="922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19040" y="3114720"/>
            <a:ext cx="5654880" cy="307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398840" y="1087560"/>
            <a:ext cx="43117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ufgabe 2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66840" y="140004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Aufgabe 1 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1200" y="1168560"/>
            <a:ext cx="81342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Aufgabe 1 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9760" y="1155600"/>
            <a:ext cx="812304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Aufgabe 1.1 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1120" y="1143000"/>
            <a:ext cx="77803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Aufgabe 1.2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6440" y="1176480"/>
            <a:ext cx="82296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Aufgabe 1.2 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6120" y="1168560"/>
            <a:ext cx="80136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Aufgabe 1.2 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8320" y="1900080"/>
            <a:ext cx="528840" cy="21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0800" y="2311560"/>
            <a:ext cx="509760" cy="345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460520" y="1884240"/>
            <a:ext cx="4241880" cy="223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58720" y="2171520"/>
            <a:ext cx="7785360" cy="12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06360" y="1866960"/>
            <a:ext cx="0" cy="3911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18040" y="1930320"/>
            <a:ext cx="0" cy="3848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346040" y="2289240"/>
            <a:ext cx="4432320" cy="145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985000" y="2295360"/>
            <a:ext cx="2508120" cy="144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067440" y="1862280"/>
            <a:ext cx="1249200" cy="236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5140440" y="1141560"/>
            <a:ext cx="3625560" cy="382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3801960" y="3772080"/>
            <a:ext cx="4891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Aufgabe 1.2 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8320" y="1900080"/>
            <a:ext cx="528840" cy="214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0800" y="2311560"/>
            <a:ext cx="509760" cy="345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60520" y="1884240"/>
            <a:ext cx="4241880" cy="223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58720" y="2171520"/>
            <a:ext cx="7785360" cy="12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6360" y="1866960"/>
            <a:ext cx="0" cy="3911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18040" y="1930320"/>
            <a:ext cx="0" cy="3848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985000" y="2295360"/>
            <a:ext cx="2508120" cy="1441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067440" y="1862280"/>
            <a:ext cx="1249200" cy="236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140440" y="1141560"/>
            <a:ext cx="3625560" cy="382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1349280" y="2262240"/>
            <a:ext cx="44625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8-03-25T07:55:05Z</dcterms:modified>
  <cp:revision>921</cp:revision>
  <dc:subject/>
  <dc:title>TI-2</dc:title>
</cp:coreProperties>
</file>