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C8FB83-3C32-4332-9EC4-1F504646D0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 F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3727-1BF7-4ED8-9A33-E1097A4E84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1179360"/>
            <a:ext cx="8277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komplizierter Befehle ist immer no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als die Ausführung von Programmen 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 begünstigt komplizierte 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führen zu kurzen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 des Befehlssatzes wird oft als Werbeargu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 (Direkte Abbild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rachkonstrukt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fe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Forderungen an RISC-System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0520" y="1241280"/>
            <a:ext cx="802296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75% aller Befehle sind 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Länge aller Befehle entsprechend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128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Befehls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e Steuereinheit, k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32 allgemein verwendbar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RISC-Rechner aus heutiger Sich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440" y="1406520"/>
            <a:ext cx="767232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blieben ist von der RISC-Idee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großer Registersatz: 32 allgemein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 Gleitpunkt-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einheitliches Befehlsformat von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wendung weniger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risc_prozessor_C" descr=""/>
          <p:cNvPicPr/>
          <p:nvPr/>
        </p:nvPicPr>
        <p:blipFill>
          <a:blip r:embed="rId1"/>
          <a:srcRect l="2743" t="5897" r="6217" b="1326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760" y="2290680"/>
            <a:ext cx="32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0560" y="1243080"/>
            <a:ext cx="808848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vard 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trennter Programm- und Datenspeicher, deshalb zwei Adress- und Datenbu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aralleles Holen von Operanden und Instru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einfachende Varia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 zwei getrennte Bussysteme bis zu den Cache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, jedoch nur ein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iedrigere K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 nur ein Bussystem wie bei Standard-Mikr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0201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8200" y="1444680"/>
            <a:ext cx="816768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busschnittstel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Registerblocks sowohl für Daten als auch für Adressen (gleichzeitiges Lesen eines Datums und Zwischenspeichern eines Ergebni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anchmal als Hardware-Stack ausgebildet (beschleunigt Unterprogrammaufru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000" y="291600"/>
            <a:ext cx="87346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960" y="1073160"/>
            <a:ext cx="840924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uer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als Warteschlange (FIFO) real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jede Pipeline-Stufe ist dort ein Register vorha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OpCodes jeder Stufe können vom Schaltnetz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s ausgewe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gister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einer großen Zahl von Regi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laubt gleichzeitige Auswahl von 3 bis 4 Regist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4 Port Registersatz, gleichzeitiges Schreib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0, E1) und Lesen (A0, A1) von jeweils 2 Registe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840" y="291960"/>
            <a:ext cx="882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840" y="1330200"/>
            <a:ext cx="85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200" y="1171440"/>
            <a:ext cx="83772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hen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tzt eine Load/Store-Architektur. Die Operanden werden über 2 Operandenbusse aus dem Registersatz herbeigeführt, das Ergebnis (noch im selben Taktzyklus) über den Ergebnisbus in den Registersatz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lerweise gibt es keine direkte Verbindung zwischen ALU und Systemdatenbus, Datentransfer läuft über die Register (Load/Store-Architekt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nah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-Bypasses zur Vermei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Hemmnissen (forwarding techn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25135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2654280"/>
            <a:ext cx="16488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2666880"/>
            <a:ext cx="1652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848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640" y="1258920"/>
            <a:ext cx="829476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378000"/>
                <a:tab algn="l" pos="37944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By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378000"/>
                <a:tab algn="l" pos="37944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gen in der Pipeline zwei Befehle direkt hintereinander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denen das Ergebnis der  Vorgänger-Operation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der Nachfolger-Operation benötig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378000"/>
                <a:tab algn="l" pos="37944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378000"/>
                <a:tab algn="l" pos="37944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im Registersatz würde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lauf verzög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378000"/>
                <a:tab algn="l" pos="37944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pass 1 erlaubt gleichzeitig zum Abspeichern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s auch dessen direkte Rückkoppl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Eingang der ALU (result forwar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9800" y="291960"/>
            <a:ext cx="87152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9800" y="1274760"/>
            <a:ext cx="82947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By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urde ein Operand einer Pipeline-Operation erst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mittelbar vorangehenden Taktzyklus vom Speicher 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Registersatz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Weg über den Registersatz würde ebenfalls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ögerung bedeu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pass 2 erlaubt ein aus dem Speicher in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 geladenen Operanden gleichzeitig a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den ALU-Eingang zu führen (load forwar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7280"/>
                <a:tab algn="l" pos="37800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640" y="1219320"/>
            <a:ext cx="843912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Compilern durch entsprech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spezieller Einsatzgeb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 von Hardware, Programmiersprach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Einsatzgebieten begünstigt „komplizierte“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144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fehlssatz und Adressierungsarten bei RISC-Prozessor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109520"/>
            <a:ext cx="842976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ISC II der Universität Berkeley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8 Register, 39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 Adressierungs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mittelbare Adressierung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 #&lt;Operand&gt;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 (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lizite Register-Adressierung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 Ri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ster-indirekte Adressier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 (Ri)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 (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ster-relative Adressi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&lt;Offset&gt;(Ri)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(Ri)+&lt;Offs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ster-relative Adressierung mit Index, ohne Offset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 (Ri)(Rj)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(Ri)+(R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zähler-relative Adressier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Mnemo&gt;&lt;Offset&gt;(PC)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A =(PC)+&lt;Offset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efehlsverarbeitung in RISC-Prozesso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157400"/>
            <a:ext cx="86137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r Befehlssatz von 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programme sind länger als bei CIS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or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komplexe Befehle und Adressierungsarten müssen aus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fachen RISC-Befehlen zusammengesetzt werden)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otzdem arbeitet ein RISC-Prozessor meist schneller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ISC-Prozessor. Der Grund liegt in der nahez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ollständigen Parallelarbeit aller Komponen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C-Prozessors (extreme Pipeline-Verarbeitu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mit großer Wahrscheinlichkeit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in jedem Taktzyklus ein Befeh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Arial"/>
              </a:rPr>
              <a:t>RISC - superskala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117440"/>
            <a:ext cx="8991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C-Prozessoren, die das Entwurfsziel von durchschnittlich einer Befehlsausführung pro Takt (CPI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per instr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IPC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per cyc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eins) erreichen,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kalare RISC-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zeich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perskalar-Technik ermöglicht es heute, pro Takt bis zu vier Befehle den Ausfürungseinheiten zuzuordnen und eine gleiche Anzahl von Befehlsausführungen pro Takt zu bee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che Prozessoren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uperskalare (RISC)-Prozessor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zeichnet, da die oben definierten RISC-Charakteristika auch heute noch weitgehend beibehalten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utige Mikroprozessoren nutzen Befehlsebenenparallelität durch die Pipelining- und Superskalartech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entium 4 Prozessor-Architek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p4" descr=""/>
          <p:cNvPicPr/>
          <p:nvPr/>
        </p:nvPicPr>
        <p:blipFill>
          <a:blip r:embed="rId1"/>
          <a:stretch/>
        </p:blipFill>
        <p:spPr>
          <a:xfrm>
            <a:off x="1104840" y="1131840"/>
            <a:ext cx="60325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Hyper-Pipeline beim Pentium 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7" name="p4-pipe" descr=""/>
          <p:cNvPicPr/>
          <p:nvPr/>
        </p:nvPicPr>
        <p:blipFill>
          <a:blip r:embed="rId1"/>
          <a:stretch/>
        </p:blipFill>
        <p:spPr>
          <a:xfrm>
            <a:off x="619200" y="1670040"/>
            <a:ext cx="796608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2880" y="2801880"/>
            <a:ext cx="7664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 St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126 Instruktion werden gleichzeitig bearbeite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von 48 Load- und 24 Store-Operation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Stuf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niger Transistoren müss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ltet werd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3399"/>
                </a:solidFill>
                <a:latin typeface="Arial"/>
              </a:rPr>
              <a:t>2. Hilfsprozessoren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330200"/>
            <a:ext cx="8476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1  Aufgabenbere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und Entlastung des Mikroprozesso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 durch spezielle Hardware er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nahme von Routinetätigkeite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 Hauptgru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des Mikroprozessors, speziell der AL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prozessoren zur Peripheriesteuerung (Contro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Hilfsprozessoren zur Erweiterung des </a:t>
            </a:r>
            <a:r>
              <a:rPr b="0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sz="32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72420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760" y="3924360"/>
            <a:ext cx="84866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rithmetik-Prozessoren (Floating-point Units, FP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ochgenaue-Arithmetik-Prozessor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FT-Prozessoren: Berechnung der Fourier-Transformiert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MU: Memory Management Unit: Speicherverwalt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4240" y="1581120"/>
            <a:ext cx="4210200" cy="13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8720" y="2147760"/>
            <a:ext cx="171432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76560" y="2147760"/>
            <a:ext cx="1714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lfs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1680" y="1581120"/>
            <a:ext cx="7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53000" y="1609560"/>
            <a:ext cx="2105280" cy="1238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e System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0560" y="3486240"/>
            <a:ext cx="6991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2960" y="2695680"/>
            <a:ext cx="0" cy="780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705040"/>
            <a:ext cx="0" cy="781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5560" y="2847960"/>
            <a:ext cx="0" cy="619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74880" y="306720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3040" y="2438280"/>
            <a:ext cx="543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1480" y="245268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 &amp; 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5760" y="3575160"/>
            <a:ext cx="35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 &amp; SL: Status- und Steuerleitun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Hilfsprozessoren zur Peripheriesteu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760" y="3762360"/>
            <a:ext cx="848664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afik-Prozess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MA-Prozessoren (Direct Memory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 Disc Controller und Floppy Disc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-Steuerung (Local area networks): Ethernet-Controll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DDI, TCP/IP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6720" y="1467000"/>
            <a:ext cx="2171880" cy="542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76840" y="1428840"/>
            <a:ext cx="4876560" cy="1571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2960" y="2133720"/>
            <a:ext cx="156204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lfs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9840" y="2133720"/>
            <a:ext cx="156204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/A-Ger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05360" y="1504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- / Ausgabe-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05400" y="356076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 &amp; SL: Status- und Steuerleitun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2160" y="1982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 &amp; 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5640" y="2276640"/>
            <a:ext cx="1114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05640" y="2486160"/>
            <a:ext cx="1114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37480" y="25542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3480" y="3476520"/>
            <a:ext cx="761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43120" y="2009880"/>
            <a:ext cx="0" cy="14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4000" y="2619360"/>
            <a:ext cx="0" cy="857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3076560"/>
            <a:ext cx="15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chnittstelle zu Hilfs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1085760"/>
            <a:ext cx="8162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austausch erfolgt über den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informationen werden jedoch oft über speziel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ungen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 existieren spezielle Befehle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zessor zur Steuerung von Hilfs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aller Leitungen zwischen Prozessor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sprozessor sowie vorhandene spezielle Befeh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ißt Hilfsprozessorschnittst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Art und Aufbau der Hilfsprozessorschnittstel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ssen sich verschiedene Hilfsprozessortyp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6280" y="1170000"/>
            <a:ext cx="8172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g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Hauptspeicher und die Verwen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peichern beschleunige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6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wurden immer komplizierter (imm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Unterschiede zwischen 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kroprogrammieru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relativ kleine Teile des großen Befehlssatz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häufig ben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2.2   Typen von Hilfs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040" y="1247760"/>
            <a:ext cx="8477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Slave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C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a8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ave-Prozessoren: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ilfsprozessor wird wie ein passiv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ipheriebaustein unter fester Adresse angespro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speziellen Steuer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übertragung immer über die Register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190160" y="2184120"/>
            <a:ext cx="3629160" cy="1143360"/>
            <a:chOff x="1190160" y="2184120"/>
            <a:chExt cx="3629160" cy="1143360"/>
          </a:xfrm>
        </p:grpSpPr>
        <p:sp>
          <p:nvSpPr>
            <p:cNvPr id="180" name=""/>
            <p:cNvSpPr/>
            <p:nvPr/>
          </p:nvSpPr>
          <p:spPr>
            <a:xfrm flipH="1">
              <a:off x="1707840" y="3149640"/>
              <a:ext cx="311148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04960" y="2184120"/>
              <a:ext cx="0" cy="96516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190160" y="3327480"/>
              <a:ext cx="300996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200240" y="2184480"/>
              <a:ext cx="0" cy="11304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Datenübertragung bei Slave-Prozesso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720" y="1568520"/>
            <a:ext cx="21463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lfs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65640" y="1568520"/>
            <a:ext cx="214632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1568520"/>
            <a:ext cx="214632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8480" y="2476440"/>
            <a:ext cx="499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21844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1970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68480" y="21844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6160" y="2197080"/>
            <a:ext cx="0" cy="965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13200" y="3152880"/>
            <a:ext cx="2387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191360" y="2184480"/>
            <a:ext cx="0" cy="97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1200" y="2184480"/>
            <a:ext cx="0" cy="1155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03360" y="3321000"/>
            <a:ext cx="332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203720" y="2184480"/>
            <a:ext cx="0" cy="1155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50920" y="328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09360" y="2792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8120" y="246060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teuer-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096920"/>
            <a:ext cx="74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) Übertragung der Daten vom Speicher in den Mikroproz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9520" y="3681360"/>
            <a:ext cx="8312040" cy="2436840"/>
            <a:chOff x="209520" y="3681360"/>
            <a:chExt cx="8312040" cy="2436840"/>
          </a:xfrm>
        </p:grpSpPr>
        <p:sp>
          <p:nvSpPr>
            <p:cNvPr id="203" name=""/>
            <p:cNvSpPr/>
            <p:nvPr/>
          </p:nvSpPr>
          <p:spPr>
            <a:xfrm>
              <a:off x="4940280" y="5807160"/>
              <a:ext cx="23875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27800" y="4847760"/>
              <a:ext cx="0" cy="97812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9200" y="4848120"/>
              <a:ext cx="0" cy="1251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330440" y="6099120"/>
              <a:ext cx="332748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9520" y="3681360"/>
              <a:ext cx="829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) Übertragung der Daten vom Mikroprozessor in den Slave-Proz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232160"/>
              <a:ext cx="2146320" cy="6098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lfsproz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4232160"/>
              <a:ext cx="2146320" cy="609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ikroproz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5240" y="4232160"/>
              <a:ext cx="2146320" cy="609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47840" y="522612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32600" y="4848120"/>
              <a:ext cx="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03680" y="48610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66920" y="4857840"/>
              <a:ext cx="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2880" y="4861080"/>
              <a:ext cx="0" cy="94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834920" y="5813280"/>
              <a:ext cx="3111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51120" y="4847760"/>
              <a:ext cx="0" cy="96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330800" y="4848120"/>
              <a:ext cx="0" cy="127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336320" y="6095880"/>
              <a:ext cx="3009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346040" y="4848120"/>
              <a:ext cx="0" cy="124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40" y="56973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10840" y="549432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71960" y="491508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ussteuer-Leit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Funktionswei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057320"/>
            <a:ext cx="837252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werden vom Mikroprozessor aus dem Speich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nächst i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ne Register gela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ine zweiten Schritt werden diese Daten dann in den Slave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übertragen </a:t>
            </a:r>
            <a:r>
              <a:rPr b="0" lang="de-DE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mer 2 Übertragungen nö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erhält der Slave-Prozessor vom Mikroprozessor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onscode (für den Mikroprozessor ist dies auch nur ein D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fragt der Mikroprozessor ständig den Status de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lfsprozessors ab, um sich über den Fortgang der Operation zu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undigen (in manchen Fällen auch Interrupt vom Slave-Prozesso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Operationsbeendig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Mikroprozessor liest dann das Ergebnis aus den Datenregister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Slaveproz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Arithmetikprozessoren arbeiteten so, auch Hilfsprozessoren fü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Aufgaben (z.B. FFT) benutzen diese Meth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C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560" y="1173240"/>
            <a:ext cx="799812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prozessoren für spezifische Mikr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Coprozessoren werden von den Herstellern hauptsächlich fü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eigenen Mikroprozessoren 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prozessor-Befehlssatz ist in den Befehlssatz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sores integr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des Coprozessors sind eine Erweiterung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gemeinen Registersa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wender merkt nicht, welchen Befehl d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ikroprozessor und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elchen der Coprozessor aus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ehlt der Coprozessor </a:t>
            </a:r>
            <a:r>
              <a:rPr b="0" lang="de-DE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SW-Emulatio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spezielle Status- und Steuerleitun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Datenübertragung bei Coprozessor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8120" y="1285920"/>
            <a:ext cx="834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920" y="1200240"/>
            <a:ext cx="7324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 die Register des Mikroprozessors wie be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lave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2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prozessor kann selbst Bus-Master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92880" y="541332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bstständiger Speicherzugriff des Coproz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3102120"/>
            <a:ext cx="227628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lfs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6760" y="3102120"/>
            <a:ext cx="227808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66040" y="3102120"/>
            <a:ext cx="227628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6480" y="3718080"/>
            <a:ext cx="0" cy="1155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97040" y="4854600"/>
            <a:ext cx="35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397400" y="3718080"/>
            <a:ext cx="0" cy="115560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200240" y="4861080"/>
            <a:ext cx="319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220760" y="3717720"/>
            <a:ext cx="0" cy="1130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83320" y="48211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37520" y="4125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4162320"/>
            <a:ext cx="542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8120" y="3714840"/>
            <a:ext cx="0" cy="44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272360" y="3714480"/>
            <a:ext cx="0" cy="43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8080" y="3714840"/>
            <a:ext cx="0" cy="4381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6560" y="3381480"/>
            <a:ext cx="696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55440" y="29973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&amp; 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Coprozessoren als Bus-Mast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1520" y="1171440"/>
            <a:ext cx="846756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eine Übertragung 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tei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dresswerk muss im Coprozessor vorhanden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 Anzahl Operanden in einem vorgegebenen Speicherbereich müssen übertragen werden (Bildschirm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, nur einfaches Adresswerk 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Datenübertragung bei Coprozessor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8040" y="1209600"/>
            <a:ext cx="73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3.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ssor legt Adressen auf Systembus;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Coprozessor übernimmt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467240"/>
            <a:ext cx="8248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: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eine Übertragung nötig; kein Adresswerk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prozessor erforderlich; Coprozessor kenn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Adressierungsarten des Mikro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werk des Mikroprozessors wird belas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0120" y="2254320"/>
            <a:ext cx="227664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lfs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06600" y="2254320"/>
            <a:ext cx="227808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5880" y="2254320"/>
            <a:ext cx="227664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26320" y="2870280"/>
            <a:ext cx="0" cy="1155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96880" y="4006800"/>
            <a:ext cx="35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000080" y="4013280"/>
            <a:ext cx="319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020600" y="2870280"/>
            <a:ext cx="0" cy="1130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30840" y="3973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1440" y="3265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87680" y="2867040"/>
            <a:ext cx="0" cy="4478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024680" y="2866680"/>
            <a:ext cx="0" cy="43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7920" y="2867040"/>
            <a:ext cx="0" cy="4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06760" y="2533680"/>
            <a:ext cx="696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5640" y="21495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&amp; 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76760" y="330192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305160"/>
            <a:ext cx="30099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3399"/>
                </a:solidFill>
                <a:latin typeface="Arial"/>
              </a:rPr>
              <a:t>2.3   Aufbau eines Arithmetik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0" name="2.3-1" descr=""/>
          <p:cNvPicPr/>
          <p:nvPr/>
        </p:nvPicPr>
        <p:blipFill>
          <a:blip r:embed="rId1">
            <a:lum contrast="10000"/>
          </a:blip>
          <a:srcRect l="586" t="936" r="-192" b="373"/>
          <a:stretch/>
        </p:blipFill>
        <p:spPr>
          <a:xfrm>
            <a:off x="1792440" y="1074600"/>
            <a:ext cx="559908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Aufbau eines Arithmetikprozesso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181160"/>
            <a:ext cx="81154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teuer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hnlich dem eines Mikroprozessors, jedoch auf die Steuerung des Arithmetikprozessors beschränkt (keine Steuerung externer Kompone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register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t den Befehl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register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t die Arbeistweise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ithmetik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register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en aktuelle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28576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twortregister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Nachrichten für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Aufbau eines Arithmetikprozesso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040" y="1114560"/>
            <a:ext cx="8115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Register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register, üblicherweise nach dem IEEE 754 Standard, d.h. 80 Bit 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echen der Register entweder durch Adresse im Befehl (1- .. 3-Adressformat) oder in Form eines Stacks ( 0-Adressfor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a800"/>
                </a:solidFill>
                <a:latin typeface="Arial"/>
              </a:rPr>
              <a:t>Operationswe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 wie beim Mikroprozess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Operationsvorrat jedoch speziell für Gleitkommaarithmetik ausgelegt (Gleitkommaoperationen, Rundungslogik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24080"/>
            <a:ext cx="8334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programme in XPL auf IBM/36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% aller ausgeführten Befehle: 1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5 % aller ausgeführten Befehle: 21 verschiedene Befeh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 % aller ausgeführten Befehle: 3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OL-Programme auf IBM/37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,28 % aller ausgeführten Befehle: 26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,08 % aller ausgeführten Befehle: 48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ur 84 verschiedene Befehle wurden überhaupt benutz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Aufbau eines Arithmetikprozesso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960" y="1362240"/>
            <a:ext cx="8115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ystembusschnittst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kopplung an den Mikroprozessor und den Systembus, enthält Buspuffer sowie Befehls-, Operanden- und Adres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Arithmetikprozessoren, die nicht selbst Bus-Master werden können, entfällt der gestrichelt gezeichnete Tei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Ankopplung an den Mikroprozesso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8" name="2.3-6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71480" y="1719360"/>
            <a:ext cx="74772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Ankopplung an den Mikroprozesso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960" y="1362240"/>
            <a:ext cx="811548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Datentransfer geschieht über den Datenbus,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Datenbuspuffer abgeschlossen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niederwertigen Adressbits dienen zur Auswahl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sprochenen Registers (Befehlsregister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register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öherwertigen Adressbits selektieren über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dekoder den Arithmetikprozessor selb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Steuersignale steuern die Kommun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Arial"/>
              </a:rPr>
              <a:t>Status- und Steuersignale</a:t>
            </a:r>
            <a:r>
              <a:rPr b="1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640" y="1057320"/>
            <a:ext cx="811548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signale (gehen vom Mikroprozessor au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788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ET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bruch der aktuellen Operation, Einnahme eine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tezust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788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788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prozessor bestätigt dem Arithmetikprozessor di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 eines Dat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800"/>
              </a:buClr>
              <a:buSzPct val="75000"/>
              <a:buFont typeface="Monotype Sorts" charset="2"/>
              <a:buChar char="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signale (gehen vom Arithmetikprozessor au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Q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rithmetikprozessor fordert den Mikroprozessor auf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n Operanden zu liefern oder ein Ergebnis abzu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gt dem Mikroprozessor an, das d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ithmetikprozesso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ch beschäftigt ist. Ändert sich  der Zustand vom BUSY, so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ß der Mikroprozessor, daß eine Operation beendet is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dies kann auch per Interrupt mitgeteilt we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gt einen Fehler während Ausführung d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ithmetikoperatio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3399"/>
                </a:solidFill>
                <a:latin typeface="Arial"/>
              </a:rPr>
              <a:t>Abarbeitung von Arithmetik-Befehl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4" name="2.4-3" descr=""/>
          <p:cNvPicPr/>
          <p:nvPr/>
        </p:nvPicPr>
        <p:blipFill>
          <a:blip r:embed="rId1"/>
          <a:srcRect l="0" t="1000" r="0" b="500"/>
          <a:stretch/>
        </p:blipFill>
        <p:spPr>
          <a:xfrm>
            <a:off x="3090960" y="1079640"/>
            <a:ext cx="4335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Fallstudie: Systembus-Schnittstelle des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7840" y="1104840"/>
            <a:ext cx="8229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8087 ist ein Arithmetikprozessor, der Busmaster werd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Adresswerk ist vorh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bau und Funktionsw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adresse eines Operanden wird vom Mikroprozesso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t und über den bidirektionalen (!) Adressbus 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Adresspuff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dressen der weiteren Operandenworte werden nu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ständig vom Inkrementierer (+1) des Adresswerk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Arithmetikprozessor erzeu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Ablauf einer Arithmetik-Operation beim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360" y="1123920"/>
            <a:ext cx="844884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ur Vereinfachung werden Adress- und Datenbus des 8087 getrennt dargestellt, obwohl in Wirklichkeit ein gemultiplexter Daten/Adressbus der Breite 16 Bit vorhanden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1. Schritt: Beginn einer arithmetische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2.3-7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09640" y="3079800"/>
            <a:ext cx="73137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Ablauf einer Arithmetik-Operation beim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1520" y="1257480"/>
            <a:ext cx="84484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1. Schri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 8087 hört ständig den Systembus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tzt identische Befehlswarteschlange wi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iert alle Befehle synchron zu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ennt Befehle, die für „ihn“ sind (ESC-Zusatz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ennt die vo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 erzeugte Adressierungsart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Ablauf einer Arithmetik-Operation beim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1456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2. Schri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2.3-8" descr=""/>
          <p:cNvPicPr/>
          <p:nvPr/>
        </p:nvPicPr>
        <p:blipFill>
          <a:blip r:embed="rId1">
            <a:lum contrast="20000"/>
          </a:blip>
          <a:srcRect l="0" t="4230" r="1627" b="3848"/>
          <a:stretch/>
        </p:blipFill>
        <p:spPr>
          <a:xfrm>
            <a:off x="895320" y="1957320"/>
            <a:ext cx="7486560" cy="2279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" y="4575240"/>
            <a:ext cx="798516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P lädt die erkannte Operandenadresse in seinen Adressp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leichzeitig überträgt er den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adressierten Operan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zw. das erste Operandenwort) in seinen Datenp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Ablauf einer Arithmetik-Operation beim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760" y="116208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. Schri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2.3-9" descr=""/>
          <p:cNvPicPr/>
          <p:nvPr/>
        </p:nvPicPr>
        <p:blipFill>
          <a:blip r:embed="rId1">
            <a:lum contrast="20000"/>
          </a:blip>
          <a:srcRect l="0" t="2987" r="952" b="2231"/>
          <a:stretch/>
        </p:blipFill>
        <p:spPr>
          <a:xfrm>
            <a:off x="1076400" y="1685880"/>
            <a:ext cx="6943680" cy="2422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52600" y="4317840"/>
            <a:ext cx="80452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ein Operand länger als 16 Bit, so erzeugt der AP selbständi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Folgeadressen und lädt weitere Worte des Ope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kann ggf. gleichzeitig weitere Befehle aus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efehlswarteschlange bearbeiten, sofern kein Systembuszugriff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rforderlich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9680" y="1065240"/>
            <a:ext cx="8001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prinzip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 benutzte einfache Befehle so schnell wie mög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(Ausführung möglichst in einer Taktphase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Mikro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, Befehls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rößte Teil der Arbeit soll durch optimier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er zur Übersetzungszeit erledig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 werden nach Möglichkeit in groß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ätzen gehal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 Zugriff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Befehlsform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Deco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ing anwenden, so gut es g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3399"/>
                </a:solidFill>
                <a:latin typeface="Arial"/>
              </a:rPr>
              <a:t>Ablauf einer Arithmetik-Operation beim 808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760" y="116208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4. Schri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213080"/>
            <a:ext cx="80452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ährend der Berechnung der Gleitpunktoperation durch den AP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ann der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weiterarbeiten (Systembuszugriffe auch möglich, nu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eine weitere Gleitpunktoperation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Wartezustand d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der AP mit der Bearbeitung fertig, meldet er dies de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urch ein “not busy” Signal und beginnt wieder mit Schrit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2.3-10" descr=""/>
          <p:cNvPicPr/>
          <p:nvPr/>
        </p:nvPicPr>
        <p:blipFill>
          <a:blip r:embed="rId1">
            <a:lum contrast="20000"/>
          </a:blip>
          <a:srcRect l="0" t="5701" r="0" b="0"/>
          <a:stretch/>
        </p:blipFill>
        <p:spPr>
          <a:xfrm>
            <a:off x="860400" y="1662120"/>
            <a:ext cx="76550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3399"/>
                </a:solidFill>
                <a:latin typeface="Arial"/>
              </a:rPr>
              <a:t>Weiter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9040" y="1219320"/>
            <a:ext cx="812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80287, 8038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iterentwicklungen und Anpassungen des 8087 au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Prozessoren 80286, 803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804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80386 und 80387 (plus einige weitere Einheiten) auf einem Chip,  jedoch nicht “gepipelined” (keine Parallelitä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ent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ie 80486, jedoch gepipelined (8 stufig) </a:t>
            </a:r>
            <a:br>
              <a:rPr sz="2400"/>
            </a:b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dingte Parallelität zwischen Arithmetik-Einh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Haupt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7" name="fpu-unit-R12000" descr=""/>
          <p:cNvPicPr/>
          <p:nvPr/>
        </p:nvPicPr>
        <p:blipFill>
          <a:blip r:embed="rId1"/>
          <a:stretch/>
        </p:blipFill>
        <p:spPr>
          <a:xfrm>
            <a:off x="-173160" y="0"/>
            <a:ext cx="7421760" cy="6867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030080" y="2247840"/>
            <a:ext cx="210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PS R1200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ing-poin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17520"/>
            <a:ext cx="833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ISC (reduced instruction set compu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9960" y="1219320"/>
            <a:ext cx="82868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sz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4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jedes Befehls in einem Takt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efehl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isheriger Mikrobefehl bei CISC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efehle gleich la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ierschaltung wird einf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 länger, aber Ausführungszeit kür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Load-Store und Register-Register-Befeh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Adressierungsar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rozessorarchitektur für komplexe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080" y="1400040"/>
            <a:ext cx="83530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Entwurfsziele sind 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Gleitkomma-Arithmet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Betriebssystem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79360"/>
            <a:ext cx="8744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99"/>
                </a:solidFill>
                <a:latin typeface="Arial"/>
              </a:rPr>
              <a:t>RISC: Reduced Instruction Set Compute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1760400"/>
            <a:ext cx="809136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1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21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ierung auf einem C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21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Entwurfsz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21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Taktraten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21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Verwendungsmöglichkeiten für die eingespa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ipfl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ielvorstellungen für RISC-Rechn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4040" y="1162080"/>
            <a:ext cx="74484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Befehls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 Maschinen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gerechter Maschinenbefehlssatz (glei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ausführz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Unterstützung für Betriebssystem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tkomma-Arith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11:20Z</dcterms:modified>
  <cp:revision>816</cp:revision>
  <dc:subject/>
  <dc:title>TI-2</dc:title>
</cp:coreProperties>
</file>