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dustrielle Anwendungen der Informatik und Mikosystemtechn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Dr. R. Dillman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181D-C5AF-4EA6-ABF3-0DC221277EA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Tahoma"/>
              </a:rPr>
              <a:t>Kapitel 1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5360" y="2136600"/>
            <a:ext cx="7546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0000dc"/>
                </a:solidFill>
                <a:latin typeface="Arial"/>
              </a:rPr>
              <a:t>Prinzipieller Aufbau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0000dc"/>
                </a:solidFill>
                <a:latin typeface="Arial"/>
              </a:rPr>
              <a:t>eines Prozessors</a:t>
            </a: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2 Definitionen und Erklärunge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9040" y="1266840"/>
            <a:ext cx="7962840" cy="44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dc"/>
                </a:solidFill>
                <a:latin typeface="Tahoma"/>
              </a:rPr>
              <a:t>Adreßleit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iejenigen Leitungen, auf denen die Adreß-information transportiert wird (unidirektion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0000be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dc"/>
                </a:solidFill>
                <a:latin typeface="Tahoma"/>
              </a:rPr>
              <a:t>Datenleit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Transportieren Daten und Befehle von/zum Prozessor (bidirektion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0000be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dc"/>
                </a:solidFill>
                <a:latin typeface="Tahoma"/>
              </a:rPr>
              <a:t>Steuerleit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Geben Steuerinformationen von/zum Prozessor (uni- oder bidirektion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2 Definitionen und Erklärunge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9040" y="1266840"/>
            <a:ext cx="796284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dc"/>
                </a:solidFill>
                <a:latin typeface="Tahoma"/>
              </a:rPr>
              <a:t>Bus (Sammelschie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Verbindung mehrere Komponenten eines Rechners über dieselben Leitungen; dabei darf zu einem Zeitpunkt immer nur eine Komponente Informationen auf die Leitungen le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Adreßbus, Datenbus, Steuerbus</a:t>
            </a:r>
            <a:r>
              <a:rPr b="0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ls Gesamtheit:  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System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2 Definitionen und Erklärunge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7840" y="1190520"/>
            <a:ext cx="796284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 </a:t>
            </a:r>
            <a:r>
              <a:rPr b="1" sz="2400" spc="-1" strike="noStrike">
                <a:solidFill>
                  <a:srgbClr val="0000dc"/>
                </a:solidFill>
                <a:latin typeface="Tahoma"/>
              </a:rPr>
              <a:t>Ein-/Ausgabe-Einheiten</a:t>
            </a:r>
            <a:r>
              <a:rPr b="0" sz="2400" spc="-1" strike="noStrike">
                <a:solidFill>
                  <a:srgbClr val="0000dc"/>
                </a:solidFill>
                <a:latin typeface="Tahoma"/>
              </a:rPr>
              <a:t> (Peripheriegerä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Geräte zur Eingabe von Daten und Programmen und zur Ausgabe der verarbeiteten Daten.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(Bildschirme, Drucker, Terminals, ...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iese Geräte sind über Ein-/Ausgabe-Schnittstellen mit dem Rechner verbund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ie Verbindung der Schnittstellen mit dem Prozessor (und zu den Peripheriegeräten) geschieht durch Adreß-, Daten- und Steuerleitun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2 Definitionen und Erklärunge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8760" y="1123920"/>
            <a:ext cx="8343720" cy="49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dc"/>
                </a:solidFill>
                <a:latin typeface="Tahoma"/>
              </a:rPr>
              <a:t>Mikroprozessor (</a:t>
            </a:r>
            <a:r>
              <a:rPr b="1" sz="2400" spc="-1" strike="noStrike">
                <a:solidFill>
                  <a:srgbClr val="0000dc"/>
                </a:solidFill>
                <a:latin typeface="Symbol"/>
                <a:ea typeface="Symbol"/>
              </a:rPr>
              <a:t></a:t>
            </a:r>
            <a:r>
              <a:rPr b="1" sz="2400" spc="-1" strike="noStrike">
                <a:solidFill>
                  <a:srgbClr val="0000dc"/>
                </a:solidFill>
                <a:latin typeface="Tahoma"/>
              </a:rPr>
              <a:t>P):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ie Zentraleinheit eines Digitalrechner, die auf einem oder wenigen Chips untergebracht is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Ein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besteht au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199"/>
              </a:spcBef>
              <a:buClr>
                <a:srgbClr val="0000d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teuer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199"/>
              </a:spcBef>
              <a:buClr>
                <a:srgbClr val="0000d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Operations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199"/>
              </a:spcBef>
              <a:buClr>
                <a:srgbClr val="0000d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chnittstelle zum System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Oft zusätzli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d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On-Chip-Cache-Speicher 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199"/>
              </a:spcBef>
              <a:buClr>
                <a:srgbClr val="0000d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peicherverwaltungseinh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2 Definitionen und Erklärunge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8760" y="1152360"/>
            <a:ext cx="8124840" cy="48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9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Mikroprogrammierter</a:t>
            </a:r>
            <a:r>
              <a:rPr b="1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P:</a:t>
            </a:r>
            <a:r>
              <a:rPr b="0" sz="24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Enthält ein Mikroprogrammsteuer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Mikroprogramme sind vom Hersteller in einem Festwertspeicher untergebracht und vom Benutzer nicht änderb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Beispiele: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80x86, Pentium, 680x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9000"/>
                </a:solidFill>
                <a:latin typeface="Tahoma"/>
              </a:rPr>
              <a:t> </a:t>
            </a:r>
            <a:r>
              <a:rPr b="1" sz="2400" spc="-1" strike="noStrike">
                <a:solidFill>
                  <a:srgbClr val="009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Mikroprogrammierbarer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P:</a:t>
            </a:r>
            <a:r>
              <a:rPr b="0" sz="24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Mikroprogramme sind vom Benutzer änderb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Beispiele: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Bit-Slice-Prozessoren (heute selt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2 Definitionen und Erklärunge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8760" y="1343160"/>
            <a:ext cx="770544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9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Mikroprogrammierter</a:t>
            </a:r>
            <a:r>
              <a:rPr b="1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P</a:t>
            </a:r>
            <a:r>
              <a:rPr b="1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mit festverdrahtetem  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Schaltwerk:</a:t>
            </a:r>
            <a:r>
              <a:rPr b="1" sz="2400" spc="-1" strike="noStrike">
                <a:solidFill>
                  <a:srgbClr val="009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Beispiel: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RISC-Prozess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9000"/>
                </a:solidFill>
                <a:latin typeface="Tahoma"/>
              </a:rPr>
              <a:t> </a:t>
            </a:r>
            <a:r>
              <a:rPr b="1" sz="20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n-bit-</a:t>
            </a:r>
            <a:r>
              <a:rPr b="1" sz="2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P</a:t>
            </a:r>
            <a:r>
              <a:rPr b="1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(n=8, 16, 32, 64):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n ist Breite des Datenbusses </a:t>
            </a:r>
            <a:r>
              <a:rPr b="0" i="1" sz="2400" spc="-1" strike="noStrike">
                <a:solidFill>
                  <a:srgbClr val="000000"/>
                </a:solidFill>
                <a:latin typeface="Tahoma"/>
              </a:rPr>
              <a:t>oder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Breite der allgemeinen Register (die Breite der Information, die in einem Schritt von der ALU des Operationswerks verarbeitet werden kan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2 Definitionen und Erklärunge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2600" y="1590840"/>
            <a:ext cx="7772400" cy="36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Neben Universal-Mikroprozessoren (Standard-Mikroprozessoren) existieren auch Mikroprozessoren für spezielle Anwendu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cc"/>
                </a:solidFill>
                <a:latin typeface="Tahoma"/>
              </a:rPr>
              <a:t>Micro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cc"/>
                </a:solidFill>
                <a:latin typeface="Tahoma"/>
              </a:rPr>
              <a:t>Signalprozess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cc"/>
                </a:solidFill>
                <a:latin typeface="Tahoma"/>
              </a:rPr>
              <a:t>Coprozess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2 Definitionen und Erklärunge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2880" y="1438200"/>
            <a:ext cx="8039160" cy="37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Mikroprozessor-System</a:t>
            </a:r>
            <a:r>
              <a:rPr b="0" sz="2400" spc="-1" strike="noStrike">
                <a:solidFill>
                  <a:srgbClr val="0000be"/>
                </a:solidFill>
                <a:latin typeface="Tahoma"/>
              </a:rPr>
              <a:t>:</a:t>
            </a:r>
            <a:r>
              <a:rPr b="0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igitales System, das einen Mikroprozessor als zentrale Steuer- und/oder Recheneinheit besit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Mikrorechner (Mikrocomputer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Enthält einen Mikroprozessor, der über den Systembus mit Speicher, Cotrollern und Schnittstellen für Peripherie-Geräte verbunden 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2 Definitionen und Erklärunge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8440" y="1008000"/>
            <a:ext cx="8076960" cy="53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Speziallfälle von Mikrorechner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Ein-Chip-Mikro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lle Komponenten des Mikrocomputers befinden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ich auf einem einzigen C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Ein-Platinen-Mikro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lle Komponenten des Mikrocomputers sind auf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einer Platine aufgeba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0"/>
              </a:lnSpc>
              <a:spcBef>
                <a:spcPts val="1199"/>
              </a:spcBef>
              <a:buClr>
                <a:srgbClr val="008000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3300"/>
                </a:solidFill>
                <a:latin typeface="Tahoma"/>
              </a:rPr>
              <a:t>Mikrorechner-Sys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3300"/>
                </a:solidFill>
                <a:latin typeface="Tahoma"/>
              </a:rPr>
              <a:t>Mikrorechner mit angeschlossenen Peripheriegerä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3300"/>
                </a:solidFill>
                <a:latin typeface="Tahoma"/>
              </a:rPr>
              <a:t>(Bildschirm, Tastatur, Mause, Drucker, 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3399"/>
                </a:solidFill>
                <a:latin typeface="Tahoma"/>
              </a:rPr>
              <a:t>1.</a:t>
            </a: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3</a:t>
            </a:r>
            <a:r>
              <a:rPr b="1" sz="2400" spc="-1" strike="noStrike">
                <a:solidFill>
                  <a:srgbClr val="003399"/>
                </a:solidFill>
                <a:latin typeface="Tahoma"/>
              </a:rPr>
              <a:t> Gehäuse </a:t>
            </a: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und </a:t>
            </a:r>
            <a:r>
              <a:rPr b="1" sz="2400" spc="-1" strike="noStrike">
                <a:solidFill>
                  <a:srgbClr val="003399"/>
                </a:solidFill>
                <a:latin typeface="Tahoma"/>
              </a:rPr>
              <a:t>Anschlüss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4600" y="1206360"/>
            <a:ext cx="8229600" cy="45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Ein Chip muß zur Erhöhung der mechanischen Stabilitä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zur Herausführung der Anschlüße sowie zur Ableitung der Wärme (bis 4 Watt) in ein Gehäuse untergebr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werd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Tahoma"/>
              </a:rPr>
              <a:t>Gehäusematerialien: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Plastik oder Keram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Gebräuchlichste Gehäusety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00640" y="3292560"/>
            <a:ext cx="32702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Das von-Neumann-Konnzep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8280" y="1120680"/>
            <a:ext cx="799164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as</a:t>
            </a:r>
            <a:r>
              <a:rPr b="0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sz="2400" spc="-1" strike="noStrike">
                <a:solidFill>
                  <a:srgbClr val="3333cc"/>
                </a:solidFill>
                <a:latin typeface="Tahoma"/>
              </a:rPr>
              <a:t>von-Neumann-Konzept</a:t>
            </a:r>
            <a:r>
              <a:rPr b="0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ist die Grundlage der in dieser Vorlesung vorgestellten Hardware-Architektur eines Digitalrechn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Es besteht aus den Kompone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348440" y="3129120"/>
            <a:ext cx="4410000" cy="3078000"/>
            <a:chOff x="4348440" y="3129120"/>
            <a:chExt cx="4410000" cy="3078000"/>
          </a:xfrm>
        </p:grpSpPr>
        <p:pic>
          <p:nvPicPr>
            <p:cNvPr id="49" name="" descr=""/>
            <p:cNvPicPr/>
            <p:nvPr/>
          </p:nvPicPr>
          <p:blipFill>
            <a:blip r:embed="rId1"/>
            <a:srcRect l="1875" t="0" r="7562" b="15587"/>
            <a:stretch/>
          </p:blipFill>
          <p:spPr>
            <a:xfrm>
              <a:off x="4552920" y="3129120"/>
              <a:ext cx="3938760" cy="26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4348440" y="5838840"/>
              <a:ext cx="441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ahoma"/>
                </a:rPr>
                <a:t>Ursprüngliche von-Neumann-Masch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409680" y="3357720"/>
            <a:ext cx="4572000" cy="20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3333cc"/>
                </a:solidFill>
                <a:latin typeface="Tahoma"/>
              </a:rPr>
              <a:t>Zentraleinh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3333cc"/>
                </a:solidFill>
                <a:latin typeface="Tahoma"/>
              </a:rPr>
              <a:t>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3333cc"/>
                </a:solidFill>
                <a:latin typeface="Tahoma"/>
              </a:rPr>
              <a:t>Ein-/Ausgabe-Einh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3399"/>
                </a:solidFill>
                <a:latin typeface="Tahoma"/>
              </a:rPr>
              <a:t>1.</a:t>
            </a: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3</a:t>
            </a:r>
            <a:r>
              <a:rPr b="1" sz="2400" spc="-1" strike="noStrike">
                <a:solidFill>
                  <a:srgbClr val="003399"/>
                </a:solidFill>
                <a:latin typeface="Tahoma"/>
              </a:rPr>
              <a:t> Gehäuse</a:t>
            </a: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 und</a:t>
            </a:r>
            <a:r>
              <a:rPr b="1" sz="2400" spc="-1" strike="noStrike">
                <a:solidFill>
                  <a:srgbClr val="003399"/>
                </a:solidFill>
                <a:latin typeface="Tahoma"/>
              </a:rPr>
              <a:t> Anschlüss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0" t="0" r="0" b="52058"/>
          <a:stretch/>
        </p:blipFill>
        <p:spPr>
          <a:xfrm>
            <a:off x="4440240" y="1333440"/>
            <a:ext cx="4486320" cy="1828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0560" y="1371600"/>
            <a:ext cx="8229600" cy="52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Tahoma"/>
              </a:rPr>
              <a:t>Gehäusetypen A und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Dual Inline Packages (DIP):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o benannt wegen der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zwei parallelen Reihen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nschlußstifte (Pi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Pinzahl von 8 bis 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Chip in der Mitte des Gehäuses (z.B. in Bild A unter der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Metallplat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3399"/>
                </a:solidFill>
                <a:latin typeface="Tahoma"/>
              </a:rPr>
              <a:t>1.</a:t>
            </a: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3</a:t>
            </a:r>
            <a:r>
              <a:rPr b="1" sz="2400" spc="-1" strike="noStrike">
                <a:solidFill>
                  <a:srgbClr val="003399"/>
                </a:solidFill>
                <a:latin typeface="Tahoma"/>
              </a:rPr>
              <a:t> Gehäuse</a:t>
            </a: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 und</a:t>
            </a:r>
            <a:r>
              <a:rPr b="1" sz="2400" spc="-1" strike="noStrike">
                <a:solidFill>
                  <a:srgbClr val="003399"/>
                </a:solidFill>
                <a:latin typeface="Tahoma"/>
              </a:rPr>
              <a:t> Anschlüss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62050" r="63745" b="0"/>
          <a:stretch/>
        </p:blipFill>
        <p:spPr>
          <a:xfrm>
            <a:off x="6242040" y="1201680"/>
            <a:ext cx="2556000" cy="2274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20560" y="1193760"/>
            <a:ext cx="8204400" cy="50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Tahoma"/>
              </a:rPr>
              <a:t>Gehäusetypen 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Quad-Pack-Gehä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o benannt wegen der einreihigen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nschlüße an jeder Gehäuse-S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nschlußvarianten 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Aft>
                <a:spcPts val="601"/>
              </a:spcAft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LCC (Leadless Carrier Chip): einfache Kontakte an den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Gehäuseseiten </a:t>
            </a:r>
            <a:r>
              <a:rPr b="0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 spezielle Sockel mit Federkontakten zur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Montage erforder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Aft>
                <a:spcPts val="601"/>
              </a:spcAft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ins: konventionelle Pins an jeder Gehäusese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SMD (Surface Mounted Device): Lötfahnen zur direkten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Oberflächenmontage an jeder Gehäusese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3399"/>
                </a:solidFill>
                <a:latin typeface="Tahoma"/>
              </a:rPr>
              <a:t>1.</a:t>
            </a: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3</a:t>
            </a:r>
            <a:r>
              <a:rPr b="1" sz="2400" spc="-1" strike="noStrike">
                <a:solidFill>
                  <a:srgbClr val="003399"/>
                </a:solidFill>
                <a:latin typeface="Tahoma"/>
              </a:rPr>
              <a:t> Gehäuse</a:t>
            </a: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 und</a:t>
            </a:r>
            <a:r>
              <a:rPr b="1" sz="2400" spc="-1" strike="noStrike">
                <a:solidFill>
                  <a:srgbClr val="003399"/>
                </a:solidFill>
                <a:latin typeface="Tahoma"/>
              </a:rPr>
              <a:t> Anschlüss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28961" t="28440" r="0" b="-2952"/>
          <a:stretch/>
        </p:blipFill>
        <p:spPr>
          <a:xfrm>
            <a:off x="5506920" y="1243080"/>
            <a:ext cx="2721240" cy="24256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20560" y="1371600"/>
            <a:ext cx="822960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Tahoma"/>
              </a:rPr>
              <a:t>Gehäusetypen D und 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380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Pin Grid Arrays (PG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Matrixförmige Pin-Anordnung in Form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eines Nagelbretts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(bed of nai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is ca. 190 P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in Form der Ball Grid Array Technik (BGA) bis zu 625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P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3399"/>
                </a:solidFill>
                <a:latin typeface="Tahoma"/>
              </a:rPr>
              <a:t>1.</a:t>
            </a: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3</a:t>
            </a:r>
            <a:r>
              <a:rPr b="1" sz="2400" spc="-1" strike="noStrike">
                <a:solidFill>
                  <a:srgbClr val="003399"/>
                </a:solidFill>
                <a:latin typeface="Tahoma"/>
              </a:rPr>
              <a:t> Gehäuse</a:t>
            </a: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 und</a:t>
            </a:r>
            <a:r>
              <a:rPr b="1" sz="2400" spc="-1" strike="noStrike">
                <a:solidFill>
                  <a:srgbClr val="003399"/>
                </a:solidFill>
                <a:latin typeface="Tahoma"/>
              </a:rPr>
              <a:t> Anschlüss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84280" y="57150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cc"/>
                </a:solidFill>
                <a:latin typeface="Arial"/>
              </a:rPr>
              <a:t>Anordnung und Anschlusskontakte bei verschiedenen Gehäusefo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79680" y="1243080"/>
            <a:ext cx="588168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3399"/>
                </a:solidFill>
                <a:latin typeface="Tahoma"/>
              </a:rPr>
              <a:t>1.</a:t>
            </a: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3</a:t>
            </a:r>
            <a:r>
              <a:rPr b="1" sz="2400" spc="-1" strike="noStrike">
                <a:solidFill>
                  <a:srgbClr val="003399"/>
                </a:solidFill>
                <a:latin typeface="Tahoma"/>
              </a:rPr>
              <a:t> Gehäuse</a:t>
            </a: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 und</a:t>
            </a:r>
            <a:r>
              <a:rPr b="1" sz="2400" spc="-1" strike="noStrike">
                <a:solidFill>
                  <a:srgbClr val="003399"/>
                </a:solidFill>
                <a:latin typeface="Tahoma"/>
              </a:rPr>
              <a:t> Anschlüss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4854" t="3220" r="3504" b="1463"/>
          <a:stretch/>
        </p:blipFill>
        <p:spPr>
          <a:xfrm>
            <a:off x="2684520" y="1773360"/>
            <a:ext cx="3849480" cy="36939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09480" y="1206360"/>
            <a:ext cx="749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cc"/>
                </a:solidFill>
                <a:latin typeface="Tahoma"/>
              </a:rPr>
              <a:t>Pin Grid Gehäuse mit 132 Anschlüssen, 100 mm</a:t>
            </a:r>
            <a:r>
              <a:rPr b="0" sz="2000" spc="-1" strike="noStrike" baseline="30000">
                <a:solidFill>
                  <a:srgbClr val="0000cc"/>
                </a:solidFill>
                <a:latin typeface="Tahoma"/>
              </a:rPr>
              <a:t>2</a:t>
            </a:r>
            <a:r>
              <a:rPr b="0" sz="2000" spc="-1" strike="noStrike">
                <a:solidFill>
                  <a:srgbClr val="0000cc"/>
                </a:solidFill>
                <a:latin typeface="Tahoma"/>
              </a:rPr>
              <a:t> großer Chip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5499000"/>
            <a:ext cx="798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cc"/>
                </a:solidFill>
                <a:latin typeface="Tahoma"/>
              </a:rPr>
              <a:t>Die Verbindungen der Chip-Anschlüsse an die Pins erfolgt mittels Golddrähten (bond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4 Anschlussgruppen eines Mikroprozessor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488880" y="1695600"/>
            <a:ext cx="818532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4 Anschlussgruppen eines Mikroprozessor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1400040"/>
            <a:ext cx="8115480" cy="44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Tahoma"/>
              </a:rPr>
              <a:t>Stromversorg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versorgt den Prozessor mit St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im Extremfall nur 1 Anschluß für GND (Masse) und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triebsspannung (z.B. 5 Vol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i Pin-Grids oft bis zu 20 Anschlüsse für jede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Versorgungsspan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Tahoma"/>
              </a:rPr>
              <a:t>Systemta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Eingang für den Taktgenerator oder Quar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4 Anschlussgruppen eines Mikroprozessor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362240"/>
            <a:ext cx="8115480" cy="41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Tahoma"/>
              </a:rPr>
              <a:t>Adresssignale (Adressb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Aft>
                <a:spcPts val="601"/>
              </a:spcAft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33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stimmen Quelle und Ziel eines Datentrans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33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Quelle und Ziel können Speicher, Peripheriegeräte,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oder Register s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33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reine Ausgangssig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33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von 16 bis 34 Leitungen ( </a:t>
            </a:r>
            <a:r>
              <a:rPr b="0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dressraum 16 kByte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is 16 Gby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99"/>
                </a:solidFill>
                <a:latin typeface="Tahoma"/>
              </a:rPr>
              <a:t>1.4 Anschlussgruppen eines Mikroprozessor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8280" y="1181160"/>
            <a:ext cx="811512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Tahoma"/>
              </a:rPr>
              <a:t>Datensignale (Datenb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33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Daten- und Befehlstransport zwischen Prozessor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und anderen Komponenten des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33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idirektionale Signale von 4 bis 64 Leit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Tahoma"/>
              </a:rPr>
              <a:t>Steuersignale (Steuerb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Signale zum Steuern von Systemkomponenten durch den Prozessor und zum Melden von Systemzuständen an den Proz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33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unidirektionale Sig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33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werden vom Steuerwerk des Prozessors kontroll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4 Anschlussgruppen eines Mikroprozessor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295280"/>
            <a:ext cx="8343720" cy="55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spcAft>
                <a:spcPts val="601"/>
              </a:spcAft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Daten-/Adressbus-Steuersignale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(Gültigkeit der Adressen, Richtung des Datentransports,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rt des Datentransport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spcAft>
                <a:spcPts val="601"/>
              </a:spcAft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System-Steuersignale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(Steuerung der Systemkomponenten, z.B. Reset an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Komponenten, Bus-Acknowledge für Komponenten,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spcAft>
                <a:spcPts val="601"/>
              </a:spcAft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Prozessor-Statussignale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(Meldungen an den Prozessor, z.B. Busrequest, Error,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spcAft>
                <a:spcPts val="601"/>
              </a:spcAft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Unterbrechungssignale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(Unterbrechung der normalen Programmbearbeitung,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usnahmebehandlungen,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n-Neumann-Rechner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50920" y="1346040"/>
            <a:ext cx="635940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4 Anschlussgruppen eines Mikroprozessor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9680" y="1123920"/>
            <a:ext cx="7619760" cy="38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ie binären (logischen) Zustände </a:t>
            </a:r>
            <a:r>
              <a:rPr b="0" sz="2400" spc="-1" strike="noStrike">
                <a:solidFill>
                  <a:srgbClr val="0000cc"/>
                </a:solidFill>
                <a:latin typeface="Tahoma"/>
              </a:rPr>
              <a:t>“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0</a:t>
            </a:r>
            <a:r>
              <a:rPr b="0" sz="2400" spc="-1" strike="noStrike">
                <a:solidFill>
                  <a:srgbClr val="0000cc"/>
                </a:solidFill>
                <a:latin typeface="Tahoma"/>
              </a:rPr>
              <a:t>”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und </a:t>
            </a:r>
            <a:r>
              <a:rPr b="0" sz="2400" spc="-1" strike="noStrike">
                <a:solidFill>
                  <a:srgbClr val="0000cc"/>
                </a:solidFill>
                <a:latin typeface="Tahoma"/>
              </a:rPr>
              <a:t>“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1</a:t>
            </a:r>
            <a:r>
              <a:rPr b="0" sz="2400" spc="-1" strike="noStrike">
                <a:solidFill>
                  <a:srgbClr val="0000cc"/>
                </a:solidFill>
                <a:latin typeface="Tahoma"/>
              </a:rPr>
              <a:t>”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müssen an den Prozessor-Eingängen bzw. Ausgängen Spannungswerten entsprech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International durchgesetz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hat sich der 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TTL-Peg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(TTL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Transistor Transistor Logi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9105" t="4500" r="4631" b="4677"/>
          <a:stretch/>
        </p:blipFill>
        <p:spPr>
          <a:xfrm>
            <a:off x="4619520" y="2400480"/>
            <a:ext cx="41338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4 Anschlussgruppen eines Mikroprozessor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1181160"/>
            <a:ext cx="7439040" cy="38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3880"/>
                <a:tab algn="l" pos="3619440"/>
                <a:tab algn="l" pos="51436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Tahoma"/>
              </a:rPr>
              <a:t>Gültige Spannungsinterval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3880"/>
                <a:tab algn="l" pos="3619440"/>
                <a:tab algn="l" pos="51436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523880"/>
                <a:tab algn="l" pos="3619440"/>
                <a:tab algn="l" pos="51436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Tahoma"/>
              </a:rPr>
              <a:t>Eingang: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523880"/>
                <a:tab algn="l" pos="3619440"/>
                <a:tab algn="l" pos="51436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L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(ow)-Pegel: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0 - 0,8V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logisch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523880"/>
                <a:tab algn="l" pos="3619440"/>
                <a:tab algn="l" pos="51436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H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(igh)-Pegel: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2,0 - 5,5V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logisch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523880"/>
                <a:tab algn="l" pos="3619440"/>
                <a:tab algn="l" pos="51436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523880"/>
                <a:tab algn="l" pos="3619440"/>
                <a:tab algn="l" pos="51436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Tahoma"/>
              </a:rPr>
              <a:t>Ausga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523880"/>
                <a:tab algn="l" pos="3619440"/>
                <a:tab algn="l" pos="51436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L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(ow)-Pegel: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0 - 0,4V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logisch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523880"/>
                <a:tab algn="l" pos="3619440"/>
                <a:tab algn="l" pos="51436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H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(igh)-Pegel: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2,4 - 5,0V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logisch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4 Anschlussgruppen eines Mikroprozessor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0600" y="1228680"/>
            <a:ext cx="820080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Tahoma"/>
              </a:rPr>
              <a:t>Aktivierungssignale</a:t>
            </a:r>
            <a:r>
              <a:rPr b="0" sz="24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besitzen einen aktiven und einen passiven Zust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uslösen einer bestimmten Aktion bzw. Anzeigen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einer bestimmten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Überstreichen des Signalnamens kennzeichnet den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L-Pegel als aktiven Signalzu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cc"/>
                </a:solidFill>
                <a:latin typeface="Tahoma"/>
              </a:rPr>
              <a:t>Reset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L-Pegel löst das Rücksetzen des Systems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u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cc"/>
                </a:solidFill>
                <a:latin typeface="Tahoma"/>
              </a:rPr>
              <a:t>Ack </a:t>
            </a:r>
            <a:r>
              <a:rPr b="1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H-Pegel zeigt die Bestätigung empfangener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Daten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33480" y="4334040"/>
            <a:ext cx="8190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4 Anschlussgruppen eines Mikroprozessor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09680" y="1314360"/>
            <a:ext cx="8210520" cy="50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Tahoma"/>
              </a:rPr>
              <a:t>Auswahlsig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selektieren zwischen zwei möglichen Zustän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Schreibweise: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3333cc"/>
                </a:solidFill>
                <a:latin typeface="Tahoma"/>
              </a:rPr>
              <a:t>A1/A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ie Überstreichung zeigt die durch d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L-Pegelbestimmte Alternative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cc"/>
                </a:solidFill>
                <a:latin typeface="Tahoma"/>
              </a:rPr>
              <a:t>R/W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H-Pegel: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Lesezugriff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L-Pegel: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chreibzugr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81440" y="2762280"/>
            <a:ext cx="3240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57480" y="4905360"/>
            <a:ext cx="32364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E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2 Definitionen und Erklärunge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95360" y="1276200"/>
            <a:ext cx="8077320" cy="39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cc"/>
                </a:solidFill>
                <a:latin typeface="Tahoma"/>
              </a:rPr>
              <a:t>Rechner aus Hardware-Sicht:</a:t>
            </a:r>
            <a:r>
              <a:rPr b="0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igitales, elektronisches System, in dem Daten als binärcodierte Information eingegeben, dort gespeichert und verarbeitet werd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ie Verarbeitung der Daten erfolgt nach einem vorgegebenen Programm aus Maschinenbefehlen, welche die jeweils nächste Operation und die benötigten Operanden bestimm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073480" y="1165320"/>
            <a:ext cx="2133720" cy="647640"/>
          </a:xfrm>
          <a:prstGeom prst="rect">
            <a:avLst/>
          </a:prstGeom>
          <a:solidFill>
            <a:srgbClr val="ffffbb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20880" y="1166760"/>
            <a:ext cx="2133360" cy="647640"/>
          </a:xfrm>
          <a:prstGeom prst="rect">
            <a:avLst/>
          </a:prstGeom>
          <a:solidFill>
            <a:srgbClr val="ffffbb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83040" y="2227320"/>
            <a:ext cx="2438640" cy="723960"/>
          </a:xfrm>
          <a:prstGeom prst="rect">
            <a:avLst/>
          </a:prstGeom>
          <a:solidFill>
            <a:srgbClr val="c0c0c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1640" y="2227320"/>
            <a:ext cx="2438280" cy="723960"/>
          </a:xfrm>
          <a:prstGeom prst="rect">
            <a:avLst/>
          </a:prstGeom>
          <a:solidFill>
            <a:srgbClr val="33cc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Digitalrechner nach dem von-Neumann Konzep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22680" y="1200240"/>
            <a:ext cx="212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triebssystem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wenderprogram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8360" y="2298600"/>
            <a:ext cx="236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ich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Programme und Dat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43320" y="2298600"/>
            <a:ext cx="191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gabe-/Ausgabe-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ittstell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8840" y="1198440"/>
            <a:ext cx="22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ipheriegerät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ucker, Bildschrim,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87320" y="4141800"/>
            <a:ext cx="6553440" cy="199080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34920" y="4465800"/>
            <a:ext cx="2438640" cy="1050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45080" y="4467240"/>
            <a:ext cx="2438280" cy="1050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3480" y="4483080"/>
            <a:ext cx="1721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uer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itwerk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04760" y="4483080"/>
            <a:ext cx="25185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chen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erationswerk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3371400" y="4714920"/>
            <a:ext cx="1266840" cy="144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3390480" y="5229360"/>
            <a:ext cx="1266840" cy="144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71560" y="2952720"/>
            <a:ext cx="0" cy="1505160"/>
          </a:xfrm>
          <a:prstGeom prst="line">
            <a:avLst/>
          </a:prstGeom>
          <a:ln w="1908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71440" y="2933640"/>
            <a:ext cx="0" cy="1514520"/>
          </a:xfrm>
          <a:prstGeom prst="line">
            <a:avLst/>
          </a:prstGeom>
          <a:ln w="57240">
            <a:solidFill>
              <a:srgbClr val="00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33560" y="1819440"/>
            <a:ext cx="0" cy="40932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143000" y="3476520"/>
            <a:ext cx="4076640" cy="0"/>
          </a:xfrm>
          <a:prstGeom prst="line">
            <a:avLst/>
          </a:prstGeom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2914560"/>
            <a:ext cx="0" cy="552600"/>
          </a:xfrm>
          <a:prstGeom prst="line">
            <a:avLst/>
          </a:prstGeom>
          <a:ln w="38160">
            <a:solidFill>
              <a:srgbClr val="00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771200" y="3610080"/>
            <a:ext cx="3876840" cy="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48400" y="2933640"/>
            <a:ext cx="0" cy="676440"/>
          </a:xfrm>
          <a:prstGeom prst="line">
            <a:avLst/>
          </a:prstGeom>
          <a:ln w="1908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38600" y="2933640"/>
            <a:ext cx="0" cy="1552680"/>
          </a:xfrm>
          <a:prstGeom prst="line">
            <a:avLst/>
          </a:prstGeom>
          <a:ln w="5724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77080" y="2933640"/>
            <a:ext cx="0" cy="1552680"/>
          </a:xfrm>
          <a:prstGeom prst="line">
            <a:avLst/>
          </a:prstGeom>
          <a:ln w="5724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819160" y="3772080"/>
            <a:ext cx="4057560" cy="0"/>
          </a:xfrm>
          <a:prstGeom prst="line">
            <a:avLst/>
          </a:prstGeom>
          <a:ln w="381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67440" y="1809720"/>
            <a:ext cx="0" cy="41904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61440" y="5457960"/>
            <a:ext cx="37242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Zentraleinheit  CP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34480" y="184140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Da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5280" y="3822840"/>
            <a:ext cx="10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cc66"/>
                </a:solidFill>
                <a:latin typeface="Arial"/>
              </a:rPr>
              <a:t>Adres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20600" y="382284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Befeh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967800" y="382284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Da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68840" y="2998800"/>
            <a:ext cx="186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Befehle und Da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58680" y="299880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SS/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98640" y="441324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15560" y="488952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21040" y="299880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SS/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8120" y="4865760"/>
            <a:ext cx="159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3300"/>
                </a:solidFill>
                <a:latin typeface="Arial"/>
              </a:rPr>
              <a:t>SS: Statussig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3300"/>
                </a:solidFill>
                <a:latin typeface="Arial"/>
              </a:rPr>
              <a:t>MS: Meldesig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2 Definitionen und Erklärunge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6280" y="1152360"/>
            <a:ext cx="817236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be"/>
                </a:solidFill>
                <a:latin typeface="Monotype Sorts"/>
                <a:ea typeface="Monotype Sorts"/>
              </a:rPr>
              <a:t>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 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Zentraleinh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be"/>
                </a:solidFill>
                <a:latin typeface="Tahoma"/>
              </a:rPr>
              <a:t>(central processing unit, CPU, Prozess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Verarbeitet Daten gemäß eines Programms, besteht aus Leitwerk und Rechenwe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be"/>
                </a:solidFill>
                <a:latin typeface="Monotype Sorts"/>
                <a:ea typeface="Monotype Sorts"/>
              </a:rPr>
              <a:t>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Leit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be"/>
                </a:solidFill>
                <a:latin typeface="Tahoma"/>
              </a:rPr>
              <a:t>(Steuerwerk, control unit, C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Holt die Befehle eines Programms aus dem Speicher, entschlüsselt sie und steuert ihre Ausführung in der verlangten Reihenfolge durch Steuer- und Synchronisier-Sign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2 Definitionen und Erklärunge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760" y="1200240"/>
            <a:ext cx="817236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be"/>
                </a:solidFill>
                <a:latin typeface="Monotype Sorts"/>
                <a:ea typeface="Monotype Sorts"/>
              </a:rPr>
              <a:t>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Rechenwe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be"/>
                </a:solidFill>
                <a:latin typeface="Tahoma"/>
              </a:rPr>
              <a:t>(Operationswerk, Ausführungseinheit, AL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Führt arithmetisch/logische Operationen aus, wird durch Steuersignale des Leitwerks beeinflußt und liefert seinerseits Meldesignale an das Leitwerk zurü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be"/>
                </a:solidFill>
                <a:latin typeface="Monotype Sorts"/>
                <a:ea typeface="Monotype Sorts"/>
              </a:rPr>
              <a:t>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Speicher</a:t>
            </a:r>
            <a:r>
              <a:rPr b="0" sz="2400" spc="-1" strike="noStrike">
                <a:solidFill>
                  <a:srgbClr val="0000be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ort werden Programme und Daten aufbewahrt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(von-Neumann-Konzep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Alternativ: 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Harvard-Architektur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mit getrenntem Programm- und Datenspeic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2 Definitionen und Erklärunge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6560" y="1143000"/>
            <a:ext cx="8172720" cy="48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er Speicher läßt sich unterteilen in Peripherie- und Arbeitsspeic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sz="2400" spc="-1" strike="noStrike">
                <a:solidFill>
                  <a:srgbClr val="3333cc"/>
                </a:solidFill>
                <a:latin typeface="Tahoma"/>
              </a:rPr>
              <a:t>Peripheriespeicher (Massenspeic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66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Speicher zur permanenten Aufbewahrung und Archivierung großer Datenmengen, langsamer Datenzugri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66720">
              <a:lnSpc>
                <a:spcPts val="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algn="just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sz="2400" spc="-1" strike="noStrike">
                <a:solidFill>
                  <a:srgbClr val="3333cc"/>
                </a:solidFill>
                <a:latin typeface="Tahoma"/>
              </a:rPr>
              <a:t>Arbeitsspeicher (Hauptspeicher)</a:t>
            </a:r>
            <a:r>
              <a:rPr b="0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66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Linear geordnete Liste von Speicherzellen zur Aufnahme von Befehlen und Operanden, schneller Datenzugriff, Inhalt nach Abschaltung des Rechners flüchti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2 Definitionen und Erklärunge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5640" y="1200240"/>
            <a:ext cx="797256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Jede Speicherzelle ist eindeutig durch ihre Nummer (Adresse) identifizierb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Monotype Sorts" charset="2"/>
              <a:buChar char="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dc"/>
                </a:solidFill>
                <a:latin typeface="Tahoma"/>
              </a:rPr>
              <a:t>Ad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Binärcodierte Information zur eindeutigen Auswahl (Adressierung) eines bestimmten Speicherwortes, Registers oder einer Schnittstelle als Quelle oder Ziel eines Datentransportes (memory mappe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en einzelnen Speicherzellen ist nicht anzusehen, welchen Typ von Information sie enthält (beim von-Neumann-Konzept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Alternativ: Typenkennung, tagged architec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Tamim Asfour</dc:creator>
  <dc:description/>
  <dc:language>en-US</dc:language>
  <cp:lastModifiedBy>Mladen Milushev</cp:lastModifiedBy>
  <cp:lastPrinted>2000-05-02T16:11:13Z</cp:lastPrinted>
  <dcterms:modified xsi:type="dcterms:W3CDTF">2006-10-03T08:54:00Z</dcterms:modified>
  <cp:revision>380</cp:revision>
  <dc:subject/>
  <dc:title>TI-2</dc:title>
</cp:coreProperties>
</file>