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63BA-FD9E-4BF9-8185-561E544303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Klausur SS 200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1560" y="1927080"/>
            <a:ext cx="751428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17. September 2001, 14:00 U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Informationen dazu (TI-Home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http://i61www.ira.uka.de/users/asfour/TI</a:t>
            </a:r>
            <a:r>
              <a:rPr b="1" lang="de-DE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Register mit Skalier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476600"/>
            <a:ext cx="79722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sere Ausnutzung der Registerbreite, da das Register selbst nur noch um 1 inkrementiert bzw. dekrementiert werden mu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1.7-4" descr=""/>
          <p:cNvPicPr/>
          <p:nvPr/>
        </p:nvPicPr>
        <p:blipFill>
          <a:blip r:embed="rId1"/>
          <a:stretch/>
        </p:blipFill>
        <p:spPr>
          <a:xfrm>
            <a:off x="2679840" y="2409840"/>
            <a:ext cx="4030560" cy="212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4440" y="1114560"/>
            <a:ext cx="79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Indexregister wird vor der Auswertung je nach aktueller Datenlänge (1 Byte, 2 Byte, 4 Byte, 8 Byte) mit dem Faktor 1, 2, 4 oder 8 multipliz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Der (Laufzeit-)Stack “Kellerspeicher”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60" y="1104840"/>
            <a:ext cx="8324640" cy="50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besonderer Speicherbereich der normalerweise im Arbeitsspeicher angelegt ist (software stack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er nac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m Kellerprinzip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IF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Last-in-first-ou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organ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peichern des Prozessorstatus und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s beim Unterprogrammaufruf un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ruf von Unterbrechungs-Rout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meterüber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zeitige Lagerung von Daten bei der 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 modernen Prozessoren häufig mehrere getrennte Stackspeicher: System Stack, User Stack, Data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Unterstützung des Stac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760" y="1352520"/>
            <a:ext cx="81342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ckregister (Stapelzeiger, Stack Pointer SP):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di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des zuletzt in den Stack eingetragenen Datu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Befehle zur Datenübertragung in den bzw. aus de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in den Stack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OP (PULL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vom Stack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Verwaltung des Stackregist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57440" y="573408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57440" y="163836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57440" y="19432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57440" y="228600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57440" y="26290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57440" y="298116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7440" y="33242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57440" y="36766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40291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43624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7440" y="50482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57440" y="47149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57440" y="53816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9760" y="117144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52840" y="26290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2840" y="29811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52840" y="33148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52840" y="36669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52840" y="40194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171440"/>
            <a:ext cx="3733920" cy="4922640"/>
            <a:chOff x="5410080" y="1171440"/>
            <a:chExt cx="3733920" cy="4922640"/>
          </a:xfrm>
        </p:grpSpPr>
        <p:sp>
          <p:nvSpPr>
            <p:cNvPr id="164" name=""/>
            <p:cNvSpPr/>
            <p:nvPr/>
          </p:nvSpPr>
          <p:spPr>
            <a:xfrm>
              <a:off x="6477120" y="48229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5410080" y="1171440"/>
              <a:ext cx="3610080" cy="4922640"/>
              <a:chOff x="5410080" y="1171440"/>
              <a:chExt cx="3610080" cy="4922640"/>
            </a:xfrm>
          </p:grpSpPr>
          <p:sp>
            <p:nvSpPr>
              <p:cNvPr id="166" name=""/>
              <p:cNvSpPr/>
              <p:nvPr/>
            </p:nvSpPr>
            <p:spPr>
              <a:xfrm>
                <a:off x="6477120" y="5513400"/>
                <a:ext cx="2390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nach Ausführung des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efeh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67280" y="50022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7280" y="57276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410080" y="3505320"/>
                <a:ext cx="106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5410080" y="3076560"/>
                <a:ext cx="1076400" cy="257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7120" y="3324240"/>
                <a:ext cx="1952640" cy="363600"/>
              </a:xfrm>
              <a:prstGeom prst="rect">
                <a:avLst/>
              </a:prstGeom>
              <a:solidFill>
                <a:srgbClr val="ffe67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058160" y="3314880"/>
                <a:ext cx="77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29240" y="1171440"/>
                <a:ext cx="2590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Operand aus</a:t>
                </a:r>
                <a:br>
                  <a:rPr sz="1800"/>
                </a:b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Speichezelle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91240" y="2057400"/>
                <a:ext cx="183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post-inkr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77120" y="2857680"/>
                <a:ext cx="192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Stackpoin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467320" y="2448000"/>
                <a:ext cx="96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cc66"/>
                    </a:solidFill>
                    <a:latin typeface="Arial"/>
                  </a:rPr>
                  <a:t>PU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896080" y="2885760"/>
                <a:ext cx="0" cy="56196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345744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43080" y="1171440"/>
            <a:ext cx="3114360" cy="4933800"/>
            <a:chOff x="343080" y="1171440"/>
            <a:chExt cx="3114360" cy="4933800"/>
          </a:xfrm>
        </p:grpSpPr>
        <p:sp>
          <p:nvSpPr>
            <p:cNvPr id="180" name=""/>
            <p:cNvSpPr/>
            <p:nvPr/>
          </p:nvSpPr>
          <p:spPr>
            <a:xfrm>
              <a:off x="409680" y="2981160"/>
              <a:ext cx="1952640" cy="363600"/>
            </a:xfrm>
            <a:prstGeom prst="rect">
              <a:avLst/>
            </a:prstGeom>
            <a:solidFill>
              <a:srgbClr val="ffe6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298116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n +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76240" y="480996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4400" y="5524560"/>
              <a:ext cx="2505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1800" y="50022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080" y="572760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52600" y="3905280"/>
              <a:ext cx="105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cc"/>
                  </a:solidFill>
                  <a:latin typeface="Arial"/>
                </a:rPr>
                <a:t>PU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28880" y="3228840"/>
              <a:ext cx="0" cy="6480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52600" y="3343320"/>
              <a:ext cx="110484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9680" y="3362400"/>
              <a:ext cx="192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71680" y="3162240"/>
              <a:ext cx="1085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0600" y="2552760"/>
              <a:ext cx="20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tack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5360" y="1171440"/>
              <a:ext cx="20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perand in Speicherzelle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" y="205740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e-dek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grammiermodell des Intel 80386/80486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7560" y="5724360"/>
            <a:ext cx="81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iermodel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benutzerzugänglichen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1.7-6" descr=""/>
          <p:cNvPicPr/>
          <p:nvPr/>
        </p:nvPicPr>
        <p:blipFill>
          <a:blip r:embed="rId1"/>
          <a:stretch/>
        </p:blipFill>
        <p:spPr>
          <a:xfrm>
            <a:off x="452520" y="1160640"/>
            <a:ext cx="804528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grammiermodell des Intel 80386/80486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7840" y="1085760"/>
            <a:ext cx="8458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Registersatz ist eine Aufwärts-Entwicklung der Registersätze von 8080 und 80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15238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gister des 808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76680" y="2124000"/>
            <a:ext cx="4850280" cy="2239200"/>
            <a:chOff x="3676680" y="2124000"/>
            <a:chExt cx="4850280" cy="2239200"/>
          </a:xfrm>
        </p:grpSpPr>
        <p:sp>
          <p:nvSpPr>
            <p:cNvPr id="200" name=""/>
            <p:cNvSpPr/>
            <p:nvPr/>
          </p:nvSpPr>
          <p:spPr>
            <a:xfrm>
              <a:off x="3676680" y="2124000"/>
              <a:ext cx="4838400" cy="2190960"/>
            </a:xfrm>
            <a:prstGeom prst="rect">
              <a:avLst/>
            </a:prstGeom>
            <a:solidFill>
              <a:srgbClr val="c5ff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91080" y="2135160"/>
              <a:ext cx="4835880" cy="22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571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8 Bit Register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16 Bit Regist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2571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AL, 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    SP, IP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2571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DL, DH (D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2571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CL, CH (C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2571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BL, BH (B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3560" y="2590920"/>
              <a:ext cx="47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67440" y="2133720"/>
              <a:ext cx="0" cy="21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47840" y="4438800"/>
            <a:ext cx="80485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ige 8 Bit Register zusammengefaßt  zu 16 Bit Registern (DX, CX, B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 mit dem Statusregister zu einem 16 Bit Register zusammengefaßt (PSW, Processor Status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grammiermodell des Intel 80386/80486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6560" y="1200240"/>
            <a:ext cx="837252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gister des 8086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5238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Register jetzt 16 Bit 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AX, DX, CX, BX, SP, I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5238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sätzliche 16 Bit Register BP, SI,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5238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sätzliche 8 Bit Register CS, DS, 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 Kompatibilitätsgründen und zur Unterstützung Byte-Orientierter Probleme sind die Register AX, DX, CX und BX weiterhin byteweise ansprech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zusätzlichen 8 Bit Register CS, DS und SS dienen als Segmentregister zusammen mit SP und IP, sowie CX und DX zur Erweiterung des Adressraums auf 24 Bit (16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grammiermodell des Intel 80386/80486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440" y="1143000"/>
            <a:ext cx="8115120" cy="48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rweiterung aller Register auf 32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d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llgemeine Register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- und Adressregister,ab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eilweise mit Spezialfun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d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kkumulator (EAX)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register für Ein-/Ausgabe (EDX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ählregister für Schleifen (ECX)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asisregister (EBX, EBP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dexregister (ESI, EDI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ckregister (ESP)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grammiermodell des Intel 80386/80486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5640" y="1190520"/>
            <a:ext cx="830592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a1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Spezial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d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Segment-Regist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virtuellen  Adressverwaltung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logische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physikalische Adresse) sowie au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atibilitätsgründen zu 808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ode-Segment Register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ck-Segment Register (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-Segment Register (DS - 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zähl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EIP)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32 Bit ( 4 Gbyte Adressra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grammiermodell des Intel 80386/80486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5640" y="1190520"/>
            <a:ext cx="8305920" cy="48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a1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Spezial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00ad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Statusregist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EFR): Flags, wie CF, PF, AF und 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CR0, Control Register 0): enhäl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lags, die den Prozessorzustand beschrei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G: Paging Enable (Speicherverwaltung mit Seitenwechs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T: Processor Extention (Art der Coprozessorsteuer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S: Task Switch (Prozesswechs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M: Emulate Coprozessor (Coprozessor-Em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P: Monitor Coprozessor (Coprozessor-Überwach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E: Protection Enable (virtuelle (protected) oder reale (real)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verw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Wiederholung: Rechen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19840" y="1238400"/>
            <a:ext cx="161640" cy="1571400"/>
          </a:xfrm>
          <a:custGeom>
            <a:avLst/>
            <a:gdLst>
              <a:gd name="textAreaLeft" fmla="*/ 0 w 161640"/>
              <a:gd name="textAreaRight" fmla="*/ 58320 w 161640"/>
              <a:gd name="textAreaTop" fmla="*/ 40680 h 1571400"/>
              <a:gd name="textAreaBottom" fmla="*/ 153072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67160" y="1790640"/>
            <a:ext cx="19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05000" y="3000240"/>
            <a:ext cx="4552920" cy="2971800"/>
          </a:xfrm>
          <a:prstGeom prst="rect">
            <a:avLst/>
          </a:prstGeom>
          <a:solidFill>
            <a:srgbClr val="a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81720" y="4162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28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638600" y="4478400"/>
            <a:ext cx="1790640" cy="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3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04920" y="123660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104920" y="1778040"/>
            <a:ext cx="2743200" cy="1021680"/>
            <a:chOff x="2104920" y="1778040"/>
            <a:chExt cx="2743200" cy="1021680"/>
          </a:xfrm>
        </p:grpSpPr>
        <p:sp>
          <p:nvSpPr>
            <p:cNvPr id="56" name=""/>
            <p:cNvSpPr/>
            <p:nvPr/>
          </p:nvSpPr>
          <p:spPr>
            <a:xfrm>
              <a:off x="2104920" y="17780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4920" y="19638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4920" y="216396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920" y="23666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4920" y="25830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328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33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48240" y="3371760"/>
            <a:ext cx="199044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19120" y="3371760"/>
            <a:ext cx="199080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62400" y="4610160"/>
            <a:ext cx="199800" cy="571320"/>
          </a:xfrm>
          <a:prstGeom prst="downArrow">
            <a:avLst>
              <a:gd name="adj1" fmla="val 50000"/>
              <a:gd name="adj2" fmla="val 71486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62400" y="5572080"/>
            <a:ext cx="190440" cy="657360"/>
          </a:xfrm>
          <a:prstGeom prst="downArrow">
            <a:avLst>
              <a:gd name="adj1" fmla="val 50000"/>
              <a:gd name="adj2" fmla="val 86295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825560" y="4005360"/>
            <a:ext cx="3279600" cy="861480"/>
            <a:chOff x="1825560" y="4005360"/>
            <a:chExt cx="3279600" cy="861480"/>
          </a:xfrm>
        </p:grpSpPr>
        <p:sp>
          <p:nvSpPr>
            <p:cNvPr id="68" name=""/>
            <p:cNvSpPr/>
            <p:nvPr/>
          </p:nvSpPr>
          <p:spPr>
            <a:xfrm>
              <a:off x="1825560" y="4009680"/>
              <a:ext cx="3279600" cy="857160"/>
            </a:xfrm>
            <a:custGeom>
              <a:avLst/>
              <a:gdLst>
                <a:gd name="textAreaLeft" fmla="*/ 721080 w 3279600"/>
                <a:gd name="textAreaRight" fmla="*/ 2558520 w 3279600"/>
                <a:gd name="textAreaTop" fmla="*/ 188280 h 857160"/>
                <a:gd name="textAreaBottom" fmla="*/ 66888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01800" y="4009680"/>
              <a:ext cx="1568520" cy="342720"/>
            </a:xfrm>
            <a:custGeom>
              <a:avLst/>
              <a:gdLst>
                <a:gd name="textAreaLeft" fmla="*/ 344880 w 1568520"/>
                <a:gd name="textAreaRight" fmla="*/ 1223640 w 15685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bff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23760" y="4005360"/>
              <a:ext cx="1525680" cy="4320"/>
            </a:xfrm>
            <a:prstGeom prst="line">
              <a:avLst/>
            </a:prstGeom>
            <a:ln w="28440">
              <a:solidFill>
                <a:srgbClr val="abff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22280" y="4400280"/>
              <a:ext cx="13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Arial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476440" y="5186520"/>
            <a:ext cx="1990800" cy="3902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1628640"/>
            <a:ext cx="1238400" cy="2857680"/>
          </a:xfrm>
          <a:custGeom>
            <a:avLst/>
            <a:gdLst/>
            <a:ahLst/>
            <a:rect l="l" t="t" r="r" b="b"/>
            <a:pathLst>
              <a:path w="780" h="1830">
                <a:moveTo>
                  <a:pt x="780" y="1830"/>
                </a:moveTo>
                <a:lnTo>
                  <a:pt x="0" y="1830"/>
                </a:lnTo>
                <a:lnTo>
                  <a:pt x="0" y="0"/>
                </a:lnTo>
                <a:lnTo>
                  <a:pt x="672" y="6"/>
                </a:lnTo>
              </a:path>
            </a:pathLst>
          </a:custGeom>
          <a:noFill/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62040" y="121752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zä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16200000">
            <a:off x="1340640" y="1618200"/>
            <a:ext cx="201600" cy="1314720"/>
          </a:xfrm>
          <a:prstGeom prst="downArrow">
            <a:avLst>
              <a:gd name="adj1" fmla="val 43315"/>
              <a:gd name="adj2" fmla="val 56640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1480" y="2238480"/>
            <a:ext cx="95400" cy="361944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04920" y="150192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62040" y="1465200"/>
            <a:ext cx="16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095200" y="4457880"/>
            <a:ext cx="104760" cy="269532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537480" y="393192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1.8 Das Adress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2440" y="1066680"/>
            <a:ext cx="852480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Adresswerk hat die Aufgabe, nach den Vorgaben des Steuerwerks aus den Inhalten bestimmter Speicherzellen und Register die Adresse eines Operanden zu bil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berechnung durch die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gene Adresswer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berechnung findet parallel (im Pipelining-Verfahren)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n Aktivitäten des Operationswerks stat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ührt neben einfacher Adressrechnung auch die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rechnung zur virtuellen Speicherverwaltung dur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rüher oft seperater Baustein, heute in den Prozessor integr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omplexe Adresswerke zur virtuellen Speicherverw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äter!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fbau eines einfachen Adress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7" name="1.8-1" descr=""/>
          <p:cNvPicPr/>
          <p:nvPr/>
        </p:nvPicPr>
        <p:blipFill>
          <a:blip r:embed="rId1"/>
          <a:stretch/>
        </p:blipFill>
        <p:spPr>
          <a:xfrm>
            <a:off x="1100160" y="1114560"/>
            <a:ext cx="70200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Funktionswei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9960" y="1076400"/>
            <a:ext cx="8429760" cy="50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-Addierer mit 2 Eingä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A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satz (Adresse aus Basis- oder Index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buspuffer (absolute Adresse im Befehl od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olute Adressdistanz zu einem Basis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Adresse des aktuellen Befeh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(Adresse des aktuellen Opera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Ausgang kann über den Adresspuffer oder den Programmzähler auf Eingang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ückgekoppe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und Programmzähler als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kal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123920"/>
            <a:ext cx="8067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kalieru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 mit 1,2,4,8,...  multiplizier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ßberechung für sukzesive Zugriff auf Bytes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orte, Doppelworte, Vierfachworte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Multiplikation mit positiver Zah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ben nach links mit nachrückenden Nu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alisierung durch Schaltnetz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arrel-Shi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Barrel-Shifter erlaubt die Verschiebung um n Bits parallel (d.h in einem einzigen Taktzykl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fbau eines 4 Bit Barrel-Shif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3" name="1.8-2" descr=""/>
          <p:cNvPicPr/>
          <p:nvPr/>
        </p:nvPicPr>
        <p:blipFill>
          <a:blip r:embed="rId1"/>
          <a:stretch/>
        </p:blipFill>
        <p:spPr>
          <a:xfrm>
            <a:off x="1203480" y="1085760"/>
            <a:ext cx="6813360" cy="4275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5448240"/>
            <a:ext cx="8057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 jede Aus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je nach Wert 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euerleitungen die Ein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3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chal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376236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91120" y="3886200"/>
            <a:ext cx="790560" cy="304920"/>
          </a:xfrm>
          <a:custGeom>
            <a:avLst/>
            <a:gdLst/>
            <a:ahLst/>
            <a:rect l="l" t="t" r="r" b="b"/>
            <a:pathLst>
              <a:path w="498" h="192">
                <a:moveTo>
                  <a:pt x="498" y="0"/>
                </a:moveTo>
                <a:lnTo>
                  <a:pt x="0" y="7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91200" y="3971880"/>
            <a:ext cx="790560" cy="2383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00640" y="4067280"/>
            <a:ext cx="780840" cy="1429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402588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393696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30920" y="3841920"/>
            <a:ext cx="88920" cy="88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1.9 Das interne Bussyst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3" name="1.9-1" descr=""/>
          <p:cNvPicPr/>
          <p:nvPr/>
        </p:nvPicPr>
        <p:blipFill>
          <a:blip r:embed="rId1"/>
          <a:srcRect l="236" t="801" r="471" b="998"/>
          <a:stretch/>
        </p:blipFill>
        <p:spPr>
          <a:xfrm>
            <a:off x="590400" y="1295280"/>
            <a:ext cx="80391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62080"/>
            <a:ext cx="82962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bus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eterogene Einzelleitungen, funktional nicht zusammenhängend, werden der Übersichtlichkeit wegen jedoch als Bus dargeste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b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0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rsprung im Adresswerk (A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0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speichern von Adressen im  Programm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ähler (PC, Befehlsadressen) und Adresspuff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AP, Operandenadress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Über Adressbustreiber mit externem Adressbu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b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135080"/>
            <a:ext cx="817560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Datenb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bindet alle übrigen Komponenten (Rechenwerk, Adresswerk, Steuerwerk, Registersatz) zwecks Datentran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Über Datenbuspuffer mit externem Datenbus verb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blem bei dieser Datenbus-Architek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öchstens ein Datentransfer gleichzeitig zwischen zwei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timmten Prozessor-Komponent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nur geringe Parallelitä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i der Befehlsbearbeitung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2880" y="1447920"/>
            <a:ext cx="791532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spalten des internen Datenbus in mehrere Teilbuss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höherer Parallelität, höhere Geschwind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ber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usse erfordern ein erhebliches Maß an Chipflä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bau des internen Bussystems nicht beliebig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095480"/>
            <a:ext cx="42195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b0bff"/>
                </a:solidFill>
                <a:latin typeface="Arial"/>
              </a:rPr>
              <a:t>1. 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zufügen eines zweiten, getrennten Datenbusses zum Adress- und Steuer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llel zu Aktion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enwerk/Registersatz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das Befehl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 dem nächsten Befehl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code Prefetch in ein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- Queu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1.9-2" descr=""/>
          <p:cNvPicPr/>
          <p:nvPr/>
        </p:nvPicPr>
        <p:blipFill>
          <a:blip r:embed="rId1"/>
          <a:stretch/>
        </p:blipFill>
        <p:spPr>
          <a:xfrm>
            <a:off x="4664160" y="1204920"/>
            <a:ext cx="4327560" cy="4686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993000" y="2789280"/>
            <a:ext cx="162000" cy="2143080"/>
          </a:xfrm>
          <a:prstGeom prst="downArrow">
            <a:avLst>
              <a:gd name="adj1" fmla="val 42861"/>
              <a:gd name="adj2" fmla="val 114650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16200000">
            <a:off x="7588080" y="2199960"/>
            <a:ext cx="150840" cy="1239840"/>
          </a:xfrm>
          <a:prstGeom prst="downArrow">
            <a:avLst>
              <a:gd name="adj1" fmla="val 34620"/>
              <a:gd name="adj2" fmla="val 11027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1.7  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171440"/>
            <a:ext cx="8001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gist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ellen mit kleiner Zugriffszeit (wenige 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zelner Register durch individuel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leine Regsiter-Anzahl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Adressdeco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rderlich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 der Adreßdecodierung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sind auf dem Prozessorchip untergebracht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raubendes Umschalten auf externe Daten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und Adresswege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95480"/>
            <a:ext cx="44481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000"/>
                </a:solidFill>
                <a:latin typeface="Arial"/>
              </a:rPr>
              <a:t>2. Ergebnis-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r Bus, der die Ergebnisse des Rechenwerks in den Registersatz transport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sierung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ährend das Rechenwerk ein Ergebnis in den Registersatz transportiert, können die Hilfsregister mit dem nächsten Operanden gelad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1.9-3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326120" cy="4711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042320" y="2786040"/>
            <a:ext cx="161640" cy="2139840"/>
          </a:xfrm>
          <a:prstGeom prst="downArrow">
            <a:avLst>
              <a:gd name="adj1" fmla="val 42306"/>
              <a:gd name="adj2" fmla="val 13287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rot="16200000">
            <a:off x="7607160" y="2220120"/>
            <a:ext cx="228600" cy="1220760"/>
          </a:xfrm>
          <a:prstGeom prst="downArrow">
            <a:avLst>
              <a:gd name="adj1" fmla="val 34620"/>
              <a:gd name="adj2" fmla="val 71647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4400" y="2835360"/>
            <a:ext cx="161640" cy="285840"/>
          </a:xfrm>
          <a:prstGeom prst="upArrow">
            <a:avLst>
              <a:gd name="adj1" fmla="val 45074"/>
              <a:gd name="adj2" fmla="val 10985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5057280" y="1834920"/>
            <a:ext cx="168480" cy="244440"/>
          </a:xfrm>
          <a:prstGeom prst="upArrow">
            <a:avLst>
              <a:gd name="adj1" fmla="val 49056"/>
              <a:gd name="adj2" fmla="val 85734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78440" y="1917720"/>
            <a:ext cx="74520" cy="9460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5445720" y="2367720"/>
            <a:ext cx="74520" cy="10033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095480"/>
            <a:ext cx="45529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6600"/>
                </a:solidFill>
                <a:latin typeface="Arial"/>
              </a:rPr>
              <a:t>3. Zweiter Operandenbus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de Operanden parallel an die ALU 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ternative Parallelisierung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2 stammt immer aus dem Registersatz  (Bus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1 wahlweise aus dem Registersatz oder dem Datenbuspuffer (Bu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1.9-4" descr=""/>
          <p:cNvPicPr/>
          <p:nvPr/>
        </p:nvPicPr>
        <p:blipFill>
          <a:blip r:embed="rId1"/>
          <a:stretch/>
        </p:blipFill>
        <p:spPr>
          <a:xfrm>
            <a:off x="5000760" y="1290600"/>
            <a:ext cx="3976560" cy="4257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261040" y="1962000"/>
            <a:ext cx="71280" cy="227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5503680" y="3916440"/>
            <a:ext cx="88920" cy="583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0840" y="3676680"/>
            <a:ext cx="174600" cy="561960"/>
          </a:xfrm>
          <a:prstGeom prst="upArrow">
            <a:avLst>
              <a:gd name="adj1" fmla="val 50000"/>
              <a:gd name="adj2" fmla="val 8046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61040" y="1870200"/>
            <a:ext cx="291960" cy="187200"/>
          </a:xfrm>
          <a:prstGeom prst="rightArrow">
            <a:avLst>
              <a:gd name="adj1" fmla="val 50000"/>
              <a:gd name="adj2" fmla="val 3899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5080" y="573552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Hilfsregister entkoppelt Operand 1 vom Ergeb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1095480"/>
            <a:ext cx="43531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cc3300"/>
                </a:solidFill>
                <a:latin typeface="Arial"/>
              </a:rPr>
              <a:t>4.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Zweiter Operandenbus /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Kombination der </a:t>
            </a:r>
            <a:r>
              <a:rPr b="0" sz="2200" spc="-1" strike="noStrike">
                <a:solidFill>
                  <a:srgbClr val="0b0bff"/>
                </a:solidFill>
                <a:latin typeface="Arial"/>
              </a:rPr>
              <a:t>Varianten 1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Variant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cc99"/>
                </a:solidFill>
                <a:latin typeface="Arial"/>
              </a:rPr>
              <a:t>Zusätzliche Verbindung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des Operanden/ Ergebnis Busses (Bus 1) zum Adress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Prefetch-Bus 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Parallele Rechenwerk-Operatio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Direkter Zugriff des Adresswerks auf Adressregister im Registersatzes ohne Umweg über Daten- oder Prefetch-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853160" y="1281240"/>
            <a:ext cx="3979800" cy="4324320"/>
            <a:chOff x="4853160" y="1281240"/>
            <a:chExt cx="3979800" cy="4324320"/>
          </a:xfrm>
        </p:grpSpPr>
        <p:pic>
          <p:nvPicPr>
            <p:cNvPr id="265" name="1.9-5" descr=""/>
            <p:cNvPicPr/>
            <p:nvPr/>
          </p:nvPicPr>
          <p:blipFill>
            <a:blip r:embed="rId1"/>
            <a:stretch/>
          </p:blipFill>
          <p:spPr>
            <a:xfrm>
              <a:off x="4853160" y="1281240"/>
              <a:ext cx="3979800" cy="43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118120" y="1971720"/>
              <a:ext cx="93240" cy="2079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5379480" y="3716640"/>
              <a:ext cx="88560" cy="583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97640" y="3733920"/>
              <a:ext cx="183600" cy="304920"/>
            </a:xfrm>
            <a:prstGeom prst="upArrow">
              <a:avLst>
                <a:gd name="adj1" fmla="val 48509"/>
                <a:gd name="adj2" fmla="val 822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5205240" y="1858320"/>
              <a:ext cx="98640" cy="286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46920" y="2786400"/>
              <a:ext cx="213840" cy="1977840"/>
            </a:xfrm>
            <a:prstGeom prst="downArrow">
              <a:avLst>
                <a:gd name="adj1" fmla="val 33333"/>
                <a:gd name="adj2" fmla="val 79774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7468560" y="2253960"/>
              <a:ext cx="228600" cy="1115640"/>
            </a:xfrm>
            <a:prstGeom prst="downArrow">
              <a:avLst>
                <a:gd name="adj1" fmla="val 34620"/>
                <a:gd name="adj2" fmla="val 65477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042520" y="560232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us-Architektur des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10480" y="3228840"/>
            <a:ext cx="933480" cy="182520"/>
          </a:xfrm>
          <a:prstGeom prst="leftRightArrow">
            <a:avLst>
              <a:gd name="adj1" fmla="val 49565"/>
              <a:gd name="adj2" fmla="val 9568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1520" y="1209600"/>
            <a:ext cx="37908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5.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Extrembeispiel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 Bus (Bus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Operandenbuss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Bus 1 un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Ergebnisbus (Bus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lfsregister wird nu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em Operanden-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Ergebni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1.9-6" descr=""/>
          <p:cNvPicPr/>
          <p:nvPr/>
        </p:nvPicPr>
        <p:blipFill>
          <a:blip r:embed="rId1"/>
          <a:srcRect l="786" t="638" r="978" b="0"/>
          <a:stretch/>
        </p:blipFill>
        <p:spPr>
          <a:xfrm>
            <a:off x="4210200" y="1428840"/>
            <a:ext cx="4771800" cy="4429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flipH="1">
            <a:off x="6468480" y="1819440"/>
            <a:ext cx="74520" cy="252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6200000">
            <a:off x="6037200" y="3854160"/>
            <a:ext cx="83880" cy="903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05600" y="2957400"/>
            <a:ext cx="195480" cy="1978200"/>
          </a:xfrm>
          <a:prstGeom prst="downArrow">
            <a:avLst>
              <a:gd name="adj1" fmla="val 42222"/>
              <a:gd name="adj2" fmla="val 7716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rot="16200000">
            <a:off x="7538040" y="2405520"/>
            <a:ext cx="228600" cy="1116000"/>
          </a:xfrm>
          <a:prstGeom prst="downArrow">
            <a:avLst>
              <a:gd name="adj1" fmla="val 34620"/>
              <a:gd name="adj2" fmla="val 6549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83360" y="3301920"/>
            <a:ext cx="196560" cy="324000"/>
          </a:xfrm>
          <a:prstGeom prst="upArrow">
            <a:avLst>
              <a:gd name="adj1" fmla="val 37093"/>
              <a:gd name="adj2" fmla="val 5898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4523760" y="2016000"/>
            <a:ext cx="206640" cy="244440"/>
          </a:xfrm>
          <a:prstGeom prst="upArrow">
            <a:avLst>
              <a:gd name="adj1" fmla="val 41611"/>
              <a:gd name="adj2" fmla="val 66057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73720" y="2098800"/>
            <a:ext cx="74520" cy="86976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4907520" y="2467440"/>
            <a:ext cx="74520" cy="9367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0880" y="2898720"/>
            <a:ext cx="74520" cy="1936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546880" y="3879720"/>
            <a:ext cx="179280" cy="460440"/>
          </a:xfrm>
          <a:prstGeom prst="upArrow">
            <a:avLst>
              <a:gd name="adj1" fmla="val 39824"/>
              <a:gd name="adj2" fmla="val 7916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965840" y="3889440"/>
            <a:ext cx="217440" cy="669960"/>
          </a:xfrm>
          <a:prstGeom prst="upArrow">
            <a:avLst>
              <a:gd name="adj1" fmla="val 32852"/>
              <a:gd name="adj2" fmla="val 6352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rot="16200000">
            <a:off x="5908680" y="3630600"/>
            <a:ext cx="83880" cy="1807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1647720"/>
            <a:ext cx="162000" cy="3305160"/>
          </a:xfrm>
          <a:prstGeom prst="downArrow">
            <a:avLst>
              <a:gd name="adj1" fmla="val 42426"/>
              <a:gd name="adj2" fmla="val 10578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1.10  Die Systembus-Schnittstell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040" y="1305000"/>
            <a:ext cx="804852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ystembus-Schnittstelle (Bus Interface Unit, BIU) stellt die Verbindung des Mikroprozessors zu seiner Umwelt (Komponenten des Mikrorechnersystems) 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fristiges Zwischenspeichern (Puffern) vo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n und D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lektrische Anpassung der Signalpe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System-SS" descr=""/>
          <p:cNvPicPr/>
          <p:nvPr/>
        </p:nvPicPr>
        <p:blipFill>
          <a:blip r:embed="rId1"/>
          <a:stretch/>
        </p:blipFill>
        <p:spPr>
          <a:xfrm>
            <a:off x="2171880" y="2695680"/>
            <a:ext cx="4943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1143000"/>
            <a:ext cx="847728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atenbuspuffer (DB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alle Daten von und zum Proz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langsam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gf. den Zugriff auf externen 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usgänge ggf. hochohmig (Trist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zähler (PC / 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die Adresse der Speicherzelle des nächst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zuführenden Befeh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nach jedem Befehl inkrementiert (auße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rüngen und Unterprogrammaufrufen, dort wird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grammzähler gela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5360" y="1440000"/>
            <a:ext cx="78436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puffer (AP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vom Adresswerk erzeug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adre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bustreib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wahlweise PC oder AP auf Adressbus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dressen ggf. hochohmig (Tri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9040" y="1171440"/>
            <a:ext cx="82868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ter, die neben den Pegelzuständ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high) un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low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n dritten hochohmigen Zustand besitz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Zustand ist der Ausgang hochohmig gegen beide Betriebsspannun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Gatter ermöglichen es, mehrere Gatterausgänge auf eine gemeinsame Leitung zusammenzuschalten (Bus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dienen auch durch Ausgangstreiber zur elektrischen Anpassung der Prozessorsignale an die Signal-spezifikationen, die von anderen Systemkomponenten verlang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828720" y="2257560"/>
            <a:ext cx="6924600" cy="2143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0200" y="3476520"/>
            <a:ext cx="809640" cy="1543320"/>
            <a:chOff x="1600200" y="3476520"/>
            <a:chExt cx="809640" cy="1543320"/>
          </a:xfrm>
        </p:grpSpPr>
        <p:sp>
          <p:nvSpPr>
            <p:cNvPr id="302" name=""/>
            <p:cNvSpPr/>
            <p:nvPr/>
          </p:nvSpPr>
          <p:spPr>
            <a:xfrm>
              <a:off x="176184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60020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3812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6480" y="383868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057560" y="3476520"/>
            <a:ext cx="333360" cy="1543320"/>
            <a:chOff x="4057560" y="3476520"/>
            <a:chExt cx="333360" cy="1543320"/>
          </a:xfrm>
        </p:grpSpPr>
        <p:sp>
          <p:nvSpPr>
            <p:cNvPr id="307" name=""/>
            <p:cNvSpPr/>
            <p:nvPr/>
          </p:nvSpPr>
          <p:spPr>
            <a:xfrm>
              <a:off x="421920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05756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900760" y="3114720"/>
            <a:ext cx="885600" cy="1905120"/>
            <a:chOff x="5900760" y="3114720"/>
            <a:chExt cx="885600" cy="1905120"/>
          </a:xfrm>
        </p:grpSpPr>
        <p:sp>
          <p:nvSpPr>
            <p:cNvPr id="310" name=""/>
            <p:cNvSpPr/>
            <p:nvPr/>
          </p:nvSpPr>
          <p:spPr>
            <a:xfrm>
              <a:off x="6615000" y="3476520"/>
              <a:ext cx="0" cy="81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45300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62760" y="348624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62760" y="3486240"/>
              <a:ext cx="0" cy="81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0076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62760" y="429588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38880" y="3114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38880" y="4305240"/>
              <a:ext cx="0" cy="7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150560" y="508968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40440" y="50896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ress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22400" y="508968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5752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098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62440" y="3892680"/>
            <a:ext cx="5364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96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48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00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49320" y="228744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ystembus-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82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34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486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eitverhalten der Systembussigna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2048040"/>
            <a:ext cx="6334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chroner Syste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i-synchroner Syste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ynchroner Syste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1.7  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1171440"/>
            <a:ext cx="82868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trennte Ein-/Ausgäng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ual Port Speicher, zwisch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gangs- und Ausgangsbus gehä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n eines Registers und gleichzeitiges Les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s anderen Registers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Heutige superskalar-Prozessoren: pro 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4 allgemeine Register schreiben und bis zu 8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llgemeine Register 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dynamische Speicherz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efresh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mit Zusatzfunktionen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krementieren/Dekrementieren/auf Null setzen/Inhal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42840" y="1457280"/>
            <a:ext cx="1828800" cy="148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42840" y="145728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42840" y="1676520"/>
            <a:ext cx="1828800" cy="218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42840" y="272412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62800" y="1514520"/>
            <a:ext cx="380880" cy="3409920"/>
          </a:xfrm>
          <a:custGeom>
            <a:avLst/>
            <a:gdLst>
              <a:gd name="textAreaLeft" fmla="*/ 0 w 380880"/>
              <a:gd name="textAreaRight" fmla="*/ 137520 w 380880"/>
              <a:gd name="textAreaTop" fmla="*/ 88920 h 3409920"/>
              <a:gd name="textAreaBottom" fmla="*/ 3321000 h 340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840" y="4610160"/>
            <a:ext cx="1828800" cy="21888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0400" y="13431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0400" y="15717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0400" y="2629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2400" y="1611360"/>
            <a:ext cx="401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niverselle, allgemeine Register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general purpose regist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- und Adress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1895400"/>
            <a:ext cx="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2840" y="189540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2840" y="329256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2160" y="32497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840" y="351144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1680" y="3468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42840" y="373392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0160" y="36910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42840" y="395280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0160" y="39099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42840" y="416880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0640" y="41259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0160" y="4344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42840" y="4387680"/>
            <a:ext cx="1828800" cy="2192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33480" y="437184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grammszä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3480" y="328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3480" y="3495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viso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33480" y="3743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am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3480" y="39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s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3480" y="41338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ctorbase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42840" y="458136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63920" y="2954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6880" y="3678120"/>
            <a:ext cx="40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alregister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special purpose regi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4829040"/>
            <a:ext cx="1828800" cy="219240"/>
          </a:xfrm>
          <a:prstGeom prst="rect">
            <a:avLst/>
          </a:prstGeom>
          <a:solidFill>
            <a:srgbClr val="e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3480" y="480060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euer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- und Adressregist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190520"/>
            <a:ext cx="810576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speichern von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 Zugriff auf häufig benutzte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modernen Prozessoren sind mehrer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register als Akkumulator nutz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ress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 von Adressen (oder Teile davon) eines Operanden im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i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ex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pezialregister 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(special purpose register)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6560" y="1181160"/>
            <a:ext cx="814392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zur speziellen Verwendu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instruction 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für den Start von Interrupt-Behandlung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interrupt vector base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Stack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ser und supervisor Stack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Funktion von Basis- und Indexregist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6" name="1.7-2" descr=""/>
          <p:cNvPicPr/>
          <p:nvPr/>
        </p:nvPicPr>
        <p:blipFill>
          <a:blip r:embed="rId1"/>
          <a:stretch/>
        </p:blipFill>
        <p:spPr>
          <a:xfrm>
            <a:off x="3995640" y="1452600"/>
            <a:ext cx="5148360" cy="2982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76280" y="48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Indexregister enthält eine Distanz (Offset, Displacement) zu einer Basisadresse und dient zur Auswahl eines bestimmten Datums d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374840"/>
            <a:ext cx="355284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Basisregister enthält die  Anfangsadresse ein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Diese bleibt während der Bearbeitung des Speicherbereichs unveränd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65520" y="3486240"/>
            <a:ext cx="1781280" cy="3142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84600" y="1847880"/>
            <a:ext cx="177192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99"/>
                </a:solidFill>
                <a:latin typeface="Arial"/>
              </a:rPr>
              <a:t>Automatische Modifikation von Indexregister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2" name="1.7-3" descr=""/>
          <p:cNvPicPr/>
          <p:nvPr/>
        </p:nvPicPr>
        <p:blipFill>
          <a:blip r:embed="rId1"/>
          <a:stretch/>
        </p:blipFill>
        <p:spPr>
          <a:xfrm>
            <a:off x="914400" y="1262160"/>
            <a:ext cx="7137360" cy="2292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3800" y="3562200"/>
            <a:ext cx="80298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a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ost-In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höh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b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re-De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niedrig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vo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c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Auto-Inkrement / Auto-Dekrement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02T16:11:13Z</cp:lastPrinted>
  <dcterms:modified xsi:type="dcterms:W3CDTF">2002-03-07T12:09:23Z</dcterms:modified>
  <cp:revision>506</cp:revision>
  <dc:subject/>
  <dc:title>TI-2</dc:title>
</cp:coreProperties>
</file>