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0AFC-F1F4-4CD9-8D8E-0A11B75D026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0880"/>
            <a:ext cx="83059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99"/>
                </a:solidFill>
                <a:latin typeface="Arial"/>
              </a:rPr>
              <a:t>CISC &amp; RISC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8120" y="1133640"/>
            <a:ext cx="795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wei Techniken zur Implementierung von Befe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 Rech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kt durch Hardwar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ufwendi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haltnetze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 Schaltwerke bei größ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zahl v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ehlen (200-3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roprogramme als Befehlsinterpreter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ikroprogrammspeich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 Steuerwerk, 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 geladen werden kan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erschiede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ehlssätze können implementier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880" y="271440"/>
            <a:ext cx="888516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CISC: Complete Instruction Set Comput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1000" y="1236600"/>
            <a:ext cx="858996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Grenzen der Weiterentwicklungsmöglichkeiten bei CISC-Rechner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1437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chnellere Speich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1151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Ausnutzung nur eines Teils des Maschinen-Befehlssatz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1151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Ersetzung komplexer Maschinenbefehle durch mehrere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einfache Maschinenbefeh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1151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Verlängerte Entwurfszei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1151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ehr komplexe Steuerwerke (&gt; 50% der Chipfläche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1151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ehr umfangreiche Mikroprogramm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1151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Größere Fehlerhäufigkeit auf der Mikroprogrammeben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1151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chwieriger Compilerbau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RISC (reduced instruction set computers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9680" y="1065240"/>
            <a:ext cx="800100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undprinzipi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l benutzte einfache Befehle so schnell wie möglich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chen (Ausführung möglichst in einer Taktphase.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ine Mikroprogrammieru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hr, Befehls-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pel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größte Teil der Arbeit soll durch optimierend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iler zur Übersetzungszeit erledigt we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nden werden nach Möglichkeit in groß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stersätzen gehalten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chneller Zugriff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 Verarbei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heitliche Befehlsforma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 Decod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pelining anwenden, so gut es ge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317520"/>
            <a:ext cx="833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cc"/>
                </a:solidFill>
                <a:latin typeface="Arial"/>
              </a:rPr>
              <a:t>RISC (reduced instruction set comput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9960" y="1219320"/>
            <a:ext cx="8286840" cy="45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wurfszie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4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9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führung jedes Befehls in einem Taktzyk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Befehl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bisheriger Mikrobefehl bei CISC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Befehle gleich la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codierschaltung wird einf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e länger, aber Ausführungszeit kür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Load-Store und Register-Register-Befeh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50000"/>
              </a:lnSpc>
              <a:spcBef>
                <a:spcPts val="1049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niger Adressierungsarten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 Ausfüh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prozessorarchitektur für komplexe Befe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Zielvorstellungen für RISC-Rechner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4040" y="1162080"/>
            <a:ext cx="7448400" cy="50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-Zyklus-Befe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heitliches Befehls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nige Maschinenbefe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ad/Store-Archite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oßer Register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zicht auf Mikroprogramm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2-Bit-Archite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peline-gerechter Maschinenbefehlssatz (gleich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sausführzei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ine Unterstützung für Betriebssystem und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leitkomma-Arithme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Forderungen an RISC-System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0520" y="1241280"/>
            <a:ext cx="802296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ndestens 75% aller Befehle sind Ein-Zyklus-Befe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heitliche Länge aller Befehle entsprechend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busbr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mehr als 128 Befe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mehr als 4 Befehlsfor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mehr als 4 Adressierungs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ad/Store-Archite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stverdrahtete Steuereinheit, kein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kroprogramm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ndestens 32 allgemein verwendbare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0880"/>
            <a:ext cx="83059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CISC: Complete Instruction Set Comput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276200"/>
            <a:ext cx="839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17680" y="1305000"/>
            <a:ext cx="81342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RISC-Rechner aus heutiger Sich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440" y="1406520"/>
            <a:ext cx="767232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blieben ist von der RISC-Idee 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sentlic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Befehlspipel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Load/Store-Archite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großer Registersatz: 32 allgemeine u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2 Gleitpunkt-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einheitliches Befehlsformat von 32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Verwendung weniger Adressierungs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Verzicht auf Mikroprogramm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4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2743" t="5897" r="6217" b="1326"/>
          <a:stretch/>
        </p:blipFill>
        <p:spPr>
          <a:xfrm>
            <a:off x="3460680" y="0"/>
            <a:ext cx="56833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66760" y="2290680"/>
            <a:ext cx="324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ufbau eines RISC-Prozess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0201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Aufbau eines RISC-Prozessor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8200" y="1444680"/>
            <a:ext cx="8167680" cy="37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stembusschnittstelle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hält Registerblocks sowohl für Daten als auch für Adressen (gleichzeitiges Lesen eines Datums und Zwischenspeichern eines Ergebni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Programmzähler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ist manchmal als Hardware-Stack ausgebildet (beschleunigt Unterprogrammaufruf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1000" y="291600"/>
            <a:ext cx="87346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Aufbau eines RISC-Prozessor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9960" y="1073160"/>
            <a:ext cx="840924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euerwe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4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stverdraht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Befehlsregister als Warteschlange (FIFO) realis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jede Pipeline-Stufe ist dort ein Register vorhan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OpCodes jeder Stufe können vom Schaltnetz d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uerwerks ausgewerte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gistersat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t aus einer großen Zahl von Regis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laubt gleichzeitige Auswahl von 3 bis 4 Register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z.B. 4 Port Registersatz, gleichzeitiges Schreib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E0, E1) und Lesen (A0, A1) von jeweils 2 Register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901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99"/>
                </a:solidFill>
                <a:latin typeface="Arial"/>
              </a:rPr>
              <a:t>CISC &amp; RISC</a:t>
            </a: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0560" y="1243080"/>
            <a:ext cx="8088480" cy="43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s von-Neumman-Konnzep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e und Daten liegen im selben Arbeitsspeich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mis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buClr>
                <a:srgbClr val="4545ff"/>
              </a:buClr>
              <a:buFont typeface="Wingdings" charset="2"/>
              <a:buChar char="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nur ein Arbeitsspeicher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(niedrigere Kos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nur ein Bus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vard Architektu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trennter Programm- und Datenspeicher, deshalb zwei Adress- und Datenbus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aralleles Holen von Operanden und Instruk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2840" y="291960"/>
            <a:ext cx="88203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Unterschiede zwischen RISC- und CISC-Prozessor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840" y="1330200"/>
            <a:ext cx="8547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6200" y="1171440"/>
            <a:ext cx="8377200" cy="47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chenwe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itzt eine Load/Store-Architektur. Die Operanden werden über 2 Operandenbusse aus dem Registersatz herbeigeführt, das Ergebnis (noch im selben Taktzyklus) über den Ergebnisbus in den Registersatz geschrieb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rmalerweise gibt es keine direkte Verbindung zwischen ALU und Systemdatenbus, Datentransfer läuft über die Register (Load/Store-Architekt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snahme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ster-Bypasses zur Vermeidung v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peline-Hemmnissen (forwarding techniq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Bypass-Technik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3440" y="2876400"/>
            <a:ext cx="3646440" cy="2462400"/>
          </a:xfrm>
          <a:prstGeom prst="rect">
            <a:avLst/>
          </a:prstGeom>
          <a:solidFill>
            <a:srgbClr val="d1ff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24240" y="2570040"/>
            <a:ext cx="160200" cy="497160"/>
          </a:xfrm>
          <a:prstGeom prst="downArrow">
            <a:avLst>
              <a:gd name="adj1" fmla="val 50000"/>
              <a:gd name="adj2" fmla="val 7758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173560" y="4035600"/>
            <a:ext cx="1702080" cy="2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89680" y="2570040"/>
            <a:ext cx="160200" cy="497160"/>
          </a:xfrm>
          <a:prstGeom prst="downArrow">
            <a:avLst>
              <a:gd name="adj1" fmla="val 50000"/>
              <a:gd name="adj2" fmla="val 7758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4960" y="1217520"/>
            <a:ext cx="2197080" cy="23976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44960" y="1689120"/>
            <a:ext cx="2197080" cy="18900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44960" y="1851120"/>
            <a:ext cx="2197080" cy="18864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44960" y="2025720"/>
            <a:ext cx="2197080" cy="18720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44960" y="2201760"/>
            <a:ext cx="2197080" cy="18756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44960" y="2389320"/>
            <a:ext cx="2197080" cy="18864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24240" y="3151080"/>
            <a:ext cx="160200" cy="497160"/>
          </a:xfrm>
          <a:prstGeom prst="downArrow">
            <a:avLst>
              <a:gd name="adj1" fmla="val 50000"/>
              <a:gd name="adj2" fmla="val 7758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89680" y="3151080"/>
            <a:ext cx="160200" cy="497160"/>
          </a:xfrm>
          <a:prstGeom prst="downArrow">
            <a:avLst>
              <a:gd name="adj1" fmla="val 50000"/>
              <a:gd name="adj2" fmla="val 7758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79760" y="3076560"/>
            <a:ext cx="1595520" cy="33984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randenregister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95600" y="3076560"/>
            <a:ext cx="1593720" cy="33984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randenregister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51160" y="4152960"/>
            <a:ext cx="160560" cy="498240"/>
          </a:xfrm>
          <a:prstGeom prst="downArrow">
            <a:avLst>
              <a:gd name="adj1" fmla="val 50000"/>
              <a:gd name="adj2" fmla="val 77578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51160" y="4991040"/>
            <a:ext cx="152640" cy="571680"/>
          </a:xfrm>
          <a:prstGeom prst="downArrow">
            <a:avLst>
              <a:gd name="adj1" fmla="val 50000"/>
              <a:gd name="adj2" fmla="val 93632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21040" y="3632040"/>
            <a:ext cx="2627280" cy="744840"/>
          </a:xfrm>
          <a:custGeom>
            <a:avLst/>
            <a:gdLst>
              <a:gd name="textAreaLeft" fmla="*/ 577800 w 2627280"/>
              <a:gd name="textAreaRight" fmla="*/ 2049480 w 2627280"/>
              <a:gd name="textAreaTop" fmla="*/ 163800 h 744840"/>
              <a:gd name="textAreaBottom" fmla="*/ 581040 h 74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4545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22680" y="3632040"/>
            <a:ext cx="1257120" cy="297000"/>
          </a:xfrm>
          <a:custGeom>
            <a:avLst/>
            <a:gdLst>
              <a:gd name="textAreaLeft" fmla="*/ 276480 w 1257120"/>
              <a:gd name="textAreaRight" fmla="*/ 980640 w 1257120"/>
              <a:gd name="textAreaTop" fmla="*/ 65160 h 297000"/>
              <a:gd name="textAreaBottom" fmla="*/ 231840 h 2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d1ff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39960" y="3627360"/>
            <a:ext cx="1222560" cy="4680"/>
          </a:xfrm>
          <a:prstGeom prst="line">
            <a:avLst/>
          </a:prstGeom>
          <a:ln w="28440">
            <a:solidFill>
              <a:srgbClr val="d1ff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9280" y="3970440"/>
            <a:ext cx="11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41600" y="4654440"/>
            <a:ext cx="1595520" cy="33984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gebnisregi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rot="16200000">
            <a:off x="2513520" y="1580040"/>
            <a:ext cx="204840" cy="1054080"/>
          </a:xfrm>
          <a:prstGeom prst="downArrow">
            <a:avLst>
              <a:gd name="adj1" fmla="val 43315"/>
              <a:gd name="adj2" fmla="val 44693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76480" y="2089080"/>
            <a:ext cx="76320" cy="3149640"/>
          </a:xfrm>
          <a:prstGeom prst="rect">
            <a:avLst/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44960" y="1447920"/>
            <a:ext cx="2197080" cy="24120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3132720" y="4114080"/>
            <a:ext cx="90360" cy="2158920"/>
          </a:xfrm>
          <a:prstGeom prst="rect">
            <a:avLst/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1088640" y="364752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r Daten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94360" y="3745080"/>
            <a:ext cx="164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euerleitungen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m Steuerwe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rot="16200000">
            <a:off x="2669760" y="2117520"/>
            <a:ext cx="155880" cy="1231920"/>
          </a:xfrm>
          <a:prstGeom prst="downArrow">
            <a:avLst>
              <a:gd name="adj1" fmla="val 43315"/>
              <a:gd name="adj2" fmla="val 68639"/>
            </a:avLst>
          </a:prstGeom>
          <a:solidFill>
            <a:srgbClr val="00cc00"/>
          </a:solidFill>
          <a:ln w="1260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12560" y="23940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cc00"/>
                </a:solidFill>
                <a:latin typeface="Arial"/>
              </a:rPr>
              <a:t>Bypass</a:t>
            </a: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cc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72360" y="1793880"/>
            <a:ext cx="95040" cy="407340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1681200"/>
            <a:ext cx="1549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gistersa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5749200" y="1313640"/>
            <a:ext cx="223920" cy="1054080"/>
          </a:xfrm>
          <a:prstGeom prst="downArrow">
            <a:avLst>
              <a:gd name="adj1" fmla="val 43315"/>
              <a:gd name="adj2" fmla="val 40885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5736600" y="2136600"/>
            <a:ext cx="174960" cy="1212840"/>
          </a:xfrm>
          <a:prstGeom prst="downArrow">
            <a:avLst>
              <a:gd name="adj1" fmla="val 43315"/>
              <a:gd name="adj2" fmla="val 60206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24840" y="2398680"/>
            <a:ext cx="277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Bypass 2      (Load forward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42040" y="5832360"/>
            <a:ext cx="291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om Cache- oder Hauptspei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3800" y="239400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cc00"/>
                </a:solidFill>
                <a:latin typeface="Arial"/>
              </a:rPr>
              <a:t>Result</a:t>
            </a: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cc00"/>
                </a:solidFill>
                <a:latin typeface="Arial"/>
              </a:rPr>
              <a:t>forwar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44800" y="2654280"/>
            <a:ext cx="164880" cy="1652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666880"/>
            <a:ext cx="165240" cy="165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dressierungsarten bei RISC-Prozessoren</a:t>
            </a:r>
            <a:br>
              <a:rPr sz="3600"/>
            </a:b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0920" y="1195560"/>
            <a:ext cx="8417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r Adressierungsar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plizite Register-Adressierung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Operand ste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inem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rekte Adressierung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Operand ist eine K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 Befehlsw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asis-Adressierung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Operand ist im Speicher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Adresse, die sich durch die Addition e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inhalts und einer Konstanten im Befehl ergib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grammzähler-relative Adressierung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ibt sich aus dem Wert des Programmzählers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r Konstanten im Befeh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Befehlsverarbeitung in RISC-Prozessor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157400"/>
            <a:ext cx="8613720" cy="50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acher Befehlssatz von RISC-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schinenprogramme sind länger als bei CISC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zessor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komplexe Befehle und Adressierungsarten müssen aus d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infachen RISC-Befehlen zusammengesetzt werden)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otzdem arbeitet ein RISC-Prozessor meist schneller al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CISC-Prozessor. Der Grund liegt in der nahezu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vollständigen Parallelarbeit aller Komponen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SC-Prozessors (extreme Pipeline-Verarbeitun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wird mit großer Wahrscheinlichkeit </a:t>
            </a:r>
            <a:r>
              <a:rPr b="1" lang="de-DE" sz="2400" spc="-1" strike="noStrike">
                <a:solidFill>
                  <a:srgbClr val="cc0000"/>
                </a:solidFill>
                <a:latin typeface="Arial"/>
              </a:rPr>
              <a:t>in jedem Taktzyklus ein Befehl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beend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99"/>
                </a:solidFill>
                <a:latin typeface="Arial"/>
              </a:rPr>
              <a:t>RISC - superskalar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1117440"/>
            <a:ext cx="8991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SC-Prozessoren, die das Entwurfsziel von durchschnittlich einer Befehlsausführung pro Takt (CPI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ycles per instruc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der IPC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 per cyc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von eins) erreichen, werden als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kalare RISC-Prozesso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ezeichn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e Superskalar-Technik ermöglicht es heute, pro Takt bis zu vier Befehle den Ausfürungseinheiten zuzuordnen und eine gleiche Anzahl von Befehlsausführungen pro Takt zu been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lche Prozessoren werden als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uperskalare (RISC)-Prozessore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zeichnet, da die oben definierten RISC-Charakteristika auch heute noch weitgehend beibehalten we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utige Mikroprozessoren nutzen Befehlsebenenparallelität durch die Pipelining- und Superskalartechn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Beispiele von Mikroprozessoren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781440" y="1289160"/>
            <a:ext cx="4870440" cy="4660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07960" y="1523880"/>
            <a:ext cx="31752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M Po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4 Mio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 m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8 µ in Kupfe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wei unabhängige 64-Bit Kerne mit eig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1-Caches (32 K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ktionen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 KByte Date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Hyper-Pipeline beim Pentium 4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9200" y="1670040"/>
            <a:ext cx="7966080" cy="573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22880" y="2801880"/>
            <a:ext cx="76644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190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0 Stu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is zu 126 Instruktion werden gleichzeitig bearbeitet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von 48 Load- und 24 Store-Operatione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urze Stufen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Weniger Transistoren müss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chaltet werden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chn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901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99"/>
                </a:solidFill>
                <a:latin typeface="Arial"/>
              </a:rPr>
              <a:t>CISC &amp; RISC</a:t>
            </a: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0560" y="1243080"/>
            <a:ext cx="8088480" cy="47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ch architektonischen Gesichtspunkten unterscheidet man die folgenden </a:t>
            </a:r>
            <a:r>
              <a:rPr b="1" lang="de-DE" sz="2400" spc="-1" strike="noStrike">
                <a:solidFill>
                  <a:srgbClr val="000000"/>
                </a:solidFill>
                <a:latin typeface="WP Greek Helve"/>
                <a:ea typeface="WP Greek Helve"/>
              </a:rPr>
              <a:t>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-Klasse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buClr>
                <a:srgbClr val="4545ff"/>
              </a:buClr>
              <a:buFont typeface="Wingdings" charset="2"/>
              <a:buChar char="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Universelle Mikroprozesso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ind Prozessoren ohne spezielle Schnittstellen oder Komponenten. Mit geeigneten Programmen und externen Erweiterungs-bausteinen sind sie für alle allgemeinen Anwendungen einsetzb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CISC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(Complex Instruction Set Computers)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-Prozessor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mikroprogrammierte universelle Mikroprozessoren. Sie sind (meist) nach dem von-Neumann-Prinzip aufgeba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901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99"/>
                </a:solidFill>
                <a:latin typeface="Arial"/>
              </a:rPr>
              <a:t>CISC &amp; RISC</a:t>
            </a: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5360" y="1496880"/>
            <a:ext cx="80881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7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RISC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(Reduced Instruction Set Computers)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-Prozessoren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nd meist nicht mikroprogrammierte universelle Mikroprozessoren. Sie besitzen meist eine sog. Harvard-Architektu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Hybride CISC/RISC-Prozessor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llen eine Mischform  mit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ISC- und RISC- Eigenschaften dar. Die Mehrzahl der eingesetzten Hochleistungs- </a:t>
            </a:r>
            <a:r>
              <a:rPr b="0" lang="de-DE" sz="2000" spc="-1" strike="noStrike">
                <a:solidFill>
                  <a:srgbClr val="000000"/>
                </a:solidFill>
                <a:latin typeface="WP Greek Helve"/>
                <a:ea typeface="WP Greek Helve"/>
              </a:rPr>
              <a:t>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s gehört heutr dieser Klasse an. Insbesondere in den Personsl Computern sind sie millionenfach vertreten (als Pentium oder dazu „kompatible“ Prozessore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 einem </a:t>
            </a:r>
            <a:r>
              <a:rPr b="0" lang="de-DE" sz="2000" spc="-1" strike="noStrike">
                <a:solidFill>
                  <a:srgbClr val="0000cc"/>
                </a:solidFill>
                <a:latin typeface="Arial"/>
              </a:rPr>
              <a:t>Standard-Mikroprozesso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ollen wir</a:t>
            </a:r>
            <a:r>
              <a:rPr b="0" lang="de-DE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n mikroprogrammierten, universellen CISC-Prozessor verste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CISC (complex instruction set computers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8120" y="1179360"/>
            <a:ext cx="82771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ünde dafü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führung komplizierter Befehle ist immer noch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r als die Ausführung von Programmen gleich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un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kroprogrammierung begünstigt komplizierte Befeh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lizierte Befehle führen zu kurzen Progra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fang des Befehlssatzes wird oft als Werbeargumen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wend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tützung höherer Programmiersprachen durch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lizierte Befehle  (Direkte Abbildung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rachkonstrukt </a:t>
            </a: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feh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CISC (complex instruction set computers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5640" y="1219320"/>
            <a:ext cx="8439120" cy="45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ünde dafü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tützung von Compilern durch entsprechend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tützung spezieller Einsatzgebi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Fazi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Entwicklung von Hardwa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Programmiersprachen und Einsatzgebieten 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begünstigt „komplizierte“ 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Befe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CISC (complex instruction set computers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6280" y="1170000"/>
            <a:ext cx="8172360" cy="48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ünde dage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re Hauptspeicher und die Verwendung v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che-Speichern beschleunigen di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ausfüh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60000"/>
              </a:lnSpc>
              <a:spcBef>
                <a:spcPts val="1049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kroprogramme wurden immer komplizierter (imm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ringere Unterschiede zwischen Programmieru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Mikroprogrammieru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70000"/>
              </a:lnSpc>
              <a:spcBef>
                <a:spcPts val="1049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relativ kleine Teile des großen Befehlssatz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häufig benu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Limitationen der CISC Architektur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17680"/>
            <a:ext cx="8439120" cy="39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19044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fehlsausnutzung (80/20 Rege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19044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le mächtige Befehle, komplexes Befehlsformat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kroprogrammierung, nur 20 % der Befehle wer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wiegend benutz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19044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19044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ritisches Problem: Anzahl der Zyklen pro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struktion (CP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19044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allen heutigen CISC Architekturen ist CPI &gt;&g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>
              <a:lnSpc>
                <a:spcPct val="120000"/>
              </a:lnSpc>
              <a:tabLst>
                <a:tab algn="l" pos="0"/>
                <a:tab algn="l" pos="19044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C 68030: CPI = 4-6, Intel 80386 CPI = 4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CISC (complex instruction set computers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24080"/>
            <a:ext cx="8334360" cy="45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stemprogramme in XPL auf IBM/36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3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90 % aller ausgeführten Befehle: 10 verschiedene Befeh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95 % aller ausgeführten Befehle: 21 verschiedene Befeh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99 % aller ausgeführten Befehle: 30 verschiedene Befeh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BOL-Programme auf IBM/37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2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90,28 % aller ausgeführten Befehle: 26 verschiedene Befeh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99,08 % aller ausgeführten Befehle: 48 verschiedene Befeh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(nur 84 verschiedene Befehle wurden überhaupt benutz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6-10-31T13:11:25Z</dcterms:modified>
  <cp:revision>836</cp:revision>
  <dc:subject/>
  <dc:title>TI-2</dc:title>
</cp:coreProperties>
</file>