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27DD-959E-4809-B083-5CB4BEBAB84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Virutelle Speicherverwal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200" y="1170000"/>
            <a:ext cx="7095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albleiterspeic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ufbau und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echniken zur Zugriffsbeschleun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peicherhierarch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􀂾􀂾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ache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􀂾􀂾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irtuelle Speicher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Direct Memory Access (D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Virtuelle Speicherverwalt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6800" y="1106640"/>
            <a:ext cx="80514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r Vorgang bleibt dem Anwender völlig verborge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.h. der Arbeitsspeicher erscheint dem Anwend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entlich größer, als er in Wahrheit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nach diesem Konzept verwalteter Speicher heiß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halb virtueller Spei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modernen Prozessoren wird die Verwaltung diese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rtuellen Speichers hardwaremäßig durch eine MMU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mory management unit) unterstütz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aufgabe dieser virtuellen Speicherverwaltung:</a:t>
            </a:r>
            <a:br>
              <a:rPr sz="2400"/>
            </a:b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Umsetzung virtueller (logischer) Adressen in</a:t>
            </a:r>
            <a:br>
              <a:rPr sz="2400"/>
            </a:b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 physikalische 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71440" y="5295960"/>
            <a:ext cx="6972480" cy="838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Virtuelle Speicherverwalt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22440" y="1974960"/>
            <a:ext cx="1485720" cy="143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83160" y="1974960"/>
            <a:ext cx="1485720" cy="1434960"/>
          </a:xfrm>
          <a:prstGeom prst="rect">
            <a:avLst/>
          </a:prstGeom>
          <a:solidFill>
            <a:srgbClr val="c5e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07240" y="1974960"/>
            <a:ext cx="1485720" cy="1434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50720" y="1249200"/>
            <a:ext cx="8332920" cy="3371040"/>
            <a:chOff x="450720" y="1249200"/>
            <a:chExt cx="8332920" cy="3371040"/>
          </a:xfrm>
        </p:grpSpPr>
        <p:sp>
          <p:nvSpPr>
            <p:cNvPr id="373" name=""/>
            <p:cNvSpPr/>
            <p:nvPr/>
          </p:nvSpPr>
          <p:spPr>
            <a:xfrm>
              <a:off x="450720" y="3916440"/>
              <a:ext cx="8332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Benutzer: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 kennzeichnet seine Objekte (Programme, Unterprogramme, 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Variablen, ...) durch Na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0280" y="2495520"/>
              <a:ext cx="15228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7000" y="1249200"/>
              <a:ext cx="219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Namensraum des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enutz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0640" y="21258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98600" y="1249200"/>
            <a:ext cx="8332560" cy="3837600"/>
            <a:chOff x="498600" y="1249200"/>
            <a:chExt cx="8332560" cy="3837600"/>
          </a:xfrm>
        </p:grpSpPr>
        <p:sp>
          <p:nvSpPr>
            <p:cNvPr id="378" name=""/>
            <p:cNvSpPr/>
            <p:nvPr/>
          </p:nvSpPr>
          <p:spPr>
            <a:xfrm>
              <a:off x="4356000" y="3117960"/>
              <a:ext cx="15264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72360" y="1249200"/>
              <a:ext cx="155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Virtueller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dressra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61800" y="2481120"/>
              <a:ext cx="101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irtuell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15920" y="2597040"/>
              <a:ext cx="32893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47840" y="314172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8600" y="4687920"/>
              <a:ext cx="83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Compiler: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 übersetzt diese Namen in virtuelle (logische) Adresse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96800" y="1249200"/>
            <a:ext cx="8332920" cy="4926960"/>
            <a:chOff x="496800" y="1249200"/>
            <a:chExt cx="8332920" cy="4926960"/>
          </a:xfrm>
        </p:grpSpPr>
        <p:sp>
          <p:nvSpPr>
            <p:cNvPr id="385" name=""/>
            <p:cNvSpPr/>
            <p:nvPr/>
          </p:nvSpPr>
          <p:spPr>
            <a:xfrm>
              <a:off x="7099200" y="2330280"/>
              <a:ext cx="152640" cy="140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18320" y="1249200"/>
              <a:ext cx="207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hysikalischer Adressra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07600" y="2506680"/>
              <a:ext cx="15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4559400" y="2444400"/>
              <a:ext cx="248904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34200" y="2849400"/>
              <a:ext cx="1412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etriebs-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ystem und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6800" y="5167440"/>
              <a:ext cx="8332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Virtuelle Speicherverwaltung: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wandelt diese Adressen zur Laufzeit je </a:t>
              </a:r>
              <a:br>
                <a:rPr sz="2000"/>
              </a:b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nach gerade gegebener Speicherbelegung in die physikalische </a:t>
              </a:r>
              <a:br>
                <a:rPr sz="2000"/>
              </a:b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Adresse (wirklicher Ort des Objekts im Hauptspeicher) 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ispie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6560" y="1268280"/>
            <a:ext cx="527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MP WE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MP -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sche Adress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5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31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59880" y="1905120"/>
            <a:ext cx="1200240" cy="39888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55560" y="3238560"/>
            <a:ext cx="259020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yn. Adress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((PC) - 1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58440" y="4800600"/>
            <a:ext cx="226260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irtuelle Speicher-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erwaltung (MM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72160" y="1714680"/>
            <a:ext cx="0" cy="107604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43360" y="3162240"/>
            <a:ext cx="0" cy="10764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95840" y="4743360"/>
            <a:ext cx="0" cy="10764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Segmentierungs- und Seitenwechselverfah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7560" y="2506680"/>
            <a:ext cx="8262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e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ird der virtuelle Adressraum in Segmen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chiedener Länge zerle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m Prozess sind ein oder mehrere Segmente z.B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den Programmcode und die Daten, zugeord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einzelnen Segmente enthalten logis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ammenhängende Informationen (Programm-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Datenmodule) und können relativ groß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8760" y="1204920"/>
            <a:ext cx="82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existieren zwei grundlegende Verfahren zur virtuell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verwaltung: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egmentierung und Seitenwech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5864400" y="213984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4400" y="2149560"/>
            <a:ext cx="1973160" cy="37447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4400" y="2143080"/>
            <a:ext cx="1973160" cy="377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72080" y="5894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088960" y="16146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hysikalisch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3488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992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21000" y="18543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1000" y="311148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eller und physikalischer Adressra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21000" y="1857240"/>
            <a:ext cx="1973160" cy="401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1000" y="5594400"/>
            <a:ext cx="1973160" cy="2397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28680" y="5608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47080" y="1309680"/>
            <a:ext cx="88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irtuell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521000" y="43689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92920" y="2552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9240" y="25542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65960" y="533412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9292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1796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148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1652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52080" y="5783400"/>
            <a:ext cx="2629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63200" y="5735520"/>
            <a:ext cx="325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49600" y="1785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49600" y="3052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49600" y="4367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809880" y="1943280"/>
            <a:ext cx="5335200" cy="1866600"/>
            <a:chOff x="3809880" y="1943280"/>
            <a:chExt cx="5335200" cy="1866600"/>
          </a:xfrm>
        </p:grpSpPr>
        <p:sp>
          <p:nvSpPr>
            <p:cNvPr id="430" name=""/>
            <p:cNvSpPr/>
            <p:nvPr/>
          </p:nvSpPr>
          <p:spPr>
            <a:xfrm>
              <a:off x="5864400" y="3102120"/>
              <a:ext cx="1973160" cy="65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58240" y="31240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01800" y="345744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34040" y="2948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025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1943280"/>
              <a:ext cx="1447920" cy="119052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09880" y="2614680"/>
            <a:ext cx="5335200" cy="594360"/>
            <a:chOff x="3809880" y="2614680"/>
            <a:chExt cx="5335200" cy="594360"/>
          </a:xfrm>
        </p:grpSpPr>
        <p:sp>
          <p:nvSpPr>
            <p:cNvPr id="436" name=""/>
            <p:cNvSpPr/>
            <p:nvPr/>
          </p:nvSpPr>
          <p:spPr>
            <a:xfrm>
              <a:off x="8101800" y="280008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64400" y="2777760"/>
              <a:ext cx="1973160" cy="325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48520" y="2781000"/>
              <a:ext cx="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34040" y="261468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809880" y="2751840"/>
              <a:ext cx="1447920" cy="45684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819600" y="3605040"/>
            <a:ext cx="5325480" cy="964440"/>
            <a:chOff x="3819600" y="3605040"/>
            <a:chExt cx="5325480" cy="964440"/>
          </a:xfrm>
        </p:grpSpPr>
        <p:sp>
          <p:nvSpPr>
            <p:cNvPr id="442" name=""/>
            <p:cNvSpPr/>
            <p:nvPr/>
          </p:nvSpPr>
          <p:spPr>
            <a:xfrm>
              <a:off x="5864400" y="3759120"/>
              <a:ext cx="1973160" cy="65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48520" y="37908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01800" y="402912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36320" y="39225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61360" y="39225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14960" y="3605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81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14960" y="426240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20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819600" y="3771360"/>
              <a:ext cx="1447560" cy="78084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89800" y="1828800"/>
            <a:ext cx="3204360" cy="685800"/>
            <a:chOff x="289800" y="1828800"/>
            <a:chExt cx="3204360" cy="685800"/>
          </a:xfrm>
        </p:grpSpPr>
        <p:grpSp>
          <p:nvGrpSpPr>
            <p:cNvPr id="451" name=""/>
            <p:cNvGrpSpPr/>
            <p:nvPr/>
          </p:nvGrpSpPr>
          <p:grpSpPr>
            <a:xfrm>
              <a:off x="289800" y="1828800"/>
              <a:ext cx="3204360" cy="685800"/>
              <a:chOff x="289800" y="1828800"/>
              <a:chExt cx="3204360" cy="685800"/>
            </a:xfrm>
          </p:grpSpPr>
          <p:sp>
            <p:nvSpPr>
              <p:cNvPr id="452" name=""/>
              <p:cNvSpPr/>
              <p:nvPr/>
            </p:nvSpPr>
            <p:spPr>
              <a:xfrm>
                <a:off x="1521000" y="1854360"/>
                <a:ext cx="1973160" cy="658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352520" y="18288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9800" y="201924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1858320" y="209376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7937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70720" y="3071880"/>
            <a:ext cx="3223440" cy="368280"/>
            <a:chOff x="270720" y="3071880"/>
            <a:chExt cx="3223440" cy="368280"/>
          </a:xfrm>
        </p:grpSpPr>
        <p:grpSp>
          <p:nvGrpSpPr>
            <p:cNvPr id="457" name=""/>
            <p:cNvGrpSpPr/>
            <p:nvPr/>
          </p:nvGrpSpPr>
          <p:grpSpPr>
            <a:xfrm>
              <a:off x="270720" y="3073320"/>
              <a:ext cx="3223440" cy="349920"/>
              <a:chOff x="270720" y="3073320"/>
              <a:chExt cx="3223440" cy="349920"/>
            </a:xfrm>
          </p:grpSpPr>
          <p:sp>
            <p:nvSpPr>
              <p:cNvPr id="458" name=""/>
              <p:cNvSpPr/>
              <p:nvPr/>
            </p:nvSpPr>
            <p:spPr>
              <a:xfrm>
                <a:off x="1521000" y="3098160"/>
                <a:ext cx="1973160" cy="325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33440" y="3073320"/>
                <a:ext cx="0" cy="32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0720" y="309168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1921680" y="307188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58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89800" y="4334040"/>
            <a:ext cx="3204360" cy="685800"/>
            <a:chOff x="289800" y="4334040"/>
            <a:chExt cx="3204360" cy="685800"/>
          </a:xfrm>
        </p:grpSpPr>
        <p:grpSp>
          <p:nvGrpSpPr>
            <p:cNvPr id="463" name=""/>
            <p:cNvGrpSpPr/>
            <p:nvPr/>
          </p:nvGrpSpPr>
          <p:grpSpPr>
            <a:xfrm>
              <a:off x="289800" y="4334040"/>
              <a:ext cx="3204360" cy="685800"/>
              <a:chOff x="289800" y="4334040"/>
              <a:chExt cx="3204360" cy="685800"/>
            </a:xfrm>
          </p:grpSpPr>
          <p:sp>
            <p:nvSpPr>
              <p:cNvPr id="464" name=""/>
              <p:cNvSpPr/>
              <p:nvPr/>
            </p:nvSpPr>
            <p:spPr>
              <a:xfrm>
                <a:off x="1521000" y="4359240"/>
                <a:ext cx="1973160" cy="658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52520" y="43340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89800" y="452448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1858320" y="449424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843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636320" y="32004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42640" y="3201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27800" y="4076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27800" y="281952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49560" y="5796000"/>
            <a:ext cx="349884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49560" y="1523880"/>
            <a:ext cx="349884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943520" y="15238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79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60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02160" y="1263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07800" y="55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67040" y="2676600"/>
            <a:ext cx="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43040" y="266688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63520" y="2668680"/>
            <a:ext cx="2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78480" y="4611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74440" y="3544920"/>
            <a:ext cx="9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änge i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82400" y="375768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e 32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03080" y="1477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188360" y="576432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104840" y="1535040"/>
            <a:ext cx="3743640" cy="1255680"/>
            <a:chOff x="1104840" y="1535040"/>
            <a:chExt cx="3743640" cy="1255680"/>
          </a:xfrm>
        </p:grpSpPr>
        <p:sp>
          <p:nvSpPr>
            <p:cNvPr id="499" name=""/>
            <p:cNvSpPr/>
            <p:nvPr/>
          </p:nvSpPr>
          <p:spPr>
            <a:xfrm>
              <a:off x="1104840" y="1857240"/>
              <a:ext cx="3314880" cy="933480"/>
            </a:xfrm>
            <a:custGeom>
              <a:avLst/>
              <a:gdLst/>
              <a:ahLst/>
              <a:rect l="l" t="t" r="r" b="b"/>
              <a:pathLst>
                <a:path w="2088" h="588">
                  <a:moveTo>
                    <a:pt x="2088" y="0"/>
                  </a:moveTo>
                  <a:lnTo>
                    <a:pt x="2088" y="240"/>
                  </a:lnTo>
                  <a:lnTo>
                    <a:pt x="0" y="240"/>
                  </a:lnTo>
                  <a:lnTo>
                    <a:pt x="0" y="5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4343040" y="2049480"/>
              <a:ext cx="15228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33760" y="1949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03200" y="153504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.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561840" y="1535040"/>
            <a:ext cx="3067920" cy="4256280"/>
            <a:chOff x="3561840" y="1535040"/>
            <a:chExt cx="3067920" cy="4256280"/>
          </a:xfrm>
        </p:grpSpPr>
        <p:sp>
          <p:nvSpPr>
            <p:cNvPr id="504" name=""/>
            <p:cNvSpPr/>
            <p:nvPr/>
          </p:nvSpPr>
          <p:spPr>
            <a:xfrm>
              <a:off x="3679200" y="49784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38520" y="4924440"/>
              <a:ext cx="1886040" cy="380880"/>
            </a:xfrm>
            <a:custGeom>
              <a:avLst/>
              <a:gdLst/>
              <a:ahLst/>
              <a:rect l="l" t="t" r="r" b="b"/>
              <a:pathLst>
                <a:path w="1188" h="240">
                  <a:moveTo>
                    <a:pt x="0" y="0"/>
                  </a:moveTo>
                  <a:lnTo>
                    <a:pt x="0" y="240"/>
                  </a:lnTo>
                  <a:lnTo>
                    <a:pt x="1188" y="2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3561840" y="5086440"/>
              <a:ext cx="13356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5516640" y="1535040"/>
              <a:ext cx="1113120" cy="4256280"/>
              <a:chOff x="5516640" y="1535040"/>
              <a:chExt cx="1113120" cy="4256280"/>
            </a:xfrm>
          </p:grpSpPr>
          <p:sp>
            <p:nvSpPr>
              <p:cNvPr id="508" name=""/>
              <p:cNvSpPr/>
              <p:nvPr/>
            </p:nvSpPr>
            <p:spPr>
              <a:xfrm>
                <a:off x="5516640" y="5168880"/>
                <a:ext cx="293760" cy="276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10400" y="1866960"/>
                <a:ext cx="399960" cy="3438360"/>
              </a:xfrm>
              <a:custGeom>
                <a:avLst/>
                <a:gdLst/>
                <a:ahLst/>
                <a:rect l="l" t="t" r="r" b="b"/>
                <a:pathLst>
                  <a:path w="252" h="1980">
                    <a:moveTo>
                      <a:pt x="252" y="0"/>
                    </a:moveTo>
                    <a:lnTo>
                      <a:pt x="252" y="1980"/>
                    </a:lnTo>
                    <a:lnTo>
                      <a:pt x="0" y="1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57760" y="5448240"/>
                <a:ext cx="0" cy="34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6143760" y="2039760"/>
                <a:ext cx="13320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5591160" y="5505480"/>
                <a:ext cx="13320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727240" y="542592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51040" y="19494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679720" y="1535040"/>
                <a:ext cx="83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Byte-Nr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6" name=""/>
          <p:cNvSpPr/>
          <p:nvPr/>
        </p:nvSpPr>
        <p:spPr>
          <a:xfrm>
            <a:off x="1589760" y="23320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000160" y="2603520"/>
            <a:ext cx="2082600" cy="356400"/>
            <a:chOff x="2000160" y="2603520"/>
            <a:chExt cx="2082600" cy="356400"/>
          </a:xfrm>
        </p:grpSpPr>
        <p:sp>
          <p:nvSpPr>
            <p:cNvPr id="518" name=""/>
            <p:cNvSpPr/>
            <p:nvPr/>
          </p:nvSpPr>
          <p:spPr>
            <a:xfrm>
              <a:off x="2000160" y="26035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793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38280" y="26226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2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055600" y="2851200"/>
            <a:ext cx="2027160" cy="346680"/>
            <a:chOff x="2055600" y="2851200"/>
            <a:chExt cx="2027160" cy="346680"/>
          </a:xfrm>
        </p:grpSpPr>
        <p:sp>
          <p:nvSpPr>
            <p:cNvPr id="521" name=""/>
            <p:cNvSpPr/>
            <p:nvPr/>
          </p:nvSpPr>
          <p:spPr>
            <a:xfrm>
              <a:off x="2055600" y="28512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38280" y="28605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000160" y="3089160"/>
            <a:ext cx="2082600" cy="337320"/>
            <a:chOff x="2000160" y="3089160"/>
            <a:chExt cx="2082600" cy="337320"/>
          </a:xfrm>
        </p:grpSpPr>
        <p:sp>
          <p:nvSpPr>
            <p:cNvPr id="524" name=""/>
            <p:cNvSpPr/>
            <p:nvPr/>
          </p:nvSpPr>
          <p:spPr>
            <a:xfrm>
              <a:off x="2000160" y="30891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384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38280" y="30891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81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eller und physikalischer Adressra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864400" y="213984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64400" y="3397320"/>
            <a:ext cx="1973160" cy="24969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64400" y="2143080"/>
            <a:ext cx="1973160" cy="377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72080" y="5894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88960" y="16146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hysikalisch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3488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65992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21000" y="18543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21000" y="311148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21000" y="1857240"/>
            <a:ext cx="1973160" cy="401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1000" y="5607000"/>
            <a:ext cx="1973160" cy="2397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28680" y="5608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47080" y="1309680"/>
            <a:ext cx="88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irtuell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21000" y="43689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856240" y="5343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4K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9292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1796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9148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1652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52080" y="5783400"/>
            <a:ext cx="2629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63200" y="5735520"/>
            <a:ext cx="325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49600" y="1785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49600" y="3052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49600" y="4367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92920" y="2152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808720" y="4038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4K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8080" y="27813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4K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302640" y="4524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89800" y="4334040"/>
            <a:ext cx="3331440" cy="822240"/>
            <a:chOff x="289800" y="4334040"/>
            <a:chExt cx="3331440" cy="822240"/>
          </a:xfrm>
        </p:grpSpPr>
        <p:sp>
          <p:nvSpPr>
            <p:cNvPr id="556" name=""/>
            <p:cNvSpPr/>
            <p:nvPr/>
          </p:nvSpPr>
          <p:spPr>
            <a:xfrm>
              <a:off x="1521000" y="4359240"/>
              <a:ext cx="1973160" cy="744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52520" y="4334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9800" y="452448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523880" y="456264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90840" y="45720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14520" y="494352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81480" y="495288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08600" y="452592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52960" y="4910040"/>
              <a:ext cx="34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90760" y="4348080"/>
              <a:ext cx="33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70720" y="3086280"/>
            <a:ext cx="3350520" cy="460440"/>
            <a:chOff x="270720" y="3086280"/>
            <a:chExt cx="3350520" cy="460440"/>
          </a:xfrm>
        </p:grpSpPr>
        <p:sp>
          <p:nvSpPr>
            <p:cNvPr id="567" name=""/>
            <p:cNvSpPr/>
            <p:nvPr/>
          </p:nvSpPr>
          <p:spPr>
            <a:xfrm>
              <a:off x="1521000" y="3111480"/>
              <a:ext cx="1973160" cy="401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33440" y="3086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0720" y="310500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23880" y="330516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90840" y="331488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90760" y="3110040"/>
              <a:ext cx="33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90760" y="3300480"/>
              <a:ext cx="33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734240" y="2333520"/>
            <a:ext cx="1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2352600"/>
            <a:ext cx="1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34520" y="211608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62960" y="210996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53240" y="23194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809880" y="1943280"/>
            <a:ext cx="5335200" cy="2394000"/>
            <a:chOff x="3809880" y="1943280"/>
            <a:chExt cx="5335200" cy="2394000"/>
          </a:xfrm>
        </p:grpSpPr>
        <p:sp>
          <p:nvSpPr>
            <p:cNvPr id="580" name=""/>
            <p:cNvSpPr/>
            <p:nvPr/>
          </p:nvSpPr>
          <p:spPr>
            <a:xfrm>
              <a:off x="3809880" y="1943280"/>
              <a:ext cx="1619280" cy="126648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5492520" y="3052800"/>
              <a:ext cx="3652560" cy="1284480"/>
              <a:chOff x="5492520" y="3052800"/>
              <a:chExt cx="3652560" cy="1284480"/>
            </a:xfrm>
          </p:grpSpPr>
          <p:sp>
            <p:nvSpPr>
              <p:cNvPr id="582" name=""/>
              <p:cNvSpPr/>
              <p:nvPr/>
            </p:nvSpPr>
            <p:spPr>
              <a:xfrm>
                <a:off x="5864400" y="3102120"/>
                <a:ext cx="1973160" cy="12207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058240" y="3152880"/>
                <a:ext cx="0" cy="113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101800" y="364824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646040" y="355284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652000" y="355428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92520" y="305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734240" y="327672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734240" y="410544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867280" y="329580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867280" y="412416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53240" y="3071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586640" y="4091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4" name=""/>
          <p:cNvSpPr/>
          <p:nvPr/>
        </p:nvSpPr>
        <p:spPr>
          <a:xfrm>
            <a:off x="7586640" y="533880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89800" y="1824120"/>
            <a:ext cx="3350160" cy="1008000"/>
            <a:chOff x="289800" y="1824120"/>
            <a:chExt cx="3350160" cy="1008000"/>
          </a:xfrm>
        </p:grpSpPr>
        <p:sp>
          <p:nvSpPr>
            <p:cNvPr id="596" name=""/>
            <p:cNvSpPr/>
            <p:nvPr/>
          </p:nvSpPr>
          <p:spPr>
            <a:xfrm>
              <a:off x="1521000" y="1854360"/>
              <a:ext cx="197316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52520" y="1828800"/>
              <a:ext cx="0" cy="9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9800" y="201924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99240" y="215424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23880" y="204804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23880" y="222876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23880" y="26100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90840" y="203832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90840" y="22194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90840" y="261936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09840" y="18241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43240" y="258588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72040" y="183024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Block-N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5987160" y="226836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886200" y="2543040"/>
            <a:ext cx="5258880" cy="657360"/>
            <a:chOff x="3886200" y="2543040"/>
            <a:chExt cx="5258880" cy="657360"/>
          </a:xfrm>
        </p:grpSpPr>
        <p:grpSp>
          <p:nvGrpSpPr>
            <p:cNvPr id="611" name=""/>
            <p:cNvGrpSpPr/>
            <p:nvPr/>
          </p:nvGrpSpPr>
          <p:grpSpPr>
            <a:xfrm>
              <a:off x="5473440" y="2543040"/>
              <a:ext cx="3671640" cy="622440"/>
              <a:chOff x="5473440" y="2543040"/>
              <a:chExt cx="3671640" cy="622440"/>
            </a:xfrm>
          </p:grpSpPr>
          <p:sp>
            <p:nvSpPr>
              <p:cNvPr id="612" name=""/>
              <p:cNvSpPr/>
              <p:nvPr/>
            </p:nvSpPr>
            <p:spPr>
              <a:xfrm>
                <a:off x="8101800" y="281952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864400" y="2787480"/>
                <a:ext cx="1973160" cy="325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048520" y="2790720"/>
                <a:ext cx="0" cy="32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473440" y="27385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34240" y="254304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734240" y="295272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67280" y="256212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867280" y="297180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653240" y="25480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653240" y="2757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653240" y="29192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 flipV="1">
              <a:off x="3886200" y="2857680"/>
              <a:ext cx="1619280" cy="34272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800520" y="4281480"/>
            <a:ext cx="5344560" cy="1084320"/>
            <a:chOff x="3800520" y="4281480"/>
            <a:chExt cx="5344560" cy="1084320"/>
          </a:xfrm>
        </p:grpSpPr>
        <p:grpSp>
          <p:nvGrpSpPr>
            <p:cNvPr id="625" name=""/>
            <p:cNvGrpSpPr/>
            <p:nvPr/>
          </p:nvGrpSpPr>
          <p:grpSpPr>
            <a:xfrm>
              <a:off x="5434920" y="4281480"/>
              <a:ext cx="3710160" cy="1084320"/>
              <a:chOff x="5434920" y="4281480"/>
              <a:chExt cx="3710160" cy="1084320"/>
            </a:xfrm>
          </p:grpSpPr>
          <p:sp>
            <p:nvSpPr>
              <p:cNvPr id="626" name=""/>
              <p:cNvSpPr/>
              <p:nvPr/>
            </p:nvSpPr>
            <p:spPr>
              <a:xfrm>
                <a:off x="5864400" y="4311720"/>
                <a:ext cx="1973160" cy="1039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048520" y="4324320"/>
                <a:ext cx="0" cy="10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101800" y="464832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607880" y="460836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632920" y="460836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434920" y="42814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724880" y="458136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743960" y="514368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67280" y="460044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67280" y="516240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586640" y="4338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596360" y="51195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5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 flipV="1">
              <a:off x="3800520" y="4343400"/>
              <a:ext cx="1619280" cy="20952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949560" y="5796000"/>
            <a:ext cx="349884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949560" y="1523880"/>
            <a:ext cx="349884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43520" y="15238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07800" y="55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04840" y="1857240"/>
            <a:ext cx="3314880" cy="933480"/>
          </a:xfrm>
          <a:custGeom>
            <a:avLst/>
            <a:gdLst/>
            <a:ahLst/>
            <a:rect l="l" t="t" r="r" b="b"/>
            <a:pathLst>
              <a:path w="2088" h="588">
                <a:moveTo>
                  <a:pt x="2088" y="0"/>
                </a:moveTo>
                <a:lnTo>
                  <a:pt x="2088" y="240"/>
                </a:lnTo>
                <a:lnTo>
                  <a:pt x="0" y="240"/>
                </a:lnTo>
                <a:lnTo>
                  <a:pt x="0" y="58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67040" y="2676600"/>
            <a:ext cx="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43040" y="266688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63520" y="2668680"/>
            <a:ext cx="2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78480" y="4611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343040" y="2049480"/>
            <a:ext cx="15228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3561840" y="5086440"/>
            <a:ext cx="13356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33760" y="1949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774440" y="3544920"/>
            <a:ext cx="9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änge i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öc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89360" y="3757680"/>
            <a:ext cx="159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e Block-Nr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s Segmant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03080" y="1477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88360" y="576432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03200" y="153504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89760" y="23320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000160" y="2603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55960" y="2851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000160" y="3089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75160" y="2622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75160" y="2860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19360" y="3089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79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860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02160" y="1263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57840" y="15238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65280" y="580248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562800" y="5800680"/>
            <a:ext cx="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5760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462720" y="1263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6641640" y="1554120"/>
            <a:ext cx="864720" cy="4574160"/>
            <a:chOff x="6641640" y="1554120"/>
            <a:chExt cx="864720" cy="4574160"/>
          </a:xfrm>
        </p:grpSpPr>
        <p:sp>
          <p:nvSpPr>
            <p:cNvPr id="683" name=""/>
            <p:cNvSpPr/>
            <p:nvPr/>
          </p:nvSpPr>
          <p:spPr>
            <a:xfrm>
              <a:off x="6641640" y="15541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53200" y="1876320"/>
              <a:ext cx="0" cy="392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670440" y="58212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638520" y="1573200"/>
            <a:ext cx="2991240" cy="4218120"/>
            <a:chOff x="3638520" y="1573200"/>
            <a:chExt cx="2991240" cy="4218120"/>
          </a:xfrm>
        </p:grpSpPr>
        <p:sp>
          <p:nvSpPr>
            <p:cNvPr id="687" name=""/>
            <p:cNvSpPr/>
            <p:nvPr/>
          </p:nvSpPr>
          <p:spPr>
            <a:xfrm>
              <a:off x="3679200" y="49784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727240" y="5425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3638520" y="1573200"/>
              <a:ext cx="2991240" cy="4218120"/>
              <a:chOff x="3638520" y="1573200"/>
              <a:chExt cx="2991240" cy="4218120"/>
            </a:xfrm>
          </p:grpSpPr>
          <p:sp>
            <p:nvSpPr>
              <p:cNvPr id="690" name=""/>
              <p:cNvSpPr/>
              <p:nvPr/>
            </p:nvSpPr>
            <p:spPr>
              <a:xfrm>
                <a:off x="5516640" y="5168880"/>
                <a:ext cx="293760" cy="276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3638520" y="1573200"/>
                <a:ext cx="2991240" cy="4218120"/>
                <a:chOff x="3638520" y="1573200"/>
                <a:chExt cx="2991240" cy="4218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3638520" y="4924440"/>
                  <a:ext cx="1886040" cy="380880"/>
                </a:xfrm>
                <a:custGeom>
                  <a:avLst/>
                  <a:gdLst/>
                  <a:ahLst/>
                  <a:rect l="l" t="t" r="r" b="b"/>
                  <a:pathLst>
                    <a:path w="1188" h="240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1188" y="24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810400" y="1866960"/>
                  <a:ext cx="399960" cy="3438360"/>
                </a:xfrm>
                <a:custGeom>
                  <a:avLst/>
                  <a:gdLst/>
                  <a:ahLst/>
                  <a:rect l="l" t="t" r="r" b="b"/>
                  <a:pathLst>
                    <a:path w="252" h="1980">
                      <a:moveTo>
                        <a:pt x="252" y="0"/>
                      </a:moveTo>
                      <a:lnTo>
                        <a:pt x="252" y="1980"/>
                      </a:lnTo>
                      <a:lnTo>
                        <a:pt x="0" y="1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57760" y="5448240"/>
                  <a:ext cx="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H="1">
                  <a:off x="6143760" y="2039760"/>
                  <a:ext cx="133200" cy="12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H="1">
                  <a:off x="5591160" y="5505480"/>
                  <a:ext cx="133200" cy="12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251040" y="1949400"/>
                  <a:ext cx="378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412960" y="1573200"/>
                  <a:ext cx="91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Block-Nr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518080" y="5140440"/>
                  <a:ext cx="284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Segmentie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56320" y="1220760"/>
            <a:ext cx="881892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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ierung spiegelt logische Programmstruktu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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große Segmente relativ seltener Datentrans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Nachteil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n Datentransfer, dann jedoch umfangre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ein Programm nur aus einem Code-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-Segment (wird vom Compiler oder Benutz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gelegt), so muss es vollständig eingelager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Segmentierungs- und Seitenwechselverfah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02760" y="1314360"/>
            <a:ext cx="798804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eitenwech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ird der logische und der physikalisc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raum in "Segmente fester Länge", d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genannten Seiten (pages) unterte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Seiten sind relativ klein (256 Byte - 4 k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Prozess wird auf viele dieser Seiten verteil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keine logischen Zusammenhänge wie bei d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ier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Wiederholung: 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903400"/>
            <a:ext cx="1608120" cy="10368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5480" y="3208320"/>
            <a:ext cx="8193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51000" y="3095640"/>
            <a:ext cx="1143000" cy="5270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1-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5440" y="2975040"/>
            <a:ext cx="1143000" cy="768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2-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30920" y="2527200"/>
            <a:ext cx="1141560" cy="1663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aupt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352680"/>
            <a:ext cx="787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27480" y="3378240"/>
            <a:ext cx="787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97680" y="3365640"/>
            <a:ext cx="635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45200" y="3352680"/>
            <a:ext cx="584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1400" y="3513240"/>
            <a:ext cx="4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4040" y="434808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zelzugriff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5800" y="43480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ockzugrif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4040" y="43480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nzugrif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940280" y="3365280"/>
            <a:ext cx="609480" cy="965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708360" y="3403080"/>
            <a:ext cx="457200" cy="90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315200" y="340308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447920" y="3352320"/>
            <a:ext cx="304560" cy="978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07160" y="2387520"/>
            <a:ext cx="1359000" cy="1930320"/>
          </a:xfrm>
          <a:prstGeom prst="can">
            <a:avLst>
              <a:gd name="adj" fmla="val 25000"/>
            </a:avLst>
          </a:prstGeom>
          <a:solidFill>
            <a:srgbClr val="cc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02200" y="3568680"/>
            <a:ext cx="1143000" cy="7632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29480" y="3911760"/>
            <a:ext cx="1143000" cy="759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46320" y="3479760"/>
            <a:ext cx="1143000" cy="7632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81240" y="3083040"/>
            <a:ext cx="140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intergrund-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1179360"/>
            <a:ext cx="85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 werden nur zwischen aufeinanderfolgenden Ebenen der Speicherhierarchie kop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735440"/>
            <a:ext cx="2577960" cy="70380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, Compiler (1-8 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65640" y="4735440"/>
            <a:ext cx="2336760" cy="70380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-Steu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8-128 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1720" y="4735440"/>
            <a:ext cx="2692440" cy="70380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riebsyste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12 Bytes – 4K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5548320" y="4933800"/>
            <a:ext cx="1467000" cy="390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24080" y="4962600"/>
            <a:ext cx="1467000" cy="390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eller und physikalischer Adressra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224080" y="26193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24080" y="30099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24080" y="3400560"/>
            <a:ext cx="146700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24080" y="37908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24080" y="41814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24080" y="45720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538960" y="220032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538960" y="2981160"/>
            <a:ext cx="146664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38960" y="3371760"/>
            <a:ext cx="146664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38960" y="376236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38960" y="415296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538960" y="4543560"/>
            <a:ext cx="146664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16160" y="484488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010280" y="488628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92520" y="482616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530680" y="487692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24080" y="22287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538960" y="2590920"/>
            <a:ext cx="146664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600560" y="168768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970520" y="17352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32000" y="223056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546880" y="220824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h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2280" y="268776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857240" y="2238480"/>
            <a:ext cx="0" cy="1533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324240" y="2255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324240" y="2637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324240" y="30052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324240" y="3398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24240" y="37926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324240" y="41734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324240" y="4541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676920" y="2293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76920" y="26748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76920" y="30430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676920" y="3436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76920" y="3830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676920" y="421164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76920" y="4579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695760" y="2438280"/>
            <a:ext cx="1854000" cy="115596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708360" y="2806560"/>
            <a:ext cx="1854360" cy="195588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695760" y="2793240"/>
            <a:ext cx="1854000" cy="80028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695760" y="3200400"/>
            <a:ext cx="1866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eitenwechsel (Paging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416320" y="5796000"/>
            <a:ext cx="503208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587680" y="1523880"/>
            <a:ext cx="486072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317320" y="5559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55640" y="2666880"/>
            <a:ext cx="296568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163520" y="2668680"/>
            <a:ext cx="27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941400" y="455436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193840" y="3821040"/>
            <a:ext cx="17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-Bit-Rahmen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69640" y="145908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-2160" y="515448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722960" y="23320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en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43280" y="2622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843280" y="2860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41840" y="3089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029280" y="151452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6374880" y="1544760"/>
            <a:ext cx="835920" cy="4583520"/>
            <a:chOff x="6374880" y="1544760"/>
            <a:chExt cx="835920" cy="4583520"/>
          </a:xfrm>
        </p:grpSpPr>
        <p:sp>
          <p:nvSpPr>
            <p:cNvPr id="774" name=""/>
            <p:cNvSpPr/>
            <p:nvPr/>
          </p:nvSpPr>
          <p:spPr>
            <a:xfrm flipH="1">
              <a:off x="6620040" y="2049480"/>
              <a:ext cx="13320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17960" y="1892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374880" y="154476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96000" y="1876320"/>
              <a:ext cx="0" cy="392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74880" y="58212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3813120" y="582120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hmen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105600" y="5819760"/>
            <a:ext cx="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1104840" y="1544760"/>
            <a:ext cx="3734280" cy="4246560"/>
            <a:chOff x="1104840" y="1544760"/>
            <a:chExt cx="3734280" cy="4246560"/>
          </a:xfrm>
        </p:grpSpPr>
        <p:sp>
          <p:nvSpPr>
            <p:cNvPr id="782" name=""/>
            <p:cNvSpPr/>
            <p:nvPr/>
          </p:nvSpPr>
          <p:spPr>
            <a:xfrm>
              <a:off x="3355560" y="5006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04840" y="1857240"/>
              <a:ext cx="3314880" cy="933480"/>
            </a:xfrm>
            <a:custGeom>
              <a:avLst/>
              <a:gdLst/>
              <a:ahLst/>
              <a:rect l="l" t="t" r="r" b="b"/>
              <a:pathLst>
                <a:path w="2088" h="588">
                  <a:moveTo>
                    <a:pt x="2088" y="0"/>
                  </a:moveTo>
                  <a:lnTo>
                    <a:pt x="2088" y="240"/>
                  </a:lnTo>
                  <a:lnTo>
                    <a:pt x="0" y="240"/>
                  </a:lnTo>
                  <a:lnTo>
                    <a:pt x="0" y="5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4343040" y="2049480"/>
              <a:ext cx="15228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3219480" y="5133960"/>
              <a:ext cx="13320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460400" y="1892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774600" y="1544760"/>
              <a:ext cx="98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iten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286080" y="4933800"/>
              <a:ext cx="0" cy="85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2507760" y="1244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230960" y="1244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24000" y="12351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52760" y="33717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16280" y="3330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00040" y="347976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134120" y="2608200"/>
            <a:ext cx="181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itengröß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 Kby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Seitenauftei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60280" y="1135080"/>
            <a:ext cx="84758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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kleine Seiten wird nur der wirklich benötigt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eil eines Programms eingelag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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ringerer Verwaltungsaufwand als Se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Nachtei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äufiger Daten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95720" y="4844880"/>
            <a:ext cx="8273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Ältere Prozessoren unterstützten jeweils nur ein Verfahren, z.B. Segmentierung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bei 80286, 68010 und Seitenwechsel bei Z8003/4, National 3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Heutige Mikroprozessoren, z.B. 80386, 80486, Pentium, ... unterstützen beid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Verfa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93840" y="1260360"/>
            <a:ext cx="816588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m Austausch von Daten zwischen Arbeits-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tergundspeicher ergeben sich drei Problemkre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1. </a:t>
            </a: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Der Einlagerungszeitpu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nn werden Segmente oder Seiten in den Arbeitsspeicher eingelager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ängiges Verfahr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lagerung auf Anforderung (Demand Paging bei Seitenverfah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90680" y="1409760"/>
            <a:ext cx="807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Einlagerung auf Anforderung </a:t>
            </a:r>
            <a:r>
              <a:rPr b="0" i="1" lang="de-DE" sz="2400" spc="-1" strike="noStrike">
                <a:solidFill>
                  <a:srgbClr val="3333ff"/>
                </a:solidFill>
                <a:latin typeface="Arial"/>
              </a:rPr>
              <a:t>(Demand Pag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erden Daten eingelagert, sobald auf s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egriffen wird, sie sich aber nicht im Arbeits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in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Zugriff auf ein nicht im Arbeits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handenes Segment oder Seite heiß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gment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iten-Fehl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segment fault, page faul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31640" y="1155600"/>
            <a:ext cx="825192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2. Das Zuweisungs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n welche Stelle des Arbeitsspeichers werden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 oder Segmente eingelager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Bei Segmentierungsverfahren:</a:t>
            </a: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 muss eine ausreichend große Lücke im Arbeitsspeicher gefunden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Drei Strategi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irst-f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st-fit 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eins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st-f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03560" y="1200240"/>
            <a:ext cx="8149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Problem bei allen drei Verfah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Speicher zerfällt nach einiger Zeit in belegte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belegte Speicherbereiche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externe Fragmentier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0320" y="4657680"/>
            <a:ext cx="84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unbelegten Speicherbereiche sind hierbei oft zu klei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Segmente aufnehmen zu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31512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15000" y="3500280"/>
            <a:ext cx="60012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66740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457360" y="3500280"/>
            <a:ext cx="104796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07640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24000" y="3500280"/>
            <a:ext cx="33336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362720" y="3500280"/>
            <a:ext cx="60012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05320" y="350532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6520" y="399096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46960" y="3584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89360" y="307800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31640" y="1155600"/>
            <a:ext cx="834732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Zuweisungsproblem bei Seitenwechsel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 taucht dieses Problem nicht auf, da alle Seit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leich groß sind und somit immer “passende Lücken” entsteh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e externe Fragmentier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doch: Problem der </a:t>
            </a:r>
            <a:r>
              <a:rPr b="1" sz="2400" spc="-1" strike="noStrike">
                <a:solidFill>
                  <a:srgbClr val="ff0000"/>
                </a:solidFill>
                <a:latin typeface="Arial"/>
              </a:rPr>
              <a:t>internen Fra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 entsteht bei der Aufteilung eines Programm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die Sei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heitliche Seitengröß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uf der letzten Seite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s Programm-Moduls entsteht mit hoh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ahrscheinlichkeit ein ungenutzter Leerrau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31640" y="1069920"/>
            <a:ext cx="82328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3. Das Ersetzungs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elche Segmente oder Seiten müssen ausgelager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, um Platz für neu benötigte Daten zu schaffe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Bei Segmentierungsverfahren:</a:t>
            </a: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eist wird die Anzahl der gleichzeitig von ein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zeß benutzbaren Segmente limiti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Einlagerung eines neuen Segments wird ei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vor für diesen Prozeß benutztes Segmen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gelag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s ist jedoch auch eine der im folgenden für Seiten-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chsel-Verfahren beschriebenen Methoden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36600" y="1298520"/>
            <a:ext cx="824220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Ersetzungsproblem bei Seitenwechsel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5 gängigste Strategien zum Ersetzen einer Se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IFO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first-in-first-out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ich am längsten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 befindende Seite wird ersetz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IFO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ast-in-first-out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zuletzt eingelagert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RU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recently used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eite, auf die a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ängsten nicht zugegriffen wurde,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99"/>
                </a:solidFill>
                <a:latin typeface="Arial"/>
              </a:rPr>
              <a:t>Grundprinzip und Zusammenhang mit dem Betriebsystem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3840" y="1249200"/>
            <a:ext cx="758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finition des Begriffs "Betriebssystem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 nach dem Deutschen Institut für Normung (DIN 44300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360" y="2238480"/>
            <a:ext cx="8296200" cy="207648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72000" bIns="72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Ein Betriebsystem umfasst die Programme eines digitalen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Rechensystems, die zusammen mit den Eigenschaften der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Rechenanlage die Grundlage der möglichen Betriebsarten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des digitalen Rechensystems bilden und insbesondere die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Abwicklung von Programmen steuern und überwa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4640" y="453564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 eines Betriebsystems ist es, die semantisc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ücke zwischen Anwendung (wünscht möglichs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 Operationen) und Hardware (bietet elementar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en) zu verklein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22280" y="1266840"/>
            <a:ext cx="824220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FU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frequently used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eit ihr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lagerung am seltensten benutzte Seite wir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RD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reference density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 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Mischung aus LRU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LF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e Seite mit der geringsten Zugriffdicht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Anzahl Zugriffe / Einlagerungszeitraum)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neben werden bevorzugt solche Seiten ersetzt,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nicht verändert wurd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 Rückschreiben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änderten Seite erforderlic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E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4   Cache und Speicherverwaltungseinhei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54400" y="1173240"/>
            <a:ext cx="813528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wei Möglichkeiten der Cache-Einbindung bei virtuell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Virtueller Cach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zwischen CPU und MMU gelegt. Die höherwertig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its der logischen Adressen als Tags abgeleg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990720" y="3994200"/>
            <a:ext cx="6819840" cy="1923840"/>
            <a:chOff x="990720" y="3994200"/>
            <a:chExt cx="6819840" cy="1923840"/>
          </a:xfrm>
        </p:grpSpPr>
        <p:sp>
          <p:nvSpPr>
            <p:cNvPr id="834" name=""/>
            <p:cNvSpPr/>
            <p:nvPr/>
          </p:nvSpPr>
          <p:spPr>
            <a:xfrm>
              <a:off x="990720" y="4156200"/>
              <a:ext cx="1171440" cy="1761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590920" y="4772160"/>
              <a:ext cx="838080" cy="57132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000680" y="4183200"/>
              <a:ext cx="1171440" cy="1171440"/>
            </a:xfrm>
            <a:prstGeom prst="rect">
              <a:avLst/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600960" y="4175280"/>
              <a:ext cx="1209600" cy="1724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62160" y="5781600"/>
              <a:ext cx="443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162160" y="4324320"/>
              <a:ext cx="18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172120" y="4324320"/>
              <a:ext cx="14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00240" y="434340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09960" y="535320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45240" y="54705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62160" y="3994200"/>
              <a:ext cx="17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sche 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24600" y="4003560"/>
              <a:ext cx="139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4   Cache und Speicherverwaltungseinhei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11640" y="1287360"/>
            <a:ext cx="75762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ysikalischer Cach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zwischen MMU und Speicher gelegt.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höherwertigen Bits der physikalischen Adress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 als Tags ab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990720" y="3994200"/>
            <a:ext cx="6819840" cy="1923840"/>
            <a:chOff x="990720" y="3994200"/>
            <a:chExt cx="6819840" cy="1923840"/>
          </a:xfrm>
        </p:grpSpPr>
        <p:sp>
          <p:nvSpPr>
            <p:cNvPr id="849" name=""/>
            <p:cNvSpPr/>
            <p:nvPr/>
          </p:nvSpPr>
          <p:spPr>
            <a:xfrm>
              <a:off x="990720" y="4156200"/>
              <a:ext cx="1171440" cy="1761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72080" y="4762440"/>
              <a:ext cx="838080" cy="57168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00680" y="4183200"/>
              <a:ext cx="1171440" cy="1171440"/>
            </a:xfrm>
            <a:prstGeom prst="rect">
              <a:avLst/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600960" y="4175280"/>
              <a:ext cx="1209600" cy="1724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162160" y="5781600"/>
              <a:ext cx="443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62160" y="4324320"/>
              <a:ext cx="18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172120" y="4324320"/>
              <a:ext cx="14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48360" y="433404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058080" y="534348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945240" y="54705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62160" y="3994200"/>
              <a:ext cx="17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sche 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24600" y="4003560"/>
              <a:ext cx="139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Virtueller und physikalischer Cach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61000" y="1316160"/>
            <a:ext cx="81666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e des virtuellen C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Treffern wird die MMU nicht 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e des physikalischen C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hysikalische Adresse ist i.A. viel kleiner als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ogische Adresse 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weniger Bits müssen als Ta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peichert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t sich die MMU auf dem Prozessorchip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o kann nur der physikalische Cache außerhalb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weitert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5040" y="1119240"/>
            <a:ext cx="8620200" cy="50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 wird in eine Segmentnummer (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wertige Bit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virtuellen Adresse) als Kennung eines Segments und in eine Bytenummer (verbleib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s der Adresse) als Abstand zum Segmentanfa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ximale virtuelle Segmentanzahl 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Maximale Segmentgröß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Adreßabbildung erfolgt über eine Segmenttabelle (im Registerspeicher der MM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ale Adresse ergibt sich aus der Segmentbasisadresse, zu der die virtuelle Bytenummmer addier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längenangaben in der Segmenttabelle, um segement-überschreitende Zugriffe feststellen und ggf. verhindern zu kön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Segmenten mit einer geringeren Größe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gilt der ungenutzte Raum als Verschni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ute Ausnutzung des Hauptspeichers, wenn man die Segmentgrenzen an jeder Byteadresse zuläs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52440" y="1208160"/>
            <a:ext cx="8620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grenzen nicht an jeder Byteadresse, sondern an Vielfachen von Blöcken (hier von 256 Byt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e werden im virtuellen physikalischen Adressraum in Blöcke von 256 Bytes untertei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.h. die Bytenummer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ts wird aufgeteilt in eine kürzere Bytenummer für die Byteadressierung im Block und eine Blocknum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Adreßumsetzung wird die virtuelle Segementnummer auf eine reale 24-Bit-Blocknummer als Segmentbasis abgebild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Bytenummer für die Adressierung innerhalb des Blocks  wird unverändert übernom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5 Segmentorient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08680" y="1239840"/>
            <a:ext cx="808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Speicher wird in ein oder mehrere physikalisch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gmente (zusammenhängende Speicherbereich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ariabler Länge) unterte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verschiedene Segmenttypen (für Code, Daten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aximale Segmentlängen je nach Prozessor zwisch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64 KByte und 4 G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allbeispiel Intel 8028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rechnung der physikalischen aus der logischen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14560" y="2219400"/>
            <a:ext cx="1304640" cy="428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419200" y="2219400"/>
            <a:ext cx="1305000" cy="428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029200" y="1981080"/>
            <a:ext cx="1943280" cy="64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032440" y="4584600"/>
            <a:ext cx="19429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025960" y="3133800"/>
            <a:ext cx="1943280" cy="399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w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771560" y="2676600"/>
            <a:ext cx="2772000" cy="1866960"/>
          </a:xfrm>
          <a:custGeom>
            <a:avLst/>
            <a:gdLst/>
            <a:ahLst/>
            <a:rect l="l" t="t" r="r" b="b"/>
            <a:pathLst>
              <a:path w="1746" h="1176">
                <a:moveTo>
                  <a:pt x="0" y="0"/>
                </a:moveTo>
                <a:lnTo>
                  <a:pt x="0" y="1176"/>
                </a:lnTo>
                <a:lnTo>
                  <a:pt x="1746" y="11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067200" y="2657520"/>
            <a:ext cx="1581120" cy="1374840"/>
          </a:xfrm>
          <a:custGeom>
            <a:avLst/>
            <a:gdLst/>
            <a:ahLst/>
            <a:rect l="l" t="t" r="r" b="b"/>
            <a:pathLst>
              <a:path w="996" h="866">
                <a:moveTo>
                  <a:pt x="0" y="0"/>
                </a:moveTo>
                <a:lnTo>
                  <a:pt x="0" y="864"/>
                </a:lnTo>
                <a:lnTo>
                  <a:pt x="996" y="8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638600" y="3533760"/>
            <a:ext cx="276480" cy="990720"/>
          </a:xfrm>
          <a:custGeom>
            <a:avLst/>
            <a:gdLst/>
            <a:ahLst/>
            <a:rect l="l" t="t" r="r" b="b"/>
            <a:pathLst>
              <a:path w="174" h="624">
                <a:moveTo>
                  <a:pt x="174" y="0"/>
                </a:moveTo>
                <a:lnTo>
                  <a:pt x="0" y="0"/>
                </a:lnTo>
                <a:lnTo>
                  <a:pt x="0" y="624"/>
                </a:lnTo>
                <a:lnTo>
                  <a:pt x="168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143840" y="2638440"/>
            <a:ext cx="247680" cy="1906560"/>
          </a:xfrm>
          <a:custGeom>
            <a:avLst/>
            <a:gdLst/>
            <a:ahLst/>
            <a:rect l="l" t="t" r="r" b="b"/>
            <a:pathLst>
              <a:path w="156" h="1201">
                <a:moveTo>
                  <a:pt x="0" y="0"/>
                </a:moveTo>
                <a:lnTo>
                  <a:pt x="156" y="0"/>
                </a:lnTo>
                <a:lnTo>
                  <a:pt x="156" y="1201"/>
                </a:lnTo>
                <a:lnTo>
                  <a:pt x="6" y="12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038560" y="2886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0" y="2886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3800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029200" y="4048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029200" y="4314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61240" y="3807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61240" y="4054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61240" y="4321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972480" y="197496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197496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029200" y="52196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196848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226160" y="1585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293080" y="14112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55680" y="33037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94040" y="4599000"/>
            <a:ext cx="24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anf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92080" y="260208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1              16 15    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029200" y="456876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029200" y="261612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12280" y="1096920"/>
            <a:ext cx="8024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Jede Speicherzelle wird durch einen Segment-Selektor, der d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anfang kennzeichnet, und einen Offset innerhalb des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s adress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Selektoren werden in speziellen Segment-Register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gespeichert, da durch Lokalitäts-Eigenschaften in Programm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-Selektoren selten wechsel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Um dies zu unterstützen, existieren verschiedene Register fü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verschieden Segment-Typ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Code-Segment, Daten-Segment, Stack-Segment, Extra-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Wichtige Informationen über das ausgewählte Segment werden i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sz="2000" spc="-1" strike="noStrike">
                <a:solidFill>
                  <a:srgbClr val="3333ff"/>
                </a:solidFill>
                <a:latin typeface="Arial"/>
              </a:rPr>
              <a:t>Segment-Descriptor-Cach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abgelegt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keine Speicherzugriff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beim Lesen der Segmenteigenschaf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Betriebsystem verkleinert die semantische Lück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200240" y="3486240"/>
            <a:ext cx="2609640" cy="2104920"/>
            <a:chOff x="1200240" y="3486240"/>
            <a:chExt cx="2609640" cy="2104920"/>
          </a:xfrm>
        </p:grpSpPr>
        <p:sp>
          <p:nvSpPr>
            <p:cNvPr id="79" name=""/>
            <p:cNvSpPr/>
            <p:nvPr/>
          </p:nvSpPr>
          <p:spPr>
            <a:xfrm>
              <a:off x="1200240" y="3486240"/>
              <a:ext cx="2600280" cy="561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nwend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09600" y="5029200"/>
              <a:ext cx="2600280" cy="561960"/>
            </a:xfrm>
            <a:prstGeom prst="rect">
              <a:avLst/>
            </a:prstGeom>
            <a:solidFill>
              <a:srgbClr val="ffe2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200240" y="1190520"/>
            <a:ext cx="6560280" cy="1943280"/>
            <a:chOff x="1200240" y="1190520"/>
            <a:chExt cx="6560280" cy="1943280"/>
          </a:xfrm>
        </p:grpSpPr>
        <p:sp>
          <p:nvSpPr>
            <p:cNvPr id="82" name=""/>
            <p:cNvSpPr/>
            <p:nvPr/>
          </p:nvSpPr>
          <p:spPr>
            <a:xfrm>
              <a:off x="1200240" y="1190520"/>
              <a:ext cx="2600280" cy="561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nwend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09600" y="2571840"/>
              <a:ext cx="2600280" cy="561960"/>
            </a:xfrm>
            <a:prstGeom prst="rect">
              <a:avLst/>
            </a:prstGeom>
            <a:solidFill>
              <a:srgbClr val="ffe2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48200" y="216216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72320" y="189720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emantische Lüc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28960" y="1762200"/>
              <a:ext cx="228600" cy="8096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0880 h 809640"/>
                <a:gd name="textAreaBottom" fmla="*/ 788760 h 80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19840" y="4057560"/>
            <a:ext cx="7679160" cy="2164680"/>
            <a:chOff x="519840" y="4057560"/>
            <a:chExt cx="7679160" cy="2164680"/>
          </a:xfrm>
        </p:grpSpPr>
        <p:sp>
          <p:nvSpPr>
            <p:cNvPr id="88" name=""/>
            <p:cNvSpPr/>
            <p:nvPr/>
          </p:nvSpPr>
          <p:spPr>
            <a:xfrm>
              <a:off x="519840" y="5762520"/>
              <a:ext cx="75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triebsystem erweitert die Fähigkeiten der Hardwar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09600" y="4467240"/>
              <a:ext cx="2600280" cy="561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triebs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10800" y="406872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emantische Lüc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19600" y="4057560"/>
              <a:ext cx="228600" cy="428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1160 h 428760"/>
                <a:gd name="textAreaBottom" fmla="*/ 4176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00680" y="426708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734080" y="1190520"/>
            <a:ext cx="619200" cy="461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000920" y="2486160"/>
            <a:ext cx="1095480" cy="1771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191360" y="2638440"/>
            <a:ext cx="714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191360" y="2943360"/>
            <a:ext cx="714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191360" y="3238560"/>
            <a:ext cx="714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191360" y="3543480"/>
            <a:ext cx="714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081920" y="3843360"/>
            <a:ext cx="98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391440" y="2552760"/>
            <a:ext cx="799920" cy="266760"/>
          </a:xfrm>
          <a:custGeom>
            <a:avLst/>
            <a:gdLst/>
            <a:ahLst/>
            <a:rect l="l" t="t" r="r" b="b"/>
            <a:pathLst>
              <a:path w="504" h="168">
                <a:moveTo>
                  <a:pt x="504" y="168"/>
                </a:moveTo>
                <a:lnTo>
                  <a:pt x="264" y="168"/>
                </a:lnTo>
                <a:lnTo>
                  <a:pt x="264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362640" y="2895480"/>
            <a:ext cx="809640" cy="228600"/>
          </a:xfrm>
          <a:custGeom>
            <a:avLst/>
            <a:gdLst/>
            <a:ahLst/>
            <a:rect l="l" t="t" r="r" b="b"/>
            <a:pathLst>
              <a:path w="510" h="144">
                <a:moveTo>
                  <a:pt x="510" y="144"/>
                </a:moveTo>
                <a:lnTo>
                  <a:pt x="276" y="144"/>
                </a:lnTo>
                <a:lnTo>
                  <a:pt x="27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353280" y="3429000"/>
            <a:ext cx="809640" cy="390600"/>
          </a:xfrm>
          <a:custGeom>
            <a:avLst/>
            <a:gdLst/>
            <a:ahLst/>
            <a:rect l="l" t="t" r="r" b="b"/>
            <a:pathLst>
              <a:path w="528" h="258">
                <a:moveTo>
                  <a:pt x="528" y="0"/>
                </a:moveTo>
                <a:lnTo>
                  <a:pt x="288" y="0"/>
                </a:lnTo>
                <a:lnTo>
                  <a:pt x="288" y="258"/>
                </a:lnTo>
                <a:lnTo>
                  <a:pt x="18" y="258"/>
                </a:lnTo>
                <a:lnTo>
                  <a:pt x="0" y="2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381720" y="3714840"/>
            <a:ext cx="819360" cy="990360"/>
          </a:xfrm>
          <a:custGeom>
            <a:avLst/>
            <a:gdLst/>
            <a:ahLst/>
            <a:rect l="l" t="t" r="r" b="b"/>
            <a:pathLst>
              <a:path w="516" h="624">
                <a:moveTo>
                  <a:pt x="516" y="0"/>
                </a:moveTo>
                <a:lnTo>
                  <a:pt x="276" y="0"/>
                </a:lnTo>
                <a:lnTo>
                  <a:pt x="276" y="624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734080" y="1419120"/>
            <a:ext cx="619200" cy="295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734080" y="1714680"/>
            <a:ext cx="619200" cy="295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734080" y="2295360"/>
            <a:ext cx="619200" cy="247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734080" y="2638440"/>
            <a:ext cx="619200" cy="247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734080" y="319104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734080" y="409572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734080" y="500076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232760" y="20210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457160" y="1503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457160" y="2427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424760" y="31798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zes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1080" y="511344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01080" y="408456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77400" y="5792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62080" y="1257480"/>
            <a:ext cx="42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 auf die Arbeitsmen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working set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s Prozessors mit Hilfe des Segment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5543640" y="4943520"/>
            <a:ext cx="390600" cy="438120"/>
          </a:xfrm>
          <a:prstGeom prst="downArrow">
            <a:avLst>
              <a:gd name="adj1" fmla="val 44713"/>
              <a:gd name="adj2" fmla="val 4914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000840" y="2676600"/>
            <a:ext cx="390600" cy="1704960"/>
          </a:xfrm>
          <a:prstGeom prst="downArrow">
            <a:avLst>
              <a:gd name="adj1" fmla="val 39833"/>
              <a:gd name="adj2" fmla="val 8030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26880" y="1096920"/>
            <a:ext cx="822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80286 kennt zwei spezielle Betriebsarten für di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verwal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eal (Address) Mode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Kompatibilitätsmod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u 808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3921120" y="1920960"/>
            <a:ext cx="3532320" cy="603000"/>
            <a:chOff x="3921120" y="1920960"/>
            <a:chExt cx="3532320" cy="603000"/>
          </a:xfrm>
        </p:grpSpPr>
        <p:sp>
          <p:nvSpPr>
            <p:cNvPr id="932" name=""/>
            <p:cNvSpPr/>
            <p:nvPr/>
          </p:nvSpPr>
          <p:spPr>
            <a:xfrm>
              <a:off x="3921120" y="218124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915080" y="218124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831920" y="19209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173720" y="1920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75480" y="21924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650560" y="21924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3917520" y="2978280"/>
            <a:ext cx="3521520" cy="612720"/>
            <a:chOff x="3917520" y="2978280"/>
            <a:chExt cx="3521520" cy="612720"/>
          </a:xfrm>
        </p:grpSpPr>
        <p:sp>
          <p:nvSpPr>
            <p:cNvPr id="939" name=""/>
            <p:cNvSpPr/>
            <p:nvPr/>
          </p:nvSpPr>
          <p:spPr>
            <a:xfrm>
              <a:off x="3940200" y="323856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534000" y="324792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917520" y="29782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259320" y="2978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652080" y="32590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34400" y="323064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gment-Sel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4714920" y="4390920"/>
            <a:ext cx="2095560" cy="581040"/>
          </a:xfrm>
          <a:custGeom>
            <a:avLst/>
            <a:gdLst>
              <a:gd name="textAreaLeft" fmla="*/ 460800 w 2095560"/>
              <a:gd name="textAreaRight" fmla="*/ 1634760 w 2095560"/>
              <a:gd name="textAreaTop" fmla="*/ 127800 h 581040"/>
              <a:gd name="textAreaBottom" fmla="*/ 4532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di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907800" y="5530680"/>
            <a:ext cx="3602880" cy="610560"/>
            <a:chOff x="3907800" y="5530680"/>
            <a:chExt cx="3602880" cy="610560"/>
          </a:xfrm>
        </p:grpSpPr>
        <p:sp>
          <p:nvSpPr>
            <p:cNvPr id="947" name=""/>
            <p:cNvSpPr/>
            <p:nvPr/>
          </p:nvSpPr>
          <p:spPr>
            <a:xfrm>
              <a:off x="3949560" y="579600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07800" y="55306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30960" y="5530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00320" y="5803920"/>
              <a:ext cx="298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 Adresse  (20 Bi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 rot="16200000">
            <a:off x="6129360" y="1385640"/>
            <a:ext cx="104760" cy="2485800"/>
          </a:xfrm>
          <a:custGeom>
            <a:avLst/>
            <a:gdLst>
              <a:gd name="textAreaLeft" fmla="*/ 66960 w 104760"/>
              <a:gd name="textAreaRight" fmla="*/ 105120 w 104760"/>
              <a:gd name="textAreaTop" fmla="*/ 64800 h 2485800"/>
              <a:gd name="textAreaBottom" fmla="*/ 2421000 h 24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524560" y="3774960"/>
            <a:ext cx="390600" cy="666720"/>
          </a:xfrm>
          <a:prstGeom prst="downArrow">
            <a:avLst>
              <a:gd name="adj1" fmla="val 44713"/>
              <a:gd name="adj2" fmla="val 7478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rot="16200000">
            <a:off x="5659200" y="2007720"/>
            <a:ext cx="155880" cy="3387600"/>
          </a:xfrm>
          <a:custGeom>
            <a:avLst/>
            <a:gdLst>
              <a:gd name="textAreaLeft" fmla="*/ 99720 w 155880"/>
              <a:gd name="textAreaRight" fmla="*/ 156240 w 155880"/>
              <a:gd name="textAreaTop" fmla="*/ 88200 h 3387600"/>
              <a:gd name="textAreaBottom" fmla="*/ 3299400 h 338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 rot="5400000">
            <a:off x="5572080" y="3762360"/>
            <a:ext cx="285840" cy="3476880"/>
          </a:xfrm>
          <a:custGeom>
            <a:avLst/>
            <a:gdLst>
              <a:gd name="textAreaLeft" fmla="*/ 182520 w 285840"/>
              <a:gd name="textAreaRight" fmla="*/ 286200 w 285840"/>
              <a:gd name="textAreaTop" fmla="*/ 90360 h 3476880"/>
              <a:gd name="textAreaBottom" fmla="*/ 3386520 h 347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7"/>
                </a:lnTo>
                <a:cubicBezTo>
                  <a:pt x="10800" y="10057"/>
                  <a:pt x="5400" y="10957"/>
                  <a:pt x="0" y="10957"/>
                </a:cubicBezTo>
                <a:cubicBezTo>
                  <a:pt x="5400" y="10957"/>
                  <a:pt x="10800" y="11857"/>
                  <a:pt x="10800" y="1275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673400" y="200988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set z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73400" y="311472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5921280" y="2644920"/>
            <a:ext cx="1505160" cy="3558960"/>
          </a:xfrm>
          <a:prstGeom prst="cube">
            <a:avLst>
              <a:gd name="adj" fmla="val 6893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921280" y="3193920"/>
            <a:ext cx="1390680" cy="962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921280" y="4584600"/>
            <a:ext cx="1390680" cy="14256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12920" y="1087560"/>
            <a:ext cx="822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rotected (Virtual Address) Mode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odus mit vergrößertem Adressraum und erweiterten Fähigkeiten zu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schutz, Multitas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921280" y="3527280"/>
            <a:ext cx="1390680" cy="2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Ope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921280" y="5032440"/>
            <a:ext cx="139068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Segment-</a:t>
            </a:r>
            <a:br>
              <a:rPr sz="1600"/>
            </a:b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Deskr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02400" y="4575240"/>
            <a:ext cx="190800" cy="1238040"/>
          </a:xfrm>
          <a:custGeom>
            <a:avLst/>
            <a:gdLst>
              <a:gd name="textAreaLeft" fmla="*/ 0 w 190800"/>
              <a:gd name="textAreaRight" fmla="*/ 68760 w 190800"/>
              <a:gd name="textAreaTop" fmla="*/ 32040 h 1238040"/>
              <a:gd name="textAreaBottom" fmla="*/ 1206000 h 123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531200" y="3203640"/>
            <a:ext cx="171360" cy="923760"/>
          </a:xfrm>
          <a:custGeom>
            <a:avLst/>
            <a:gdLst>
              <a:gd name="textAreaLeft" fmla="*/ 0 w 171360"/>
              <a:gd name="textAreaRight" fmla="*/ 61920 w 171360"/>
              <a:gd name="textAreaTop" fmla="*/ 23760 h 923760"/>
              <a:gd name="textAreaBottom" fmla="*/ 900000 h 92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51040" y="2260440"/>
            <a:ext cx="4419360" cy="3848400"/>
          </a:xfrm>
          <a:prstGeom prst="rect">
            <a:avLst/>
          </a:prstGeom>
          <a:solidFill>
            <a:srgbClr val="d9fff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44520" y="2629080"/>
            <a:ext cx="16909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 rot="16200000">
            <a:off x="3606480" y="3784320"/>
            <a:ext cx="1600200" cy="876240"/>
          </a:xfrm>
          <a:custGeom>
            <a:avLst/>
            <a:gdLst>
              <a:gd name="textAreaLeft" fmla="*/ 267840 w 1600200"/>
              <a:gd name="textAreaRight" fmla="*/ 1332360 w 1600200"/>
              <a:gd name="textAreaTop" fmla="*/ 146520 h 876240"/>
              <a:gd name="textAreaBottom" fmla="*/ 72972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237" y="21600"/>
                </a:lnTo>
                <a:lnTo>
                  <a:pt x="3363" y="216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30600" y="4724280"/>
            <a:ext cx="1257120" cy="609840"/>
          </a:xfrm>
          <a:custGeom>
            <a:avLst/>
            <a:gdLst/>
            <a:ahLst/>
            <a:rect l="l" t="t" r="r" b="b"/>
            <a:pathLst>
              <a:path w="792" h="384">
                <a:moveTo>
                  <a:pt x="0" y="384"/>
                </a:moveTo>
                <a:lnTo>
                  <a:pt x="0" y="8"/>
                </a:lnTo>
                <a:lnTo>
                  <a:pt x="792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3974760" y="5499000"/>
            <a:ext cx="194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rot="5400000">
            <a:off x="3932280" y="399816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ress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ie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933640" y="2629080"/>
            <a:ext cx="16909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511280" y="5334120"/>
            <a:ext cx="2476440" cy="330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ment-Basis 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413000" y="5043600"/>
            <a:ext cx="27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3                                     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rot="5400000">
            <a:off x="3949560" y="4127400"/>
            <a:ext cx="291960" cy="266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3683160" y="2983680"/>
            <a:ext cx="291960" cy="762120"/>
          </a:xfrm>
          <a:custGeom>
            <a:avLst/>
            <a:gdLst/>
            <a:ahLst/>
            <a:rect l="l" t="t" r="r" b="b"/>
            <a:pathLst>
              <a:path w="792" h="384">
                <a:moveTo>
                  <a:pt x="0" y="384"/>
                </a:moveTo>
                <a:lnTo>
                  <a:pt x="0" y="8"/>
                </a:lnTo>
                <a:lnTo>
                  <a:pt x="792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247760" y="2338560"/>
            <a:ext cx="36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6  1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168560" y="2971800"/>
            <a:ext cx="5460840" cy="2946240"/>
          </a:xfrm>
          <a:custGeom>
            <a:avLst/>
            <a:gdLst/>
            <a:ahLst/>
            <a:rect l="l" t="t" r="r" b="b"/>
            <a:pathLst>
              <a:path w="3488" h="1856">
                <a:moveTo>
                  <a:pt x="576" y="0"/>
                </a:moveTo>
                <a:lnTo>
                  <a:pt x="576" y="192"/>
                </a:lnTo>
                <a:lnTo>
                  <a:pt x="0" y="192"/>
                </a:lnTo>
                <a:lnTo>
                  <a:pt x="0" y="1856"/>
                </a:lnTo>
                <a:lnTo>
                  <a:pt x="3488" y="1856"/>
                </a:lnTo>
                <a:lnTo>
                  <a:pt x="3488" y="16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838760" y="3657600"/>
            <a:ext cx="1104840" cy="558720"/>
          </a:xfrm>
          <a:custGeom>
            <a:avLst/>
            <a:gdLst/>
            <a:ahLst/>
            <a:rect l="l" t="t" r="r" b="b"/>
            <a:pathLst>
              <a:path w="696" h="352">
                <a:moveTo>
                  <a:pt x="0" y="352"/>
                </a:moveTo>
                <a:lnTo>
                  <a:pt x="440" y="352"/>
                </a:lnTo>
                <a:lnTo>
                  <a:pt x="440" y="0"/>
                </a:lnTo>
                <a:lnTo>
                  <a:pt x="6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835040" y="3500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759080" y="474516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kripto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601280" y="3587760"/>
            <a:ext cx="125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CP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923440" y="22096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60440" y="1392120"/>
            <a:ext cx="794376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Segment-Selektor spezifiziert hier nicht die Basisadresse des Segments selbst, sondern verweist auf d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Segment Deskripto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in der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Segment-Deskriptor-Tabell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im 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Jeder Segment-Deskriptor beschreibt das zugehörige Segment durch folgende Attribu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Basisadresse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base addres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Größe in Bytes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Zugriffsrechte auf das Segment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access right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bbildung eines logischen 32-Bit Adressraums auf ein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hysikalischen 24 Bit Adressra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6  Seitenorient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51440" y="1144440"/>
            <a:ext cx="8136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Speicher wird in viele kleine Seiten gleicher Läng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te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längen von 256 Byte bis 4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Unterschied zu Segmenten können Seiten nicht a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liebiger Stelle im Speicher beginnen, sondern nur i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m festen an der Seitengröße orientierten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allbeispiel Intel 8038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 Kompatibilitätsgründen zum 80286 enthält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80386 sowohl eine Segment-Verwaltung wie auch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-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393840" y="1994040"/>
            <a:ext cx="184140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59120" y="1994040"/>
            <a:ext cx="171468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6730920" y="1993680"/>
            <a:ext cx="1968480" cy="126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952720" y="2381400"/>
            <a:ext cx="12600" cy="4060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6076800" y="2368080"/>
            <a:ext cx="12960" cy="406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dressen beim 8038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66560" y="3605040"/>
            <a:ext cx="824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unächst wird wie beim 80286 die logische Adresse üb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 Segment-Verwaltung umgesetzt. Die entstehend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heißt hier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inear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Unterschied zum 80286 wurde die logische Adress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m 80386 jedoch auf 48 Bit erweitert, die lineare Adress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entspricht der physikalischen beim 80286) auf 32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22640" y="1568520"/>
            <a:ext cx="1523880" cy="85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473800" y="1568520"/>
            <a:ext cx="1257120" cy="85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ging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311560" y="2762280"/>
            <a:ext cx="1295280" cy="63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kritor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511960" y="2774880"/>
            <a:ext cx="1143000" cy="63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15800" y="1192320"/>
            <a:ext cx="12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sch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08520" y="1192320"/>
            <a:ext cx="11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ea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007040" y="1192320"/>
            <a:ext cx="172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3480" y="213840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lektor: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dressen beim 8038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16520" y="1203480"/>
            <a:ext cx="820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nachgeschaltete Seiten-Verwaltung kann optional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bgeschalte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patibilitätsmode zum 80286,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ineare Adresse = physikalisch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nderenfalls wird aus der linearen Adresse durch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-Verwaltung die physikalische Adresse ermitte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(bei Prozessoren mit ausschliesslich Seiten-Verwaltun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spricht die lineare Adresse somit der logischen Adres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4267080" y="5029200"/>
            <a:ext cx="48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us der linearen 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381800" y="1222200"/>
            <a:ext cx="1276560" cy="439740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381800" y="2114640"/>
            <a:ext cx="1162080" cy="1317600"/>
          </a:xfrm>
          <a:prstGeom prst="rect">
            <a:avLst/>
          </a:prstGeom>
          <a:solidFill>
            <a:srgbClr val="85ffd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38180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054080" y="1676520"/>
            <a:ext cx="169056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1631880" y="4438440"/>
            <a:ext cx="0" cy="11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413080" y="1676520"/>
            <a:ext cx="147456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19040" y="5397480"/>
            <a:ext cx="50796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20760" y="504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660920" y="1955880"/>
            <a:ext cx="1422360" cy="76176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981000" y="1995480"/>
            <a:ext cx="45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576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251840" y="559764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Physikalischer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Adressra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674120" y="2435400"/>
            <a:ext cx="28548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96608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25804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466760" y="27907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4-Kbyte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886200" y="1676520"/>
            <a:ext cx="14875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927000" y="5397480"/>
            <a:ext cx="34308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095880" y="2489040"/>
            <a:ext cx="419400" cy="44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527880" y="2717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740120" y="3432240"/>
            <a:ext cx="1263960" cy="218736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74012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03244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32440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616720" y="475920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rot="16200000">
            <a:off x="5118120" y="3708360"/>
            <a:ext cx="1993680" cy="39384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000680" y="4800600"/>
            <a:ext cx="419040" cy="44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111480" y="2019240"/>
            <a:ext cx="1130400" cy="2768760"/>
          </a:xfrm>
          <a:custGeom>
            <a:avLst/>
            <a:gdLst/>
            <a:ahLst/>
            <a:rect l="l" t="t" r="r" b="b"/>
            <a:pathLst>
              <a:path w="480" h="1744">
                <a:moveTo>
                  <a:pt x="0" y="0"/>
                </a:moveTo>
                <a:lnTo>
                  <a:pt x="0" y="568"/>
                </a:lnTo>
                <a:lnTo>
                  <a:pt x="480" y="568"/>
                </a:lnTo>
                <a:lnTo>
                  <a:pt x="480" y="17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76640" y="3432240"/>
            <a:ext cx="1263600" cy="218736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276640" y="398448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568600" y="398448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860560" y="398448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152880" y="398448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397160" y="4013280"/>
            <a:ext cx="419040" cy="44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816200" y="4241880"/>
            <a:ext cx="482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20960" y="5016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720960" y="4127400"/>
            <a:ext cx="1054080" cy="147348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429000" y="4140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36640" y="5524560"/>
            <a:ext cx="143676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619280" y="20250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197800" y="559764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ntabellen-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Verzeich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622040" y="559764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n-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670760" y="12574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Linear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594760" y="20541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Arial"/>
              </a:rPr>
              <a:t>Konkat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us der linearen 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97880" y="1382760"/>
            <a:ext cx="837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2 stufiges hierarchiches Tabellenverfah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tabellenverzeichnis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eitentabell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tabellenverzeichnis, Seitentabellen und Seiten si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weils 4 KByte lang, Seitentabellen und -verzeichnis fass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weils 1000 Einträ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6800760" y="1371600"/>
            <a:ext cx="809640" cy="41148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810480" y="2048040"/>
            <a:ext cx="793800" cy="1199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99"/>
                </a:solidFill>
                <a:latin typeface="Arial"/>
              </a:rPr>
              <a:t>Beschleunigung der Adressberechnung durch einen Cache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314440" y="4200480"/>
            <a:ext cx="828720" cy="12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314440" y="4200480"/>
            <a:ext cx="828720" cy="1276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610160" y="4210200"/>
            <a:ext cx="819000" cy="1276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276200" y="1976400"/>
            <a:ext cx="50508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43160" y="2009880"/>
            <a:ext cx="1447920" cy="9525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279520" y="1976400"/>
            <a:ext cx="50508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781280" y="1976400"/>
            <a:ext cx="50472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31444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52720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73672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940120" y="4376880"/>
            <a:ext cx="19836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0724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02000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22628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439040" y="2325600"/>
            <a:ext cx="171360" cy="20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61016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82292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02920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241960" y="4910040"/>
            <a:ext cx="183960" cy="20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619360" y="1762200"/>
            <a:ext cx="3191040" cy="676080"/>
          </a:xfrm>
          <a:custGeom>
            <a:avLst/>
            <a:gdLst/>
            <a:ahLst/>
            <a:rect l="l" t="t" r="r" b="b"/>
            <a:pathLst>
              <a:path w="2010" h="426">
                <a:moveTo>
                  <a:pt x="0" y="132"/>
                </a:moveTo>
                <a:lnTo>
                  <a:pt x="0" y="0"/>
                </a:lnTo>
                <a:lnTo>
                  <a:pt x="2010" y="6"/>
                </a:lnTo>
                <a:lnTo>
                  <a:pt x="2010" y="4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076480" y="2276640"/>
            <a:ext cx="2038320" cy="2685960"/>
          </a:xfrm>
          <a:custGeom>
            <a:avLst/>
            <a:gdLst/>
            <a:ahLst/>
            <a:rect l="l" t="t" r="r" b="b"/>
            <a:pathLst>
              <a:path w="1284" h="1692">
                <a:moveTo>
                  <a:pt x="0" y="0"/>
                </a:moveTo>
                <a:lnTo>
                  <a:pt x="6" y="756"/>
                </a:lnTo>
                <a:lnTo>
                  <a:pt x="1284" y="774"/>
                </a:lnTo>
                <a:lnTo>
                  <a:pt x="1284" y="1692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152880" y="4486320"/>
            <a:ext cx="1438200" cy="981000"/>
          </a:xfrm>
          <a:custGeom>
            <a:avLst/>
            <a:gdLst/>
            <a:ahLst/>
            <a:rect l="l" t="t" r="r" b="b"/>
            <a:pathLst>
              <a:path w="906" h="636">
                <a:moveTo>
                  <a:pt x="0" y="6"/>
                </a:moveTo>
                <a:lnTo>
                  <a:pt x="240" y="0"/>
                </a:lnTo>
                <a:lnTo>
                  <a:pt x="240" y="636"/>
                </a:lnTo>
                <a:lnTo>
                  <a:pt x="906" y="63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533600" y="2257560"/>
            <a:ext cx="1440" cy="2200320"/>
          </a:xfrm>
          <a:custGeom>
            <a:avLst/>
            <a:gdLst/>
            <a:ahLst/>
            <a:rect l="l" t="t" r="r" b="b"/>
            <a:pathLst>
              <a:path w="1" h="1386">
                <a:moveTo>
                  <a:pt x="0" y="0"/>
                </a:moveTo>
                <a:lnTo>
                  <a:pt x="0" y="1386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1523880" y="2790360"/>
            <a:ext cx="1571760" cy="972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2085840" y="2514240"/>
            <a:ext cx="1019160" cy="1908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714680" y="4581360"/>
            <a:ext cx="5904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1533600" y="4705200"/>
            <a:ext cx="0" cy="619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143000" y="5305320"/>
            <a:ext cx="790560" cy="29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685880" y="5448240"/>
            <a:ext cx="628560" cy="9720"/>
          </a:xfrm>
          <a:custGeom>
            <a:avLst/>
            <a:gdLst/>
            <a:ahLst/>
            <a:rect l="l" t="t" r="r" b="b"/>
            <a:pathLst>
              <a:path w="396" h="6">
                <a:moveTo>
                  <a:pt x="0" y="0"/>
                </a:moveTo>
                <a:lnTo>
                  <a:pt x="396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429160" y="2666880"/>
            <a:ext cx="381240" cy="2333880"/>
          </a:xfrm>
          <a:custGeom>
            <a:avLst/>
            <a:gdLst/>
            <a:ahLst/>
            <a:rect l="l" t="t" r="r" b="b"/>
            <a:pathLst>
              <a:path w="240" h="1470">
                <a:moveTo>
                  <a:pt x="0" y="1470"/>
                </a:moveTo>
                <a:lnTo>
                  <a:pt x="240" y="1464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829480" y="3267000"/>
            <a:ext cx="952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943600" y="2514600"/>
            <a:ext cx="81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4629240" y="2514240"/>
            <a:ext cx="1019160" cy="1908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409760" y="449568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67480" y="245736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81600" y="498168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543480" y="50799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80040" y="5067360"/>
            <a:ext cx="33012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81400" y="16081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are 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591720" y="14079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865840" y="12812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 G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753600" y="263844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-kbyte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532040" y="20811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ffer (h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74560" y="2028960"/>
            <a:ext cx="118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latio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okasid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598760" y="35290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Treffer (mi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104120" y="5284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165320" y="2208240"/>
            <a:ext cx="178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1      21       11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662440" y="2397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407960" y="44416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973320" y="4924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8600" y="1239840"/>
            <a:ext cx="82296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triebsmittelverwalt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tragsverwaltung (Prozeßverwal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Betriebsmittel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resource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waltet alle peripheren Betriebsmittel d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nersystems, wie z.B. Festplatte, Floppy Disk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DROM, Drucker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Ziel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fache, effektive und konfliktfreie Nutzung 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triebsmittel durch die verschiedenen Prozess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99"/>
                </a:solidFill>
                <a:latin typeface="Arial"/>
              </a:rPr>
              <a:t>Beschleunigung der Adressberechnung durch einen Cache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68640" y="1278000"/>
            <a:ext cx="799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schneller voll-assoziativer Cache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ranslation </a:t>
            </a:r>
            <a:br>
              <a:rPr sz="2400"/>
            </a:b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ookaside Buff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 TBL) speichert automatisch die 32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uletzt benutzen Einträge aus Seitentabellenverzeichni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Seiten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Trefferfall (Trefferquote ca. 90 %) muß nich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die im Hauptspeicher liegenden Tabell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gegriff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nmerk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54400" y="1297080"/>
            <a:ext cx="785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owohl bei segmentorientierter wie bei seitenorientiert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t sich eine Seite oder ein Segment nicht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Hauptspeicher, so löst der Prozessor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brechung aus, um die Seite oder das Segmen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das Betriebssystem zu la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- oder Segmentfeh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nmerk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01840" y="1181160"/>
            <a:ext cx="791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rkennung eines Segmentfehl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it im Segment-Deskriptor zeigt an, ob da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gment im Hauptspeicher ist oder n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rkennung eines Seitenfehl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nummer befindet sich nicht in der Seitentabell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fehl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zielles Kennungbit im Seitentabellen-Verzeich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tabellenfeh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8600" y="1239840"/>
            <a:ext cx="82198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Auftrags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task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waltung der Prozesse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Prozeß kann im Laufe seiner Bearbeitung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sentlichen folgende unterscheidbaren Zuständ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neh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409760" y="3933720"/>
            <a:ext cx="6438960" cy="1986120"/>
            <a:chOff x="1409760" y="3933720"/>
            <a:chExt cx="6438960" cy="1986120"/>
          </a:xfrm>
        </p:grpSpPr>
        <p:sp>
          <p:nvSpPr>
            <p:cNvPr id="98" name=""/>
            <p:cNvSpPr/>
            <p:nvPr/>
          </p:nvSpPr>
          <p:spPr>
            <a:xfrm>
              <a:off x="3819600" y="393372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lockie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09760" y="527220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kt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48520" y="527220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r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228760" y="4438440"/>
              <a:ext cx="159084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00720" y="4495680"/>
              <a:ext cx="1657440" cy="7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009960" y="5467320"/>
              <a:ext cx="32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9960" y="5743440"/>
              <a:ext cx="32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040" y="1192320"/>
            <a:ext cx="84456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altung dieser Zustände und Übergäng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ufgrund äußerer oder innerer Ereignisse) si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entliche Aufgaben der Auftragsverwalt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Zie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st effiziente und scheinbar paralle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arbeitung mehrerer Aufg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476360" y="4219560"/>
            <a:ext cx="5794200" cy="1788840"/>
            <a:chOff x="1476360" y="4219560"/>
            <a:chExt cx="5794200" cy="1788840"/>
          </a:xfrm>
        </p:grpSpPr>
        <p:sp>
          <p:nvSpPr>
            <p:cNvPr id="108" name=""/>
            <p:cNvSpPr/>
            <p:nvPr/>
          </p:nvSpPr>
          <p:spPr>
            <a:xfrm>
              <a:off x="3645000" y="421956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lockie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76360" y="542520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kt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30560" y="542520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r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2213280" y="4674240"/>
              <a:ext cx="1431360" cy="72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67720" y="4725720"/>
              <a:ext cx="1491480" cy="69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000" y="5600880"/>
              <a:ext cx="292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16360" y="5849640"/>
              <a:ext cx="292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8600" y="1239840"/>
            <a:ext cx="821988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Speicher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memory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immer größer werdende Programme sow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ehrerer quasi gleichzeitig laufender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zur Verfügung stehende Arbeitsspeicher wir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nell zu 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Abhilf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ur die gerade benötigten Teile der aktiv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e werden wirklich im Arbeitsspeich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halten, der Rest befindet sich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tergrundspeicher und wird bei Bedarf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laden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swapping, pagi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Grundstruktur virtueller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868400"/>
            <a:ext cx="495360" cy="505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24120" y="26290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2412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2412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272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52720" y="26290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5272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5272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5272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5272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0056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005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056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7196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719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7196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724120" y="1886040"/>
            <a:ext cx="905040" cy="1466640"/>
            <a:chOff x="2724120" y="1886040"/>
            <a:chExt cx="905040" cy="1466640"/>
          </a:xfrm>
        </p:grpSpPr>
        <p:sp>
          <p:nvSpPr>
            <p:cNvPr id="135" name=""/>
            <p:cNvSpPr/>
            <p:nvPr/>
          </p:nvSpPr>
          <p:spPr>
            <a:xfrm>
              <a:off x="2724120" y="2381400"/>
              <a:ext cx="228600" cy="247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00560" y="2629080"/>
              <a:ext cx="228600" cy="247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00560" y="1886040"/>
              <a:ext cx="228600" cy="247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71960" y="2629080"/>
              <a:ext cx="228600" cy="247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71960" y="3105000"/>
              <a:ext cx="228600" cy="247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629160" y="26290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2916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2916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2916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776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724120" y="1886040"/>
            <a:ext cx="1362240" cy="1238040"/>
            <a:chOff x="2724120" y="1886040"/>
            <a:chExt cx="1362240" cy="1238040"/>
          </a:xfrm>
        </p:grpSpPr>
        <p:sp>
          <p:nvSpPr>
            <p:cNvPr id="147" name=""/>
            <p:cNvSpPr/>
            <p:nvPr/>
          </p:nvSpPr>
          <p:spPr>
            <a:xfrm>
              <a:off x="2724120" y="2876400"/>
              <a:ext cx="228600" cy="247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24120" y="1886040"/>
              <a:ext cx="228600" cy="247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00560" y="2133720"/>
              <a:ext cx="228600" cy="2476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71960" y="2133720"/>
              <a:ext cx="228600" cy="247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29160" y="2876400"/>
              <a:ext cx="228600" cy="2476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7760" y="2629080"/>
              <a:ext cx="228600" cy="247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8577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776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5776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776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1488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1488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1488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1488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1488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4348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4348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4348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1488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1488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1488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4348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4348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4348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4348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4348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913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99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71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5320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532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5320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532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5320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2460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246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2460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246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8180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818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818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8180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1040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1040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104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1040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104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771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771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771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771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057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532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5320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532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532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5320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532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246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2460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246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246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2460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246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818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818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818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104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104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104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104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86360" y="2143080"/>
            <a:ext cx="1028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24040" y="2124000"/>
            <a:ext cx="1028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7800" y="14637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92640" y="146376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77160" y="1463760"/>
            <a:ext cx="24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tergrund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63120" y="337356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m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99760" y="481176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e und 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85960" y="1866960"/>
            <a:ext cx="6953040" cy="3410280"/>
            <a:chOff x="885960" y="1866960"/>
            <a:chExt cx="6953040" cy="3410280"/>
          </a:xfrm>
        </p:grpSpPr>
        <p:sp>
          <p:nvSpPr>
            <p:cNvPr id="275" name=""/>
            <p:cNvSpPr/>
            <p:nvPr/>
          </p:nvSpPr>
          <p:spPr>
            <a:xfrm>
              <a:off x="5114880" y="2362320"/>
              <a:ext cx="228600" cy="2476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43480" y="2610000"/>
              <a:ext cx="228600" cy="2476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1866960"/>
              <a:ext cx="228600" cy="2476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14880" y="4076640"/>
              <a:ext cx="228600" cy="247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14880" y="3581280"/>
              <a:ext cx="228600" cy="2476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62720" y="4324320"/>
              <a:ext cx="228600" cy="2476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19920" y="4076640"/>
              <a:ext cx="228600" cy="2476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8520" y="3828960"/>
              <a:ext cx="228600" cy="2476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77120" y="4076640"/>
              <a:ext cx="228600" cy="2476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05720" y="4076640"/>
              <a:ext cx="228600" cy="2476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05720" y="3333600"/>
              <a:ext cx="228600" cy="24768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53200" y="4324320"/>
              <a:ext cx="228600" cy="24768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24600" y="4076640"/>
              <a:ext cx="228600" cy="2476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24600" y="4552920"/>
              <a:ext cx="228600" cy="24768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10400" y="4552920"/>
              <a:ext cx="228600" cy="24768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77120" y="3086280"/>
              <a:ext cx="228600" cy="24732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10400" y="1866960"/>
              <a:ext cx="228600" cy="24768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85960" y="4943520"/>
              <a:ext cx="228600" cy="24768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35960" y="4878360"/>
              <a:ext cx="13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rozess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090320" y="222264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wapping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724120" y="1886040"/>
            <a:ext cx="905040" cy="1466640"/>
            <a:chOff x="2724120" y="1886040"/>
            <a:chExt cx="905040" cy="1466640"/>
          </a:xfrm>
        </p:grpSpPr>
        <p:sp>
          <p:nvSpPr>
            <p:cNvPr id="296" name=""/>
            <p:cNvSpPr/>
            <p:nvPr/>
          </p:nvSpPr>
          <p:spPr>
            <a:xfrm>
              <a:off x="2724120" y="23814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00560" y="26290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00560" y="18860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71960" y="26290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71960" y="31050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724120" y="1886040"/>
            <a:ext cx="1362240" cy="1238040"/>
            <a:chOff x="2724120" y="1886040"/>
            <a:chExt cx="1362240" cy="1238040"/>
          </a:xfrm>
        </p:grpSpPr>
        <p:sp>
          <p:nvSpPr>
            <p:cNvPr id="302" name=""/>
            <p:cNvSpPr/>
            <p:nvPr/>
          </p:nvSpPr>
          <p:spPr>
            <a:xfrm>
              <a:off x="2724120" y="28764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24120" y="18860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00560" y="21337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71960" y="21337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29160" y="28764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57760" y="26290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885960" y="1866960"/>
            <a:ext cx="6953040" cy="2933640"/>
            <a:chOff x="885960" y="1866960"/>
            <a:chExt cx="6953040" cy="2933640"/>
          </a:xfrm>
        </p:grpSpPr>
        <p:grpSp>
          <p:nvGrpSpPr>
            <p:cNvPr id="309" name=""/>
            <p:cNvGrpSpPr/>
            <p:nvPr/>
          </p:nvGrpSpPr>
          <p:grpSpPr>
            <a:xfrm>
              <a:off x="5114880" y="1866960"/>
              <a:ext cx="2724120" cy="2933640"/>
              <a:chOff x="5114880" y="1866960"/>
              <a:chExt cx="2724120" cy="2933640"/>
            </a:xfrm>
          </p:grpSpPr>
          <p:sp>
            <p:nvSpPr>
              <p:cNvPr id="310" name=""/>
              <p:cNvSpPr/>
              <p:nvPr/>
            </p:nvSpPr>
            <p:spPr>
              <a:xfrm>
                <a:off x="5343480" y="2857680"/>
                <a:ext cx="228600" cy="2473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43480" y="2114640"/>
                <a:ext cx="228600" cy="24768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91320" y="2114640"/>
                <a:ext cx="228600" cy="24768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2114640"/>
                <a:ext cx="228600" cy="24768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62720" y="3086280"/>
                <a:ext cx="228600" cy="24732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14880" y="4552920"/>
                <a:ext cx="228600" cy="24768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43480" y="3828960"/>
                <a:ext cx="228600" cy="24768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62720" y="3333600"/>
                <a:ext cx="228600" cy="24768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4324320"/>
                <a:ext cx="228600" cy="24768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77120" y="3581280"/>
                <a:ext cx="228600" cy="24768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381800" y="4324320"/>
                <a:ext cx="228600" cy="24768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381800" y="3581280"/>
                <a:ext cx="228600" cy="24768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05720" y="2857680"/>
                <a:ext cx="228600" cy="2473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05720" y="2362320"/>
                <a:ext cx="228600" cy="24768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81800" y="2610000"/>
                <a:ext cx="228600" cy="24768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81800" y="1866960"/>
                <a:ext cx="228600" cy="24768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610400" y="2610000"/>
                <a:ext cx="228600" cy="247680"/>
              </a:xfrm>
              <a:prstGeom prst="rect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885960" y="1866960"/>
              <a:ext cx="6953040" cy="2933640"/>
              <a:chOff x="885960" y="1866960"/>
              <a:chExt cx="6953040" cy="2933640"/>
            </a:xfrm>
          </p:grpSpPr>
          <p:sp>
            <p:nvSpPr>
              <p:cNvPr id="328" name=""/>
              <p:cNvSpPr/>
              <p:nvPr/>
            </p:nvSpPr>
            <p:spPr>
              <a:xfrm>
                <a:off x="885960" y="4457880"/>
                <a:ext cx="228600" cy="24732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335960" y="4363920"/>
                <a:ext cx="131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Prozess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43480" y="28576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343480" y="2114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2114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562720" y="2114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62720" y="30862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114880" y="45529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43480" y="382896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62720" y="33336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248520" y="4324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477120" y="358128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81800" y="4324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381800" y="358128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05720" y="28576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05720" y="2362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81800" y="26100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81800" y="186696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610400" y="26100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7" name=""/>
          <p:cNvGrpSpPr/>
          <p:nvPr/>
        </p:nvGrpSpPr>
        <p:grpSpPr>
          <a:xfrm>
            <a:off x="5114880" y="1866960"/>
            <a:ext cx="2724120" cy="2933640"/>
            <a:chOff x="5114880" y="1866960"/>
            <a:chExt cx="2724120" cy="2933640"/>
          </a:xfrm>
        </p:grpSpPr>
        <p:sp>
          <p:nvSpPr>
            <p:cNvPr id="348" name=""/>
            <p:cNvSpPr/>
            <p:nvPr/>
          </p:nvSpPr>
          <p:spPr>
            <a:xfrm>
              <a:off x="5114880" y="23623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43480" y="26100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19920" y="186696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1488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14880" y="358128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62720" y="43243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1992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48520" y="382896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7712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0572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5720" y="33336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153200" y="43243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460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24600" y="45529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10400" y="45529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77120" y="30862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10400" y="186696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30T19:51:59Z</cp:lastPrinted>
  <dcterms:modified xsi:type="dcterms:W3CDTF">2004-09-25T05:52:45Z</dcterms:modified>
  <cp:revision>1507</cp:revision>
  <dc:subject/>
  <dc:title>TI-2</dc:title>
</cp:coreProperties>
</file>