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docx" ContentType="application/vnd.openxmlformats-officedocument.wordprocessingml.documen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80880" y="228240"/>
            <a:ext cx="83059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package" Target="../embeddings/oleObject1.docx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38080" y="6324480"/>
            <a:ext cx="68724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3572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stitut für Prozessrechentechnik, Automation und Robotik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33572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rof. rer.nat. U. Brinkschul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" name=""/>
          <p:cNvGraphicFramePr/>
          <p:nvPr/>
        </p:nvGraphicFramePr>
        <p:xfrm>
          <a:off x="371520" y="6400800"/>
          <a:ext cx="360360" cy="3603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71520" y="6400800"/>
                    <a:ext cx="36036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"/>
          <p:cNvSpPr/>
          <p:nvPr/>
        </p:nvSpPr>
        <p:spPr>
          <a:xfrm>
            <a:off x="8305920" y="6400800"/>
            <a:ext cx="53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41449-C87A-411E-80F6-B3A48DB08B48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990720"/>
            <a:ext cx="8305920" cy="75960"/>
          </a:xfrm>
          <a:prstGeom prst="rect">
            <a:avLst/>
          </a:prstGeom>
          <a:gradFill rotWithShape="0">
            <a:gsLst>
              <a:gs pos="0">
                <a:srgbClr val="d5ffd5"/>
              </a:gs>
              <a:gs pos="50000">
                <a:srgbClr val="336600"/>
              </a:gs>
              <a:gs pos="100000">
                <a:srgbClr val="d5ffd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80880" y="6248520"/>
            <a:ext cx="8305920" cy="75960"/>
          </a:xfrm>
          <a:prstGeom prst="rect">
            <a:avLst/>
          </a:prstGeom>
          <a:gradFill rotWithShape="0">
            <a:gsLst>
              <a:gs pos="0">
                <a:srgbClr val="336600"/>
              </a:gs>
              <a:gs pos="50000">
                <a:srgbClr val="d5ffd5"/>
              </a:gs>
              <a:gs pos="100000">
                <a:srgbClr val="3366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image" Target="../media/image3.png"/><Relationship Id="rId21" Type="http://schemas.openxmlformats.org/officeDocument/2006/relationships/image" Target="../media/image3.png"/><Relationship Id="rId22" Type="http://schemas.openxmlformats.org/officeDocument/2006/relationships/image" Target="../media/image3.png"/><Relationship Id="rId23" Type="http://schemas.openxmlformats.org/officeDocument/2006/relationships/image" Target="../media/image3.png"/><Relationship Id="rId24" Type="http://schemas.openxmlformats.org/officeDocument/2006/relationships/image" Target="../media/image3.png"/><Relationship Id="rId25" Type="http://schemas.openxmlformats.org/officeDocument/2006/relationships/image" Target="../media/image3.png"/><Relationship Id="rId26" Type="http://schemas.openxmlformats.org/officeDocument/2006/relationships/image" Target="../media/image3.png"/><Relationship Id="rId27" Type="http://schemas.openxmlformats.org/officeDocument/2006/relationships/image" Target="../media/image3.png"/><Relationship Id="rId28" Type="http://schemas.openxmlformats.org/officeDocument/2006/relationships/image" Target="../media/image3.png"/><Relationship Id="rId29" Type="http://schemas.openxmlformats.org/officeDocument/2006/relationships/image" Target="../media/image3.png"/><Relationship Id="rId30" Type="http://schemas.openxmlformats.org/officeDocument/2006/relationships/image" Target="../media/image4.png"/><Relationship Id="rId31" Type="http://schemas.openxmlformats.org/officeDocument/2006/relationships/image" Target="../media/image4.png"/><Relationship Id="rId32" Type="http://schemas.openxmlformats.org/officeDocument/2006/relationships/image" Target="../media/image4.png"/><Relationship Id="rId33" Type="http://schemas.openxmlformats.org/officeDocument/2006/relationships/image" Target="../media/image4.png"/><Relationship Id="rId34" Type="http://schemas.openxmlformats.org/officeDocument/2006/relationships/image" Target="../media/image4.png"/><Relationship Id="rId35" Type="http://schemas.openxmlformats.org/officeDocument/2006/relationships/image" Target="../media/image4.png"/><Relationship Id="rId36" Type="http://schemas.openxmlformats.org/officeDocument/2006/relationships/image" Target="../media/image4.png"/><Relationship Id="rId37" Type="http://schemas.openxmlformats.org/officeDocument/2006/relationships/image" Target="../media/image4.png"/><Relationship Id="rId38" Type="http://schemas.openxmlformats.org/officeDocument/2006/relationships/image" Target="../media/image4.png"/><Relationship Id="rId39" Type="http://schemas.openxmlformats.org/officeDocument/2006/relationships/image" Target="../media/image4.png"/><Relationship Id="rId40" Type="http://schemas.openxmlformats.org/officeDocument/2006/relationships/image" Target="../media/image4.png"/><Relationship Id="rId41" Type="http://schemas.openxmlformats.org/officeDocument/2006/relationships/image" Target="../media/image4.png"/><Relationship Id="rId42" Type="http://schemas.openxmlformats.org/officeDocument/2006/relationships/image" Target="../media/image4.png"/><Relationship Id="rId43" Type="http://schemas.openxmlformats.org/officeDocument/2006/relationships/image" Target="../media/image4.png"/><Relationship Id="rId44" Type="http://schemas.openxmlformats.org/officeDocument/2006/relationships/image" Target="../media/image4.png"/><Relationship Id="rId45" Type="http://schemas.openxmlformats.org/officeDocument/2006/relationships/image" Target="../media/image4.png"/><Relationship Id="rId46" Type="http://schemas.openxmlformats.org/officeDocument/2006/relationships/image" Target="../media/image4.png"/><Relationship Id="rId47" Type="http://schemas.openxmlformats.org/officeDocument/2006/relationships/image" Target="../media/image4.png"/><Relationship Id="rId48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Virutelle Speicherverwaltung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91200" y="1170000"/>
            <a:ext cx="709596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Halbleiterspeich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Aufbau und Organis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Techniken zur Zugriffsbeschleunig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Speicherhierarch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􀂾􀂾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Cache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􀂾􀂾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Virtuelle Speicherverwalt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Direct Memory Access (DM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99"/>
                </a:solidFill>
                <a:latin typeface="Arial"/>
              </a:rPr>
              <a:t>Virtuelle Speicherverwaltung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96800" y="1106640"/>
            <a:ext cx="8051400" cy="50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cc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eser Vorgang bleibt dem Anwender völlig verborgen,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.h. der Arbeitsspeicher erscheint dem Anwender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esentlich größer, als er in Wahrheit i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buClr>
                <a:srgbClr val="00cc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 nach diesem Konzept verwalteter Speicher heißt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eshalb virtueller Speic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buClr>
                <a:srgbClr val="00cc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on modernen Prozessoren wird die Verwaltung dieses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irtuellen Speichers hardwaremäßig durch eine MMU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memory management unit) unterstütz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"/>
              </a:lnSpc>
              <a:spcBef>
                <a:spcPts val="1500"/>
              </a:spcBef>
              <a:buClr>
                <a:srgbClr val="00cc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buClr>
                <a:srgbClr val="00cc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auptaufgabe dieser virtuellen Speicherverwaltung:</a:t>
            </a:r>
            <a:br>
              <a:rPr sz="2400"/>
            </a:br>
            <a:r>
              <a:rPr b="1" lang="de-DE" sz="2400" spc="-1" strike="noStrike">
                <a:solidFill>
                  <a:srgbClr val="3333ff"/>
                </a:solidFill>
                <a:latin typeface="Arial"/>
              </a:rPr>
              <a:t>Umsetzung virtueller (logischer) Adressen in</a:t>
            </a:r>
            <a:br>
              <a:rPr sz="2400"/>
            </a:br>
            <a:r>
              <a:rPr b="1" lang="de-DE" sz="2400" spc="-1" strike="noStrike">
                <a:solidFill>
                  <a:srgbClr val="3333ff"/>
                </a:solidFill>
                <a:latin typeface="Arial"/>
              </a:rPr>
              <a:t> physikalische Adre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171440" y="5295960"/>
            <a:ext cx="6972480" cy="83808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99"/>
                </a:solidFill>
                <a:latin typeface="Arial"/>
              </a:rPr>
              <a:t>Virtuelle Speicherverwaltung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22440" y="1974960"/>
            <a:ext cx="1485720" cy="14349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683160" y="1974960"/>
            <a:ext cx="1485720" cy="1434960"/>
          </a:xfrm>
          <a:prstGeom prst="rect">
            <a:avLst/>
          </a:prstGeom>
          <a:solidFill>
            <a:srgbClr val="c5e2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807240" y="1974960"/>
            <a:ext cx="1485720" cy="143496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450720" y="1249200"/>
            <a:ext cx="8332920" cy="3371040"/>
            <a:chOff x="450720" y="1249200"/>
            <a:chExt cx="8332920" cy="3371040"/>
          </a:xfrm>
        </p:grpSpPr>
        <p:sp>
          <p:nvSpPr>
            <p:cNvPr id="348" name=""/>
            <p:cNvSpPr/>
            <p:nvPr/>
          </p:nvSpPr>
          <p:spPr>
            <a:xfrm>
              <a:off x="450720" y="3916440"/>
              <a:ext cx="83329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2000" spc="-1" strike="noStrike">
                  <a:solidFill>
                    <a:srgbClr val="3333ff"/>
                  </a:solidFill>
                  <a:latin typeface="Arial"/>
                </a:rPr>
                <a:t>Benutzer:</a:t>
              </a:r>
              <a:r>
                <a:rPr b="0" sz="2000" spc="-1" strike="noStrike">
                  <a:solidFill>
                    <a:srgbClr val="000000"/>
                  </a:solidFill>
                  <a:latin typeface="Arial"/>
                </a:rPr>
                <a:t> kennzeichnet seine Objekte (Programme, Unterprogramme, </a:t>
              </a:r>
              <a:r>
                <a:rPr b="0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sz="2000" spc="-1" strike="noStrike">
                  <a:solidFill>
                    <a:srgbClr val="000000"/>
                  </a:solidFill>
                  <a:latin typeface="Arial"/>
                </a:rPr>
                <a:t>Variablen, ...) durch Nam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800280" y="2495520"/>
              <a:ext cx="152280" cy="1396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77000" y="1249200"/>
              <a:ext cx="2192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Namensraum des</a:t>
              </a:r>
              <a:br>
                <a:rPr sz="2000"/>
              </a:b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Benutze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0640" y="2125800"/>
              <a:ext cx="788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498600" y="1249200"/>
            <a:ext cx="8332560" cy="3837600"/>
            <a:chOff x="498600" y="1249200"/>
            <a:chExt cx="8332560" cy="3837600"/>
          </a:xfrm>
        </p:grpSpPr>
        <p:sp>
          <p:nvSpPr>
            <p:cNvPr id="353" name=""/>
            <p:cNvSpPr/>
            <p:nvPr/>
          </p:nvSpPr>
          <p:spPr>
            <a:xfrm>
              <a:off x="4356000" y="3117960"/>
              <a:ext cx="152640" cy="1396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672360" y="1249200"/>
              <a:ext cx="15552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Virtueller </a:t>
              </a:r>
              <a:br>
                <a:rPr sz="2000"/>
              </a:b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Adressra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961800" y="2481120"/>
              <a:ext cx="1017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virtuelle</a:t>
              </a:r>
              <a:br>
                <a:rPr sz="1800"/>
              </a:b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Adres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015920" y="2597040"/>
              <a:ext cx="3289320" cy="58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247840" y="3141720"/>
              <a:ext cx="1092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Compil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98600" y="4687920"/>
              <a:ext cx="833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2000" spc="-1" strike="noStrike">
                  <a:solidFill>
                    <a:srgbClr val="3333ff"/>
                  </a:solidFill>
                  <a:latin typeface="Arial"/>
                </a:rPr>
                <a:t>Compiler:</a:t>
              </a:r>
              <a:r>
                <a:rPr b="0" sz="2000" spc="-1" strike="noStrike">
                  <a:solidFill>
                    <a:srgbClr val="000000"/>
                  </a:solidFill>
                  <a:latin typeface="Arial"/>
                </a:rPr>
                <a:t> übersetzt diese Namen in virtuelle (logische) Adressen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496800" y="1249200"/>
            <a:ext cx="8332920" cy="4926960"/>
            <a:chOff x="496800" y="1249200"/>
            <a:chExt cx="8332920" cy="4926960"/>
          </a:xfrm>
        </p:grpSpPr>
        <p:sp>
          <p:nvSpPr>
            <p:cNvPr id="360" name=""/>
            <p:cNvSpPr/>
            <p:nvPr/>
          </p:nvSpPr>
          <p:spPr>
            <a:xfrm>
              <a:off x="7099200" y="2330280"/>
              <a:ext cx="152640" cy="1400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718320" y="1249200"/>
              <a:ext cx="20732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Physikalischer Adressra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807600" y="2506680"/>
              <a:ext cx="1535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physikalische</a:t>
              </a:r>
              <a:br>
                <a:rPr sz="1800"/>
              </a:b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Adres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4559400" y="2444400"/>
              <a:ext cx="2489040" cy="74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434200" y="2849400"/>
              <a:ext cx="1412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Betriebs-</a:t>
              </a:r>
              <a:br>
                <a:rPr sz="1800"/>
              </a:b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system und </a:t>
              </a:r>
              <a:br>
                <a:rPr sz="1800"/>
              </a:b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MM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96800" y="5167440"/>
              <a:ext cx="83329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2000" spc="-1" strike="noStrike">
                  <a:solidFill>
                    <a:srgbClr val="3333ff"/>
                  </a:solidFill>
                  <a:latin typeface="Arial"/>
                </a:rPr>
                <a:t>Virtuelle Speicherverwaltung:</a:t>
              </a:r>
              <a:r>
                <a:rPr b="1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sz="2000" spc="-1" strike="noStrike">
                  <a:solidFill>
                    <a:srgbClr val="000000"/>
                  </a:solidFill>
                  <a:latin typeface="Arial"/>
                </a:rPr>
                <a:t>wandelt diese Adressen zur Laufzeit je </a:t>
              </a:r>
              <a:br>
                <a:rPr sz="2000"/>
              </a:br>
              <a:r>
                <a:rPr b="0" sz="2000" spc="-1" strike="noStrike">
                  <a:solidFill>
                    <a:srgbClr val="000000"/>
                  </a:solidFill>
                  <a:latin typeface="Arial"/>
                </a:rPr>
                <a:t>nach gerade gegebener Speicherbelegung in die physikalische </a:t>
              </a:r>
              <a:br>
                <a:rPr sz="2000"/>
              </a:br>
              <a:r>
                <a:rPr b="0" sz="2000" spc="-1" strike="noStrike">
                  <a:solidFill>
                    <a:srgbClr val="000000"/>
                  </a:solidFill>
                  <a:latin typeface="Arial"/>
                </a:rPr>
                <a:t>Adresse (wirklicher Ort des Objekts im Hauptspeicher) 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Beispiel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556560" y="1268280"/>
            <a:ext cx="52732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24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ame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JMP WEI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24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24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24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24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24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JMP -12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24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24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24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24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24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ogische Adresse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458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24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24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24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24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24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hysikalische Adress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31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159880" y="1905120"/>
            <a:ext cx="1200240" cy="398880"/>
          </a:xfrm>
          <a:prstGeom prst="rect">
            <a:avLst/>
          </a:prstGeom>
          <a:noFill/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Compi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155560" y="3238560"/>
            <a:ext cx="2590200" cy="703800"/>
          </a:xfrm>
          <a:prstGeom prst="rect">
            <a:avLst/>
          </a:prstGeom>
          <a:noFill/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dyn. Adressrechn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((PC) - 128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158440" y="4800600"/>
            <a:ext cx="2262600" cy="703800"/>
          </a:xfrm>
          <a:prstGeom prst="rect">
            <a:avLst/>
          </a:prstGeom>
          <a:noFill/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Virtuelle Speicher-</a:t>
            </a:r>
            <a:br>
              <a:rPr sz="2000"/>
            </a:b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verwaltung (MMU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772160" y="1714680"/>
            <a:ext cx="0" cy="1076040"/>
          </a:xfrm>
          <a:prstGeom prst="line">
            <a:avLst/>
          </a:prstGeom>
          <a:ln w="7632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743360" y="3162240"/>
            <a:ext cx="0" cy="1076400"/>
          </a:xfrm>
          <a:prstGeom prst="line">
            <a:avLst/>
          </a:prstGeom>
          <a:ln w="7632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695840" y="4743360"/>
            <a:ext cx="0" cy="1076400"/>
          </a:xfrm>
          <a:prstGeom prst="line">
            <a:avLst/>
          </a:prstGeom>
          <a:ln w="7632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99"/>
                </a:solidFill>
                <a:latin typeface="Arial"/>
              </a:rPr>
              <a:t>4.2 Segmentierungs- und Seitenwechselverfahren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67560" y="2506680"/>
            <a:ext cx="8262720" cy="347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Arial"/>
              </a:rPr>
              <a:t>Segmentie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spcBef>
                <a:spcPts val="1199"/>
              </a:spcBef>
              <a:buClr>
                <a:srgbClr val="00cc99"/>
              </a:buClr>
              <a:buSzPct val="75000"/>
              <a:buFont typeface="Wingdings" charset="2"/>
              <a:buChar char="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ierbei wird der virtuelle Adressraum in Segmente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erschiedener Länge zerleg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spcBef>
                <a:spcPts val="1199"/>
              </a:spcBef>
              <a:buClr>
                <a:srgbClr val="00cc99"/>
              </a:buClr>
              <a:buSzPct val="75000"/>
              <a:buFont typeface="Wingdings" charset="2"/>
              <a:buChar char="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Jedem Prozess sind ein oder mehrere Segmente z.B.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ür den Programmcode und die Daten, zugeordn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spcBef>
                <a:spcPts val="1199"/>
              </a:spcBef>
              <a:buClr>
                <a:srgbClr val="00cc99"/>
              </a:buClr>
              <a:buSzPct val="75000"/>
              <a:buFont typeface="Wingdings" charset="2"/>
              <a:buChar char="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e einzelnen Segmente enthalten logisch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usammenhängende Informationen (Programm-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nd Datenmodule) und können relativ groß se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28760" y="1204920"/>
            <a:ext cx="827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s existieren zwei grundlegende Verfahren zur virtuellen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peicherverwaltung (Segmentierung und Seitenwechs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99"/>
                </a:solidFill>
                <a:latin typeface="Arial"/>
              </a:rPr>
              <a:t>4.2 Segmentierungs- und Seitenwechselverfahren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02760" y="1314360"/>
            <a:ext cx="7988040" cy="347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Arial"/>
              </a:rPr>
              <a:t>Aufteilung in Sei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00cc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ierbei wird der logische und der physikalische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dressraum in "Segmente fester Länge", die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ogenannten Seiten (pages) unterteil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00cc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e Seiten sind relativ klein (256 Byte - 4 kBy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00cc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 Prozess wird auf viele dieser Seiten verteilt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keine logischen Zusammenhänge wie bei der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gmentieru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000" spc="-1" strike="noStrike">
                <a:solidFill>
                  <a:srgbClr val="000099"/>
                </a:solidFill>
                <a:latin typeface="Arial"/>
              </a:rPr>
              <a:t>Segmentierung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56320" y="1220760"/>
            <a:ext cx="8818920" cy="48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Arial"/>
              </a:rPr>
              <a:t>Vortei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gmentierung spiegelt logische Programmstruktur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ied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urch große Segmente relativ seltener Datentransf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Arial"/>
              </a:rPr>
              <a:t>Nachteile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enn Datentransfer, dann jedoch umfangrei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steht ein Programm nur aus einem Code- und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aten-Segment (wird vom Compiler oder Benutzer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estgelegt), so muss es vollständig eingelagert werd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000" spc="-1" strike="noStrike">
                <a:solidFill>
                  <a:srgbClr val="000099"/>
                </a:solidFill>
                <a:latin typeface="Arial"/>
              </a:rPr>
              <a:t>Seitenaufteilung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429000" y="2571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60280" y="1135080"/>
            <a:ext cx="8475840" cy="32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Arial"/>
              </a:rPr>
              <a:t>Vortei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durch kleine Seiten wird nur der wirklich benötigte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Teil eines Programms eingelager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geringerer Verwaltungsaufwand als Segmentie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Arial"/>
              </a:rPr>
              <a:t>Nachteil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häufiger Datentrans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95720" y="4844880"/>
            <a:ext cx="827316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Ältere Prozessoren unterstützten jeweils nur ein Verfahren, z.B. Segmentierung </a:t>
            </a:r>
            <a:br>
              <a:rPr sz="1800"/>
            </a:br>
            <a:r>
              <a:rPr b="0" sz="1800" spc="-1" strike="noStrike">
                <a:solidFill>
                  <a:srgbClr val="000000"/>
                </a:solidFill>
                <a:latin typeface="Arial"/>
              </a:rPr>
              <a:t>bei 80286, 68010 und Seitenwechsel bei Z8003/4, National 3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Heutige Mikroprozessoren, z.B. 80386, 80486, Pentium, ... unterstützen beide </a:t>
            </a:r>
            <a:br>
              <a:rPr sz="1800"/>
            </a:br>
            <a:r>
              <a:rPr b="0" sz="1800" spc="-1" strike="noStrike">
                <a:solidFill>
                  <a:srgbClr val="000000"/>
                </a:solidFill>
                <a:latin typeface="Arial"/>
              </a:rPr>
              <a:t>Verfahr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99"/>
                </a:solidFill>
                <a:latin typeface="Arial"/>
              </a:rPr>
              <a:t>4.3 Probleme der virtuellen Speicherverwaltung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93840" y="1260360"/>
            <a:ext cx="8165880" cy="43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Beim Austausch von Daten zwischen Arbeits- und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Hintergundspeicher ergeben sich drei Problemkrei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ff"/>
                </a:solidFill>
                <a:latin typeface="Arial"/>
              </a:rPr>
              <a:t>1. </a:t>
            </a:r>
            <a:r>
              <a:rPr b="1" lang="de-DE" sz="24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3333ff"/>
                </a:solidFill>
                <a:latin typeface="Arial"/>
              </a:rPr>
              <a:t>Der Einlagerungszeitpunk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ann werden Segmente oder Seiten in den Arbeitsspeicher eingelagert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Gängiges Verfahren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lagerung auf Anforderung (Demand Paging bei Seitenverfahr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99"/>
                </a:solidFill>
                <a:latin typeface="Arial"/>
              </a:rPr>
              <a:t>4.3 Probleme der virtuellen Speicherverwaltung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90680" y="1409760"/>
            <a:ext cx="8073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ff"/>
                </a:solidFill>
                <a:latin typeface="Arial"/>
              </a:rPr>
              <a:t>Einlagerung auf Anforderung </a:t>
            </a:r>
            <a:r>
              <a:rPr b="0" i="1" lang="de-DE" sz="2400" spc="-1" strike="noStrike">
                <a:solidFill>
                  <a:srgbClr val="3333ff"/>
                </a:solidFill>
                <a:latin typeface="Arial"/>
              </a:rPr>
              <a:t>(Demand Paging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ierbei werden Daten eingelagert, sobald auf sie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ugegriffen wird, sie sich aber nicht im Arbeitsspeicher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find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er Zugriff auf ein nicht im Arbeitsspeicher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orhandenes Segment oder Seite heißt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egment-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oder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eiten-Fehler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(segment fault, page fault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99"/>
                </a:solidFill>
                <a:latin typeface="Arial"/>
              </a:rPr>
              <a:t>4.3 Probleme der virtuellen Speicherverwaltung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31640" y="1155600"/>
            <a:ext cx="8251920" cy="507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ff"/>
                </a:solidFill>
                <a:latin typeface="Arial"/>
              </a:rPr>
              <a:t>2. Das Zuweisungs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An welche Stelle des Arbeitsspeichers werden die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Seiten oder Segmente eingelagert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ff"/>
                </a:solidFill>
                <a:latin typeface="Arial"/>
              </a:rPr>
              <a:t>Bei Segmentierungsverfahren:</a:t>
            </a:r>
            <a:r>
              <a:rPr b="0" lang="de-DE" sz="2400" spc="-1" strike="noStrike">
                <a:solidFill>
                  <a:srgbClr val="3333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ier muss eine ausreichend große Lücke im Arbeitsspeicher gefunden werd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ff"/>
                </a:solidFill>
                <a:latin typeface="Arial"/>
              </a:rPr>
              <a:t>Drei Strategi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first-fit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rste passende Lücke wird genom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best-fit 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leinste passende Lücke wird genom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worst-fit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rößte passende Lücke wird genom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3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3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3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3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3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3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3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3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99"/>
                </a:solidFill>
                <a:latin typeface="Arial"/>
              </a:rPr>
              <a:t>Speicherhierarchie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09760" y="1481040"/>
            <a:ext cx="8124480" cy="38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99"/>
                </a:solidFill>
                <a:latin typeface="Arial"/>
              </a:rPr>
              <a:t>4.3 Probleme der virtuellen Speicherverwaltung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403560" y="1200240"/>
            <a:ext cx="814968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ff"/>
                </a:solidFill>
                <a:latin typeface="Arial"/>
              </a:rPr>
              <a:t>Problem bei allen drei Verfahr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er Speicher zerfällt nach einiger Zeit in belegte und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nbelegte Speicherbereiche </a:t>
            </a:r>
            <a:r>
              <a:rPr b="0" lang="de-DE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ff0000"/>
                </a:solidFill>
                <a:latin typeface="Arial"/>
              </a:rPr>
              <a:t>externe Fragmentieru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00320" y="4657680"/>
            <a:ext cx="8492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e unbelegten Speicherbereiche sind hierbei oft zu klein,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m Segmente aufnehmen zu kön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315120" y="3500280"/>
            <a:ext cx="1047600" cy="486000"/>
          </a:xfrm>
          <a:prstGeom prst="rect">
            <a:avLst/>
          </a:prstGeom>
          <a:solidFill>
            <a:srgbClr val="ffe26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gment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715000" y="3500280"/>
            <a:ext cx="600120" cy="48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re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667400" y="3500280"/>
            <a:ext cx="1047600" cy="486000"/>
          </a:xfrm>
          <a:prstGeom prst="rect">
            <a:avLst/>
          </a:prstGeom>
          <a:solidFill>
            <a:srgbClr val="ffe26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gment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457360" y="3500280"/>
            <a:ext cx="1047960" cy="486000"/>
          </a:xfrm>
          <a:prstGeom prst="rect">
            <a:avLst/>
          </a:prstGeom>
          <a:solidFill>
            <a:srgbClr val="ffe26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gment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076400" y="3500280"/>
            <a:ext cx="1047600" cy="486000"/>
          </a:xfrm>
          <a:prstGeom prst="rect">
            <a:avLst/>
          </a:prstGeom>
          <a:solidFill>
            <a:srgbClr val="ffe26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gment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124000" y="3500280"/>
            <a:ext cx="333360" cy="48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re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7362720" y="3500280"/>
            <a:ext cx="600120" cy="48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re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505320" y="3505320"/>
            <a:ext cx="122868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476520" y="3990960"/>
            <a:ext cx="122868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846960" y="35845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re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089360" y="3078000"/>
            <a:ext cx="193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rbeitsspeic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99"/>
                </a:solidFill>
                <a:latin typeface="Arial"/>
              </a:rPr>
              <a:t>4.3 Probleme der virtuellen Speicherverwaltung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431640" y="1155600"/>
            <a:ext cx="8347320" cy="50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7628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ff"/>
                </a:solidFill>
                <a:latin typeface="Arial"/>
              </a:rPr>
              <a:t>Zuweisungsproblem bei Seitenwechselverfah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7628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7628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Hier taucht dieses Problem nicht auf, da alle Seiten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gleich groß sind und somit immer “passende Lücken” entstehen </a:t>
            </a:r>
            <a:r>
              <a:rPr b="0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keine externe Fragmentierung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7628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7628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edoch: Problem der </a:t>
            </a:r>
            <a:r>
              <a:rPr b="1" sz="2400" spc="-1" strike="noStrike">
                <a:solidFill>
                  <a:srgbClr val="ff0000"/>
                </a:solidFill>
                <a:latin typeface="Arial"/>
              </a:rPr>
              <a:t>internen Fragmentie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7628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7628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Diese entsteht bei der Aufteilung eines Programms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auf die Seite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7628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7628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Einheitliche Seitengröße </a:t>
            </a:r>
            <a:r>
              <a:rPr b="0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auf der letzten Seite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jedes Programm-Moduls entsteht mit hoher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Wahrscheinlichkeit ein ungenutzter Leerraum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4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4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4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4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4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4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99"/>
                </a:solidFill>
                <a:latin typeface="Arial"/>
              </a:rPr>
              <a:t>4.3 Probleme der virtuellen Speicherverwaltung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31640" y="1069920"/>
            <a:ext cx="8232840" cy="56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66720"/>
                <a:tab algn="l" pos="114300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ff"/>
                </a:solidFill>
                <a:latin typeface="Arial"/>
              </a:rPr>
              <a:t>3. Das Ersetzungs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666720"/>
                <a:tab algn="l" pos="114300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Welche Segmente oder Seiten müssen ausgelagert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werden, um Platz für neu benötigte Daten zu schaffen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666720"/>
                <a:tab algn="l" pos="114300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666720"/>
                <a:tab algn="l" pos="114300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ff"/>
                </a:solidFill>
                <a:latin typeface="Arial"/>
              </a:rPr>
              <a:t>Bei Segmentierungsverfahren:</a:t>
            </a:r>
            <a:r>
              <a:rPr b="0" lang="de-DE" sz="2400" spc="-1" strike="noStrike">
                <a:solidFill>
                  <a:srgbClr val="3333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666720"/>
                <a:tab algn="l" pos="114300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Meist wird die Anzahl der gleichzeitig von einem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Prozeß benutzbaren Segmente limitier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666720"/>
                <a:tab algn="l" pos="114300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bei Einlagerung eines neuen Segments wird ein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zuvor für diesen Prozeß benutztes Segment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ausgelage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666720"/>
                <a:tab algn="l" pos="114300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Es ist jedoch auch eine der im folgenden für Seiten-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wechsel-Verfahren beschriebenen Methoden mögli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4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4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4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4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99"/>
                </a:solidFill>
                <a:latin typeface="Arial"/>
              </a:rPr>
              <a:t>4.3 Probleme der virtuellen Speicherverwaltung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36600" y="1298520"/>
            <a:ext cx="8242200" cy="40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85716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ff"/>
                </a:solidFill>
                <a:latin typeface="Arial"/>
              </a:rPr>
              <a:t>Ersetzungsproblem bei Seitenwechselverfah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85716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5 gängigste Strategien zum Ersetzen einer Seit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716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85716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FIFO (</a:t>
            </a:r>
            <a:r>
              <a:rPr b="1" i="1" sz="2400" spc="-1" strike="noStrike">
                <a:solidFill>
                  <a:srgbClr val="000000"/>
                </a:solidFill>
                <a:latin typeface="Arial"/>
              </a:rPr>
              <a:t>first-in-first-out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):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die sich am längsten im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Arbeitsspeicher befindende Seite wird ersetz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85716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LIFO (</a:t>
            </a:r>
            <a:r>
              <a:rPr b="1" i="1" sz="2400" spc="-1" strike="noStrike">
                <a:solidFill>
                  <a:srgbClr val="000000"/>
                </a:solidFill>
                <a:latin typeface="Arial"/>
              </a:rPr>
              <a:t>last-in-first-out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):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die zuletzt eingelagerte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Seite wird ersetz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85716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LRU (</a:t>
            </a:r>
            <a:r>
              <a:rPr b="1" i="1" sz="2400" spc="-1" strike="noStrike">
                <a:solidFill>
                  <a:srgbClr val="000000"/>
                </a:solidFill>
                <a:latin typeface="Arial"/>
              </a:rPr>
              <a:t>least recently used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):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die Seite, auf die am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längsten nicht zugegriffen wurde, wird ersetz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4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4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99"/>
                </a:solidFill>
                <a:latin typeface="Arial"/>
              </a:rPr>
              <a:t>4.3 Probleme der virtuellen Speicherverwaltung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422280" y="1266840"/>
            <a:ext cx="8242200" cy="42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85716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LFU (</a:t>
            </a:r>
            <a:r>
              <a:rPr b="1" i="1" sz="2400" spc="-1" strike="noStrike">
                <a:solidFill>
                  <a:srgbClr val="000000"/>
                </a:solidFill>
                <a:latin typeface="Arial"/>
              </a:rPr>
              <a:t>least frequently used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):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die seit ihrer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Einlagerung am seltensten benutzte Seite wird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ersetz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85716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LRD (</a:t>
            </a:r>
            <a:r>
              <a:rPr b="1" i="1" sz="2400" spc="-1" strike="noStrike">
                <a:solidFill>
                  <a:srgbClr val="000000"/>
                </a:solidFill>
                <a:latin typeface="Arial"/>
              </a:rPr>
              <a:t>least reference density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) :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Mischung aus LRU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und LFU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 D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ie Seite mit der geringsten Zugriffdichte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(Anzahl Zugriffe / Einlagerungszeitraum) wird ersetz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716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85716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Daneben werden bevorzugt solche Seiten ersetzt, die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nicht verändert wurden </a:t>
            </a:r>
            <a:r>
              <a:rPr b="0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kein Rückschreiben der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geänderten Seite erforderlich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5724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4.4   Cache und Speicherverwaltungseinhei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554400" y="1173240"/>
            <a:ext cx="8135280" cy="244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Zwei Möglichkeiten der Cache-Einbindung bei virtueller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Speicherverwaltu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SzPct val="75000"/>
              <a:buFont typeface="Monotype Sorts" charset="2"/>
              <a:buChar char="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Virtueller Cach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wird zwischen CPU und MMU gelegt. Die höherwertigen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Bits der logischen Adressen als Tags abgeleg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990720" y="3994200"/>
            <a:ext cx="6819840" cy="1923840"/>
            <a:chOff x="990720" y="3994200"/>
            <a:chExt cx="6819840" cy="1923840"/>
          </a:xfrm>
        </p:grpSpPr>
        <p:sp>
          <p:nvSpPr>
            <p:cNvPr id="416" name=""/>
            <p:cNvSpPr/>
            <p:nvPr/>
          </p:nvSpPr>
          <p:spPr>
            <a:xfrm>
              <a:off x="990720" y="4156200"/>
              <a:ext cx="1171440" cy="176184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CP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590920" y="4772160"/>
              <a:ext cx="838080" cy="571320"/>
            </a:xfrm>
            <a:prstGeom prst="rect">
              <a:avLst/>
            </a:prstGeom>
            <a:solidFill>
              <a:srgbClr val="ff99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Cach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000680" y="4183200"/>
              <a:ext cx="1171440" cy="1171440"/>
            </a:xfrm>
            <a:prstGeom prst="rect">
              <a:avLst/>
            </a:prstGeom>
            <a:solidFill>
              <a:srgbClr val="c5e2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MM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600960" y="4175280"/>
              <a:ext cx="1209600" cy="17240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Speich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162160" y="5781600"/>
              <a:ext cx="4438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162160" y="4324320"/>
              <a:ext cx="1838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172120" y="4324320"/>
              <a:ext cx="1428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000240" y="4343400"/>
              <a:ext cx="0" cy="419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009960" y="5353200"/>
              <a:ext cx="0" cy="438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945240" y="5470560"/>
              <a:ext cx="72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Dat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162160" y="3994200"/>
              <a:ext cx="1729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logische Adres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124600" y="4003560"/>
              <a:ext cx="139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physikalische</a:t>
              </a:r>
              <a:br>
                <a:rPr sz="1600"/>
              </a:b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Adres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4.4   Cache und Speicherverwaltungseinhei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611640" y="1287360"/>
            <a:ext cx="757620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SzPct val="75000"/>
              <a:buFont typeface="Monotype Sorts" charset="2"/>
              <a:buChar char="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hysikalischer Cach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wird zwischen MMU und Speicher gelegt.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Die höherwertigen Bits der physikalischen Adressen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werden als Tags abgeleg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285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0" name=""/>
          <p:cNvGrpSpPr/>
          <p:nvPr/>
        </p:nvGrpSpPr>
        <p:grpSpPr>
          <a:xfrm>
            <a:off x="990720" y="3994200"/>
            <a:ext cx="6819840" cy="1923840"/>
            <a:chOff x="990720" y="3994200"/>
            <a:chExt cx="6819840" cy="1923840"/>
          </a:xfrm>
        </p:grpSpPr>
        <p:sp>
          <p:nvSpPr>
            <p:cNvPr id="431" name=""/>
            <p:cNvSpPr/>
            <p:nvPr/>
          </p:nvSpPr>
          <p:spPr>
            <a:xfrm>
              <a:off x="990720" y="4156200"/>
              <a:ext cx="1171440" cy="176184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CP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572080" y="4762440"/>
              <a:ext cx="838080" cy="571680"/>
            </a:xfrm>
            <a:prstGeom prst="rect">
              <a:avLst/>
            </a:prstGeom>
            <a:solidFill>
              <a:srgbClr val="ff99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Cach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000680" y="4183200"/>
              <a:ext cx="1171440" cy="1171440"/>
            </a:xfrm>
            <a:prstGeom prst="rect">
              <a:avLst/>
            </a:prstGeom>
            <a:solidFill>
              <a:srgbClr val="c5e2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MM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600960" y="4175280"/>
              <a:ext cx="1209600" cy="17240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Speich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162160" y="5781600"/>
              <a:ext cx="4438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162160" y="4324320"/>
              <a:ext cx="1838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172120" y="4324320"/>
              <a:ext cx="1428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048360" y="4334040"/>
              <a:ext cx="0" cy="419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058080" y="5343480"/>
              <a:ext cx="0" cy="438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945240" y="5470560"/>
              <a:ext cx="72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Dat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162160" y="3994200"/>
              <a:ext cx="1729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logische Adres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124600" y="4003560"/>
              <a:ext cx="139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physikalische</a:t>
              </a:r>
              <a:br>
                <a:rPr sz="1600"/>
              </a:b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Adres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600" spc="-1" strike="noStrike">
                <a:solidFill>
                  <a:srgbClr val="000099"/>
                </a:solidFill>
                <a:latin typeface="Arial"/>
              </a:rPr>
              <a:t>Virtueller und physikalischer Cache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61000" y="1316160"/>
            <a:ext cx="8166600" cy="45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cc66"/>
                </a:solidFill>
                <a:latin typeface="Arial"/>
              </a:rPr>
              <a:t>Vorteile des virtuellen Cach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bei Treffern wird die MMU nicht benötig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cc66"/>
                </a:solidFill>
                <a:latin typeface="Arial"/>
              </a:rPr>
              <a:t>Vorteile des physikalischen Cach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physikalische Adresse ist i.A. viel kleiner als die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logische Adresse  </a:t>
            </a:r>
            <a:r>
              <a:rPr b="0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weniger Bits müssen als Tag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gespeichert werde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befindet sich die MMU auf dem Prozessorchip,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so kann nur der physikalische Cache außerhalb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erweitert werde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4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4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4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4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4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4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4.5 Segmentbasierte Speicherverwaltung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1652760" y="2666880"/>
            <a:ext cx="2965320" cy="2268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rot="5400000">
            <a:off x="20160" y="3560760"/>
            <a:ext cx="2278080" cy="480960"/>
          </a:xfrm>
          <a:custGeom>
            <a:avLst/>
            <a:gdLst>
              <a:gd name="textAreaLeft" fmla="*/ 285840 w 2278080"/>
              <a:gd name="textAreaRight" fmla="*/ 1992240 w 2278080"/>
              <a:gd name="textAreaTop" fmla="*/ 60120 h 480960"/>
              <a:gd name="textAreaBottom" fmla="*/ 420840 h 480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869" y="21600"/>
                </a:lnTo>
                <a:lnTo>
                  <a:pt x="1731" y="2160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949560" y="5796000"/>
            <a:ext cx="3498840" cy="3380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949560" y="1523880"/>
            <a:ext cx="3498840" cy="3384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943520" y="1523880"/>
            <a:ext cx="0" cy="343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879360" y="126360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860360" y="126360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7202160" y="12636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907800" y="553068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7230960" y="55306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867040" y="2676600"/>
            <a:ext cx="0" cy="2266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1643040" y="2666880"/>
            <a:ext cx="2965320" cy="239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652760" y="2905200"/>
            <a:ext cx="2965320" cy="239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652760" y="3143160"/>
            <a:ext cx="2965320" cy="239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652760" y="4686480"/>
            <a:ext cx="2965320" cy="239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390680" y="2800440"/>
            <a:ext cx="276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390680" y="3029040"/>
            <a:ext cx="276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400040" y="3276720"/>
            <a:ext cx="27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400040" y="4800600"/>
            <a:ext cx="27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163520" y="2668680"/>
            <a:ext cx="279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0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78480" y="461160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5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774440" y="3544920"/>
            <a:ext cx="9532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4-Bit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gment-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länge in 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y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182400" y="3757680"/>
            <a:ext cx="1253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eale 32-Bit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asisadres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603080" y="1477800"/>
            <a:ext cx="210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irtuelle Adres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1188360" y="5764320"/>
            <a:ext cx="273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hysikalische Adres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1" name=""/>
          <p:cNvGrpSpPr/>
          <p:nvPr/>
        </p:nvGrpSpPr>
        <p:grpSpPr>
          <a:xfrm>
            <a:off x="1104840" y="1535040"/>
            <a:ext cx="3743640" cy="1255680"/>
            <a:chOff x="1104840" y="1535040"/>
            <a:chExt cx="3743640" cy="1255680"/>
          </a:xfrm>
        </p:grpSpPr>
        <p:sp>
          <p:nvSpPr>
            <p:cNvPr id="472" name=""/>
            <p:cNvSpPr/>
            <p:nvPr/>
          </p:nvSpPr>
          <p:spPr>
            <a:xfrm>
              <a:off x="1104840" y="1857240"/>
              <a:ext cx="3314880" cy="933480"/>
            </a:xfrm>
            <a:custGeom>
              <a:avLst/>
              <a:gdLst/>
              <a:ahLst/>
              <a:rect l="l" t="t" r="r" b="b"/>
              <a:pathLst>
                <a:path w="2088" h="588">
                  <a:moveTo>
                    <a:pt x="2088" y="0"/>
                  </a:moveTo>
                  <a:lnTo>
                    <a:pt x="2088" y="240"/>
                  </a:lnTo>
                  <a:lnTo>
                    <a:pt x="0" y="240"/>
                  </a:lnTo>
                  <a:lnTo>
                    <a:pt x="0" y="58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flipH="1">
              <a:off x="4343040" y="2049480"/>
              <a:ext cx="152280" cy="104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433760" y="19494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003200" y="153504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Seg.-Nr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561840" y="1535040"/>
            <a:ext cx="3067920" cy="4256280"/>
            <a:chOff x="3561840" y="1535040"/>
            <a:chExt cx="3067920" cy="4256280"/>
          </a:xfrm>
        </p:grpSpPr>
        <p:sp>
          <p:nvSpPr>
            <p:cNvPr id="477" name=""/>
            <p:cNvSpPr/>
            <p:nvPr/>
          </p:nvSpPr>
          <p:spPr>
            <a:xfrm>
              <a:off x="3679200" y="4978440"/>
              <a:ext cx="37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3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638520" y="4924440"/>
              <a:ext cx="1886040" cy="380880"/>
            </a:xfrm>
            <a:custGeom>
              <a:avLst/>
              <a:gdLst/>
              <a:ahLst/>
              <a:rect l="l" t="t" r="r" b="b"/>
              <a:pathLst>
                <a:path w="1188" h="240">
                  <a:moveTo>
                    <a:pt x="0" y="0"/>
                  </a:moveTo>
                  <a:lnTo>
                    <a:pt x="0" y="240"/>
                  </a:lnTo>
                  <a:lnTo>
                    <a:pt x="1188" y="24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 flipH="1">
              <a:off x="3561840" y="5086440"/>
              <a:ext cx="133560" cy="123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0" name=""/>
            <p:cNvGrpSpPr/>
            <p:nvPr/>
          </p:nvGrpSpPr>
          <p:grpSpPr>
            <a:xfrm>
              <a:off x="5516640" y="1535040"/>
              <a:ext cx="1113120" cy="4256280"/>
              <a:chOff x="5516640" y="1535040"/>
              <a:chExt cx="1113120" cy="4256280"/>
            </a:xfrm>
          </p:grpSpPr>
          <p:sp>
            <p:nvSpPr>
              <p:cNvPr id="481" name=""/>
              <p:cNvSpPr/>
              <p:nvPr/>
            </p:nvSpPr>
            <p:spPr>
              <a:xfrm>
                <a:off x="5516640" y="5168880"/>
                <a:ext cx="293760" cy="2761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5810400" y="1866960"/>
                <a:ext cx="399960" cy="3438360"/>
              </a:xfrm>
              <a:custGeom>
                <a:avLst/>
                <a:gdLst/>
                <a:ahLst/>
                <a:rect l="l" t="t" r="r" b="b"/>
                <a:pathLst>
                  <a:path w="252" h="1980">
                    <a:moveTo>
                      <a:pt x="252" y="0"/>
                    </a:moveTo>
                    <a:lnTo>
                      <a:pt x="252" y="1980"/>
                    </a:lnTo>
                    <a:lnTo>
                      <a:pt x="0" y="198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5657760" y="5448240"/>
                <a:ext cx="0" cy="343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 flipH="1">
                <a:off x="6143760" y="2039760"/>
                <a:ext cx="133200" cy="123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 flipH="1">
                <a:off x="5591160" y="5505480"/>
                <a:ext cx="133200" cy="123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5727240" y="5425920"/>
                <a:ext cx="378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400" spc="-1" strike="noStrike">
                    <a:solidFill>
                      <a:srgbClr val="000000"/>
                    </a:solidFill>
                    <a:latin typeface="Arial"/>
                  </a:rPr>
                  <a:t>3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6251040" y="1949400"/>
                <a:ext cx="378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400" spc="-1" strike="noStrike">
                    <a:solidFill>
                      <a:srgbClr val="000000"/>
                    </a:solidFill>
                    <a:latin typeface="Arial"/>
                  </a:rPr>
                  <a:t>2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5679720" y="1535040"/>
                <a:ext cx="835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400" spc="-1" strike="noStrike">
                    <a:solidFill>
                      <a:srgbClr val="000000"/>
                    </a:solidFill>
                    <a:latin typeface="Arial"/>
                  </a:rPr>
                  <a:t>Byte-Nr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89" name=""/>
          <p:cNvSpPr/>
          <p:nvPr/>
        </p:nvSpPr>
        <p:spPr>
          <a:xfrm>
            <a:off x="1589760" y="2332080"/>
            <a:ext cx="17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egmenttabel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0" name=""/>
          <p:cNvGrpSpPr/>
          <p:nvPr/>
        </p:nvGrpSpPr>
        <p:grpSpPr>
          <a:xfrm>
            <a:off x="2000160" y="2603520"/>
            <a:ext cx="2082600" cy="356400"/>
            <a:chOff x="2000160" y="2603520"/>
            <a:chExt cx="2082600" cy="356400"/>
          </a:xfrm>
        </p:grpSpPr>
        <p:sp>
          <p:nvSpPr>
            <p:cNvPr id="491" name=""/>
            <p:cNvSpPr/>
            <p:nvPr/>
          </p:nvSpPr>
          <p:spPr>
            <a:xfrm>
              <a:off x="2000160" y="2603520"/>
              <a:ext cx="63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793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38280" y="2622600"/>
              <a:ext cx="744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1025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3" name=""/>
          <p:cNvGrpSpPr/>
          <p:nvPr/>
        </p:nvGrpSpPr>
        <p:grpSpPr>
          <a:xfrm>
            <a:off x="2055600" y="2851200"/>
            <a:ext cx="2027160" cy="346680"/>
            <a:chOff x="2055600" y="2851200"/>
            <a:chExt cx="2027160" cy="346680"/>
          </a:xfrm>
        </p:grpSpPr>
        <p:sp>
          <p:nvSpPr>
            <p:cNvPr id="494" name=""/>
            <p:cNvSpPr/>
            <p:nvPr/>
          </p:nvSpPr>
          <p:spPr>
            <a:xfrm>
              <a:off x="2055600" y="2851200"/>
              <a:ext cx="51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25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338280" y="2860560"/>
              <a:ext cx="744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10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6" name=""/>
          <p:cNvGrpSpPr/>
          <p:nvPr/>
        </p:nvGrpSpPr>
        <p:grpSpPr>
          <a:xfrm>
            <a:off x="2000160" y="3089160"/>
            <a:ext cx="2082600" cy="337320"/>
            <a:chOff x="2000160" y="3089160"/>
            <a:chExt cx="2082600" cy="337320"/>
          </a:xfrm>
        </p:grpSpPr>
        <p:sp>
          <p:nvSpPr>
            <p:cNvPr id="497" name=""/>
            <p:cNvSpPr/>
            <p:nvPr/>
          </p:nvSpPr>
          <p:spPr>
            <a:xfrm>
              <a:off x="2000160" y="3089160"/>
              <a:ext cx="63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384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3338280" y="3089160"/>
              <a:ext cx="744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1819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egmentbasierte Speicherverwaltung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365040" y="1119240"/>
            <a:ext cx="8620200" cy="50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spcBef>
                <a:spcPts val="499"/>
              </a:spcBef>
              <a:buClr>
                <a:srgbClr val="00cc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irtuelle Adresse wird in eine Segmentnummer (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öherwertige Bits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er virtuellen Adresse) als Kennung eines Segments und in eine Bytenummer (verbleibend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its der Adresse) als Abstand zum Segmentanfa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499"/>
              </a:spcBef>
              <a:buClr>
                <a:srgbClr val="00cc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aximale virtuelle Segmentanzahl =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de-DE" sz="2000" spc="-1" strike="noStrike" baseline="30000">
                <a:solidFill>
                  <a:srgbClr val="000000"/>
                </a:solidFill>
                <a:latin typeface="Arial"/>
              </a:rPr>
              <a:t>n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Maximale Segmentgröße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de-DE" sz="20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499"/>
              </a:spcBef>
              <a:buClr>
                <a:srgbClr val="00cc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e Adreßabbildung erfolgt über eine Segmenttabelle (im Registerspeicher der MMU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499"/>
              </a:spcBef>
              <a:buClr>
                <a:srgbClr val="00cc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ale Adresse ergibt sich aus der Segmentbasisadresse, zu der die virtuelle Bytenummmer addiert wir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499"/>
              </a:spcBef>
              <a:buClr>
                <a:srgbClr val="00cc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egmentlängenangaben in der Segmenttabelle, um segement-überschreitende Zugriffe feststellen und ggf. verhindern zu könn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499"/>
              </a:spcBef>
              <a:buClr>
                <a:srgbClr val="00cc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i Segmenten mit einer geringeren Größe als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de-DE" sz="20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gilt der ungenutzte Raum als Verschnit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499"/>
              </a:spcBef>
              <a:buClr>
                <a:srgbClr val="00cc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ute Ausnutzung des Hauptspeichers, wenn man die Segmentgrenzen an jeder Byteadresse zuläss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99"/>
                </a:solidFill>
                <a:latin typeface="Arial"/>
              </a:rPr>
              <a:t>4.1 Grundprinzip und Zusammenhang mit dem Betriebsystem</a:t>
            </a:r>
            <a:endParaRPr b="0" lang="en-US" sz="25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93840" y="1249200"/>
            <a:ext cx="7580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efinition des Begriffs "Betriebssystem“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24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z.B. nach dem Deutschen Institut für Normung (DIN 44300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95360" y="2238480"/>
            <a:ext cx="8296200" cy="2076480"/>
          </a:xfrm>
          <a:prstGeom prst="flowChartProcess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0" rIns="180000" tIns="72000" bIns="72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ff"/>
                </a:solidFill>
                <a:latin typeface="Arial"/>
              </a:rPr>
              <a:t>Ein Betriebsystem umfasst die Programme eines digitalen </a:t>
            </a:r>
            <a:br>
              <a:rPr sz="2400"/>
            </a:br>
            <a:r>
              <a:rPr b="0" lang="de-DE" sz="2400" spc="-1" strike="noStrike">
                <a:solidFill>
                  <a:srgbClr val="3333ff"/>
                </a:solidFill>
                <a:latin typeface="Arial"/>
              </a:rPr>
              <a:t>Rechensystems, die zusammen mit den Eigenschaften der </a:t>
            </a:r>
            <a:br>
              <a:rPr sz="2400"/>
            </a:br>
            <a:r>
              <a:rPr b="0" lang="de-DE" sz="2400" spc="-1" strike="noStrike">
                <a:solidFill>
                  <a:srgbClr val="3333ff"/>
                </a:solidFill>
                <a:latin typeface="Arial"/>
              </a:rPr>
              <a:t>Rechenanlage die Grundlage der möglichen Betriebsarten </a:t>
            </a:r>
            <a:br>
              <a:rPr sz="2400"/>
            </a:br>
            <a:r>
              <a:rPr b="0" lang="de-DE" sz="2400" spc="-1" strike="noStrike">
                <a:solidFill>
                  <a:srgbClr val="3333ff"/>
                </a:solidFill>
                <a:latin typeface="Arial"/>
              </a:rPr>
              <a:t>des digitalen Rechensystems bilden und insbesondere die </a:t>
            </a:r>
            <a:br>
              <a:rPr sz="2400"/>
            </a:br>
            <a:r>
              <a:rPr b="0" lang="de-DE" sz="2400" spc="-1" strike="noStrike">
                <a:solidFill>
                  <a:srgbClr val="3333ff"/>
                </a:solidFill>
                <a:latin typeface="Arial"/>
              </a:rPr>
              <a:t>Abwicklung von Programmen steuern und überwach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94640" y="4535640"/>
            <a:ext cx="8260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iel eines Betriebsystems ist es, die semantische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ücke zwischen Anwendung (wünscht möglichst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ohe Operationen) und Hardware (bietet elementare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Operationen) zu verkleiner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5864400" y="2139840"/>
            <a:ext cx="1973160" cy="1239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864400" y="2149560"/>
            <a:ext cx="1973160" cy="374472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864400" y="2143080"/>
            <a:ext cx="1973160" cy="37767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472080" y="589428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088960" y="1614600"/>
            <a:ext cx="1360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Physikalische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asisadres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634880" y="536256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5659920" y="536256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521000" y="1854360"/>
            <a:ext cx="1973160" cy="1239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521000" y="3111480"/>
            <a:ext cx="1973160" cy="1239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Virtueller und physikalischer Adressraum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1521000" y="1857240"/>
            <a:ext cx="1973160" cy="4015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1521000" y="5594400"/>
            <a:ext cx="1973160" cy="23976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128680" y="5608800"/>
            <a:ext cx="184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547080" y="1309680"/>
            <a:ext cx="886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Virtuelle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Seg.-N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521000" y="4368960"/>
            <a:ext cx="1973160" cy="1239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3292920" y="255276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299240" y="255420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865960" y="5334120"/>
            <a:ext cx="68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6M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292920" y="377028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17960" y="377028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3291480" y="507672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316520" y="507672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252080" y="5783400"/>
            <a:ext cx="26298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irtueller Adressra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5263200" y="5735520"/>
            <a:ext cx="32562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hysikalischer Adressra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549600" y="17859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549600" y="30528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549600" y="43671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8" name=""/>
          <p:cNvGrpSpPr/>
          <p:nvPr/>
        </p:nvGrpSpPr>
        <p:grpSpPr>
          <a:xfrm>
            <a:off x="3809880" y="1943280"/>
            <a:ext cx="5335200" cy="1866600"/>
            <a:chOff x="3809880" y="1943280"/>
            <a:chExt cx="5335200" cy="1866600"/>
          </a:xfrm>
        </p:grpSpPr>
        <p:sp>
          <p:nvSpPr>
            <p:cNvPr id="529" name=""/>
            <p:cNvSpPr/>
            <p:nvPr/>
          </p:nvSpPr>
          <p:spPr>
            <a:xfrm>
              <a:off x="5864400" y="3102120"/>
              <a:ext cx="1973160" cy="6588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8058240" y="312408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8101800" y="3457440"/>
              <a:ext cx="1043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Segment 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234040" y="2948040"/>
              <a:ext cx="676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1025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809880" y="1943280"/>
              <a:ext cx="1447920" cy="1190520"/>
            </a:xfrm>
            <a:custGeom>
              <a:avLst/>
              <a:gdLst/>
              <a:ahLst/>
              <a:rect l="l" t="t" r="r" b="b"/>
              <a:pathLst>
                <a:path w="912" h="930">
                  <a:moveTo>
                    <a:pt x="0" y="0"/>
                  </a:moveTo>
                  <a:lnTo>
                    <a:pt x="276" y="0"/>
                  </a:lnTo>
                  <a:lnTo>
                    <a:pt x="666" y="930"/>
                  </a:lnTo>
                  <a:lnTo>
                    <a:pt x="912" y="93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3809880" y="2614680"/>
            <a:ext cx="5335200" cy="594360"/>
            <a:chOff x="3809880" y="2614680"/>
            <a:chExt cx="5335200" cy="594360"/>
          </a:xfrm>
        </p:grpSpPr>
        <p:sp>
          <p:nvSpPr>
            <p:cNvPr id="535" name=""/>
            <p:cNvSpPr/>
            <p:nvPr/>
          </p:nvSpPr>
          <p:spPr>
            <a:xfrm>
              <a:off x="8101800" y="2800080"/>
              <a:ext cx="1043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Segment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864400" y="2777760"/>
              <a:ext cx="1973160" cy="3250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8048520" y="2781000"/>
              <a:ext cx="0" cy="323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234040" y="2614680"/>
              <a:ext cx="676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100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 flipV="1">
              <a:off x="3809880" y="2751840"/>
              <a:ext cx="1447920" cy="456840"/>
            </a:xfrm>
            <a:custGeom>
              <a:avLst/>
              <a:gdLst/>
              <a:ahLst/>
              <a:rect l="l" t="t" r="r" b="b"/>
              <a:pathLst>
                <a:path w="912" h="930">
                  <a:moveTo>
                    <a:pt x="0" y="0"/>
                  </a:moveTo>
                  <a:lnTo>
                    <a:pt x="276" y="0"/>
                  </a:lnTo>
                  <a:lnTo>
                    <a:pt x="666" y="930"/>
                  </a:lnTo>
                  <a:lnTo>
                    <a:pt x="912" y="93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0" name=""/>
          <p:cNvGrpSpPr/>
          <p:nvPr/>
        </p:nvGrpSpPr>
        <p:grpSpPr>
          <a:xfrm>
            <a:off x="3819600" y="3605040"/>
            <a:ext cx="5325480" cy="964440"/>
            <a:chOff x="3819600" y="3605040"/>
            <a:chExt cx="5325480" cy="964440"/>
          </a:xfrm>
        </p:grpSpPr>
        <p:sp>
          <p:nvSpPr>
            <p:cNvPr id="541" name=""/>
            <p:cNvSpPr/>
            <p:nvPr/>
          </p:nvSpPr>
          <p:spPr>
            <a:xfrm>
              <a:off x="5864400" y="3759120"/>
              <a:ext cx="1973160" cy="6588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8048520" y="379080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8101800" y="4029120"/>
              <a:ext cx="1043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Segment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7636320" y="3922560"/>
              <a:ext cx="42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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5661360" y="3922560"/>
              <a:ext cx="42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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214960" y="3605040"/>
              <a:ext cx="676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1819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214960" y="4262400"/>
              <a:ext cx="676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2203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 flipV="1">
              <a:off x="3819600" y="3771360"/>
              <a:ext cx="1447560" cy="780840"/>
            </a:xfrm>
            <a:custGeom>
              <a:avLst/>
              <a:gdLst/>
              <a:ahLst/>
              <a:rect l="l" t="t" r="r" b="b"/>
              <a:pathLst>
                <a:path w="912" h="930">
                  <a:moveTo>
                    <a:pt x="0" y="0"/>
                  </a:moveTo>
                  <a:lnTo>
                    <a:pt x="276" y="0"/>
                  </a:lnTo>
                  <a:lnTo>
                    <a:pt x="666" y="930"/>
                  </a:lnTo>
                  <a:lnTo>
                    <a:pt x="912" y="93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9" name=""/>
          <p:cNvGrpSpPr/>
          <p:nvPr/>
        </p:nvGrpSpPr>
        <p:grpSpPr>
          <a:xfrm>
            <a:off x="289800" y="1828800"/>
            <a:ext cx="3204360" cy="685800"/>
            <a:chOff x="289800" y="1828800"/>
            <a:chExt cx="3204360" cy="685800"/>
          </a:xfrm>
        </p:grpSpPr>
        <p:grpSp>
          <p:nvGrpSpPr>
            <p:cNvPr id="550" name=""/>
            <p:cNvGrpSpPr/>
            <p:nvPr/>
          </p:nvGrpSpPr>
          <p:grpSpPr>
            <a:xfrm>
              <a:off x="289800" y="1828800"/>
              <a:ext cx="3204360" cy="685800"/>
              <a:chOff x="289800" y="1828800"/>
              <a:chExt cx="3204360" cy="685800"/>
            </a:xfrm>
          </p:grpSpPr>
          <p:sp>
            <p:nvSpPr>
              <p:cNvPr id="551" name=""/>
              <p:cNvSpPr/>
              <p:nvPr/>
            </p:nvSpPr>
            <p:spPr>
              <a:xfrm>
                <a:off x="1521000" y="1854360"/>
                <a:ext cx="1973160" cy="6588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1352520" y="1828800"/>
                <a:ext cx="0" cy="68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289800" y="2019240"/>
                <a:ext cx="1043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400" spc="-1" strike="noStrike">
                    <a:solidFill>
                      <a:srgbClr val="000000"/>
                    </a:solidFill>
                    <a:latin typeface="Arial"/>
                  </a:rPr>
                  <a:t>Segment 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4" name=""/>
            <p:cNvSpPr/>
            <p:nvPr/>
          </p:nvSpPr>
          <p:spPr>
            <a:xfrm>
              <a:off x="1858320" y="2093760"/>
              <a:ext cx="129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7937 byt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5" name=""/>
          <p:cNvGrpSpPr/>
          <p:nvPr/>
        </p:nvGrpSpPr>
        <p:grpSpPr>
          <a:xfrm>
            <a:off x="270720" y="3071880"/>
            <a:ext cx="3223440" cy="368280"/>
            <a:chOff x="270720" y="3071880"/>
            <a:chExt cx="3223440" cy="368280"/>
          </a:xfrm>
        </p:grpSpPr>
        <p:grpSp>
          <p:nvGrpSpPr>
            <p:cNvPr id="556" name=""/>
            <p:cNvGrpSpPr/>
            <p:nvPr/>
          </p:nvGrpSpPr>
          <p:grpSpPr>
            <a:xfrm>
              <a:off x="270720" y="3073320"/>
              <a:ext cx="3223440" cy="349920"/>
              <a:chOff x="270720" y="3073320"/>
              <a:chExt cx="3223440" cy="349920"/>
            </a:xfrm>
          </p:grpSpPr>
          <p:sp>
            <p:nvSpPr>
              <p:cNvPr id="557" name=""/>
              <p:cNvSpPr/>
              <p:nvPr/>
            </p:nvSpPr>
            <p:spPr>
              <a:xfrm>
                <a:off x="1521000" y="3098160"/>
                <a:ext cx="1973160" cy="3250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1333440" y="3073320"/>
                <a:ext cx="0" cy="323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270720" y="3091680"/>
                <a:ext cx="1043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400" spc="-1" strike="noStrike">
                    <a:solidFill>
                      <a:srgbClr val="000000"/>
                    </a:solidFill>
                    <a:latin typeface="Arial"/>
                  </a:rPr>
                  <a:t>Segment 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0" name=""/>
            <p:cNvSpPr/>
            <p:nvPr/>
          </p:nvSpPr>
          <p:spPr>
            <a:xfrm>
              <a:off x="1921680" y="3071880"/>
              <a:ext cx="116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258 byt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1" name=""/>
          <p:cNvGrpSpPr/>
          <p:nvPr/>
        </p:nvGrpSpPr>
        <p:grpSpPr>
          <a:xfrm>
            <a:off x="289800" y="4334040"/>
            <a:ext cx="3204360" cy="685800"/>
            <a:chOff x="289800" y="4334040"/>
            <a:chExt cx="3204360" cy="685800"/>
          </a:xfrm>
        </p:grpSpPr>
        <p:grpSp>
          <p:nvGrpSpPr>
            <p:cNvPr id="562" name=""/>
            <p:cNvGrpSpPr/>
            <p:nvPr/>
          </p:nvGrpSpPr>
          <p:grpSpPr>
            <a:xfrm>
              <a:off x="289800" y="4334040"/>
              <a:ext cx="3204360" cy="685800"/>
              <a:chOff x="289800" y="4334040"/>
              <a:chExt cx="3204360" cy="685800"/>
            </a:xfrm>
          </p:grpSpPr>
          <p:sp>
            <p:nvSpPr>
              <p:cNvPr id="563" name=""/>
              <p:cNvSpPr/>
              <p:nvPr/>
            </p:nvSpPr>
            <p:spPr>
              <a:xfrm>
                <a:off x="1521000" y="4359240"/>
                <a:ext cx="1973160" cy="6588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1352520" y="4334040"/>
                <a:ext cx="0" cy="68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289800" y="4524480"/>
                <a:ext cx="1043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400" spc="-1" strike="noStrike">
                    <a:solidFill>
                      <a:srgbClr val="000000"/>
                    </a:solidFill>
                    <a:latin typeface="Arial"/>
                  </a:rPr>
                  <a:t>Segment 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6" name=""/>
            <p:cNvSpPr/>
            <p:nvPr/>
          </p:nvSpPr>
          <p:spPr>
            <a:xfrm>
              <a:off x="1858320" y="4494240"/>
              <a:ext cx="129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3843 byt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7" name=""/>
          <p:cNvSpPr/>
          <p:nvPr/>
        </p:nvSpPr>
        <p:spPr>
          <a:xfrm>
            <a:off x="7636320" y="320040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642640" y="320184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2827800" y="4076640"/>
            <a:ext cx="68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6M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2827800" y="2819520"/>
            <a:ext cx="68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6M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3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8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"/>
              </a:rPr>
              <a:t>Segmentbasierte Speicherverwaltung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1652760" y="2666880"/>
            <a:ext cx="2965320" cy="2268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 rot="5400000">
            <a:off x="20160" y="3560760"/>
            <a:ext cx="2278080" cy="480960"/>
          </a:xfrm>
          <a:custGeom>
            <a:avLst/>
            <a:gdLst>
              <a:gd name="textAreaLeft" fmla="*/ 285840 w 2278080"/>
              <a:gd name="textAreaRight" fmla="*/ 1992240 w 2278080"/>
              <a:gd name="textAreaTop" fmla="*/ 60120 h 480960"/>
              <a:gd name="textAreaBottom" fmla="*/ 420840 h 480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869" y="21600"/>
                </a:lnTo>
                <a:lnTo>
                  <a:pt x="1731" y="2160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949560" y="5796000"/>
            <a:ext cx="3498840" cy="3380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3949560" y="1523880"/>
            <a:ext cx="3498840" cy="3384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4943520" y="1523880"/>
            <a:ext cx="0" cy="343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3907800" y="553068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7230960" y="55306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1104840" y="1857240"/>
            <a:ext cx="3314880" cy="933480"/>
          </a:xfrm>
          <a:custGeom>
            <a:avLst/>
            <a:gdLst/>
            <a:ahLst/>
            <a:rect l="l" t="t" r="r" b="b"/>
            <a:pathLst>
              <a:path w="2088" h="588">
                <a:moveTo>
                  <a:pt x="2088" y="0"/>
                </a:moveTo>
                <a:lnTo>
                  <a:pt x="2088" y="240"/>
                </a:lnTo>
                <a:lnTo>
                  <a:pt x="0" y="240"/>
                </a:lnTo>
                <a:lnTo>
                  <a:pt x="0" y="58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2867040" y="2676600"/>
            <a:ext cx="0" cy="2266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643040" y="2666880"/>
            <a:ext cx="2965320" cy="239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1652760" y="2905200"/>
            <a:ext cx="2965320" cy="239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1652760" y="3143160"/>
            <a:ext cx="2965320" cy="239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652760" y="4686480"/>
            <a:ext cx="2965320" cy="239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390680" y="2800440"/>
            <a:ext cx="276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1390680" y="3029040"/>
            <a:ext cx="276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1400040" y="3276720"/>
            <a:ext cx="27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1400040" y="4800600"/>
            <a:ext cx="27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1163520" y="2668680"/>
            <a:ext cx="279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0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978480" y="461160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5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4343040" y="2049480"/>
            <a:ext cx="152280" cy="104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 flipH="1">
            <a:off x="3561840" y="5086440"/>
            <a:ext cx="133560" cy="123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4433760" y="19494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1774440" y="3544920"/>
            <a:ext cx="9532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6-Bit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gment-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länge in 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löck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2889360" y="3757680"/>
            <a:ext cx="1590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eale Block-Nr.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ls Segmant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1603080" y="1477800"/>
            <a:ext cx="210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irtuelle Adres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1188360" y="5764320"/>
            <a:ext cx="273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hysikalische Adres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4003200" y="1535040"/>
            <a:ext cx="84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g.-N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1589760" y="2332080"/>
            <a:ext cx="17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egmenttabel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2000160" y="26035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055960" y="28512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2000160" y="308916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575160" y="26226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575160" y="28605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519360" y="308916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879360" y="126360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4860360" y="126360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7202160" y="12636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6657840" y="1523880"/>
            <a:ext cx="0" cy="343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5165280" y="580248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lock-N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6562800" y="5800680"/>
            <a:ext cx="0" cy="333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357600" y="55306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6462720" y="12636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4" name=""/>
          <p:cNvGrpSpPr/>
          <p:nvPr/>
        </p:nvGrpSpPr>
        <p:grpSpPr>
          <a:xfrm>
            <a:off x="6641640" y="1554120"/>
            <a:ext cx="864720" cy="4574160"/>
            <a:chOff x="6641640" y="1554120"/>
            <a:chExt cx="864720" cy="4574160"/>
          </a:xfrm>
        </p:grpSpPr>
        <p:sp>
          <p:nvSpPr>
            <p:cNvPr id="615" name=""/>
            <p:cNvSpPr/>
            <p:nvPr/>
          </p:nvSpPr>
          <p:spPr>
            <a:xfrm>
              <a:off x="6641640" y="1554120"/>
              <a:ext cx="83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Byte-Nr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7153200" y="1876320"/>
              <a:ext cx="0" cy="392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670440" y="5821200"/>
              <a:ext cx="83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Byte-Nr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8" name=""/>
          <p:cNvGrpSpPr/>
          <p:nvPr/>
        </p:nvGrpSpPr>
        <p:grpSpPr>
          <a:xfrm>
            <a:off x="3638520" y="1573200"/>
            <a:ext cx="2991240" cy="4218120"/>
            <a:chOff x="3638520" y="1573200"/>
            <a:chExt cx="2991240" cy="4218120"/>
          </a:xfrm>
        </p:grpSpPr>
        <p:sp>
          <p:nvSpPr>
            <p:cNvPr id="619" name=""/>
            <p:cNvSpPr/>
            <p:nvPr/>
          </p:nvSpPr>
          <p:spPr>
            <a:xfrm>
              <a:off x="3679200" y="4978440"/>
              <a:ext cx="37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2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727240" y="5425920"/>
              <a:ext cx="37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2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1" name=""/>
            <p:cNvGrpSpPr/>
            <p:nvPr/>
          </p:nvGrpSpPr>
          <p:grpSpPr>
            <a:xfrm>
              <a:off x="3638520" y="1573200"/>
              <a:ext cx="2991240" cy="4218120"/>
              <a:chOff x="3638520" y="1573200"/>
              <a:chExt cx="2991240" cy="4218120"/>
            </a:xfrm>
          </p:grpSpPr>
          <p:sp>
            <p:nvSpPr>
              <p:cNvPr id="622" name=""/>
              <p:cNvSpPr/>
              <p:nvPr/>
            </p:nvSpPr>
            <p:spPr>
              <a:xfrm>
                <a:off x="5516640" y="5168880"/>
                <a:ext cx="293760" cy="2761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23" name=""/>
              <p:cNvGrpSpPr/>
              <p:nvPr/>
            </p:nvGrpSpPr>
            <p:grpSpPr>
              <a:xfrm>
                <a:off x="3638520" y="1573200"/>
                <a:ext cx="2991240" cy="4218120"/>
                <a:chOff x="3638520" y="1573200"/>
                <a:chExt cx="2991240" cy="4218120"/>
              </a:xfrm>
            </p:grpSpPr>
            <p:sp>
              <p:nvSpPr>
                <p:cNvPr id="624" name=""/>
                <p:cNvSpPr/>
                <p:nvPr/>
              </p:nvSpPr>
              <p:spPr>
                <a:xfrm>
                  <a:off x="3638520" y="4924440"/>
                  <a:ext cx="1886040" cy="380880"/>
                </a:xfrm>
                <a:custGeom>
                  <a:avLst/>
                  <a:gdLst/>
                  <a:ahLst/>
                  <a:rect l="l" t="t" r="r" b="b"/>
                  <a:pathLst>
                    <a:path w="1188" h="240">
                      <a:moveTo>
                        <a:pt x="0" y="0"/>
                      </a:moveTo>
                      <a:lnTo>
                        <a:pt x="0" y="240"/>
                      </a:lnTo>
                      <a:lnTo>
                        <a:pt x="1188" y="24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5810400" y="1866960"/>
                  <a:ext cx="399960" cy="3438360"/>
                </a:xfrm>
                <a:custGeom>
                  <a:avLst/>
                  <a:gdLst/>
                  <a:ahLst/>
                  <a:rect l="l" t="t" r="r" b="b"/>
                  <a:pathLst>
                    <a:path w="252" h="1980">
                      <a:moveTo>
                        <a:pt x="252" y="0"/>
                      </a:moveTo>
                      <a:lnTo>
                        <a:pt x="252" y="1980"/>
                      </a:lnTo>
                      <a:lnTo>
                        <a:pt x="0" y="1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>
                  <a:off x="5657760" y="5448240"/>
                  <a:ext cx="0" cy="343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 flipH="1">
                  <a:off x="6143760" y="2039760"/>
                  <a:ext cx="133200" cy="1238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 flipH="1">
                  <a:off x="5591160" y="5505480"/>
                  <a:ext cx="133200" cy="1238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9" name=""/>
                <p:cNvSpPr/>
                <p:nvPr/>
              </p:nvSpPr>
              <p:spPr>
                <a:xfrm>
                  <a:off x="6251040" y="1949400"/>
                  <a:ext cx="3787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400" spc="-1" strike="noStrike">
                      <a:solidFill>
                        <a:srgbClr val="000000"/>
                      </a:solidFill>
                      <a:latin typeface="Arial"/>
                    </a:rPr>
                    <a:t>16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>
                  <a:off x="5412960" y="1573200"/>
                  <a:ext cx="915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400" spc="-1" strike="noStrike">
                      <a:solidFill>
                        <a:srgbClr val="000000"/>
                      </a:solidFill>
                      <a:latin typeface="Arial"/>
                    </a:rPr>
                    <a:t>Block-Nr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5518080" y="5140440"/>
                  <a:ext cx="2844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400" spc="-1" strike="noStrike">
                      <a:solidFill>
                        <a:srgbClr val="000000"/>
                      </a:solidFill>
                      <a:latin typeface="Arial"/>
                    </a:rPr>
                    <a:t>+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"/>
              </a:rPr>
              <a:t>Segmentbasierte Speicherverwaltung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352440" y="1208160"/>
            <a:ext cx="8620200" cy="37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spcBef>
                <a:spcPts val="1250"/>
              </a:spcBef>
              <a:buClr>
                <a:srgbClr val="00cc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egmentgrenzen nicht an jeder Byteadresse, sondern an Vielfachen von Blöcken (hier von 256 Bytes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250"/>
              </a:spcBef>
              <a:buClr>
                <a:srgbClr val="00cc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egmente werden im virtuellen physikalischen Adressraum in Blöcke von 256 Bytes unterteil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250"/>
              </a:spcBef>
              <a:buClr>
                <a:srgbClr val="00cc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.h. die Bytenummer aus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Bits wird aufgeteilt in eine kürzere Bytenummer für die Byteadressierung im Block und eine Blocknumm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250"/>
              </a:spcBef>
              <a:buClr>
                <a:srgbClr val="00cc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i Adreßumsetzung wird die virtuelle Segementnummer auf eine reale 24-Bit-Blocknummer als Segmentbasis abgebilde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250"/>
              </a:spcBef>
              <a:buClr>
                <a:srgbClr val="00cc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irtuelle Bytenummer für die Adressierung innerhalb des Blocks  wird unverändert übernomm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Virtueller und physikalischer Adressraum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5864400" y="2139840"/>
            <a:ext cx="1973160" cy="1239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5864400" y="3397320"/>
            <a:ext cx="1973160" cy="249696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5864400" y="2143080"/>
            <a:ext cx="1973160" cy="37767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6472080" y="589428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5088960" y="1614600"/>
            <a:ext cx="1360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Physikalische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lock-N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7634880" y="536256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5659920" y="536256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1521000" y="1854360"/>
            <a:ext cx="1973160" cy="1239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1521000" y="3111480"/>
            <a:ext cx="1973160" cy="1239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1521000" y="1857240"/>
            <a:ext cx="1973160" cy="4015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1521000" y="5607000"/>
            <a:ext cx="1973160" cy="23976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2128680" y="5608800"/>
            <a:ext cx="184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3547080" y="1309680"/>
            <a:ext cx="886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Virtuelle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Seg.-N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1521000" y="4368960"/>
            <a:ext cx="1973160" cy="1239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2856240" y="534348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64K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3292920" y="377028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1317960" y="377028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3291480" y="507672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316520" y="507672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1252080" y="5783400"/>
            <a:ext cx="26298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irtueller Adressra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5263200" y="5735520"/>
            <a:ext cx="32562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hysikalischer Adressra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3549600" y="17859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3549600" y="30528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3549600" y="43671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292920" y="215280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2808720" y="403848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64K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2818080" y="278136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64K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302640" y="452448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3" name=""/>
          <p:cNvGrpSpPr/>
          <p:nvPr/>
        </p:nvGrpSpPr>
        <p:grpSpPr>
          <a:xfrm>
            <a:off x="289800" y="4334040"/>
            <a:ext cx="3331440" cy="822240"/>
            <a:chOff x="289800" y="4334040"/>
            <a:chExt cx="3331440" cy="822240"/>
          </a:xfrm>
        </p:grpSpPr>
        <p:sp>
          <p:nvSpPr>
            <p:cNvPr id="664" name=""/>
            <p:cNvSpPr/>
            <p:nvPr/>
          </p:nvSpPr>
          <p:spPr>
            <a:xfrm>
              <a:off x="1521000" y="4359240"/>
              <a:ext cx="1973160" cy="7444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352520" y="433404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89800" y="4524480"/>
              <a:ext cx="1043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Segment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1523880" y="4562640"/>
              <a:ext cx="1047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3390840" y="4572000"/>
              <a:ext cx="1047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1514520" y="4943520"/>
              <a:ext cx="1047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381480" y="4952880"/>
              <a:ext cx="1047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1308600" y="4525920"/>
              <a:ext cx="42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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3252960" y="4910040"/>
              <a:ext cx="349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290760" y="4348080"/>
              <a:ext cx="330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4" name=""/>
          <p:cNvGrpSpPr/>
          <p:nvPr/>
        </p:nvGrpSpPr>
        <p:grpSpPr>
          <a:xfrm>
            <a:off x="270720" y="3086280"/>
            <a:ext cx="3350520" cy="460440"/>
            <a:chOff x="270720" y="3086280"/>
            <a:chExt cx="3350520" cy="460440"/>
          </a:xfrm>
        </p:grpSpPr>
        <p:sp>
          <p:nvSpPr>
            <p:cNvPr id="675" name=""/>
            <p:cNvSpPr/>
            <p:nvPr/>
          </p:nvSpPr>
          <p:spPr>
            <a:xfrm>
              <a:off x="1521000" y="3111480"/>
              <a:ext cx="1973160" cy="4017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1333440" y="30862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70720" y="3105000"/>
              <a:ext cx="1043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Segment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1523880" y="3305160"/>
              <a:ext cx="1047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390840" y="3314880"/>
              <a:ext cx="1047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3290760" y="3110040"/>
              <a:ext cx="330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3290760" y="3300480"/>
              <a:ext cx="330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7734240" y="2333520"/>
            <a:ext cx="1047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5867280" y="2352600"/>
            <a:ext cx="1047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5834520" y="2116080"/>
            <a:ext cx="743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Block-N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7662960" y="2109960"/>
            <a:ext cx="33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7653240" y="2319480"/>
            <a:ext cx="33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7" name=""/>
          <p:cNvGrpSpPr/>
          <p:nvPr/>
        </p:nvGrpSpPr>
        <p:grpSpPr>
          <a:xfrm>
            <a:off x="3809880" y="1943280"/>
            <a:ext cx="5335200" cy="2394000"/>
            <a:chOff x="3809880" y="1943280"/>
            <a:chExt cx="5335200" cy="2394000"/>
          </a:xfrm>
        </p:grpSpPr>
        <p:sp>
          <p:nvSpPr>
            <p:cNvPr id="688" name=""/>
            <p:cNvSpPr/>
            <p:nvPr/>
          </p:nvSpPr>
          <p:spPr>
            <a:xfrm>
              <a:off x="3809880" y="1943280"/>
              <a:ext cx="1619280" cy="1266480"/>
            </a:xfrm>
            <a:custGeom>
              <a:avLst/>
              <a:gdLst/>
              <a:ahLst/>
              <a:rect l="l" t="t" r="r" b="b"/>
              <a:pathLst>
                <a:path w="912" h="930">
                  <a:moveTo>
                    <a:pt x="0" y="0"/>
                  </a:moveTo>
                  <a:lnTo>
                    <a:pt x="276" y="0"/>
                  </a:lnTo>
                  <a:lnTo>
                    <a:pt x="666" y="930"/>
                  </a:lnTo>
                  <a:lnTo>
                    <a:pt x="912" y="93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9" name=""/>
            <p:cNvGrpSpPr/>
            <p:nvPr/>
          </p:nvGrpSpPr>
          <p:grpSpPr>
            <a:xfrm>
              <a:off x="5492520" y="3052800"/>
              <a:ext cx="3652560" cy="1284480"/>
              <a:chOff x="5492520" y="3052800"/>
              <a:chExt cx="3652560" cy="1284480"/>
            </a:xfrm>
          </p:grpSpPr>
          <p:sp>
            <p:nvSpPr>
              <p:cNvPr id="690" name=""/>
              <p:cNvSpPr/>
              <p:nvPr/>
            </p:nvSpPr>
            <p:spPr>
              <a:xfrm>
                <a:off x="5864400" y="3102120"/>
                <a:ext cx="1973160" cy="122076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8058240" y="3152880"/>
                <a:ext cx="0" cy="1133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8101800" y="3648240"/>
                <a:ext cx="1043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400" spc="-1" strike="noStrike">
                    <a:solidFill>
                      <a:srgbClr val="000000"/>
                    </a:solidFill>
                    <a:latin typeface="Arial"/>
                  </a:rPr>
                  <a:t>Segment 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7646040" y="3552840"/>
                <a:ext cx="42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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5652000" y="3554280"/>
                <a:ext cx="42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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5492520" y="305280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4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7734240" y="3276720"/>
                <a:ext cx="1047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7734240" y="4105440"/>
                <a:ext cx="1047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5867280" y="3295800"/>
                <a:ext cx="1047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5867280" y="4124160"/>
                <a:ext cx="1047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7653240" y="307188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0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7586640" y="409104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000" spc="-1" strike="noStrike">
                    <a:solidFill>
                      <a:srgbClr val="000000"/>
                    </a:solidFill>
                    <a:latin typeface="Arial"/>
                  </a:rPr>
                  <a:t>36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02" name=""/>
          <p:cNvSpPr/>
          <p:nvPr/>
        </p:nvSpPr>
        <p:spPr>
          <a:xfrm>
            <a:off x="7586640" y="5338800"/>
            <a:ext cx="33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3" name=""/>
          <p:cNvGrpSpPr/>
          <p:nvPr/>
        </p:nvGrpSpPr>
        <p:grpSpPr>
          <a:xfrm>
            <a:off x="289800" y="1824120"/>
            <a:ext cx="3350160" cy="1008000"/>
            <a:chOff x="289800" y="1824120"/>
            <a:chExt cx="3350160" cy="1008000"/>
          </a:xfrm>
        </p:grpSpPr>
        <p:sp>
          <p:nvSpPr>
            <p:cNvPr id="704" name=""/>
            <p:cNvSpPr/>
            <p:nvPr/>
          </p:nvSpPr>
          <p:spPr>
            <a:xfrm>
              <a:off x="1521000" y="1854360"/>
              <a:ext cx="1973160" cy="934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352520" y="1828800"/>
              <a:ext cx="0" cy="90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289800" y="2019240"/>
              <a:ext cx="1043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Segment 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299240" y="2154240"/>
              <a:ext cx="42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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523880" y="2048040"/>
              <a:ext cx="1047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523880" y="2228760"/>
              <a:ext cx="1047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523880" y="2610000"/>
              <a:ext cx="1047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3390840" y="2038320"/>
              <a:ext cx="1047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3390840" y="2219400"/>
              <a:ext cx="1047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3390840" y="2619360"/>
              <a:ext cx="1047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309840" y="1824120"/>
              <a:ext cx="330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243240" y="2585880"/>
              <a:ext cx="330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1472040" y="1830240"/>
              <a:ext cx="743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Block-Nr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7" name=""/>
          <p:cNvSpPr/>
          <p:nvPr/>
        </p:nvSpPr>
        <p:spPr>
          <a:xfrm>
            <a:off x="5987160" y="2268360"/>
            <a:ext cx="743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Block-N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8" name=""/>
          <p:cNvGrpSpPr/>
          <p:nvPr/>
        </p:nvGrpSpPr>
        <p:grpSpPr>
          <a:xfrm>
            <a:off x="3886200" y="2543040"/>
            <a:ext cx="5258880" cy="657360"/>
            <a:chOff x="3886200" y="2543040"/>
            <a:chExt cx="5258880" cy="657360"/>
          </a:xfrm>
        </p:grpSpPr>
        <p:grpSp>
          <p:nvGrpSpPr>
            <p:cNvPr id="719" name=""/>
            <p:cNvGrpSpPr/>
            <p:nvPr/>
          </p:nvGrpSpPr>
          <p:grpSpPr>
            <a:xfrm>
              <a:off x="5473440" y="2543040"/>
              <a:ext cx="3671640" cy="622440"/>
              <a:chOff x="5473440" y="2543040"/>
              <a:chExt cx="3671640" cy="622440"/>
            </a:xfrm>
          </p:grpSpPr>
          <p:sp>
            <p:nvSpPr>
              <p:cNvPr id="720" name=""/>
              <p:cNvSpPr/>
              <p:nvPr/>
            </p:nvSpPr>
            <p:spPr>
              <a:xfrm>
                <a:off x="8101800" y="2819520"/>
                <a:ext cx="1043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400" spc="-1" strike="noStrike">
                    <a:solidFill>
                      <a:srgbClr val="000000"/>
                    </a:solidFill>
                    <a:latin typeface="Arial"/>
                  </a:rPr>
                  <a:t>Segment 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5864400" y="2787480"/>
                <a:ext cx="1973160" cy="3254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8048520" y="2790720"/>
                <a:ext cx="0" cy="32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5473440" y="273852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7734240" y="2543040"/>
                <a:ext cx="1047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7734240" y="2952720"/>
                <a:ext cx="1047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5867280" y="2562120"/>
                <a:ext cx="1047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5867280" y="2971800"/>
                <a:ext cx="1047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7653240" y="254808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7653240" y="275760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7653240" y="291924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0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1" name=""/>
            <p:cNvSpPr/>
            <p:nvPr/>
          </p:nvSpPr>
          <p:spPr>
            <a:xfrm flipV="1">
              <a:off x="3886200" y="2857680"/>
              <a:ext cx="1619280" cy="342720"/>
            </a:xfrm>
            <a:custGeom>
              <a:avLst/>
              <a:gdLst/>
              <a:ahLst/>
              <a:rect l="l" t="t" r="r" b="b"/>
              <a:pathLst>
                <a:path w="912" h="930">
                  <a:moveTo>
                    <a:pt x="0" y="0"/>
                  </a:moveTo>
                  <a:lnTo>
                    <a:pt x="276" y="0"/>
                  </a:lnTo>
                  <a:lnTo>
                    <a:pt x="666" y="930"/>
                  </a:lnTo>
                  <a:lnTo>
                    <a:pt x="912" y="93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2" name=""/>
          <p:cNvGrpSpPr/>
          <p:nvPr/>
        </p:nvGrpSpPr>
        <p:grpSpPr>
          <a:xfrm>
            <a:off x="3800520" y="4281480"/>
            <a:ext cx="5344560" cy="1084320"/>
            <a:chOff x="3800520" y="4281480"/>
            <a:chExt cx="5344560" cy="1084320"/>
          </a:xfrm>
        </p:grpSpPr>
        <p:grpSp>
          <p:nvGrpSpPr>
            <p:cNvPr id="733" name=""/>
            <p:cNvGrpSpPr/>
            <p:nvPr/>
          </p:nvGrpSpPr>
          <p:grpSpPr>
            <a:xfrm>
              <a:off x="5434920" y="4281480"/>
              <a:ext cx="3710160" cy="1084320"/>
              <a:chOff x="5434920" y="4281480"/>
              <a:chExt cx="3710160" cy="1084320"/>
            </a:xfrm>
          </p:grpSpPr>
          <p:sp>
            <p:nvSpPr>
              <p:cNvPr id="734" name=""/>
              <p:cNvSpPr/>
              <p:nvPr/>
            </p:nvSpPr>
            <p:spPr>
              <a:xfrm>
                <a:off x="5864400" y="4311720"/>
                <a:ext cx="1973160" cy="10396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8048520" y="4324320"/>
                <a:ext cx="0" cy="1028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8101800" y="4648320"/>
                <a:ext cx="1043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400" spc="-1" strike="noStrike">
                    <a:solidFill>
                      <a:srgbClr val="000000"/>
                    </a:solidFill>
                    <a:latin typeface="Arial"/>
                  </a:rPr>
                  <a:t>Segment 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7607880" y="4608360"/>
                <a:ext cx="42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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632920" y="4608360"/>
                <a:ext cx="42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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5434920" y="4281480"/>
                <a:ext cx="378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400" spc="-1" strike="noStrike">
                    <a:solidFill>
                      <a:srgbClr val="000000"/>
                    </a:solidFill>
                    <a:latin typeface="Arial"/>
                  </a:rPr>
                  <a:t>3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7724880" y="4581360"/>
                <a:ext cx="1047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743960" y="5143680"/>
                <a:ext cx="1047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5867280" y="4600440"/>
                <a:ext cx="1047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5867280" y="5162400"/>
                <a:ext cx="1047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7586640" y="433872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000" spc="-1" strike="noStrike">
                    <a:solidFill>
                      <a:srgbClr val="000000"/>
                    </a:solidFill>
                    <a:latin typeface="Arial"/>
                  </a:rPr>
                  <a:t>37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7596360" y="511956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000" spc="-1" strike="noStrike">
                    <a:solidFill>
                      <a:srgbClr val="000000"/>
                    </a:solidFill>
                    <a:latin typeface="Arial"/>
                  </a:rPr>
                  <a:t>5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6" name=""/>
            <p:cNvSpPr/>
            <p:nvPr/>
          </p:nvSpPr>
          <p:spPr>
            <a:xfrm flipV="1">
              <a:off x="3800520" y="4343400"/>
              <a:ext cx="1619280" cy="209520"/>
            </a:xfrm>
            <a:custGeom>
              <a:avLst/>
              <a:gdLst/>
              <a:ahLst/>
              <a:rect l="l" t="t" r="r" b="b"/>
              <a:pathLst>
                <a:path w="912" h="930">
                  <a:moveTo>
                    <a:pt x="0" y="0"/>
                  </a:moveTo>
                  <a:lnTo>
                    <a:pt x="276" y="0"/>
                  </a:lnTo>
                  <a:lnTo>
                    <a:pt x="666" y="930"/>
                  </a:lnTo>
                  <a:lnTo>
                    <a:pt x="912" y="93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4.5 Segmentorientierte Speicherverwaltung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508680" y="1239840"/>
            <a:ext cx="80856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Der Speicher wird in ein oder mehrere physikalische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Segmente (zusammenhängende Speicherbereiche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variabler Länge) untertei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Oft verschiedene Segmenttypen (für Code, Daten, 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Maximale Segmentlängen je nach Prozessor zwischen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64 KByte und 4 GBy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Fallbeispiel Intel 80286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Berechnung der physikalischen aus der logischen Adres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600" spc="-1" strike="noStrike">
                <a:solidFill>
                  <a:srgbClr val="000099"/>
                </a:solidFill>
                <a:latin typeface="Arial"/>
              </a:rPr>
              <a:t>Beispiel: Intel 80286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1114560" y="2219400"/>
            <a:ext cx="1304640" cy="42840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elek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2419200" y="2219400"/>
            <a:ext cx="1305000" cy="42840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Off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5029200" y="1981080"/>
            <a:ext cx="1943280" cy="648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5032440" y="4584600"/>
            <a:ext cx="1942920" cy="6476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5025960" y="3133800"/>
            <a:ext cx="1943280" cy="39996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peicherw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1771560" y="2676600"/>
            <a:ext cx="2772000" cy="1866960"/>
          </a:xfrm>
          <a:custGeom>
            <a:avLst/>
            <a:gdLst/>
            <a:ahLst/>
            <a:rect l="l" t="t" r="r" b="b"/>
            <a:pathLst>
              <a:path w="1746" h="1176">
                <a:moveTo>
                  <a:pt x="0" y="0"/>
                </a:moveTo>
                <a:lnTo>
                  <a:pt x="0" y="1176"/>
                </a:lnTo>
                <a:lnTo>
                  <a:pt x="1746" y="1176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3067200" y="2657520"/>
            <a:ext cx="1581120" cy="1374840"/>
          </a:xfrm>
          <a:custGeom>
            <a:avLst/>
            <a:gdLst/>
            <a:ahLst/>
            <a:rect l="l" t="t" r="r" b="b"/>
            <a:pathLst>
              <a:path w="996" h="866">
                <a:moveTo>
                  <a:pt x="0" y="0"/>
                </a:moveTo>
                <a:lnTo>
                  <a:pt x="0" y="864"/>
                </a:lnTo>
                <a:lnTo>
                  <a:pt x="996" y="86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4638600" y="3533760"/>
            <a:ext cx="276480" cy="990720"/>
          </a:xfrm>
          <a:custGeom>
            <a:avLst/>
            <a:gdLst/>
            <a:ahLst/>
            <a:rect l="l" t="t" r="r" b="b"/>
            <a:pathLst>
              <a:path w="174" h="624">
                <a:moveTo>
                  <a:pt x="174" y="0"/>
                </a:moveTo>
                <a:lnTo>
                  <a:pt x="0" y="0"/>
                </a:lnTo>
                <a:lnTo>
                  <a:pt x="0" y="624"/>
                </a:lnTo>
                <a:lnTo>
                  <a:pt x="168" y="624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7143840" y="2638440"/>
            <a:ext cx="247680" cy="1906560"/>
          </a:xfrm>
          <a:custGeom>
            <a:avLst/>
            <a:gdLst/>
            <a:ahLst/>
            <a:rect l="l" t="t" r="r" b="b"/>
            <a:pathLst>
              <a:path w="156" h="1201">
                <a:moveTo>
                  <a:pt x="0" y="0"/>
                </a:moveTo>
                <a:lnTo>
                  <a:pt x="156" y="0"/>
                </a:lnTo>
                <a:lnTo>
                  <a:pt x="156" y="1201"/>
                </a:lnTo>
                <a:lnTo>
                  <a:pt x="6" y="120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5038560" y="288612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858000" y="288612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5029200" y="380052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5029200" y="404820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5029200" y="431496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6861240" y="380700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6861240" y="405432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6861240" y="432108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6972480" y="1974960"/>
            <a:ext cx="0" cy="327636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5029200" y="1974960"/>
            <a:ext cx="0" cy="327636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5029200" y="5219640"/>
            <a:ext cx="1943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5029200" y="1968480"/>
            <a:ext cx="1943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1226160" y="158580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irtuelle Adres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5293080" y="1411200"/>
            <a:ext cx="13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pei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7555680" y="3303720"/>
            <a:ext cx="14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g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1994040" y="4599000"/>
            <a:ext cx="243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gmentanf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892080" y="2602080"/>
            <a:ext cx="299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31              16 15             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5029200" y="4568760"/>
            <a:ext cx="1943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5029200" y="2616120"/>
            <a:ext cx="1943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600" spc="-1" strike="noStrike">
                <a:solidFill>
                  <a:srgbClr val="000099"/>
                </a:solidFill>
                <a:latin typeface="Arial"/>
              </a:rPr>
              <a:t>Beispiel: Intel 80286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512280" y="1096920"/>
            <a:ext cx="802476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Jede Speicherzelle wird durch einen Segment-Selektor, der den </a:t>
            </a:r>
            <a:br>
              <a:rPr sz="2000"/>
            </a:br>
            <a:r>
              <a:rPr b="0" sz="2000" spc="-1" strike="noStrike">
                <a:solidFill>
                  <a:srgbClr val="000000"/>
                </a:solidFill>
                <a:latin typeface="Arial"/>
              </a:rPr>
              <a:t>Segmentanfang kennzeichnet, und einen Offset innerhalb des </a:t>
            </a:r>
            <a:br>
              <a:rPr sz="2000"/>
            </a:br>
            <a:r>
              <a:rPr b="0" sz="2000" spc="-1" strike="noStrike">
                <a:solidFill>
                  <a:srgbClr val="000000"/>
                </a:solidFill>
                <a:latin typeface="Arial"/>
              </a:rPr>
              <a:t>Segments adressie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Die Segment-Selektoren werden in speziellen Segment-Registern </a:t>
            </a:r>
            <a:br>
              <a:rPr sz="2000"/>
            </a:br>
            <a:r>
              <a:rPr b="0" sz="2000" spc="-1" strike="noStrike">
                <a:solidFill>
                  <a:srgbClr val="000000"/>
                </a:solidFill>
                <a:latin typeface="Arial"/>
              </a:rPr>
              <a:t>gespeichert, da durch Lokalitäts-Eigenschaften in Programmen </a:t>
            </a:r>
            <a:br>
              <a:rPr sz="2000"/>
            </a:br>
            <a:r>
              <a:rPr b="0" sz="2000" spc="-1" strike="noStrike">
                <a:solidFill>
                  <a:srgbClr val="000000"/>
                </a:solidFill>
                <a:latin typeface="Arial"/>
              </a:rPr>
              <a:t>Segment-Selektoren selten wechsel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Um dies zu unterstützen, existieren verschiedene Register für </a:t>
            </a:r>
            <a:br>
              <a:rPr sz="2000"/>
            </a:br>
            <a:r>
              <a:rPr b="0" sz="2000" spc="-1" strike="noStrike">
                <a:solidFill>
                  <a:srgbClr val="000000"/>
                </a:solidFill>
                <a:latin typeface="Arial"/>
              </a:rPr>
              <a:t>verschieden Segment-Type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Code-Segment, Daten-Segment, Stack-Segment, Extra-Seg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Wichtige Informationen über das ausgewählte Segment werden in </a:t>
            </a:r>
            <a:br>
              <a:rPr sz="2000"/>
            </a:br>
            <a:r>
              <a:rPr b="0" sz="2000" spc="-1" strike="noStrike">
                <a:solidFill>
                  <a:srgbClr val="000000"/>
                </a:solidFill>
                <a:latin typeface="Arial"/>
              </a:rPr>
              <a:t>einem </a:t>
            </a:r>
            <a:r>
              <a:rPr b="0" sz="2000" spc="-1" strike="noStrike">
                <a:solidFill>
                  <a:srgbClr val="3333ff"/>
                </a:solidFill>
                <a:latin typeface="Arial"/>
              </a:rPr>
              <a:t>Segment-Descriptor-Cache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 abgelegt </a:t>
            </a:r>
            <a:r>
              <a:rPr b="0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 keine Speicherzugriffe </a:t>
            </a:r>
            <a:br>
              <a:rPr sz="2000"/>
            </a:br>
            <a:r>
              <a:rPr b="0" sz="2000" spc="-1" strike="noStrike">
                <a:solidFill>
                  <a:srgbClr val="000000"/>
                </a:solidFill>
                <a:latin typeface="Arial"/>
              </a:rPr>
              <a:t>beim Lesen der Segmenteigenschaf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600" spc="-1" strike="noStrike">
                <a:solidFill>
                  <a:srgbClr val="000099"/>
                </a:solidFill>
                <a:latin typeface="Arial"/>
              </a:rPr>
              <a:t>Beispiel: Intel 80286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5734080" y="1190520"/>
            <a:ext cx="619200" cy="4619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7000920" y="2486160"/>
            <a:ext cx="1095480" cy="17715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7191360" y="2638440"/>
            <a:ext cx="71424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7191360" y="2943360"/>
            <a:ext cx="71424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7191360" y="3238560"/>
            <a:ext cx="71424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7191360" y="3543480"/>
            <a:ext cx="71424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7081920" y="3843360"/>
            <a:ext cx="985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EGMENT-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6391440" y="2552760"/>
            <a:ext cx="799920" cy="266760"/>
          </a:xfrm>
          <a:custGeom>
            <a:avLst/>
            <a:gdLst/>
            <a:ahLst/>
            <a:rect l="l" t="t" r="r" b="b"/>
            <a:pathLst>
              <a:path w="504" h="168">
                <a:moveTo>
                  <a:pt x="504" y="168"/>
                </a:moveTo>
                <a:lnTo>
                  <a:pt x="264" y="168"/>
                </a:lnTo>
                <a:lnTo>
                  <a:pt x="264" y="0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6362640" y="2895480"/>
            <a:ext cx="809640" cy="228600"/>
          </a:xfrm>
          <a:custGeom>
            <a:avLst/>
            <a:gdLst/>
            <a:ahLst/>
            <a:rect l="l" t="t" r="r" b="b"/>
            <a:pathLst>
              <a:path w="510" h="144">
                <a:moveTo>
                  <a:pt x="510" y="144"/>
                </a:moveTo>
                <a:lnTo>
                  <a:pt x="276" y="144"/>
                </a:lnTo>
                <a:lnTo>
                  <a:pt x="276" y="0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6353280" y="3429000"/>
            <a:ext cx="809640" cy="390600"/>
          </a:xfrm>
          <a:custGeom>
            <a:avLst/>
            <a:gdLst/>
            <a:ahLst/>
            <a:rect l="l" t="t" r="r" b="b"/>
            <a:pathLst>
              <a:path w="528" h="258">
                <a:moveTo>
                  <a:pt x="528" y="0"/>
                </a:moveTo>
                <a:lnTo>
                  <a:pt x="288" y="0"/>
                </a:lnTo>
                <a:lnTo>
                  <a:pt x="288" y="258"/>
                </a:lnTo>
                <a:lnTo>
                  <a:pt x="18" y="258"/>
                </a:lnTo>
                <a:lnTo>
                  <a:pt x="0" y="252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6381720" y="3714840"/>
            <a:ext cx="819360" cy="990360"/>
          </a:xfrm>
          <a:custGeom>
            <a:avLst/>
            <a:gdLst/>
            <a:ahLst/>
            <a:rect l="l" t="t" r="r" b="b"/>
            <a:pathLst>
              <a:path w="516" h="624">
                <a:moveTo>
                  <a:pt x="516" y="0"/>
                </a:moveTo>
                <a:lnTo>
                  <a:pt x="276" y="0"/>
                </a:lnTo>
                <a:lnTo>
                  <a:pt x="276" y="624"/>
                </a:lnTo>
                <a:lnTo>
                  <a:pt x="0" y="624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5734080" y="1419120"/>
            <a:ext cx="619200" cy="2955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5734080" y="1714680"/>
            <a:ext cx="619200" cy="2952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DAT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5734080" y="2295360"/>
            <a:ext cx="619200" cy="2476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5734080" y="2638440"/>
            <a:ext cx="619200" cy="2476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DAT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5734080" y="3191040"/>
            <a:ext cx="619200" cy="6094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5734080" y="4095720"/>
            <a:ext cx="619200" cy="6094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5734080" y="5000760"/>
            <a:ext cx="619200" cy="6094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7232760" y="202104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4457160" y="150336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odul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4457160" y="242712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odul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4424760" y="3179880"/>
            <a:ext cx="10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ozess-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501080" y="5113440"/>
            <a:ext cx="92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aten-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4501080" y="4084560"/>
            <a:ext cx="92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aten-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5477400" y="579276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peic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262080" y="1257480"/>
            <a:ext cx="421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ugriff auf die Arbeitsmenge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(working set)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eines Prozessors mit Hilfe des Segmentregis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"/>
          <p:cNvSpPr/>
          <p:nvPr/>
        </p:nvSpPr>
        <p:spPr>
          <a:xfrm>
            <a:off x="5543640" y="4943520"/>
            <a:ext cx="390600" cy="438120"/>
          </a:xfrm>
          <a:prstGeom prst="downArrow">
            <a:avLst>
              <a:gd name="adj1" fmla="val 44713"/>
              <a:gd name="adj2" fmla="val 49140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6000840" y="2676600"/>
            <a:ext cx="390600" cy="1704960"/>
          </a:xfrm>
          <a:prstGeom prst="downArrow">
            <a:avLst>
              <a:gd name="adj1" fmla="val 39833"/>
              <a:gd name="adj2" fmla="val 80307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99"/>
                </a:solidFill>
                <a:latin typeface="Arial"/>
              </a:rPr>
              <a:t>Adressierungs-Modi des 80286 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326880" y="1096920"/>
            <a:ext cx="82216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Der 80286 kennt zwei spezielle Betriebsarten für die </a:t>
            </a:r>
            <a:br>
              <a:rPr sz="2000"/>
            </a:br>
            <a:r>
              <a:rPr b="0" sz="2000" spc="-1" strike="noStrike">
                <a:solidFill>
                  <a:srgbClr val="000000"/>
                </a:solidFill>
                <a:latin typeface="Arial"/>
              </a:rPr>
              <a:t>Segmentverwaltung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99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000" spc="-1" strike="noStrike">
                <a:solidFill>
                  <a:srgbClr val="000000"/>
                </a:solidFill>
                <a:latin typeface="Arial"/>
              </a:rPr>
              <a:t>Real (Address) Mode</a:t>
            </a:r>
            <a:br>
              <a:rPr sz="2000"/>
            </a:br>
            <a:r>
              <a:rPr b="1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(Kompatibilitätsmode </a:t>
            </a:r>
            <a:br>
              <a:rPr sz="2000"/>
            </a:b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zu 808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1" name=""/>
          <p:cNvGrpSpPr/>
          <p:nvPr/>
        </p:nvGrpSpPr>
        <p:grpSpPr>
          <a:xfrm>
            <a:off x="3921120" y="1920960"/>
            <a:ext cx="3532320" cy="603000"/>
            <a:chOff x="3921120" y="1920960"/>
            <a:chExt cx="3532320" cy="603000"/>
          </a:xfrm>
        </p:grpSpPr>
        <p:sp>
          <p:nvSpPr>
            <p:cNvPr id="812" name=""/>
            <p:cNvSpPr/>
            <p:nvPr/>
          </p:nvSpPr>
          <p:spPr>
            <a:xfrm>
              <a:off x="3921120" y="2181240"/>
              <a:ext cx="3498840" cy="3380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915080" y="2181240"/>
              <a:ext cx="0" cy="342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831920" y="1920960"/>
              <a:ext cx="37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173720" y="19209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3975480" y="2192400"/>
              <a:ext cx="57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00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650560" y="2192400"/>
              <a:ext cx="659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Offs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8" name=""/>
          <p:cNvGrpSpPr/>
          <p:nvPr/>
        </p:nvGrpSpPr>
        <p:grpSpPr>
          <a:xfrm>
            <a:off x="3917520" y="2978280"/>
            <a:ext cx="3521520" cy="612720"/>
            <a:chOff x="3917520" y="2978280"/>
            <a:chExt cx="3521520" cy="612720"/>
          </a:xfrm>
        </p:grpSpPr>
        <p:sp>
          <p:nvSpPr>
            <p:cNvPr id="819" name=""/>
            <p:cNvSpPr/>
            <p:nvPr/>
          </p:nvSpPr>
          <p:spPr>
            <a:xfrm>
              <a:off x="3940200" y="3238560"/>
              <a:ext cx="3498840" cy="3380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6534000" y="3247920"/>
              <a:ext cx="0" cy="34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3917520" y="2978280"/>
              <a:ext cx="37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6259320" y="297828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6652080" y="3259080"/>
              <a:ext cx="57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00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4334400" y="3230640"/>
              <a:ext cx="160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gment-Selek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5" name=""/>
          <p:cNvSpPr/>
          <p:nvPr/>
        </p:nvSpPr>
        <p:spPr>
          <a:xfrm>
            <a:off x="4714920" y="4390920"/>
            <a:ext cx="2095560" cy="581040"/>
          </a:xfrm>
          <a:custGeom>
            <a:avLst/>
            <a:gdLst>
              <a:gd name="textAreaLeft" fmla="*/ 460800 w 2095560"/>
              <a:gd name="textAreaRight" fmla="*/ 1634760 w 2095560"/>
              <a:gd name="textAreaTop" fmla="*/ 127800 h 581040"/>
              <a:gd name="textAreaBottom" fmla="*/ 453240 h 581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ddier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6" name=""/>
          <p:cNvGrpSpPr/>
          <p:nvPr/>
        </p:nvGrpSpPr>
        <p:grpSpPr>
          <a:xfrm>
            <a:off x="3907800" y="5530680"/>
            <a:ext cx="3602880" cy="610560"/>
            <a:chOff x="3907800" y="5530680"/>
            <a:chExt cx="3602880" cy="610560"/>
          </a:xfrm>
        </p:grpSpPr>
        <p:sp>
          <p:nvSpPr>
            <p:cNvPr id="827" name=""/>
            <p:cNvSpPr/>
            <p:nvPr/>
          </p:nvSpPr>
          <p:spPr>
            <a:xfrm>
              <a:off x="3949560" y="5796000"/>
              <a:ext cx="3498840" cy="3380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3907800" y="5530680"/>
              <a:ext cx="37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1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7230960" y="553068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000320" y="5803920"/>
              <a:ext cx="2983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Physikalische Adresse  (20 Bi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1" name=""/>
          <p:cNvSpPr/>
          <p:nvPr/>
        </p:nvSpPr>
        <p:spPr>
          <a:xfrm rot="16200000">
            <a:off x="6129360" y="1385640"/>
            <a:ext cx="104760" cy="2485800"/>
          </a:xfrm>
          <a:custGeom>
            <a:avLst/>
            <a:gdLst>
              <a:gd name="textAreaLeft" fmla="*/ 66960 w 104760"/>
              <a:gd name="textAreaRight" fmla="*/ 105120 w 104760"/>
              <a:gd name="textAreaTop" fmla="*/ 64800 h 2485800"/>
              <a:gd name="textAreaBottom" fmla="*/ 2421000 h 24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5524560" y="3774960"/>
            <a:ext cx="390600" cy="666720"/>
          </a:xfrm>
          <a:prstGeom prst="downArrow">
            <a:avLst>
              <a:gd name="adj1" fmla="val 44713"/>
              <a:gd name="adj2" fmla="val 74780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 rot="16200000">
            <a:off x="5659200" y="2007720"/>
            <a:ext cx="155880" cy="3387600"/>
          </a:xfrm>
          <a:custGeom>
            <a:avLst/>
            <a:gdLst>
              <a:gd name="textAreaLeft" fmla="*/ 99720 w 155880"/>
              <a:gd name="textAreaRight" fmla="*/ 156240 w 155880"/>
              <a:gd name="textAreaTop" fmla="*/ 88200 h 3387600"/>
              <a:gd name="textAreaBottom" fmla="*/ 3299400 h 3387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 flipV="1" rot="5400000">
            <a:off x="5572080" y="3762360"/>
            <a:ext cx="285840" cy="3476880"/>
          </a:xfrm>
          <a:custGeom>
            <a:avLst/>
            <a:gdLst>
              <a:gd name="textAreaLeft" fmla="*/ 182520 w 285840"/>
              <a:gd name="textAreaRight" fmla="*/ 286200 w 285840"/>
              <a:gd name="textAreaTop" fmla="*/ 90360 h 3476880"/>
              <a:gd name="textAreaBottom" fmla="*/ 3386520 h 3476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157"/>
                </a:lnTo>
                <a:cubicBezTo>
                  <a:pt x="10800" y="10057"/>
                  <a:pt x="5400" y="10957"/>
                  <a:pt x="0" y="10957"/>
                </a:cubicBezTo>
                <a:cubicBezTo>
                  <a:pt x="5400" y="10957"/>
                  <a:pt x="10800" y="11857"/>
                  <a:pt x="10800" y="12757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7673400" y="2009880"/>
            <a:ext cx="1253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fset zu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sisadres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7673400" y="3114720"/>
            <a:ext cx="1253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gment-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sisadres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"/>
          <p:cNvSpPr/>
          <p:nvPr/>
        </p:nvSpPr>
        <p:spPr>
          <a:xfrm>
            <a:off x="5921280" y="2644920"/>
            <a:ext cx="1505160" cy="3558960"/>
          </a:xfrm>
          <a:prstGeom prst="cube">
            <a:avLst>
              <a:gd name="adj" fmla="val 6893"/>
            </a:avLst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5921280" y="3193920"/>
            <a:ext cx="1390680" cy="9622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5921280" y="4584600"/>
            <a:ext cx="1390680" cy="1425600"/>
          </a:xfrm>
          <a:prstGeom prst="rect">
            <a:avLst/>
          </a:prstGeom>
          <a:solidFill>
            <a:srgbClr val="33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99"/>
                </a:solidFill>
                <a:latin typeface="Arial"/>
              </a:rPr>
              <a:t>Adressierungs-Modi des 80286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412920" y="1087560"/>
            <a:ext cx="8221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99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000" spc="-1" strike="noStrike">
                <a:solidFill>
                  <a:srgbClr val="000000"/>
                </a:solidFill>
                <a:latin typeface="Arial"/>
              </a:rPr>
              <a:t>Protected (Virtual Address) Mode </a:t>
            </a:r>
            <a:br>
              <a:rPr sz="2000"/>
            </a:br>
            <a:r>
              <a:rPr b="1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Modus mit vergrößertem Adressraum und erweiterten Fähigkeiten zu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Speicherschutz, Multitask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5921280" y="3527280"/>
            <a:ext cx="1390680" cy="219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ff"/>
                </a:solidFill>
                <a:latin typeface="Arial"/>
              </a:rPr>
              <a:t>Oper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5921280" y="5032440"/>
            <a:ext cx="1390680" cy="542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ff"/>
                </a:solidFill>
                <a:latin typeface="Arial"/>
              </a:rPr>
              <a:t>Segment-</a:t>
            </a:r>
            <a:br>
              <a:rPr sz="1600"/>
            </a:br>
            <a:r>
              <a:rPr b="1" lang="de-DE" sz="1600" spc="-1" strike="noStrike">
                <a:solidFill>
                  <a:srgbClr val="0000ff"/>
                </a:solidFill>
                <a:latin typeface="Arial"/>
              </a:rPr>
              <a:t>Deskr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7502400" y="4575240"/>
            <a:ext cx="190800" cy="1238040"/>
          </a:xfrm>
          <a:custGeom>
            <a:avLst/>
            <a:gdLst>
              <a:gd name="textAreaLeft" fmla="*/ 0 w 190800"/>
              <a:gd name="textAreaRight" fmla="*/ 68760 w 190800"/>
              <a:gd name="textAreaTop" fmla="*/ 32040 h 1238040"/>
              <a:gd name="textAreaBottom" fmla="*/ 1206000 h 123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7531200" y="3203640"/>
            <a:ext cx="171360" cy="923760"/>
          </a:xfrm>
          <a:custGeom>
            <a:avLst/>
            <a:gdLst>
              <a:gd name="textAreaLeft" fmla="*/ 0 w 171360"/>
              <a:gd name="textAreaRight" fmla="*/ 61920 w 171360"/>
              <a:gd name="textAreaTop" fmla="*/ 23760 h 923760"/>
              <a:gd name="textAreaBottom" fmla="*/ 900000 h 923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851040" y="2260440"/>
            <a:ext cx="4419360" cy="3848400"/>
          </a:xfrm>
          <a:prstGeom prst="rect">
            <a:avLst/>
          </a:prstGeom>
          <a:solidFill>
            <a:srgbClr val="d9fff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1244520" y="2629080"/>
            <a:ext cx="1690920" cy="342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elek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 flipH="1" rot="16200000">
            <a:off x="3606480" y="3784320"/>
            <a:ext cx="1600200" cy="876240"/>
          </a:xfrm>
          <a:custGeom>
            <a:avLst/>
            <a:gdLst>
              <a:gd name="textAreaLeft" fmla="*/ 267840 w 1600200"/>
              <a:gd name="textAreaRight" fmla="*/ 1332360 w 1600200"/>
              <a:gd name="textAreaTop" fmla="*/ 146520 h 876240"/>
              <a:gd name="textAreaBottom" fmla="*/ 729720 h 876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237" y="21600"/>
                </a:lnTo>
                <a:lnTo>
                  <a:pt x="3363" y="21600"/>
                </a:lnTo>
                <a:close/>
              </a:path>
            </a:pathLst>
          </a:cu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2730600" y="4724280"/>
            <a:ext cx="1257120" cy="609840"/>
          </a:xfrm>
          <a:custGeom>
            <a:avLst/>
            <a:gdLst/>
            <a:ahLst/>
            <a:rect l="l" t="t" r="r" b="b"/>
            <a:pathLst>
              <a:path w="792" h="384">
                <a:moveTo>
                  <a:pt x="0" y="384"/>
                </a:moveTo>
                <a:lnTo>
                  <a:pt x="0" y="8"/>
                </a:lnTo>
                <a:lnTo>
                  <a:pt x="792" y="0"/>
                </a:lnTo>
              </a:path>
            </a:pathLst>
          </a:cu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 flipH="1">
            <a:off x="3974760" y="5499000"/>
            <a:ext cx="19429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 rot="5400000">
            <a:off x="3932280" y="399816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dresse-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ddier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2933640" y="2629080"/>
            <a:ext cx="1690920" cy="342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Off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1511280" y="5334120"/>
            <a:ext cx="2476440" cy="3301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Segment-Basis Adres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1413000" y="5043600"/>
            <a:ext cx="272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23                                     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 rot="5400000">
            <a:off x="3949560" y="4127400"/>
            <a:ext cx="291960" cy="2667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 flipV="1">
            <a:off x="3683160" y="2983680"/>
            <a:ext cx="291960" cy="762120"/>
          </a:xfrm>
          <a:custGeom>
            <a:avLst/>
            <a:gdLst/>
            <a:ahLst/>
            <a:rect l="l" t="t" r="r" b="b"/>
            <a:pathLst>
              <a:path w="792" h="384">
                <a:moveTo>
                  <a:pt x="0" y="384"/>
                </a:moveTo>
                <a:lnTo>
                  <a:pt x="0" y="8"/>
                </a:lnTo>
                <a:lnTo>
                  <a:pt x="792" y="0"/>
                </a:lnTo>
              </a:path>
            </a:pathLst>
          </a:cu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1247760" y="2338560"/>
            <a:ext cx="362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3344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31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16  15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1168560" y="2971800"/>
            <a:ext cx="5460840" cy="2946240"/>
          </a:xfrm>
          <a:custGeom>
            <a:avLst/>
            <a:gdLst/>
            <a:ahLst/>
            <a:rect l="l" t="t" r="r" b="b"/>
            <a:pathLst>
              <a:path w="3488" h="1856">
                <a:moveTo>
                  <a:pt x="576" y="0"/>
                </a:moveTo>
                <a:lnTo>
                  <a:pt x="576" y="192"/>
                </a:lnTo>
                <a:lnTo>
                  <a:pt x="0" y="192"/>
                </a:lnTo>
                <a:lnTo>
                  <a:pt x="0" y="1856"/>
                </a:lnTo>
                <a:lnTo>
                  <a:pt x="3488" y="1856"/>
                </a:lnTo>
                <a:lnTo>
                  <a:pt x="3488" y="164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4838760" y="3657600"/>
            <a:ext cx="1104840" cy="558720"/>
          </a:xfrm>
          <a:custGeom>
            <a:avLst/>
            <a:gdLst/>
            <a:ahLst/>
            <a:rect l="l" t="t" r="r" b="b"/>
            <a:pathLst>
              <a:path w="696" h="352">
                <a:moveTo>
                  <a:pt x="0" y="352"/>
                </a:moveTo>
                <a:lnTo>
                  <a:pt x="440" y="352"/>
                </a:lnTo>
                <a:lnTo>
                  <a:pt x="440" y="0"/>
                </a:lnTo>
                <a:lnTo>
                  <a:pt x="696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7835040" y="3500280"/>
            <a:ext cx="109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eg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7759080" y="4745160"/>
            <a:ext cx="129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egment-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eskriptor-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abel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1601280" y="3587760"/>
            <a:ext cx="125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99"/>
                </a:solidFill>
                <a:latin typeface="Arial"/>
              </a:rPr>
              <a:t>CP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5923440" y="2209680"/>
            <a:ext cx="146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99"/>
                </a:solidFill>
                <a:latin typeface="Arial"/>
              </a:rPr>
              <a:t>Spei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99"/>
                </a:solidFill>
                <a:latin typeface="Arial"/>
              </a:rPr>
              <a:t>Betriebsystem verkleinert die semantische Lücke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200240" y="3486240"/>
            <a:ext cx="2609640" cy="2104920"/>
            <a:chOff x="1200240" y="3486240"/>
            <a:chExt cx="2609640" cy="2104920"/>
          </a:xfrm>
        </p:grpSpPr>
        <p:sp>
          <p:nvSpPr>
            <p:cNvPr id="54" name=""/>
            <p:cNvSpPr/>
            <p:nvPr/>
          </p:nvSpPr>
          <p:spPr>
            <a:xfrm>
              <a:off x="1200240" y="3486240"/>
              <a:ext cx="2600280" cy="56196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Anwendung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209600" y="5029200"/>
              <a:ext cx="2600280" cy="561960"/>
            </a:xfrm>
            <a:prstGeom prst="rect">
              <a:avLst/>
            </a:prstGeom>
            <a:solidFill>
              <a:srgbClr val="ffe26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Hardwa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1200240" y="1190520"/>
            <a:ext cx="6560280" cy="1943280"/>
            <a:chOff x="1200240" y="1190520"/>
            <a:chExt cx="6560280" cy="1943280"/>
          </a:xfrm>
        </p:grpSpPr>
        <p:sp>
          <p:nvSpPr>
            <p:cNvPr id="57" name=""/>
            <p:cNvSpPr/>
            <p:nvPr/>
          </p:nvSpPr>
          <p:spPr>
            <a:xfrm>
              <a:off x="1200240" y="1190520"/>
              <a:ext cx="2600280" cy="56196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Anwendung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209600" y="2571840"/>
              <a:ext cx="2600280" cy="561960"/>
            </a:xfrm>
            <a:prstGeom prst="rect">
              <a:avLst/>
            </a:prstGeom>
            <a:solidFill>
              <a:srgbClr val="ffe26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Hardwa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048200" y="2162160"/>
              <a:ext cx="647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972320" y="1897200"/>
              <a:ext cx="2788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semantische Lück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28960" y="1762200"/>
              <a:ext cx="228600" cy="80964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20880 h 809640"/>
                <a:gd name="textAreaBottom" fmla="*/ 788760 h 80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519840" y="4057560"/>
            <a:ext cx="7679160" cy="2164680"/>
            <a:chOff x="519840" y="4057560"/>
            <a:chExt cx="7679160" cy="2164680"/>
          </a:xfrm>
        </p:grpSpPr>
        <p:sp>
          <p:nvSpPr>
            <p:cNvPr id="63" name=""/>
            <p:cNvSpPr/>
            <p:nvPr/>
          </p:nvSpPr>
          <p:spPr>
            <a:xfrm>
              <a:off x="519840" y="5762520"/>
              <a:ext cx="7530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Betriebsystem erweitert die Fähigkeiten der Hardware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09600" y="4467240"/>
              <a:ext cx="2600280" cy="561960"/>
            </a:xfrm>
            <a:prstGeom prst="rect">
              <a:avLst/>
            </a:prstGeom>
            <a:solidFill>
              <a:srgbClr val="ff99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Betriebssyste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410800" y="4068720"/>
              <a:ext cx="2788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semantische Lück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819600" y="4057560"/>
              <a:ext cx="228600" cy="42876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11160 h 428760"/>
                <a:gd name="textAreaBottom" fmla="*/ 417600 h 428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000680" y="4267080"/>
              <a:ext cx="647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99"/>
                </a:solidFill>
                <a:latin typeface="Arial"/>
              </a:rPr>
              <a:t>Adressierungs-Modi des 80286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460440" y="1392120"/>
            <a:ext cx="7943760" cy="428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Der Segment-Selektor spezifiziert hier nicht die Basisadresse des Segments selbst, sondern verweist auf den </a:t>
            </a:r>
            <a:br>
              <a:rPr sz="2000"/>
            </a:br>
            <a:r>
              <a:rPr b="1" sz="2000" spc="-1" strike="noStrike">
                <a:solidFill>
                  <a:srgbClr val="000000"/>
                </a:solidFill>
                <a:latin typeface="Arial"/>
              </a:rPr>
              <a:t>Segment Deskriptor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 in der </a:t>
            </a:r>
            <a:r>
              <a:rPr b="1" sz="2000" spc="-1" strike="noStrike">
                <a:solidFill>
                  <a:srgbClr val="000000"/>
                </a:solidFill>
                <a:latin typeface="Arial"/>
              </a:rPr>
              <a:t>Segment-Deskriptor-Tabelle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 im Hauptspeic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Jeder Segment-Deskriptor beschreibt das zugehörige Segment durch folgende Attribu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380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die Segment-Basisadresse (</a:t>
            </a:r>
            <a:r>
              <a:rPr b="0" i="1" sz="2000" spc="-1" strike="noStrike">
                <a:solidFill>
                  <a:srgbClr val="000000"/>
                </a:solidFill>
                <a:latin typeface="Arial"/>
              </a:rPr>
              <a:t>base address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624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380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die Segment-Größe in Bytes (</a:t>
            </a:r>
            <a:r>
              <a:rPr b="0" i="1" sz="2000" spc="-1" strike="noStrike">
                <a:solidFill>
                  <a:srgbClr val="000000"/>
                </a:solidFill>
                <a:latin typeface="Arial"/>
              </a:rPr>
              <a:t>limit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624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380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die Zugriffsrechte auf das Segment (</a:t>
            </a:r>
            <a:r>
              <a:rPr b="0" i="1" sz="2000" spc="-1" strike="noStrike">
                <a:solidFill>
                  <a:srgbClr val="000000"/>
                </a:solidFill>
                <a:latin typeface="Arial"/>
              </a:rPr>
              <a:t>access rights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Abbildung eines logischen 32-Bit Adressraums auf einen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physikalischen 24 Bit Adressrau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4.6 Seitenwechsel (Paging)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1652760" y="2666880"/>
            <a:ext cx="2965320" cy="2268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 rot="5400000">
            <a:off x="20160" y="3560760"/>
            <a:ext cx="2278080" cy="480960"/>
          </a:xfrm>
          <a:custGeom>
            <a:avLst/>
            <a:gdLst>
              <a:gd name="textAreaLeft" fmla="*/ 285840 w 2278080"/>
              <a:gd name="textAreaRight" fmla="*/ 1992240 w 2278080"/>
              <a:gd name="textAreaTop" fmla="*/ 60120 h 480960"/>
              <a:gd name="textAreaBottom" fmla="*/ 420840 h 480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869" y="21600"/>
                </a:lnTo>
                <a:lnTo>
                  <a:pt x="1731" y="2160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2416320" y="5796000"/>
            <a:ext cx="5032080" cy="3380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2587680" y="1523880"/>
            <a:ext cx="4860720" cy="3384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2317320" y="555948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7230960" y="55306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1655640" y="2666880"/>
            <a:ext cx="2965680" cy="239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1652760" y="2905200"/>
            <a:ext cx="2965320" cy="239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1652760" y="4686480"/>
            <a:ext cx="2965320" cy="239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1390680" y="2800440"/>
            <a:ext cx="276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390680" y="3029040"/>
            <a:ext cx="276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1400040" y="3276720"/>
            <a:ext cx="27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1400040" y="4800600"/>
            <a:ext cx="27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1163520" y="2668680"/>
            <a:ext cx="279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0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941400" y="4554360"/>
            <a:ext cx="55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1400" spc="-1" strike="noStrike" baseline="30000">
                <a:solidFill>
                  <a:srgbClr val="000000"/>
                </a:solidFill>
                <a:latin typeface="Arial"/>
              </a:rPr>
              <a:t>20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2193840" y="3821040"/>
            <a:ext cx="17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0-Bit-Rahmen-N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269640" y="1459080"/>
            <a:ext cx="210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irtuelle Adres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-2160" y="5154480"/>
            <a:ext cx="273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hysikalische Adres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1722960" y="233208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eitentabel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2843280" y="26226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2843280" y="28605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2841840" y="30891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6029280" y="1514520"/>
            <a:ext cx="0" cy="342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0" name=""/>
          <p:cNvGrpSpPr/>
          <p:nvPr/>
        </p:nvGrpSpPr>
        <p:grpSpPr>
          <a:xfrm>
            <a:off x="6374880" y="1544760"/>
            <a:ext cx="835920" cy="4583520"/>
            <a:chOff x="6374880" y="1544760"/>
            <a:chExt cx="835920" cy="4583520"/>
          </a:xfrm>
        </p:grpSpPr>
        <p:sp>
          <p:nvSpPr>
            <p:cNvPr id="891" name=""/>
            <p:cNvSpPr/>
            <p:nvPr/>
          </p:nvSpPr>
          <p:spPr>
            <a:xfrm flipH="1">
              <a:off x="6620040" y="2049480"/>
              <a:ext cx="133200" cy="123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6717960" y="1892160"/>
              <a:ext cx="37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6374880" y="1544760"/>
              <a:ext cx="83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Byte-Nr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6696000" y="1876320"/>
              <a:ext cx="0" cy="392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6374880" y="5821200"/>
              <a:ext cx="83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Byte-Nr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6" name=""/>
          <p:cNvSpPr/>
          <p:nvPr/>
        </p:nvSpPr>
        <p:spPr>
          <a:xfrm>
            <a:off x="3813120" y="5821200"/>
            <a:ext cx="114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ahmen-N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6105600" y="5819760"/>
            <a:ext cx="0" cy="333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8" name=""/>
          <p:cNvGrpSpPr/>
          <p:nvPr/>
        </p:nvGrpSpPr>
        <p:grpSpPr>
          <a:xfrm>
            <a:off x="1104840" y="1544760"/>
            <a:ext cx="3734280" cy="4246560"/>
            <a:chOff x="1104840" y="1544760"/>
            <a:chExt cx="3734280" cy="4246560"/>
          </a:xfrm>
        </p:grpSpPr>
        <p:sp>
          <p:nvSpPr>
            <p:cNvPr id="899" name=""/>
            <p:cNvSpPr/>
            <p:nvPr/>
          </p:nvSpPr>
          <p:spPr>
            <a:xfrm>
              <a:off x="3355560" y="5006880"/>
              <a:ext cx="37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1104840" y="1857240"/>
              <a:ext cx="3314880" cy="933480"/>
            </a:xfrm>
            <a:custGeom>
              <a:avLst/>
              <a:gdLst/>
              <a:ahLst/>
              <a:rect l="l" t="t" r="r" b="b"/>
              <a:pathLst>
                <a:path w="2088" h="588">
                  <a:moveTo>
                    <a:pt x="2088" y="0"/>
                  </a:moveTo>
                  <a:lnTo>
                    <a:pt x="2088" y="240"/>
                  </a:lnTo>
                  <a:lnTo>
                    <a:pt x="0" y="240"/>
                  </a:lnTo>
                  <a:lnTo>
                    <a:pt x="0" y="58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 flipH="1">
              <a:off x="4343040" y="2049480"/>
              <a:ext cx="152280" cy="104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 flipH="1">
              <a:off x="3219480" y="5133960"/>
              <a:ext cx="133200" cy="123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4460400" y="1892160"/>
              <a:ext cx="37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3774600" y="1544760"/>
              <a:ext cx="98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Seiten-Nr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3286080" y="4933800"/>
              <a:ext cx="0" cy="857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6" name=""/>
          <p:cNvSpPr/>
          <p:nvPr/>
        </p:nvSpPr>
        <p:spPr>
          <a:xfrm>
            <a:off x="2507760" y="124452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7230960" y="12445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5724000" y="123516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1652760" y="3143160"/>
            <a:ext cx="2965320" cy="239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1652760" y="3371760"/>
            <a:ext cx="2965320" cy="239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2816280" y="33307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1400040" y="3479760"/>
            <a:ext cx="27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7134120" y="2608200"/>
            <a:ext cx="18194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eitengröß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4 Kbyt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"/>
          <p:cNvSpPr/>
          <p:nvPr/>
        </p:nvSpPr>
        <p:spPr>
          <a:xfrm>
            <a:off x="5548320" y="4933800"/>
            <a:ext cx="1467000" cy="390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2224080" y="4962600"/>
            <a:ext cx="1467000" cy="390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Virtueller und physikalischer Adressraum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2224080" y="2619360"/>
            <a:ext cx="1467000" cy="390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2224080" y="3009960"/>
            <a:ext cx="1467000" cy="390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2224080" y="3400560"/>
            <a:ext cx="1467000" cy="3902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2224080" y="3790800"/>
            <a:ext cx="1467000" cy="39060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2224080" y="4181400"/>
            <a:ext cx="1467000" cy="39060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2224080" y="4572000"/>
            <a:ext cx="1467000" cy="39060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5538960" y="2200320"/>
            <a:ext cx="1466640" cy="39060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5538960" y="2981160"/>
            <a:ext cx="1466640" cy="390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5538960" y="3371760"/>
            <a:ext cx="1466640" cy="390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5538960" y="3762360"/>
            <a:ext cx="1466640" cy="39060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5538960" y="4152960"/>
            <a:ext cx="1466640" cy="39060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5538960" y="4543560"/>
            <a:ext cx="1466640" cy="3902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2216160" y="4844880"/>
            <a:ext cx="0" cy="581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7010280" y="4886280"/>
            <a:ext cx="0" cy="581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692520" y="4826160"/>
            <a:ext cx="0" cy="581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5530680" y="4876920"/>
            <a:ext cx="0" cy="581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2224080" y="2228760"/>
            <a:ext cx="1467000" cy="390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538960" y="2590920"/>
            <a:ext cx="1466640" cy="3902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1600560" y="168768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irtueller Adressra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4970520" y="1735200"/>
            <a:ext cx="322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hysikalischer Adressra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2232000" y="223056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e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5546880" y="2208240"/>
            <a:ext cx="119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ahm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422280" y="2687760"/>
            <a:ext cx="160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eg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1857240" y="2238480"/>
            <a:ext cx="0" cy="15336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3324240" y="2255760"/>
            <a:ext cx="3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3324240" y="2637000"/>
            <a:ext cx="3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3324240" y="3005280"/>
            <a:ext cx="3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3324240" y="3398760"/>
            <a:ext cx="3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3324240" y="3792600"/>
            <a:ext cx="3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324240" y="4173480"/>
            <a:ext cx="3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3324240" y="4541760"/>
            <a:ext cx="3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6676920" y="2293920"/>
            <a:ext cx="3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6676920" y="2674800"/>
            <a:ext cx="3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6676920" y="3043080"/>
            <a:ext cx="3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6676920" y="3436920"/>
            <a:ext cx="3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6676920" y="3830760"/>
            <a:ext cx="3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6676920" y="4211640"/>
            <a:ext cx="3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6676920" y="4579920"/>
            <a:ext cx="3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3695760" y="2438280"/>
            <a:ext cx="1854000" cy="1155960"/>
          </a:xfrm>
          <a:custGeom>
            <a:avLst/>
            <a:gdLst/>
            <a:ahLst/>
            <a:rect l="l" t="t" r="r" b="b"/>
            <a:pathLst>
              <a:path w="1168" h="728">
                <a:moveTo>
                  <a:pt x="0" y="0"/>
                </a:moveTo>
                <a:lnTo>
                  <a:pt x="376" y="0"/>
                </a:lnTo>
                <a:lnTo>
                  <a:pt x="656" y="728"/>
                </a:lnTo>
                <a:lnTo>
                  <a:pt x="1168" y="72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708360" y="2806560"/>
            <a:ext cx="1854360" cy="1955880"/>
          </a:xfrm>
          <a:custGeom>
            <a:avLst/>
            <a:gdLst/>
            <a:ahLst/>
            <a:rect l="l" t="t" r="r" b="b"/>
            <a:pathLst>
              <a:path w="1168" h="728">
                <a:moveTo>
                  <a:pt x="0" y="0"/>
                </a:moveTo>
                <a:lnTo>
                  <a:pt x="376" y="0"/>
                </a:lnTo>
                <a:lnTo>
                  <a:pt x="656" y="728"/>
                </a:lnTo>
                <a:lnTo>
                  <a:pt x="1168" y="72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 flipV="1">
            <a:off x="3695760" y="2793240"/>
            <a:ext cx="1854000" cy="800280"/>
          </a:xfrm>
          <a:custGeom>
            <a:avLst/>
            <a:gdLst/>
            <a:ahLst/>
            <a:rect l="l" t="t" r="r" b="b"/>
            <a:pathLst>
              <a:path w="1168" h="728">
                <a:moveTo>
                  <a:pt x="0" y="0"/>
                </a:moveTo>
                <a:lnTo>
                  <a:pt x="376" y="0"/>
                </a:lnTo>
                <a:lnTo>
                  <a:pt x="656" y="728"/>
                </a:lnTo>
                <a:lnTo>
                  <a:pt x="1168" y="72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695760" y="3200400"/>
            <a:ext cx="1866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4.6  Seitenorientierte Speicherverwaltung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451440" y="1144440"/>
            <a:ext cx="813600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Der Speicher wird in viele kleine Seiten gleicher Länge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untertei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Seitenlängen von 256 Byte bis 4 kBy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Im Unterschied zu Segmenten können Seiten nicht an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beliebiger Stelle im Speicher beginnen, sondern nur in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einem festen an der Seitengröße orientierten R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Fallbeispiel Intel 80386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Aus Kompatibilitätsgründen zum 80286 enthält der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80386 sowohl eine Segment-Verwaltung wie auch eine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Seiten-Verwalt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/>
          <p:nvPr/>
        </p:nvSpPr>
        <p:spPr>
          <a:xfrm>
            <a:off x="393840" y="1994040"/>
            <a:ext cx="1841400" cy="0"/>
          </a:xfrm>
          <a:prstGeom prst="line">
            <a:avLst/>
          </a:prstGeom>
          <a:ln w="7632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3759120" y="1994040"/>
            <a:ext cx="1714680" cy="0"/>
          </a:xfrm>
          <a:prstGeom prst="line">
            <a:avLst/>
          </a:prstGeom>
          <a:ln w="7632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 flipV="1">
            <a:off x="6730920" y="1993680"/>
            <a:ext cx="1968480" cy="12600"/>
          </a:xfrm>
          <a:prstGeom prst="line">
            <a:avLst/>
          </a:prstGeom>
          <a:ln w="7632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 flipV="1">
            <a:off x="2952720" y="2381400"/>
            <a:ext cx="12600" cy="40608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 flipV="1">
            <a:off x="6076800" y="2368080"/>
            <a:ext cx="12960" cy="40644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99"/>
                </a:solidFill>
                <a:latin typeface="Arial"/>
              </a:rPr>
              <a:t>Berechnung der physikalischen Adressen beim 80386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466560" y="3605040"/>
            <a:ext cx="82425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Zunächst wird wie beim 80286 die logische Adresse über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eine Segment-Verwaltung umgesetzt. Die entstehende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Adresse heißt hier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lineare Adres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Im Unterschied zum 80286 wurde die logische Adresse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beim 80386 jedoch auf 48 Bit erweitert, die lineare Adresse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(entspricht der physikalischen beim 80286) auf 32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2222640" y="1568520"/>
            <a:ext cx="1523880" cy="850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egment-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he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5473800" y="1568520"/>
            <a:ext cx="1257120" cy="850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aging-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he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2311560" y="2762280"/>
            <a:ext cx="1295280" cy="6350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eskritor-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abell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5511960" y="2774880"/>
            <a:ext cx="1143000" cy="6350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eiten-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abell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415800" y="1192320"/>
            <a:ext cx="127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ogische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dres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3908520" y="1192320"/>
            <a:ext cx="111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ineare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dres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7007040" y="1192320"/>
            <a:ext cx="172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hysikalische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dres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303480" y="2138400"/>
            <a:ext cx="186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elektor:Off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99"/>
                </a:solidFill>
                <a:latin typeface="Arial"/>
              </a:rPr>
              <a:t>Berechnung der physikalischen Adressen beim 80386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416520" y="1203480"/>
            <a:ext cx="8207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Die nachgeschaltete Seiten-Verwaltung kann optional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abgeschaltet werd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Kompatibilitätsmode zum 80286,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lineare Adresse = physikalische Adres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Anderenfalls wird aus der linearen Adresse durch die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Seiten-Verwaltung die physikalische Adresse ermittel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(bei Prozessoren mit ausschliesslich Seiten-Verwaltung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entspricht die lineare Adresse somit der logischen Adres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"/>
          <p:cNvSpPr/>
          <p:nvPr/>
        </p:nvSpPr>
        <p:spPr>
          <a:xfrm>
            <a:off x="4267080" y="5029200"/>
            <a:ext cx="4827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99"/>
                </a:solidFill>
                <a:latin typeface="Arial"/>
              </a:rPr>
              <a:t>Berechnung der physikalischen aus der linearen Adresse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7381800" y="1222200"/>
            <a:ext cx="1276560" cy="4397400"/>
          </a:xfrm>
          <a:prstGeom prst="cube">
            <a:avLst>
              <a:gd name="adj" fmla="val 6893"/>
            </a:avLst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7381800" y="2114640"/>
            <a:ext cx="1162080" cy="1317600"/>
          </a:xfrm>
          <a:prstGeom prst="rect">
            <a:avLst/>
          </a:prstGeom>
          <a:solidFill>
            <a:srgbClr val="85ffd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7381800" y="2435400"/>
            <a:ext cx="285840" cy="269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054080" y="1676520"/>
            <a:ext cx="1690560" cy="342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 flipV="1">
            <a:off x="1631880" y="4438440"/>
            <a:ext cx="0" cy="1104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2413080" y="1676520"/>
            <a:ext cx="1474560" cy="342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age T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419040" y="5397480"/>
            <a:ext cx="507960" cy="26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320760" y="504360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R 3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4660920" y="1955880"/>
            <a:ext cx="1422360" cy="761760"/>
          </a:xfrm>
          <a:custGeom>
            <a:avLst/>
            <a:gdLst/>
            <a:ahLst/>
            <a:rect l="l" t="t" r="r" b="b"/>
            <a:pathLst>
              <a:path w="816" h="792">
                <a:moveTo>
                  <a:pt x="0" y="0"/>
                </a:moveTo>
                <a:lnTo>
                  <a:pt x="0" y="783"/>
                </a:lnTo>
                <a:lnTo>
                  <a:pt x="816" y="792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981000" y="1995480"/>
            <a:ext cx="45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34960"/>
                <a:tab algn="l" pos="285768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31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7251840" y="5597640"/>
            <a:ext cx="163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99"/>
                </a:solidFill>
                <a:latin typeface="Arial"/>
              </a:rPr>
              <a:t>Physikalischer</a:t>
            </a:r>
            <a:br>
              <a:rPr sz="1800"/>
            </a:br>
            <a:r>
              <a:rPr b="0" lang="de-DE" sz="1800" spc="-1" strike="noStrike">
                <a:solidFill>
                  <a:srgbClr val="000099"/>
                </a:solidFill>
                <a:latin typeface="Arial"/>
              </a:rPr>
              <a:t>Adressra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7674120" y="2435400"/>
            <a:ext cx="285480" cy="269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7966080" y="2435400"/>
            <a:ext cx="285840" cy="269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8258040" y="2435400"/>
            <a:ext cx="285840" cy="269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7466760" y="279072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99"/>
                </a:solidFill>
                <a:latin typeface="Arial"/>
              </a:rPr>
              <a:t>4-Kbyte</a:t>
            </a:r>
            <a:br>
              <a:rPr sz="1800"/>
            </a:br>
            <a:r>
              <a:rPr b="0" lang="de-DE" sz="1800" spc="-1" strike="noStrike">
                <a:solidFill>
                  <a:srgbClr val="000099"/>
                </a:solidFill>
                <a:latin typeface="Arial"/>
              </a:rPr>
              <a:t>Se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3886200" y="1676520"/>
            <a:ext cx="1487520" cy="342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Off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927000" y="5397480"/>
            <a:ext cx="343080" cy="26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6095880" y="2489040"/>
            <a:ext cx="419400" cy="4446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6527880" y="2717640"/>
            <a:ext cx="863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4740120" y="3432240"/>
            <a:ext cx="1263960" cy="2187360"/>
          </a:xfrm>
          <a:prstGeom prst="cube">
            <a:avLst>
              <a:gd name="adj" fmla="val 6893"/>
            </a:avLst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4740120" y="4759200"/>
            <a:ext cx="285840" cy="270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5032440" y="4759200"/>
            <a:ext cx="285840" cy="270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5324400" y="4759200"/>
            <a:ext cx="285840" cy="270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5616720" y="4759200"/>
            <a:ext cx="285480" cy="270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 rot="16200000">
            <a:off x="5118120" y="3708360"/>
            <a:ext cx="1993680" cy="393840"/>
          </a:xfrm>
          <a:custGeom>
            <a:avLst/>
            <a:gdLst/>
            <a:ahLst/>
            <a:rect l="l" t="t" r="r" b="b"/>
            <a:pathLst>
              <a:path w="816" h="792">
                <a:moveTo>
                  <a:pt x="0" y="0"/>
                </a:moveTo>
                <a:lnTo>
                  <a:pt x="0" y="783"/>
                </a:lnTo>
                <a:lnTo>
                  <a:pt x="816" y="792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4000680" y="4800600"/>
            <a:ext cx="419040" cy="4446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3111480" y="2019240"/>
            <a:ext cx="1130400" cy="2768760"/>
          </a:xfrm>
          <a:custGeom>
            <a:avLst/>
            <a:gdLst/>
            <a:ahLst/>
            <a:rect l="l" t="t" r="r" b="b"/>
            <a:pathLst>
              <a:path w="480" h="1744">
                <a:moveTo>
                  <a:pt x="0" y="0"/>
                </a:moveTo>
                <a:lnTo>
                  <a:pt x="0" y="568"/>
                </a:lnTo>
                <a:lnTo>
                  <a:pt x="480" y="568"/>
                </a:lnTo>
                <a:lnTo>
                  <a:pt x="480" y="1744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2276640" y="3432240"/>
            <a:ext cx="1263600" cy="2187360"/>
          </a:xfrm>
          <a:prstGeom prst="cube">
            <a:avLst>
              <a:gd name="adj" fmla="val 6893"/>
            </a:avLst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2276640" y="3984480"/>
            <a:ext cx="285480" cy="270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2568600" y="3984480"/>
            <a:ext cx="285840" cy="270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2860560" y="3984480"/>
            <a:ext cx="285840" cy="270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3152880" y="3984480"/>
            <a:ext cx="285480" cy="270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1397160" y="4013280"/>
            <a:ext cx="419040" cy="4446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1816200" y="4241880"/>
            <a:ext cx="4824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3720960" y="501660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3720960" y="4127400"/>
            <a:ext cx="1054080" cy="1473480"/>
          </a:xfrm>
          <a:custGeom>
            <a:avLst/>
            <a:gdLst/>
            <a:ahLst/>
            <a:rect l="l" t="t" r="r" b="b"/>
            <a:pathLst>
              <a:path w="816" h="792">
                <a:moveTo>
                  <a:pt x="0" y="0"/>
                </a:moveTo>
                <a:lnTo>
                  <a:pt x="0" y="783"/>
                </a:lnTo>
                <a:lnTo>
                  <a:pt x="816" y="792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3429000" y="414036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 flipV="1">
            <a:off x="836640" y="5524560"/>
            <a:ext cx="1436760" cy="9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1619280" y="2025000"/>
            <a:ext cx="0" cy="1981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2197800" y="5597640"/>
            <a:ext cx="170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99"/>
                </a:solidFill>
                <a:latin typeface="Arial"/>
              </a:rPr>
              <a:t>Seitentabellen-</a:t>
            </a:r>
            <a:br>
              <a:rPr sz="1800"/>
            </a:br>
            <a:r>
              <a:rPr b="0" lang="de-DE" sz="1800" spc="-1" strike="noStrike">
                <a:solidFill>
                  <a:srgbClr val="000099"/>
                </a:solidFill>
                <a:latin typeface="Arial"/>
              </a:rPr>
              <a:t>Verzeichn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4622040" y="5597640"/>
            <a:ext cx="90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99"/>
                </a:solidFill>
                <a:latin typeface="Arial"/>
              </a:rPr>
              <a:t>Seiten-</a:t>
            </a:r>
            <a:br>
              <a:rPr sz="1800"/>
            </a:br>
            <a:r>
              <a:rPr b="0" lang="de-DE" sz="1800" spc="-1" strike="noStrike">
                <a:solidFill>
                  <a:srgbClr val="000099"/>
                </a:solidFill>
                <a:latin typeface="Arial"/>
              </a:rPr>
              <a:t>tabel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1670760" y="1257480"/>
            <a:ext cx="239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ff"/>
                </a:solidFill>
                <a:latin typeface="Arial"/>
              </a:rPr>
              <a:t>Lineare Adres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5594760" y="2054160"/>
            <a:ext cx="163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cc99"/>
                </a:solidFill>
                <a:latin typeface="Arial"/>
              </a:rPr>
              <a:t>Konkate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99"/>
                </a:solidFill>
                <a:latin typeface="Arial"/>
              </a:rPr>
              <a:t>Berechnung der physikalischen aus der linearen Adresse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497880" y="1382760"/>
            <a:ext cx="8373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2 stufiges hierarchiches Tabellenverfahre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Seitentabellenverzeichnis </a:t>
            </a:r>
            <a:r>
              <a:rPr b="0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Seitentabellen </a:t>
            </a:r>
            <a:r>
              <a:rPr b="0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Sei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Seitentabellenverzeichnis, Seitentabellen und Seiten sind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jeweils 4 KByte lang, Seitentabellen und -verzeichnis fassen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jeweils 1000 Einträ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"/>
          <p:cNvSpPr/>
          <p:nvPr/>
        </p:nvSpPr>
        <p:spPr>
          <a:xfrm>
            <a:off x="6800760" y="1371600"/>
            <a:ext cx="809640" cy="411480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6810480" y="2048040"/>
            <a:ext cx="793800" cy="119988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300" spc="-1" strike="noStrike">
                <a:solidFill>
                  <a:srgbClr val="000099"/>
                </a:solidFill>
                <a:latin typeface="Arial"/>
              </a:rPr>
              <a:t>Beschleunigung der Adressberechnung durch einen Cache</a:t>
            </a:r>
            <a:endParaRPr b="0" lang="en-US" sz="2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2314440" y="4200480"/>
            <a:ext cx="828720" cy="1257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2314440" y="4200480"/>
            <a:ext cx="828720" cy="12765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4610160" y="4210200"/>
            <a:ext cx="819000" cy="127620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1276200" y="1976400"/>
            <a:ext cx="505080" cy="2570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3143160" y="2009880"/>
            <a:ext cx="1447920" cy="95256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2279520" y="1976400"/>
            <a:ext cx="505080" cy="2570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1781280" y="1976400"/>
            <a:ext cx="504720" cy="2570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2314440" y="4376880"/>
            <a:ext cx="209520" cy="199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2527200" y="4376880"/>
            <a:ext cx="209520" cy="199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2736720" y="4376880"/>
            <a:ext cx="209520" cy="199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2940120" y="4376880"/>
            <a:ext cx="198360" cy="199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6807240" y="2319480"/>
            <a:ext cx="209520" cy="199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7020000" y="2319480"/>
            <a:ext cx="209520" cy="199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7226280" y="2319480"/>
            <a:ext cx="209520" cy="199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7439040" y="2325600"/>
            <a:ext cx="171360" cy="201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4610160" y="4910040"/>
            <a:ext cx="209520" cy="200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4822920" y="4910040"/>
            <a:ext cx="209520" cy="200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5029200" y="4910040"/>
            <a:ext cx="209520" cy="200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5241960" y="4910040"/>
            <a:ext cx="183960" cy="201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2619360" y="1762200"/>
            <a:ext cx="3191040" cy="676080"/>
          </a:xfrm>
          <a:custGeom>
            <a:avLst/>
            <a:gdLst/>
            <a:ahLst/>
            <a:rect l="l" t="t" r="r" b="b"/>
            <a:pathLst>
              <a:path w="2010" h="426">
                <a:moveTo>
                  <a:pt x="0" y="132"/>
                </a:moveTo>
                <a:lnTo>
                  <a:pt x="0" y="0"/>
                </a:lnTo>
                <a:lnTo>
                  <a:pt x="2010" y="6"/>
                </a:lnTo>
                <a:lnTo>
                  <a:pt x="2010" y="4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2076480" y="2276640"/>
            <a:ext cx="2038320" cy="2685960"/>
          </a:xfrm>
          <a:custGeom>
            <a:avLst/>
            <a:gdLst/>
            <a:ahLst/>
            <a:rect l="l" t="t" r="r" b="b"/>
            <a:pathLst>
              <a:path w="1284" h="1692">
                <a:moveTo>
                  <a:pt x="0" y="0"/>
                </a:moveTo>
                <a:lnTo>
                  <a:pt x="6" y="756"/>
                </a:lnTo>
                <a:lnTo>
                  <a:pt x="1284" y="774"/>
                </a:lnTo>
                <a:lnTo>
                  <a:pt x="1284" y="1692"/>
                </a:lnTo>
              </a:path>
            </a:pathLst>
          </a:custGeom>
          <a:noFill/>
          <a:ln w="19080">
            <a:solidFill>
              <a:srgbClr val="000000"/>
            </a:solidFill>
            <a:prstDash val="lg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3152880" y="4486320"/>
            <a:ext cx="1438200" cy="981000"/>
          </a:xfrm>
          <a:custGeom>
            <a:avLst/>
            <a:gdLst/>
            <a:ahLst/>
            <a:rect l="l" t="t" r="r" b="b"/>
            <a:pathLst>
              <a:path w="906" h="636">
                <a:moveTo>
                  <a:pt x="0" y="6"/>
                </a:moveTo>
                <a:lnTo>
                  <a:pt x="240" y="0"/>
                </a:lnTo>
                <a:lnTo>
                  <a:pt x="240" y="636"/>
                </a:lnTo>
                <a:lnTo>
                  <a:pt x="906" y="630"/>
                </a:lnTo>
              </a:path>
            </a:pathLst>
          </a:custGeom>
          <a:noFill/>
          <a:ln w="19080">
            <a:solidFill>
              <a:srgbClr val="000000"/>
            </a:solidFill>
            <a:prstDash val="lg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1533600" y="2257560"/>
            <a:ext cx="1440" cy="2200320"/>
          </a:xfrm>
          <a:custGeom>
            <a:avLst/>
            <a:gdLst/>
            <a:ahLst/>
            <a:rect l="l" t="t" r="r" b="b"/>
            <a:pathLst>
              <a:path w="1" h="1386">
                <a:moveTo>
                  <a:pt x="0" y="0"/>
                </a:moveTo>
                <a:lnTo>
                  <a:pt x="0" y="1386"/>
                </a:lnTo>
              </a:path>
            </a:pathLst>
          </a:custGeom>
          <a:noFill/>
          <a:ln w="19080">
            <a:solidFill>
              <a:srgbClr val="000000"/>
            </a:solidFill>
            <a:prstDash val="lg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 flipV="1">
            <a:off x="1523880" y="2790360"/>
            <a:ext cx="1571760" cy="9720"/>
          </a:xfrm>
          <a:prstGeom prst="line">
            <a:avLst/>
          </a:prstGeom>
          <a:ln w="1908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 flipV="1">
            <a:off x="2085840" y="2514240"/>
            <a:ext cx="1019160" cy="19080"/>
          </a:xfrm>
          <a:prstGeom prst="line">
            <a:avLst/>
          </a:prstGeom>
          <a:ln w="1908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1714680" y="4581360"/>
            <a:ext cx="590400" cy="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 flipV="1">
            <a:off x="1533600" y="4705200"/>
            <a:ext cx="0" cy="61920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1143000" y="5305320"/>
            <a:ext cx="790560" cy="295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1685880" y="5448240"/>
            <a:ext cx="628560" cy="9720"/>
          </a:xfrm>
          <a:custGeom>
            <a:avLst/>
            <a:gdLst/>
            <a:ahLst/>
            <a:rect l="l" t="t" r="r" b="b"/>
            <a:pathLst>
              <a:path w="396" h="6">
                <a:moveTo>
                  <a:pt x="0" y="0"/>
                </a:moveTo>
                <a:lnTo>
                  <a:pt x="396" y="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5429160" y="2666880"/>
            <a:ext cx="381240" cy="2333880"/>
          </a:xfrm>
          <a:custGeom>
            <a:avLst/>
            <a:gdLst/>
            <a:ahLst/>
            <a:rect l="l" t="t" r="r" b="b"/>
            <a:pathLst>
              <a:path w="240" h="1470">
                <a:moveTo>
                  <a:pt x="0" y="1470"/>
                </a:moveTo>
                <a:lnTo>
                  <a:pt x="240" y="1464"/>
                </a:lnTo>
                <a:lnTo>
                  <a:pt x="24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lg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5829480" y="3267000"/>
            <a:ext cx="952200" cy="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5943600" y="2514600"/>
            <a:ext cx="819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 flipV="1">
            <a:off x="4629240" y="2514240"/>
            <a:ext cx="1019160" cy="19080"/>
          </a:xfrm>
          <a:prstGeom prst="line">
            <a:avLst/>
          </a:prstGeom>
          <a:ln w="1908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1409760" y="4495680"/>
            <a:ext cx="295200" cy="20952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5667480" y="2457360"/>
            <a:ext cx="295200" cy="20952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3981600" y="4981680"/>
            <a:ext cx="295200" cy="20952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3543480" y="5079960"/>
            <a:ext cx="431640" cy="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4280040" y="5067360"/>
            <a:ext cx="330120" cy="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581400" y="1608120"/>
            <a:ext cx="17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are Adres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3591720" y="140796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Off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5865840" y="1281240"/>
            <a:ext cx="98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4 Gby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6753600" y="2638440"/>
            <a:ext cx="956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4-kbyte-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e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4532040" y="2081160"/>
            <a:ext cx="131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reffer (hi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3274560" y="2028960"/>
            <a:ext cx="1185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ranslation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ookaside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1598760" y="3529080"/>
            <a:ext cx="202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ein Treffer (mis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1104120" y="528480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R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1165320" y="2208240"/>
            <a:ext cx="178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31      21       11    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5662440" y="239724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1407960" y="444168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3973320" y="492444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300" spc="-1" strike="noStrike">
                <a:solidFill>
                  <a:srgbClr val="000099"/>
                </a:solidFill>
                <a:latin typeface="Arial"/>
              </a:rPr>
              <a:t>Beschleunigung der Adressberechnung durch einen Cache</a:t>
            </a:r>
            <a:endParaRPr b="0" lang="en-US" sz="2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368640" y="1278000"/>
            <a:ext cx="7997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Ein schneller voll-assoziativer Cache (</a:t>
            </a:r>
            <a:r>
              <a:rPr b="0" i="1" sz="2400" spc="-1" strike="noStrike">
                <a:solidFill>
                  <a:srgbClr val="000000"/>
                </a:solidFill>
                <a:latin typeface="Arial"/>
              </a:rPr>
              <a:t>Translation </a:t>
            </a:r>
            <a:br>
              <a:rPr sz="2400"/>
            </a:br>
            <a:r>
              <a:rPr b="0" i="1" sz="2400" spc="-1" strike="noStrike">
                <a:solidFill>
                  <a:srgbClr val="000000"/>
                </a:solidFill>
                <a:latin typeface="Arial"/>
              </a:rPr>
              <a:t>Lookaside Buffer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, TBL) speichert automatisch die 32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zuletzt benutzen Einträge aus Seitentabellenverzeichnis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und Seitentabel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Im Trefferfall (Trefferquote ca. 90 %) muß nicht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auf die im Hauptspeicher liegenden Tabellen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zugegriffen wer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Spezielle Aufgaben von Betriebssystemen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8600" y="1239840"/>
            <a:ext cx="8229600" cy="46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3333cc"/>
              </a:buClr>
              <a:buSzPct val="75000"/>
              <a:buFont typeface="Monotype Sorts" charset="2"/>
              <a:buChar char=""/>
              <a:tabLst>
                <a:tab algn="l" pos="28584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Betriebsmittelverwaltu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3333cc"/>
              </a:buClr>
              <a:buSzPct val="75000"/>
              <a:buFont typeface="Monotype Sorts" charset="2"/>
              <a:buChar char=""/>
              <a:tabLst>
                <a:tab algn="l" pos="28584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Auftragsverwaltung (Prozeßverwaltu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3333cc"/>
              </a:buClr>
              <a:buSzPct val="75000"/>
              <a:buFont typeface="Monotype Sorts" charset="2"/>
              <a:buChar char=""/>
              <a:tabLst>
                <a:tab algn="l" pos="28584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Speicherverwaltu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3333cc"/>
              </a:buClr>
              <a:buSzPct val="75000"/>
              <a:buFont typeface="Monotype Sorts" charset="2"/>
              <a:buChar char=""/>
              <a:tabLst>
                <a:tab algn="l" pos="28584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3333cc"/>
              </a:buClr>
              <a:buSzPct val="75000"/>
              <a:buFont typeface="Monotype Sorts" charset="2"/>
              <a:buChar char=""/>
              <a:tabLst>
                <a:tab algn="l" pos="28584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3333cc"/>
                </a:solidFill>
                <a:latin typeface="Arial"/>
              </a:rPr>
              <a:t>Betriebsmittelverwaltung (</a:t>
            </a:r>
            <a:r>
              <a:rPr b="1" i="1" sz="2400" spc="-1" strike="noStrike">
                <a:solidFill>
                  <a:srgbClr val="3333cc"/>
                </a:solidFill>
                <a:latin typeface="Arial"/>
              </a:rPr>
              <a:t>resource management</a:t>
            </a:r>
            <a:r>
              <a:rPr b="1" sz="2400" spc="-1" strike="noStrike">
                <a:solidFill>
                  <a:srgbClr val="3333cc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28584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Verwaltet alle peripheren Betriebsmittel des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Rechnersystems, wie z.B. Festplatte, Floppy Disk,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CDROM, Drucker,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28584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400" spc="-1" strike="noStrike">
                <a:solidFill>
                  <a:srgbClr val="000099"/>
                </a:solidFill>
                <a:latin typeface="Arial"/>
              </a:rPr>
              <a:t>Ziel: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einfache, effektive und konfliktfreie Nutzung der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Betriebsmittel durch die verschiedenen Prozesse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Anmerkungen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554400" y="1297080"/>
            <a:ext cx="7850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Sowohl bei segmentorientierter wie bei seitenorientierter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Speicherverwaltung gil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Befindet sich eine Seite oder ein Segment nicht im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Hauptspeicher, so löst der Prozessor eine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Unterbrechung aus, um die Seite oder das Segment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durch das Betriebssystem zu laden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(Seiten- oder Segmentfehl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Anmerkungen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501840" y="1181160"/>
            <a:ext cx="79196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Erkennung eines Segmentfehle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Bit im Segment-Deskriptor zeigt an, ob das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Segment im Hauptspeicher ist oder nic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Erkennung eines Seitenfehle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Seitennummer befindet sich nicht in der Seitentabelle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(Seitenfehler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pezielles Kennungbit im Seitentabellen-Verzeichn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(Seitentabellenfehl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Spezielle Aufgaben von Betriebssystemen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98600" y="1239840"/>
            <a:ext cx="8219880" cy="32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3333cc"/>
              </a:buClr>
              <a:buSzPct val="75000"/>
              <a:buFont typeface="Monotype Sorts" charset="2"/>
              <a:buChar char=""/>
              <a:tabLst>
                <a:tab algn="l" pos="28584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3333cc"/>
                </a:solidFill>
                <a:latin typeface="Arial"/>
              </a:rPr>
              <a:t>Auftragsverwaltung (</a:t>
            </a:r>
            <a:r>
              <a:rPr b="1" i="1" sz="2400" spc="-1" strike="noStrike">
                <a:solidFill>
                  <a:srgbClr val="3333cc"/>
                </a:solidFill>
                <a:latin typeface="Arial"/>
              </a:rPr>
              <a:t>task management</a:t>
            </a:r>
            <a:r>
              <a:rPr b="1" sz="2400" spc="-1" strike="noStrike">
                <a:solidFill>
                  <a:srgbClr val="3333cc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28584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Verwaltung der Prozesse (</a:t>
            </a:r>
            <a:r>
              <a:rPr b="0" i="1" sz="2400" spc="-1" strike="noStrike">
                <a:solidFill>
                  <a:srgbClr val="000000"/>
                </a:solidFill>
                <a:latin typeface="Arial"/>
              </a:rPr>
              <a:t>tasks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28584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Ein Prozeß kann im Laufe seiner Bearbeitung im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wesentlichen folgende unterscheidbaren Zustände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annehm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28584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1409760" y="3933720"/>
            <a:ext cx="6438960" cy="1986120"/>
            <a:chOff x="1409760" y="3933720"/>
            <a:chExt cx="6438960" cy="1986120"/>
          </a:xfrm>
        </p:grpSpPr>
        <p:sp>
          <p:nvSpPr>
            <p:cNvPr id="73" name=""/>
            <p:cNvSpPr/>
            <p:nvPr/>
          </p:nvSpPr>
          <p:spPr>
            <a:xfrm>
              <a:off x="3819600" y="3933720"/>
              <a:ext cx="1600200" cy="647640"/>
            </a:xfrm>
            <a:prstGeom prst="roundRect">
              <a:avLst>
                <a:gd name="adj" fmla="val 36764"/>
              </a:avLst>
            </a:prstGeom>
            <a:solidFill>
              <a:srgbClr val="c5e2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blockier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409760" y="5272200"/>
              <a:ext cx="1600200" cy="647640"/>
            </a:xfrm>
            <a:prstGeom prst="roundRect">
              <a:avLst>
                <a:gd name="adj" fmla="val 36764"/>
              </a:avLst>
            </a:prstGeom>
            <a:solidFill>
              <a:srgbClr val="c5e2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akti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248520" y="5272200"/>
              <a:ext cx="1600200" cy="647640"/>
            </a:xfrm>
            <a:prstGeom prst="roundRect">
              <a:avLst>
                <a:gd name="adj" fmla="val 36764"/>
              </a:avLst>
            </a:prstGeom>
            <a:solidFill>
              <a:srgbClr val="c5e2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berei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V="1">
              <a:off x="2228760" y="4438440"/>
              <a:ext cx="1590840" cy="80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400720" y="4495680"/>
              <a:ext cx="1657440" cy="77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3009960" y="5467320"/>
              <a:ext cx="3247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009960" y="5743440"/>
              <a:ext cx="3247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Spezielle Aufgaben von Betriebssystemen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65040" y="1192320"/>
            <a:ext cx="844560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erwaltung dieser Zustände und Übergänge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aufgrund äußerer oder innerer Ereignisse) sind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esentliche Aufgaben der Auftragsverwaltu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Ziel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öglichst effiziente und scheinbar parallele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arbeitung mehrerer Aufgab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1476360" y="4219560"/>
            <a:ext cx="5794200" cy="1788840"/>
            <a:chOff x="1476360" y="4219560"/>
            <a:chExt cx="5794200" cy="1788840"/>
          </a:xfrm>
        </p:grpSpPr>
        <p:sp>
          <p:nvSpPr>
            <p:cNvPr id="83" name=""/>
            <p:cNvSpPr/>
            <p:nvPr/>
          </p:nvSpPr>
          <p:spPr>
            <a:xfrm>
              <a:off x="3645000" y="4219560"/>
              <a:ext cx="1440000" cy="583200"/>
            </a:xfrm>
            <a:prstGeom prst="roundRect">
              <a:avLst>
                <a:gd name="adj" fmla="val 36764"/>
              </a:avLst>
            </a:prstGeom>
            <a:solidFill>
              <a:srgbClr val="c5e2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blockier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476360" y="5425200"/>
              <a:ext cx="1440000" cy="583200"/>
            </a:xfrm>
            <a:prstGeom prst="roundRect">
              <a:avLst>
                <a:gd name="adj" fmla="val 36764"/>
              </a:avLst>
            </a:prstGeom>
            <a:solidFill>
              <a:srgbClr val="c5e2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akti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830560" y="5425200"/>
              <a:ext cx="1440000" cy="583200"/>
            </a:xfrm>
            <a:prstGeom prst="roundRect">
              <a:avLst>
                <a:gd name="adj" fmla="val 36764"/>
              </a:avLst>
            </a:prstGeom>
            <a:solidFill>
              <a:srgbClr val="c5e2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berei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2213280" y="4674240"/>
              <a:ext cx="1431360" cy="72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067720" y="4725720"/>
              <a:ext cx="1491480" cy="694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2916000" y="5600880"/>
              <a:ext cx="2922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916360" y="5849640"/>
              <a:ext cx="2922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Spezielle Aufgaben von Betriebssystemen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98600" y="1239840"/>
            <a:ext cx="8219880" cy="45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3333cc"/>
              </a:buClr>
              <a:buSzPct val="75000"/>
              <a:buFont typeface="Monotype Sorts" charset="2"/>
              <a:buChar char=""/>
              <a:tabLst>
                <a:tab algn="l" pos="285840"/>
                <a:tab algn="l" pos="76212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3333cc"/>
                </a:solidFill>
                <a:latin typeface="Arial"/>
              </a:rPr>
              <a:t>Speicherverwaltung (</a:t>
            </a:r>
            <a:r>
              <a:rPr b="1" i="1" sz="2400" spc="-1" strike="noStrike">
                <a:solidFill>
                  <a:srgbClr val="3333cc"/>
                </a:solidFill>
                <a:latin typeface="Arial"/>
              </a:rPr>
              <a:t>memory management</a:t>
            </a:r>
            <a:r>
              <a:rPr b="1" sz="2400" spc="-1" strike="noStrike">
                <a:solidFill>
                  <a:srgbClr val="3333cc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285840"/>
                <a:tab algn="l" pos="76212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Durch immer größer werdende Programme sowie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mehrerer quasi gleichzeitig laufender Program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285840"/>
                <a:tab algn="l" pos="76212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der zur Verfügung stehende Arbeitsspeicher wird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schnell zu kl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76212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76212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Abhilfe: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Nur die gerade benötigten Teile der aktiven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Programme werden wirklich im Arbeitsspeicher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gehalten, der Rest befindet sich im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Hintergrundspeicher und wird bei Bedarf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geladen (</a:t>
            </a:r>
            <a:r>
              <a:rPr b="0" i="1" sz="2400" spc="-1" strike="noStrike">
                <a:solidFill>
                  <a:srgbClr val="000000"/>
                </a:solidFill>
                <a:latin typeface="Arial"/>
              </a:rPr>
              <a:t>swapping, paging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99"/>
                </a:solidFill>
                <a:latin typeface="Arial"/>
              </a:rPr>
              <a:t>Grundstruktur virtueller Speicherverwaltung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219320" y="1868400"/>
            <a:ext cx="495360" cy="50508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724120" y="2629080"/>
            <a:ext cx="228600" cy="247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724120" y="213372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724120" y="310500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952720" y="287640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952720" y="2629080"/>
            <a:ext cx="228600" cy="247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952720" y="238140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952720" y="213372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952720" y="188604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952720" y="310500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400560" y="287640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400560" y="238140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400560" y="310500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171960" y="287640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171960" y="238140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71960" y="188604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24120" y="1886040"/>
            <a:ext cx="905040" cy="1466640"/>
            <a:chOff x="2724120" y="1886040"/>
            <a:chExt cx="905040" cy="1466640"/>
          </a:xfrm>
        </p:grpSpPr>
        <p:sp>
          <p:nvSpPr>
            <p:cNvPr id="110" name=""/>
            <p:cNvSpPr/>
            <p:nvPr/>
          </p:nvSpPr>
          <p:spPr>
            <a:xfrm>
              <a:off x="2724120" y="2381400"/>
              <a:ext cx="228600" cy="2476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400560" y="2629080"/>
              <a:ext cx="228600" cy="2473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400560" y="1886040"/>
              <a:ext cx="228600" cy="2476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171960" y="2629080"/>
              <a:ext cx="228600" cy="2473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71960" y="3105000"/>
              <a:ext cx="228600" cy="24768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629160" y="2629080"/>
            <a:ext cx="228600" cy="247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29160" y="238140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629160" y="213372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629160" y="188604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629160" y="310500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857760" y="287640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724120" y="1886040"/>
            <a:ext cx="1362240" cy="1238040"/>
            <a:chOff x="2724120" y="1886040"/>
            <a:chExt cx="1362240" cy="1238040"/>
          </a:xfrm>
        </p:grpSpPr>
        <p:sp>
          <p:nvSpPr>
            <p:cNvPr id="122" name=""/>
            <p:cNvSpPr/>
            <p:nvPr/>
          </p:nvSpPr>
          <p:spPr>
            <a:xfrm>
              <a:off x="2724120" y="2876400"/>
              <a:ext cx="228600" cy="24768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724120" y="1886040"/>
              <a:ext cx="228600" cy="24768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400560" y="2133720"/>
              <a:ext cx="228600" cy="24768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171960" y="2133720"/>
              <a:ext cx="228600" cy="24768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629160" y="2876400"/>
              <a:ext cx="228600" cy="24768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857760" y="2629080"/>
              <a:ext cx="228600" cy="24732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3857760" y="238140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57760" y="213372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57760" y="188604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857760" y="310500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114880" y="2857680"/>
            <a:ext cx="228600" cy="247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114880" y="261000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114880" y="211464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14880" y="186696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114880" y="3086280"/>
            <a:ext cx="228600" cy="247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343480" y="236232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343480" y="186696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343480" y="3086280"/>
            <a:ext cx="228600" cy="247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791320" y="2857680"/>
            <a:ext cx="228600" cy="247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791320" y="261000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791320" y="236232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791320" y="186696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91320" y="3086280"/>
            <a:ext cx="228600" cy="247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562720" y="2857680"/>
            <a:ext cx="228600" cy="247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562720" y="261000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562720" y="236232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562720" y="186696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9920" y="2857680"/>
            <a:ext cx="228600" cy="247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019920" y="261000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19920" y="236232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19920" y="211464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019920" y="3086280"/>
            <a:ext cx="228600" cy="247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248520" y="2857680"/>
            <a:ext cx="228600" cy="247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248520" y="261000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248520" y="236232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248520" y="211464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248520" y="186696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248520" y="3086280"/>
            <a:ext cx="228600" cy="247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114880" y="432432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114880" y="382896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114880" y="333360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343480" y="432432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343480" y="407664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343480" y="358128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43480" y="333360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343480" y="455292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791320" y="432432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791320" y="407664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791320" y="382896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791320" y="358128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791320" y="333360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791320" y="455292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562720" y="407664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562720" y="382896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562720" y="358128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562720" y="455292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19920" y="432432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19920" y="382896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019920" y="358128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019920" y="333360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019920" y="455292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248520" y="407664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248520" y="358128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248520" y="333360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248520" y="455292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432432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477120" y="382896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477120" y="333360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477120" y="455292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705720" y="432432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705720" y="382896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705720" y="358128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705720" y="455292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153200" y="407664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153200" y="382896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153200" y="358128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153200" y="333360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153200" y="455292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24600" y="432432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924600" y="382896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924600" y="358128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924600" y="333360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381800" y="407664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381800" y="382896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381800" y="333360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381800" y="455292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610400" y="432432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610400" y="407664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610400" y="382896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610400" y="358128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610400" y="333360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477120" y="2857680"/>
            <a:ext cx="228600" cy="247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77120" y="261000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77120" y="236232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477120" y="211464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477120" y="186696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705720" y="261000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705720" y="211464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705720" y="186696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05720" y="3086280"/>
            <a:ext cx="228600" cy="247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153200" y="2857680"/>
            <a:ext cx="228600" cy="247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153200" y="261000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153200" y="236232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153200" y="211464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153200" y="186696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153200" y="3086280"/>
            <a:ext cx="228600" cy="247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924600" y="2857680"/>
            <a:ext cx="228600" cy="247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924600" y="261000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924600" y="236232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924600" y="211464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924600" y="186696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924600" y="3086280"/>
            <a:ext cx="228600" cy="247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381800" y="2857680"/>
            <a:ext cx="228600" cy="247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381800" y="236232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381800" y="211464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381800" y="3086280"/>
            <a:ext cx="228600" cy="247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610400" y="2857680"/>
            <a:ext cx="228600" cy="247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610400" y="236232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610400" y="211464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10400" y="3086280"/>
            <a:ext cx="228600" cy="247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086360" y="2143080"/>
            <a:ext cx="10285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724040" y="2124000"/>
            <a:ext cx="10285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117800" y="146376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492640" y="1463760"/>
            <a:ext cx="182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auptspeic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177160" y="1463760"/>
            <a:ext cx="24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intergrundspeic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463120" y="3373560"/>
            <a:ext cx="189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rbeitsmen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099760" y="4811760"/>
            <a:ext cx="275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rogramme und Da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885960" y="1866960"/>
            <a:ext cx="6953040" cy="3410280"/>
            <a:chOff x="885960" y="1866960"/>
            <a:chExt cx="6953040" cy="3410280"/>
          </a:xfrm>
        </p:grpSpPr>
        <p:sp>
          <p:nvSpPr>
            <p:cNvPr id="250" name=""/>
            <p:cNvSpPr/>
            <p:nvPr/>
          </p:nvSpPr>
          <p:spPr>
            <a:xfrm>
              <a:off x="5114880" y="2362320"/>
              <a:ext cx="228600" cy="24768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343480" y="2610000"/>
              <a:ext cx="228600" cy="24768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019920" y="1866960"/>
              <a:ext cx="228600" cy="247680"/>
            </a:xfrm>
            <a:prstGeom prst="rect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114880" y="4076640"/>
              <a:ext cx="228600" cy="247680"/>
            </a:xfrm>
            <a:prstGeom prst="rect">
              <a:avLst/>
            </a:prstGeom>
            <a:blipFill rotWithShape="0">
              <a:blip r:embed="rId15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114880" y="3581280"/>
              <a:ext cx="228600" cy="247680"/>
            </a:xfrm>
            <a:prstGeom prst="rect">
              <a:avLst/>
            </a:prstGeom>
            <a:blipFill rotWithShape="0">
              <a:blip r:embed="rId16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562720" y="4324320"/>
              <a:ext cx="228600" cy="247680"/>
            </a:xfrm>
            <a:prstGeom prst="rect">
              <a:avLst/>
            </a:prstGeom>
            <a:blipFill rotWithShape="0">
              <a:blip r:embed="rId17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019920" y="4076640"/>
              <a:ext cx="228600" cy="247680"/>
            </a:xfrm>
            <a:prstGeom prst="rect">
              <a:avLst/>
            </a:prstGeom>
            <a:blipFill rotWithShape="0">
              <a:blip r:embed="rId18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248520" y="3828960"/>
              <a:ext cx="228600" cy="247680"/>
            </a:xfrm>
            <a:prstGeom prst="rect">
              <a:avLst/>
            </a:prstGeom>
            <a:blipFill rotWithShape="0">
              <a:blip r:embed="rId19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477120" y="4076640"/>
              <a:ext cx="228600" cy="247680"/>
            </a:xfrm>
            <a:prstGeom prst="rect">
              <a:avLst/>
            </a:prstGeom>
            <a:blipFill rotWithShape="0">
              <a:blip r:embed="rId20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705720" y="4076640"/>
              <a:ext cx="228600" cy="247680"/>
            </a:xfrm>
            <a:prstGeom prst="rect">
              <a:avLst/>
            </a:prstGeom>
            <a:blipFill rotWithShape="0">
              <a:blip r:embed="rId2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705720" y="3333600"/>
              <a:ext cx="228600" cy="247680"/>
            </a:xfrm>
            <a:prstGeom prst="rect">
              <a:avLst/>
            </a:prstGeom>
            <a:blipFill rotWithShape="0">
              <a:blip r:embed="rId22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153200" y="4324320"/>
              <a:ext cx="228600" cy="247680"/>
            </a:xfrm>
            <a:prstGeom prst="rect">
              <a:avLst/>
            </a:prstGeom>
            <a:blipFill rotWithShape="0">
              <a:blip r:embed="rId23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924600" y="4076640"/>
              <a:ext cx="228600" cy="247680"/>
            </a:xfrm>
            <a:prstGeom prst="rect">
              <a:avLst/>
            </a:prstGeom>
            <a:blipFill rotWithShape="0">
              <a:blip r:embed="rId24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924600" y="4552920"/>
              <a:ext cx="228600" cy="247680"/>
            </a:xfrm>
            <a:prstGeom prst="rect">
              <a:avLst/>
            </a:prstGeom>
            <a:blipFill rotWithShape="0">
              <a:blip r:embed="rId25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10400" y="4552920"/>
              <a:ext cx="228600" cy="247680"/>
            </a:xfrm>
            <a:prstGeom prst="rect">
              <a:avLst/>
            </a:prstGeom>
            <a:blipFill rotWithShape="0">
              <a:blip r:embed="rId26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477120" y="3086280"/>
              <a:ext cx="228600" cy="247320"/>
            </a:xfrm>
            <a:prstGeom prst="rect">
              <a:avLst/>
            </a:prstGeom>
            <a:blipFill rotWithShape="0">
              <a:blip r:embed="rId27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610400" y="1866960"/>
              <a:ext cx="228600" cy="247680"/>
            </a:xfrm>
            <a:prstGeom prst="rect">
              <a:avLst/>
            </a:prstGeom>
            <a:blipFill rotWithShape="0">
              <a:blip r:embed="rId28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85960" y="4943520"/>
              <a:ext cx="228600" cy="247680"/>
            </a:xfrm>
            <a:prstGeom prst="rect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335960" y="4878360"/>
              <a:ext cx="1314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Prozess 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4090320" y="2222640"/>
            <a:ext cx="109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wapping,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g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2724120" y="1886040"/>
            <a:ext cx="905040" cy="1466640"/>
            <a:chOff x="2724120" y="1886040"/>
            <a:chExt cx="905040" cy="1466640"/>
          </a:xfrm>
        </p:grpSpPr>
        <p:sp>
          <p:nvSpPr>
            <p:cNvPr id="271" name=""/>
            <p:cNvSpPr/>
            <p:nvPr/>
          </p:nvSpPr>
          <p:spPr>
            <a:xfrm>
              <a:off x="2724120" y="2381400"/>
              <a:ext cx="228600" cy="247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400560" y="2629080"/>
              <a:ext cx="228600" cy="247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400560" y="1886040"/>
              <a:ext cx="228600" cy="247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171960" y="2629080"/>
              <a:ext cx="228600" cy="247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171960" y="3105000"/>
              <a:ext cx="228600" cy="247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2724120" y="1886040"/>
            <a:ext cx="1362240" cy="1238040"/>
            <a:chOff x="2724120" y="1886040"/>
            <a:chExt cx="1362240" cy="1238040"/>
          </a:xfrm>
        </p:grpSpPr>
        <p:sp>
          <p:nvSpPr>
            <p:cNvPr id="277" name=""/>
            <p:cNvSpPr/>
            <p:nvPr/>
          </p:nvSpPr>
          <p:spPr>
            <a:xfrm>
              <a:off x="2724120" y="2876400"/>
              <a:ext cx="228600" cy="247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724120" y="1886040"/>
              <a:ext cx="228600" cy="247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400560" y="2133720"/>
              <a:ext cx="228600" cy="247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171960" y="2133720"/>
              <a:ext cx="228600" cy="247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629160" y="2876400"/>
              <a:ext cx="228600" cy="247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857760" y="2629080"/>
              <a:ext cx="228600" cy="247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885960" y="1866960"/>
            <a:ext cx="6953040" cy="2933640"/>
            <a:chOff x="885960" y="1866960"/>
            <a:chExt cx="6953040" cy="2933640"/>
          </a:xfrm>
        </p:grpSpPr>
        <p:grpSp>
          <p:nvGrpSpPr>
            <p:cNvPr id="284" name=""/>
            <p:cNvGrpSpPr/>
            <p:nvPr/>
          </p:nvGrpSpPr>
          <p:grpSpPr>
            <a:xfrm>
              <a:off x="5114880" y="1866960"/>
              <a:ext cx="2724120" cy="2933640"/>
              <a:chOff x="5114880" y="1866960"/>
              <a:chExt cx="2724120" cy="2933640"/>
            </a:xfrm>
          </p:grpSpPr>
          <p:sp>
            <p:nvSpPr>
              <p:cNvPr id="285" name=""/>
              <p:cNvSpPr/>
              <p:nvPr/>
            </p:nvSpPr>
            <p:spPr>
              <a:xfrm>
                <a:off x="5343480" y="2857680"/>
                <a:ext cx="228600" cy="247320"/>
              </a:xfrm>
              <a:prstGeom prst="rect">
                <a:avLst/>
              </a:prstGeom>
              <a:blipFill rotWithShape="0">
                <a:blip r:embed="rId30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5343480" y="2114640"/>
                <a:ext cx="228600" cy="247680"/>
              </a:xfrm>
              <a:prstGeom prst="rect">
                <a:avLst/>
              </a:prstGeom>
              <a:blipFill rotWithShape="0">
                <a:blip r:embed="rId31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5791320" y="2114640"/>
                <a:ext cx="228600" cy="247680"/>
              </a:xfrm>
              <a:prstGeom prst="rect">
                <a:avLst/>
              </a:prstGeom>
              <a:blipFill rotWithShape="0">
                <a:blip r:embed="rId32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5562720" y="2114640"/>
                <a:ext cx="228600" cy="247680"/>
              </a:xfrm>
              <a:prstGeom prst="rect">
                <a:avLst/>
              </a:prstGeom>
              <a:blipFill rotWithShape="0">
                <a:blip r:embed="rId33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5562720" y="3086280"/>
                <a:ext cx="228600" cy="247320"/>
              </a:xfrm>
              <a:prstGeom prst="rect">
                <a:avLst/>
              </a:prstGeom>
              <a:blipFill rotWithShape="0">
                <a:blip r:embed="rId34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5114880" y="4552920"/>
                <a:ext cx="228600" cy="247680"/>
              </a:xfrm>
              <a:prstGeom prst="rect">
                <a:avLst/>
              </a:prstGeom>
              <a:blipFill rotWithShape="0">
                <a:blip r:embed="rId35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5343480" y="3828960"/>
                <a:ext cx="228600" cy="247680"/>
              </a:xfrm>
              <a:prstGeom prst="rect">
                <a:avLst/>
              </a:prstGeom>
              <a:blipFill rotWithShape="0">
                <a:blip r:embed="rId36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5562720" y="3333600"/>
                <a:ext cx="228600" cy="247680"/>
              </a:xfrm>
              <a:prstGeom prst="rect">
                <a:avLst/>
              </a:prstGeom>
              <a:blipFill rotWithShape="0">
                <a:blip r:embed="rId37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6248520" y="4324320"/>
                <a:ext cx="228600" cy="247680"/>
              </a:xfrm>
              <a:prstGeom prst="rect">
                <a:avLst/>
              </a:prstGeom>
              <a:blipFill rotWithShape="0">
                <a:blip r:embed="rId38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6477120" y="3581280"/>
                <a:ext cx="228600" cy="247680"/>
              </a:xfrm>
              <a:prstGeom prst="rect">
                <a:avLst/>
              </a:prstGeom>
              <a:blipFill rotWithShape="0">
                <a:blip r:embed="rId39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7381800" y="4324320"/>
                <a:ext cx="228600" cy="247680"/>
              </a:xfrm>
              <a:prstGeom prst="rect">
                <a:avLst/>
              </a:prstGeom>
              <a:blipFill rotWithShape="0">
                <a:blip r:embed="rId40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381800" y="3581280"/>
                <a:ext cx="228600" cy="247680"/>
              </a:xfrm>
              <a:prstGeom prst="rect">
                <a:avLst/>
              </a:prstGeom>
              <a:blipFill rotWithShape="0">
                <a:blip r:embed="rId41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6705720" y="2857680"/>
                <a:ext cx="228600" cy="247320"/>
              </a:xfrm>
              <a:prstGeom prst="rect">
                <a:avLst/>
              </a:prstGeom>
              <a:blipFill rotWithShape="0">
                <a:blip r:embed="rId42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6705720" y="2362320"/>
                <a:ext cx="228600" cy="247680"/>
              </a:xfrm>
              <a:prstGeom prst="rect">
                <a:avLst/>
              </a:prstGeom>
              <a:blipFill rotWithShape="0">
                <a:blip r:embed="rId43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7381800" y="2610000"/>
                <a:ext cx="228600" cy="247680"/>
              </a:xfrm>
              <a:prstGeom prst="rect">
                <a:avLst/>
              </a:prstGeom>
              <a:blipFill rotWithShape="0">
                <a:blip r:embed="rId44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7381800" y="1866960"/>
                <a:ext cx="228600" cy="247680"/>
              </a:xfrm>
              <a:prstGeom prst="rect">
                <a:avLst/>
              </a:prstGeom>
              <a:blipFill rotWithShape="0">
                <a:blip r:embed="rId45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610400" y="2610000"/>
                <a:ext cx="228600" cy="247680"/>
              </a:xfrm>
              <a:prstGeom prst="rect">
                <a:avLst/>
              </a:prstGeom>
              <a:blipFill rotWithShape="0">
                <a:blip r:embed="rId46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2" name=""/>
            <p:cNvGrpSpPr/>
            <p:nvPr/>
          </p:nvGrpSpPr>
          <p:grpSpPr>
            <a:xfrm>
              <a:off x="885960" y="1866960"/>
              <a:ext cx="6953040" cy="2933640"/>
              <a:chOff x="885960" y="1866960"/>
              <a:chExt cx="6953040" cy="2933640"/>
            </a:xfrm>
          </p:grpSpPr>
          <p:sp>
            <p:nvSpPr>
              <p:cNvPr id="303" name=""/>
              <p:cNvSpPr/>
              <p:nvPr/>
            </p:nvSpPr>
            <p:spPr>
              <a:xfrm>
                <a:off x="885960" y="4457880"/>
                <a:ext cx="228600" cy="247320"/>
              </a:xfrm>
              <a:prstGeom prst="rect">
                <a:avLst/>
              </a:prstGeom>
              <a:blipFill rotWithShape="0">
                <a:blip r:embed="rId47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1335960" y="4363920"/>
                <a:ext cx="1314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0000"/>
                    </a:solidFill>
                    <a:latin typeface="Arial"/>
                  </a:rPr>
                  <a:t>Prozess 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5343480" y="2857680"/>
                <a:ext cx="228600" cy="247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5343480" y="2114640"/>
                <a:ext cx="228600" cy="2476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5791320" y="2114640"/>
                <a:ext cx="228600" cy="2476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5562720" y="2114640"/>
                <a:ext cx="228600" cy="2476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562720" y="3086280"/>
                <a:ext cx="228600" cy="247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114880" y="4552920"/>
                <a:ext cx="228600" cy="2476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5343480" y="3828960"/>
                <a:ext cx="228600" cy="2476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5562720" y="3333600"/>
                <a:ext cx="228600" cy="2476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6248520" y="4324320"/>
                <a:ext cx="228600" cy="2476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6477120" y="3581280"/>
                <a:ext cx="228600" cy="2476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381800" y="4324320"/>
                <a:ext cx="228600" cy="2476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381800" y="3581280"/>
                <a:ext cx="228600" cy="2476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705720" y="2857680"/>
                <a:ext cx="228600" cy="247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05720" y="2362320"/>
                <a:ext cx="228600" cy="2476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7381800" y="2610000"/>
                <a:ext cx="228600" cy="2476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381800" y="1866960"/>
                <a:ext cx="228600" cy="2476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610400" y="2610000"/>
                <a:ext cx="228600" cy="2476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2" name=""/>
          <p:cNvGrpSpPr/>
          <p:nvPr/>
        </p:nvGrpSpPr>
        <p:grpSpPr>
          <a:xfrm>
            <a:off x="5114880" y="1866960"/>
            <a:ext cx="2724120" cy="2933640"/>
            <a:chOff x="5114880" y="1866960"/>
            <a:chExt cx="2724120" cy="2933640"/>
          </a:xfrm>
        </p:grpSpPr>
        <p:sp>
          <p:nvSpPr>
            <p:cNvPr id="323" name=""/>
            <p:cNvSpPr/>
            <p:nvPr/>
          </p:nvSpPr>
          <p:spPr>
            <a:xfrm>
              <a:off x="5114880" y="2362320"/>
              <a:ext cx="228600" cy="247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343480" y="2610000"/>
              <a:ext cx="228600" cy="247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019920" y="1866960"/>
              <a:ext cx="228600" cy="247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114880" y="4076640"/>
              <a:ext cx="228600" cy="247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114880" y="3581280"/>
              <a:ext cx="228600" cy="247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562720" y="4324320"/>
              <a:ext cx="228600" cy="247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019920" y="4076640"/>
              <a:ext cx="228600" cy="247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248520" y="3828960"/>
              <a:ext cx="228600" cy="247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477120" y="4076640"/>
              <a:ext cx="228600" cy="247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705720" y="4076640"/>
              <a:ext cx="228600" cy="247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05720" y="3333600"/>
              <a:ext cx="228600" cy="247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153200" y="4324320"/>
              <a:ext cx="228600" cy="247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924600" y="4076640"/>
              <a:ext cx="228600" cy="247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924600" y="4552920"/>
              <a:ext cx="228600" cy="247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610400" y="4552920"/>
              <a:ext cx="228600" cy="247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477120" y="3086280"/>
              <a:ext cx="228600" cy="247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610400" y="1866960"/>
              <a:ext cx="228600" cy="247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26T11:54:09Z</dcterms:created>
  <dc:creator>Tamim Asfour</dc:creator>
  <dc:description/>
  <dc:language>en-US</dc:language>
  <cp:lastModifiedBy>Mladen Milushev</cp:lastModifiedBy>
  <cp:lastPrinted>2000-05-30T19:51:59Z</cp:lastPrinted>
  <dcterms:modified xsi:type="dcterms:W3CDTF">2004-09-17T17:23:21Z</dcterms:modified>
  <cp:revision>1498</cp:revision>
  <dc:subject/>
  <dc:title>TI-2</dc:title>
</cp:coreProperties>
</file>