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6461-18A6-4B17-A176-A3CA167EDF4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Wiederho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960" y="1305000"/>
            <a:ext cx="82584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Steuerwerk interpretiert die Maschinenbefehle und setzt sie unter Berücksichtigung der Statusinformation in Steuerkommandos für andere Komponenten 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Befehlsregister enthält die Speicheradresse des als nächstes auszuführenden Maschinenbefehls, sofern der vergangene Befehl kein Sprungbefehl 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Steuerregister beeinfluss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aktuelle Arbeitsweise des Steuerwe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Rechenwerksvarian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0" name="1.6-4" descr=""/>
          <p:cNvPicPr/>
          <p:nvPr/>
        </p:nvPicPr>
        <p:blipFill>
          <a:blip r:embed="rId1"/>
          <a:srcRect l="0" t="878" r="0" b="0"/>
          <a:stretch/>
        </p:blipFill>
        <p:spPr>
          <a:xfrm>
            <a:off x="5734080" y="1819440"/>
            <a:ext cx="3152880" cy="2943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61960" y="11145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8"/>
                </a:solidFill>
                <a:latin typeface="Arial"/>
              </a:rPr>
              <a:t>Variante A:</a:t>
            </a:r>
            <a:r>
              <a:rPr b="0" sz="2400" spc="-1" strike="noStrike">
                <a:solidFill>
                  <a:srgbClr val="0000c8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8"/>
                </a:solidFill>
                <a:latin typeface="Arial"/>
              </a:rPr>
              <a:t>Hilfsregister des Akkumulators wird hinter</a:t>
            </a:r>
            <a:r>
              <a:rPr b="0" sz="2400" spc="-1" strike="noStrike">
                <a:solidFill>
                  <a:srgbClr val="0000c8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8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8"/>
                </a:solidFill>
                <a:latin typeface="Arial"/>
              </a:rPr>
              <a:t>die ALU ver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1960" y="2209680"/>
            <a:ext cx="47624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800"/>
                </a:solidFill>
                <a:latin typeface="Arial"/>
              </a:rPr>
              <a:t>Vortei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LU-Operationen ohne Veränderung des Akkumulators sind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6560" y="4494240"/>
            <a:ext cx="69120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nwendung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aupsächlich in älteren 8-Bit- Prozessoren, bei denen auch die Adressberechnung in der ALU des Rechenwerkes durchgeführt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-954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80" y="1152360"/>
            <a:ext cx="80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8"/>
                </a:solidFill>
                <a:latin typeface="Arial"/>
              </a:rPr>
              <a:t>Variante B:</a:t>
            </a:r>
            <a:r>
              <a:rPr b="1" sz="2400" spc="-1" strike="noStrike">
                <a:solidFill>
                  <a:srgbClr val="0000c8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8"/>
                </a:solidFill>
                <a:latin typeface="Arial"/>
              </a:rPr>
              <a:t>Rechenwerk ohne Akkumulators. Der </a:t>
            </a:r>
            <a:r>
              <a:rPr b="0" sz="2400" spc="-1" strike="noStrike">
                <a:solidFill>
                  <a:srgbClr val="0000c8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8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8"/>
                </a:solidFill>
                <a:latin typeface="Arial"/>
              </a:rPr>
              <a:t>Akkumulator wird in den Registersatz des </a:t>
            </a:r>
            <a:r>
              <a:rPr b="0" sz="2400" spc="-1" strike="noStrike">
                <a:solidFill>
                  <a:srgbClr val="0000c8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8"/>
                </a:solidFill>
                <a:latin typeface="Arial"/>
              </a:rPr>
              <a:t>Prozessors ver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324160"/>
            <a:ext cx="5362560" cy="35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800"/>
                </a:solidFill>
                <a:latin typeface="Arial"/>
              </a:rPr>
              <a:t>Vorteil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ehrere Register des Registersatzes können Akkumulatorfunktion übernehme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ehrere Akkumul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nwendung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lle modernen 16/32-Bit-Prozessoren nutzen dieses Konz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1.6-5" descr=""/>
          <p:cNvPicPr/>
          <p:nvPr/>
        </p:nvPicPr>
        <p:blipFill>
          <a:blip r:embed="rId1"/>
          <a:stretch/>
        </p:blipFill>
        <p:spPr>
          <a:xfrm>
            <a:off x="6148440" y="2262240"/>
            <a:ext cx="2666880" cy="3672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800" y="142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Rechenwerksvarian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Arial"/>
              </a:rPr>
              <a:t>Statusregister</a:t>
            </a: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(Zustandsregister, Condition Code Register CC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1800" y="1152360"/>
            <a:ext cx="8782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zelne Bits, die das Ergebnis einer arithmetisch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tion wiederspiegeln werden im Statusregister 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Statusregister enthält meist folgende Bits (Flag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tragsbit (Carry Flag 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Hilfsübertragsbit (Auxiliary Carry A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Nullbit (Zero Flag Z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Vorzeichenbit (Sign Flag S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laufbit (Overflow Flag 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ven Flag 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aritätsb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Parity Flag 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1.6-6" descr=""/>
          <p:cNvPicPr/>
          <p:nvPr/>
        </p:nvPicPr>
        <p:blipFill>
          <a:blip r:embed="rId1"/>
          <a:stretch/>
        </p:blipFill>
        <p:spPr>
          <a:xfrm>
            <a:off x="2009880" y="2247840"/>
            <a:ext cx="4343400" cy="612720"/>
          </a:xfrm>
          <a:prstGeom prst="rect">
            <a:avLst/>
          </a:prstGeom>
          <a:ln w="0">
            <a:noFill/>
          </a:ln>
        </p:spPr>
      </p:pic>
      <p:pic>
        <p:nvPicPr>
          <p:cNvPr id="102" name="Rechenwerk" descr=""/>
          <p:cNvPicPr/>
          <p:nvPr/>
        </p:nvPicPr>
        <p:blipFill>
          <a:blip r:embed="rId2"/>
          <a:srcRect l="3472" t="2761" r="9882" b="2761"/>
          <a:stretch/>
        </p:blipFill>
        <p:spPr>
          <a:xfrm>
            <a:off x="6532560" y="4653000"/>
            <a:ext cx="2611440" cy="220500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4857840" y="2952720"/>
            <a:ext cx="3762360" cy="2428920"/>
            <a:chOff x="4857840" y="2952720"/>
            <a:chExt cx="3762360" cy="2428920"/>
          </a:xfrm>
        </p:grpSpPr>
        <p:sp>
          <p:nvSpPr>
            <p:cNvPr id="104" name=""/>
            <p:cNvSpPr/>
            <p:nvPr/>
          </p:nvSpPr>
          <p:spPr>
            <a:xfrm>
              <a:off x="6810480" y="5000760"/>
              <a:ext cx="1809720" cy="3808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4857840" y="2952720"/>
              <a:ext cx="2571840" cy="20289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Arial"/>
              </a:rPr>
              <a:t>Statusregister</a:t>
            </a: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(Zustandsregister, Condition Code Register CC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840" y="1300320"/>
            <a:ext cx="815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te von Statusbits können direkt Einfluß auf die Ausführung des Mikroprogramms hab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dingte Programmverzwe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b000"/>
                </a:solidFill>
                <a:latin typeface="Arial"/>
              </a:rPr>
              <a:t>Statusregist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sz="2400" spc="-1" strike="noStrike">
                <a:solidFill>
                  <a:srgbClr val="ff0000"/>
                </a:solidFill>
                <a:latin typeface="Arial"/>
              </a:rPr>
              <a:t>Steuerregist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werden häufig zur Erleichterung der Adressierung zusammengefaßt betrachten und manipuliert, und meis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8"/>
                </a:solidFill>
                <a:latin typeface="Arial"/>
              </a:rPr>
              <a:t>Prozessorstatuswor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n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Bedeutung der Statusflag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360" y="1209600"/>
            <a:ext cx="7753320" cy="51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a000"/>
                </a:solidFill>
                <a:latin typeface="Arial"/>
              </a:rPr>
              <a:t>Carry Flag(CF)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Übertrag aus dem höchstwertigst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it bei Addition oder Subtraktion (Borr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equentielle Addition und Subtraktion mit größer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ortbreite ist mögl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a000"/>
                </a:solidFill>
                <a:latin typeface="Arial"/>
              </a:rPr>
              <a:t>Aux Carry (AF):</a:t>
            </a:r>
            <a:r>
              <a:rPr b="0" sz="2400" spc="-1" strike="noStrike">
                <a:solidFill>
                  <a:srgbClr val="00a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Übertrag von Bit 3 in Bit 4 d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gebnisses. Wird für BCD-Arithmetik benötig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a000"/>
                </a:solidFill>
                <a:latin typeface="Arial"/>
              </a:rPr>
              <a:t>Zero Flag (ZF):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gt an, ob das Ergebnis der letzt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tion gleich 0 war. Wird für bedingt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verzweigungen und insbesonder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ählschleifen benöti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Bedeutung der Statusflag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150920"/>
            <a:ext cx="7529400" cy="50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a000"/>
                </a:solidFill>
                <a:latin typeface="Arial"/>
              </a:rPr>
              <a:t>Sign Flag (SF):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eigt an, daß das Ergebnis negativ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st (Most Significant Bit = 1). Spiegelt da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öchstwertige Bit eines Operanden wied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1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für bedingte Programmverzweigungen 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a000"/>
                </a:solidFill>
                <a:latin typeface="Arial"/>
              </a:rPr>
              <a:t>Overflow Flag: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gt Bereichsüberschreitung im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weierkomplement (z.B. bei Addition o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ubtraktion) 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a000"/>
                </a:solidFill>
                <a:latin typeface="Arial"/>
              </a:rPr>
              <a:t>Even Flag (EV):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gt an, ob das Ergebnis ein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rade Zahl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a000"/>
                </a:solidFill>
                <a:latin typeface="Arial"/>
              </a:rPr>
              <a:t>Parity Flag (PF):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ignalisiert ungerade Parität d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gebnisses, d.h eine ungerade Anzahl von Ein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Operationsvorrat der ALU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7840" y="1143000"/>
            <a:ext cx="8153280" cy="49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rithmetische Operation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dieren ohne/mit Übert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ubtrahieren ohne/mit Übert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Inkrementieren/Dekrement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ultiplizieren ohne/mit Vor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vidieren ohen/mit Vor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Komplemntieren (Zweierkompl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ogische bitweise Verknüpf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N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tival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Operationsvorrat der ALU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7840" y="1143000"/>
            <a:ext cx="81532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iebe- und Rotations-Operation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Links-Versch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echts-Versch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Links-Rotieren ohne Übertrags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Links-Rotieren durchs Übertrags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echts-Rotieren ohne Übertrags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echts-Rotieren durchs Übertrags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ransport-Operatio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ransferi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Schiebeoperatio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680" y="1305000"/>
            <a:ext cx="4305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em logischen Linksschieb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ntspricht die Multiplikatio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mi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em logischen Rechtschieb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ntspricht die Divisio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urch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s gilt jedoch nur für positive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ahlen.  Bei negativen Zahl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im Zweierkomplement muß zu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Vorzeichenerhaltung das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höchstwertigste Bit in sich selbst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urückgeführ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760" y="5506920"/>
            <a:ext cx="78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schied logisches/arithmetisches Rechtssch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1.6-8" descr=""/>
          <p:cNvPicPr/>
          <p:nvPr/>
        </p:nvPicPr>
        <p:blipFill>
          <a:blip r:embed="rId1"/>
          <a:stretch/>
        </p:blipFill>
        <p:spPr>
          <a:xfrm>
            <a:off x="4645080" y="1438200"/>
            <a:ext cx="41990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Rotationsoperatio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1" name="1.6-9" descr=""/>
          <p:cNvPicPr/>
          <p:nvPr/>
        </p:nvPicPr>
        <p:blipFill>
          <a:blip r:embed="rId1"/>
          <a:stretch/>
        </p:blipFill>
        <p:spPr>
          <a:xfrm>
            <a:off x="4681440" y="1081080"/>
            <a:ext cx="3990960" cy="5078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90400" y="1685880"/>
            <a:ext cx="38386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siter wird al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chlossene Bitkett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trach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arry-Flag kan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ahlweise mitbenutz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der als zusätzlich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it einbezog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teuerwerk des Intel 80486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" name="1.5-4" descr=""/>
          <p:cNvPicPr/>
          <p:nvPr/>
        </p:nvPicPr>
        <p:blipFill>
          <a:blip r:embed="rId1">
            <a:lum contrast="10000"/>
          </a:blip>
          <a:srcRect l="353" t="815" r="565" b="371"/>
          <a:stretch/>
        </p:blipFill>
        <p:spPr>
          <a:xfrm>
            <a:off x="1994040" y="1173240"/>
            <a:ext cx="5049720" cy="480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05120" y="3686040"/>
            <a:ext cx="3057480" cy="7239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33840" y="3019320"/>
            <a:ext cx="847800" cy="4478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0400" y="2981160"/>
            <a:ext cx="666720" cy="324000"/>
          </a:xfrm>
          <a:prstGeom prst="rect">
            <a:avLst/>
          </a:prstGeom>
          <a:noFill/>
          <a:ln w="38160">
            <a:solidFill>
              <a:srgbClr val="f89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34080" y="2095560"/>
            <a:ext cx="885960" cy="542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43440" y="2448000"/>
            <a:ext cx="876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09960" y="2114640"/>
            <a:ext cx="2390760" cy="56196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66960" y="1562040"/>
            <a:ext cx="800280" cy="314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1.6 Rechenwerk (Operationswerk, Execution Unit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" name="1.6-1" descr=""/>
          <p:cNvPicPr/>
          <p:nvPr/>
        </p:nvPicPr>
        <p:blipFill>
          <a:blip r:embed="rId1"/>
          <a:stretch/>
        </p:blipFill>
        <p:spPr>
          <a:xfrm>
            <a:off x="1033560" y="1116000"/>
            <a:ext cx="6505560" cy="4368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0040" y="5410080"/>
            <a:ext cx="82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Rechenwerk führt alle logischen und arithmetischen Operationen im Prozessor a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8160" y="132552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8"/>
                </a:solidFill>
                <a:latin typeface="Arial"/>
              </a:rPr>
              <a:t>Kernstück: 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99"/>
                </a:solidFill>
                <a:latin typeface="Arial"/>
              </a:rPr>
              <a:t>1.6  Aufbau des Rechen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440" y="1219320"/>
            <a:ext cx="8020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2 Eingangsbusse ( 2 Operanden) und 1 Ausgangsbu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Ergebnis). Sie entsprechen in der Breite dem intern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zessor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s und sind mit diesem verb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ALU selbst ist ein reines Schaltne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or die ALU sind Hilfsregister zur Zwischenspeicher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on Operanden geschalt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Ergebnisse werden entweder in Prozessor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n gespeichert, auf die Eingangsregister d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U zurückgeführt oder über den externen Datenbu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 andere Systemkomponenten über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-Eingänge zur Steuerung der ALU-Oper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99"/>
                </a:solidFill>
                <a:latin typeface="Arial"/>
              </a:rPr>
              <a:t>1.6  Aufbau des Rechen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266840"/>
            <a:ext cx="83916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elde-Ausgänge für den Status der abgelaufen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tio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Carry, Overflow, Zero, Sign, ..., usw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atus wird im Status-Register zwischen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kkumulator (spezielles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8 Bit Mikroprozessoren war das einzige intern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, das direkt Ergebnisse der ALU aufnehmen kan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le ALU Ergebnisse werden dort ab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kkumulator “sammelt” die Ergebnisse 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99"/>
                </a:solidFill>
                <a:latin typeface="Arial"/>
              </a:rPr>
              <a:t>1.6  Aufbau des Rechen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1680" y="2075040"/>
            <a:ext cx="4098600" cy="26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kku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eist zweigeteilt, bestehend aus dem eigentlichen Akkumulator-Register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nd einem nachgeschalteten Hilfsregister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La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1.6-2" descr=""/>
          <p:cNvPicPr/>
          <p:nvPr/>
        </p:nvPicPr>
        <p:blipFill>
          <a:blip r:embed="rId1"/>
          <a:stretch/>
        </p:blipFill>
        <p:spPr>
          <a:xfrm>
            <a:off x="4734000" y="1376280"/>
            <a:ext cx="4014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99"/>
                </a:solidFill>
                <a:latin typeface="Arial"/>
              </a:rPr>
              <a:t>Zeitverhalten des Rechen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77840" y="1324080"/>
            <a:ext cx="8733960" cy="4260240"/>
            <a:chOff x="177840" y="1324080"/>
            <a:chExt cx="8733960" cy="4260240"/>
          </a:xfrm>
        </p:grpSpPr>
        <p:pic>
          <p:nvPicPr>
            <p:cNvPr id="68" name="1.6-3" descr=""/>
            <p:cNvPicPr/>
            <p:nvPr/>
          </p:nvPicPr>
          <p:blipFill>
            <a:blip r:embed="rId1"/>
            <a:stretch/>
          </p:blipFill>
          <p:spPr>
            <a:xfrm>
              <a:off x="2838240" y="1324080"/>
              <a:ext cx="6073560" cy="42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1.6-2" descr=""/>
            <p:cNvPicPr/>
            <p:nvPr/>
          </p:nvPicPr>
          <p:blipFill>
            <a:blip r:embed="rId2"/>
            <a:stretch/>
          </p:blipFill>
          <p:spPr>
            <a:xfrm>
              <a:off x="177840" y="1861200"/>
              <a:ext cx="2617200" cy="297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4800600" y="2409840"/>
            <a:ext cx="847800" cy="1219320"/>
            <a:chOff x="4800600" y="2409840"/>
            <a:chExt cx="847800" cy="1219320"/>
          </a:xfrm>
        </p:grpSpPr>
        <p:sp>
          <p:nvSpPr>
            <p:cNvPr id="71" name=""/>
            <p:cNvSpPr/>
            <p:nvPr/>
          </p:nvSpPr>
          <p:spPr>
            <a:xfrm>
              <a:off x="4857840" y="2409840"/>
              <a:ext cx="790560" cy="39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0600" y="3228840"/>
              <a:ext cx="838080" cy="400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972480" y="2371680"/>
            <a:ext cx="466560" cy="7621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28640" y="3209760"/>
            <a:ext cx="24768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200400"/>
            <a:ext cx="24768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47960" y="2685960"/>
            <a:ext cx="24768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57680" y="3505320"/>
            <a:ext cx="24732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38600" y="2247840"/>
            <a:ext cx="247680" cy="22860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52560" y="4143240"/>
            <a:ext cx="247680" cy="22860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05000" y="3648240"/>
            <a:ext cx="247680" cy="228600"/>
          </a:xfrm>
          <a:prstGeom prst="ellipse">
            <a:avLst/>
          </a:pr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7960" y="3124080"/>
            <a:ext cx="247680" cy="228600"/>
          </a:xfrm>
          <a:prstGeom prst="ellipse">
            <a:avLst/>
          </a:pr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762520" y="2819520"/>
            <a:ext cx="685800" cy="838080"/>
            <a:chOff x="5762520" y="2819520"/>
            <a:chExt cx="685800" cy="838080"/>
          </a:xfrm>
        </p:grpSpPr>
        <p:sp>
          <p:nvSpPr>
            <p:cNvPr id="83" name=""/>
            <p:cNvSpPr/>
            <p:nvPr/>
          </p:nvSpPr>
          <p:spPr>
            <a:xfrm>
              <a:off x="5762520" y="2819520"/>
              <a:ext cx="666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81600" y="3657600"/>
              <a:ext cx="666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Zeitverhalten des Rechen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0400" y="1247760"/>
            <a:ext cx="7972560" cy="42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ährend der positiven Takthälfte von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liegen auf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 werden mit der negativen Taktflanke in di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lfregister über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nach stehen diese auf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tabil zu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fügung,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ALU berechnet in einer Ausführungszei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sz="2400" spc="-1" strike="noStrike" baseline="-25000">
                <a:solidFill>
                  <a:srgbClr val="000000"/>
                </a:solidFill>
                <a:latin typeface="Arial"/>
              </a:rPr>
              <a:t>ALU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as Ergeb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s Ergebnis wird mit der positiven Taktflanke i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n Akkumulator über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Zeitverhalten des Rechen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1680" y="1332000"/>
            <a:ext cx="770220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hne Hilfsregister würden sich die während 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U-Rechenzeit ergebenden Schwankungen a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gang (Hasards, Wettläufe) sofort wieder auf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n ALU-Eingang auswi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asynchrones Schaltwerk mit allen bekannt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blemen und Fehl-Ergebnissen würd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stehe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itarbeiter-Dillmann</cp:lastModifiedBy>
  <cp:lastPrinted>2000-05-02T16:11:13Z</cp:lastPrinted>
  <dcterms:modified xsi:type="dcterms:W3CDTF">2002-03-07T12:08:14Z</dcterms:modified>
  <cp:revision>443</cp:revision>
  <dc:subject/>
  <dc:title>TI-2</dc:title>
</cp:coreProperties>
</file>