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AA6FBF1-AF04-408D-9166-5088BC77107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C891-4EFC-4252-BBC2-0402E9E8C3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Vorles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WS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FDI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stitut für Rechnerentwurf und Fehlertoleranz (I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dustrielle Anwendungen der Informatik und Mikrosystemtechnik (IA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6880" y="103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080" y="1260360"/>
            <a:ext cx="7841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2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1, 1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62, 16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74, 1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89, 19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96, 20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.Speicherhierarchie, Cache-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32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3, 33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1.Virtuelle Speicherverw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8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07, 31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17, 32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6, 3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0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0, 4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2.Direkter Speicherzu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3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4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3.Systemsteuer- und Schnittstellenbausteine. Grund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1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4.Behandlung von Ausnahmesituatio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4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5.Interrupt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5, 2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6.Digitale Signalprozessoren (D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69, 37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78, 38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7.Mikro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7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1, 11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3, 12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0, 1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4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3038d"/>
                </a:solidFill>
                <a:latin typeface="Tahoma"/>
              </a:rPr>
              <a:t>Exponentialgesetz der Mikroelektronik 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8448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83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84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101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eistungs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55600" y="1138320"/>
            <a:ext cx="6747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Beispiele von Mikr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92680" y="1333440"/>
            <a:ext cx="4730760" cy="464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3080" y="1805040"/>
            <a:ext cx="319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Zwei unabhängige 6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336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b"/>
                </a:solidFill>
                <a:latin typeface="Arial"/>
              </a:rPr>
              <a:t>IBM Pow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rne 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520" y="1252440"/>
            <a:ext cx="86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IBM und XILINX bereiten sich f</a:t>
            </a:r>
            <a:r>
              <a:rPr b="0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r die Produktion der er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90-Nanometer-Chips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 300 -mm-Wafer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27080" y="2279520"/>
            <a:ext cx="697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Chips mit mehreren Hundert Millionen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und bis zu 72 Millionen Logik-G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Versorgungsspannung von unter 1 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Bis zu acht Kuper-Metalllagen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kapazitätsarme Low-K-Dielektrika als Isolator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Diffusionsbarriere zum Siliz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 die neue Fabrik hat IBM rund 2,5 Milliarden USD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vest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Tahoma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Moleküle sich gegenseitig beeinflussen und dadurch Berechnungen anstellen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520" y="1362240"/>
            <a:ext cx="84297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vor allem 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Prozessor- und 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Rechner-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xponentialgesetz der Mikroelektronik</a:t>
            </a:r>
            <a:br>
              <a:rPr sz="3200"/>
            </a:b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90512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ie Anzahl der Transistoren pro (Prozessor-)Ch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verdoppelt sich alle zwei Jah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ie Verarbeitungsleistung der Hochleistungs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Verdoppelt sich alle 18 Mon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Für den gleichen Preis liefert die Mikroelektronik d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oppelte Leistung in weniger als zwei Jah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eispiele bei 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6000" y="1187280"/>
            <a:ext cx="8712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440" y="1244520"/>
            <a:ext cx="79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mmer mehr Transistoren auf einem VLSI-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SIA 1997 Roadmap für Prozessoren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97760" y="1440000"/>
            <a:ext cx="187560" cy="693720"/>
          </a:xfrm>
          <a:prstGeom prst="downArrow">
            <a:avLst>
              <a:gd name="adj1" fmla="val 50000"/>
              <a:gd name="adj2" fmla="val 924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59080" y="500544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SIA = American Semiconductor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http://public.itr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http://www.sematech.org/public/hom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3960" y="2182680"/>
            <a:ext cx="7794720" cy="2722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843680" y="4433760"/>
            <a:ext cx="543240" cy="4748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85920" y="114768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0840" y="1590840"/>
            <a:ext cx="0" cy="420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Struktur eines Computer mit 6 Eben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5920" y="206532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85920" y="570384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5920" y="29894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85920" y="389880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85920" y="48038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74560" y="302256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Betriebssystemmas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36920" y="393228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A (Instruction Set Archit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9040" y="48369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archite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8560" y="2098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Assembler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2680" y="11811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orientierte 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6840" y="5737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gitale Log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400" y="118116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400" y="30225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5400" y="20988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400" y="48369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5400" y="573732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400" y="3932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4120" y="16462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Compi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2579760"/>
            <a:ext cx="33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Assemb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24120" y="3475080"/>
            <a:ext cx="56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Mikroprogramm) oder direkte Aus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26640" y="52992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24120" y="4389480"/>
            <a:ext cx="44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Betrieb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Tahoma"/>
              </a:rPr>
              <a:t>Gliederung der Steuerungsebenen im Rechnersysem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9360" y="1182600"/>
            <a:ext cx="8516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57440" y="1676520"/>
            <a:ext cx="5867280" cy="3886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29200" y="3798720"/>
            <a:ext cx="121932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61240" y="2143080"/>
            <a:ext cx="121896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in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2880" y="2133720"/>
            <a:ext cx="1344600" cy="2819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66800" y="1676520"/>
            <a:ext cx="1981440" cy="388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9880" y="2133720"/>
            <a:ext cx="140652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9760" y="3809880"/>
            <a:ext cx="137664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1.1 Aufbau eines Digitalrechner (von-Neumann-Rechne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8280" y="1082520"/>
            <a:ext cx="8543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Digitalrechner (Rechner, Computer)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rei Hauptkomponent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Hardware: 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Physikalische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Implementierung einer Funktionalität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Alle mechanischen und elektronischen Bau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Softw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Logische Implementierung einer Funktionalitä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Alle Programme, die auf dem Rechner ablau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Firmw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Mikroprogramme in ROMs, Mittelstellung zwischen </a:t>
            </a:r>
            <a:br>
              <a:rPr sz="2200"/>
            </a:b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Hardware und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as von-Neumann-Konnzep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as </a:t>
            </a:r>
            <a:r>
              <a:rPr b="1" sz="2400" spc="-1" strike="noStrike">
                <a:solidFill>
                  <a:srgbClr val="003399"/>
                </a:solidFill>
                <a:latin typeface="Arial"/>
              </a:rPr>
              <a:t>von-Neumann-Konzept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 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528080" y="3129120"/>
            <a:ext cx="4132440" cy="3082680"/>
            <a:chOff x="4528080" y="3129120"/>
            <a:chExt cx="4132440" cy="30826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28080" y="584352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99"/>
                  </a:solidFill>
                  <a:latin typeface="Arial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on-Neumann-Rechn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47800" y="1241280"/>
            <a:ext cx="51976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3320" y="1015920"/>
            <a:ext cx="772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Prinzipieller Aufbau ein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Adres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interne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ie Systembus-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RISC vs. CISC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on-Neumann- vs. Harvard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Befehls-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inzip und Funktio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ten- und Kontrollkonflikte und deren Beh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MD Athlon Chip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69880" y="1112760"/>
            <a:ext cx="63676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1.1 Aufbau eines Digitalrech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Arial"/>
              </a:rPr>
              <a:t>Rechner aus Hardware-Sicht: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ie Verarbeitung der Daten erfolgt nach einem vorgegebenen Programm aus Maschinenbefehlen, welche die jeweils nächste Operation und die benötigten Operanden bestim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igitalrechner nach dem von-Neumann Konzep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0400" y="1306440"/>
            <a:ext cx="739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Einf</a:t>
            </a:r>
            <a:r>
              <a:rPr b="1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hrung in die Assembler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grammiertechn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PS-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bau von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rganisation von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peic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ache-Speicher (Prinzip, Techn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1880" y="1316160"/>
            <a:ext cx="730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us-Arbiter, Interrupt-Controller, Schnittstell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Mikrocontroller &amp; Digitale 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Eingabe-/Ausgabe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Zeitgeber/Zähler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peicher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Unterbrechungs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MA (direct Memory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720" y="1085760"/>
            <a:ext cx="777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U. Brinkschulte und Th. Unger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controller und Mikro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Springer-Verlag,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H. Bäh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rechner-Systeme,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3. Auflage 2002 (Band I/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Th. Flick, H. Liebi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prozessortechnik;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5. Auflage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W. Oberschelp, G. Vo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Rechneraufbau und Rechnerstrukturen, 8. Aufla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Oldenbourg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3640" y="1150920"/>
            <a:ext cx="85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organ Kaufmann Publ. 3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. Silic, B. Robic and 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cessor architecture : from datafl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uperscalar and beyond; Spring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ructured Computer Organization, 4. Auflag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1224000"/>
            <a:ext cx="798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0600" y="1109520"/>
            <a:ext cx="828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ähring, Helmu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rechner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3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 I – ISBN 3-540-41648-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kroprozessoren und Digitale Signalprozess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nd II – ISBN 3-540-43693-6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sse, Speicher, Peripherie und Mikro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kschulte, Uwe und Theo Ungerer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controller und Mikroprozessor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4309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ik, Thomas und Hans Liebig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prozessor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5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6401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360" y="1325520"/>
            <a:ext cx="822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000" y="1344600"/>
            <a:ext cx="60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Themen T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Grundlagen, Definitionen und Erklärungen. Historische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, 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5, 4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.Steuerwerk, Steuer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3.Rechenwerk (Operationswe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.Registersa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8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Adreß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5, 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.Systembusschnitt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1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2, 11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9,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7.Pipeline-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,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8.CIS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, 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0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4-09-30T05:27:03Z</dcterms:modified>
  <cp:revision>362</cp:revision>
  <dc:subject/>
  <dc:title>TI-2</dc:title>
</cp:coreProperties>
</file>