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19E8-36D4-4527-B0A2-7874BB1AAA1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o sind wir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68400" y="1171440"/>
            <a:ext cx="201600" cy="4937400"/>
          </a:xfrm>
          <a:custGeom>
            <a:avLst/>
            <a:gdLst/>
            <a:ahLst/>
            <a:rect l="l" t="t" r="r" b="b"/>
            <a:pathLst>
              <a:path w="127" h="3110">
                <a:moveTo>
                  <a:pt x="127" y="127"/>
                </a:moveTo>
                <a:lnTo>
                  <a:pt x="127" y="3110"/>
                </a:lnTo>
                <a:lnTo>
                  <a:pt x="0" y="2983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68400" y="1171440"/>
            <a:ext cx="7348680" cy="201600"/>
          </a:xfrm>
          <a:custGeom>
            <a:avLst/>
            <a:gdLst/>
            <a:ahLst/>
            <a:rect l="l" t="t" r="r" b="b"/>
            <a:pathLst>
              <a:path w="4629" h="127">
                <a:moveTo>
                  <a:pt x="4629" y="127"/>
                </a:moveTo>
                <a:lnTo>
                  <a:pt x="127" y="127"/>
                </a:lnTo>
                <a:lnTo>
                  <a:pt x="0" y="0"/>
                </a:lnTo>
                <a:lnTo>
                  <a:pt x="4502" y="0"/>
                </a:lnTo>
                <a:lnTo>
                  <a:pt x="4629" y="127"/>
                </a:lnTo>
                <a:close/>
              </a:path>
            </a:pathLst>
          </a:cu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70000" y="1373040"/>
            <a:ext cx="7147080" cy="4735800"/>
          </a:xfrm>
          <a:custGeom>
            <a:avLst/>
            <a:gdLst/>
            <a:ahLst/>
            <a:rect l="l" t="t" r="r" b="b"/>
            <a:pathLst>
              <a:path w="4502" h="2983">
                <a:moveTo>
                  <a:pt x="0" y="0"/>
                </a:moveTo>
                <a:lnTo>
                  <a:pt x="0" y="2983"/>
                </a:lnTo>
                <a:lnTo>
                  <a:pt x="4502" y="2983"/>
                </a:lnTo>
                <a:lnTo>
                  <a:pt x="450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70000" y="1373040"/>
            <a:ext cx="1440" cy="4719960"/>
          </a:xfrm>
          <a:prstGeom prst="line">
            <a:avLst/>
          </a:prstGeom>
          <a:ln w="15840">
            <a:solidFill>
              <a:srgbClr val="d6d6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70000" y="6093000"/>
            <a:ext cx="7130880" cy="1440"/>
          </a:xfrm>
          <a:prstGeom prst="line">
            <a:avLst/>
          </a:prstGeom>
          <a:ln w="158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300880" y="1372680"/>
            <a:ext cx="1800" cy="4719960"/>
          </a:xfrm>
          <a:prstGeom prst="line">
            <a:avLst/>
          </a:prstGeom>
          <a:ln w="15840">
            <a:solidFill>
              <a:srgbClr val="c3c3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170000" y="1373040"/>
            <a:ext cx="7130880" cy="1800"/>
          </a:xfrm>
          <a:prstGeom prst="line">
            <a:avLst/>
          </a:prstGeom>
          <a:ln w="158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65720" y="3755880"/>
            <a:ext cx="201600" cy="159408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8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65720" y="3755880"/>
            <a:ext cx="1687680" cy="201600"/>
          </a:xfrm>
          <a:custGeom>
            <a:avLst/>
            <a:gdLst/>
            <a:ahLst/>
            <a:rect l="l" t="t" r="r" b="b"/>
            <a:pathLst>
              <a:path w="1063" h="127">
                <a:moveTo>
                  <a:pt x="1063" y="127"/>
                </a:moveTo>
                <a:lnTo>
                  <a:pt x="127" y="127"/>
                </a:lnTo>
                <a:lnTo>
                  <a:pt x="0" y="0"/>
                </a:lnTo>
                <a:lnTo>
                  <a:pt x="936" y="0"/>
                </a:lnTo>
                <a:lnTo>
                  <a:pt x="1063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67320" y="3957480"/>
            <a:ext cx="1486080" cy="1392480"/>
          </a:xfrm>
          <a:custGeom>
            <a:avLst/>
            <a:gdLst/>
            <a:ahLst/>
            <a:rect l="l" t="t" r="r" b="b"/>
            <a:pathLst>
              <a:path w="936" h="877">
                <a:moveTo>
                  <a:pt x="0" y="0"/>
                </a:moveTo>
                <a:lnTo>
                  <a:pt x="0" y="877"/>
                </a:lnTo>
                <a:lnTo>
                  <a:pt x="936" y="877"/>
                </a:lnTo>
                <a:lnTo>
                  <a:pt x="9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67320" y="3941640"/>
            <a:ext cx="1800" cy="139392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67320" y="5335560"/>
            <a:ext cx="14860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853400" y="3941640"/>
            <a:ext cx="1440" cy="139392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367320" y="3941640"/>
            <a:ext cx="14860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4800" y="449892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13600" y="1744560"/>
            <a:ext cx="199800" cy="1594080"/>
          </a:xfrm>
          <a:custGeom>
            <a:avLst/>
            <a:gdLst/>
            <a:ahLst/>
            <a:rect l="l" t="t" r="r" b="b"/>
            <a:pathLst>
              <a:path w="126" h="1004">
                <a:moveTo>
                  <a:pt x="126" y="126"/>
                </a:moveTo>
                <a:lnTo>
                  <a:pt x="126" y="1004"/>
                </a:lnTo>
                <a:lnTo>
                  <a:pt x="0" y="877"/>
                </a:lnTo>
                <a:lnTo>
                  <a:pt x="0" y="0"/>
                </a:lnTo>
                <a:lnTo>
                  <a:pt x="126" y="126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3600" y="1744560"/>
            <a:ext cx="1685880" cy="200160"/>
          </a:xfrm>
          <a:custGeom>
            <a:avLst/>
            <a:gdLst/>
            <a:ahLst/>
            <a:rect l="l" t="t" r="r" b="b"/>
            <a:pathLst>
              <a:path w="1062" h="126">
                <a:moveTo>
                  <a:pt x="1062" y="126"/>
                </a:moveTo>
                <a:lnTo>
                  <a:pt x="126" y="126"/>
                </a:lnTo>
                <a:lnTo>
                  <a:pt x="0" y="0"/>
                </a:lnTo>
                <a:lnTo>
                  <a:pt x="935" y="0"/>
                </a:lnTo>
                <a:lnTo>
                  <a:pt x="1062" y="126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13400" y="1944720"/>
            <a:ext cx="1486080" cy="1393920"/>
          </a:xfrm>
          <a:custGeom>
            <a:avLst/>
            <a:gdLst/>
            <a:ahLst/>
            <a:rect l="l" t="t" r="r" b="b"/>
            <a:pathLst>
              <a:path w="936" h="878">
                <a:moveTo>
                  <a:pt x="0" y="0"/>
                </a:moveTo>
                <a:lnTo>
                  <a:pt x="0" y="878"/>
                </a:lnTo>
                <a:lnTo>
                  <a:pt x="936" y="878"/>
                </a:lnTo>
                <a:lnTo>
                  <a:pt x="9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99360" y="1930320"/>
            <a:ext cx="1440" cy="13924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99360" y="3322800"/>
            <a:ext cx="14842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83640" y="1930320"/>
            <a:ext cx="1440" cy="13924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399000" y="1930320"/>
            <a:ext cx="14842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15440" y="2487600"/>
            <a:ext cx="989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78560" y="2440080"/>
            <a:ext cx="77760" cy="233280"/>
          </a:xfrm>
          <a:custGeom>
            <a:avLst/>
            <a:gdLst/>
            <a:ahLst/>
            <a:rect l="l" t="t" r="r" b="b"/>
            <a:pathLst>
              <a:path w="49" h="147">
                <a:moveTo>
                  <a:pt x="49" y="49"/>
                </a:moveTo>
                <a:lnTo>
                  <a:pt x="49" y="147"/>
                </a:lnTo>
                <a:lnTo>
                  <a:pt x="0" y="108"/>
                </a:lnTo>
                <a:lnTo>
                  <a:pt x="0" y="0"/>
                </a:lnTo>
                <a:lnTo>
                  <a:pt x="49" y="4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78560" y="2440080"/>
            <a:ext cx="772920" cy="77760"/>
          </a:xfrm>
          <a:custGeom>
            <a:avLst/>
            <a:gdLst/>
            <a:ahLst/>
            <a:rect l="l" t="t" r="r" b="b"/>
            <a:pathLst>
              <a:path w="487" h="49">
                <a:moveTo>
                  <a:pt x="487" y="49"/>
                </a:moveTo>
                <a:lnTo>
                  <a:pt x="49" y="49"/>
                </a:lnTo>
                <a:lnTo>
                  <a:pt x="0" y="0"/>
                </a:lnTo>
                <a:lnTo>
                  <a:pt x="448" y="0"/>
                </a:lnTo>
                <a:lnTo>
                  <a:pt x="487" y="4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56320" y="2517840"/>
            <a:ext cx="695160" cy="155520"/>
          </a:xfrm>
          <a:custGeom>
            <a:avLst/>
            <a:gdLst/>
            <a:ahLst/>
            <a:rect l="l" t="t" r="r" b="b"/>
            <a:pathLst>
              <a:path w="438" h="98">
                <a:moveTo>
                  <a:pt x="0" y="0"/>
                </a:moveTo>
                <a:lnTo>
                  <a:pt x="0" y="98"/>
                </a:lnTo>
                <a:lnTo>
                  <a:pt x="438" y="98"/>
                </a:lnTo>
                <a:lnTo>
                  <a:pt x="43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40480" y="2502000"/>
            <a:ext cx="1440" cy="17136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40480" y="2673360"/>
            <a:ext cx="711000" cy="144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51480" y="2502000"/>
            <a:ext cx="1800" cy="17136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640120" y="2502000"/>
            <a:ext cx="711000" cy="144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32480" y="4452840"/>
            <a:ext cx="61920" cy="247680"/>
          </a:xfrm>
          <a:custGeom>
            <a:avLst/>
            <a:gdLst/>
            <a:ahLst/>
            <a:rect l="l" t="t" r="r" b="b"/>
            <a:pathLst>
              <a:path w="39" h="156">
                <a:moveTo>
                  <a:pt x="39" y="39"/>
                </a:moveTo>
                <a:lnTo>
                  <a:pt x="39" y="156"/>
                </a:lnTo>
                <a:lnTo>
                  <a:pt x="0" y="117"/>
                </a:lnTo>
                <a:lnTo>
                  <a:pt x="0" y="0"/>
                </a:lnTo>
                <a:lnTo>
                  <a:pt x="39" y="3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32480" y="4452840"/>
            <a:ext cx="772920" cy="61920"/>
          </a:xfrm>
          <a:custGeom>
            <a:avLst/>
            <a:gdLst/>
            <a:ahLst/>
            <a:rect l="l" t="t" r="r" b="b"/>
            <a:pathLst>
              <a:path w="487" h="39">
                <a:moveTo>
                  <a:pt x="487" y="39"/>
                </a:moveTo>
                <a:lnTo>
                  <a:pt x="39" y="39"/>
                </a:lnTo>
                <a:lnTo>
                  <a:pt x="0" y="0"/>
                </a:lnTo>
                <a:lnTo>
                  <a:pt x="448" y="0"/>
                </a:lnTo>
                <a:lnTo>
                  <a:pt x="487" y="3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94400" y="4514760"/>
            <a:ext cx="711000" cy="185760"/>
          </a:xfrm>
          <a:custGeom>
            <a:avLst/>
            <a:gdLst/>
            <a:ahLst/>
            <a:rect l="l" t="t" r="r" b="b"/>
            <a:pathLst>
              <a:path w="448" h="117">
                <a:moveTo>
                  <a:pt x="0" y="0"/>
                </a:moveTo>
                <a:lnTo>
                  <a:pt x="0" y="117"/>
                </a:lnTo>
                <a:lnTo>
                  <a:pt x="448" y="117"/>
                </a:lnTo>
                <a:lnTo>
                  <a:pt x="44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94400" y="4514760"/>
            <a:ext cx="1440" cy="18576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94400" y="4700520"/>
            <a:ext cx="69516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289560" y="4514760"/>
            <a:ext cx="1800" cy="18576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594040" y="4514760"/>
            <a:ext cx="69516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92680" y="1728720"/>
            <a:ext cx="201600" cy="3637080"/>
          </a:xfrm>
          <a:custGeom>
            <a:avLst/>
            <a:gdLst/>
            <a:ahLst/>
            <a:rect l="l" t="t" r="r" b="b"/>
            <a:pathLst>
              <a:path w="127" h="2291">
                <a:moveTo>
                  <a:pt x="127" y="127"/>
                </a:moveTo>
                <a:lnTo>
                  <a:pt x="127" y="2291"/>
                </a:lnTo>
                <a:lnTo>
                  <a:pt x="0" y="2164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5ee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92680" y="1728720"/>
            <a:ext cx="1825560" cy="201600"/>
          </a:xfrm>
          <a:custGeom>
            <a:avLst/>
            <a:gdLst/>
            <a:ahLst/>
            <a:rect l="l" t="t" r="r" b="b"/>
            <a:pathLst>
              <a:path w="1150" h="127">
                <a:moveTo>
                  <a:pt x="1150" y="127"/>
                </a:moveTo>
                <a:lnTo>
                  <a:pt x="127" y="127"/>
                </a:lnTo>
                <a:lnTo>
                  <a:pt x="0" y="0"/>
                </a:lnTo>
                <a:lnTo>
                  <a:pt x="1033" y="0"/>
                </a:lnTo>
                <a:lnTo>
                  <a:pt x="1150" y="127"/>
                </a:lnTo>
                <a:close/>
              </a:path>
            </a:pathLst>
          </a:custGeom>
          <a:solidFill>
            <a:srgbClr val="3f97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94280" y="1930320"/>
            <a:ext cx="1623960" cy="3435480"/>
          </a:xfrm>
          <a:custGeom>
            <a:avLst/>
            <a:gdLst/>
            <a:ahLst/>
            <a:rect l="l" t="t" r="r" b="b"/>
            <a:pathLst>
              <a:path w="1023" h="2164">
                <a:moveTo>
                  <a:pt x="0" y="0"/>
                </a:moveTo>
                <a:lnTo>
                  <a:pt x="0" y="2164"/>
                </a:lnTo>
                <a:lnTo>
                  <a:pt x="1023" y="2164"/>
                </a:lnTo>
                <a:lnTo>
                  <a:pt x="102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1c3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8440" y="1930320"/>
            <a:ext cx="1440" cy="3419640"/>
          </a:xfrm>
          <a:prstGeom prst="line">
            <a:avLst/>
          </a:prstGeom>
          <a:ln w="15840">
            <a:solidFill>
              <a:srgbClr val="62e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78440" y="5349960"/>
            <a:ext cx="1639800" cy="1440"/>
          </a:xfrm>
          <a:prstGeom prst="line">
            <a:avLst/>
          </a:prstGeom>
          <a:ln w="15840">
            <a:solidFill>
              <a:srgbClr val="4cb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718240" y="1929960"/>
            <a:ext cx="1440" cy="3419640"/>
          </a:xfrm>
          <a:prstGeom prst="line">
            <a:avLst/>
          </a:prstGeom>
          <a:ln w="15840">
            <a:solidFill>
              <a:srgbClr val="59d5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078080" y="1930320"/>
            <a:ext cx="1639800" cy="1800"/>
          </a:xfrm>
          <a:prstGeom prst="line">
            <a:avLst/>
          </a:prstGeom>
          <a:ln w="15840">
            <a:solidFill>
              <a:srgbClr val="4cb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70400" y="34624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51400" y="3446640"/>
            <a:ext cx="61920" cy="247320"/>
          </a:xfrm>
          <a:custGeom>
            <a:avLst/>
            <a:gdLst/>
            <a:ahLst/>
            <a:rect l="l" t="t" r="r" b="b"/>
            <a:pathLst>
              <a:path w="39" h="156">
                <a:moveTo>
                  <a:pt x="39" y="39"/>
                </a:moveTo>
                <a:lnTo>
                  <a:pt x="39" y="156"/>
                </a:lnTo>
                <a:lnTo>
                  <a:pt x="0" y="107"/>
                </a:lnTo>
                <a:lnTo>
                  <a:pt x="0" y="0"/>
                </a:lnTo>
                <a:lnTo>
                  <a:pt x="39" y="3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51400" y="3446640"/>
            <a:ext cx="480960" cy="61560"/>
          </a:xfrm>
          <a:custGeom>
            <a:avLst/>
            <a:gdLst/>
            <a:ahLst/>
            <a:rect l="l" t="t" r="r" b="b"/>
            <a:pathLst>
              <a:path w="303" h="39">
                <a:moveTo>
                  <a:pt x="303" y="39"/>
                </a:moveTo>
                <a:lnTo>
                  <a:pt x="39" y="39"/>
                </a:lnTo>
                <a:lnTo>
                  <a:pt x="0" y="0"/>
                </a:lnTo>
                <a:lnTo>
                  <a:pt x="264" y="0"/>
                </a:lnTo>
                <a:lnTo>
                  <a:pt x="303" y="3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13320" y="3508200"/>
            <a:ext cx="419040" cy="185760"/>
          </a:xfrm>
          <a:custGeom>
            <a:avLst/>
            <a:gdLst/>
            <a:ahLst/>
            <a:rect l="l" t="t" r="r" b="b"/>
            <a:pathLst>
              <a:path w="264" h="117">
                <a:moveTo>
                  <a:pt x="0" y="0"/>
                </a:moveTo>
                <a:lnTo>
                  <a:pt x="0" y="117"/>
                </a:lnTo>
                <a:lnTo>
                  <a:pt x="264" y="117"/>
                </a:lnTo>
                <a:lnTo>
                  <a:pt x="26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13320" y="3508200"/>
            <a:ext cx="1440" cy="16992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13320" y="3678120"/>
            <a:ext cx="40320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016520" y="3508200"/>
            <a:ext cx="1440" cy="16992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613320" y="3508200"/>
            <a:ext cx="40320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68400" y="1171440"/>
            <a:ext cx="201600" cy="4937400"/>
          </a:xfrm>
          <a:custGeom>
            <a:avLst/>
            <a:gdLst/>
            <a:ahLst/>
            <a:rect l="l" t="t" r="r" b="b"/>
            <a:pathLst>
              <a:path w="127" h="3110">
                <a:moveTo>
                  <a:pt x="127" y="127"/>
                </a:moveTo>
                <a:lnTo>
                  <a:pt x="127" y="3110"/>
                </a:lnTo>
                <a:lnTo>
                  <a:pt x="0" y="2983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bf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8400" y="1171440"/>
            <a:ext cx="2614680" cy="201600"/>
          </a:xfrm>
          <a:custGeom>
            <a:avLst/>
            <a:gdLst/>
            <a:ahLst/>
            <a:rect l="l" t="t" r="r" b="b"/>
            <a:pathLst>
              <a:path w="1647" h="127">
                <a:moveTo>
                  <a:pt x="1647" y="127"/>
                </a:moveTo>
                <a:lnTo>
                  <a:pt x="127" y="127"/>
                </a:lnTo>
                <a:lnTo>
                  <a:pt x="0" y="0"/>
                </a:lnTo>
                <a:lnTo>
                  <a:pt x="1520" y="0"/>
                </a:lnTo>
                <a:lnTo>
                  <a:pt x="1647" y="127"/>
                </a:lnTo>
                <a:close/>
              </a:path>
            </a:pathLst>
          </a:custGeom>
          <a:solidFill>
            <a:srgbClr val="819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70000" y="1373040"/>
            <a:ext cx="2413080" cy="4735800"/>
          </a:xfrm>
          <a:custGeom>
            <a:avLst/>
            <a:gdLst/>
            <a:ahLst/>
            <a:rect l="l" t="t" r="r" b="b"/>
            <a:pathLst>
              <a:path w="1520" h="2983">
                <a:moveTo>
                  <a:pt x="0" y="0"/>
                </a:moveTo>
                <a:lnTo>
                  <a:pt x="0" y="2983"/>
                </a:lnTo>
                <a:lnTo>
                  <a:pt x="1520" y="2983"/>
                </a:lnTo>
                <a:lnTo>
                  <a:pt x="152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6c3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70000" y="1373040"/>
            <a:ext cx="1440" cy="4719960"/>
          </a:xfrm>
          <a:prstGeom prst="line">
            <a:avLst/>
          </a:prstGeom>
          <a:ln w="15840">
            <a:solidFill>
              <a:srgbClr val="c7e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0000" y="6093000"/>
            <a:ext cx="2397240" cy="1440"/>
          </a:xfrm>
          <a:prstGeom prst="line">
            <a:avLst/>
          </a:prstGeom>
          <a:ln w="15840">
            <a:solidFill>
              <a:srgbClr val="9cb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67240" y="1372680"/>
            <a:ext cx="1440" cy="4719960"/>
          </a:xfrm>
          <a:prstGeom prst="line">
            <a:avLst/>
          </a:prstGeom>
          <a:ln w="15840">
            <a:solidFill>
              <a:srgbClr val="b6d5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69640" y="1373040"/>
            <a:ext cx="2397240" cy="1800"/>
          </a:xfrm>
          <a:prstGeom prst="line">
            <a:avLst/>
          </a:prstGeom>
          <a:ln w="15840">
            <a:solidFill>
              <a:srgbClr val="9cb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01840" y="1728720"/>
            <a:ext cx="201600" cy="159408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7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01840" y="1728720"/>
            <a:ext cx="1903320" cy="201600"/>
          </a:xfrm>
          <a:custGeom>
            <a:avLst/>
            <a:gdLst/>
            <a:ahLst/>
            <a:rect l="l" t="t" r="r" b="b"/>
            <a:pathLst>
              <a:path w="1199" h="127">
                <a:moveTo>
                  <a:pt x="1199" y="127"/>
                </a:moveTo>
                <a:lnTo>
                  <a:pt x="127" y="127"/>
                </a:lnTo>
                <a:lnTo>
                  <a:pt x="0" y="0"/>
                </a:lnTo>
                <a:lnTo>
                  <a:pt x="1082" y="0"/>
                </a:lnTo>
                <a:lnTo>
                  <a:pt x="1199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3440" y="1930320"/>
            <a:ext cx="1701720" cy="1392480"/>
          </a:xfrm>
          <a:custGeom>
            <a:avLst/>
            <a:gdLst/>
            <a:ahLst/>
            <a:rect l="l" t="t" r="r" b="b"/>
            <a:pathLst>
              <a:path w="1072" h="877">
                <a:moveTo>
                  <a:pt x="0" y="0"/>
                </a:moveTo>
                <a:lnTo>
                  <a:pt x="0" y="877"/>
                </a:lnTo>
                <a:lnTo>
                  <a:pt x="1072" y="877"/>
                </a:lnTo>
                <a:lnTo>
                  <a:pt x="107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1930320"/>
            <a:ext cx="1440" cy="13762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7600" y="3306600"/>
            <a:ext cx="171756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305160" y="1929960"/>
            <a:ext cx="1440" cy="13762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87240" y="1930320"/>
            <a:ext cx="171756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5640" y="2487600"/>
            <a:ext cx="137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32080" y="3772080"/>
            <a:ext cx="201600" cy="159372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7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32080" y="3772080"/>
            <a:ext cx="1873080" cy="201600"/>
          </a:xfrm>
          <a:custGeom>
            <a:avLst/>
            <a:gdLst/>
            <a:ahLst/>
            <a:rect l="l" t="t" r="r" b="b"/>
            <a:pathLst>
              <a:path w="1180" h="127">
                <a:moveTo>
                  <a:pt x="1180" y="127"/>
                </a:moveTo>
                <a:lnTo>
                  <a:pt x="127" y="127"/>
                </a:lnTo>
                <a:lnTo>
                  <a:pt x="0" y="0"/>
                </a:lnTo>
                <a:lnTo>
                  <a:pt x="1063" y="0"/>
                </a:lnTo>
                <a:lnTo>
                  <a:pt x="1180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33680" y="3973680"/>
            <a:ext cx="1671480" cy="1392120"/>
          </a:xfrm>
          <a:custGeom>
            <a:avLst/>
            <a:gdLst/>
            <a:ahLst/>
            <a:rect l="l" t="t" r="r" b="b"/>
            <a:pathLst>
              <a:path w="1053" h="877">
                <a:moveTo>
                  <a:pt x="0" y="0"/>
                </a:moveTo>
                <a:lnTo>
                  <a:pt x="0" y="877"/>
                </a:lnTo>
                <a:lnTo>
                  <a:pt x="1053" y="877"/>
                </a:lnTo>
                <a:lnTo>
                  <a:pt x="105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3680" y="3957480"/>
            <a:ext cx="1440" cy="13924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33680" y="5349960"/>
            <a:ext cx="16714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05160" y="3957480"/>
            <a:ext cx="1440" cy="13924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633320" y="3957480"/>
            <a:ext cx="16714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5320" y="451476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9920" y="5505480"/>
            <a:ext cx="1785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99"/>
                </a:solidFill>
                <a:latin typeface="Arial"/>
              </a:rPr>
              <a:t>Festwertspeicher (ROM, </a:t>
            </a:r>
            <a:r>
              <a:rPr b="1" i="1" sz="2800" spc="-1" strike="noStrike">
                <a:solidFill>
                  <a:srgbClr val="000099"/>
                </a:solidFill>
                <a:latin typeface="Arial"/>
              </a:rPr>
              <a:t>Read Only Memory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7840" y="1066680"/>
            <a:ext cx="832464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reversible Festwertspeicher:</a:t>
            </a:r>
            <a:r>
              <a:rPr b="1" lang="de-DE" sz="2200" spc="-1" strike="noStrike">
                <a:solidFill>
                  <a:srgbClr val="00b600"/>
                </a:solidFill>
                <a:latin typeface="Arial"/>
              </a:rPr>
              <a:t>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Einschreiben der Informationen kann wieder rückgängig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ach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UV-löschbaren Festwertspeicher (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Erasable and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Programmable Read-Onl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Memor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- EPROM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Löschen durch UV-L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Elektrisch löschbare Festwertspeicher (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Electricall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Erasable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and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Programmable Read-Onl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Memor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- EEPRO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önnen im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-System selbst elektrisch gelöscht werde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r Vorgang ist jedoch sehr langsam und nur begrenz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t mögli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Flash-ROM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genauso wie EEPROMs elektrisch programmiert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Die Daten werden nicht byteweise sondern blockwei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gelesen und geschrieb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98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8120" y="1305000"/>
            <a:ext cx="844884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ist  jeder Zeit lesbar und schreib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ist flüchti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volatile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, d.h. er geht bei Abschalten der Versorgungsspannung verl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tatische Schreib/Lese-Speicher (SRAM)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Dynamische Schreib/Lese-Speicher (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Quasi-statische Schreib/Lese-Speicher (iRAM,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integrated 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9680" y="1190520"/>
            <a:ext cx="84484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tatische Schreib/Lese-Speicher (SRAM) </a:t>
            </a:r>
            <a:br>
              <a:rPr sz="2400"/>
            </a:b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n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 in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ipflops. Flipflops al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zel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stabil, solange Versorgungsspann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vorhanden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io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Bipolar-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schneller, aber großer Flächenbedar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MOS-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langsamer, aber kleinerer Flächenbedar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9680" y="1190520"/>
            <a:ext cx="84484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Dynamische Schreib/Lese-Speicher (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wird als elektrische Ladung in eine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densator gespeich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Lesen bewirkt meist Entladun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estructiv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a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ch dem Lesen muss wie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geschrieb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Ladung geht nach einiger Zeit auch dur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ckströme verlor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eriodische Auffrisch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erforderli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refre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grationsdochte höher als S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9960" y="1184400"/>
            <a:ext cx="821376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Quasi-statische Schreib/Lese-Speicher (iRAM,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integrated RAM)</a:t>
            </a:r>
            <a:br>
              <a:rPr sz="2400"/>
            </a:b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66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ynamische Speicher, welche die Schaltung fü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Wiederauffrischen mit auf dem Chip haben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cc66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sehen nach außen wie statische 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, sind jedoch im inneren dynam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084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99"/>
                </a:solidFill>
                <a:latin typeface="Arial"/>
              </a:rPr>
              <a:t>Nicht-flüchtige RAM's (NVRAM, </a:t>
            </a:r>
            <a:r>
              <a:rPr b="1" i="1" sz="2800" spc="-1" strike="noStrike">
                <a:solidFill>
                  <a:srgbClr val="000099"/>
                </a:solidFill>
                <a:latin typeface="Arial"/>
              </a:rPr>
              <a:t>non volatile RAM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760" y="1409760"/>
            <a:ext cx="826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6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bination aus Festwertspeicher und Schreib/Le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 auf einem Baustei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6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6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 Speicherzelle ist doppelt ausgelegt, einmal al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statische RAM-Zell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nd einmal als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EEPROM-Zell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6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6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Normalbetrieb werden die RAM-Zellen benutz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6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6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spezielle Steuerschalt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erlaubt jedoch da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opieren des RAM-Inhalts in das EEPRO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Allgemeine Struktu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960" y="1184400"/>
            <a:ext cx="8213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6680" y="1062000"/>
            <a:ext cx="878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8120" y="1104840"/>
            <a:ext cx="823932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Speicherelement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1 Bit Speic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Speicherzelle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(-platz, -stelle):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feste Anzahl von Speicherelementen, die durch eine einzige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Adresse ausgewählt werden,  z.B. 8, 16, 32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Speicherwort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maximale Anzahl von Speicherelementen, die in einem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Buszyklus zwischen </a:t>
            </a:r>
            <a:r>
              <a:rPr b="0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P und Speicher übertragen werden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können  </a:t>
            </a:r>
            <a:r>
              <a:rPr b="0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Speicherwortbreite = Datenbusbre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wahlfreier Zugriff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jede Speicherzelle kann direkt angesprochen werden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(ohne vorher andere Zellen ansprechen zu müsse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Selektion erfolgt über einen Adressdekoder.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Adresse wird in einen 1-aus-n Code umgeform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8120" y="1104840"/>
            <a:ext cx="8239320" cy="50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Organisation: </a:t>
            </a:r>
            <a:br>
              <a:rPr sz="2200"/>
            </a:br>
            <a:r>
              <a:rPr b="1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Organisation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eines Speicherbausteins bzw. eines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Speichers wird durch die Anzahl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seiner Speicherzellen und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Anzahl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der Speicherelemente / Zelle defini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Angabe in der Form:   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n x m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0000"/>
                </a:solidFill>
                <a:latin typeface="Arial"/>
              </a:rPr>
              <a:t>4k x 8 B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peicher enthält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4096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peicherzellen je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8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bau aus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acht 4k x 1 B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austeinen oder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zwei 4k x 4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austeinen od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16-MBit-DRAM gibt es wahlweise mit ein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ganisation von 4Mx4, 2Mx8 oder 1Mx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8120" y="1104840"/>
            <a:ext cx="8239320" cy="52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Kapazität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 </a:t>
            </a:r>
            <a:br>
              <a:rPr sz="2200"/>
            </a:br>
            <a:r>
              <a:rPr b="0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Informationsmenge (in Anzahl Bit), die im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Speicher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untergebracht werden kann:  </a:t>
            </a:r>
            <a:r>
              <a:rPr b="1" sz="2200" spc="-1" strike="noStrike">
                <a:solidFill>
                  <a:srgbClr val="cc0000"/>
                </a:solidFill>
                <a:latin typeface="Arial"/>
              </a:rPr>
              <a:t>n </a:t>
            </a:r>
            <a:r>
              <a:rPr b="0" lang="de-DE" sz="22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sz="2200" spc="-1" strike="noStrike">
                <a:solidFill>
                  <a:srgbClr val="cc0000"/>
                </a:solidFill>
                <a:latin typeface="Arial"/>
              </a:rPr>
              <a:t> m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Größen zur Charakterisierung der Arbeitsgeschwindigkeit </a:t>
            </a:r>
            <a:br>
              <a:rPr sz="2200"/>
            </a:br>
            <a:r>
              <a:rPr b="1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eines Speicherbausteins: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Zugriffszeit (</a:t>
            </a:r>
            <a:r>
              <a:rPr b="1" i="1" sz="2200" spc="-1" strike="noStrike">
                <a:solidFill>
                  <a:srgbClr val="3333cc"/>
                </a:solidFill>
                <a:latin typeface="Arial"/>
              </a:rPr>
              <a:t>access time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)</a:t>
            </a:r>
            <a:br>
              <a:rPr sz="2200"/>
            </a:br>
            <a:r>
              <a:rPr b="0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maximale Zeitdauer, die vom Anlegen einer Adresse an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en Speicher bis zur Ausgabe der gewünschten Daten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verge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Zykluszeit (</a:t>
            </a:r>
            <a:r>
              <a:rPr b="1" i="1" sz="2200" spc="-1" strike="noStrike">
                <a:solidFill>
                  <a:srgbClr val="3333cc"/>
                </a:solidFill>
                <a:latin typeface="Arial"/>
              </a:rPr>
              <a:t>cycle time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):</a:t>
            </a:r>
            <a:br>
              <a:rPr sz="2200"/>
            </a:br>
            <a:r>
              <a:rPr b="1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minimale Zeitdauer, die zwischen zwei hintereinander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folgenden Aufschaltungen von Adressen an den Speicher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vergehen mu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6120" y="1181160"/>
            <a:ext cx="710100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8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Halb</a:t>
            </a:r>
            <a:r>
              <a:rPr b="1" lang="de-DE" sz="2400" spc="-1" strike="noStrike">
                <a:solidFill>
                  <a:srgbClr val="00cc66"/>
                </a:solidFill>
                <a:latin typeface="Arial"/>
              </a:rPr>
              <a:t>leiter</a:t>
            </a:r>
            <a:r>
              <a:rPr b="1" sz="2400" spc="-1" strike="noStrike">
                <a:solidFill>
                  <a:srgbClr val="00cc66"/>
                </a:solidFill>
                <a:latin typeface="Arial"/>
              </a:rPr>
              <a:t>speicher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Aufbau und Organisation </a:t>
            </a:r>
            <a:br>
              <a:rPr sz="2400"/>
            </a:b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echniken zur Zugriffsbeschleun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peiher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Cach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Direct Memory Acsses (D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Zugriffszeit / Zykluszei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7600" y="3606840"/>
            <a:ext cx="3383280" cy="304920"/>
          </a:xfrm>
          <a:prstGeom prst="hexagon">
            <a:avLst>
              <a:gd name="adj" fmla="val 36985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2400" y="2647800"/>
            <a:ext cx="6594480" cy="304920"/>
            <a:chOff x="1292400" y="2647800"/>
            <a:chExt cx="6594480" cy="304920"/>
          </a:xfrm>
        </p:grpSpPr>
        <p:sp>
          <p:nvSpPr>
            <p:cNvPr id="189" name=""/>
            <p:cNvSpPr/>
            <p:nvPr/>
          </p:nvSpPr>
          <p:spPr>
            <a:xfrm>
              <a:off x="1292400" y="2647800"/>
              <a:ext cx="1311120" cy="304920"/>
            </a:xfrm>
            <a:prstGeom prst="hexagon">
              <a:avLst>
                <a:gd name="adj" fmla="val 31214"/>
                <a:gd name="vf" fmla="val 11547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75400" y="2647800"/>
              <a:ext cx="1311480" cy="304920"/>
            </a:xfrm>
            <a:prstGeom prst="hexagon">
              <a:avLst>
                <a:gd name="adj" fmla="val 31223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584440" y="2647800"/>
              <a:ext cx="3992760" cy="304560"/>
              <a:chOff x="2584440" y="2647800"/>
              <a:chExt cx="3992760" cy="304560"/>
            </a:xfrm>
          </p:grpSpPr>
          <p:sp>
            <p:nvSpPr>
              <p:cNvPr id="192" name=""/>
              <p:cNvSpPr/>
              <p:nvPr/>
            </p:nvSpPr>
            <p:spPr>
              <a:xfrm>
                <a:off x="3194280" y="2647800"/>
                <a:ext cx="3382920" cy="304560"/>
              </a:xfrm>
              <a:prstGeom prst="hexagon">
                <a:avLst>
                  <a:gd name="adj" fmla="val 37025"/>
                  <a:gd name="vf" fmla="val 11547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584440" y="2647800"/>
                <a:ext cx="3141720" cy="304560"/>
              </a:xfrm>
              <a:prstGeom prst="hexagon">
                <a:avLst>
                  <a:gd name="adj" fmla="val 34385"/>
                  <a:gd name="vf" fmla="val 11547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4413240" y="3606840"/>
            <a:ext cx="3992400" cy="304920"/>
            <a:chOff x="4413240" y="3606840"/>
            <a:chExt cx="3992400" cy="304920"/>
          </a:xfrm>
        </p:grpSpPr>
        <p:sp>
          <p:nvSpPr>
            <p:cNvPr id="195" name=""/>
            <p:cNvSpPr/>
            <p:nvPr/>
          </p:nvSpPr>
          <p:spPr>
            <a:xfrm>
              <a:off x="5022720" y="3606840"/>
              <a:ext cx="3382920" cy="304920"/>
            </a:xfrm>
            <a:prstGeom prst="hexagon">
              <a:avLst>
                <a:gd name="adj" fmla="val 36981"/>
                <a:gd name="vf" fmla="val 11547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13240" y="3606840"/>
              <a:ext cx="1300320" cy="304920"/>
            </a:xfrm>
            <a:prstGeom prst="hexagon">
              <a:avLst>
                <a:gd name="adj" fmla="val 34886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521240" y="1644480"/>
            <a:ext cx="0" cy="279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92440" y="1644480"/>
            <a:ext cx="0" cy="327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80160" y="1644480"/>
            <a:ext cx="0" cy="3175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6560" y="2031840"/>
            <a:ext cx="1130400" cy="208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40760" y="2070000"/>
            <a:ext cx="1130040" cy="208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3680" y="249228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3480" y="3460680"/>
            <a:ext cx="12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60800" y="3844800"/>
            <a:ext cx="1096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Zugr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695320" y="4680000"/>
            <a:ext cx="1305000" cy="0"/>
          </a:xfrm>
          <a:prstGeom prst="line">
            <a:avLst/>
          </a:prstGeom>
          <a:ln w="19080">
            <a:solidFill>
              <a:srgbClr val="454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53040" y="4680000"/>
            <a:ext cx="1514520" cy="0"/>
          </a:xfrm>
          <a:prstGeom prst="line">
            <a:avLst/>
          </a:prstGeom>
          <a:ln w="19080">
            <a:solidFill>
              <a:srgbClr val="454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65480" y="4330800"/>
            <a:ext cx="1096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de-DE" sz="2800" spc="-1" strike="noStrike" baseline="-25000">
                <a:solidFill>
                  <a:srgbClr val="3333cc"/>
                </a:solidFill>
                <a:latin typeface="Arial"/>
              </a:rPr>
              <a:t>Zyk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685960" y="4203720"/>
            <a:ext cx="425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203720"/>
            <a:ext cx="366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Zugriffszeit / Zykluszei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6560" y="1305000"/>
            <a:ext cx="8039160" cy="55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Zykluszeit kann erheblich länger als die Zugriffszei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Grü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zelle muß sich nach einem Zugriff “erhol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einigen Speicherarten wird die Information durch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Auslesen zerstört und muß erst wie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geschrieben werden (refresh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Idealfal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ykluszeit = Zugriffs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Realität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eist Zykluszeit  &gt;  Zugriffs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68560" y="1104840"/>
            <a:ext cx="6680160" cy="50040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74640" y="1260360"/>
            <a:ext cx="812880" cy="2019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22560" y="1266840"/>
            <a:ext cx="812880" cy="20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448240" y="1257480"/>
            <a:ext cx="2082960" cy="2145960"/>
            <a:chOff x="5448240" y="1257480"/>
            <a:chExt cx="2082960" cy="2145960"/>
          </a:xfrm>
        </p:grpSpPr>
        <p:sp>
          <p:nvSpPr>
            <p:cNvPr id="217" name=""/>
            <p:cNvSpPr/>
            <p:nvPr/>
          </p:nvSpPr>
          <p:spPr>
            <a:xfrm>
              <a:off x="5448240" y="1257480"/>
              <a:ext cx="2082960" cy="2145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48240" y="1257480"/>
              <a:ext cx="2082960" cy="20062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0088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132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7552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65960" y="12762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48240" y="144144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48240" y="165744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48240" y="29271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48240" y="31305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5530680" y="1371600"/>
              <a:ext cx="317160" cy="342000"/>
              <a:chOff x="5530680" y="1371600"/>
              <a:chExt cx="317160" cy="342000"/>
            </a:xfrm>
          </p:grpSpPr>
          <p:sp>
            <p:nvSpPr>
              <p:cNvPr id="228" name=""/>
              <p:cNvSpPr/>
              <p:nvPr/>
            </p:nvSpPr>
            <p:spPr>
              <a:xfrm>
                <a:off x="553068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3068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2112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2112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530680" y="2844720"/>
              <a:ext cx="317160" cy="342720"/>
              <a:chOff x="5530680" y="2844720"/>
              <a:chExt cx="317160" cy="342720"/>
            </a:xfrm>
          </p:grpSpPr>
          <p:sp>
            <p:nvSpPr>
              <p:cNvPr id="233" name=""/>
              <p:cNvSpPr/>
              <p:nvPr/>
            </p:nvSpPr>
            <p:spPr>
              <a:xfrm>
                <a:off x="553068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53068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72112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112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7112160" y="1371600"/>
              <a:ext cx="317160" cy="342000"/>
              <a:chOff x="7112160" y="1371600"/>
              <a:chExt cx="317160" cy="342000"/>
            </a:xfrm>
          </p:grpSpPr>
          <p:sp>
            <p:nvSpPr>
              <p:cNvPr id="238" name=""/>
              <p:cNvSpPr/>
              <p:nvPr/>
            </p:nvSpPr>
            <p:spPr>
              <a:xfrm>
                <a:off x="711216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11216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30260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30260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7112160" y="2844720"/>
              <a:ext cx="317160" cy="342720"/>
              <a:chOff x="7112160" y="2844720"/>
              <a:chExt cx="317160" cy="342720"/>
            </a:xfrm>
          </p:grpSpPr>
          <p:sp>
            <p:nvSpPr>
              <p:cNvPr id="243" name=""/>
              <p:cNvSpPr/>
              <p:nvPr/>
            </p:nvSpPr>
            <p:spPr>
              <a:xfrm>
                <a:off x="711216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1216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30260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0260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829840" y="1896840"/>
              <a:ext cx="134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peicher-</a:t>
              </a:r>
              <a:br>
                <a:rPr sz="2000"/>
              </a:b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574640" y="3479760"/>
            <a:ext cx="800280" cy="102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09960" y="3429000"/>
            <a:ext cx="799920" cy="11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51040" y="1295280"/>
            <a:ext cx="2171520" cy="190440"/>
            <a:chOff x="851040" y="1295280"/>
            <a:chExt cx="2171520" cy="190440"/>
          </a:xfrm>
        </p:grpSpPr>
        <p:sp>
          <p:nvSpPr>
            <p:cNvPr id="251" name=""/>
            <p:cNvSpPr/>
            <p:nvPr/>
          </p:nvSpPr>
          <p:spPr>
            <a:xfrm>
              <a:off x="851040" y="138420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1815840" y="13078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851040" y="1486080"/>
            <a:ext cx="2171520" cy="190440"/>
            <a:chOff x="851040" y="1486080"/>
            <a:chExt cx="2171520" cy="190440"/>
          </a:xfrm>
        </p:grpSpPr>
        <p:sp>
          <p:nvSpPr>
            <p:cNvPr id="254" name=""/>
            <p:cNvSpPr/>
            <p:nvPr/>
          </p:nvSpPr>
          <p:spPr>
            <a:xfrm>
              <a:off x="851040" y="157500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1815840" y="14986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51040" y="2768760"/>
            <a:ext cx="2171520" cy="190440"/>
            <a:chOff x="851040" y="2768760"/>
            <a:chExt cx="2171520" cy="190440"/>
          </a:xfrm>
        </p:grpSpPr>
        <p:sp>
          <p:nvSpPr>
            <p:cNvPr id="257" name=""/>
            <p:cNvSpPr/>
            <p:nvPr/>
          </p:nvSpPr>
          <p:spPr>
            <a:xfrm>
              <a:off x="851040" y="28576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1815840" y="27813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851040" y="2959200"/>
            <a:ext cx="2171520" cy="190440"/>
            <a:chOff x="851040" y="2959200"/>
            <a:chExt cx="2171520" cy="190440"/>
          </a:xfrm>
        </p:grpSpPr>
        <p:sp>
          <p:nvSpPr>
            <p:cNvPr id="260" name=""/>
            <p:cNvSpPr/>
            <p:nvPr/>
          </p:nvSpPr>
          <p:spPr>
            <a:xfrm>
              <a:off x="851040" y="304812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1815840" y="297180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838080" y="3683160"/>
            <a:ext cx="2171520" cy="190440"/>
            <a:chOff x="838080" y="3683160"/>
            <a:chExt cx="2171520" cy="190440"/>
          </a:xfrm>
        </p:grpSpPr>
        <p:sp>
          <p:nvSpPr>
            <p:cNvPr id="263" name=""/>
            <p:cNvSpPr/>
            <p:nvPr/>
          </p:nvSpPr>
          <p:spPr>
            <a:xfrm>
              <a:off x="838080" y="37720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1802880" y="36957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838080" y="3492360"/>
            <a:ext cx="2171520" cy="190440"/>
            <a:chOff x="838080" y="3492360"/>
            <a:chExt cx="2171520" cy="190440"/>
          </a:xfrm>
        </p:grpSpPr>
        <p:sp>
          <p:nvSpPr>
            <p:cNvPr id="266" name=""/>
            <p:cNvSpPr/>
            <p:nvPr/>
          </p:nvSpPr>
          <p:spPr>
            <a:xfrm>
              <a:off x="838080" y="35812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1802880" y="35049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838080" y="4140360"/>
            <a:ext cx="2171520" cy="190440"/>
            <a:chOff x="838080" y="4140360"/>
            <a:chExt cx="2171520" cy="190440"/>
          </a:xfrm>
        </p:grpSpPr>
        <p:sp>
          <p:nvSpPr>
            <p:cNvPr id="269" name=""/>
            <p:cNvSpPr/>
            <p:nvPr/>
          </p:nvSpPr>
          <p:spPr>
            <a:xfrm>
              <a:off x="838080" y="42292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1802880" y="41529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 flipH="1">
            <a:off x="3835080" y="14479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835080" y="166356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835080" y="29336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835080" y="31370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9756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5428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03320" y="3816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05040" y="3816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4788000"/>
            <a:ext cx="1333800" cy="1155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logik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ustei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w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84880" y="3809880"/>
            <a:ext cx="21207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altenauswahl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84880" y="4952880"/>
            <a:ext cx="2120760" cy="673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0088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755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6596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286680" y="3613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406760"/>
            <a:ext cx="217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1803240" y="4330800"/>
            <a:ext cx="190800" cy="164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3556080"/>
            <a:ext cx="158760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9880" y="3733920"/>
            <a:ext cx="157500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9880" y="443232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9880" y="421632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158920" y="4508640"/>
            <a:ext cx="152640" cy="279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374560" y="3276720"/>
            <a:ext cx="444600" cy="1511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543480" y="3390840"/>
            <a:ext cx="1892160" cy="1409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3543480" y="4483080"/>
            <a:ext cx="1841400" cy="49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43480" y="5334120"/>
            <a:ext cx="1841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626080" y="4483080"/>
            <a:ext cx="329760" cy="1752480"/>
            <a:chOff x="5626080" y="4483080"/>
            <a:chExt cx="329760" cy="1752480"/>
          </a:xfrm>
        </p:grpSpPr>
        <p:sp>
          <p:nvSpPr>
            <p:cNvPr id="300" name=""/>
            <p:cNvSpPr/>
            <p:nvPr/>
          </p:nvSpPr>
          <p:spPr>
            <a:xfrm>
              <a:off x="571500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608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0800000">
              <a:off x="576540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500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1500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5468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4208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981760" y="4483080"/>
            <a:ext cx="329760" cy="1752480"/>
            <a:chOff x="5981760" y="4483080"/>
            <a:chExt cx="329760" cy="1752480"/>
          </a:xfrm>
        </p:grpSpPr>
        <p:sp>
          <p:nvSpPr>
            <p:cNvPr id="308" name=""/>
            <p:cNvSpPr/>
            <p:nvPr/>
          </p:nvSpPr>
          <p:spPr>
            <a:xfrm>
              <a:off x="607068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8176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0800000">
              <a:off x="612108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7068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7068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1036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9776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112160" y="4483080"/>
            <a:ext cx="329760" cy="1752480"/>
            <a:chOff x="7112160" y="4483080"/>
            <a:chExt cx="329760" cy="1752480"/>
          </a:xfrm>
        </p:grpSpPr>
        <p:sp>
          <p:nvSpPr>
            <p:cNvPr id="316" name=""/>
            <p:cNvSpPr/>
            <p:nvPr/>
          </p:nvSpPr>
          <p:spPr>
            <a:xfrm>
              <a:off x="720108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1216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0800000">
              <a:off x="725148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108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4076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2816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7788240" y="3135240"/>
            <a:ext cx="124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e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reib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tä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00840" y="139536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530840" y="3314880"/>
            <a:ext cx="266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7429320" y="1422360"/>
            <a:ext cx="431640" cy="1396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51160" y="5924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4168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7492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87692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520704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1640" y="554976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71640" y="584208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2680" y="1185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2680" y="1401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0640" y="2671920"/>
            <a:ext cx="43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9840" y="28623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7320" y="3382920"/>
            <a:ext cx="45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7320" y="3573360"/>
            <a:ext cx="45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+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" y="401796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9440" y="422100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17920" y="1103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84800" y="31478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48800" y="34401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15560" y="34401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2360" y="4697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5720" y="50148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9520" y="5357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2560" y="5662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680" y="4743360"/>
            <a:ext cx="26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1640" y="5067360"/>
            <a:ext cx="29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040" y="5391000"/>
            <a:ext cx="50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1640" y="5702400"/>
            <a:ext cx="27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09680" y="1076400"/>
            <a:ext cx="839160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teuerlogik &amp; Bausteinauswah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CS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chip select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 oder CE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chip enable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Bausteinauswahl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ird meist durch Adressdekoder aus den höchstwertigst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bits erzeug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R/W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read/write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Auswahl Lesen oder Schreiben, nur bei RAMs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teuert die Richtung der Schreib/Leseverstärker und die Art de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ellenansteu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OE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output enable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Aktiviert die Ausgangstreiber an de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busschnittstelle (schaltet den Speicherbaustein als Quell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 den Datenbus, Tristate Trei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PGM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program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Neuprogrammieren des Bausteins, nur EPROMs,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EPROMs, NVRAMs, über U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muß dann die Programmierspannung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12..21V) zugeführ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0280" y="1685880"/>
            <a:ext cx="314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8720" y="4010040"/>
            <a:ext cx="314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5143680"/>
            <a:ext cx="48600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76400" y="28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8120" y="1095480"/>
            <a:ext cx="842004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steigt die Anzahl der Speicherzellen pro Auswahl-leitung einen bestimmten Wert  </a:t>
            </a: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elektrische Probleme (Kapazitä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iesem Fall: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ufteilen der Matrix in Untermatri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nnung der Zeilen- und Spaltenauswahlleitungen aus den Adressleit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ederwertige Adressbits bilden über Interfacetreiber (Treiberleistung, Pegelanpassung, Adresslatch) und einen1 aus n Decoder die Zeilenauswahl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wählen eine Zeile der Speichermatrix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9680" y="1057320"/>
            <a:ext cx="82962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nnung der Zeilen- und Spaltenauswahlleitungen aus den Adressleit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die Auswahl einer ganzen Zeile in einer möglichst quadratischen Matrix werden i.A. erheblich mehr Speicherzellen angesprochen als aktuell ausgelesen werden müss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anzusprechenden bzw. auszulesen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lten durch einen Spaltenauswahl-Scha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r wird über Treiber und Decoder vo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öherwertigen Adressbits gesteu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16524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Beispiel: Selektieren einer Speicherzelle aufgrund </a:t>
            </a:r>
            <a:br>
              <a:rPr sz="2400"/>
            </a:b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der gegebenen Speicher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87720" y="5276880"/>
            <a:ext cx="2101680" cy="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08520" y="36655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 Wortleit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ier: n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93720" y="2446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vier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z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070520" y="4352760"/>
            <a:ext cx="2476440" cy="752400"/>
            <a:chOff x="4070520" y="4352760"/>
            <a:chExt cx="2476440" cy="752400"/>
          </a:xfrm>
        </p:grpSpPr>
        <p:grpSp>
          <p:nvGrpSpPr>
            <p:cNvPr id="370" name=""/>
            <p:cNvGrpSpPr/>
            <p:nvPr/>
          </p:nvGrpSpPr>
          <p:grpSpPr>
            <a:xfrm>
              <a:off x="4070520" y="4352760"/>
              <a:ext cx="619200" cy="752400"/>
              <a:chOff x="4070520" y="4352760"/>
              <a:chExt cx="619200" cy="752400"/>
            </a:xfrm>
          </p:grpSpPr>
          <p:sp>
            <p:nvSpPr>
              <p:cNvPr id="371" name=""/>
              <p:cNvSpPr/>
              <p:nvPr/>
            </p:nvSpPr>
            <p:spPr>
              <a:xfrm>
                <a:off x="40705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516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229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658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689720" y="4352760"/>
              <a:ext cx="619200" cy="752400"/>
              <a:chOff x="4689720" y="4352760"/>
              <a:chExt cx="619200" cy="752400"/>
            </a:xfrm>
          </p:grpSpPr>
          <p:sp>
            <p:nvSpPr>
              <p:cNvPr id="376" name=""/>
              <p:cNvSpPr/>
              <p:nvPr/>
            </p:nvSpPr>
            <p:spPr>
              <a:xfrm>
                <a:off x="46897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708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421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850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308920" y="4352760"/>
              <a:ext cx="619200" cy="752400"/>
              <a:chOff x="5308920" y="4352760"/>
              <a:chExt cx="619200" cy="752400"/>
            </a:xfrm>
          </p:grpSpPr>
          <p:sp>
            <p:nvSpPr>
              <p:cNvPr id="381" name=""/>
              <p:cNvSpPr/>
              <p:nvPr/>
            </p:nvSpPr>
            <p:spPr>
              <a:xfrm>
                <a:off x="53089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900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6613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042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928120" y="4352760"/>
              <a:ext cx="618840" cy="752400"/>
              <a:chOff x="5928120" y="4352760"/>
              <a:chExt cx="618840" cy="752400"/>
            </a:xfrm>
          </p:grpSpPr>
          <p:sp>
            <p:nvSpPr>
              <p:cNvPr id="386" name=""/>
              <p:cNvSpPr/>
              <p:nvPr/>
            </p:nvSpPr>
            <p:spPr>
              <a:xfrm>
                <a:off x="5928120" y="43527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08840" y="45622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8020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423120" y="46670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4070520" y="3600360"/>
            <a:ext cx="2476440" cy="752400"/>
            <a:chOff x="4070520" y="3600360"/>
            <a:chExt cx="2476440" cy="752400"/>
          </a:xfrm>
        </p:grpSpPr>
        <p:grpSp>
          <p:nvGrpSpPr>
            <p:cNvPr id="391" name=""/>
            <p:cNvGrpSpPr/>
            <p:nvPr/>
          </p:nvGrpSpPr>
          <p:grpSpPr>
            <a:xfrm>
              <a:off x="4070520" y="3600360"/>
              <a:ext cx="619200" cy="752400"/>
              <a:chOff x="4070520" y="3600360"/>
              <a:chExt cx="619200" cy="752400"/>
            </a:xfrm>
          </p:grpSpPr>
          <p:sp>
            <p:nvSpPr>
              <p:cNvPr id="392" name=""/>
              <p:cNvSpPr/>
              <p:nvPr/>
            </p:nvSpPr>
            <p:spPr>
              <a:xfrm>
                <a:off x="40705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516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229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5658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4689720" y="3600360"/>
              <a:ext cx="619200" cy="752400"/>
              <a:chOff x="4689720" y="3600360"/>
              <a:chExt cx="619200" cy="752400"/>
            </a:xfrm>
          </p:grpSpPr>
          <p:sp>
            <p:nvSpPr>
              <p:cNvPr id="397" name=""/>
              <p:cNvSpPr/>
              <p:nvPr/>
            </p:nvSpPr>
            <p:spPr>
              <a:xfrm>
                <a:off x="46897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708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421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1850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308920" y="3600360"/>
              <a:ext cx="619200" cy="752400"/>
              <a:chOff x="5308920" y="3600360"/>
              <a:chExt cx="619200" cy="752400"/>
            </a:xfrm>
          </p:grpSpPr>
          <p:sp>
            <p:nvSpPr>
              <p:cNvPr id="402" name=""/>
              <p:cNvSpPr/>
              <p:nvPr/>
            </p:nvSpPr>
            <p:spPr>
              <a:xfrm>
                <a:off x="53089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4900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6613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042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5928120" y="3600360"/>
              <a:ext cx="618840" cy="752400"/>
              <a:chOff x="5928120" y="3600360"/>
              <a:chExt cx="618840" cy="752400"/>
            </a:xfrm>
          </p:grpSpPr>
          <p:sp>
            <p:nvSpPr>
              <p:cNvPr id="407" name=""/>
              <p:cNvSpPr/>
              <p:nvPr/>
            </p:nvSpPr>
            <p:spPr>
              <a:xfrm>
                <a:off x="5928120" y="36003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08840" y="38098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8020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423120" y="39146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4070520" y="2847960"/>
            <a:ext cx="618840" cy="752400"/>
            <a:chOff x="4070520" y="2847960"/>
            <a:chExt cx="618840" cy="752400"/>
          </a:xfrm>
        </p:grpSpPr>
        <p:sp>
          <p:nvSpPr>
            <p:cNvPr id="412" name=""/>
            <p:cNvSpPr/>
            <p:nvPr/>
          </p:nvSpPr>
          <p:spPr>
            <a:xfrm>
              <a:off x="4070520" y="2847960"/>
              <a:ext cx="61884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51240" y="3057480"/>
              <a:ext cx="31392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226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65520" y="3162240"/>
              <a:ext cx="12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689360" y="2847960"/>
            <a:ext cx="619200" cy="752400"/>
            <a:chOff x="4689360" y="2847960"/>
            <a:chExt cx="619200" cy="752400"/>
          </a:xfrm>
        </p:grpSpPr>
        <p:sp>
          <p:nvSpPr>
            <p:cNvPr id="417" name=""/>
            <p:cNvSpPr/>
            <p:nvPr/>
          </p:nvSpPr>
          <p:spPr>
            <a:xfrm>
              <a:off x="4689360" y="2847960"/>
              <a:ext cx="61920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70440" y="3057480"/>
              <a:ext cx="31428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418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84720" y="31622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308560" y="2847960"/>
            <a:ext cx="619200" cy="752400"/>
            <a:chOff x="5308560" y="2847960"/>
            <a:chExt cx="619200" cy="752400"/>
          </a:xfrm>
        </p:grpSpPr>
        <p:sp>
          <p:nvSpPr>
            <p:cNvPr id="422" name=""/>
            <p:cNvSpPr/>
            <p:nvPr/>
          </p:nvSpPr>
          <p:spPr>
            <a:xfrm>
              <a:off x="5308560" y="2847960"/>
              <a:ext cx="61920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89640" y="3057480"/>
              <a:ext cx="31428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610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03920" y="31622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927760" y="2847960"/>
            <a:ext cx="61920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08840" y="3057480"/>
            <a:ext cx="314280" cy="2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80200" y="2847960"/>
            <a:ext cx="0" cy="20952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23120" y="3162240"/>
            <a:ext cx="1238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070520" y="2095560"/>
            <a:ext cx="2476440" cy="752400"/>
            <a:chOff x="4070520" y="2095560"/>
            <a:chExt cx="2476440" cy="752400"/>
          </a:xfrm>
        </p:grpSpPr>
        <p:grpSp>
          <p:nvGrpSpPr>
            <p:cNvPr id="431" name=""/>
            <p:cNvGrpSpPr/>
            <p:nvPr/>
          </p:nvGrpSpPr>
          <p:grpSpPr>
            <a:xfrm>
              <a:off x="4070520" y="2095560"/>
              <a:ext cx="619200" cy="752400"/>
              <a:chOff x="4070520" y="2095560"/>
              <a:chExt cx="619200" cy="752400"/>
            </a:xfrm>
          </p:grpSpPr>
          <p:sp>
            <p:nvSpPr>
              <p:cNvPr id="432" name=""/>
              <p:cNvSpPr/>
              <p:nvPr/>
            </p:nvSpPr>
            <p:spPr>
              <a:xfrm>
                <a:off x="40705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2516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4229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5658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689720" y="2095560"/>
              <a:ext cx="619200" cy="752400"/>
              <a:chOff x="4689720" y="2095560"/>
              <a:chExt cx="619200" cy="752400"/>
            </a:xfrm>
          </p:grpSpPr>
          <p:sp>
            <p:nvSpPr>
              <p:cNvPr id="437" name=""/>
              <p:cNvSpPr/>
              <p:nvPr/>
            </p:nvSpPr>
            <p:spPr>
              <a:xfrm>
                <a:off x="46897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708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0421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1850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308920" y="2095560"/>
              <a:ext cx="619200" cy="752400"/>
              <a:chOff x="5308920" y="2095560"/>
              <a:chExt cx="619200" cy="752400"/>
            </a:xfrm>
          </p:grpSpPr>
          <p:sp>
            <p:nvSpPr>
              <p:cNvPr id="442" name=""/>
              <p:cNvSpPr/>
              <p:nvPr/>
            </p:nvSpPr>
            <p:spPr>
              <a:xfrm>
                <a:off x="53089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900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613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8042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5928120" y="2095560"/>
              <a:ext cx="618840" cy="752400"/>
              <a:chOff x="5928120" y="2095560"/>
              <a:chExt cx="618840" cy="752400"/>
            </a:xfrm>
          </p:grpSpPr>
          <p:sp>
            <p:nvSpPr>
              <p:cNvPr id="447" name=""/>
              <p:cNvSpPr/>
              <p:nvPr/>
            </p:nvSpPr>
            <p:spPr>
              <a:xfrm>
                <a:off x="5928120" y="20955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08840" y="23050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8020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423120" y="24098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6242040" y="3114720"/>
            <a:ext cx="7128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0200" y="1905120"/>
            <a:ext cx="0" cy="3200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070520" y="2838600"/>
            <a:ext cx="2628720" cy="936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89400" y="5105520"/>
            <a:ext cx="2524320" cy="6570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ltenadressdeko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1-aus-N-Deko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2269800" y="2952720"/>
            <a:ext cx="2943360" cy="657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lenadressdeko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1-aus-N-Deko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94120" y="5100480"/>
            <a:ext cx="3906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70520" y="4753080"/>
            <a:ext cx="0" cy="390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19760" y="1812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10040" y="2556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19760" y="330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019760" y="4060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38600" y="481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4803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05440" y="479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96200" y="4775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898640" y="5495760"/>
            <a:ext cx="1162080" cy="371520"/>
            <a:chOff x="1898640" y="5495760"/>
            <a:chExt cx="1162080" cy="371520"/>
          </a:xfrm>
        </p:grpSpPr>
        <p:sp>
          <p:nvSpPr>
            <p:cNvPr id="467" name=""/>
            <p:cNvSpPr/>
            <p:nvPr/>
          </p:nvSpPr>
          <p:spPr>
            <a:xfrm>
              <a:off x="1898640" y="5495760"/>
              <a:ext cx="58104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79680" y="5495760"/>
              <a:ext cx="58104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 flipV="1">
            <a:off x="2762280" y="3355560"/>
            <a:ext cx="0" cy="212724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62280" y="3352680"/>
            <a:ext cx="650880" cy="0"/>
          </a:xfrm>
          <a:prstGeom prst="line">
            <a:avLst/>
          </a:prstGeom>
          <a:ln w="1908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187720" y="5276880"/>
            <a:ext cx="0" cy="21888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45680" y="49230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ltenadress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62920" y="31035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lenadres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6480" y="130320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Bitleit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ier: m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327720" y="2724120"/>
            <a:ext cx="8096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537240" y="3600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27880" y="4362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927760" y="1952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308560" y="1942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689360" y="1942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66840" y="140004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Prozessor-Speicher-Performance-Untrschi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5840" y="1066680"/>
            <a:ext cx="8496360" cy="3848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1520" y="5011560"/>
            <a:ext cx="83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mer größer werden die Lücke zwischen Verarbeitungsgeschwind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Prozessoren und Zugriffsgeschwindigkeit der DRAM Speichers 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speic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-Technologie-Tren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9960" y="1085760"/>
            <a:ext cx="82774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3800" y="1295280"/>
            <a:ext cx="789624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2 Arten von Speicher in einem Rechn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Hauptspeicher (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Arbeitsspeicher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und Peripherie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 soll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speich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näher betracht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uptspeicher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dächtnis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 des Rech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s werden dort Programme und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peicher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“jeder Zeit sofort”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ur Verfügung stehen mü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6280" y="1270080"/>
            <a:ext cx="8299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an unterscheidet zwis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permanenter Ablage von Daten </a:t>
            </a:r>
            <a:r>
              <a:rPr b="0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Langzeitgedächt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estwertspeicher (ROM), nicht flüchti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.B. Betriebssystemkern, System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vorübergehender Ablage von Daten </a:t>
            </a:r>
            <a:r>
              <a:rPr b="0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Kurzzeitgedächt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/Lesespeicher (RAM), flüchti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.B. Anwender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800" y="1276200"/>
            <a:ext cx="76392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ls Arbeitsspeicher wird verwend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heute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schließlich 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nell, klein, zuverlässig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isgünstig (&lt; 1 DM / M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rüh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ingkernspeicher (Magnetspeicher)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öhren, Rel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angsam, groß, te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.B. ¼ Mbyte Speichererweiterung einer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BM / 360-75 kostete 1967 1 Million D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Klassifizierung von Halbleiterspeicher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650680" y="1743120"/>
            <a:ext cx="106380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43120"/>
            <a:ext cx="1219320" cy="48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247400" y="2781360"/>
            <a:ext cx="577800" cy="45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27480" y="2790720"/>
            <a:ext cx="460440" cy="4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790960" y="2774880"/>
            <a:ext cx="45396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02400" y="2765520"/>
            <a:ext cx="451080" cy="48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22080" y="3772080"/>
            <a:ext cx="384120" cy="61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1440" y="3768840"/>
            <a:ext cx="32688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978280" y="3809880"/>
            <a:ext cx="441360" cy="57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8960" y="3800520"/>
            <a:ext cx="470160" cy="55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3740040"/>
            <a:ext cx="787320" cy="62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365600" y="3746520"/>
            <a:ext cx="692280" cy="62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05240" y="4873680"/>
            <a:ext cx="959040" cy="60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543640" y="3708360"/>
            <a:ext cx="403200" cy="179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4600" y="1241280"/>
            <a:ext cx="32511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2600" y="2246400"/>
            <a:ext cx="36957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chreib-/Les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54080" y="2246400"/>
            <a:ext cx="32511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Festwer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243240"/>
            <a:ext cx="1704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irreversi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81160" y="3262320"/>
            <a:ext cx="1447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reversi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68720" y="3244680"/>
            <a:ext cx="193356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Statisch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78600" y="3240000"/>
            <a:ext cx="2098800" cy="5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Dynamisch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75280" y="4321080"/>
            <a:ext cx="233676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quasi-statisches</a:t>
            </a:r>
            <a:br>
              <a:rPr sz="1800"/>
            </a:b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4280" y="4371840"/>
            <a:ext cx="7272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20840" y="4371840"/>
            <a:ext cx="853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59120" y="4371840"/>
            <a:ext cx="11430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E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23960" y="4371840"/>
            <a:ext cx="10573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4200" y="5429160"/>
            <a:ext cx="26096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cccc"/>
                </a:solidFill>
                <a:latin typeface="Arial"/>
              </a:rPr>
              <a:t>Nichtflüchtig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99"/>
                </a:solidFill>
                <a:latin typeface="Arial"/>
              </a:rPr>
              <a:t>Festwertspeicher (ROM, </a:t>
            </a:r>
            <a:r>
              <a:rPr b="1" i="1" sz="2800" spc="-1" strike="noStrike">
                <a:solidFill>
                  <a:srgbClr val="000099"/>
                </a:solidFill>
                <a:latin typeface="Arial"/>
              </a:rPr>
              <a:t>Read Only Memory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9680" y="1104840"/>
            <a:ext cx="8324640" cy="48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halt ist während des Normalbetriebs nur lesbar. Inhalt i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icht flüchtig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(non volatile),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.h. er geht bei Abschaltung der Versorgungsspannung nicht verl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irreversible Festwertspeicher:</a:t>
            </a:r>
            <a:r>
              <a:rPr b="0" lang="de-DE" sz="2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Einschreiben einer Information kann nicht wieder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ückgängig gemach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maskenprogrammierten Festwertspeicher (ROM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ierung bei der Herstellung, nur bei großer Stückz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programmierbare Festwertspeicher (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Programmable Read-Onl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Memor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PROM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maliges Programmieren durch den Anwender mi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iergerät (Durchbrennen von Verbindungen,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sable lin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7-11-13T17:43:33Z</dcterms:modified>
  <cp:revision>910</cp:revision>
  <dc:subject/>
  <dc:title>TI-2</dc:title>
</cp:coreProperties>
</file>