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144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98560" y="4694040"/>
            <a:ext cx="4944960" cy="4446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38844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21040" y="938844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59C6B0F-FF57-47DB-91A3-833ABD3733E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98560" y="4694040"/>
            <a:ext cx="4944960" cy="4446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DQS-Signal dient dem Chipsatz und dem Speicher als Referenz, um korrespondierende Daten zu ho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71E7-1820-4DDC-9BEA-133005A278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9800" y="133524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technologisch einheitlicher Speicher mit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urzer</a:t>
            </a: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Zugriffsz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großer Kapazitä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aus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gründ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.a. nicht realisier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ösung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chichtenweise Anordnung verschiedener </a:t>
            </a:r>
            <a:br>
              <a:rPr sz="24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peicher und Verschiebung der Information </a:t>
            </a:r>
            <a:br>
              <a:rPr sz="24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zwischen den Schichten (Speicherhierarch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4600" y="1125360"/>
            <a:ext cx="8443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Cachespeicherverw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Steuerung) sorgt dafür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aß die am häufigst benötigten Daten sich im Ca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die CPU kann mit hoher Wahrscheinlichkeit das </a:t>
            </a:r>
            <a:br>
              <a:rPr sz="2400"/>
            </a:b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nächste Datum aus dem schnellen Cache und nicht </a:t>
            </a:r>
            <a:br>
              <a:rPr sz="2400"/>
            </a:b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us dem langsamen Arbeitsspeicher ho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 wird erreicht, indem automatisch durch eine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Hardware-Steuer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Cache-Controll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alle Da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en Cache kopiert werden, auf die der Prozessor zugreif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ig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äufig benötigte Da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ac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den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trategien aus dem Cache verdräng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Funktionsweise eines Cach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1600200"/>
            <a:ext cx="121932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1600200"/>
            <a:ext cx="121896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2070000"/>
            <a:ext cx="1320840" cy="64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1778040"/>
            <a:ext cx="1790640" cy="291960"/>
          </a:xfrm>
          <a:custGeom>
            <a:avLst/>
            <a:gdLst/>
            <a:ahLst/>
            <a:rect l="l" t="t" r="r" b="b"/>
            <a:pathLst>
              <a:path w="1128" h="184">
                <a:moveTo>
                  <a:pt x="0" y="0"/>
                </a:moveTo>
                <a:lnTo>
                  <a:pt x="1128" y="0"/>
                </a:lnTo>
                <a:lnTo>
                  <a:pt x="1128" y="1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36760" y="2717640"/>
            <a:ext cx="1816200" cy="330480"/>
          </a:xfrm>
          <a:custGeom>
            <a:avLst/>
            <a:gdLst/>
            <a:ahLst/>
            <a:rect l="l" t="t" r="r" b="b"/>
            <a:pathLst>
              <a:path w="1160" h="144">
                <a:moveTo>
                  <a:pt x="0" y="144"/>
                </a:moveTo>
                <a:lnTo>
                  <a:pt x="1160" y="144"/>
                </a:lnTo>
                <a:lnTo>
                  <a:pt x="11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68560" y="4114800"/>
            <a:ext cx="121896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27880" y="4114800"/>
            <a:ext cx="121896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4584600"/>
            <a:ext cx="1320840" cy="64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74920" y="4191120"/>
            <a:ext cx="4152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374920" y="5562720"/>
            <a:ext cx="4152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75080" y="4178160"/>
            <a:ext cx="0" cy="406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375080" y="523224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3000" y="13827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94080" y="380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10360" y="3021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5920" y="55357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5640" y="22114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00"/>
                </a:solidFill>
                <a:latin typeface="Arial"/>
              </a:rPr>
              <a:t>H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200" y="4599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280" y="1096920"/>
            <a:ext cx="778860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it-Rat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zeichnet die Trefferquote im Ca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Arial"/>
              </a:rPr>
              <a:t>Hit-Rate = Anzahl Treffer / Anzahl Zugr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mittlere Zugriffsze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rechnet sich annähernd w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fol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sz="2400" spc="-1" strike="noStrike" baseline="-25000">
                <a:solidFill>
                  <a:srgbClr val="3333cc"/>
                </a:solidFill>
                <a:latin typeface="Arial"/>
              </a:rPr>
              <a:t>Access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 = (Hit-Rate) * t</a:t>
            </a:r>
            <a:r>
              <a:rPr b="1" sz="2400" spc="-1" strike="noStrike" baseline="-25000">
                <a:solidFill>
                  <a:srgbClr val="3333cc"/>
                </a:solidFill>
                <a:latin typeface="Arial"/>
              </a:rPr>
              <a:t>Hi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 + (1 - Hit-Rate) * t</a:t>
            </a:r>
            <a:r>
              <a:rPr b="1" sz="2400" spc="-1" strike="noStrike" baseline="-25000">
                <a:solidFill>
                  <a:srgbClr val="3333cc"/>
                </a:solidFill>
                <a:latin typeface="Arial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H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riffszeit des C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Mis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riffszeit ohne den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Funktionsweise eines Cach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3840" y="1325520"/>
            <a:ext cx="827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chreibzugriff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iegt beim Schreiben ein Ca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ss vor, wird das Datum sowohl in den Arbeitsspeicher wie in den Cache geschri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iegt beim Schreiben jedoch ein Ca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t vor, d.h. ein im Cache stehendes Datum wird durch den Prozessor verändert, so existieren verschiedene Organisationsformen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0440" y="1289160"/>
            <a:ext cx="8224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urchschreibverfahren: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write through polic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Datum wird von der CPU immer gleichzeitig in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- und in den Arbeitsspeicher geschrieb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27880" y="3797280"/>
            <a:ext cx="121896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4267080"/>
            <a:ext cx="1320840" cy="648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74920" y="3873600"/>
            <a:ext cx="4152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374920" y="5245200"/>
            <a:ext cx="4152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75080" y="3860640"/>
            <a:ext cx="0" cy="406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375080" y="4914720"/>
            <a:ext cx="0" cy="31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94080" y="3490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35920" y="52182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68560" y="3797280"/>
            <a:ext cx="121896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0440" y="1488960"/>
            <a:ext cx="82468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00"/>
                </a:solidFill>
                <a:latin typeface="Arial"/>
              </a:rPr>
              <a:t>Vor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arantierte Konsistenz zwischen Cache-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Nachteil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zugriffe benötigen immer die langsam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ykluszeit des Hauptspeichers und belasten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ystemb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0440" y="1289160"/>
            <a:ext cx="8224920" cy="46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Gepuffertes Durchschreibverfahren: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(buffere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write through polic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ante des Durchschreibverfah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r Milderung des Nachteils beim Durchschreibverfahre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ein kleiner Schreib-Puffer verwendet, der die zu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nden Daten temporär aufnimm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Daten werden dann automatisch vom Cache-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ontroller in den Hauptspeicher übertragen, währe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Prozessor parallel dazu mit weiteren Operation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ortfäh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1289160"/>
            <a:ext cx="822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Rückschreib-Verfahren: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write back polic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atum wird von der CPU nur in den Cachespeich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chrieben und durch ein spezielles Bit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sz="2400" spc="-1" strike="noStrike">
                <a:solidFill>
                  <a:srgbClr val="0000cc"/>
                </a:solidFill>
                <a:latin typeface="Arial"/>
              </a:rPr>
              <a:t>altered bit, </a:t>
            </a:r>
            <a:br>
              <a:rPr sz="2400"/>
            </a:br>
            <a:r>
              <a:rPr b="0" i="1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modified bit, </a:t>
            </a:r>
            <a:r>
              <a:rPr b="0" i="1" sz="2400" spc="-1" strike="noStrike">
                <a:solidFill>
                  <a:srgbClr val="0000cc"/>
                </a:solidFill>
                <a:latin typeface="Arial"/>
              </a:rPr>
              <a:t>dirty bit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gekennzeichne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Arbeitsspeicher wird nur geändert, wenn ein so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kennzeichnetes Datum aus dem Cache verdräng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8800" y="113652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inzip des Rückschreib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43280" y="1866960"/>
            <a:ext cx="121896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02600" y="1866960"/>
            <a:ext cx="121896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83080" y="2336760"/>
            <a:ext cx="1320840" cy="64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62240" y="2044800"/>
            <a:ext cx="1790640" cy="291960"/>
          </a:xfrm>
          <a:custGeom>
            <a:avLst/>
            <a:gdLst/>
            <a:ahLst/>
            <a:rect l="l" t="t" r="r" b="b"/>
            <a:pathLst>
              <a:path w="1128" h="184">
                <a:moveTo>
                  <a:pt x="0" y="0"/>
                </a:moveTo>
                <a:lnTo>
                  <a:pt x="1128" y="0"/>
                </a:lnTo>
                <a:lnTo>
                  <a:pt x="1128" y="1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62240" y="2984400"/>
            <a:ext cx="1816200" cy="330480"/>
          </a:xfrm>
          <a:custGeom>
            <a:avLst/>
            <a:gdLst/>
            <a:ahLst/>
            <a:rect l="l" t="t" r="r" b="b"/>
            <a:pathLst>
              <a:path w="1160" h="144">
                <a:moveTo>
                  <a:pt x="0" y="144"/>
                </a:moveTo>
                <a:lnTo>
                  <a:pt x="1160" y="144"/>
                </a:lnTo>
                <a:lnTo>
                  <a:pt x="11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94040" y="4381560"/>
            <a:ext cx="121896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53360" y="4381560"/>
            <a:ext cx="121932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33840" y="4851360"/>
            <a:ext cx="1320840" cy="64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08480" y="16495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61240" y="41133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35840" y="32878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53840" y="58532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56280" y="4508640"/>
            <a:ext cx="2197080" cy="342720"/>
          </a:xfrm>
          <a:custGeom>
            <a:avLst/>
            <a:gdLst/>
            <a:ahLst/>
            <a:rect l="l" t="t" r="r" b="b"/>
            <a:pathLst>
              <a:path w="1384" h="216">
                <a:moveTo>
                  <a:pt x="0" y="216"/>
                </a:moveTo>
                <a:lnTo>
                  <a:pt x="0" y="0"/>
                </a:lnTo>
                <a:lnTo>
                  <a:pt x="138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5499000"/>
            <a:ext cx="2171880" cy="368280"/>
          </a:xfrm>
          <a:custGeom>
            <a:avLst/>
            <a:gdLst/>
            <a:ahLst/>
            <a:rect l="l" t="t" r="r" b="b"/>
            <a:pathLst>
              <a:path w="1368" h="232">
                <a:moveTo>
                  <a:pt x="0" y="0"/>
                </a:moveTo>
                <a:lnTo>
                  <a:pt x="0" y="232"/>
                </a:lnTo>
                <a:lnTo>
                  <a:pt x="1368" y="2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2800" y="208116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speich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720" y="4633920"/>
            <a:ext cx="18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ückschrei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0440" y="1488960"/>
            <a:ext cx="82468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00"/>
                </a:solidFill>
                <a:latin typeface="Arial"/>
              </a:rPr>
              <a:t>Vor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ch Schreibzugriffe können mit der schnell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-Zykluszeit abgewicke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Nachteil:</a:t>
            </a:r>
            <a:r>
              <a:rPr b="1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onsistenzprobleme zwischen Cache-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7920" y="1228680"/>
            <a:ext cx="157320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230560" y="6081840"/>
            <a:ext cx="64800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24640" y="1353960"/>
            <a:ext cx="503316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800"/>
                </a:solidFill>
                <a:latin typeface="Arial"/>
              </a:rPr>
              <a:t>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On-Chip-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Secondary level Cache</a:t>
            </a:r>
            <a:br>
              <a:rPr sz="2000"/>
            </a:b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(S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Arbeitsspeicher</a:t>
            </a:r>
            <a:br>
              <a:rPr sz="2000"/>
            </a:b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(D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0ac00"/>
                </a:solidFill>
                <a:latin typeface="Arial"/>
              </a:rPr>
              <a:t>Sekundärspeicher</a:t>
            </a:r>
            <a:br>
              <a:rPr sz="2000"/>
            </a:br>
            <a:r>
              <a:rPr b="1" lang="de-DE" sz="2000" spc="-1" strike="noStrike">
                <a:solidFill>
                  <a:srgbClr val="b0ac00"/>
                </a:solidFill>
                <a:latin typeface="Arial"/>
              </a:rPr>
              <a:t>(Platten, elektronische Massenspeich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Archivespeicher</a:t>
            </a:r>
            <a:br>
              <a:rPr sz="2000"/>
            </a:b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(Platten, Bänder, optische Plat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28760" y="1219320"/>
            <a:ext cx="2448000" cy="48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1228680"/>
            <a:ext cx="2447640" cy="485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0920" y="1809720"/>
            <a:ext cx="214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467080"/>
            <a:ext cx="280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19440" y="3362400"/>
            <a:ext cx="367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52880" y="4314960"/>
            <a:ext cx="46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85960" y="520056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6840" y="1373040"/>
            <a:ext cx="3121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800"/>
                </a:solidFill>
                <a:latin typeface="Arial"/>
              </a:rPr>
              <a:t>Arbeits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Schreibtisch-Umgeb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Reg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0ac00"/>
                </a:solidFill>
                <a:latin typeface="Arial"/>
              </a:rPr>
              <a:t>Magaz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Fernlei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e für Konsistenzproblem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6880" y="1154160"/>
            <a:ext cx="84294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ere Systemkomponenten, z.B. DMA-Controller, find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n unter Umständen „veraltete Daten“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, die von der CPU längst geändert, jedoch noch nicht i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n Arbeitsspeicher übertragen wu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benfalls können andere Systemkomponenten Daten i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peicher ändern, während die CPU noch mit 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n Daten im Cachespeicher arbeit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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wendige Verfahren bei der Cache-Steuerung z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hinderung solcher Inkonsistenzen sind erforderl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z.B. muss die Cache-Steuerung über je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änderung im Hauptspeicher informiert werd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DRAM-Speichertyp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143000"/>
            <a:ext cx="83599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volutionäre Schritte im Speicherdesign bleiben aus. Durch ein bewährtes und über die Jahre verfeinertes Prinzip behauptet sich DRAM als Arbeitsspeicher Nr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2. August 1981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r IBM PC (Model 5150 mit Intel 8086 Prozessor)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 KByte Arbeitsspeicher auf 8 einzelne Chips, die jeweils eine Kapazität von 16 KBit hat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RAM-Menge von damals verschwindet im L1-Cache des Proz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16524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  <a:ea typeface="Arial"/>
              </a:rPr>
              <a:t>Pin-Belegung DRAM-ICs mit 2Mx8 Organisation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17560" y="1225440"/>
            <a:ext cx="72230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52480" y="3807000"/>
            <a:ext cx="500040" cy="614160"/>
          </a:xfrm>
          <a:custGeom>
            <a:avLst/>
            <a:gdLst/>
            <a:ahLst/>
            <a:rect l="l" t="t" r="r" b="b"/>
            <a:pathLst>
              <a:path w="315" h="387">
                <a:moveTo>
                  <a:pt x="5" y="386"/>
                </a:moveTo>
                <a:lnTo>
                  <a:pt x="148" y="387"/>
                </a:lnTo>
                <a:lnTo>
                  <a:pt x="315" y="0"/>
                </a:lnTo>
                <a:lnTo>
                  <a:pt x="0" y="2"/>
                </a:lnTo>
                <a:lnTo>
                  <a:pt x="5" y="38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000680" y="1989000"/>
            <a:ext cx="0" cy="355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527800" y="1379520"/>
            <a:ext cx="0" cy="33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9160" y="228240"/>
            <a:ext cx="875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  <a:ea typeface="Arial"/>
              </a:rPr>
              <a:t>DRAM Timing-Parameter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0880" y="3036960"/>
            <a:ext cx="6865920" cy="544320"/>
          </a:xfrm>
          <a:custGeom>
            <a:avLst/>
            <a:gdLst/>
            <a:ahLst/>
            <a:rect l="l" t="t" r="r" b="b"/>
            <a:pathLst>
              <a:path w="4325" h="343">
                <a:moveTo>
                  <a:pt x="0" y="0"/>
                </a:moveTo>
                <a:lnTo>
                  <a:pt x="233" y="0"/>
                </a:lnTo>
                <a:lnTo>
                  <a:pt x="437" y="343"/>
                </a:lnTo>
                <a:lnTo>
                  <a:pt x="1589" y="343"/>
                </a:lnTo>
                <a:lnTo>
                  <a:pt x="1753" y="0"/>
                </a:lnTo>
                <a:lnTo>
                  <a:pt x="2300" y="0"/>
                </a:lnTo>
                <a:lnTo>
                  <a:pt x="2460" y="340"/>
                </a:lnTo>
                <a:lnTo>
                  <a:pt x="3701" y="343"/>
                </a:lnTo>
                <a:lnTo>
                  <a:pt x="3845" y="7"/>
                </a:lnTo>
                <a:lnTo>
                  <a:pt x="4325" y="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809880"/>
            <a:ext cx="6934320" cy="614520"/>
          </a:xfrm>
          <a:custGeom>
            <a:avLst/>
            <a:gdLst/>
            <a:ahLst/>
            <a:rect l="l" t="t" r="r" b="b"/>
            <a:pathLst>
              <a:path w="4368" h="387">
                <a:moveTo>
                  <a:pt x="0" y="384"/>
                </a:moveTo>
                <a:lnTo>
                  <a:pt x="149" y="387"/>
                </a:lnTo>
                <a:lnTo>
                  <a:pt x="163" y="360"/>
                </a:lnTo>
                <a:lnTo>
                  <a:pt x="309" y="0"/>
                </a:lnTo>
                <a:lnTo>
                  <a:pt x="909" y="0"/>
                </a:lnTo>
                <a:lnTo>
                  <a:pt x="1056" y="384"/>
                </a:lnTo>
                <a:lnTo>
                  <a:pt x="1920" y="384"/>
                </a:lnTo>
                <a:lnTo>
                  <a:pt x="2064" y="48"/>
                </a:lnTo>
                <a:lnTo>
                  <a:pt x="2976" y="48"/>
                </a:lnTo>
                <a:lnTo>
                  <a:pt x="3120" y="384"/>
                </a:lnTo>
                <a:lnTo>
                  <a:pt x="4032" y="384"/>
                </a:lnTo>
                <a:lnTo>
                  <a:pt x="4176" y="48"/>
                </a:lnTo>
                <a:lnTo>
                  <a:pt x="4368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4676760"/>
            <a:ext cx="609480" cy="5396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33840" y="4676760"/>
            <a:ext cx="39348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14720" y="4676760"/>
            <a:ext cx="1008000" cy="539640"/>
          </a:xfrm>
          <a:prstGeom prst="hexagon">
            <a:avLst>
              <a:gd name="adj" fmla="val 155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2720" y="4676760"/>
            <a:ext cx="1287360" cy="539640"/>
          </a:xfrm>
          <a:prstGeom prst="hexagon">
            <a:avLst>
              <a:gd name="adj" fmla="val 19913"/>
              <a:gd name="vf" fmla="val 11547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27720" y="4676760"/>
            <a:ext cx="558720" cy="5396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08760" y="4676760"/>
            <a:ext cx="36972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83160" y="4676760"/>
            <a:ext cx="1008360" cy="539640"/>
          </a:xfrm>
          <a:prstGeom prst="hexagon">
            <a:avLst>
              <a:gd name="adj" fmla="val 1559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04120" y="4676760"/>
            <a:ext cx="1282680" cy="539640"/>
          </a:xfrm>
          <a:prstGeom prst="hexagon">
            <a:avLst>
              <a:gd name="adj" fmla="val 19841"/>
              <a:gd name="vf" fmla="val 11547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66880" y="5746680"/>
            <a:ext cx="691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43440" y="5495760"/>
            <a:ext cx="1008000" cy="540000"/>
          </a:xfrm>
          <a:prstGeom prst="hexagon">
            <a:avLst>
              <a:gd name="adj" fmla="val 1558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43840" y="5489640"/>
            <a:ext cx="1008000" cy="539640"/>
          </a:xfrm>
          <a:prstGeom prst="hexagon">
            <a:avLst>
              <a:gd name="adj" fmla="val 15592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265480" y="1440000"/>
            <a:ext cx="0" cy="321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274920" y="2301480"/>
            <a:ext cx="0" cy="17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538520" y="1968120"/>
            <a:ext cx="0" cy="11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650960"/>
            <a:ext cx="32497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90680" y="2066760"/>
            <a:ext cx="17146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40320" y="2071800"/>
            <a:ext cx="9730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68360" y="2590920"/>
            <a:ext cx="99540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0" y="2584440"/>
            <a:ext cx="7207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960" y="30272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960" y="39416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9200" y="47149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8320" y="53928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0040" y="47530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Zeil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09120" y="47577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Spalt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8720" y="47563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Zeil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61720" y="47736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Spalt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64840" y="55227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ülti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01880" y="554832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ülti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1760" y="313200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89240" y="397368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33720" y="554364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3320" y="31352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57960" y="311940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48920" y="1274760"/>
            <a:ext cx="46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65520" y="1687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51960" y="2205000"/>
            <a:ext cx="57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17760" y="219240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80080" y="1700280"/>
            <a:ext cx="456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52680" y="4676760"/>
            <a:ext cx="58896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07960" y="4613400"/>
            <a:ext cx="349560" cy="68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65640" y="1155600"/>
            <a:ext cx="30322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Zyklu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CAS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CAS-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Precharge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04920" y="3259080"/>
            <a:ext cx="287280" cy="1419120"/>
          </a:xfrm>
          <a:custGeom>
            <a:avLst/>
            <a:gdLst/>
            <a:ahLst/>
            <a:rect l="l" t="t" r="r" b="b"/>
            <a:pathLst>
              <a:path w="181" h="894">
                <a:moveTo>
                  <a:pt x="141" y="0"/>
                </a:moveTo>
                <a:cubicBezTo>
                  <a:pt x="121" y="37"/>
                  <a:pt x="40" y="117"/>
                  <a:pt x="21" y="227"/>
                </a:cubicBezTo>
                <a:cubicBezTo>
                  <a:pt x="1" y="336"/>
                  <a:pt x="0" y="543"/>
                  <a:pt x="27" y="654"/>
                </a:cubicBezTo>
                <a:cubicBezTo>
                  <a:pt x="53" y="764"/>
                  <a:pt x="149" y="844"/>
                  <a:pt x="181" y="89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68640" y="4078440"/>
            <a:ext cx="237960" cy="609480"/>
          </a:xfrm>
          <a:custGeom>
            <a:avLst/>
            <a:gdLst/>
            <a:ahLst/>
            <a:rect l="l" t="t" r="r" b="b"/>
            <a:pathLst>
              <a:path w="150" h="384">
                <a:moveTo>
                  <a:pt x="150" y="0"/>
                </a:moveTo>
                <a:cubicBezTo>
                  <a:pt x="130" y="17"/>
                  <a:pt x="52" y="62"/>
                  <a:pt x="30" y="102"/>
                </a:cubicBezTo>
                <a:cubicBezTo>
                  <a:pt x="7" y="141"/>
                  <a:pt x="0" y="191"/>
                  <a:pt x="14" y="238"/>
                </a:cubicBezTo>
                <a:cubicBezTo>
                  <a:pt x="28" y="285"/>
                  <a:pt x="93" y="353"/>
                  <a:pt x="114" y="38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7000" y="3211560"/>
            <a:ext cx="287640" cy="1492200"/>
          </a:xfrm>
          <a:custGeom>
            <a:avLst/>
            <a:gdLst/>
            <a:ahLst/>
            <a:rect l="l" t="t" r="r" b="b"/>
            <a:pathLst>
              <a:path w="181" h="894">
                <a:moveTo>
                  <a:pt x="141" y="0"/>
                </a:moveTo>
                <a:cubicBezTo>
                  <a:pt x="121" y="37"/>
                  <a:pt x="40" y="117"/>
                  <a:pt x="21" y="227"/>
                </a:cubicBezTo>
                <a:cubicBezTo>
                  <a:pt x="1" y="336"/>
                  <a:pt x="0" y="543"/>
                  <a:pt x="27" y="654"/>
                </a:cubicBezTo>
                <a:cubicBezTo>
                  <a:pt x="53" y="764"/>
                  <a:pt x="149" y="844"/>
                  <a:pt x="181" y="89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53280" y="4071960"/>
            <a:ext cx="237960" cy="609480"/>
          </a:xfrm>
          <a:custGeom>
            <a:avLst/>
            <a:gdLst/>
            <a:ahLst/>
            <a:rect l="l" t="t" r="r" b="b"/>
            <a:pathLst>
              <a:path w="150" h="384">
                <a:moveTo>
                  <a:pt x="150" y="0"/>
                </a:moveTo>
                <a:cubicBezTo>
                  <a:pt x="130" y="17"/>
                  <a:pt x="52" y="62"/>
                  <a:pt x="30" y="102"/>
                </a:cubicBezTo>
                <a:cubicBezTo>
                  <a:pt x="7" y="141"/>
                  <a:pt x="0" y="191"/>
                  <a:pt x="14" y="238"/>
                </a:cubicBezTo>
                <a:cubicBezTo>
                  <a:pt x="28" y="285"/>
                  <a:pt x="93" y="353"/>
                  <a:pt x="114" y="38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2920" y="306864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397188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DRAM Timinig-Paramet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7280" y="1106640"/>
            <a:ext cx="85662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RAC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nimale Zeitdauer, die zwischen der fallenden Flanke von RAS bis zur Ausgabe der gewünschten Daten verge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60 ns (bei einem 4 MB D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RC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nimale Zeitdauer von Beginn eines Zeilenzugriff bis zum nächsten (Zyklusze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= 110 ns bei einem 4Mbit DRAM mit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6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75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CAC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nimale Zeitdauer, die zwischen der fallenden Flanke von CAS bi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 Ausgabe der gewünschten Daten vergeht.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= 15 ns bei einem 4Mbit DRAM mit 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60 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RC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nimale Zeitdauer vom Beginn eines  Spaltenzugriff bis zum nächs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35 ns bei einem 4Mbit DRAM mit 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6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Fast Page Mode DRAM (FPM-DRAM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600" y="1093680"/>
            <a:ext cx="86072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liegen aufeinander folgende Speicherzugriffe in der gleichen Zeile des DRAMs. Das wird bei FPM-DRAMs ausgenutz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437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Initialisieren des ersten Lesezugriffs läuft wie bei normalem DRAM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437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Nach dem ersten Lesezyklus lässt die Speichersteuerung das RAS-Signal einfach auf aktiv </a:t>
            </a:r>
            <a:r>
              <a:rPr b="0" lang="de-DE" sz="2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Zeile (page) bleibt aktiv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437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Bei den folgenden Lesezugriffen übergibt die Speichersteuerung nur noch jeweils eine neue Spaltenadresse an das DRAM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437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AS-Precharge-Zeit  (t</a:t>
            </a:r>
            <a:r>
              <a:rPr b="0" lang="de-DE" sz="23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) und die RAS-CAS-Delay (t</a:t>
            </a:r>
            <a:r>
              <a:rPr b="0" lang="de-DE" sz="23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) fallen bei den Folgezugriffen weg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 flipH="1">
            <a:off x="2785680" y="440064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g-Diagramm eines FPM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8520" y="4897440"/>
            <a:ext cx="85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 reduziert sich erheblich.  Erst wenn der Speicherzugriff des Prozessors auf eine andere Zeile erfolgt, muss der Chipsatz einen normalen Lesevorgang initialisi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51120" y="1389240"/>
            <a:ext cx="3875040" cy="218880"/>
          </a:xfrm>
          <a:custGeom>
            <a:avLst/>
            <a:gdLst/>
            <a:ahLst/>
            <a:rect l="l" t="t" r="r" b="b"/>
            <a:pathLst>
              <a:path w="3807" h="213">
                <a:moveTo>
                  <a:pt x="0" y="0"/>
                </a:moveTo>
                <a:lnTo>
                  <a:pt x="187" y="0"/>
                </a:lnTo>
                <a:lnTo>
                  <a:pt x="273" y="213"/>
                </a:lnTo>
                <a:lnTo>
                  <a:pt x="3520" y="213"/>
                </a:lnTo>
                <a:lnTo>
                  <a:pt x="3633" y="0"/>
                </a:lnTo>
                <a:lnTo>
                  <a:pt x="380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84600" y="2448000"/>
            <a:ext cx="3819240" cy="261720"/>
          </a:xfrm>
          <a:custGeom>
            <a:avLst/>
            <a:gdLst/>
            <a:ahLst/>
            <a:rect l="l" t="t" r="r" b="b"/>
            <a:pathLst>
              <a:path w="2406" h="165">
                <a:moveTo>
                  <a:pt x="0" y="10"/>
                </a:moveTo>
                <a:lnTo>
                  <a:pt x="358" y="5"/>
                </a:lnTo>
                <a:lnTo>
                  <a:pt x="400" y="165"/>
                </a:lnTo>
                <a:lnTo>
                  <a:pt x="720" y="160"/>
                </a:lnTo>
                <a:lnTo>
                  <a:pt x="768" y="5"/>
                </a:lnTo>
                <a:lnTo>
                  <a:pt x="939" y="5"/>
                </a:lnTo>
                <a:lnTo>
                  <a:pt x="971" y="160"/>
                </a:lnTo>
                <a:lnTo>
                  <a:pt x="1094" y="160"/>
                </a:lnTo>
                <a:lnTo>
                  <a:pt x="1136" y="0"/>
                </a:lnTo>
                <a:lnTo>
                  <a:pt x="1318" y="0"/>
                </a:lnTo>
                <a:lnTo>
                  <a:pt x="1350" y="160"/>
                </a:lnTo>
                <a:lnTo>
                  <a:pt x="1478" y="160"/>
                </a:lnTo>
                <a:lnTo>
                  <a:pt x="1520" y="5"/>
                </a:lnTo>
                <a:lnTo>
                  <a:pt x="1696" y="5"/>
                </a:lnTo>
                <a:lnTo>
                  <a:pt x="1734" y="154"/>
                </a:lnTo>
                <a:lnTo>
                  <a:pt x="1947" y="154"/>
                </a:lnTo>
                <a:lnTo>
                  <a:pt x="1984" y="0"/>
                </a:lnTo>
                <a:lnTo>
                  <a:pt x="240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22680" y="3490920"/>
            <a:ext cx="411120" cy="2858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909960" y="243828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19440" y="2447280"/>
            <a:ext cx="433440" cy="26172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1720"/>
              <a:gd name="textAreaBottom" fmla="*/ 2185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122800" y="2447280"/>
            <a:ext cx="433440" cy="26172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1720"/>
              <a:gd name="textAreaBottom" fmla="*/ 2185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875200" y="2439360"/>
            <a:ext cx="831960" cy="26172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1720"/>
              <a:gd name="textAreaBottom" fmla="*/ 2311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581200" y="2447280"/>
            <a:ext cx="831960" cy="26172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1720"/>
              <a:gd name="textAreaBottom" fmla="*/ 2311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350028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11760" y="350028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99080" y="350028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95760" y="350028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75520" y="3502080"/>
            <a:ext cx="457200" cy="270000"/>
          </a:xfrm>
          <a:prstGeom prst="hexagon">
            <a:avLst>
              <a:gd name="adj" fmla="val 29398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44920" y="4276800"/>
            <a:ext cx="380880" cy="269640"/>
          </a:xfrm>
          <a:prstGeom prst="hexagon">
            <a:avLst>
              <a:gd name="adj" fmla="val 24523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57800" y="4267080"/>
            <a:ext cx="380880" cy="270000"/>
          </a:xfrm>
          <a:prstGeom prst="hexagon">
            <a:avLst>
              <a:gd name="adj" fmla="val 2449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27480" y="4267080"/>
            <a:ext cx="381240" cy="270000"/>
          </a:xfrm>
          <a:prstGeom prst="hexagon">
            <a:avLst>
              <a:gd name="adj" fmla="val 24514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07240" y="4267080"/>
            <a:ext cx="380880" cy="270000"/>
          </a:xfrm>
          <a:prstGeom prst="hexagon">
            <a:avLst>
              <a:gd name="adj" fmla="val 2449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22560" y="15922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8360" y="1295280"/>
            <a:ext cx="255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73440" y="12366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89280" y="232884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89280" y="340524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89280" y="4192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803680" y="4548240"/>
            <a:ext cx="38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20600" y="377820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788920" y="27003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795760" y="1601640"/>
            <a:ext cx="38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85120" y="1303200"/>
            <a:ext cx="25524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35160" y="1954080"/>
            <a:ext cx="52884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27240" y="1552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50760" y="347328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3208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0508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9240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72160" y="34639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73360" y="1803240"/>
            <a:ext cx="0" cy="257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38440" y="4259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484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312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43560" y="1268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560" y="23893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39800" y="34257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30960" y="415764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28880" y="130644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33560" y="24321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FPM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600" y="1150920"/>
            <a:ext cx="860724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ypische FPM-DRAM-Zugriffszeit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60 oder 70 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-Zugriffszeit (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bei einem 60 ns Baustein im FPM-Mode  beträgt ca. 40 ns 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ten können im Abstand von 40 ns gelesen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C mit 66 MHz Bustakt (Taktperiode = 15 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kann im FPM-Mode </a:t>
            </a: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nur bei jedem dritten Ta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eine Zeile im Speicher zugreif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itialisierung eines Lesevorgangs mit dem Anlegen von Zeilen- und Spaltenadresse dauert dagegen mit ganzen fünf Takten 75 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ximale Datentransferra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200 Mbyte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en ab Intel Pentium führen durch ihren 64-Bit breiten Datenbus Speicherzugriffe mit 8 Byte durch. Bei einer CAS-Zykluszeit von 40 ns lassen sich 64 Bit in diesem Zeitraum übertra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EDO-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3600" y="1093680"/>
            <a:ext cx="86072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ntwicklung der FPM-DRAMs. Durch eine einfache Modifikation der Steuerung wird eine Geschwindigkeitssteigerung erre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DO-DRAMs sind um einen Latch-Speicher am Ausgang erweit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elesenen Daten bleiben bis zum nächsten Aktivieren des CAS-Signal gült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Prozessor kann Daten auslesen, während die Speichersteuerung eine neue Spaltenadresse an das DRAM übergib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dieses „Pipelining“ verkürzt sich die Wartezeit zwischen zwei aufeinander folgenden CAS-Impuls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öherer Datendurch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zugriffe bleiben wie bei FPM-Speicher unbeschleunigt und entsprechen von der Performance her den normalen Standard-D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0200" y="1278000"/>
            <a:ext cx="82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hierarchie zum Ausgleich der unterschiedlich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en der CPU und des Hauptspeic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4680" y="2351160"/>
            <a:ext cx="8250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 Strategi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Cache-Speicher: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Kurze Zugriffszeiten </a:t>
            </a:r>
            <a:r>
              <a:rPr b="0" lang="de-DE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Beschleunigung des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ozessorzugri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9400" y="4246560"/>
            <a:ext cx="825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00"/>
                </a:solidFill>
                <a:latin typeface="Arial"/>
              </a:rPr>
              <a:t>Virtuller Speicher:</a:t>
            </a:r>
            <a:br>
              <a:rPr sz="2400"/>
            </a:b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Vergrößerung des tatsächlich vorhandenen </a:t>
            </a:r>
            <a:br>
              <a:rPr sz="2400"/>
            </a:b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Hauptspeichers (z.B. bei gleichzeitiger Bearbeitung </a:t>
            </a:r>
            <a:br>
              <a:rPr sz="2400"/>
            </a:b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ehrerer Proze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 flipH="1">
            <a:off x="2385720" y="44877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7972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8136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8480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ig-Diagramm eines EDO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" y="523548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neuer Lesevorgang kann beginnen, bevor der alte abgeschlossen 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51160" y="1465200"/>
            <a:ext cx="3875040" cy="219240"/>
          </a:xfrm>
          <a:custGeom>
            <a:avLst/>
            <a:gdLst/>
            <a:ahLst/>
            <a:rect l="l" t="t" r="r" b="b"/>
            <a:pathLst>
              <a:path w="3807" h="213">
                <a:moveTo>
                  <a:pt x="0" y="0"/>
                </a:moveTo>
                <a:lnTo>
                  <a:pt x="187" y="0"/>
                </a:lnTo>
                <a:lnTo>
                  <a:pt x="273" y="213"/>
                </a:lnTo>
                <a:lnTo>
                  <a:pt x="3520" y="213"/>
                </a:lnTo>
                <a:lnTo>
                  <a:pt x="3633" y="0"/>
                </a:lnTo>
                <a:lnTo>
                  <a:pt x="380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84280" y="2523960"/>
            <a:ext cx="3819600" cy="262080"/>
          </a:xfrm>
          <a:custGeom>
            <a:avLst/>
            <a:gdLst/>
            <a:ahLst/>
            <a:rect l="l" t="t" r="r" b="b"/>
            <a:pathLst>
              <a:path w="2406" h="165">
                <a:moveTo>
                  <a:pt x="0" y="10"/>
                </a:moveTo>
                <a:lnTo>
                  <a:pt x="358" y="5"/>
                </a:lnTo>
                <a:lnTo>
                  <a:pt x="400" y="165"/>
                </a:lnTo>
                <a:lnTo>
                  <a:pt x="720" y="160"/>
                </a:lnTo>
                <a:lnTo>
                  <a:pt x="768" y="5"/>
                </a:lnTo>
                <a:lnTo>
                  <a:pt x="939" y="5"/>
                </a:lnTo>
                <a:lnTo>
                  <a:pt x="971" y="160"/>
                </a:lnTo>
                <a:lnTo>
                  <a:pt x="1094" y="160"/>
                </a:lnTo>
                <a:lnTo>
                  <a:pt x="1136" y="0"/>
                </a:lnTo>
                <a:lnTo>
                  <a:pt x="1318" y="0"/>
                </a:lnTo>
                <a:lnTo>
                  <a:pt x="1350" y="160"/>
                </a:lnTo>
                <a:lnTo>
                  <a:pt x="1478" y="160"/>
                </a:lnTo>
                <a:lnTo>
                  <a:pt x="1520" y="5"/>
                </a:lnTo>
                <a:lnTo>
                  <a:pt x="1696" y="5"/>
                </a:lnTo>
                <a:lnTo>
                  <a:pt x="1734" y="154"/>
                </a:lnTo>
                <a:lnTo>
                  <a:pt x="1947" y="154"/>
                </a:lnTo>
                <a:lnTo>
                  <a:pt x="1984" y="0"/>
                </a:lnTo>
                <a:lnTo>
                  <a:pt x="240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22360" y="3567240"/>
            <a:ext cx="411480" cy="28548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510000" y="251460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119480" y="252396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722840" y="252396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75240" y="2516040"/>
            <a:ext cx="831960" cy="26208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2080"/>
              <a:gd name="textAreaBottom" fmla="*/ 2314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181240" y="2523960"/>
            <a:ext cx="831960" cy="26208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2080"/>
              <a:gd name="textAreaBottom" fmla="*/ 2314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3204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11440" y="357660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9912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9580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75200" y="3578400"/>
            <a:ext cx="457200" cy="269640"/>
          </a:xfrm>
          <a:prstGeom prst="hexagon">
            <a:avLst>
              <a:gd name="adj" fmla="val 2943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7808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22600" y="16686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8400" y="1371600"/>
            <a:ext cx="255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73480" y="13129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89320" y="24051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89320" y="348156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89320" y="426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403000" y="46245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420640" y="385452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388960" y="277668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395080" y="16779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84800" y="1379520"/>
            <a:ext cx="255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35200" y="2030400"/>
            <a:ext cx="52884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27280" y="162864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50440" y="354960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3212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0512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244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71840" y="35402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73400" y="1879560"/>
            <a:ext cx="0" cy="25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35400" y="43354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5612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572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1160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3600" y="1344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3600" y="2465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39840" y="350208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31000" y="4233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8920" y="13827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33600" y="250812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EDO-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3600" y="1150920"/>
            <a:ext cx="860724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ypische EDO-DRAM-Zugriffszeit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50 bis 70 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-Zugriffszeit (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bei einem 60 ns EDO-DRAM-Baustein  auf 25 ns  (gegenüber 40 ns bei FPM-DR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C mit 66 MHz Bustakt (Taktperiode = 15 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kann im EDO-Mode bei </a:t>
            </a: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jedem zweiten Ta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 ei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le im Speicher zugreif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itialisierung eines Lesevorgangs mit dem Anlegen von Zeilen- und Spaltenadresse dauert, wie bei FPM-DRAM fünf Ta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ximale Datentransferra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300 MByte/sec (bei 64-Bit Daten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formance-Steigerung von 50 %. In der Praxis fallen die Geschwindigkeitsgewinne wesentlich geringer aus (wenige Prozent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usammenfassung: FPM, EDO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0120" y="1201680"/>
            <a:ext cx="8217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3600" y="1131840"/>
            <a:ext cx="86072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arbeiten asynchrone zum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Datenübertragung ist ein Handshaking-Verfahren notwendig. Ein Lesevorgang läuft wie fol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signalisiert der Speichersteuerung (ADS-Signal), dass eine Adresse an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die Daten am Ausgang des DRAMs bereitliegen, teilt die Speichersteuerung dem Prozessor dies mit (BRDY-Signal). Erst dann liest der Prozessor die Daten e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zwischen ist die CPU im Leerlauf und führt Wartezyklen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nten von EDO-DRAM (BEDO-DRAM) können die Daten ohne Wartezyklen liefern, aber nur bis zu einem Bustakt von 66 MH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600" y="1093680"/>
            <a:ext cx="860724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-Technologie hat sich (durch intensive Unterstützung von Intel) schnell durchgesetzt und beherrscht heute den Speichermark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Ein- und Ausgangssignale sind synchron zum Systemtak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, Chipsatz und Speicher kommunizieren über ein Bussystem, das synchron mit der gleichen Frequenz getaktet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n sind SDRAMs aus zwei unabhängigen Speicherbänken aufgebaut (auch bis zu 4 Speicherbänk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 dem Anlegen der Zeilen- und Spaltenadresse, generiert die Speichersteuerung die nachfolgenden Adressen und führt einen alternierenden und überlappenden Zugriff auf die beiden Speicherbänke selbstständig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ig-Diagramm eines S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7694" t="0" r="0" b="3979"/>
          <a:stretch/>
        </p:blipFill>
        <p:spPr>
          <a:xfrm>
            <a:off x="154080" y="1152360"/>
            <a:ext cx="6168960" cy="4832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811840" y="1617840"/>
            <a:ext cx="333216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00 MHz-SDRAM können alle 10 ns Daten lief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transferrat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00 Mbyte/sec (66 MHz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00 Mbyte/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100-Modu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06 Gbyte/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133-Modu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axis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. 12 % Leistungssteigerung bei gleichem Prozessortakt und 100 MHz statt 6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D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3600" y="1093680"/>
            <a:ext cx="860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3600" y="1093680"/>
            <a:ext cx="86072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ächste Stufe der SDRAM-Entwicklung (SDRAM II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en intern aus vier unabhängigen Speicherbänken, die parallel „Instruktionen“ bearbeiten kön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rinzip der DDR-DRAM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rweiterung der Bandbreite durch Nutzung beider Taktflanken. Daten werden bei steigender und fallender Taktflanke übertragen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pelter Datendurch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ufzeitverzögerungen sind sehr kritisch, deshalb wird zur Synchronisation nicht nur der Systemtakt, sondern auch ein bidirektionales Strobe-Signal (DQS) benutz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7640" y="1163520"/>
            <a:ext cx="7890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rkung:  w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und schneller Speicher, we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kalitätsverhalten der Programmverarbeitu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lagerung der Information rechtzeiti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mlagerungsstrategie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omogenität des Speichersystems für Benutz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sichtbar ist (Virtueller Speic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stungsfähigkeit der Hierarchie ist bestimmt durch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schaften der Speichertechnologien (Zugriffsart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en, ...), Adressierung  der Speicherplätze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 des Betri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Organisationsformen einer Speicherhierarchi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95240" y="2400480"/>
            <a:ext cx="2371680" cy="3619080"/>
            <a:chOff x="795240" y="2400480"/>
            <a:chExt cx="2371680" cy="3619080"/>
          </a:xfrm>
        </p:grpSpPr>
        <p:sp>
          <p:nvSpPr>
            <p:cNvPr id="351" name=""/>
            <p:cNvSpPr/>
            <p:nvPr/>
          </p:nvSpPr>
          <p:spPr>
            <a:xfrm>
              <a:off x="1386000" y="2903760"/>
              <a:ext cx="1190160" cy="437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54080" y="3861000"/>
              <a:ext cx="1853640" cy="495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5240" y="4883760"/>
              <a:ext cx="2371680" cy="624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81080" y="333360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36428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81080" y="240048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81080" y="550836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014880" y="3054240"/>
            <a:ext cx="1309680" cy="56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49920" y="3613320"/>
            <a:ext cx="3240" cy="661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49920" y="2419200"/>
            <a:ext cx="3240" cy="662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91000" y="4282920"/>
            <a:ext cx="1523880" cy="508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27640" y="3622680"/>
            <a:ext cx="939960" cy="660240"/>
          </a:xfrm>
          <a:custGeom>
            <a:avLst/>
            <a:gdLst/>
            <a:ahLst/>
            <a:rect l="l" t="t" r="r" b="b"/>
            <a:pathLst>
              <a:path w="660" h="492">
                <a:moveTo>
                  <a:pt x="660" y="0"/>
                </a:moveTo>
                <a:lnTo>
                  <a:pt x="660" y="306"/>
                </a:lnTo>
                <a:lnTo>
                  <a:pt x="0" y="306"/>
                </a:lnTo>
                <a:lnTo>
                  <a:pt x="0" y="4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7017480" y="3630600"/>
            <a:ext cx="1158840" cy="652320"/>
          </a:xfrm>
          <a:custGeom>
            <a:avLst/>
            <a:gdLst/>
            <a:ahLst/>
            <a:rect l="l" t="t" r="r" b="b"/>
            <a:pathLst>
              <a:path w="660" h="492">
                <a:moveTo>
                  <a:pt x="660" y="0"/>
                </a:moveTo>
                <a:lnTo>
                  <a:pt x="660" y="306"/>
                </a:lnTo>
                <a:lnTo>
                  <a:pt x="0" y="306"/>
                </a:lnTo>
                <a:lnTo>
                  <a:pt x="0" y="4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81040" y="20509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72120" y="20509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" y="1303200"/>
            <a:ext cx="78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neare Speicherhierarchi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ntralisierte Speicherhierarch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81840" y="4273560"/>
            <a:ext cx="1342800" cy="507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00960" y="4282920"/>
            <a:ext cx="1523880" cy="508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Typische lineare 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0" t="4424" r="0" b="1842"/>
          <a:stretch/>
        </p:blipFill>
        <p:spPr>
          <a:xfrm>
            <a:off x="723960" y="1217520"/>
            <a:ext cx="772488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1080" y="1066680"/>
            <a:ext cx="8791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 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8760" y="1238400"/>
            <a:ext cx="81248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Lösung des Problems:</a:t>
            </a:r>
            <a:r>
              <a:rPr b="1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wischen den Prozessor und den relativ langsamen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ber billigen Arbeitsspeicher aus DRAM-Baustein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legt man einen kleinen, schnellen Speicher aus SRAM-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austeinen, den sogenannten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Cache-Speicher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 einem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Cache-Speich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ersteht man allgemein einen kleinen, schnellen Pufferspeicher, der vor einen langsamen, größeren Speicher geschaltet wird, um dessen Zugriffszeit zu verbesser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 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9960" y="1305000"/>
            <a:ext cx="819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r Cache-Speicher ist zwischen CPU und Arbeitsspeicher plazi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en Cache-Speicher soll der Prozessor fast so schnell wie auf seine Register zugreifen könn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 ist entweder direkt auf dem Prozessorchip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tegrier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on-chip-Cache)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der in der schnellsten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euerst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RAM-Technologie realisi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Off-Chip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Funktionsweise eines Cach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2840" y="1325520"/>
            <a:ext cx="7848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Lesezugriff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or jedem Lesezugriff prüft der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, ob das Datum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 st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c800"/>
                </a:solidFill>
                <a:latin typeface="Arial"/>
              </a:rPr>
              <a:t>Wenn ja:</a:t>
            </a:r>
            <a:r>
              <a:rPr b="0" sz="2400" spc="-1" strike="noStrike">
                <a:solidFill>
                  <a:srgbClr val="00c8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c800"/>
                </a:solidFill>
                <a:latin typeface="Arial"/>
              </a:rPr>
              <a:t>Treffer (</a:t>
            </a:r>
            <a:r>
              <a:rPr b="1" sz="2400" spc="-1" strike="noStrike">
                <a:solidFill>
                  <a:srgbClr val="00c800"/>
                </a:solidFill>
                <a:latin typeface="Arial"/>
              </a:rPr>
              <a:t>Cache Hit</a:t>
            </a:r>
            <a:r>
              <a:rPr b="0" sz="2400" spc="-1" strike="noStrike">
                <a:solidFill>
                  <a:srgbClr val="00c800"/>
                </a:solidFill>
                <a:latin typeface="Arial"/>
              </a:rPr>
              <a:t>)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Datum kann ohne Wartezyklen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 entnommen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3300"/>
                </a:solidFill>
                <a:latin typeface="Arial"/>
              </a:rPr>
              <a:t>Wenn nein:</a:t>
            </a:r>
            <a:r>
              <a:rPr b="0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cc3300"/>
                </a:solidFill>
                <a:latin typeface="Arial"/>
              </a:rPr>
              <a:t>kein Treffer (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Cache Miss</a:t>
            </a:r>
            <a:r>
              <a:rPr b="0" sz="2400" spc="-1" strike="noStrike">
                <a:solidFill>
                  <a:srgbClr val="cc3300"/>
                </a:solidFill>
                <a:latin typeface="Arial"/>
              </a:rPr>
              <a:t>)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Datum wird mit Wartezyklen aus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 gelesen und gleichzeitig 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n Cache eingefüg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Cache-Speich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1739880"/>
            <a:ext cx="6756120" cy="3809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16200" y="2482920"/>
            <a:ext cx="1866960" cy="22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23040" y="2482920"/>
            <a:ext cx="1866600" cy="22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16200" y="3683160"/>
            <a:ext cx="1866960" cy="3808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23040" y="3683160"/>
            <a:ext cx="1866600" cy="3808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16200" y="1917720"/>
            <a:ext cx="18669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a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69680" y="481824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ress-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30160" y="205884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-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63760" y="44704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63760" y="27748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63760" y="30862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51160" y="33847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16200" y="27748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16200" y="30862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16200" y="33847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16200" y="44704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70600" y="44578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70600" y="27622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70600" y="30733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70600" y="33717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23040" y="44578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5640" y="27622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23040" y="30733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23040" y="33717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683160" y="3873600"/>
            <a:ext cx="1739880" cy="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76680" y="26542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76680" y="297180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76680" y="32637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76680" y="35434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76680" y="42544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76680" y="464832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88840" y="1482840"/>
            <a:ext cx="7442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660760" y="2298600"/>
            <a:ext cx="0" cy="138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60760" y="1467000"/>
            <a:ext cx="0" cy="45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88840" y="6006960"/>
            <a:ext cx="74422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37440" y="4064040"/>
            <a:ext cx="0" cy="1955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81200" y="56116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8840" y="109692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Cache-Speich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8880" y="1144440"/>
            <a:ext cx="837720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Cache-Speicher besteht aus zwei Speicher-Einhei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atenspeich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die im Cache abgelegten 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speich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die Adressen dieser Daten im Arbeit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älteren Mikrorechner-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r Dateneintrag besteht aus genau einem Wort de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Cache-Speich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2280" y="1222200"/>
            <a:ext cx="834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Heut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r Dateneintrag besteht aus einem ganz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block (line, bis 64 Byte). </a:t>
            </a:r>
            <a:br>
              <a:rPr sz="2400"/>
            </a:b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 jedem Datum, auf das der Prozessor zugreift, wird die Umgebung miteingelagert (Hoffnung auf Lokalität von Programme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Adressspeicher wird die Basisadresse jede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locks abgeleg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Cache-Speich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86440" y="1268280"/>
            <a:ext cx="7677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Komparator ermittelt, ob das zu einer auf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bus liegende Adresse gehörende Datum au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Cache abgelegt worden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vergleich mit den Adressen im Adres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r Adressvergleich m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sehr schnell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gehen </a:t>
            </a:r>
            <a:br>
              <a:rPr sz="2400"/>
            </a:b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(möglichst in einem Taktzyklus),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a sonst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speicher effektiv langsamer wäre als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960" y="1249200"/>
            <a:ext cx="8145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Buszykluszeit moderner Prozessoren ist erheblich kürzer als die Zykluszeit preiswerter, großer DRAM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 zwingt zum Einfügen von Wartezykl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RAM-Bausteine hingegen, die ohne Wartezyklen betrieb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können, sind jedoch klein, teu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leistungsintensi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ur kleine Speicher können so aufgebau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0600" y="1066680"/>
            <a:ext cx="82868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3840" y="1211400"/>
            <a:ext cx="81072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besserung der Zugriffszeit des Hauptspeicher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s Prozessors durch einen Cache zur Vermeidung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on Wartezyklen (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CPU-Cache, Befehls- und </a:t>
            </a:r>
            <a:br>
              <a:rPr sz="2400"/>
            </a:br>
            <a:r>
              <a:rPr b="0" sz="2400" spc="-1" strike="noStrike">
                <a:solidFill>
                  <a:srgbClr val="0000cc"/>
                </a:solidFill>
                <a:latin typeface="Arial"/>
              </a:rPr>
              <a:t>Daten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-C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ch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besserung der Zugriffszeit von Plattenspeicher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einen Cache (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Plattencach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soll im wesentlichen der erste Fall näher betrachte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360" y="1116000"/>
            <a:ext cx="829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 einem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CPU-Cache-Speich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ersteht man ein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leinen, schnellen Pufferspeicher, in dem Kopien derjenigen Teile des Arbeitsspeichers bereitgehal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, auf die aller Wahrscheinlichkeit nach von der CPU als nächstes zugegriffen wir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65160" y="3249720"/>
            <a:ext cx="6566040" cy="3027960"/>
            <a:chOff x="965160" y="3249720"/>
            <a:chExt cx="6566040" cy="3027960"/>
          </a:xfrm>
        </p:grpSpPr>
        <p:sp>
          <p:nvSpPr>
            <p:cNvPr id="80" name=""/>
            <p:cNvSpPr/>
            <p:nvPr/>
          </p:nvSpPr>
          <p:spPr>
            <a:xfrm>
              <a:off x="965160" y="3308400"/>
              <a:ext cx="1117800" cy="285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13400" y="3308400"/>
              <a:ext cx="1117800" cy="285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90840" y="4013280"/>
              <a:ext cx="1803600" cy="11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16680" y="410076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52960" y="4686480"/>
              <a:ext cx="1041480" cy="139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52960" y="4978440"/>
              <a:ext cx="1041480" cy="139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3206520" y="4210200"/>
              <a:ext cx="1168200" cy="78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eue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13400" y="3848400"/>
              <a:ext cx="1117800" cy="164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3400" y="5220000"/>
              <a:ext cx="1117800" cy="164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82960" y="3632400"/>
              <a:ext cx="433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84600" y="3632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82960" y="5905800"/>
              <a:ext cx="433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3520" y="5168880"/>
              <a:ext cx="0" cy="74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70000" y="4356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94440" y="43308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2000" y="5384880"/>
              <a:ext cx="1828800" cy="292320"/>
            </a:xfrm>
            <a:custGeom>
              <a:avLst/>
              <a:gdLst/>
              <a:ahLst/>
              <a:rect l="l" t="t" r="r" b="b"/>
              <a:pathLst>
                <a:path w="1152" h="184">
                  <a:moveTo>
                    <a:pt x="0" y="184"/>
                  </a:moveTo>
                  <a:lnTo>
                    <a:pt x="1152" y="184"/>
                  </a:lnTo>
                  <a:lnTo>
                    <a:pt x="11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8760" y="5257800"/>
              <a:ext cx="1523880" cy="432000"/>
            </a:xfrm>
            <a:custGeom>
              <a:avLst/>
              <a:gdLst/>
              <a:ahLst/>
              <a:rect l="l" t="t" r="r" b="b"/>
              <a:pathLst>
                <a:path w="704" h="184">
                  <a:moveTo>
                    <a:pt x="0" y="0"/>
                  </a:moveTo>
                  <a:lnTo>
                    <a:pt x="0" y="184"/>
                  </a:lnTo>
                  <a:lnTo>
                    <a:pt x="704" y="1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2800" y="3249720"/>
              <a:ext cx="138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dress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87920" y="587880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aten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50640" y="40118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euer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22320" y="533268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erarbei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06000" y="5332680"/>
              <a:ext cx="16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-/auslage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1520" y="1076400"/>
            <a:ext cx="85233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CPU-Cache-Speicher bezieht seine Effiziens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sentlichen aus der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Lokalitätseigenschaf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o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en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ocality of referenc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, d.h. es wer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timmte Speicherzellen bevorzugt und wiederhol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ngesprochen (z.B. Programmschlei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Zeitliche Lokalität: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Information, die in naher Zukunft angesprochen wird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st mit großer Wahrscheinlichkeit schon früher einmal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gesprochen worden (Schleife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Örtliche Lokalität: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zukunftiger Zugriff wird mit großer Wahrscheinlichkei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er Nähe des bisherigen Zugriffs lieg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30T19:51:59Z</cp:lastPrinted>
  <dcterms:modified xsi:type="dcterms:W3CDTF">2004-12-02T06:33:45Z</dcterms:modified>
  <cp:revision>1250</cp:revision>
  <dc:subject/>
  <dc:title>TI-2</dc:title>
</cp:coreProperties>
</file>