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5E5-1355-4608-BF69-1BE119C9A6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560" y="1243080"/>
            <a:ext cx="808848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von-Neumman-Konnz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und Daten liegen im selben Arbeitssp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is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Arbeitsspeicher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(niedrigere K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vard 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trennter Programm- und Datenspeicher, deshalb zwei Adress- und Datenbu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aralleles Holen von Operanden und Instru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880" y="271440"/>
            <a:ext cx="88851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000" y="1236600"/>
            <a:ext cx="8589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nzen der Weiterentwicklungsmöglichkeiten bei CISC-Rechn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437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nellere Speich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nutzung nur eines Teils des Maschinen-Befehlssatz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rsetzung komplexer Maschinenbefehle durch mehrer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fache Maschinenbefeh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erlängerte Entwurfsze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komplexe Steuerwerke (&gt; 50% der Chipfläch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umfangreiche Mikroprogram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ößere Fehlerhäufigkeit auf der Mikroprogrammebe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wieriger Compilerba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9680" y="1065240"/>
            <a:ext cx="8001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prinzip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 benutzte einfache Befehle so schnell wie mög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(Ausführung möglichst in einer Taktphase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Mikro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, Befehls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rößte Teil der Arbeit soll durch optimier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er zur Übersetzungszeit erledig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 werden nach Möglichkeit in groß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ätzen gehal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 Zugriff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Befehlsform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Deco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ing anwenden, so gut es g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17520"/>
            <a:ext cx="833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c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9960" y="1219320"/>
            <a:ext cx="82868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sz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4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jedes Befehls in einem Takt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efehl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isheriger Mikrobefehl bei CISC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efehle gleich la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ierschaltung wird einf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 länger, aber Ausführungszeit kür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Load-Store und Register-Register-Befeh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Adressierungsar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rozessorarchitektur für komplexe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Zielvorstellungen für RISC-Rechn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4040" y="1162080"/>
            <a:ext cx="74484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Befehls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 Maschinen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gerechter Maschinenbefehlssatz (glei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ausführz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Unterstützung für Betriebssystem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tkomma-Arith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Forderungen an RISC-Syst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0520" y="1241280"/>
            <a:ext cx="802296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75% aller Befehle sind 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Länge aller Befehle entsprechend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128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Befehls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e Steuereinheit, k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32 allgemein verwendbar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76200"/>
            <a:ext cx="83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7680" y="1305000"/>
            <a:ext cx="81342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743" t="5897" r="6217" b="1326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66760" y="2290680"/>
            <a:ext cx="32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0201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8200" y="1444680"/>
            <a:ext cx="816768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busschnittstel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Registerblocks sowohl für Daten als auch für Adressen (gleichzeitiges Lesen eines Datums und Zwischenspeichern eines Ergebni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anchmal als Hardware-Stack ausgebildet (beschleunigt Unterprogrammaufru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000" y="291600"/>
            <a:ext cx="87346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960" y="1073160"/>
            <a:ext cx="840924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uer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als Warteschlange (FIFO) real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jede Pipeline-Stufe ist dort ein Register vorha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OpCodes jeder Stufe können vom Schaltnetz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s ausgewe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gister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einer großen Zahl von Regi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laubt gleichzeitige Auswahl von 3 bis 4 Regist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4 Port Registersatz, gleichzeitiges Schreib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0, E1) und Lesen (A0, A1) von jeweils 2 Registe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840" y="291960"/>
            <a:ext cx="882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840" y="1330200"/>
            <a:ext cx="85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200" y="1171440"/>
            <a:ext cx="83772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hen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tzt eine Load/Store-Architektur. Die Operanden werden über 2 Operandenbusse aus dem Registersatz herbeigeführt, das Ergebnis (noch im selben Taktzyklus) über den Ergebnisbus in den Registersatz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lerweise gibt es keine direkte Verbindung zwischen ALU und Systemdatenbus, Datentransfer läuft über die Register (Load/Store-Architekt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nah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-Bypasses zur Vermei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Hemmnissen (forwarding techn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113364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ei Techniken zur Implementierung von 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R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kt durch Hardw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ufwendi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haltnetz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Schaltwerke bei größ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zahl v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en (200-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roprogramme als Befehlsinterpret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kroprogrammspeic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 Steuerwerk,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 geladen werden kan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schied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ssätze können implement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25135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2654280"/>
            <a:ext cx="16488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2666880"/>
            <a:ext cx="1652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ressierungsarten bei RISC-Prozessoren</a:t>
            </a:r>
            <a:br>
              <a:rPr sz="36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0920" y="1195560"/>
            <a:ext cx="8417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r Adressierungs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izite Register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nem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kt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eine K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Befehls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s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im Speicher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Adresse, die sich durch die Addition 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halts und einer Konstanten im Befehl erg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mzähler-relativ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 sich aus dem Wert des Programmzählers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r Konstanten im Befeh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efehlsverarbeitung in RISC-Prozesso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157400"/>
            <a:ext cx="86137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r Befehlssatz von 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programme sind länger als bei CIS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or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komplexe Befehle und Adressierungsarten müssen aus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fachen RISC-Befehlen zusammengesetzt werden)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otzdem arbeitet ein RISC-Prozessor meist schneller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ISC-Prozessor. Der Grund liegt in der nahez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ollständigen Parallelarbeit aller Komponen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C-Prozessors (extreme Pipeline-Verarbeitu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mit großer Wahrscheinlichkeit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in jedem Taktzyklus ein Befeh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Arial"/>
              </a:rPr>
              <a:t>RISC - superskala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17440"/>
            <a:ext cx="8991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C-Prozessoren, die das Entwurfsziel von durchschnittlich einer Befehlsausführung pro Takt (CPI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per instr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IPC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per cyc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eins) erreichen,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kalare RISC-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zeich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perskalar-Technik ermöglicht es heute, pro Takt bis zu vier Befehle den Ausfürungseinheiten zuzuordnen und eine gleiche Anzahl von Befehlsausführungen pro Takt zu bee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che Prozessoren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uperskalare (RISC)-Prozessor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zeichnet, da die oben definierten RISC-Charakteristika auch heute noch weitgehend beibehalten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utige Mikroprozessoren nutzen Befehlsebenenparallelität durch die Pipelining- und Superskalartech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eispiele von Mikroprozessoren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81440" y="1289160"/>
            <a:ext cx="4870440" cy="466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960" y="1523880"/>
            <a:ext cx="3175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 unabhängige 64-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Hyper-Pipeline beim Pentium 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9200" y="1670040"/>
            <a:ext cx="7966080" cy="57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2880" y="2801880"/>
            <a:ext cx="7664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 St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126 Instruktion werden gleichzeitig bearbeite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von 48 Load- und 24 Store-Operation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Stuf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niger Transistoren müss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ltet werd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" y="1243080"/>
            <a:ext cx="808848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 architektonischen Gesichtspunkten unterscheidet man die folgende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µ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-Klass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Universelle Mikro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ind Prozessoren ohne spezielle Schnittstellen oder Komponenten. Mit geeigneten Programmen und externen Erweiterungs-bausteinen sind sie für alle allgemeinen Anwendungen einsetz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CISC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Complex Instruction Set Computers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-Prozesso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mikroprogrammierte universelle Mikroprozessoren. Sie sind (meist) nach dem von-Neumann-Prinzip aufgeb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1496880"/>
            <a:ext cx="80881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ISC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(Reduced Instruction Set Computers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-Prozessore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meist nicht mikroprogrammierte universelle Mikroprozessoren. Sie besitzen meist eine sog. Harvard-Architektu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ybride CISC/RISC-Prozessor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n eine Mischform  mi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ISC- und RISC- Eigenschaften dar. Die Mehrzahl der eingesetzten Hochleistungs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 gehört heute dieser Klasse an. Insbesondere in den Personal Computern sind sie millionenfach vertreten (als Pentium oder dazu „kompatible“ Prozessor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Standard-Mikroprozesso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llen wir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mikroprogrammierten, universellen CISC-Prozessor ver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1179360"/>
            <a:ext cx="8277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komplizierter Befehle ist immer no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als die Ausführung von Programmen 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 begünstigt komplizierte 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führen zu kurzen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 des Befehlssatzes wird oft als Werbeargu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 (Direkte Abbild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rachkonstrukt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fe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640" y="1219320"/>
            <a:ext cx="843912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Compilern durch entsprech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spezieller Einsatzgeb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az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ntwicklung von Hardw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grammiersprachen und Einsatzgebieten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günstigt „komplizierte“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170000"/>
            <a:ext cx="8172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g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Hauptspeicher und die Verwen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peichern beschleunige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6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wurden immer komplizierter (imm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Unterschiede zwischen 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kroprogrammieru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relativ kleine Teile des großen Befehlssatz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häufig ben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mitationen der CISC Architektu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17680"/>
            <a:ext cx="8439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sausnutzung (80/20 Rege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mächtige Befehle, komplexes Befehlsforma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, nur 20 % der Befehle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wiegend benu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itisches Problem: Anzahl der Zyklen pr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ruktion (C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allen heutigen CISC Architekturen ist CPI &gt;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20000"/>
              </a:lnSpc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C 68030: CPI = 4-6, Intel 80386 CPI =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24080"/>
            <a:ext cx="8334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programme in XPL auf IBM/36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% aller ausgeführten Befehle: 1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5 % aller ausgeführten Befehle: 21 verschiedene Befeh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 % aller ausgeführten Befehle: 3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OL-Programme auf IBM/37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,28 % aller ausgeführten Befehle: 26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,08 % aller ausgeführten Befehle: 48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ur 84 verschiedene Befehle wurden überhaupt benutz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11-07T08:25:27Z</dcterms:modified>
  <cp:revision>839</cp:revision>
  <dc:subject/>
  <dc:title>TI-2</dc:title>
</cp:coreProperties>
</file>