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D22-8CB2-4CA1-9AE9-7851A20195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Ti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1480" y="1187280"/>
            <a:ext cx="8248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wird zu Beginn des Buszyklus (Ta) auf den Adressbu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 der Übertragungsrichtrung durch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 (oder andere Systemkomponente) liefert ihr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 irgendwann gegen Ende des Buszyklus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Flanke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Tb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lanke von R/W oder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3120" y="23652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2840" y="173196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8480" y="441972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5800" y="58500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8400" y="1365120"/>
            <a:ext cx="802980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ehr lange Zykluszeit von 1 ms reicht für gebräuchliche Halbleiterspeicher bei weitem aus, die Daten zu übernehmen bzw. das geforderte Datum dem Prozessor zu üb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Vorgänge synchron zum Takt nach einem starren Muster ablau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57040" y="5779800"/>
            <a:ext cx="6453360" cy="263880"/>
            <a:chOff x="257040" y="5779800"/>
            <a:chExt cx="6453360" cy="263880"/>
          </a:xfrm>
        </p:grpSpPr>
        <p:sp>
          <p:nvSpPr>
            <p:cNvPr id="149" name=""/>
            <p:cNvSpPr/>
            <p:nvPr/>
          </p:nvSpPr>
          <p:spPr>
            <a:xfrm flipV="1">
              <a:off x="5494320" y="5779440"/>
              <a:ext cx="1216080" cy="258840"/>
            </a:xfrm>
            <a:custGeom>
              <a:avLst/>
              <a:gdLst>
                <a:gd name="textAreaLeft" fmla="*/ 180360 w 1216080"/>
                <a:gd name="textAreaRight" fmla="*/ 1035720 w 1216080"/>
                <a:gd name="textAreaTop" fmla="*/ 38160 h 258840"/>
                <a:gd name="textAreaBottom" fmla="*/ 2206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84" y="21600"/>
                  </a:lnTo>
                  <a:lnTo>
                    <a:pt x="261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57040" y="5779440"/>
              <a:ext cx="4446720" cy="258840"/>
            </a:xfrm>
            <a:custGeom>
              <a:avLst/>
              <a:gdLst>
                <a:gd name="textAreaLeft" fmla="*/ 465840 w 4446720"/>
                <a:gd name="textAreaRight" fmla="*/ 3980880 w 4446720"/>
                <a:gd name="textAreaTop" fmla="*/ 27000 h 258840"/>
                <a:gd name="textAreaBottom" fmla="*/ 23184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75" y="21600"/>
                  </a:lnTo>
                  <a:lnTo>
                    <a:pt x="9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87400" y="6043680"/>
              <a:ext cx="3783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55640" y="3363840"/>
            <a:ext cx="28656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49600" y="4791240"/>
            <a:ext cx="1363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080" y="175428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9320" y="1784520"/>
            <a:ext cx="71460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160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85880" y="2451240"/>
            <a:ext cx="3809880" cy="260280"/>
          </a:xfrm>
          <a:prstGeom prst="hexagon">
            <a:avLst>
              <a:gd name="adj" fmla="val 487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7992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760" y="32353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6840" y="3235320"/>
            <a:ext cx="954000" cy="257040"/>
          </a:xfrm>
          <a:prstGeom prst="hexagon">
            <a:avLst>
              <a:gd name="adj" fmla="val 40981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43560" y="3363840"/>
            <a:ext cx="9270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840" y="377496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5440" y="377496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09640" y="3774960"/>
            <a:ext cx="382284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680" y="466236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16240" y="4662360"/>
            <a:ext cx="3195720" cy="258840"/>
          </a:xfrm>
          <a:prstGeom prst="hexagon">
            <a:avLst>
              <a:gd name="adj" fmla="val 56416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11960" y="479124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62000" y="5256360"/>
            <a:ext cx="1541520" cy="2584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480"/>
              <a:gd name="textAreaBottom" fmla="*/ 21888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75280" y="5256360"/>
            <a:ext cx="1539720" cy="258480"/>
          </a:xfrm>
          <a:custGeom>
            <a:avLst/>
            <a:gdLst>
              <a:gd name="textAreaLeft" fmla="*/ 228240 w 1539720"/>
              <a:gd name="textAreaRight" fmla="*/ 1311480 w 1539720"/>
              <a:gd name="textAreaTop" fmla="*/ 38160 h 258480"/>
              <a:gd name="textAreaBottom" fmla="*/ 22032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551988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840" y="1716120"/>
            <a:ext cx="3855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81640" y="1652760"/>
            <a:ext cx="74628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1440" y="1257480"/>
            <a:ext cx="0" cy="47718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4480" y="1257480"/>
            <a:ext cx="0" cy="47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90760" y="15796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560" y="109548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63600" y="1341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13413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441440" y="14986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5240" y="1498680"/>
            <a:ext cx="78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290400" y="14986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0640" y="14986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441440" y="128412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08480" y="128412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02000" y="2373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31622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0" y="46022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2200" y="2917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5360" y="436392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81640" y="16192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81640" y="315288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1640" y="521964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621120" y="5267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1640" y="459900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81640" y="37432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611760" y="379080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556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25560" y="1763640"/>
            <a:ext cx="3847320" cy="301680"/>
            <a:chOff x="925560" y="1763640"/>
            <a:chExt cx="3847320" cy="301680"/>
          </a:xfrm>
        </p:grpSpPr>
        <p:grpSp>
          <p:nvGrpSpPr>
            <p:cNvPr id="200" name=""/>
            <p:cNvGrpSpPr/>
            <p:nvPr/>
          </p:nvGrpSpPr>
          <p:grpSpPr>
            <a:xfrm>
              <a:off x="925560" y="1772640"/>
              <a:ext cx="2004840" cy="292680"/>
              <a:chOff x="925560" y="1772640"/>
              <a:chExt cx="2004840" cy="292680"/>
            </a:xfrm>
          </p:grpSpPr>
          <p:sp>
            <p:nvSpPr>
              <p:cNvPr id="201" name=""/>
              <p:cNvSpPr/>
              <p:nvPr/>
            </p:nvSpPr>
            <p:spPr>
              <a:xfrm>
                <a:off x="1046520" y="177300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960920" y="177228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25320" y="177300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925560" y="178272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889000" y="1763640"/>
              <a:ext cx="1883880" cy="291960"/>
              <a:chOff x="2889000" y="1763640"/>
              <a:chExt cx="1883880" cy="291960"/>
            </a:xfrm>
          </p:grpSpPr>
          <p:sp>
            <p:nvSpPr>
              <p:cNvPr id="206" name=""/>
              <p:cNvSpPr/>
              <p:nvPr/>
            </p:nvSpPr>
            <p:spPr>
              <a:xfrm>
                <a:off x="2889000" y="176364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803760" y="176364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67440" y="176364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 flipV="1">
            <a:off x="4756320" y="176292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48440" y="1763640"/>
            <a:ext cx="50616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367320" y="5743440"/>
            <a:ext cx="1249560" cy="368280"/>
            <a:chOff x="6367320" y="5743440"/>
            <a:chExt cx="1249560" cy="368280"/>
          </a:xfrm>
        </p:grpSpPr>
        <p:sp>
          <p:nvSpPr>
            <p:cNvPr id="212" name=""/>
            <p:cNvSpPr/>
            <p:nvPr/>
          </p:nvSpPr>
          <p:spPr>
            <a:xfrm>
              <a:off x="6367320" y="574344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478200" y="579132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578720" y="1133640"/>
            <a:ext cx="144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0 Mh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(25 n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 Taktzyk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(100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440" y="1365120"/>
            <a:ext cx="8381880" cy="48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reichend schneller Speicher liefert seine Da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gendwann im letzten Taktzyklus von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Taktflanke des nächsten Bus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(Ta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nke von 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Timing-Diagramm: Speicherzugriffzeit von ca. 75 ns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36368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5520" y="340056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2120" y="487188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7560" y="1138320"/>
            <a:ext cx="8358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erne Prozessoren besitzen höhere Taktfrequ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-  bzw. Lesezyklus benötigt mehrere Takt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einga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READY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Anforderung von Wartezykl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wait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lich schnelle Speicher und Gerä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önnen individuell bedien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wird zu Beginn des Buszyklus (Ta) auf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dressbus 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rung wieder durch 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15360" y="564660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V="1">
            <a:off x="7142040" y="5884200"/>
            <a:ext cx="997200" cy="258840"/>
          </a:xfrm>
          <a:custGeom>
            <a:avLst/>
            <a:gdLst>
              <a:gd name="textAreaLeft" fmla="*/ 184680 w 997200"/>
              <a:gd name="textAreaRight" fmla="*/ 812520 w 99720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95200" y="588420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6840" y="614844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47720" y="589608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4160" y="5886360"/>
            <a:ext cx="3229200" cy="25740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2160" y="532692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827760" y="5326920"/>
            <a:ext cx="1119240" cy="26028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280"/>
              <a:gd name="textAreaBottom" fmla="*/ 2145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23960" y="5587920"/>
            <a:ext cx="5470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180200" y="4064760"/>
            <a:ext cx="996840" cy="258840"/>
          </a:xfrm>
          <a:custGeom>
            <a:avLst/>
            <a:gdLst>
              <a:gd name="textAreaLeft" fmla="*/ 184680 w 996840"/>
              <a:gd name="textAreaRight" fmla="*/ 812160 w 99684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3360" y="406476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infügen eines Wartezykl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60600" y="3230640"/>
            <a:ext cx="475128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120" y="4896000"/>
            <a:ext cx="236376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84680" y="181116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35000" y="1841400"/>
            <a:ext cx="71424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200" y="250812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90840" y="2508120"/>
            <a:ext cx="5628960" cy="260640"/>
          </a:xfrm>
          <a:prstGeom prst="hexagon">
            <a:avLst>
              <a:gd name="adj" fmla="val 49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2498760"/>
            <a:ext cx="657000" cy="270000"/>
          </a:xfrm>
          <a:prstGeom prst="hexagon">
            <a:avLst>
              <a:gd name="adj" fmla="val 49376"/>
              <a:gd name="vf" fmla="val 115470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60" y="31021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97480" y="3102120"/>
            <a:ext cx="954360" cy="257040"/>
          </a:xfrm>
          <a:prstGeom prst="hexagon">
            <a:avLst>
              <a:gd name="adj" fmla="val 40996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3280" y="323064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360" y="3632040"/>
            <a:ext cx="1503360" cy="260640"/>
          </a:xfrm>
          <a:custGeom>
            <a:avLst/>
            <a:gdLst>
              <a:gd name="textAreaLeft" fmla="*/ 231480 w 1503360"/>
              <a:gd name="textAreaRight" fmla="*/ 1271880 w 150336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66080" y="3632040"/>
            <a:ext cx="1119240" cy="26064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640"/>
              <a:gd name="textAreaBottom" fmla="*/ 2149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5520" y="3632040"/>
            <a:ext cx="547056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20840" y="4786200"/>
            <a:ext cx="4977000" cy="258840"/>
          </a:xfrm>
          <a:prstGeom prst="hexagon">
            <a:avLst>
              <a:gd name="adj" fmla="val 47892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8760" y="4915080"/>
            <a:ext cx="728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00" y="1763640"/>
            <a:ext cx="59544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2800" y="1652760"/>
            <a:ext cx="7462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6040" y="1314360"/>
            <a:ext cx="0" cy="47721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59440" y="150480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5720" y="163656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97280" y="11048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8560" y="1379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33720" y="13795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345680" y="155592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15559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195360" y="155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05240" y="15559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346040" y="134136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8120" y="1341360"/>
            <a:ext cx="26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06600" y="24303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61200" y="30290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49760" y="472608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7160" y="27846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0320" y="454500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0160" y="1820880"/>
            <a:ext cx="3847320" cy="301680"/>
            <a:chOff x="830160" y="1820880"/>
            <a:chExt cx="3847320" cy="301680"/>
          </a:xfrm>
        </p:grpSpPr>
        <p:grpSp>
          <p:nvGrpSpPr>
            <p:cNvPr id="269" name=""/>
            <p:cNvGrpSpPr/>
            <p:nvPr/>
          </p:nvGrpSpPr>
          <p:grpSpPr>
            <a:xfrm>
              <a:off x="830160" y="1829880"/>
              <a:ext cx="2004840" cy="292680"/>
              <a:chOff x="830160" y="1829880"/>
              <a:chExt cx="2004840" cy="292680"/>
            </a:xfrm>
          </p:grpSpPr>
          <p:sp>
            <p:nvSpPr>
              <p:cNvPr id="270" name=""/>
              <p:cNvSpPr/>
              <p:nvPr/>
            </p:nvSpPr>
            <p:spPr>
              <a:xfrm>
                <a:off x="951120" y="183024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1865520" y="182952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29920" y="183024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830160" y="183996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793600" y="1820880"/>
              <a:ext cx="1883880" cy="291960"/>
              <a:chOff x="2793600" y="1820880"/>
              <a:chExt cx="1883880" cy="291960"/>
            </a:xfrm>
          </p:grpSpPr>
          <p:sp>
            <p:nvSpPr>
              <p:cNvPr id="275" name=""/>
              <p:cNvSpPr/>
              <p:nvPr/>
            </p:nvSpPr>
            <p:spPr>
              <a:xfrm>
                <a:off x="2793600" y="182088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708360" y="182088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72040" y="182088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 flipV="1">
            <a:off x="4660920" y="182088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53040" y="1820880"/>
            <a:ext cx="5065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34440" y="1724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34440" y="301932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581960" y="5229360"/>
            <a:ext cx="801720" cy="368280"/>
            <a:chOff x="7581960" y="5229360"/>
            <a:chExt cx="801720" cy="368280"/>
          </a:xfrm>
        </p:grpSpPr>
        <p:sp>
          <p:nvSpPr>
            <p:cNvPr id="283" name=""/>
            <p:cNvSpPr/>
            <p:nvPr/>
          </p:nvSpPr>
          <p:spPr>
            <a:xfrm>
              <a:off x="7581960" y="522936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921440" y="5276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581960" y="4713120"/>
            <a:ext cx="13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34440" y="3543480"/>
            <a:ext cx="801360" cy="368280"/>
            <a:chOff x="7534440" y="3543480"/>
            <a:chExt cx="801360" cy="368280"/>
          </a:xfrm>
        </p:grpSpPr>
        <p:sp>
          <p:nvSpPr>
            <p:cNvPr id="287" name=""/>
            <p:cNvSpPr/>
            <p:nvPr/>
          </p:nvSpPr>
          <p:spPr>
            <a:xfrm>
              <a:off x="7534440" y="354348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cc66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864200" y="359100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62948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581960" y="5810400"/>
            <a:ext cx="1249200" cy="368280"/>
            <a:chOff x="7581960" y="5810400"/>
            <a:chExt cx="1249200" cy="368280"/>
          </a:xfrm>
        </p:grpSpPr>
        <p:sp>
          <p:nvSpPr>
            <p:cNvPr id="291" name=""/>
            <p:cNvSpPr/>
            <p:nvPr/>
          </p:nvSpPr>
          <p:spPr>
            <a:xfrm>
              <a:off x="7581960" y="5810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692840" y="5857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527880" y="180180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45480" y="131436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2240" y="1379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62320" y="15652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15652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534440" y="4019400"/>
            <a:ext cx="1249200" cy="368280"/>
            <a:chOff x="7534440" y="4019400"/>
            <a:chExt cx="1249200" cy="368280"/>
          </a:xfrm>
        </p:grpSpPr>
        <p:sp>
          <p:nvSpPr>
            <p:cNvPr id="299" name=""/>
            <p:cNvSpPr/>
            <p:nvPr/>
          </p:nvSpPr>
          <p:spPr>
            <a:xfrm>
              <a:off x="7534440" y="4019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645320" y="4066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035000" y="432900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85880" y="407664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62320" y="4067280"/>
            <a:ext cx="3229200" cy="25704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47920" y="1150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 = 1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6280" y="1200240"/>
            <a:ext cx="8381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auch langsamere Speicher benutzen zu könn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Steuereingang 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Buszyklus wird nur abgeschlossen, wenn rechtzeitig vor Ende von der Takthälfte (Tb)  READY = 0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READY am Ende des Buszyklus nich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s werden solang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artezykle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Tw, Dauer z.B. halb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zykluslänge) eingefügt, bis READY = 0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7400" y="1833480"/>
            <a:ext cx="825480" cy="0"/>
          </a:xfrm>
          <a:prstGeom prst="line">
            <a:avLst/>
          </a:prstGeom>
          <a:ln w="2844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59080" y="2835360"/>
            <a:ext cx="825480" cy="0"/>
          </a:xfrm>
          <a:prstGeom prst="line">
            <a:avLst/>
          </a:prstGeom>
          <a:ln w="1908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44640" y="37702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4080" y="475920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8760" y="5345280"/>
            <a:ext cx="82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Beispi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 Wartezyklus   </a:t>
            </a: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 mit 150 ns Zugriffszeit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1760" y="1122480"/>
            <a:ext cx="83725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 ist immer noch synchron (streng am Takt orientiert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uer eines Buszyklus ist jedoch nicht mehr fes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dern in Vielfachen von Taktzyklen vari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emi-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herer Steueraufwand als synchroner Syste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verhalten ist auf verschieden schnelle Bausteine anpa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nur ausreichend schnelle Bausteine im System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READY z.B. fest auf 0 gelegt werden. Anderenfalls kann dieses Signal durch eine geeignete Verzögerungsschaltung (z.B. Monoflop) erzeu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0600" y="4759200"/>
            <a:ext cx="9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791240" y="307656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14280" y="579852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48440" y="576252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44920" y="2552760"/>
            <a:ext cx="197496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7280" y="192708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71560" y="1927080"/>
            <a:ext cx="3810240" cy="260640"/>
          </a:xfrm>
          <a:prstGeom prst="hexagon">
            <a:avLst>
              <a:gd name="adj" fmla="val 4872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5600" y="1927080"/>
            <a:ext cx="1476720" cy="260640"/>
          </a:xfrm>
          <a:prstGeom prst="hexagon">
            <a:avLst>
              <a:gd name="adj" fmla="val 4112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360" y="39020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30680" y="3902040"/>
            <a:ext cx="2087280" cy="257040"/>
          </a:xfrm>
          <a:prstGeom prst="hexagon">
            <a:avLst>
              <a:gd name="adj" fmla="val 58948"/>
              <a:gd name="vf" fmla="val 115470"/>
            </a:avLst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22600" y="4030560"/>
            <a:ext cx="1122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00680" y="4030560"/>
            <a:ext cx="1527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6000" y="444168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5440" y="444168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6240" y="4441680"/>
            <a:ext cx="38228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5480" y="5457960"/>
            <a:ext cx="235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07200" y="5457960"/>
            <a:ext cx="1004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44640" y="606276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400" y="1744560"/>
            <a:ext cx="747720" cy="44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48240" y="1766880"/>
            <a:ext cx="1079640" cy="44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08040" y="1285920"/>
            <a:ext cx="0" cy="4829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87680" y="1849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89400" y="38386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800" y="3584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960" y="5030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48240" y="1266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8240" y="38196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348240" y="5753160"/>
            <a:ext cx="801360" cy="368280"/>
            <a:chOff x="6348240" y="5753160"/>
            <a:chExt cx="801360" cy="368280"/>
          </a:xfrm>
        </p:grpSpPr>
        <p:sp>
          <p:nvSpPr>
            <p:cNvPr id="343" name=""/>
            <p:cNvSpPr/>
            <p:nvPr/>
          </p:nvSpPr>
          <p:spPr>
            <a:xfrm>
              <a:off x="6348240" y="575316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68280" y="5810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348240" y="52657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48240" y="4410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78360" y="4457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56400" y="1595520"/>
            <a:ext cx="409320" cy="3240"/>
          </a:xfrm>
          <a:custGeom>
            <a:avLst/>
            <a:gdLst/>
            <a:ahLst/>
            <a:rect l="l" t="t" r="r" b="b"/>
            <a:pathLst>
              <a:path w="258" h="2">
                <a:moveTo>
                  <a:pt x="0" y="2"/>
                </a:moveTo>
                <a:lnTo>
                  <a:pt x="25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22480" y="1306440"/>
            <a:ext cx="98100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2000" y="131760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65320" y="130644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879720" y="1316880"/>
            <a:ext cx="50508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42000" y="131688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24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27080" y="2825640"/>
            <a:ext cx="25164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960" y="2562120"/>
            <a:ext cx="1219320" cy="276480"/>
          </a:xfrm>
          <a:custGeom>
            <a:avLst/>
            <a:gdLst/>
            <a:ahLst/>
            <a:rect l="l" t="t" r="r" b="b"/>
            <a:pathLst>
              <a:path w="792" h="174">
                <a:moveTo>
                  <a:pt x="792" y="174"/>
                </a:moveTo>
                <a:lnTo>
                  <a:pt x="700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8280" y="3359160"/>
            <a:ext cx="183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3960" y="3086280"/>
            <a:ext cx="2251080" cy="276120"/>
          </a:xfrm>
          <a:custGeom>
            <a:avLst/>
            <a:gdLst/>
            <a:ahLst/>
            <a:rect l="l" t="t" r="r" b="b"/>
            <a:pathLst>
              <a:path w="1418" h="174">
                <a:moveTo>
                  <a:pt x="1418" y="174"/>
                </a:moveTo>
                <a:lnTo>
                  <a:pt x="1329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30400" y="5329080"/>
            <a:ext cx="3405240" cy="258840"/>
          </a:xfrm>
          <a:prstGeom prst="hexagon">
            <a:avLst>
              <a:gd name="adj" fmla="val 42391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97320" y="52592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7720" y="1274760"/>
            <a:ext cx="0" cy="47847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30800" y="128592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48240" y="1876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50400" y="2390760"/>
            <a:ext cx="471960" cy="368280"/>
            <a:chOff x="6350400" y="2390760"/>
            <a:chExt cx="471960" cy="368280"/>
          </a:xfrm>
        </p:grpSpPr>
        <p:sp>
          <p:nvSpPr>
            <p:cNvPr id="366" name=""/>
            <p:cNvSpPr/>
            <p:nvPr/>
          </p:nvSpPr>
          <p:spPr>
            <a:xfrm>
              <a:off x="6350400" y="2390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86480" y="2438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350400" y="2971800"/>
            <a:ext cx="966960" cy="368280"/>
            <a:chOff x="6350400" y="2971800"/>
            <a:chExt cx="966960" cy="368280"/>
          </a:xfrm>
        </p:grpSpPr>
        <p:sp>
          <p:nvSpPr>
            <p:cNvPr id="369" name=""/>
            <p:cNvSpPr/>
            <p:nvPr/>
          </p:nvSpPr>
          <p:spPr>
            <a:xfrm>
              <a:off x="6350400" y="2971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D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38960" y="300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 flipV="1">
            <a:off x="2054160" y="130824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26656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41884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571840" y="1828800"/>
            <a:ext cx="936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0680" y="1100160"/>
            <a:ext cx="824364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Übertragungsrichtrung wieder durch R/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AS = 0 zeigt die CPU an, daß sie eine gültige Adresse auf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gelegt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TACK = 0 zeigt der Speicher (Komponente) an, daß er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zur Verfügung gestellt (Lesen) oder übernommen (Schreibe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AS = 0 und DTACK = 0 kann eine beliebige Zeitspan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TACK = 0, so nimmt die CPU die Adresse wieder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und setzt AS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fhin nimmt der Speicher (Komponente) das Datum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 und setzt DTACK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 asynchroner Übertragungsablauf, Anschluß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mit fast beliebiger Zugriffs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78000" y="158760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97000" y="333684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26240" y="116064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276200" y="2293560"/>
            <a:ext cx="816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417840" y="332424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474920" y="4079880"/>
            <a:ext cx="8157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9920" y="512136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2040" y="1154160"/>
            <a:ext cx="8501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liche Abläufe werden durch Handshake-Signa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teu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ndshake-Signa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S (Address Strobe) v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TACK (Dat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knowledge) v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icher/Komponen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takt spielt keine Rolle mehr für die Synchronisation der Übertragung (nur noch für die Synchronisation der Signale : synchrones Steuer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60360" y="276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43080" y="325296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7720" y="1797120"/>
            <a:ext cx="824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orola 68000 - 68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semi-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-Prozessoren, 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Multiplex-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7960" y="1174680"/>
            <a:ext cx="803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ötig, falls bestimmte Gruppen von Signalen zeitlich hintereinander über dieselbe Busleitungen geschick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müssen (z.B. zur Einsparung von Busleit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meinsamer Daten- und Adreßbus (Bsp.: PCI-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zur Übertragung eines Datums vom bzw. in den Speicher muss während der gesamten Zugriffszeit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n der Adresse in Flipflops (L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Multiplex-Bus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27280" y="1166760"/>
            <a:ext cx="5763960" cy="42228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965160" y="5672160"/>
            <a:ext cx="72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exer muss einen bidirektionalen Datentransfer zu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Zeitverhalten des Multiplexbus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060560" y="1889280"/>
            <a:ext cx="6732360" cy="3506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5040" y="1154160"/>
            <a:ext cx="75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/Adressen-Multiplex-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Ablauf bei 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ten/Adress-Multiplex-Betrie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9040" y="1138320"/>
            <a:ext cx="847584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 Adresse auf dem gemeinesamen Bus wird durch 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angezeigt, z.B. AS (Address Strobe) oder VM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alid Memory Address) oder ALE (Address Latch Enable) oder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aktiven Flanke dieses Signals (im Beispiel fallende Flank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Adresse in ein vor den Speicher geschaltetes Adress-Latch übernomm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abile Adresse am 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kann der Bus umgeschaltet werden und nun die Daten über die gleichen Leitungen geschi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Multiplex-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Adressbits (z.B. bei dynamischen Speicherbauste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Daten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ischte Formen (z.B. niederwertige Adress- und Datenbits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21000" y="15145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299280" y="1487160"/>
            <a:ext cx="46656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6080" y="1820880"/>
            <a:ext cx="4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93600" y="2630520"/>
            <a:ext cx="183708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3600" y="4011480"/>
            <a:ext cx="5065920" cy="12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86080" y="2639880"/>
            <a:ext cx="187344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3600" y="1314360"/>
            <a:ext cx="1847880" cy="125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05160" y="1314360"/>
            <a:ext cx="185580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3600" y="1314360"/>
            <a:ext cx="5050080" cy="391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24480" y="2219400"/>
            <a:ext cx="1400040" cy="283680"/>
            <a:chOff x="4524480" y="2219400"/>
            <a:chExt cx="1400040" cy="283680"/>
          </a:xfrm>
        </p:grpSpPr>
        <p:sp>
          <p:nvSpPr>
            <p:cNvPr id="411" name=""/>
            <p:cNvSpPr/>
            <p:nvPr/>
          </p:nvSpPr>
          <p:spPr>
            <a:xfrm>
              <a:off x="4618440" y="228996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1280" y="225468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4480" y="221940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84480" y="145728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38400" y="1379520"/>
            <a:ext cx="1011240" cy="109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1812240" y="1819800"/>
            <a:ext cx="1098360" cy="214200"/>
          </a:xfrm>
          <a:custGeom>
            <a:avLst/>
            <a:gdLst>
              <a:gd name="textAreaLeft" fmla="*/ 241560 w 1098360"/>
              <a:gd name="textAreaRight" fmla="*/ 856800 w 1098360"/>
              <a:gd name="textAreaTop" fmla="*/ 47160 h 214200"/>
              <a:gd name="textAreaBottom" fmla="*/ 16704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46320" y="150336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64160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235116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16560" y="1370160"/>
            <a:ext cx="1296720" cy="63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53560" y="2182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89320" y="489888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72240" y="16891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22040" y="140328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11760" y="4641840"/>
            <a:ext cx="1886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078000" y="1981080"/>
            <a:ext cx="0" cy="293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479680" y="198108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509040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71760" y="1743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86160" y="175248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9400" y="24138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89400" y="199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087360" y="2705040"/>
            <a:ext cx="2074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882440" y="2705040"/>
            <a:ext cx="12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900080" y="26856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36680" y="3971880"/>
            <a:ext cx="175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380960" y="32572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46040" y="35712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22480" y="3346560"/>
            <a:ext cx="47304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23920" y="2770200"/>
            <a:ext cx="1505160" cy="495360"/>
            <a:chOff x="1123920" y="2770200"/>
            <a:chExt cx="1505160" cy="495360"/>
          </a:xfrm>
        </p:grpSpPr>
        <p:sp>
          <p:nvSpPr>
            <p:cNvPr id="441" name=""/>
            <p:cNvSpPr/>
            <p:nvPr/>
          </p:nvSpPr>
          <p:spPr>
            <a:xfrm flipV="1">
              <a:off x="1123920" y="2808360"/>
              <a:ext cx="1505160" cy="457200"/>
            </a:xfrm>
            <a:custGeom>
              <a:avLst/>
              <a:gdLst>
                <a:gd name="textAreaLeft" fmla="*/ 330840 w 1505160"/>
                <a:gd name="textAreaRight" fmla="*/ 1174320 w 1505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0040" y="277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571760" y="3080520"/>
              <a:ext cx="588960" cy="18108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39600 h 181080"/>
                <a:gd name="textAreaBottom" fmla="*/ 1414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601640" y="3255480"/>
              <a:ext cx="541440" cy="32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 flipV="1">
            <a:off x="2382840" y="32666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365200" y="38383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35160" y="3355920"/>
            <a:ext cx="471600" cy="515880"/>
            <a:chOff x="2135160" y="3355920"/>
            <a:chExt cx="471600" cy="515880"/>
          </a:xfrm>
        </p:grpSpPr>
        <p:sp>
          <p:nvSpPr>
            <p:cNvPr id="448" name=""/>
            <p:cNvSpPr/>
            <p:nvPr/>
          </p:nvSpPr>
          <p:spPr>
            <a:xfrm>
              <a:off x="2135160" y="3355920"/>
              <a:ext cx="4716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47760" y="361152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5303880" y="372384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68760" y="2989440"/>
            <a:ext cx="129708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03600" y="388620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94240" y="387648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556160" y="464796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338800" y="4352400"/>
            <a:ext cx="0" cy="54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76440" y="231444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62040" y="307656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95520" y="335268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95520" y="422928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11760" y="443232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1800" y="4898880"/>
            <a:ext cx="12985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11680" y="4137120"/>
            <a:ext cx="129708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95520" y="451476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43600" y="509976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386160" y="468648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90800" y="4686480"/>
            <a:ext cx="0" cy="10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6360" y="501012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4440" y="535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22440" y="53514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13480" y="5351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03320" y="1325520"/>
            <a:ext cx="6099120" cy="2637000"/>
            <a:chOff x="1003320" y="1325520"/>
            <a:chExt cx="6099120" cy="2637000"/>
          </a:xfrm>
        </p:grpSpPr>
        <p:sp>
          <p:nvSpPr>
            <p:cNvPr id="472" name=""/>
            <p:cNvSpPr/>
            <p:nvPr/>
          </p:nvSpPr>
          <p:spPr>
            <a:xfrm>
              <a:off x="6918480" y="28940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3320" y="2620800"/>
              <a:ext cx="1836720" cy="13129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3080" y="1325520"/>
              <a:ext cx="1827360" cy="12463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94000" y="2620800"/>
              <a:ext cx="1846440" cy="13417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586320" y="1316160"/>
            <a:ext cx="688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9720" y="1141560"/>
            <a:ext cx="847728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Holphase (Opcode fe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in Datenbuspuffer übertragen und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puffer ins Befehlsregister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Decodier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dek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in Datenbuspuffer b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" y="1192320"/>
            <a:ext cx="84772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Ausführungsphase</a:t>
            </a:r>
            <a:r>
              <a:rPr b="0" lang="de-DE" sz="2400" spc="-1" strike="noStrike">
                <a:solidFill>
                  <a:srgbClr val="00b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keine weiteren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bzw. Operation durch die ALU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Befehle, wie Erhöhen eines Registerinhal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Austauschen zweier Register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weitere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e Operanden holen und evtl. Berechn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5600" y="152280"/>
            <a:ext cx="850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ispiel zur Befehlsabarbeitung (fiktiver Prozessor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3440" y="1204920"/>
            <a:ext cx="7958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schin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$A7,X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6D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 zum Akkumulato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 Inhalt der Speicherzelle, deren Adresse sich aus der Summe des Offse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A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s Inhalts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Registers ergibt, berücksichtige dabei das Übertragsbit (carry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8D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F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Speicherzelle mit der Adre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3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6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ie Systembus-Schnittstel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040" y="1305000"/>
            <a:ext cx="8048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ystembus-Schnittstelle (Bus Interface Unit, BIU) stellt die Verbindung des Mikroprozessors zu seiner Umwelt (Komponenten des Mikrorechnersystems)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fristiges Zwischenspeichern (Puffern) v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n und 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lektrische Anpassung der Signal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71880" y="2695680"/>
            <a:ext cx="49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peicherbelegung vor der Befehlsausfüh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7800" y="1363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A7,X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6D  A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8D  3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90960" y="1649520"/>
            <a:ext cx="2170080" cy="34956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4695480" y="3109320"/>
            <a:ext cx="3505320" cy="574560"/>
          </a:xfrm>
          <a:custGeom>
            <a:avLst/>
            <a:gdLst>
              <a:gd name="textAreaLeft" fmla="*/ 475200 w 3505320"/>
              <a:gd name="textAreaRight" fmla="*/ 3030120 w 3505320"/>
              <a:gd name="textAreaTop" fmla="*/ 77760 h 574560"/>
              <a:gd name="textAreaBottom" fmla="*/ 496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76" y="21600"/>
                </a:lnTo>
                <a:lnTo>
                  <a:pt x="2124" y="21600"/>
                </a:lnTo>
                <a:close/>
              </a:path>
            </a:pathLst>
          </a:cu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90960" y="21812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90960" y="248616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90960" y="27907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90960" y="30956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90960" y="410544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0960" y="46195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62480" y="2146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62480" y="24415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62480" y="2746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78400" y="306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17560" y="4098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29080" y="45846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666880" y="3581280"/>
            <a:ext cx="1324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6743520" y="3324240"/>
            <a:ext cx="132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743520" y="2533680"/>
            <a:ext cx="13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2720" y="1192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70160" y="3463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4639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2600" y="2203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5679000" y="32112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035160" y="5305320"/>
            <a:ext cx="4899240" cy="885960"/>
            <a:chOff x="3035160" y="5305320"/>
            <a:chExt cx="4899240" cy="885960"/>
          </a:xfrm>
        </p:grpSpPr>
        <p:sp>
          <p:nvSpPr>
            <p:cNvPr id="508" name=""/>
            <p:cNvSpPr/>
            <p:nvPr/>
          </p:nvSpPr>
          <p:spPr>
            <a:xfrm>
              <a:off x="3035160" y="5842080"/>
              <a:ext cx="2257560" cy="182520"/>
            </a:xfrm>
            <a:custGeom>
              <a:avLst/>
              <a:gdLst/>
              <a:ahLst/>
              <a:rect l="l" t="t" r="r" b="b"/>
              <a:pathLst>
                <a:path w="2280" h="216">
                  <a:moveTo>
                    <a:pt x="0" y="216"/>
                  </a:moveTo>
                  <a:lnTo>
                    <a:pt x="516" y="216"/>
                  </a:lnTo>
                  <a:lnTo>
                    <a:pt x="720" y="0"/>
                  </a:lnTo>
                  <a:lnTo>
                    <a:pt x="1908" y="0"/>
                  </a:lnTo>
                  <a:lnTo>
                    <a:pt x="2112" y="210"/>
                  </a:lnTo>
                  <a:lnTo>
                    <a:pt x="2280" y="2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30720" y="5835600"/>
              <a:ext cx="2116080" cy="184320"/>
            </a:xfrm>
            <a:custGeom>
              <a:avLst/>
              <a:gdLst/>
              <a:ahLst/>
              <a:rect l="l" t="t" r="r" b="b"/>
              <a:pathLst>
                <a:path w="2136" h="216">
                  <a:moveTo>
                    <a:pt x="0" y="216"/>
                  </a:moveTo>
                  <a:lnTo>
                    <a:pt x="1194" y="216"/>
                  </a:lnTo>
                  <a:lnTo>
                    <a:pt x="1398" y="0"/>
                  </a:lnTo>
                  <a:lnTo>
                    <a:pt x="2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79800" y="53053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37120" y="54799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51560" y="54896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652560" y="56563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49600" y="56563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037120" y="565632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69080" y="5656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652920" y="5519880"/>
              <a:ext cx="12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26040" y="5519880"/>
              <a:ext cx="13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7040" y="573264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537228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8560" y="561996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38960" y="538164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ie Holpha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99"/>
                </a:solidFill>
                <a:latin typeface="Arial"/>
              </a:rPr>
              <a:t>(Prefetch, Befehlsregister BR noch durch vorigen Befehl belegt)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322280" y="1268280"/>
            <a:ext cx="6127920" cy="436428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2859120" y="3621240"/>
            <a:ext cx="1119240" cy="1611000"/>
            <a:chOff x="2859120" y="3621240"/>
            <a:chExt cx="1119240" cy="1611000"/>
          </a:xfrm>
        </p:grpSpPr>
        <p:sp>
          <p:nvSpPr>
            <p:cNvPr id="526" name=""/>
            <p:cNvSpPr/>
            <p:nvPr/>
          </p:nvSpPr>
          <p:spPr>
            <a:xfrm>
              <a:off x="3035160" y="3621240"/>
              <a:ext cx="744840" cy="1396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8464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40080" y="3765600"/>
              <a:ext cx="158760" cy="253800"/>
            </a:xfrm>
            <a:prstGeom prst="downArrow">
              <a:avLst>
                <a:gd name="adj1" fmla="val 42000"/>
                <a:gd name="adj2" fmla="val 5994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5400000">
              <a:off x="363060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360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59120" y="5054760"/>
              <a:ext cx="509400" cy="133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618160" y="4035600"/>
            <a:ext cx="941400" cy="1130040"/>
            <a:chOff x="5618160" y="4035600"/>
            <a:chExt cx="941400" cy="1130040"/>
          </a:xfrm>
        </p:grpSpPr>
        <p:sp>
          <p:nvSpPr>
            <p:cNvPr id="533" name=""/>
            <p:cNvSpPr/>
            <p:nvPr/>
          </p:nvSpPr>
          <p:spPr>
            <a:xfrm>
              <a:off x="6049800" y="5032440"/>
              <a:ext cx="509760" cy="1332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797440" y="4203000"/>
              <a:ext cx="177840" cy="911160"/>
            </a:xfrm>
            <a:prstGeom prst="downArrow">
              <a:avLst>
                <a:gd name="adj1" fmla="val 46157"/>
                <a:gd name="adj2" fmla="val 8214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5907960" y="4994640"/>
              <a:ext cx="74520" cy="181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18160" y="4035600"/>
              <a:ext cx="662040" cy="1807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nde der Holphase, Decodierph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611360" y="1239840"/>
            <a:ext cx="6134040" cy="44038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132000" y="3651120"/>
            <a:ext cx="1111320" cy="1581120"/>
            <a:chOff x="3132000" y="3651120"/>
            <a:chExt cx="1111320" cy="1581120"/>
          </a:xfrm>
        </p:grpSpPr>
        <p:sp>
          <p:nvSpPr>
            <p:cNvPr id="544" name=""/>
            <p:cNvSpPr/>
            <p:nvPr/>
          </p:nvSpPr>
          <p:spPr>
            <a:xfrm>
              <a:off x="3308400" y="3651120"/>
              <a:ext cx="744480" cy="133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6200" y="3790800"/>
              <a:ext cx="158760" cy="254160"/>
            </a:xfrm>
            <a:prstGeom prst="downArrow">
              <a:avLst>
                <a:gd name="adj1" fmla="val 42000"/>
                <a:gd name="adj2" fmla="val 600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388764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3064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2000" y="4950000"/>
              <a:ext cx="493920" cy="1634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654280" y="1887480"/>
            <a:ext cx="1681200" cy="2354400"/>
            <a:chOff x="2654280" y="1887480"/>
            <a:chExt cx="1681200" cy="2354400"/>
          </a:xfrm>
        </p:grpSpPr>
        <p:sp>
          <p:nvSpPr>
            <p:cNvPr id="551" name=""/>
            <p:cNvSpPr/>
            <p:nvPr/>
          </p:nvSpPr>
          <p:spPr>
            <a:xfrm flipV="1">
              <a:off x="2900520" y="2502000"/>
              <a:ext cx="174600" cy="1566720"/>
            </a:xfrm>
            <a:prstGeom prst="downArrow">
              <a:avLst>
                <a:gd name="adj1" fmla="val 34546"/>
                <a:gd name="adj2" fmla="val 8092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54280" y="406404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41760" y="2108160"/>
              <a:ext cx="693720" cy="16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3456720" y="2015280"/>
              <a:ext cx="74520" cy="10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908520" y="188748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930480" y="2254320"/>
              <a:ext cx="158760" cy="304560"/>
            </a:xfrm>
            <a:prstGeom prst="downArrow">
              <a:avLst>
                <a:gd name="adj1" fmla="val 44009"/>
                <a:gd name="adj2" fmla="val 7193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815080" y="4054320"/>
            <a:ext cx="973080" cy="1009800"/>
            <a:chOff x="5815080" y="4054320"/>
            <a:chExt cx="973080" cy="1009800"/>
          </a:xfrm>
        </p:grpSpPr>
        <p:sp>
          <p:nvSpPr>
            <p:cNvPr id="558" name=""/>
            <p:cNvSpPr/>
            <p:nvPr/>
          </p:nvSpPr>
          <p:spPr>
            <a:xfrm>
              <a:off x="6284880" y="4917960"/>
              <a:ext cx="503280" cy="146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064200" y="4197240"/>
              <a:ext cx="146160" cy="835200"/>
            </a:xfrm>
            <a:prstGeom prst="downArrow">
              <a:avLst>
                <a:gd name="adj1" fmla="val 46157"/>
                <a:gd name="adj2" fmla="val 9161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6200000">
              <a:off x="6157800" y="4915800"/>
              <a:ext cx="74520" cy="16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15080" y="4054320"/>
              <a:ext cx="67464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91400" y="1855800"/>
            <a:ext cx="693720" cy="382680"/>
            <a:chOff x="6791400" y="1855800"/>
            <a:chExt cx="693720" cy="382680"/>
          </a:xfrm>
        </p:grpSpPr>
        <p:sp>
          <p:nvSpPr>
            <p:cNvPr id="563" name=""/>
            <p:cNvSpPr/>
            <p:nvPr/>
          </p:nvSpPr>
          <p:spPr>
            <a:xfrm flipV="1">
              <a:off x="7051680" y="185580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91400" y="2076480"/>
              <a:ext cx="69372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sführungsphase</a:t>
            </a:r>
            <a:br>
              <a:rPr sz="3200"/>
            </a:br>
            <a:r>
              <a:rPr b="0" sz="2400" spc="-1" strike="noStrike">
                <a:solidFill>
                  <a:srgbClr val="000099"/>
                </a:solidFill>
                <a:latin typeface="Arial"/>
              </a:rPr>
              <a:t>Berechnung der Operanden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195560" y="1428840"/>
            <a:ext cx="675288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2433600" y="2749320"/>
            <a:ext cx="1494000" cy="1981440"/>
            <a:chOff x="2433600" y="2749320"/>
            <a:chExt cx="1494000" cy="1981440"/>
          </a:xfrm>
        </p:grpSpPr>
        <p:sp>
          <p:nvSpPr>
            <p:cNvPr id="568" name=""/>
            <p:cNvSpPr/>
            <p:nvPr/>
          </p:nvSpPr>
          <p:spPr>
            <a:xfrm flipV="1">
              <a:off x="2639880" y="2748960"/>
              <a:ext cx="196920" cy="1785960"/>
            </a:xfrm>
            <a:prstGeom prst="downArrow">
              <a:avLst>
                <a:gd name="adj1" fmla="val 34546"/>
                <a:gd name="adj2" fmla="val 8179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269160" y="2218320"/>
              <a:ext cx="64800" cy="1143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87920" y="2759040"/>
              <a:ext cx="139680" cy="295200"/>
            </a:xfrm>
            <a:prstGeom prst="downArrow">
              <a:avLst>
                <a:gd name="adj1" fmla="val 44009"/>
                <a:gd name="adj2" fmla="val 7925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33600" y="4540320"/>
              <a:ext cx="741240" cy="190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62480" y="2149560"/>
            <a:ext cx="755640" cy="447480"/>
            <a:chOff x="3462480" y="2149560"/>
            <a:chExt cx="755640" cy="447480"/>
          </a:xfrm>
        </p:grpSpPr>
        <p:sp>
          <p:nvSpPr>
            <p:cNvPr id="573" name=""/>
            <p:cNvSpPr/>
            <p:nvPr/>
          </p:nvSpPr>
          <p:spPr>
            <a:xfrm flipV="1">
              <a:off x="3768840" y="2149560"/>
              <a:ext cx="139680" cy="257040"/>
            </a:xfrm>
            <a:prstGeom prst="downArrow">
              <a:avLst>
                <a:gd name="adj1" fmla="val 44009"/>
                <a:gd name="adj2" fmla="val 6900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62480" y="2422440"/>
              <a:ext cx="755640" cy="174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56120" y="1782720"/>
            <a:ext cx="2790720" cy="2201760"/>
            <a:chOff x="4956120" y="1782720"/>
            <a:chExt cx="2790720" cy="2201760"/>
          </a:xfrm>
        </p:grpSpPr>
        <p:sp>
          <p:nvSpPr>
            <p:cNvPr id="576" name=""/>
            <p:cNvSpPr/>
            <p:nvPr/>
          </p:nvSpPr>
          <p:spPr>
            <a:xfrm>
              <a:off x="4956120" y="1782720"/>
              <a:ext cx="717480" cy="1587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076080" y="1896120"/>
              <a:ext cx="74520" cy="3808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34120" y="2049480"/>
              <a:ext cx="65160" cy="7380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25880" y="2232000"/>
              <a:ext cx="65160" cy="1052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0440" y="2727360"/>
              <a:ext cx="123840" cy="272880"/>
            </a:xfrm>
            <a:prstGeom prst="downArrow">
              <a:avLst>
                <a:gd name="adj1" fmla="val 44009"/>
                <a:gd name="adj2" fmla="val 8263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3520" y="3801960"/>
              <a:ext cx="733320" cy="1825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02600" y="3465360"/>
              <a:ext cx="139680" cy="317520"/>
            </a:xfrm>
            <a:prstGeom prst="downArrow">
              <a:avLst>
                <a:gd name="adj1" fmla="val 44009"/>
                <a:gd name="adj2" fmla="val 85245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7197840" y="21114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91480" y="2384280"/>
            <a:ext cx="755640" cy="174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Übertragung des Operand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rcRect l="848" t="2412" r="704" b="4824"/>
          <a:stretch/>
        </p:blipFill>
        <p:spPr>
          <a:xfrm>
            <a:off x="1252440" y="1214280"/>
            <a:ext cx="66484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2874960" y="3639960"/>
            <a:ext cx="1436760" cy="2173320"/>
            <a:chOff x="2874960" y="3639960"/>
            <a:chExt cx="1436760" cy="2173320"/>
          </a:xfrm>
        </p:grpSpPr>
        <p:sp>
          <p:nvSpPr>
            <p:cNvPr id="588" name=""/>
            <p:cNvSpPr/>
            <p:nvPr/>
          </p:nvSpPr>
          <p:spPr>
            <a:xfrm>
              <a:off x="2874960" y="5672160"/>
              <a:ext cx="550800" cy="141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17960" y="4548240"/>
              <a:ext cx="65160" cy="992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65440" y="3639960"/>
              <a:ext cx="74628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81600" y="3827520"/>
              <a:ext cx="120600" cy="527040"/>
            </a:xfrm>
            <a:prstGeom prst="downArrow">
              <a:avLst>
                <a:gd name="adj1" fmla="val 43185"/>
                <a:gd name="adj2" fmla="val 1053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3774600" y="5292360"/>
              <a:ext cx="139680" cy="466920"/>
            </a:xfrm>
            <a:prstGeom prst="downArrow">
              <a:avLst>
                <a:gd name="adj1" fmla="val 43185"/>
                <a:gd name="adj2" fmla="val 6595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32160" y="4340160"/>
              <a:ext cx="793800" cy="1875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3755880" y="1894680"/>
            <a:ext cx="139680" cy="257400"/>
          </a:xfrm>
          <a:prstGeom prst="downArrow">
            <a:avLst>
              <a:gd name="adj1" fmla="val 44009"/>
              <a:gd name="adj2" fmla="val 6910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62480" y="215568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254720" y="18828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61320" y="214308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099120" y="4485960"/>
            <a:ext cx="824040" cy="1311480"/>
            <a:chOff x="6099120" y="4485960"/>
            <a:chExt cx="824040" cy="1311480"/>
          </a:xfrm>
        </p:grpSpPr>
        <p:sp>
          <p:nvSpPr>
            <p:cNvPr id="599" name=""/>
            <p:cNvSpPr/>
            <p:nvPr/>
          </p:nvSpPr>
          <p:spPr>
            <a:xfrm>
              <a:off x="6372360" y="5656320"/>
              <a:ext cx="550800" cy="1411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099120" y="4485600"/>
              <a:ext cx="152280" cy="1260360"/>
            </a:xfrm>
            <a:prstGeom prst="downArrow">
              <a:avLst>
                <a:gd name="adj1" fmla="val 45463"/>
                <a:gd name="adj2" fmla="val 8445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5400000">
              <a:off x="6216480" y="5611680"/>
              <a:ext cx="74880" cy="214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Berechnung des Ergebnis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181160" y="1336680"/>
            <a:ext cx="6753240" cy="47624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 flipV="1">
            <a:off x="3747960" y="20383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54560" y="229860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246800" y="20257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53400" y="228600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863800" y="3941640"/>
            <a:ext cx="1251000" cy="1765440"/>
            <a:chOff x="2863800" y="3941640"/>
            <a:chExt cx="1251000" cy="1765440"/>
          </a:xfrm>
        </p:grpSpPr>
        <p:sp>
          <p:nvSpPr>
            <p:cNvPr id="609" name=""/>
            <p:cNvSpPr/>
            <p:nvPr/>
          </p:nvSpPr>
          <p:spPr>
            <a:xfrm>
              <a:off x="2863800" y="5372280"/>
              <a:ext cx="5367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68640" y="4643280"/>
              <a:ext cx="74880" cy="10288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89160" y="3941640"/>
              <a:ext cx="77652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35280" y="4122720"/>
              <a:ext cx="128520" cy="328680"/>
            </a:xfrm>
            <a:prstGeom prst="downArrow">
              <a:avLst>
                <a:gd name="adj1" fmla="val 43185"/>
                <a:gd name="adj2" fmla="val 61627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16200000">
              <a:off x="3740400" y="5426640"/>
              <a:ext cx="131760" cy="428760"/>
            </a:xfrm>
            <a:prstGeom prst="downArrow">
              <a:avLst>
                <a:gd name="adj1" fmla="val 43185"/>
                <a:gd name="adj2" fmla="val 642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21000" y="4451400"/>
              <a:ext cx="79380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873760" y="4467240"/>
            <a:ext cx="1038240" cy="1106640"/>
            <a:chOff x="5873760" y="4467240"/>
            <a:chExt cx="1038240" cy="1106640"/>
          </a:xfrm>
        </p:grpSpPr>
        <p:sp>
          <p:nvSpPr>
            <p:cNvPr id="616" name=""/>
            <p:cNvSpPr/>
            <p:nvPr/>
          </p:nvSpPr>
          <p:spPr>
            <a:xfrm>
              <a:off x="6361200" y="5386320"/>
              <a:ext cx="550800" cy="1875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03800" y="4659480"/>
              <a:ext cx="122400" cy="801360"/>
            </a:xfrm>
            <a:prstGeom prst="downArrow">
              <a:avLst>
                <a:gd name="adj1" fmla="val 45463"/>
                <a:gd name="adj2" fmla="val 6680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00000">
              <a:off x="6220440" y="5333040"/>
              <a:ext cx="74520" cy="1843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73760" y="4467240"/>
              <a:ext cx="7621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530360" y="3430440"/>
            <a:ext cx="1609560" cy="1216080"/>
            <a:chOff x="1530360" y="3430440"/>
            <a:chExt cx="1609560" cy="1216080"/>
          </a:xfrm>
        </p:grpSpPr>
        <p:sp>
          <p:nvSpPr>
            <p:cNvPr id="621" name=""/>
            <p:cNvSpPr/>
            <p:nvPr/>
          </p:nvSpPr>
          <p:spPr>
            <a:xfrm>
              <a:off x="2376360" y="4459320"/>
              <a:ext cx="7635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657520" y="4140360"/>
              <a:ext cx="131760" cy="304560"/>
            </a:xfrm>
            <a:prstGeom prst="downArrow">
              <a:avLst>
                <a:gd name="adj1" fmla="val 44009"/>
                <a:gd name="adj2" fmla="val 8668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1530360" y="3621960"/>
              <a:ext cx="185760" cy="555480"/>
            </a:xfrm>
            <a:prstGeom prst="downArrow">
              <a:avLst>
                <a:gd name="adj1" fmla="val 29917"/>
                <a:gd name="adj2" fmla="val 68666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400000">
              <a:off x="2151360" y="3601080"/>
              <a:ext cx="54000" cy="1128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46160" y="3430440"/>
              <a:ext cx="357480" cy="570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35040" y="3452760"/>
              <a:ext cx="243000" cy="196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010120" y="2582640"/>
            <a:ext cx="1244520" cy="1586160"/>
            <a:chOff x="5010120" y="2582640"/>
            <a:chExt cx="1244520" cy="1586160"/>
          </a:xfrm>
        </p:grpSpPr>
        <p:sp>
          <p:nvSpPr>
            <p:cNvPr id="628" name=""/>
            <p:cNvSpPr/>
            <p:nvPr/>
          </p:nvSpPr>
          <p:spPr>
            <a:xfrm>
              <a:off x="6119640" y="2643120"/>
              <a:ext cx="135000" cy="1494000"/>
            </a:xfrm>
            <a:prstGeom prst="downArrow">
              <a:avLst>
                <a:gd name="adj1" fmla="val 34120"/>
                <a:gd name="adj2" fmla="val 81156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0800000">
              <a:off x="5535360" y="3936960"/>
              <a:ext cx="129960" cy="230400"/>
            </a:xfrm>
            <a:prstGeom prst="downArrow">
              <a:avLst>
                <a:gd name="adj1" fmla="val 31713"/>
                <a:gd name="adj2" fmla="val 58693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5867280" y="3832200"/>
              <a:ext cx="54000" cy="6192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75160" y="2635200"/>
              <a:ext cx="54000" cy="368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 rot="5400000">
              <a:off x="5726520" y="2229840"/>
              <a:ext cx="104760" cy="809640"/>
            </a:xfrm>
            <a:prstGeom prst="downArrow">
              <a:avLst>
                <a:gd name="adj1" fmla="val 54167"/>
                <a:gd name="adj2" fmla="val 11836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524560" y="323604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5067360" y="324396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21240" y="3438360"/>
              <a:ext cx="365040" cy="578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10120" y="3460680"/>
              <a:ext cx="2653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0720" y="1733400"/>
            <a:ext cx="8018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en Sie das Beispiel mit dem Befehl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  $3F (8D 3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143000"/>
            <a:ext cx="84772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puffer (D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alle Daten von und zum Proz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langsam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gf. den Zugriff auf externen 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usgänge ggf. hochohmig (Tris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 (PC /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 der Speicherzelle des nächs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zuführend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nach jedem Befehl inkrementiert (auße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üngen und Unterprogrammaufrufen, dort wir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grammzähler gela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60" y="1440000"/>
            <a:ext cx="7843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puffer (A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vom Adresswerk erzeu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adr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treib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wahlweise PC oder AP auf Adressbus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dressen ggf. hochohmig (Tri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040" y="1171440"/>
            <a:ext cx="8286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ter, die neben den Pegelzustän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high) u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w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dritten hochohmigen Zustand besitz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Zustand ist der Ausgang hochohmig gegen beide Betriebsspann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Gatter ermöglichen es, mehrere Gatterausgänge auf eine gemeinsame Leitung zusammenzuschalten (Bus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en auch durch Ausgangstreiber zur elektrischen Anpassung der Prozessorsignale an die Signal-spezifikationen, die von anderen Systemkomponenten verlan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8720" y="2257560"/>
            <a:ext cx="6924600" cy="2143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00200" y="3476520"/>
            <a:ext cx="809640" cy="1543320"/>
            <a:chOff x="1600200" y="3476520"/>
            <a:chExt cx="809640" cy="1543320"/>
          </a:xfrm>
        </p:grpSpPr>
        <p:sp>
          <p:nvSpPr>
            <p:cNvPr id="60" name=""/>
            <p:cNvSpPr/>
            <p:nvPr/>
          </p:nvSpPr>
          <p:spPr>
            <a:xfrm>
              <a:off x="176184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60020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812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76480" y="383868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057560" y="3476520"/>
            <a:ext cx="333360" cy="1543320"/>
            <a:chOff x="4057560" y="3476520"/>
            <a:chExt cx="333360" cy="1543320"/>
          </a:xfrm>
        </p:grpSpPr>
        <p:sp>
          <p:nvSpPr>
            <p:cNvPr id="65" name=""/>
            <p:cNvSpPr/>
            <p:nvPr/>
          </p:nvSpPr>
          <p:spPr>
            <a:xfrm>
              <a:off x="421920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05756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900760" y="3114720"/>
            <a:ext cx="885600" cy="1905120"/>
            <a:chOff x="5900760" y="3114720"/>
            <a:chExt cx="885600" cy="1905120"/>
          </a:xfrm>
        </p:grpSpPr>
        <p:sp>
          <p:nvSpPr>
            <p:cNvPr id="68" name=""/>
            <p:cNvSpPr/>
            <p:nvPr/>
          </p:nvSpPr>
          <p:spPr>
            <a:xfrm>
              <a:off x="6615000" y="3476520"/>
              <a:ext cx="0" cy="8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45300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62760" y="3486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62760" y="3486240"/>
              <a:ext cx="0" cy="81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076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62760" y="429588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38880" y="3114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38880" y="4305240"/>
              <a:ext cx="0" cy="7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150560" y="508968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440" y="5089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ress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22400" y="50896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752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98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2440" y="389268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96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8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0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49320" y="22874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ystembus-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82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34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86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4880" y="1962000"/>
            <a:ext cx="6334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eines synchron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1092240"/>
            <a:ext cx="168120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quenz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Mhz (1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Taktzyk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2162160"/>
            <a:ext cx="3014640" cy="289080"/>
          </a:xfrm>
          <a:custGeom>
            <a:avLst/>
            <a:gdLst/>
            <a:ahLst/>
            <a:rect l="l" t="t" r="r" b="b"/>
            <a:pathLst>
              <a:path w="2280" h="216">
                <a:moveTo>
                  <a:pt x="0" y="216"/>
                </a:moveTo>
                <a:lnTo>
                  <a:pt x="516" y="216"/>
                </a:lnTo>
                <a:lnTo>
                  <a:pt x="720" y="0"/>
                </a:lnTo>
                <a:lnTo>
                  <a:pt x="1908" y="0"/>
                </a:lnTo>
                <a:lnTo>
                  <a:pt x="2112" y="210"/>
                </a:lnTo>
                <a:lnTo>
                  <a:pt x="2280" y="2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81560" y="2152800"/>
            <a:ext cx="2827080" cy="290520"/>
          </a:xfrm>
          <a:custGeom>
            <a:avLst/>
            <a:gdLst/>
            <a:ahLst/>
            <a:rect l="l" t="t" r="r" b="b"/>
            <a:pathLst>
              <a:path w="2136" h="216">
                <a:moveTo>
                  <a:pt x="0" y="216"/>
                </a:moveTo>
                <a:lnTo>
                  <a:pt x="1194" y="216"/>
                </a:lnTo>
                <a:lnTo>
                  <a:pt x="1398" y="0"/>
                </a:lnTo>
                <a:lnTo>
                  <a:pt x="21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688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360" y="36068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1800" y="3606840"/>
            <a:ext cx="1477800" cy="257040"/>
          </a:xfrm>
          <a:prstGeom prst="hexagon">
            <a:avLst>
              <a:gd name="adj" fmla="val 41736"/>
              <a:gd name="vf" fmla="val 115470"/>
            </a:avLst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22600" y="3735360"/>
            <a:ext cx="27223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2320" y="3735360"/>
            <a:ext cx="5554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440" y="414648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42040" y="4146480"/>
            <a:ext cx="1538280" cy="26028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280"/>
              <a:gd name="textAreaBottom" fmla="*/ 2217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6240" y="4146480"/>
            <a:ext cx="382284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280" y="503388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73400" y="5033880"/>
            <a:ext cx="2405160" cy="258840"/>
          </a:xfrm>
          <a:prstGeom prst="hexagon">
            <a:avLst>
              <a:gd name="adj" fmla="val 67453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5162400"/>
            <a:ext cx="1363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516240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" y="562680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1880" y="5626800"/>
            <a:ext cx="1540080" cy="258840"/>
          </a:xfrm>
          <a:custGeom>
            <a:avLst/>
            <a:gdLst>
              <a:gd name="textAreaLeft" fmla="*/ 228240 w 1540080"/>
              <a:gd name="textAreaRight" fmla="*/ 1311840 w 1540080"/>
              <a:gd name="textAreaTop" fmla="*/ 38160 h 258840"/>
              <a:gd name="textAreaBottom" fmla="*/ 2206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8960" y="589104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440" y="2087640"/>
            <a:ext cx="38592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8240" y="2109960"/>
            <a:ext cx="746280" cy="37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628640"/>
            <a:ext cx="0" cy="42292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0800" y="16286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1951200"/>
            <a:ext cx="0" cy="39463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97160" y="14670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0560" y="17128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3880" y="171288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08040" y="18702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71840" y="18702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7360" y="18702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7240" y="187020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08040" y="16556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5080" y="165564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52480" y="2744640"/>
            <a:ext cx="3810240" cy="368280"/>
            <a:chOff x="1752480" y="2744640"/>
            <a:chExt cx="3810240" cy="368280"/>
          </a:xfrm>
        </p:grpSpPr>
        <p:sp>
          <p:nvSpPr>
            <p:cNvPr id="126" name=""/>
            <p:cNvSpPr/>
            <p:nvPr/>
          </p:nvSpPr>
          <p:spPr>
            <a:xfrm>
              <a:off x="1752480" y="2822400"/>
              <a:ext cx="3810240" cy="260640"/>
            </a:xfrm>
            <a:prstGeom prst="hexagon">
              <a:avLst>
                <a:gd name="adj" fmla="val 48729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8600" y="274464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22680" y="3543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11760" y="4973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800" y="3289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960" y="47354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824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48240" y="35244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48240" y="5591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687720" y="5638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48240" y="49705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8240" y="41148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78360" y="4162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11880" y="274320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5-10-11T12:40:03Z</dcterms:modified>
  <cp:revision>580</cp:revision>
  <dc:subject/>
  <dc:title>TI2-Vl5</dc:title>
</cp:coreProperties>
</file>