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6E17888-BDDE-46DA-9DAD-3080405B4CE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us der Computer-Zeitung 40/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sinkenden Strukturgrößen stoßen an die Grenzen der Physi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Chipentwicklung, wie sie sich in den nächsten Jahren aus der Sicht der Semiconductor Industry Association (SIA) darstellt: Es ist absehbar, daß die Industrie die Vorhersage übertrifft. Mit der 0,25 -Mikron-Technik senkt Intel beispielsweise die Betriebsspannung auf 1,8 Vo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Kapazität der Speicherchips steigt linear an. 16 Bücher zu 200 Setien faßt der 64-Megabit-Chip. Der 64-Gigabit-Chip bringt es auf 15000 Bücher. Das entspricht schon dem Umfang einer durchschnittlichen kompletten Bibliothek, die Platz auf einer handtellergroßen Fläche 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906-C9E4-4FED-B857-67928A8E76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181160"/>
            <a:ext cx="819144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orlesu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echnische Informatik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S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pl.-Ing. T.  As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57440" y="1676520"/>
            <a:ext cx="5867280" cy="3886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9200" y="3798720"/>
            <a:ext cx="121932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1240" y="2143080"/>
            <a:ext cx="121896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7000" y="2689200"/>
            <a:ext cx="578160" cy="131760"/>
          </a:xfrm>
          <a:prstGeom prst="rect">
            <a:avLst/>
          </a:prstGeom>
          <a:solidFill>
            <a:srgbClr val="ff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97400" y="4334040"/>
            <a:ext cx="577800" cy="152280"/>
          </a:xfrm>
          <a:prstGeom prst="rect">
            <a:avLst/>
          </a:prstGeom>
          <a:solidFill>
            <a:srgbClr val="ff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52880" y="2133720"/>
            <a:ext cx="1344600" cy="2819160"/>
          </a:xfrm>
          <a:prstGeom prst="rect">
            <a:avLst/>
          </a:prstGeom>
          <a:solidFill>
            <a:srgbClr val="6bff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68760" y="3511440"/>
            <a:ext cx="336600" cy="142920"/>
          </a:xfrm>
          <a:prstGeom prst="rect">
            <a:avLst/>
          </a:prstGeom>
          <a:solidFill>
            <a:srgbClr val="ff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66800" y="1676520"/>
            <a:ext cx="1981440" cy="3886200"/>
          </a:xfrm>
          <a:prstGeom prst="rect">
            <a:avLst/>
          </a:prstGeom>
          <a:solidFill>
            <a:srgbClr val="daff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09880" y="2133720"/>
            <a:ext cx="140652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9760" y="3809880"/>
            <a:ext cx="137664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440" y="1219320"/>
            <a:ext cx="79628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inzipieller Aufbau eines Prozessor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ions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Register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Adreß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nterne Bu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ystembus-Schnittst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sbearbeitung / Pipel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ührung in die Assemblerprogramm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C-Prozess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 algn="just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lfsprozess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231920"/>
            <a:ext cx="842040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ganisation des 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bau von Speicherzel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ganisation von Speicherbauste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kter Speicherzugriff (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Speicher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-Steuer- und Schnittstellen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s-Arb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rupt-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geber/Zähler-Bauste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n-Bauste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9520" y="1251000"/>
            <a:ext cx="842004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8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lattenspeicher-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ormat und Verwaltung einer Speicherpla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zeichnungsverfa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bau eines Floppy-Disk-Sys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&amp;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estplatten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ehlerbehandlung bei Plattenspeicher-Sys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-/Ausgabe-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ldschirm-Gerä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bau eines Graphik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ealisierung eines Bildschirmspei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astatur und M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29196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Monotype Sorts" charset="2"/>
              <a:buChar char="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echner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Arial"/>
              </a:rPr>
              <a:t>Zukünftig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1247760"/>
            <a:ext cx="81658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Arial"/>
              </a:rPr>
              <a:t>Quanten-Computer:</a:t>
            </a:r>
            <a:r>
              <a:rPr b="0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istieren bisher nur in der Theorie und sind so exotisch wie die Quantenmechanik selbst.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s Speicher für Information in einem Quanten-Computer könnten Wasserstoffatome die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Arial"/>
              </a:rPr>
              <a:t>Molekulare Computer (DNA-Computer)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önnen Moleküle sich gegenseitig beeinflussen und dadurch Berechnungen anstell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erm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1114560"/>
            <a:ext cx="8458200" cy="57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Vorlesung &amp; Übung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nstag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rsa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 Fasanengar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eb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14.00 - 15.3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onnerstag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rsa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 Fasanengart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Geb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35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,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14.00 - 15.30 Uhr (14täg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ktuelle Termine (TI-Home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0000dc"/>
                </a:solidFill>
                <a:uFillTx/>
                <a:latin typeface="Times New Roman"/>
              </a:rPr>
              <a:t>http://</a:t>
            </a:r>
            <a:r>
              <a:rPr b="1" lang="de-DE" sz="2800" spc="-1" strike="noStrike" u="sng">
                <a:solidFill>
                  <a:srgbClr val="0000dc"/>
                </a:solidFill>
                <a:uFillTx/>
                <a:latin typeface="Times New Roman"/>
              </a:rPr>
              <a:t>i61www</a:t>
            </a:r>
            <a:r>
              <a:rPr b="1" sz="2800" spc="-1" strike="noStrike" u="sng">
                <a:solidFill>
                  <a:srgbClr val="0000dc"/>
                </a:solidFill>
                <a:uFillTx/>
                <a:latin typeface="Times New Roman"/>
              </a:rPr>
              <a:t>.ira.uka.de/</a:t>
            </a:r>
            <a:r>
              <a:rPr b="1" lang="de-DE" sz="2800" spc="-1" strike="noStrike" u="sng">
                <a:solidFill>
                  <a:srgbClr val="0000dc"/>
                </a:solidFill>
                <a:uFillTx/>
                <a:latin typeface="Times New Roman"/>
              </a:rPr>
              <a:t>users/</a:t>
            </a:r>
            <a:r>
              <a:rPr b="1" sz="2800" spc="-1" strike="noStrike" u="sng">
                <a:solidFill>
                  <a:srgbClr val="0000dc"/>
                </a:solidFill>
                <a:uFillTx/>
                <a:latin typeface="Times New Roman"/>
              </a:rPr>
              <a:t>asfour/TI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torien:  Merkblatt zur Anmeldung (TI-Home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Weitere Term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960" y="1133640"/>
            <a:ext cx="8667720" cy="51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nformationen zur Eintragung:</a:t>
            </a:r>
            <a:r>
              <a:rPr b="1" sz="2400" spc="-1" strike="noStrike">
                <a:solidFill>
                  <a:srgbClr val="0000d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dc"/>
                </a:solidFill>
                <a:uFillTx/>
                <a:latin typeface="Times New Roman"/>
              </a:rPr>
              <a:t>http://</a:t>
            </a:r>
            <a:r>
              <a:rPr b="1" lang="de-DE" sz="2400" spc="-1" strike="noStrike" u="sng">
                <a:solidFill>
                  <a:srgbClr val="0000dc"/>
                </a:solidFill>
                <a:uFillTx/>
                <a:latin typeface="Times New Roman"/>
              </a:rPr>
              <a:t>i61</a:t>
            </a:r>
            <a:r>
              <a:rPr b="1" sz="2400" spc="-1" strike="noStrike" u="sng">
                <a:solidFill>
                  <a:srgbClr val="0000dc"/>
                </a:solidFill>
                <a:uFillTx/>
                <a:latin typeface="Times New Roman"/>
              </a:rPr>
              <a:t>www.ira.uka.de/</a:t>
            </a:r>
            <a:r>
              <a:rPr b="1" lang="de-DE" sz="2400" spc="-1" strike="noStrike" u="sng">
                <a:solidFill>
                  <a:srgbClr val="0000dc"/>
                </a:solidFill>
                <a:uFillTx/>
                <a:latin typeface="Times New Roman"/>
              </a:rPr>
              <a:t>users/</a:t>
            </a:r>
            <a:r>
              <a:rPr b="1" sz="2400" spc="-1" strike="noStrike" u="sng">
                <a:solidFill>
                  <a:srgbClr val="0000dc"/>
                </a:solidFill>
                <a:uFillTx/>
                <a:latin typeface="Times New Roman"/>
              </a:rPr>
              <a:t>asfour/T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Web-basiert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nmeldung zu den Tutori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Passwortausgab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Rechenzentrum im 1. UG i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um –112 zu den folgenden Z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7:00 - 18.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:45 – 11:45 Uhr  und  13:00 – 15: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:45 – 11:45 Uhr, 13:00 – 14:00 Uhr 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5:00-16: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gebniss der Einteilung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 im Geb. 20.20 und im Geb. 50.3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b 12.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utori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209600"/>
            <a:ext cx="8010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sgabe des 1. Übungsblat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 in der 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bgabe des  1. Übungsblatt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ätestens Do.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05., 13.00 Uhr, Briefkasten im Untergeschoß im Informatik-Hauptgebäude am Fasanengar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ginn der Tutori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7. Mai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Klaus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760" y="1162080"/>
            <a:ext cx="84294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ermin: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ht noch nicht fe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rausichtl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ptemb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Nachklausu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oraussichtlich Februar/März 20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gebniss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TI-Klausur WS 200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2001 (127 Teilneh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fallquote insgesamt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nehmer ohne Schein: 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nehmer mit TI1+TI2-Schein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Kriterien für den Schei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0600" y="1123920"/>
            <a:ext cx="8353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elmäßige Teilnahme und Bereitschaft zur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ktiv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arbeit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utori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tzeitige Abgabe einer gültigen Ausarbeitung z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ndestens </a:t>
            </a:r>
            <a:r>
              <a:rPr b="1" i="1" lang="de-DE" sz="2400" spc="-1" strike="noStrike">
                <a:solidFill>
                  <a:srgbClr val="0000be"/>
                </a:solidFill>
                <a:latin typeface="Arial"/>
              </a:rPr>
              <a:t>acht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ungsblä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indesten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50% der insgesamt durch die Bearbeitung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r Übungsblätter erreichbaren Punkt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 zweimal gegen folgende Bedingung verstößt, erhäl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einen Schei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be"/>
                </a:solidFill>
                <a:latin typeface="Arial"/>
              </a:rPr>
              <a:t>Eine Person, die eine korrekt gelöste (Teil-) Aufgabe abgegeben hat, muß auch in der Lage sein, diese im Tutorium vorzurech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Arial"/>
              </a:rPr>
              <a:t>Modern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400" y="1428480"/>
            <a:ext cx="81658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neue computerbasierte Geräte werden den Alltag erleichtern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Handheld und Wearabl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Rechner werden unsichtbar und nehmen doch an Zahl gewaltig zu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biquitäre (allgegenwärtige) Syst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s wird mit allem verbunden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luetooth, WAP, Funknetz, Glasf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hips sind die Gestalter des zukünftigen wirtschaftlichen Gescheh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rechstund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040" y="112392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f. Dr.-Ing. R. Dillmann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wochs, 10.00-12.00 Uhr nach Vereinbarung im Institutessekretariat in der Technologiefabrik (Haid-und-Neu-Str. 7), 2.OG, Raum 317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amim Asfo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wo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14.00 - 16.00 Uhr in der Technologiefabrik (Haid-und-Neu-Str. 7), 2.OG, Raum 3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1 und immer wenn ich da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040" y="1076400"/>
            <a:ext cx="8325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33cc"/>
                </a:solidFill>
                <a:latin typeface="Arial"/>
              </a:rPr>
              <a:t>H. Bäh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rechner-Systeme, Springer-Lehrbu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. Auflage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33cc"/>
                </a:solidFill>
                <a:latin typeface="Arial"/>
              </a:rPr>
              <a:t>Th. Flick, H. Lieb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sortechnik; Springer-Lehrbu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. Auflag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W. Oberschelp, G. Voss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neraufbau und Rechnerstruktur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. Auflage, Oldenbourg 2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33cc"/>
                </a:solidFill>
                <a:latin typeface="Arial"/>
              </a:rPr>
              <a:t>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sortechnik, Thomso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" y="1114560"/>
            <a:ext cx="78390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33cc"/>
                </a:solidFill>
                <a:latin typeface="Arial"/>
              </a:rPr>
              <a:t>D. Patterson, J. Hennes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Computer Organisation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rgan Kaufmann Publ. 3. Auflage 199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J. Silic, B. Robic and Th. Unger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cessor architecture : from dataflow to superscalar and beyond; Sprin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33cc"/>
                </a:solidFill>
                <a:latin typeface="Arial"/>
              </a:rPr>
              <a:t>A.S. Tan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ructured Computer Organization, 4. Auflage, 199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33cc"/>
                </a:solidFill>
                <a:latin typeface="Arial"/>
              </a:rPr>
              <a:t>Bernd Schürma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verbindungsstrukturen: Bussysteme und Netzwerke,  Vieweg,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1040" y="1378080"/>
            <a:ext cx="8109000" cy="16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54800" bIns="22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Wettrennen um die schnellsten Mikroprozessoren könnte man als Formel 1 der Computertechnik bezeichne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98040" y="3125880"/>
            <a:ext cx="4077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EIT vom 18. März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9920" y="4098960"/>
            <a:ext cx="6932520" cy="1032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Prozessor ist das Reitpferd d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sgesellschaf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3920" y="5219640"/>
            <a:ext cx="556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Waldschmidt, ARCS-Tagung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" y="1127160"/>
            <a:ext cx="8637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eistungssteigerung bei Mikroprozessoren ist durch folgende Fortschritte erreicht word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600" y="3676680"/>
            <a:ext cx="8683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Steigerung der Gatterzahl auf dem C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Steigerung der Taktrat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Fortschritte beim Hardware-Entwurf (Architektur, Mikroarchitektur, Entwurfswerkze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6600" y="1231920"/>
            <a:ext cx="7746840" cy="290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Exponentialgesetz der Mikroelektronik</a:t>
            </a:r>
            <a:br>
              <a:rPr sz="3200"/>
            </a:b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5920" y="1407960"/>
            <a:ext cx="7139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zahl der Transistoren pro (Prozessor-)C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doppelt sich alle zwei Jah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arbeitungsleistung der Hochleistungsprozess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doppelt sich alle 18 M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gleichen Preis liefert die Mikroelektronik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ppelte Leistung in weniger als zwei J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0160" y="4218120"/>
            <a:ext cx="71989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Chip-Fabrik wird im Jahr 2002 die größte Einzelinvest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en (10 Milliarden US-Doll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Kooperation großer Firmen ist notwendi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VLL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xtrem ultraviolet limited liability company) v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D, Motorola und Int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IA Roadmap für 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440" y="1244520"/>
            <a:ext cx="79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mmer mehr Transistoren auf einem VLSI-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97760" y="1440000"/>
            <a:ext cx="187560" cy="693720"/>
          </a:xfrm>
          <a:prstGeom prst="downArrow">
            <a:avLst>
              <a:gd name="adj1" fmla="val 50000"/>
              <a:gd name="adj2" fmla="val 924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9080" y="500544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IA = American Semiconductor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ttp://public.itrs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ttp://www.sematech.org/public/hom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501" descr=""/>
          <p:cNvPicPr/>
          <p:nvPr/>
        </p:nvPicPr>
        <p:blipFill>
          <a:blip r:embed="rId1"/>
          <a:stretch/>
        </p:blipFill>
        <p:spPr>
          <a:xfrm>
            <a:off x="723960" y="2182680"/>
            <a:ext cx="7794720" cy="2722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843680" y="4433760"/>
            <a:ext cx="543240" cy="4748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3399"/>
                </a:solidFill>
                <a:latin typeface="Arial"/>
              </a:rPr>
              <a:t>Mehr Leistung bei weniger Stromverbrauch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1240" y="139716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grö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41320" y="2144880"/>
            <a:ext cx="7232040" cy="3572640"/>
            <a:chOff x="841320" y="2144880"/>
            <a:chExt cx="7232040" cy="3572640"/>
          </a:xfrm>
        </p:grpSpPr>
        <p:grpSp>
          <p:nvGrpSpPr>
            <p:cNvPr id="76" name=""/>
            <p:cNvGrpSpPr/>
            <p:nvPr/>
          </p:nvGrpSpPr>
          <p:grpSpPr>
            <a:xfrm>
              <a:off x="922320" y="5625720"/>
              <a:ext cx="7068240" cy="79920"/>
              <a:chOff x="922320" y="5625720"/>
              <a:chExt cx="7068240" cy="79920"/>
            </a:xfrm>
          </p:grpSpPr>
          <p:sp>
            <p:nvSpPr>
              <p:cNvPr id="77" name=""/>
              <p:cNvSpPr/>
              <p:nvPr/>
            </p:nvSpPr>
            <p:spPr>
              <a:xfrm>
                <a:off x="922320" y="56257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121480" y="5625720"/>
                <a:ext cx="4777560" cy="79920"/>
                <a:chOff x="2121480" y="5625720"/>
                <a:chExt cx="4777560" cy="799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12148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296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2880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7092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8990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841320" y="2224440"/>
              <a:ext cx="75240" cy="3493080"/>
              <a:chOff x="841320" y="2224440"/>
              <a:chExt cx="75240" cy="349308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916560" y="2224440"/>
                <a:ext cx="0" cy="349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841320" y="2554560"/>
                <a:ext cx="72000" cy="2625480"/>
                <a:chOff x="841320" y="2554560"/>
                <a:chExt cx="72000" cy="26254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841320" y="51800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1320" y="430128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41320" y="34279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41320" y="25545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907200" y="2144880"/>
              <a:ext cx="7068240" cy="79920"/>
              <a:chOff x="907200" y="2144880"/>
              <a:chExt cx="7068240" cy="79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907200" y="22165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106360" y="2144880"/>
                <a:ext cx="4777560" cy="79920"/>
                <a:chOff x="2106360" y="2144880"/>
                <a:chExt cx="4777560" cy="79920"/>
              </a:xfrm>
            </p:grpSpPr>
            <p:sp>
              <p:nvSpPr>
                <p:cNvPr id="94" name=""/>
                <p:cNvSpPr/>
                <p:nvPr/>
              </p:nvSpPr>
              <p:spPr>
                <a:xfrm flipV="1">
                  <a:off x="210636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145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451368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56941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68839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7998120" y="2211840"/>
              <a:ext cx="75240" cy="3493440"/>
              <a:chOff x="7998120" y="2211840"/>
              <a:chExt cx="75240" cy="349344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7998120" y="2211840"/>
                <a:ext cx="0" cy="34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001360" y="2541600"/>
                <a:ext cx="72000" cy="2625840"/>
                <a:chOff x="8001360" y="2541600"/>
                <a:chExt cx="72000" cy="2625840"/>
              </a:xfrm>
            </p:grpSpPr>
            <p:sp>
              <p:nvSpPr>
                <p:cNvPr id="102" name=""/>
                <p:cNvSpPr/>
                <p:nvPr/>
              </p:nvSpPr>
              <p:spPr>
                <a:xfrm flipH="1">
                  <a:off x="8001360" y="51674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8001360" y="42883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8001360" y="34149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8001360" y="254160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" name=""/>
          <p:cNvSpPr/>
          <p:nvPr/>
        </p:nvSpPr>
        <p:spPr>
          <a:xfrm>
            <a:off x="59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3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2800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2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3784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432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836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3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8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680" y="500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410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236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912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810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04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448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4996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49600" y="322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49240" y="411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48880" y="497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917640" y="2536920"/>
            <a:ext cx="6956280" cy="2636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25560" y="3444840"/>
            <a:ext cx="697068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25560" y="4275000"/>
            <a:ext cx="6958080" cy="9036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933480" y="4471560"/>
            <a:ext cx="6927840" cy="723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6960" y="2516040"/>
            <a:ext cx="6991200" cy="269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270800">
            <a:off x="1936080" y="29401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riebs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0299800">
            <a:off x="5304960" y="27954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its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775000">
            <a:off x="4935960" y="34336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kfunktionen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46400">
            <a:off x="5473440" y="4303440"/>
            <a:ext cx="57924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1137400">
            <a:off x="4806360" y="4097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röße der Speicher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1309600">
            <a:off x="3934440" y="476388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schlüsse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Verfügbarkeit von Speicherchip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0560" y="1498680"/>
            <a:ext cx="7966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85920" y="114768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90840" y="1590840"/>
            <a:ext cx="0" cy="420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Struktur eines Computer mit 6 Eben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5920" y="206532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570384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5920" y="298944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85920" y="3898800"/>
            <a:ext cx="42098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5920" y="4803840"/>
            <a:ext cx="4209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4560" y="302256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ene der Betriebssystemmas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6920" y="393228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A (Instruction Set Archit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9040" y="48369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archite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8560" y="2098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ene der Assembler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12680" y="11811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orientierte 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6840" y="5737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gitale Log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5400" y="118116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5400" y="30225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5400" y="20988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400" y="48369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5400" y="573732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5400" y="3932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9966"/>
                </a:solidFill>
                <a:latin typeface="Arial"/>
              </a:rPr>
              <a:t>Ebe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24120" y="16462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Übersetzung (Compi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24120" y="2579760"/>
            <a:ext cx="33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Übersetzung (Assemb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4120" y="3475080"/>
            <a:ext cx="56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eilinterpretation (Mikroprogramm) oder direkte Aus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6640" y="52992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24120" y="4389480"/>
            <a:ext cx="44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eilinterpretation (Betrieb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itarbeiter-Dillmann</cp:lastModifiedBy>
  <cp:lastPrinted>2000-05-02T16:11:13Z</cp:lastPrinted>
  <dcterms:modified xsi:type="dcterms:W3CDTF">2002-03-07T12:11:49Z</dcterms:modified>
  <cp:revision>343</cp:revision>
  <dc:subject/>
  <dc:title>TI-2</dc:title>
</cp:coreProperties>
</file>