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962B-A4A4-4E77-A5E4-B96968FE45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4000" spc="-1" strike="noStrike">
                <a:solidFill>
                  <a:srgbClr val="003399"/>
                </a:solidFill>
                <a:latin typeface="Arial"/>
              </a:rPr>
              <a:t>4. Übung</a:t>
            </a: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6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4000" y="1992240"/>
            <a:ext cx="45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ache-Speic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ufgabe 1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459160" y="3581280"/>
            <a:ext cx="33120" cy="56196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608040" y="113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6880" y="108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9960" y="1095480"/>
            <a:ext cx="8661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 einem Mikroprozessorsystem mit 32-bit-Datenzugriff 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en Hauptspeicher ist ein Daten-Cache vorhanden. 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aden des Caches erfolgt in Blöcken von j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ht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y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. h. von zwei Wörtern. Die Hauptspeicheradresse umfas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4 Bits; die Cache-Kapazität beträg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56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eben Sie die Anzahl der Cache-Zeilen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Und skizzieren Sie die Unterteilung der Hauptspeicheradres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ür ein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direct-mapped-Cache (DM)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vollassoziativen Cache (AV)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4-way-setassoziativ-Cache (A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ösung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569880" y="1158840"/>
            <a:ext cx="79088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ösung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573120" y="1255680"/>
            <a:ext cx="780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ufgabe 2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409680" y="1182600"/>
            <a:ext cx="82296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ösung 2  </a:t>
            </a:r>
            <a:r>
              <a:rPr b="0" i="1" lang="en-US" sz="3600" spc="-1" strike="noStrike">
                <a:solidFill>
                  <a:srgbClr val="003399"/>
                </a:solidFill>
                <a:latin typeface="Arial"/>
              </a:rPr>
              <a:t>AV-Cache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858960" y="1600200"/>
            <a:ext cx="742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ösung 2  </a:t>
            </a:r>
            <a:r>
              <a:rPr b="0" i="1" lang="en-US" sz="3600" spc="-1" strike="noStrike">
                <a:solidFill>
                  <a:srgbClr val="003399"/>
                </a:solidFill>
                <a:latin typeface="Arial"/>
              </a:rPr>
              <a:t>AV-Cache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901800" y="1244520"/>
            <a:ext cx="73152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ösung 2  </a:t>
            </a:r>
            <a:r>
              <a:rPr b="0" i="1" lang="en-US" sz="3600" spc="-1" strike="noStrike">
                <a:solidFill>
                  <a:srgbClr val="003399"/>
                </a:solidFill>
                <a:latin typeface="Arial"/>
              </a:rPr>
              <a:t>DM-Cache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457200" y="1908000"/>
            <a:ext cx="7588080" cy="42656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4635360" y="1073160"/>
            <a:ext cx="4038840" cy="8161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422280" y="1192320"/>
            <a:ext cx="286848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Lösung 2  </a:t>
            </a:r>
            <a:r>
              <a:rPr b="0" i="1" lang="en-US" sz="4000" spc="-1" strike="noStrike">
                <a:solidFill>
                  <a:srgbClr val="003399"/>
                </a:solidFill>
                <a:latin typeface="Arial"/>
              </a:rPr>
              <a:t>DM-Cache</a:t>
            </a:r>
            <a:br>
              <a:rPr sz="4000"/>
            </a:br>
            <a:br>
              <a:rPr sz="44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927000" y="1255680"/>
            <a:ext cx="72993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ösung 2 </a:t>
            </a:r>
            <a:r>
              <a:rPr b="0" i="1" lang="en-US" sz="3600" spc="-1" strike="noStrike">
                <a:solidFill>
                  <a:srgbClr val="003399"/>
                </a:solidFill>
                <a:latin typeface="Arial"/>
              </a:rPr>
              <a:t>A4-Cache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4602240" y="1081080"/>
            <a:ext cx="4038480" cy="8128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403200" y="1955880"/>
            <a:ext cx="7121520" cy="42526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411120" y="1154160"/>
            <a:ext cx="28684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Lösung 2 </a:t>
            </a:r>
            <a:r>
              <a:rPr b="0" i="1" lang="en-US" sz="4000" spc="-1" strike="noStrike">
                <a:solidFill>
                  <a:srgbClr val="003399"/>
                </a:solidFill>
                <a:latin typeface="Arial"/>
              </a:rPr>
              <a:t>A4-Cache </a:t>
            </a:r>
            <a:br>
              <a:rPr sz="4000"/>
            </a:br>
            <a:br>
              <a:rPr sz="44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582480" y="1174680"/>
            <a:ext cx="79693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ufbau eines Cache-Speichers</a:t>
            </a:r>
            <a:br>
              <a:rPr sz="36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5120" y="1338120"/>
            <a:ext cx="8406000" cy="46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Wohin wird ein Block abgebildet?</a:t>
            </a:r>
            <a:br>
              <a:rPr sz="4000"/>
            </a:br>
            <a:br>
              <a:rPr sz="44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623880" y="1351080"/>
            <a:ext cx="7513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ufgabe 3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525600" y="1279440"/>
            <a:ext cx="8161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ufgabe 3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446040" y="1139760"/>
            <a:ext cx="6570720" cy="391320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716040" y="5226120"/>
            <a:ext cx="63468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ösung 3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457200" y="1944720"/>
            <a:ext cx="822960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ösung 3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480960" y="1905120"/>
            <a:ext cx="81802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ösung 3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446040" y="1533600"/>
            <a:ext cx="82296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ache-Strukturen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2280" y="1368360"/>
            <a:ext cx="82296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Voll-assoziativer Cach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09800" y="4000680"/>
            <a:ext cx="1828800" cy="1942920"/>
          </a:xfrm>
          <a:prstGeom prst="rect">
            <a:avLst/>
          </a:prstGeom>
          <a:solidFill>
            <a:srgbClr val="ffc36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09800" y="5391000"/>
            <a:ext cx="1828800" cy="26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00080" y="4267080"/>
            <a:ext cx="1838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684440" y="4009680"/>
            <a:ext cx="0" cy="191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22040" y="5649840"/>
            <a:ext cx="168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22040" y="5373720"/>
            <a:ext cx="168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21680" y="397368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09160" y="360216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1590840"/>
            <a:ext cx="2190960" cy="435276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1857240"/>
            <a:ext cx="2201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99000" y="564984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50320" y="156384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10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84480" y="112536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24360" y="5667480"/>
            <a:ext cx="2202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809800" y="1600200"/>
            <a:ext cx="2943360" cy="4343400"/>
            <a:chOff x="2809800" y="1600200"/>
            <a:chExt cx="2943360" cy="4343400"/>
          </a:xfrm>
        </p:grpSpPr>
        <p:sp>
          <p:nvSpPr>
            <p:cNvPr id="67" name=""/>
            <p:cNvSpPr/>
            <p:nvPr/>
          </p:nvSpPr>
          <p:spPr>
            <a:xfrm flipH="1">
              <a:off x="2809800" y="5943600"/>
              <a:ext cx="294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828520" y="1600200"/>
              <a:ext cx="2886120" cy="239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57720" y="4268880"/>
              <a:ext cx="194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ssoziati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bbild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438520" y="323532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9480" y="323532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40600" y="448956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0240" y="448956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000" y="1476360"/>
            <a:ext cx="33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ein Datum kann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beliebiger Stelle 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Cache abgeleg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81440" y="345744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90800" y="374328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90800" y="403848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81440" y="533412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866880" y="3543480"/>
            <a:ext cx="936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Beispiel: Vollassoziativer Cach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5360" y="1943280"/>
            <a:ext cx="3080880" cy="285480"/>
            <a:chOff x="495360" y="1943280"/>
            <a:chExt cx="3080880" cy="285480"/>
          </a:xfrm>
        </p:grpSpPr>
        <p:sp>
          <p:nvSpPr>
            <p:cNvPr id="82" name=""/>
            <p:cNvSpPr/>
            <p:nvPr/>
          </p:nvSpPr>
          <p:spPr>
            <a:xfrm>
              <a:off x="495360" y="1943280"/>
              <a:ext cx="3080880" cy="28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93240" y="1943280"/>
              <a:ext cx="39132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84560" y="1943280"/>
              <a:ext cx="39168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457280" y="330516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359100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57280" y="387684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38360" y="5210280"/>
            <a:ext cx="17172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57280" y="521028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10080" y="416232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38360" y="416232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10080" y="5210280"/>
            <a:ext cx="17136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38360" y="3591000"/>
            <a:ext cx="17172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10080" y="3591000"/>
            <a:ext cx="17136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38360" y="3876840"/>
            <a:ext cx="17172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10080" y="3876840"/>
            <a:ext cx="17136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9920" y="44118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81440" y="4172040"/>
            <a:ext cx="0" cy="44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81440" y="464796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65760" y="4389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57280" y="4143240"/>
            <a:ext cx="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457280" y="4632120"/>
            <a:ext cx="0" cy="58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328608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357192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385776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522936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914000" y="4148280"/>
            <a:ext cx="423000" cy="1075680"/>
            <a:chOff x="4914000" y="4148280"/>
            <a:chExt cx="423000" cy="1075680"/>
          </a:xfrm>
        </p:grpSpPr>
        <p:sp>
          <p:nvSpPr>
            <p:cNvPr id="108" name=""/>
            <p:cNvSpPr/>
            <p:nvPr/>
          </p:nvSpPr>
          <p:spPr>
            <a:xfrm>
              <a:off x="4914000" y="4394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05520" y="4148280"/>
              <a:ext cx="0" cy="45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105520" y="4637160"/>
              <a:ext cx="0" cy="58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237800" y="4148280"/>
            <a:ext cx="423000" cy="1075680"/>
            <a:chOff x="7237800" y="4148280"/>
            <a:chExt cx="423000" cy="1075680"/>
          </a:xfrm>
        </p:grpSpPr>
        <p:sp>
          <p:nvSpPr>
            <p:cNvPr id="112" name=""/>
            <p:cNvSpPr/>
            <p:nvPr/>
          </p:nvSpPr>
          <p:spPr>
            <a:xfrm>
              <a:off x="7237800" y="4394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29680" y="4148280"/>
              <a:ext cx="0" cy="45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429680" y="4637160"/>
              <a:ext cx="0" cy="58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676840" y="34480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76840" y="3738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34200" y="350532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19920" y="34480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19920" y="3738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34200" y="3738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19920" y="401940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34200" y="401940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76840" y="401940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34200" y="53816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9920" y="53816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76840" y="53816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00240" y="2228760"/>
            <a:ext cx="3295800" cy="1057320"/>
          </a:xfrm>
          <a:custGeom>
            <a:avLst/>
            <a:gdLst/>
            <a:ahLst/>
            <a:rect l="l" t="t" r="r" b="b"/>
            <a:pathLst>
              <a:path w="2076" h="666">
                <a:moveTo>
                  <a:pt x="0" y="0"/>
                </a:moveTo>
                <a:lnTo>
                  <a:pt x="0" y="288"/>
                </a:lnTo>
                <a:lnTo>
                  <a:pt x="2076" y="288"/>
                </a:lnTo>
                <a:lnTo>
                  <a:pt x="2076" y="666"/>
                </a:lnTo>
              </a:path>
            </a:pathLst>
          </a:custGeom>
          <a:noFill/>
          <a:ln w="1260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90840" y="2228760"/>
            <a:ext cx="4552920" cy="3581640"/>
          </a:xfrm>
          <a:custGeom>
            <a:avLst/>
            <a:gdLst/>
            <a:ahLst/>
            <a:rect l="l" t="t" r="r" b="b"/>
            <a:pathLst>
              <a:path w="2868" h="2256">
                <a:moveTo>
                  <a:pt x="0" y="0"/>
                </a:moveTo>
                <a:lnTo>
                  <a:pt x="0" y="168"/>
                </a:lnTo>
                <a:lnTo>
                  <a:pt x="2868" y="168"/>
                </a:lnTo>
                <a:lnTo>
                  <a:pt x="2868" y="2256"/>
                </a:lnTo>
              </a:path>
            </a:pathLst>
          </a:custGeom>
          <a:noFill/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29160" y="58197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7160" y="6000840"/>
            <a:ext cx="2876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26716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93424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62940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21044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81280" y="2228760"/>
            <a:ext cx="0" cy="107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6880" y="2943360"/>
            <a:ext cx="914400" cy="390240"/>
          </a:xfrm>
          <a:custGeom>
            <a:avLst/>
            <a:gdLst/>
            <a:ahLst/>
            <a:rect l="l" t="t" r="r" b="b"/>
            <a:pathLst>
              <a:path w="576" h="246">
                <a:moveTo>
                  <a:pt x="576" y="0"/>
                </a:moveTo>
                <a:lnTo>
                  <a:pt x="0" y="0"/>
                </a:lnTo>
                <a:lnTo>
                  <a:pt x="0" y="24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4880" y="3343320"/>
            <a:ext cx="342720" cy="20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4880" y="3600360"/>
            <a:ext cx="342720" cy="20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4880" y="3914640"/>
            <a:ext cx="342720" cy="20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4880" y="5248440"/>
            <a:ext cx="34272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056960" y="534348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056960" y="401940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047600" y="3724200"/>
            <a:ext cx="40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056960" y="34574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6880" y="47624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6880" y="43149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76240" y="6000840"/>
            <a:ext cx="3371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76240" y="5448240"/>
            <a:ext cx="0" cy="55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24400" y="5495760"/>
            <a:ext cx="723600" cy="343080"/>
          </a:xfrm>
          <a:custGeom>
            <a:avLst/>
            <a:gdLst/>
            <a:ahLst/>
            <a:rect l="l" t="t" r="r" b="b"/>
            <a:pathLst>
              <a:path w="456" h="216">
                <a:moveTo>
                  <a:pt x="0" y="0"/>
                </a:moveTo>
                <a:lnTo>
                  <a:pt x="0" y="216"/>
                </a:lnTo>
                <a:lnTo>
                  <a:pt x="456" y="216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48000" y="5600880"/>
            <a:ext cx="57168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12080" y="315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12080" y="373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2080" y="343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48720" y="501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524480" y="536256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82000" y="596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0960" y="596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05440" y="596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291456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10760" y="329724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61600" y="324972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59040" y="268776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</a:rPr>
              <a:t>Wort-Anwa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54560" y="2201760"/>
            <a:ext cx="264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cc99"/>
                </a:solidFill>
                <a:latin typeface="Arial"/>
              </a:rPr>
              <a:t>Byte-Anwahl im W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56440" y="556416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Valid-H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485880" y="5648400"/>
            <a:ext cx="75960" cy="85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21028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86728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57216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14384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324240" y="2343240"/>
            <a:ext cx="123840" cy="11412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933640" y="2419200"/>
            <a:ext cx="123840" cy="1144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724040" y="245736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39000" y="19350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94280" y="16113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38360" y="1668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1200" y="1658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69440" y="2363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76240" y="2306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09920" y="2211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93800" y="5630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60520" y="5630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65400" y="5640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55800" y="5640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7320" y="6002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7810200" y="5952960"/>
            <a:ext cx="666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27640" y="598320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-H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95680" y="5764320"/>
            <a:ext cx="94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n/zum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89160" y="1150920"/>
            <a:ext cx="3128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pazität: 256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lock = 4  Wörter = 16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10080" y="3305160"/>
            <a:ext cx="17136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38360" y="3305160"/>
            <a:ext cx="17172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89040" y="33195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47800" y="3319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irect-mapped-Cach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9800" y="1125360"/>
            <a:ext cx="399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cc66"/>
                </a:solidFill>
                <a:latin typeface="Arial"/>
              </a:rPr>
              <a:t>Beim Direct Mapped Cache erhält jede Stelle des </a:t>
            </a:r>
            <a:br>
              <a:rPr sz="2400"/>
            </a:br>
            <a:r>
              <a:rPr b="0" sz="2400" spc="-1" strike="noStrike">
                <a:solidFill>
                  <a:srgbClr val="00cc66"/>
                </a:solidFill>
                <a:latin typeface="Arial"/>
              </a:rPr>
              <a:t>Arbeitsspeichers einen festen Platz im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22480" y="5842080"/>
            <a:ext cx="1828800" cy="28584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4184640"/>
            <a:ext cx="1828800" cy="266760"/>
          </a:xfrm>
          <a:prstGeom prst="rect">
            <a:avLst/>
          </a:prstGeom>
          <a:solidFill>
            <a:srgbClr val="ffc36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2480" y="4184640"/>
            <a:ext cx="1828800" cy="1943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22480" y="5575320"/>
            <a:ext cx="1828800" cy="26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797120" y="4194000"/>
            <a:ext cx="0" cy="191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34720" y="5834160"/>
            <a:ext cx="168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34720" y="5557680"/>
            <a:ext cx="168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34360" y="415764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2120" y="379584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03720" y="109692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922480" y="6127920"/>
            <a:ext cx="294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51280" y="3193920"/>
            <a:ext cx="2895480" cy="2935440"/>
          </a:xfrm>
          <a:custGeom>
            <a:avLst/>
            <a:gdLst/>
            <a:ahLst/>
            <a:rect l="l" t="t" r="r" b="b"/>
            <a:pathLst>
              <a:path w="1824" h="1849">
                <a:moveTo>
                  <a:pt x="1815" y="1681"/>
                </a:moveTo>
                <a:lnTo>
                  <a:pt x="429" y="1681"/>
                </a:lnTo>
                <a:lnTo>
                  <a:pt x="1824" y="1032"/>
                </a:lnTo>
                <a:lnTo>
                  <a:pt x="1820" y="864"/>
                </a:lnTo>
                <a:lnTo>
                  <a:pt x="544" y="1420"/>
                </a:lnTo>
                <a:lnTo>
                  <a:pt x="1824" y="184"/>
                </a:lnTo>
                <a:lnTo>
                  <a:pt x="1820" y="0"/>
                </a:lnTo>
                <a:lnTo>
                  <a:pt x="0" y="1672"/>
                </a:lnTo>
                <a:lnTo>
                  <a:pt x="0" y="1849"/>
                </a:lnTo>
                <a:lnTo>
                  <a:pt x="1815" y="1849"/>
                </a:lnTo>
              </a:path>
            </a:pathLst>
          </a:custGeom>
          <a:solidFill>
            <a:srgbClr val="66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37400" y="1774800"/>
            <a:ext cx="2190600" cy="435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37400" y="1774800"/>
            <a:ext cx="2190600" cy="266760"/>
          </a:xfrm>
          <a:prstGeom prst="rect">
            <a:avLst/>
          </a:prstGeom>
          <a:solidFill>
            <a:srgbClr val="ffc36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37400" y="5861160"/>
            <a:ext cx="2190600" cy="26676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11680" y="583416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63360" y="174780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10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37400" y="3203640"/>
            <a:ext cx="2190600" cy="26676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37400" y="4556160"/>
            <a:ext cx="2190600" cy="26676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37400" y="5594400"/>
            <a:ext cx="2190600" cy="26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54760" y="2214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83240" y="22622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51280" y="1784520"/>
            <a:ext cx="2889000" cy="2673360"/>
          </a:xfrm>
          <a:custGeom>
            <a:avLst/>
            <a:gdLst/>
            <a:ahLst/>
            <a:rect l="l" t="t" r="r" b="b"/>
            <a:pathLst>
              <a:path w="1820" h="1684">
                <a:moveTo>
                  <a:pt x="1816" y="0"/>
                </a:moveTo>
                <a:lnTo>
                  <a:pt x="0" y="1504"/>
                </a:lnTo>
                <a:lnTo>
                  <a:pt x="0" y="1684"/>
                </a:lnTo>
                <a:lnTo>
                  <a:pt x="1820" y="164"/>
                </a:lnTo>
                <a:lnTo>
                  <a:pt x="1816" y="0"/>
                </a:lnTo>
                <a:close/>
              </a:path>
            </a:pathLst>
          </a:custGeom>
          <a:solidFill>
            <a:srgbClr val="ffc36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11680" y="558648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62000" y="453852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12680" y="31734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1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53280" y="472140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52920" y="472140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4760" y="36622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83240" y="37101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3840" y="48816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02320" y="49291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Beispiel: Direct-mapped-Cach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81440" y="345744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90800" y="374328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90800" y="403848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81440" y="533412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360" y="1943280"/>
            <a:ext cx="308124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46400" y="1943280"/>
            <a:ext cx="21600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65640" y="1943280"/>
            <a:ext cx="21564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57280" y="330516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7280" y="359100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57280" y="387684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38360" y="5210280"/>
            <a:ext cx="17172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57280" y="521028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10080" y="416232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38360" y="416232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10080" y="5210280"/>
            <a:ext cx="17136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38360" y="3591000"/>
            <a:ext cx="17172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10080" y="3591000"/>
            <a:ext cx="17136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10080" y="3305160"/>
            <a:ext cx="17136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8360" y="3876840"/>
            <a:ext cx="17172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0080" y="3876840"/>
            <a:ext cx="17136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9920" y="44118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81440" y="4172040"/>
            <a:ext cx="0" cy="44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781440" y="464796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265760" y="4143240"/>
            <a:ext cx="423000" cy="1076040"/>
            <a:chOff x="1265760" y="4143240"/>
            <a:chExt cx="423000" cy="1076040"/>
          </a:xfrm>
        </p:grpSpPr>
        <p:sp>
          <p:nvSpPr>
            <p:cNvPr id="252" name=""/>
            <p:cNvSpPr/>
            <p:nvPr/>
          </p:nvSpPr>
          <p:spPr>
            <a:xfrm>
              <a:off x="1265760" y="43894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57280" y="4143240"/>
              <a:ext cx="0" cy="46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1457280" y="4632120"/>
              <a:ext cx="0" cy="58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105520" y="328608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357192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385776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522936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914000" y="4148280"/>
            <a:ext cx="423000" cy="1075680"/>
            <a:chOff x="4914000" y="4148280"/>
            <a:chExt cx="423000" cy="1075680"/>
          </a:xfrm>
        </p:grpSpPr>
        <p:sp>
          <p:nvSpPr>
            <p:cNvPr id="260" name=""/>
            <p:cNvSpPr/>
            <p:nvPr/>
          </p:nvSpPr>
          <p:spPr>
            <a:xfrm>
              <a:off x="4914000" y="4394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05520" y="4148280"/>
              <a:ext cx="0" cy="45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105520" y="4637160"/>
              <a:ext cx="0" cy="58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237800" y="4148280"/>
            <a:ext cx="423000" cy="1075680"/>
            <a:chOff x="7237800" y="4148280"/>
            <a:chExt cx="423000" cy="1075680"/>
          </a:xfrm>
        </p:grpSpPr>
        <p:sp>
          <p:nvSpPr>
            <p:cNvPr id="264" name=""/>
            <p:cNvSpPr/>
            <p:nvPr/>
          </p:nvSpPr>
          <p:spPr>
            <a:xfrm>
              <a:off x="7237800" y="4394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29680" y="4148280"/>
              <a:ext cx="0" cy="45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7429680" y="4637160"/>
              <a:ext cx="0" cy="58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5676840" y="34480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76840" y="3738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34200" y="350532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19920" y="34480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19920" y="3738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34200" y="3738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19920" y="401940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34200" y="401940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76840" y="401940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34200" y="53816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19920" y="53816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76840" y="53816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47920" y="2228760"/>
            <a:ext cx="3048120" cy="1057320"/>
          </a:xfrm>
          <a:custGeom>
            <a:avLst/>
            <a:gdLst/>
            <a:ahLst/>
            <a:rect l="l" t="t" r="r" b="b"/>
            <a:pathLst>
              <a:path w="2076" h="666">
                <a:moveTo>
                  <a:pt x="0" y="0"/>
                </a:moveTo>
                <a:lnTo>
                  <a:pt x="0" y="288"/>
                </a:lnTo>
                <a:lnTo>
                  <a:pt x="2076" y="288"/>
                </a:lnTo>
                <a:lnTo>
                  <a:pt x="2076" y="666"/>
                </a:lnTo>
              </a:path>
            </a:pathLst>
          </a:custGeom>
          <a:noFill/>
          <a:ln w="1260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90840" y="2228760"/>
            <a:ext cx="4552920" cy="3581640"/>
          </a:xfrm>
          <a:custGeom>
            <a:avLst/>
            <a:gdLst/>
            <a:ahLst/>
            <a:rect l="l" t="t" r="r" b="b"/>
            <a:pathLst>
              <a:path w="2868" h="2256">
                <a:moveTo>
                  <a:pt x="0" y="0"/>
                </a:moveTo>
                <a:lnTo>
                  <a:pt x="0" y="168"/>
                </a:lnTo>
                <a:lnTo>
                  <a:pt x="2868" y="168"/>
                </a:lnTo>
                <a:lnTo>
                  <a:pt x="2868" y="2256"/>
                </a:lnTo>
              </a:path>
            </a:pathLst>
          </a:custGeom>
          <a:noFill/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29160" y="58197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67160" y="6000840"/>
            <a:ext cx="2876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26716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93424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62940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21044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81280" y="2228760"/>
            <a:ext cx="0" cy="107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056960" y="525780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056960" y="401940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056960" y="372420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056960" y="34574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485800" y="6067440"/>
            <a:ext cx="1763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24400" y="5495760"/>
            <a:ext cx="723600" cy="343080"/>
          </a:xfrm>
          <a:custGeom>
            <a:avLst/>
            <a:gdLst/>
            <a:ahLst/>
            <a:rect l="l" t="t" r="r" b="b"/>
            <a:pathLst>
              <a:path w="456" h="216">
                <a:moveTo>
                  <a:pt x="0" y="0"/>
                </a:moveTo>
                <a:lnTo>
                  <a:pt x="0" y="216"/>
                </a:lnTo>
                <a:lnTo>
                  <a:pt x="456" y="216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48000" y="5600880"/>
            <a:ext cx="57168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524480" y="536256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82000" y="596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00960" y="596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05440" y="596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52480" y="2695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38360" y="3305160"/>
            <a:ext cx="17172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89040" y="33195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47800" y="3319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15440" y="32972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61600" y="324972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59040" y="268776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</a:rPr>
              <a:t>Wort-Anwa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54560" y="2201760"/>
            <a:ext cx="264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cc99"/>
                </a:solidFill>
                <a:latin typeface="Arial"/>
              </a:rPr>
              <a:t>Byte-Anwahl im W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56440" y="556416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Valid-H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485880" y="5648400"/>
            <a:ext cx="75960" cy="85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21028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86728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57216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14384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324240" y="2343240"/>
            <a:ext cx="123840" cy="11412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181320" y="2505240"/>
            <a:ext cx="123840" cy="1141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724040" y="245736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39000" y="19350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61600" y="14209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38360" y="1668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1200" y="1658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69440" y="2363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23920" y="2430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09920" y="2211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93800" y="5630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60520" y="5630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665400" y="5640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55800" y="5640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7320" y="6002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7810200" y="5952960"/>
            <a:ext cx="666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13400" y="604980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-H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95680" y="5764320"/>
            <a:ext cx="94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n/zum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57320" y="3305160"/>
            <a:ext cx="0" cy="219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865800" y="4029120"/>
            <a:ext cx="423000" cy="1076040"/>
            <a:chOff x="865800" y="4029120"/>
            <a:chExt cx="423000" cy="1076040"/>
          </a:xfrm>
        </p:grpSpPr>
        <p:sp>
          <p:nvSpPr>
            <p:cNvPr id="333" name=""/>
            <p:cNvSpPr/>
            <p:nvPr/>
          </p:nvSpPr>
          <p:spPr>
            <a:xfrm>
              <a:off x="865800" y="42753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56960" y="4029120"/>
              <a:ext cx="0" cy="46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1056960" y="4518000"/>
              <a:ext cx="0" cy="58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057320" y="4991040"/>
            <a:ext cx="0" cy="4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57320" y="3324240"/>
            <a:ext cx="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55960" y="4029120"/>
            <a:ext cx="423000" cy="1076040"/>
            <a:chOff x="255960" y="4029120"/>
            <a:chExt cx="423000" cy="1076040"/>
          </a:xfrm>
        </p:grpSpPr>
        <p:sp>
          <p:nvSpPr>
            <p:cNvPr id="339" name=""/>
            <p:cNvSpPr/>
            <p:nvPr/>
          </p:nvSpPr>
          <p:spPr>
            <a:xfrm>
              <a:off x="255960" y="42753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7480" y="4029120"/>
              <a:ext cx="0" cy="46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47480" y="4518000"/>
              <a:ext cx="0" cy="58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47840" y="357192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47480" y="3305160"/>
            <a:ext cx="60948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7840" y="5086440"/>
            <a:ext cx="609480" cy="37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2920" y="2724120"/>
            <a:ext cx="2114640" cy="3324240"/>
          </a:xfrm>
          <a:custGeom>
            <a:avLst/>
            <a:gdLst/>
            <a:ahLst/>
            <a:rect l="l" t="t" r="r" b="b"/>
            <a:pathLst>
              <a:path w="1332" h="2094">
                <a:moveTo>
                  <a:pt x="1032" y="0"/>
                </a:moveTo>
                <a:lnTo>
                  <a:pt x="0" y="0"/>
                </a:lnTo>
                <a:lnTo>
                  <a:pt x="0" y="2094"/>
                </a:lnTo>
                <a:lnTo>
                  <a:pt x="1332" y="20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0" y="5943600"/>
            <a:ext cx="4190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67080" y="549576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549160" y="1925640"/>
            <a:ext cx="618120" cy="307080"/>
            <a:chOff x="2549160" y="1925640"/>
            <a:chExt cx="618120" cy="307080"/>
          </a:xfrm>
        </p:grpSpPr>
        <p:sp>
          <p:nvSpPr>
            <p:cNvPr id="349" name=""/>
            <p:cNvSpPr/>
            <p:nvPr/>
          </p:nvSpPr>
          <p:spPr>
            <a:xfrm>
              <a:off x="2612880" y="1942920"/>
              <a:ext cx="530280" cy="285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49160" y="192564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9900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57360" y="2228760"/>
            <a:ext cx="2066760" cy="1257480"/>
          </a:xfrm>
          <a:custGeom>
            <a:avLst/>
            <a:gdLst/>
            <a:ahLst/>
            <a:rect l="l" t="t" r="r" b="b"/>
            <a:pathLst>
              <a:path w="1302" h="792">
                <a:moveTo>
                  <a:pt x="1302" y="0"/>
                </a:moveTo>
                <a:lnTo>
                  <a:pt x="1302" y="486"/>
                </a:lnTo>
                <a:lnTo>
                  <a:pt x="0" y="486"/>
                </a:lnTo>
                <a:lnTo>
                  <a:pt x="0" y="792"/>
                </a:lnTo>
              </a:path>
            </a:pathLst>
          </a:custGeom>
          <a:noFill/>
          <a:ln w="1260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666520" y="2543040"/>
            <a:ext cx="104760" cy="10476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39720" y="244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4240" y="2744640"/>
            <a:ext cx="13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9900"/>
                </a:solidFill>
                <a:latin typeface="Arial"/>
              </a:rPr>
              <a:t>Zeilen-Anwa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8360" y="3306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8360" y="3573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26920" y="386856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12440" y="5116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89160" y="1150920"/>
            <a:ext cx="3128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pazität: 256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lock = 4  Wörter = 16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n-way-set-assoziativer Cach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28680" y="5629320"/>
            <a:ext cx="1828800" cy="28584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31920" y="4238640"/>
            <a:ext cx="1828800" cy="266760"/>
          </a:xfrm>
          <a:prstGeom prst="rect">
            <a:avLst/>
          </a:prstGeom>
          <a:solidFill>
            <a:srgbClr val="ffc36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31920" y="3971880"/>
            <a:ext cx="1828800" cy="266760"/>
          </a:xfrm>
          <a:prstGeom prst="rect">
            <a:avLst/>
          </a:prstGeom>
          <a:solidFill>
            <a:srgbClr val="ffc36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28680" y="3971880"/>
            <a:ext cx="1828800" cy="1943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28680" y="5362560"/>
            <a:ext cx="1828800" cy="26676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41280" y="562140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41280" y="534528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41280" y="394488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08960" y="359244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903320" y="3981240"/>
            <a:ext cx="0" cy="191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03720" y="109692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028680" y="5915160"/>
            <a:ext cx="29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57480" y="2981160"/>
            <a:ext cx="2895480" cy="2935440"/>
          </a:xfrm>
          <a:custGeom>
            <a:avLst/>
            <a:gdLst/>
            <a:ahLst/>
            <a:rect l="l" t="t" r="r" b="b"/>
            <a:pathLst>
              <a:path w="1824" h="1849">
                <a:moveTo>
                  <a:pt x="1815" y="1681"/>
                </a:moveTo>
                <a:lnTo>
                  <a:pt x="429" y="1681"/>
                </a:lnTo>
                <a:lnTo>
                  <a:pt x="1824" y="1032"/>
                </a:lnTo>
                <a:lnTo>
                  <a:pt x="1820" y="864"/>
                </a:lnTo>
                <a:lnTo>
                  <a:pt x="544" y="1420"/>
                </a:lnTo>
                <a:lnTo>
                  <a:pt x="1824" y="184"/>
                </a:lnTo>
                <a:lnTo>
                  <a:pt x="1820" y="0"/>
                </a:lnTo>
                <a:lnTo>
                  <a:pt x="0" y="1506"/>
                </a:lnTo>
                <a:lnTo>
                  <a:pt x="0" y="1849"/>
                </a:lnTo>
                <a:lnTo>
                  <a:pt x="1815" y="1849"/>
                </a:lnTo>
              </a:path>
            </a:pathLst>
          </a:custGeom>
          <a:solidFill>
            <a:srgbClr val="66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1562040"/>
            <a:ext cx="2190600" cy="435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43600" y="1562040"/>
            <a:ext cx="2190600" cy="266760"/>
          </a:xfrm>
          <a:prstGeom prst="rect">
            <a:avLst/>
          </a:prstGeom>
          <a:solidFill>
            <a:srgbClr val="ffc36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3600" y="5648400"/>
            <a:ext cx="2190600" cy="26676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17880" y="562140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69560" y="153504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10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2990880"/>
            <a:ext cx="2190600" cy="26676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4343400"/>
            <a:ext cx="2190600" cy="26676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43600" y="5381640"/>
            <a:ext cx="2190600" cy="26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889760" y="20638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57480" y="1562040"/>
            <a:ext cx="2876760" cy="2933640"/>
          </a:xfrm>
          <a:custGeom>
            <a:avLst/>
            <a:gdLst/>
            <a:ahLst/>
            <a:rect l="l" t="t" r="r" b="b"/>
            <a:pathLst>
              <a:path w="1812" h="1848">
                <a:moveTo>
                  <a:pt x="1812" y="0"/>
                </a:moveTo>
                <a:lnTo>
                  <a:pt x="0" y="1510"/>
                </a:lnTo>
                <a:lnTo>
                  <a:pt x="0" y="1848"/>
                </a:lnTo>
                <a:lnTo>
                  <a:pt x="1812" y="174"/>
                </a:lnTo>
                <a:lnTo>
                  <a:pt x="1812" y="0"/>
                </a:lnTo>
                <a:close/>
              </a:path>
            </a:pathLst>
          </a:custGeom>
          <a:solidFill>
            <a:srgbClr val="ffc36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80080" y="20638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617880" y="537372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68560" y="432576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519240" y="296064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51000" y="421164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28680" y="4819680"/>
            <a:ext cx="1828800" cy="26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41280" y="507852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41280" y="480204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59480" y="444672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40400" y="443700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899120" y="34354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89440" y="34354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889760" y="47023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80080" y="47023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85760" y="53625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2480" y="5478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t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95480" y="48290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2480" y="4944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04840" y="400068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3840" y="411624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t 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8400" y="1285920"/>
            <a:ext cx="358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Mehrere Cache-Ze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Werden zu Sätzen (S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zusammengefas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495520" y="564840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2-way-set-assoziativer Cach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781440" y="345744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90800" y="374328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90800" y="403848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1440" y="533412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5360" y="1943280"/>
            <a:ext cx="308124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46400" y="1943280"/>
            <a:ext cx="21600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65640" y="1943280"/>
            <a:ext cx="21564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57280" y="330516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57280" y="359100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38360" y="5210280"/>
            <a:ext cx="17172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57280" y="521028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10080" y="416232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38360" y="416232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10080" y="5210280"/>
            <a:ext cx="17136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38360" y="3591000"/>
            <a:ext cx="17172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10080" y="3591000"/>
            <a:ext cx="17136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10080" y="3305160"/>
            <a:ext cx="17136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457280" y="3876840"/>
            <a:ext cx="2324160" cy="285480"/>
            <a:chOff x="1457280" y="3876840"/>
            <a:chExt cx="2324160" cy="285480"/>
          </a:xfrm>
        </p:grpSpPr>
        <p:sp>
          <p:nvSpPr>
            <p:cNvPr id="425" name=""/>
            <p:cNvSpPr/>
            <p:nvPr/>
          </p:nvSpPr>
          <p:spPr>
            <a:xfrm>
              <a:off x="1457280" y="3876840"/>
              <a:ext cx="2324160" cy="28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38360" y="3876840"/>
              <a:ext cx="17172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10080" y="3876840"/>
              <a:ext cx="17136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589920" y="44118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781440" y="4172040"/>
            <a:ext cx="0" cy="44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781440" y="464796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265760" y="4143240"/>
            <a:ext cx="423000" cy="1076040"/>
            <a:chOff x="1265760" y="4143240"/>
            <a:chExt cx="423000" cy="1076040"/>
          </a:xfrm>
        </p:grpSpPr>
        <p:sp>
          <p:nvSpPr>
            <p:cNvPr id="432" name=""/>
            <p:cNvSpPr/>
            <p:nvPr/>
          </p:nvSpPr>
          <p:spPr>
            <a:xfrm>
              <a:off x="1265760" y="43894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57280" y="4143240"/>
              <a:ext cx="0" cy="46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457280" y="4632120"/>
              <a:ext cx="0" cy="58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5105520" y="328608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05520" y="357192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05520" y="522936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914000" y="4148280"/>
            <a:ext cx="423000" cy="1075680"/>
            <a:chOff x="4914000" y="4148280"/>
            <a:chExt cx="423000" cy="1075680"/>
          </a:xfrm>
        </p:grpSpPr>
        <p:sp>
          <p:nvSpPr>
            <p:cNvPr id="439" name=""/>
            <p:cNvSpPr/>
            <p:nvPr/>
          </p:nvSpPr>
          <p:spPr>
            <a:xfrm>
              <a:off x="4914000" y="4394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4148280"/>
              <a:ext cx="0" cy="45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105520" y="4637160"/>
              <a:ext cx="0" cy="58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7237800" y="4148280"/>
            <a:ext cx="423000" cy="1075680"/>
            <a:chOff x="7237800" y="4148280"/>
            <a:chExt cx="423000" cy="1075680"/>
          </a:xfrm>
        </p:grpSpPr>
        <p:sp>
          <p:nvSpPr>
            <p:cNvPr id="443" name=""/>
            <p:cNvSpPr/>
            <p:nvPr/>
          </p:nvSpPr>
          <p:spPr>
            <a:xfrm>
              <a:off x="7237800" y="4394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29680" y="4148280"/>
              <a:ext cx="0" cy="45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429680" y="4637160"/>
              <a:ext cx="0" cy="58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5676840" y="34480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76840" y="3738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34200" y="350532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19920" y="34480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19920" y="3738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34200" y="3738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5105520" y="3848040"/>
            <a:ext cx="2324160" cy="295200"/>
            <a:chOff x="5105520" y="3848040"/>
            <a:chExt cx="2324160" cy="295200"/>
          </a:xfrm>
        </p:grpSpPr>
        <p:sp>
          <p:nvSpPr>
            <p:cNvPr id="453" name=""/>
            <p:cNvSpPr/>
            <p:nvPr/>
          </p:nvSpPr>
          <p:spPr>
            <a:xfrm>
              <a:off x="5105520" y="3848040"/>
              <a:ext cx="2324160" cy="28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19920" y="40096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4200" y="40096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676840" y="40096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6334200" y="53816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19920" y="53816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676840" y="53816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47920" y="2228760"/>
            <a:ext cx="3048120" cy="1057320"/>
          </a:xfrm>
          <a:custGeom>
            <a:avLst/>
            <a:gdLst/>
            <a:ahLst/>
            <a:rect l="l" t="t" r="r" b="b"/>
            <a:pathLst>
              <a:path w="2076" h="666">
                <a:moveTo>
                  <a:pt x="0" y="0"/>
                </a:moveTo>
                <a:lnTo>
                  <a:pt x="0" y="288"/>
                </a:lnTo>
                <a:lnTo>
                  <a:pt x="2076" y="288"/>
                </a:lnTo>
                <a:lnTo>
                  <a:pt x="2076" y="666"/>
                </a:lnTo>
              </a:path>
            </a:pathLst>
          </a:custGeom>
          <a:noFill/>
          <a:ln w="1260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90840" y="2228760"/>
            <a:ext cx="4552920" cy="3581640"/>
          </a:xfrm>
          <a:custGeom>
            <a:avLst/>
            <a:gdLst/>
            <a:ahLst/>
            <a:rect l="l" t="t" r="r" b="b"/>
            <a:pathLst>
              <a:path w="2868" h="2256">
                <a:moveTo>
                  <a:pt x="0" y="0"/>
                </a:moveTo>
                <a:lnTo>
                  <a:pt x="0" y="168"/>
                </a:lnTo>
                <a:lnTo>
                  <a:pt x="2868" y="168"/>
                </a:lnTo>
                <a:lnTo>
                  <a:pt x="2868" y="2256"/>
                </a:lnTo>
              </a:path>
            </a:pathLst>
          </a:custGeom>
          <a:noFill/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29160" y="58197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67160" y="6000840"/>
            <a:ext cx="2876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26716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593424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662940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721044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81280" y="2228760"/>
            <a:ext cx="0" cy="107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2485800" y="6067440"/>
            <a:ext cx="1763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24400" y="5495760"/>
            <a:ext cx="723600" cy="343080"/>
          </a:xfrm>
          <a:custGeom>
            <a:avLst/>
            <a:gdLst/>
            <a:ahLst/>
            <a:rect l="l" t="t" r="r" b="b"/>
            <a:pathLst>
              <a:path w="456" h="216">
                <a:moveTo>
                  <a:pt x="0" y="0"/>
                </a:moveTo>
                <a:lnTo>
                  <a:pt x="0" y="216"/>
                </a:lnTo>
                <a:lnTo>
                  <a:pt x="456" y="216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48000" y="5600880"/>
            <a:ext cx="57168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524480" y="536256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182000" y="596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600960" y="596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905440" y="596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752480" y="2695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38360" y="3305160"/>
            <a:ext cx="17172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89040" y="33195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47800" y="3319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15440" y="32972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61600" y="324972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59040" y="268776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</a:rPr>
              <a:t>Wort-Anwa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54560" y="2201760"/>
            <a:ext cx="264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cc99"/>
                </a:solidFill>
                <a:latin typeface="Arial"/>
              </a:rPr>
              <a:t>Byte-Anwahl im W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723400" y="564048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Valid-H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485880" y="5648400"/>
            <a:ext cx="75960" cy="85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21028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86728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657216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714384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324240" y="2343240"/>
            <a:ext cx="123840" cy="11412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3181320" y="2505240"/>
            <a:ext cx="123840" cy="1141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724040" y="245736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539000" y="19350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61600" y="14209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438360" y="1668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31200" y="1658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69440" y="2363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923920" y="2430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09920" y="2211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293800" y="5630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60520" y="5630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65400" y="5640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55800" y="5640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27320" y="6002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7810200" y="5952960"/>
            <a:ext cx="666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813400" y="604980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-H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095680" y="5764320"/>
            <a:ext cx="94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n/zum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57320" y="3305160"/>
            <a:ext cx="0" cy="219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865800" y="4029120"/>
            <a:ext cx="423000" cy="1076040"/>
            <a:chOff x="865800" y="4029120"/>
            <a:chExt cx="423000" cy="1076040"/>
          </a:xfrm>
        </p:grpSpPr>
        <p:sp>
          <p:nvSpPr>
            <p:cNvPr id="510" name=""/>
            <p:cNvSpPr/>
            <p:nvPr/>
          </p:nvSpPr>
          <p:spPr>
            <a:xfrm>
              <a:off x="865800" y="42753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56960" y="4029120"/>
              <a:ext cx="0" cy="46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1056960" y="4518000"/>
              <a:ext cx="0" cy="58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1057320" y="4991040"/>
            <a:ext cx="0" cy="4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057320" y="3324240"/>
            <a:ext cx="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55960" y="4029120"/>
            <a:ext cx="423000" cy="1076040"/>
            <a:chOff x="255960" y="4029120"/>
            <a:chExt cx="423000" cy="1076040"/>
          </a:xfrm>
        </p:grpSpPr>
        <p:sp>
          <p:nvSpPr>
            <p:cNvPr id="516" name=""/>
            <p:cNvSpPr/>
            <p:nvPr/>
          </p:nvSpPr>
          <p:spPr>
            <a:xfrm>
              <a:off x="255960" y="42753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47480" y="4029120"/>
              <a:ext cx="0" cy="46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447480" y="4518000"/>
              <a:ext cx="0" cy="58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447840" y="357192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447480" y="3305160"/>
            <a:ext cx="60948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7840" y="5086440"/>
            <a:ext cx="609480" cy="37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2920" y="2724120"/>
            <a:ext cx="2114640" cy="3324240"/>
          </a:xfrm>
          <a:custGeom>
            <a:avLst/>
            <a:gdLst/>
            <a:ahLst/>
            <a:rect l="l" t="t" r="r" b="b"/>
            <a:pathLst>
              <a:path w="1332" h="2094">
                <a:moveTo>
                  <a:pt x="1032" y="0"/>
                </a:moveTo>
                <a:lnTo>
                  <a:pt x="0" y="0"/>
                </a:lnTo>
                <a:lnTo>
                  <a:pt x="0" y="2094"/>
                </a:lnTo>
                <a:lnTo>
                  <a:pt x="1332" y="20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5943600"/>
            <a:ext cx="4190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49160" y="1925640"/>
            <a:ext cx="618120" cy="307080"/>
            <a:chOff x="2549160" y="1925640"/>
            <a:chExt cx="618120" cy="307080"/>
          </a:xfrm>
        </p:grpSpPr>
        <p:sp>
          <p:nvSpPr>
            <p:cNvPr id="525" name=""/>
            <p:cNvSpPr/>
            <p:nvPr/>
          </p:nvSpPr>
          <p:spPr>
            <a:xfrm>
              <a:off x="2612880" y="1942920"/>
              <a:ext cx="530280" cy="285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49160" y="192564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9900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657360" y="2228760"/>
            <a:ext cx="2066760" cy="1257480"/>
          </a:xfrm>
          <a:custGeom>
            <a:avLst/>
            <a:gdLst/>
            <a:ahLst/>
            <a:rect l="l" t="t" r="r" b="b"/>
            <a:pathLst>
              <a:path w="1302" h="792">
                <a:moveTo>
                  <a:pt x="1302" y="0"/>
                </a:moveTo>
                <a:lnTo>
                  <a:pt x="1302" y="486"/>
                </a:lnTo>
                <a:lnTo>
                  <a:pt x="0" y="486"/>
                </a:lnTo>
                <a:lnTo>
                  <a:pt x="0" y="792"/>
                </a:lnTo>
              </a:path>
            </a:pathLst>
          </a:custGeom>
          <a:noFill/>
          <a:ln w="1260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2666520" y="2543040"/>
            <a:ext cx="104760" cy="10476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39720" y="244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07600" y="274464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9900"/>
                </a:solidFill>
                <a:latin typeface="Arial"/>
              </a:rPr>
              <a:t>Satz-Anwa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9120" y="344016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47560" y="402120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8200" y="499284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105520" y="4133880"/>
            <a:ext cx="2324160" cy="295200"/>
            <a:chOff x="5105520" y="4133880"/>
            <a:chExt cx="2324160" cy="295200"/>
          </a:xfrm>
        </p:grpSpPr>
        <p:sp>
          <p:nvSpPr>
            <p:cNvPr id="535" name=""/>
            <p:cNvSpPr/>
            <p:nvPr/>
          </p:nvSpPr>
          <p:spPr>
            <a:xfrm>
              <a:off x="5105520" y="4133880"/>
              <a:ext cx="2324160" cy="28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19920" y="429552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4200" y="429552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676840" y="429552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943520"/>
            <a:ext cx="2324160" cy="295200"/>
            <a:chOff x="5105520" y="4943520"/>
            <a:chExt cx="2324160" cy="295200"/>
          </a:xfrm>
        </p:grpSpPr>
        <p:sp>
          <p:nvSpPr>
            <p:cNvPr id="540" name=""/>
            <p:cNvSpPr/>
            <p:nvPr/>
          </p:nvSpPr>
          <p:spPr>
            <a:xfrm>
              <a:off x="5105520" y="4943520"/>
              <a:ext cx="2324160" cy="28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19920" y="510516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34200" y="510516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676840" y="510516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5105520" y="4429080"/>
            <a:ext cx="23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95800" y="4933800"/>
            <a:ext cx="233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457280" y="4162320"/>
            <a:ext cx="2324160" cy="285480"/>
            <a:chOff x="1457280" y="4162320"/>
            <a:chExt cx="2324160" cy="285480"/>
          </a:xfrm>
        </p:grpSpPr>
        <p:sp>
          <p:nvSpPr>
            <p:cNvPr id="547" name=""/>
            <p:cNvSpPr/>
            <p:nvPr/>
          </p:nvSpPr>
          <p:spPr>
            <a:xfrm>
              <a:off x="1457280" y="4162320"/>
              <a:ext cx="2324160" cy="28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38360" y="4162320"/>
              <a:ext cx="17172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10080" y="4162320"/>
              <a:ext cx="17136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1457280" y="4924440"/>
            <a:ext cx="2324160" cy="285480"/>
            <a:chOff x="1457280" y="4924440"/>
            <a:chExt cx="2324160" cy="285480"/>
          </a:xfrm>
        </p:grpSpPr>
        <p:sp>
          <p:nvSpPr>
            <p:cNvPr id="551" name=""/>
            <p:cNvSpPr/>
            <p:nvPr/>
          </p:nvSpPr>
          <p:spPr>
            <a:xfrm>
              <a:off x="1457280" y="4924440"/>
              <a:ext cx="2324160" cy="28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38360" y="4924440"/>
              <a:ext cx="17172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610080" y="4924440"/>
              <a:ext cx="17136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1457280" y="4915080"/>
            <a:ext cx="232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57280" y="3867120"/>
            <a:ext cx="232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82680" y="3314880"/>
            <a:ext cx="88920" cy="514080"/>
          </a:xfrm>
          <a:custGeom>
            <a:avLst/>
            <a:gdLst>
              <a:gd name="textAreaLeft" fmla="*/ 56880 w 88920"/>
              <a:gd name="textAreaRight" fmla="*/ 89280 w 88920"/>
              <a:gd name="textAreaTop" fmla="*/ 13320 h 514080"/>
              <a:gd name="textAreaBottom" fmla="*/ 500760 h 51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82680" y="3905280"/>
            <a:ext cx="88920" cy="514440"/>
          </a:xfrm>
          <a:custGeom>
            <a:avLst/>
            <a:gdLst>
              <a:gd name="textAreaLeft" fmla="*/ 56880 w 88920"/>
              <a:gd name="textAreaRight" fmla="*/ 89280 w 8892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92400" y="4971960"/>
            <a:ext cx="88560" cy="514440"/>
          </a:xfrm>
          <a:custGeom>
            <a:avLst/>
            <a:gdLst>
              <a:gd name="textAreaLeft" fmla="*/ 56520 w 88560"/>
              <a:gd name="textAreaRight" fmla="*/ 88920 w 8856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057320" y="51530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41720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057320" y="357192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81440" y="429588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790800" y="508644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2920" y="57816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95360" y="5638680"/>
            <a:ext cx="4194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495160" y="5495760"/>
            <a:ext cx="97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4480" y="5753160"/>
            <a:ext cx="5364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789160" y="1150920"/>
            <a:ext cx="3128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pazität: 256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lock = 4  Wörter = 16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7-12-04T07:47:03Z</dcterms:modified>
  <cp:revision>942</cp:revision>
  <dc:subject/>
  <dc:title>TI-2</dc:title>
</cp:coreProperties>
</file>