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18EA-B654-48C8-99F7-380BA4DF20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4000" spc="-1" strike="noStrike">
                <a:solidFill>
                  <a:srgbClr val="003399"/>
                </a:solidFill>
                <a:latin typeface="Arial"/>
              </a:rPr>
              <a:t>3. Übung</a:t>
            </a: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4720" y="2141640"/>
            <a:ext cx="427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bhäng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onflikte und deren Lös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DLX-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uf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1440" y="1076400"/>
            <a:ext cx="8572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08108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ardware-Lösung durch Interlock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4360" y="1095480"/>
            <a:ext cx="8267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99"/>
                </a:solidFill>
                <a:latin typeface="Arial"/>
              </a:rPr>
              <a:t>Forwarding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-Technik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4480" y="1098720"/>
            <a:ext cx="5295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AVA-Simulation der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DLX -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ipelin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f der TI-Home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ttp://www.ira.uka.d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ufgaben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6000" y="1062000"/>
            <a:ext cx="87487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trachten Sie das folgende sequentielle Programmstüc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B1: add R1,R1,R1 ; R1 := R1+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B2: add R2,R1,R1 ; R2 := R1+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B3: add R2,R1,R2 ; R2 := R1+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1. Initialisieren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Sie R1 mit 4 und R2 mit 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. Welchen Wert enthrall das Register R2 nach Abarbeitung dieser Befehlsfolg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. Welchen Wert enthält das Register R2 nach Abarbeitung dieser Befehls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nn zusätzlich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Result Forwarding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ingesetzt 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4. Die Kontrolle der Befehlspipeline vollständig dem Compiler über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. Wieviele Takte benötigt das Programm bis zur vollständigen Leerung der Befehlspipeline,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7360" y="1084320"/>
            <a:ext cx="4975200" cy="143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86040" y="2644920"/>
            <a:ext cx="4349520" cy="796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20560" y="3633840"/>
            <a:ext cx="60595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LX-Pipeline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6720" y="1600200"/>
            <a:ext cx="781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rei Arten von Pipeline- Konflik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5440" y="1081080"/>
            <a:ext cx="8666280" cy="51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Daten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ein Operand ist in 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 (noch) nicht verfügbar.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konflikte werden durch Daten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ängigkeiten im im Befehlsstrom erzeug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truktur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Ressource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zwe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-Stufen dieselbe Resso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 benötigen, auf diese ab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r einmal zugegriffen werden kan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teuerflusskonflik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eten bei Programmsteuerbefehlen auf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n Befehlsbereitstellungsphase die Zieladresse des al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ächstes auszuführenden Befehls noch nicht berechnet ist bzw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m Falle eines bedigten Sprunges noch nicht klar ist, ob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haupt gesprungen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057320"/>
            <a:ext cx="8286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07640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9960" y="1071720"/>
            <a:ext cx="8267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5920" y="1081080"/>
            <a:ext cx="82962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ehlzuweisung durch einen Datenkonflik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1076400"/>
            <a:ext cx="82965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5920" y="1076400"/>
            <a:ext cx="82864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8-05-13T06:50:53Z</dcterms:modified>
  <cp:revision>934</cp:revision>
  <dc:subject/>
  <dc:title>TI-2</dc:title>
</cp:coreProperties>
</file>