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687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 für Prozessrechentechnik, Automation und Robo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572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rer.nat. U. Brinksch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71520" y="6400800"/>
          <a:ext cx="360360" cy="36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64008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C067-7784-4E8E-A211-1FD7C3FA46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d5ffd5"/>
              </a:gs>
              <a:gs pos="50000">
                <a:srgbClr val="336600"/>
              </a:gs>
              <a:gs pos="100000">
                <a:srgbClr val="d5ff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48520"/>
            <a:ext cx="8305920" cy="759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50000">
                <a:srgbClr val="d5ffd5"/>
              </a:gs>
              <a:gs pos="100000">
                <a:srgbClr val="33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9800" y="133524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technologisch einheitlicher Speicher mit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urzer</a:t>
            </a: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Zugriffsz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roßer Kapazitä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aus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grün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.a. nicht realisi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ösung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chichtenweise Anordnung verschiedener </a:t>
            </a: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peicher und Verschiebung der Information </a:t>
            </a: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zwischen den Schichten (Speicherhierarch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4600" y="1125360"/>
            <a:ext cx="8443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achespeicherverwalt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Steuerung) sorgt dafür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ß die am häufigst benötigten Daten sich im Ca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die CPU kann mit hoher Wahrscheinlichkeit das </a:t>
            </a:r>
            <a:br>
              <a:rPr sz="2400"/>
            </a:b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nächste Datum aus dem schnellen Cache und nicht </a:t>
            </a:r>
            <a:br>
              <a:rPr sz="2400"/>
            </a:b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aus dem langsamen Arbeitsspeicher ho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 wird erreicht, indem automatisch durch eine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Hardware-Steuerun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ache-Controll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 alle Da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n Cache kopiert werden, auf die der Prozessor zugreif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 benötigte Da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erschiede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trategien aus dem Cache verdräng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Funktionsweise eines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" y="1096920"/>
            <a:ext cx="8145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ezugriff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 jedem Lesezugriff prüft der µP, ob das Datum 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 st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cc00"/>
                </a:solidFill>
                <a:latin typeface="Arial"/>
              </a:rPr>
              <a:t>Wenn ja: </a:t>
            </a:r>
            <a:r>
              <a:rPr b="0" lang="de-DE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cc00"/>
                </a:solidFill>
                <a:latin typeface="Arial"/>
              </a:rPr>
              <a:t>Treffer (</a:t>
            </a:r>
            <a:r>
              <a:rPr b="1" lang="de-DE" sz="2400" spc="-1" strike="noStrike">
                <a:solidFill>
                  <a:srgbClr val="00cc00"/>
                </a:solidFill>
                <a:latin typeface="Arial"/>
              </a:rPr>
              <a:t>Cache Hit</a:t>
            </a:r>
            <a:r>
              <a:rPr b="0" lang="de-DE" sz="2400" spc="-1" strike="noStrike">
                <a:solidFill>
                  <a:srgbClr val="00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atum kann ohne Wartezyklen aus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 entnomm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Wenn nein: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kein Treffer 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Cache Miss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atum wird mit Wartezyklen aus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speicher gelesen und gleichzeiti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 Cache eingefü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 eines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7440" y="1600200"/>
            <a:ext cx="121932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160020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207000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36760" y="1778040"/>
            <a:ext cx="1790640" cy="291960"/>
          </a:xfrm>
          <a:custGeom>
            <a:avLst/>
            <a:gdLst/>
            <a:ahLst/>
            <a:rect l="l" t="t" r="r" b="b"/>
            <a:pathLst>
              <a:path w="1128" h="184">
                <a:moveTo>
                  <a:pt x="0" y="0"/>
                </a:moveTo>
                <a:lnTo>
                  <a:pt x="1128" y="0"/>
                </a:lnTo>
                <a:lnTo>
                  <a:pt x="1128" y="1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6760" y="2717640"/>
            <a:ext cx="1816200" cy="330480"/>
          </a:xfrm>
          <a:custGeom>
            <a:avLst/>
            <a:gdLst/>
            <a:ahLst/>
            <a:rect l="l" t="t" r="r" b="b"/>
            <a:pathLst>
              <a:path w="1160" h="144">
                <a:moveTo>
                  <a:pt x="0" y="144"/>
                </a:moveTo>
                <a:lnTo>
                  <a:pt x="1160" y="144"/>
                </a:lnTo>
                <a:lnTo>
                  <a:pt x="11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68560" y="411480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27880" y="411480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58460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74920" y="419112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374920" y="556272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75080" y="4178160"/>
            <a:ext cx="0" cy="40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375080" y="523224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83000" y="13827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94080" y="380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10360" y="3021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35920" y="55357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5640" y="2211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00"/>
                </a:solidFill>
                <a:latin typeface="Arial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00" y="4599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Be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280" y="1096920"/>
            <a:ext cx="77886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Hit-Rat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zeichnet die Trefferquote im 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Hit-Rate = Anzahl Treffer / Anzahl Zu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mittlere Zugriffsze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rechnet sich annähernd wi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fol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sz="2400" spc="-1" strike="noStrike" baseline="-25000">
                <a:solidFill>
                  <a:srgbClr val="3333cc"/>
                </a:solidFill>
                <a:latin typeface="Arial"/>
              </a:rPr>
              <a:t>Access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 = (Hit-Rate) * t</a:t>
            </a:r>
            <a:r>
              <a:rPr b="1" sz="2400" spc="-1" strike="noStrike" baseline="-25000">
                <a:solidFill>
                  <a:srgbClr val="3333cc"/>
                </a:solidFill>
                <a:latin typeface="Arial"/>
              </a:rPr>
              <a:t>Hit</a:t>
            </a:r>
            <a:r>
              <a:rPr b="1" sz="2400" spc="-1" strike="noStrike">
                <a:solidFill>
                  <a:srgbClr val="3333cc"/>
                </a:solidFill>
                <a:latin typeface="Arial"/>
              </a:rPr>
              <a:t> + (1 - Hit-Rate) * t</a:t>
            </a:r>
            <a:r>
              <a:rPr b="1" sz="2400" spc="-1" strike="noStrike" baseline="-25000">
                <a:solidFill>
                  <a:srgbClr val="3333cc"/>
                </a:solidFill>
                <a:latin typeface="Arial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m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Hi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riffszeit des 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griffszeit ohne den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Funktionsweise eines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3840" y="1325520"/>
            <a:ext cx="827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Schreibzugriff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iegt beim Schreiben ein Ca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Miss vor, wird das Datum sowohl in den Arbeitsspeicher wie in den Cache geschri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iegt beim Schreiben jedoch ein Ca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it vor, d.h. ein im Cache stehendes Datum wird durch den Prozessor verändert, so existieren verschiedene Organisationsformen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0440" y="1289160"/>
            <a:ext cx="8224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urchschreibverfahren: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write through polic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Datum wird von der CPU immer gleichzeitig in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- und in den Arbeitsspeicher geschrieb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27880" y="379728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4267080"/>
            <a:ext cx="1320840" cy="648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74920" y="387360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74920" y="5245200"/>
            <a:ext cx="4152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5080" y="3860640"/>
            <a:ext cx="0" cy="40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375080" y="4914720"/>
            <a:ext cx="0" cy="31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94080" y="3490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35920" y="5218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68560" y="379728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0440" y="1488960"/>
            <a:ext cx="82468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00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garantierte Konsistenz zwischen Cache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Nachteil: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zugriffe benötigen immer die langsam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ykluszeit des Hauptspeichers und belasten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ystemb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0440" y="1289160"/>
            <a:ext cx="822492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epuffertes Durchschreibverfahren: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buffere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write through polic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ariante des Durchschreibverfah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Zur Milderung des Nachteils beim Durchschreibverfahre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 ein kleiner Schreib-Puffer verwendet, der die zu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chreibenden Daten temporär aufnimm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 Daten werden dann automatisch vom Cache-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Controller in den Hauptspeicher übertragen, währe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Prozessor parallel dazu mit weiteren Operatio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ortfäh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0440" y="1289160"/>
            <a:ext cx="822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Rückschreib-Verfahren: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write back polic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atum wird von der CPU nur in den Cachespeiche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schrieben und durch ein spezielles Bit 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sz="2400" spc="-1" strike="noStrike">
                <a:solidFill>
                  <a:srgbClr val="0000cc"/>
                </a:solidFill>
                <a:latin typeface="Arial"/>
              </a:rPr>
              <a:t>altered bit, </a:t>
            </a:r>
            <a:br>
              <a:rPr sz="2400"/>
            </a:br>
            <a:r>
              <a:rPr b="0" i="1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modified bit, </a:t>
            </a:r>
            <a:r>
              <a:rPr b="0" i="1" sz="2400" spc="-1" strike="noStrike">
                <a:solidFill>
                  <a:srgbClr val="0000cc"/>
                </a:solidFill>
                <a:latin typeface="Arial"/>
              </a:rPr>
              <a:t>dirty bit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gekennzeichne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rbeitsspeicher wird nur geändert, wenn ein so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gekennzeichnetes Datum aus dem Cache verdräng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ird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8800" y="113652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inzip des Rückschreib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43280" y="186696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2600" y="1866960"/>
            <a:ext cx="121896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83080" y="233676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62240" y="2044800"/>
            <a:ext cx="1790640" cy="291960"/>
          </a:xfrm>
          <a:custGeom>
            <a:avLst/>
            <a:gdLst/>
            <a:ahLst/>
            <a:rect l="l" t="t" r="r" b="b"/>
            <a:pathLst>
              <a:path w="1128" h="184">
                <a:moveTo>
                  <a:pt x="0" y="0"/>
                </a:moveTo>
                <a:lnTo>
                  <a:pt x="1128" y="0"/>
                </a:lnTo>
                <a:lnTo>
                  <a:pt x="1128" y="1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62240" y="2984400"/>
            <a:ext cx="1816200" cy="330480"/>
          </a:xfrm>
          <a:custGeom>
            <a:avLst/>
            <a:gdLst/>
            <a:ahLst/>
            <a:rect l="l" t="t" r="r" b="b"/>
            <a:pathLst>
              <a:path w="1160" h="144">
                <a:moveTo>
                  <a:pt x="0" y="144"/>
                </a:moveTo>
                <a:lnTo>
                  <a:pt x="1160" y="144"/>
                </a:lnTo>
                <a:lnTo>
                  <a:pt x="11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94040" y="4381560"/>
            <a:ext cx="1218960" cy="158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3360" y="4381560"/>
            <a:ext cx="1219320" cy="158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33840" y="4851360"/>
            <a:ext cx="1320840" cy="64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08480" y="16495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61240" y="41133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5840" y="32878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3840" y="58532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56280" y="4508640"/>
            <a:ext cx="2197080" cy="342720"/>
          </a:xfrm>
          <a:custGeom>
            <a:avLst/>
            <a:gdLst/>
            <a:ahLst/>
            <a:rect l="l" t="t" r="r" b="b"/>
            <a:pathLst>
              <a:path w="1384" h="216">
                <a:moveTo>
                  <a:pt x="0" y="216"/>
                </a:moveTo>
                <a:lnTo>
                  <a:pt x="0" y="0"/>
                </a:lnTo>
                <a:lnTo>
                  <a:pt x="138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5499000"/>
            <a:ext cx="2171880" cy="368280"/>
          </a:xfrm>
          <a:custGeom>
            <a:avLst/>
            <a:gdLst/>
            <a:ahLst/>
            <a:rect l="l" t="t" r="r" b="b"/>
            <a:pathLst>
              <a:path w="1368" h="232">
                <a:moveTo>
                  <a:pt x="0" y="0"/>
                </a:moveTo>
                <a:lnTo>
                  <a:pt x="0" y="232"/>
                </a:lnTo>
                <a:lnTo>
                  <a:pt x="1368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2800" y="208116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peich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720" y="463392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ückschrei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7920" y="1228680"/>
            <a:ext cx="15732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230560" y="6081840"/>
            <a:ext cx="64800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24640" y="1353960"/>
            <a:ext cx="503316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8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On-Chip-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Secondary level Cache</a:t>
            </a:r>
            <a:br>
              <a:rPr sz="2000"/>
            </a:b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(S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Arbeitsspeicher</a:t>
            </a:r>
            <a:br>
              <a:rPr sz="2000"/>
            </a:b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(D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0ac00"/>
                </a:solidFill>
                <a:latin typeface="Arial"/>
              </a:rPr>
              <a:t>Sekundärspeicher</a:t>
            </a:r>
            <a:br>
              <a:rPr sz="2000"/>
            </a:br>
            <a:r>
              <a:rPr b="1" lang="de-DE" sz="2000" spc="-1" strike="noStrike">
                <a:solidFill>
                  <a:srgbClr val="b0ac00"/>
                </a:solidFill>
                <a:latin typeface="Arial"/>
              </a:rPr>
              <a:t>(Platten, elektronische Massenspeic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Archivespeicher</a:t>
            </a:r>
            <a:br>
              <a:rPr sz="2000"/>
            </a:b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(Platten, Bänder, optische Plat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28760" y="1219320"/>
            <a:ext cx="244800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1228680"/>
            <a:ext cx="2447640" cy="485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90920" y="1809720"/>
            <a:ext cx="214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2467080"/>
            <a:ext cx="280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19440" y="3362400"/>
            <a:ext cx="36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52880" y="4314960"/>
            <a:ext cx="46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5960" y="520056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6840" y="1373040"/>
            <a:ext cx="3121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800"/>
                </a:solidFill>
                <a:latin typeface="Arial"/>
              </a:rPr>
              <a:t>Arbeits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Schreibtisch-Umgeb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Reg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0ac00"/>
                </a:solidFill>
                <a:latin typeface="Arial"/>
              </a:rPr>
              <a:t>Magaz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Fernlei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chreibzugriff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0440" y="1488960"/>
            <a:ext cx="82468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c00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uch Schreibzugriffe können mit der schnell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-Zykluszeit abgewicke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Nachteil: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onsistenzprobleme zwischen Cache-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Beispiele für Konsistenzproblem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880" y="1154160"/>
            <a:ext cx="84294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ere Systemkomponenten, z.B. DMA-Controller, fin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n unter Umständen „veraltete Daten“ im Arbeitsspeich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, die von der CPU längst geändert, jedoch noch nicht 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 Arbeitsspeicher übertragen wu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benfalls können andere Systemkomponenten Daten i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peicher ändern, während die CPU noch mit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n Daten im Cachespeicher arbei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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wendige Verfahren bei der Cache-Steuerung z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hinderung solcher Inkonsistenzen sind erforderl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z.B. muss die Cache-Steuerung über je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änderung im Hauptspeicher informiert werd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739880"/>
            <a:ext cx="6756120" cy="3809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6200" y="2482920"/>
            <a:ext cx="1866960" cy="22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2482920"/>
            <a:ext cx="1866600" cy="22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6200" y="3683160"/>
            <a:ext cx="1514520" cy="3808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23040" y="3683160"/>
            <a:ext cx="1866600" cy="3808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6200" y="1917720"/>
            <a:ext cx="1514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69680" y="481824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ress-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0160" y="205884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-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63760" y="44704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63760" y="27748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63760" y="30862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51160" y="33847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6200" y="2774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16200" y="3086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33847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16200" y="44704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70600" y="4457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0600" y="2762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70600" y="30733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70600" y="33717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23040" y="4457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2762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23040" y="30733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23040" y="33717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83160" y="3873600"/>
            <a:ext cx="1739880" cy="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76680" y="26542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76680" y="297180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76680" y="32637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76680" y="35434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76680" y="42544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76680" y="464832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88840" y="1482840"/>
            <a:ext cx="7442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60760" y="2298600"/>
            <a:ext cx="0" cy="138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3800" y="1476360"/>
            <a:ext cx="0" cy="45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8840" y="6006960"/>
            <a:ext cx="7442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7440" y="4064040"/>
            <a:ext cx="0" cy="1955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52560" y="56595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2680" y="107784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510720" y="2482920"/>
            <a:ext cx="171720" cy="2298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340080" y="2482920"/>
            <a:ext cx="171360" cy="22986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51160" y="36892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0240" y="40705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37560" y="50022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Status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09920" y="4705200"/>
            <a:ext cx="89532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10080" y="4724280"/>
            <a:ext cx="104760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440" y="1268280"/>
            <a:ext cx="7677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Komparator ermittelt, ob das zu einer auf de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bus liegende Adresse gehörende Datum auch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im Cache abgelegt worden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dressvergleich mit den Adressen im Adres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er Adressvergleich m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0000"/>
                </a:solidFill>
                <a:latin typeface="Arial"/>
              </a:rPr>
              <a:t>sehr schnell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gehen </a:t>
            </a:r>
            <a:br>
              <a:rPr sz="2400"/>
            </a:b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(möglichst in einem Taktzyklus)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da sonst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speicher effektiv langsamer wäre als d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Aufbau eines Cache-Speich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1640" y="1106640"/>
            <a:ext cx="817596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Cache-Zeile enthält ein (Adress, Daten)-Paar und Status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i="1" lang="de-DE" sz="2400" spc="-1" strike="noStrike">
                <a:solidFill>
                  <a:srgbClr val="0000cc"/>
                </a:solidFill>
                <a:latin typeface="Arial"/>
              </a:rPr>
              <a:t>(Daten)-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loc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zusammengehörende Reihe von Speicherplätz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zugehörig wird ein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Adressetikett (Index, Cache-Tag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m Adress-Speicher able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Cache-Tag enthält die Adresse des aktuellen Blocks im Hauptspei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Statusbits sagen aus, ob die Daten im Cache gültig sin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z.B. informiert  V-Bit, ob ein gültiger Eintrag vorliegt und D-Bit, ob auf den Eintrag seit seiner Einlagerung schreibend zugegriffen wur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99"/>
                </a:solidFill>
                <a:latin typeface="Arial"/>
              </a:rPr>
              <a:t>Arbeitsweise eines Cache-Speicher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1360" y="1268280"/>
            <a:ext cx="84484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Steuerung prüft bei Schreibzugriffen de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, 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ur Speicheradresse gehörende Hauptspeicherinhalt als Kopie im Cache steht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(Bedingung 1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r Cache-Eintrag durch das Gültigkeits-Bit (Valid-Bit) als gültig gekennzeichnet ist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(Bedingung 2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üfung führt zu einem Cache-Treffer oder zu einem Fehlzugri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Fehlzugriff (Cache-miss): eine der beiden Bedingungen ist nicht erfül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99"/>
                </a:solidFill>
                <a:latin typeface="Arial"/>
              </a:rPr>
              <a:t>Arbeitsweise eines Cache-Speicher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360" y="1268280"/>
            <a:ext cx="8448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Fehlzugriff (Cache-miss): eine der beiden Bedingungen ist nicht erfül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ezugriffe (read mi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sen des Datums aus dem Hauptspeicher und Laden des Cache-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nnzeichnen der Cache-Eintrag als gültig (V-Bit setz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en der Adressinformation im Adress-Speicher des Cache-Spei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99"/>
                </a:solidFill>
                <a:latin typeface="Arial"/>
              </a:rPr>
              <a:t>Arbeitsweise eines Cache-Speicher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360" y="1268280"/>
            <a:ext cx="8448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Fehlzugriff (Cache-miss): eine der beiden Bedingungen ist nicht erfül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reibzugriffe (write mi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ualisierungsstrategie bestimmt, 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entsprechende Block in den Cache geladen und dann mit dem zu schreibenden Datum aktualisiert wird oder, 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der Hauptspeicheraktualisiert wird und der Cache unverändert ble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99"/>
                </a:solidFill>
                <a:latin typeface="Arial"/>
              </a:rPr>
              <a:t>Arbeitsweise eines Cache-Speicher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360" y="1268280"/>
            <a:ext cx="844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che-Treffer (Cache-hit, read hit, write hit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de Bedingungen 1 und 2 sind erfü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erfolgt auf den Cache-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Cache-Struktur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0440" y="1241280"/>
            <a:ext cx="81104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nhand der fü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dressvergleich verwendeten Technik lassen sich verschiedene Cache-Typen unterscheid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Voll-Assoziativer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c8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Direct Mapped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c8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c800"/>
                </a:solidFill>
                <a:latin typeface="Arial"/>
              </a:rPr>
              <a:t>n-Way Set Associativ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0200" y="1278000"/>
            <a:ext cx="82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hierarchie zum Ausgleich der unterschiedlich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szeiten der CPU und des Hauptspeic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4680" y="2351160"/>
            <a:ext cx="825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 Strategie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Cache-Speicher: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Kurze Zugriffszeiten </a:t>
            </a:r>
            <a:r>
              <a:rPr b="0" lang="de-DE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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Beschleunigung des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ozessorzug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9400" y="4246560"/>
            <a:ext cx="825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00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Arial"/>
              </a:rPr>
              <a:t>Virtuller Speicher:</a:t>
            </a:r>
            <a:br>
              <a:rPr sz="2400"/>
            </a:b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Vergrößerung des tatsächlich vorhandenen </a:t>
            </a:r>
            <a:br>
              <a:rPr sz="2400"/>
            </a:b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Hauptspeichers (z.B. bei gleichzeitiger Bearbeitung </a:t>
            </a:r>
            <a:br>
              <a:rPr sz="2400"/>
            </a:br>
            <a:r>
              <a:rPr b="0" lang="de-DE" sz="2400" spc="-1" strike="noStrike">
                <a:solidFill>
                  <a:srgbClr val="009900"/>
                </a:solidFill>
                <a:latin typeface="Arial"/>
              </a:rPr>
              <a:t>mehrerer Proze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Voll-assoziativer 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09800" y="4000680"/>
            <a:ext cx="1828800" cy="194292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9800" y="5391000"/>
            <a:ext cx="18288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00080" y="4267080"/>
            <a:ext cx="183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684440" y="4009680"/>
            <a:ext cx="0" cy="19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22040" y="564984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22040" y="537372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1680" y="397368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9160" y="36021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1590840"/>
            <a:ext cx="2190960" cy="4352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1857240"/>
            <a:ext cx="2201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99000" y="5649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50320" y="15638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84480" y="112536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5667480"/>
            <a:ext cx="2202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809800" y="1600200"/>
            <a:ext cx="2943360" cy="4343400"/>
            <a:chOff x="2809800" y="1600200"/>
            <a:chExt cx="2943360" cy="4343400"/>
          </a:xfrm>
        </p:grpSpPr>
        <p:sp>
          <p:nvSpPr>
            <p:cNvPr id="239" name=""/>
            <p:cNvSpPr/>
            <p:nvPr/>
          </p:nvSpPr>
          <p:spPr>
            <a:xfrm flipH="1">
              <a:off x="2809800" y="5943600"/>
              <a:ext cx="294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828520" y="1600200"/>
              <a:ext cx="2886120" cy="23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57720" y="4268880"/>
              <a:ext cx="194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ssoziat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bbild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38520" y="323532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9480" y="323532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40600" y="44895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0240" y="44895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Voll-Assoziativer 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0720" y="1096920"/>
            <a:ext cx="829944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paralleler Vergleich aller Adressen im Adressspeich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einem einzigen Taktzyk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00"/>
                </a:solidFill>
                <a:latin typeface="Arial"/>
              </a:rPr>
              <a:t>Vorteil:</a:t>
            </a:r>
            <a:r>
              <a:rPr b="0" lang="de-DE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Datum kann an beliebiger Stelle im Cache abgele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male Cache-Ausnutzung, völlig freie Wahl der Strategie bei Verdräng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5520" y="3916440"/>
            <a:ext cx="843912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Nachteil: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her Hardwareaufwand (für jede Cache-Zeile ein Vergleicher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ur für sehr kleine Cachespeicher realisi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oße Flexibilität der Abbildungsvorschrift erfordert eine weitere Hardware, welche die Ersetzungsstrategie (welcher Block soll überschrieben werden, wenn der Cache voll ist) realisiert.</a:t>
            </a:r>
            <a:r>
              <a:rPr b="1" lang="de-DE" sz="20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81440" y="345744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90800" y="37432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90800" y="40384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81440" y="53341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66880" y="3543480"/>
            <a:ext cx="936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Beispiel: Vollassoziativer Cach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95360" y="1943280"/>
            <a:ext cx="3080880" cy="285480"/>
            <a:chOff x="495360" y="1943280"/>
            <a:chExt cx="3080880" cy="285480"/>
          </a:xfrm>
        </p:grpSpPr>
        <p:sp>
          <p:nvSpPr>
            <p:cNvPr id="256" name=""/>
            <p:cNvSpPr/>
            <p:nvPr/>
          </p:nvSpPr>
          <p:spPr>
            <a:xfrm>
              <a:off x="495360" y="1943280"/>
              <a:ext cx="308088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240" y="1943280"/>
              <a:ext cx="39132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84560" y="1943280"/>
              <a:ext cx="39168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457280" y="330516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57280" y="359100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57280" y="387684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38360" y="521028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57280" y="521028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1008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3836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0080" y="521028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8360" y="359100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10080" y="359100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8360" y="387684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10080" y="387684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89920" y="4411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81440" y="417204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781440" y="464796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65760" y="438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57280" y="414324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57280" y="4632120"/>
            <a:ext cx="0" cy="58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328608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7192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38577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52293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914000" y="4148280"/>
            <a:ext cx="423000" cy="1075680"/>
            <a:chOff x="4914000" y="4148280"/>
            <a:chExt cx="423000" cy="1075680"/>
          </a:xfrm>
        </p:grpSpPr>
        <p:sp>
          <p:nvSpPr>
            <p:cNvPr id="282" name=""/>
            <p:cNvSpPr/>
            <p:nvPr/>
          </p:nvSpPr>
          <p:spPr>
            <a:xfrm>
              <a:off x="49140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0552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10552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237800" y="4148280"/>
            <a:ext cx="423000" cy="1075680"/>
            <a:chOff x="7237800" y="4148280"/>
            <a:chExt cx="423000" cy="1075680"/>
          </a:xfrm>
        </p:grpSpPr>
        <p:sp>
          <p:nvSpPr>
            <p:cNvPr id="286" name=""/>
            <p:cNvSpPr/>
            <p:nvPr/>
          </p:nvSpPr>
          <p:spPr>
            <a:xfrm>
              <a:off x="72378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2968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42968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67684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7684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34200" y="35053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1992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1992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420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1992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420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7684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3420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1992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7684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00240" y="2228760"/>
            <a:ext cx="3295800" cy="1057320"/>
          </a:xfrm>
          <a:custGeom>
            <a:avLst/>
            <a:gdLst/>
            <a:ahLst/>
            <a:rect l="l" t="t" r="r" b="b"/>
            <a:pathLst>
              <a:path w="2076" h="666">
                <a:moveTo>
                  <a:pt x="0" y="0"/>
                </a:moveTo>
                <a:lnTo>
                  <a:pt x="0" y="288"/>
                </a:lnTo>
                <a:lnTo>
                  <a:pt x="2076" y="288"/>
                </a:lnTo>
                <a:lnTo>
                  <a:pt x="2076" y="666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90840" y="2228760"/>
            <a:ext cx="4552920" cy="3581640"/>
          </a:xfrm>
          <a:custGeom>
            <a:avLst/>
            <a:gdLst/>
            <a:ahLst/>
            <a:rect l="l" t="t" r="r" b="b"/>
            <a:pathLst>
              <a:path w="2868" h="2256">
                <a:moveTo>
                  <a:pt x="0" y="0"/>
                </a:moveTo>
                <a:lnTo>
                  <a:pt x="0" y="168"/>
                </a:lnTo>
                <a:lnTo>
                  <a:pt x="2868" y="168"/>
                </a:lnTo>
                <a:lnTo>
                  <a:pt x="2868" y="2256"/>
                </a:lnTo>
              </a:path>
            </a:pathLst>
          </a:custGeom>
          <a:noFill/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29160" y="581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67160" y="6000840"/>
            <a:ext cx="2876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26716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9342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62940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2104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81280" y="2228760"/>
            <a:ext cx="0" cy="10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6880" y="2943360"/>
            <a:ext cx="914400" cy="390240"/>
          </a:xfrm>
          <a:custGeom>
            <a:avLst/>
            <a:gdLst/>
            <a:ahLst/>
            <a:rect l="l" t="t" r="r" b="b"/>
            <a:pathLst>
              <a:path w="576" h="246">
                <a:moveTo>
                  <a:pt x="576" y="0"/>
                </a:moveTo>
                <a:lnTo>
                  <a:pt x="0" y="0"/>
                </a:lnTo>
                <a:lnTo>
                  <a:pt x="0" y="24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4880" y="3343320"/>
            <a:ext cx="34272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4880" y="3600360"/>
            <a:ext cx="34272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4880" y="3914640"/>
            <a:ext cx="34272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4880" y="5248440"/>
            <a:ext cx="34272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056960" y="534348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056960" y="40194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047600" y="3724200"/>
            <a:ext cx="40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056960" y="34574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6880" y="47624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880" y="43149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76240" y="6000840"/>
            <a:ext cx="337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76240" y="5448240"/>
            <a:ext cx="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24400" y="5495760"/>
            <a:ext cx="723600" cy="343080"/>
          </a:xfrm>
          <a:custGeom>
            <a:avLst/>
            <a:gdLst/>
            <a:ahLst/>
            <a:rect l="l" t="t" r="r" b="b"/>
            <a:pathLst>
              <a:path w="456" h="216">
                <a:moveTo>
                  <a:pt x="0" y="0"/>
                </a:moveTo>
                <a:lnTo>
                  <a:pt x="0" y="216"/>
                </a:lnTo>
                <a:lnTo>
                  <a:pt x="456" y="2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48000" y="5600880"/>
            <a:ext cx="57168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12080" y="315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12080" y="373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12080" y="343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48720" y="501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524480" y="536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8200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0096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544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291456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10760" y="329724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61600" y="32497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59040" y="26877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Wort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54560" y="2201760"/>
            <a:ext cx="26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Byte-Anwahl im 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56440" y="55641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Valid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485880" y="5648400"/>
            <a:ext cx="75960" cy="85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210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867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57216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14384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324240" y="2343240"/>
            <a:ext cx="123840" cy="1141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933640" y="2419200"/>
            <a:ext cx="123840" cy="1144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724040" y="245736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39000" y="1935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94280" y="16113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38360" y="16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1200" y="1658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69440" y="2363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76240" y="2306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09920" y="2211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380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6052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654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558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7320" y="6002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7810200" y="5952960"/>
            <a:ext cx="666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27640" y="59832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95680" y="576432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n/zu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89160" y="1150920"/>
            <a:ext cx="312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pazität: 25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lock = 4  Wörter = 1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10080" y="330516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8360" y="330516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89040" y="3319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47800" y="3319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Direct-mapped-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9800" y="1125360"/>
            <a:ext cx="399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im Direct Mapped Cache erhält jede Stelle de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rbeitsspeichers einen festen Platz im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22480" y="5842080"/>
            <a:ext cx="1828800" cy="28584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16000" y="4184640"/>
            <a:ext cx="18288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22480" y="4184640"/>
            <a:ext cx="1828800" cy="194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22480" y="5575320"/>
            <a:ext cx="18288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797120" y="4194000"/>
            <a:ext cx="0" cy="19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34720" y="583416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34720" y="555768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34360" y="41576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2120" y="37958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03720" y="10969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922480" y="6127920"/>
            <a:ext cx="294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51280" y="3193920"/>
            <a:ext cx="2895480" cy="2935440"/>
          </a:xfrm>
          <a:custGeom>
            <a:avLst/>
            <a:gdLst/>
            <a:ahLst/>
            <a:rect l="l" t="t" r="r" b="b"/>
            <a:pathLst>
              <a:path w="1824" h="1849">
                <a:moveTo>
                  <a:pt x="1815" y="1681"/>
                </a:moveTo>
                <a:lnTo>
                  <a:pt x="429" y="1681"/>
                </a:lnTo>
                <a:lnTo>
                  <a:pt x="1824" y="1032"/>
                </a:lnTo>
                <a:lnTo>
                  <a:pt x="1820" y="864"/>
                </a:lnTo>
                <a:lnTo>
                  <a:pt x="544" y="1420"/>
                </a:lnTo>
                <a:lnTo>
                  <a:pt x="1824" y="184"/>
                </a:lnTo>
                <a:lnTo>
                  <a:pt x="1820" y="0"/>
                </a:lnTo>
                <a:lnTo>
                  <a:pt x="0" y="1672"/>
                </a:lnTo>
                <a:lnTo>
                  <a:pt x="0" y="1849"/>
                </a:lnTo>
                <a:lnTo>
                  <a:pt x="1815" y="1849"/>
                </a:lnTo>
              </a:path>
            </a:pathLst>
          </a:custGeom>
          <a:solidFill>
            <a:srgbClr val="66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37400" y="1774800"/>
            <a:ext cx="2190600" cy="435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37400" y="1774800"/>
            <a:ext cx="21906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37400" y="586116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11680" y="583416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63360" y="174780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37400" y="320364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37400" y="455616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7400" y="5594400"/>
            <a:ext cx="21906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54760" y="2214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83240" y="22622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51280" y="1784520"/>
            <a:ext cx="2889000" cy="2673360"/>
          </a:xfrm>
          <a:custGeom>
            <a:avLst/>
            <a:gdLst/>
            <a:ahLst/>
            <a:rect l="l" t="t" r="r" b="b"/>
            <a:pathLst>
              <a:path w="1820" h="1684">
                <a:moveTo>
                  <a:pt x="1816" y="0"/>
                </a:moveTo>
                <a:lnTo>
                  <a:pt x="0" y="1504"/>
                </a:lnTo>
                <a:lnTo>
                  <a:pt x="0" y="1684"/>
                </a:lnTo>
                <a:lnTo>
                  <a:pt x="1820" y="164"/>
                </a:lnTo>
                <a:lnTo>
                  <a:pt x="1816" y="0"/>
                </a:lnTo>
                <a:close/>
              </a:path>
            </a:pathLst>
          </a:custGeom>
          <a:solidFill>
            <a:srgbClr val="ffc36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11680" y="55864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62000" y="453852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2680" y="31734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3280" y="47214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52920" y="47214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54760" y="3662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83240" y="37101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73840" y="48816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02320" y="4929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99"/>
                </a:solidFill>
                <a:latin typeface="Arial"/>
              </a:rPr>
              <a:t>Beispiel: Direct-mapped-Cach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1440" y="345744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90800" y="37432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90800" y="40384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81440" y="53341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360" y="1943280"/>
            <a:ext cx="308124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46400" y="1943280"/>
            <a:ext cx="21600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5640" y="1943280"/>
            <a:ext cx="21564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57280" y="330516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57280" y="359100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57280" y="387684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38360" y="521028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57280" y="521028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1008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3836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10080" y="521028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38360" y="359100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10080" y="359100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10080" y="330516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38360" y="387684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0080" y="387684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9920" y="4411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81440" y="417204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781440" y="464796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265760" y="4143240"/>
            <a:ext cx="423000" cy="1076040"/>
            <a:chOff x="1265760" y="4143240"/>
            <a:chExt cx="423000" cy="1076040"/>
          </a:xfrm>
        </p:grpSpPr>
        <p:sp>
          <p:nvSpPr>
            <p:cNvPr id="426" name=""/>
            <p:cNvSpPr/>
            <p:nvPr/>
          </p:nvSpPr>
          <p:spPr>
            <a:xfrm>
              <a:off x="1265760" y="43894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7280" y="414324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7280" y="463212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5105520" y="328608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357192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05520" y="38577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52293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914000" y="4148280"/>
            <a:ext cx="423000" cy="1075680"/>
            <a:chOff x="4914000" y="4148280"/>
            <a:chExt cx="423000" cy="1075680"/>
          </a:xfrm>
        </p:grpSpPr>
        <p:sp>
          <p:nvSpPr>
            <p:cNvPr id="434" name=""/>
            <p:cNvSpPr/>
            <p:nvPr/>
          </p:nvSpPr>
          <p:spPr>
            <a:xfrm>
              <a:off x="49140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0552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10552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237800" y="4148280"/>
            <a:ext cx="423000" cy="1075680"/>
            <a:chOff x="7237800" y="4148280"/>
            <a:chExt cx="423000" cy="1075680"/>
          </a:xfrm>
        </p:grpSpPr>
        <p:sp>
          <p:nvSpPr>
            <p:cNvPr id="438" name=""/>
            <p:cNvSpPr/>
            <p:nvPr/>
          </p:nvSpPr>
          <p:spPr>
            <a:xfrm>
              <a:off x="72378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2968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42968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67684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7684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4200" y="35053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992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1992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33420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1992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3420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76840" y="4019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3420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1992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7684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47920" y="2228760"/>
            <a:ext cx="3048120" cy="1057320"/>
          </a:xfrm>
          <a:custGeom>
            <a:avLst/>
            <a:gdLst/>
            <a:ahLst/>
            <a:rect l="l" t="t" r="r" b="b"/>
            <a:pathLst>
              <a:path w="2076" h="666">
                <a:moveTo>
                  <a:pt x="0" y="0"/>
                </a:moveTo>
                <a:lnTo>
                  <a:pt x="0" y="288"/>
                </a:lnTo>
                <a:lnTo>
                  <a:pt x="2076" y="288"/>
                </a:lnTo>
                <a:lnTo>
                  <a:pt x="2076" y="666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90840" y="2228760"/>
            <a:ext cx="4552920" cy="3581640"/>
          </a:xfrm>
          <a:custGeom>
            <a:avLst/>
            <a:gdLst/>
            <a:ahLst/>
            <a:rect l="l" t="t" r="r" b="b"/>
            <a:pathLst>
              <a:path w="2868" h="2256">
                <a:moveTo>
                  <a:pt x="0" y="0"/>
                </a:moveTo>
                <a:lnTo>
                  <a:pt x="0" y="168"/>
                </a:lnTo>
                <a:lnTo>
                  <a:pt x="2868" y="168"/>
                </a:lnTo>
                <a:lnTo>
                  <a:pt x="2868" y="2256"/>
                </a:lnTo>
              </a:path>
            </a:pathLst>
          </a:custGeom>
          <a:noFill/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29160" y="581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67160" y="6000840"/>
            <a:ext cx="2876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26716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9342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62940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72104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81280" y="2228760"/>
            <a:ext cx="0" cy="10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056960" y="52578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056960" y="40194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056960" y="37242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056960" y="34574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485800" y="6067440"/>
            <a:ext cx="176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24400" y="5495760"/>
            <a:ext cx="723600" cy="343080"/>
          </a:xfrm>
          <a:custGeom>
            <a:avLst/>
            <a:gdLst/>
            <a:ahLst/>
            <a:rect l="l" t="t" r="r" b="b"/>
            <a:pathLst>
              <a:path w="456" h="216">
                <a:moveTo>
                  <a:pt x="0" y="0"/>
                </a:moveTo>
                <a:lnTo>
                  <a:pt x="0" y="216"/>
                </a:lnTo>
                <a:lnTo>
                  <a:pt x="456" y="2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48000" y="5600880"/>
            <a:ext cx="57168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524480" y="536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8200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60096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0544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2695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38360" y="330516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89040" y="3319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47800" y="3319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15440" y="32972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61600" y="32497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59040" y="26877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Wort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54560" y="2201760"/>
            <a:ext cx="26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Byte-Anwahl im 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656440" y="55641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Valid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485880" y="5648400"/>
            <a:ext cx="75960" cy="85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210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867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57216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14384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324240" y="2343240"/>
            <a:ext cx="123840" cy="1141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181320" y="2505240"/>
            <a:ext cx="123840" cy="114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724040" y="245736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39000" y="1935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61600" y="14209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38360" y="16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1200" y="1658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69440" y="2363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23920" y="2430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09920" y="2211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9380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6052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654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558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27320" y="6002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7810200" y="5952960"/>
            <a:ext cx="666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13400" y="60498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095680" y="576432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n/zu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57320" y="3305160"/>
            <a:ext cx="0" cy="219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865800" y="4029120"/>
            <a:ext cx="423000" cy="1076040"/>
            <a:chOff x="865800" y="4029120"/>
            <a:chExt cx="423000" cy="1076040"/>
          </a:xfrm>
        </p:grpSpPr>
        <p:sp>
          <p:nvSpPr>
            <p:cNvPr id="507" name=""/>
            <p:cNvSpPr/>
            <p:nvPr/>
          </p:nvSpPr>
          <p:spPr>
            <a:xfrm>
              <a:off x="865800" y="42753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56960" y="402912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056960" y="451800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057320" y="499104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57320" y="332424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5960" y="4029120"/>
            <a:ext cx="423000" cy="1076040"/>
            <a:chOff x="255960" y="4029120"/>
            <a:chExt cx="423000" cy="1076040"/>
          </a:xfrm>
        </p:grpSpPr>
        <p:sp>
          <p:nvSpPr>
            <p:cNvPr id="513" name=""/>
            <p:cNvSpPr/>
            <p:nvPr/>
          </p:nvSpPr>
          <p:spPr>
            <a:xfrm>
              <a:off x="255960" y="42753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7480" y="402912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447480" y="451800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447840" y="357192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47480" y="3305160"/>
            <a:ext cx="60948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7840" y="5086440"/>
            <a:ext cx="60948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2920" y="2724120"/>
            <a:ext cx="2114640" cy="3324240"/>
          </a:xfrm>
          <a:custGeom>
            <a:avLst/>
            <a:gdLst/>
            <a:ahLst/>
            <a:rect l="l" t="t" r="r" b="b"/>
            <a:pathLst>
              <a:path w="1332" h="2094">
                <a:moveTo>
                  <a:pt x="1032" y="0"/>
                </a:moveTo>
                <a:lnTo>
                  <a:pt x="0" y="0"/>
                </a:lnTo>
                <a:lnTo>
                  <a:pt x="0" y="2094"/>
                </a:lnTo>
                <a:lnTo>
                  <a:pt x="1332" y="20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0" y="5943600"/>
            <a:ext cx="4190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67080" y="549576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549160" y="1925640"/>
            <a:ext cx="618120" cy="307080"/>
            <a:chOff x="2549160" y="1925640"/>
            <a:chExt cx="618120" cy="307080"/>
          </a:xfrm>
        </p:grpSpPr>
        <p:sp>
          <p:nvSpPr>
            <p:cNvPr id="523" name=""/>
            <p:cNvSpPr/>
            <p:nvPr/>
          </p:nvSpPr>
          <p:spPr>
            <a:xfrm>
              <a:off x="2612880" y="1942920"/>
              <a:ext cx="530280" cy="28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49160" y="192564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99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57360" y="2228760"/>
            <a:ext cx="2066760" cy="1257480"/>
          </a:xfrm>
          <a:custGeom>
            <a:avLst/>
            <a:gdLst/>
            <a:ahLst/>
            <a:rect l="l" t="t" r="r" b="b"/>
            <a:pathLst>
              <a:path w="1302" h="792">
                <a:moveTo>
                  <a:pt x="1302" y="0"/>
                </a:moveTo>
                <a:lnTo>
                  <a:pt x="1302" y="486"/>
                </a:lnTo>
                <a:lnTo>
                  <a:pt x="0" y="486"/>
                </a:lnTo>
                <a:lnTo>
                  <a:pt x="0" y="792"/>
                </a:lnTo>
              </a:path>
            </a:pathLst>
          </a:custGeom>
          <a:noFill/>
          <a:ln w="1260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666520" y="2543040"/>
            <a:ext cx="104760" cy="1047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9720" y="244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4240" y="274464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Zeilen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28360" y="3306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28360" y="357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38685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12440" y="5116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89160" y="1150920"/>
            <a:ext cx="312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pazität: 25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lock = 4  Wörter = 1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99"/>
                </a:solidFill>
                <a:latin typeface="Arial"/>
              </a:rPr>
              <a:t>Merkmale des Direct Mapped Cach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8880" y="1117440"/>
            <a:ext cx="80218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c8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 Hardware-Realisierung (nur ein Verglei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ein Tag-Speic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c8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ugriff erfolgt schnell, weil das Tag-Feld parallel m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m zugehörigen Block gelesen werd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c8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ist kein Verdrängungsalgorithmus erforderlich, wei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irekte Zuordnung keine Alternativen zuläs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c8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 wenn an anderer Stelle im Cache noch Platz is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folgt wegen der direkten Zuordnung eine Erse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c800"/>
              </a:buClr>
              <a:buSzPct val="75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einem abwechselnden Zugriff auf Speicherblöck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en Adressen den gleichen Index-Teil haben, erfolg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ufendes Überschreiben des gerade gelade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s. Es kommt zum "Flattern" (tras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n-way-set-assoziativer 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228680" y="5629320"/>
            <a:ext cx="1828800" cy="28584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31920" y="4238640"/>
            <a:ext cx="18288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31920" y="3971880"/>
            <a:ext cx="18288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28680" y="3971880"/>
            <a:ext cx="1828800" cy="194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28680" y="5362560"/>
            <a:ext cx="18288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41280" y="562140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41280" y="534528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41280" y="394488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08960" y="35924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1903320" y="3981240"/>
            <a:ext cx="0" cy="19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03720" y="10969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028680" y="5915160"/>
            <a:ext cx="29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57480" y="2981160"/>
            <a:ext cx="2895480" cy="2935440"/>
          </a:xfrm>
          <a:custGeom>
            <a:avLst/>
            <a:gdLst/>
            <a:ahLst/>
            <a:rect l="l" t="t" r="r" b="b"/>
            <a:pathLst>
              <a:path w="1824" h="1849">
                <a:moveTo>
                  <a:pt x="1815" y="1681"/>
                </a:moveTo>
                <a:lnTo>
                  <a:pt x="429" y="1681"/>
                </a:lnTo>
                <a:lnTo>
                  <a:pt x="1824" y="1032"/>
                </a:lnTo>
                <a:lnTo>
                  <a:pt x="1820" y="864"/>
                </a:lnTo>
                <a:lnTo>
                  <a:pt x="544" y="1420"/>
                </a:lnTo>
                <a:lnTo>
                  <a:pt x="1824" y="184"/>
                </a:lnTo>
                <a:lnTo>
                  <a:pt x="1820" y="0"/>
                </a:lnTo>
                <a:lnTo>
                  <a:pt x="0" y="1506"/>
                </a:lnTo>
                <a:lnTo>
                  <a:pt x="0" y="1849"/>
                </a:lnTo>
                <a:lnTo>
                  <a:pt x="1815" y="1849"/>
                </a:lnTo>
              </a:path>
            </a:pathLst>
          </a:custGeom>
          <a:solidFill>
            <a:srgbClr val="66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1562040"/>
            <a:ext cx="2190600" cy="435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43600" y="1562040"/>
            <a:ext cx="2190600" cy="266760"/>
          </a:xfrm>
          <a:prstGeom prst="rect">
            <a:avLst/>
          </a:prstGeom>
          <a:solidFill>
            <a:srgbClr val="ffc36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43600" y="564840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17880" y="562140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69560" y="15350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43600" y="299088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4343400"/>
            <a:ext cx="2190600" cy="266760"/>
          </a:xfrm>
          <a:prstGeom prst="rect">
            <a:avLst/>
          </a:prstGeom>
          <a:solidFill>
            <a:srgbClr val="66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43600" y="5381640"/>
            <a:ext cx="21906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89760" y="20638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57480" y="1562040"/>
            <a:ext cx="2876760" cy="2933640"/>
          </a:xfrm>
          <a:custGeom>
            <a:avLst/>
            <a:gdLst/>
            <a:ahLst/>
            <a:rect l="l" t="t" r="r" b="b"/>
            <a:pathLst>
              <a:path w="1812" h="1848">
                <a:moveTo>
                  <a:pt x="1812" y="0"/>
                </a:moveTo>
                <a:lnTo>
                  <a:pt x="0" y="1510"/>
                </a:lnTo>
                <a:lnTo>
                  <a:pt x="0" y="1848"/>
                </a:lnTo>
                <a:lnTo>
                  <a:pt x="1812" y="174"/>
                </a:lnTo>
                <a:lnTo>
                  <a:pt x="1812" y="0"/>
                </a:lnTo>
                <a:close/>
              </a:path>
            </a:pathLst>
          </a:custGeom>
          <a:solidFill>
            <a:srgbClr val="ffc36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80080" y="20638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17880" y="53737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568560" y="432576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19240" y="29606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51000" y="421164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28680" y="4819680"/>
            <a:ext cx="1828800" cy="266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41280" y="507852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41280" y="480204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o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59480" y="4446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40400" y="44370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899120" y="34354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89440" y="34354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889760" y="47023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80080" y="47023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85760" y="5362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2480" y="5478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t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95480" y="48290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2480" y="49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04840" y="40006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3840" y="41162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t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495520" y="564840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2-way-set-assoziativer 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81440" y="345744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90800" y="37432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90800" y="40384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81440" y="53341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5360" y="1943280"/>
            <a:ext cx="308124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46400" y="1943280"/>
            <a:ext cx="21600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65640" y="1943280"/>
            <a:ext cx="21564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57280" y="330516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57280" y="359100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38360" y="5210280"/>
            <a:ext cx="17172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57280" y="521028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1008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38360" y="416232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10080" y="5210280"/>
            <a:ext cx="1713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38360" y="359100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610080" y="359100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0080" y="3305160"/>
            <a:ext cx="1713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57280" y="3876840"/>
            <a:ext cx="2324160" cy="285480"/>
            <a:chOff x="1457280" y="3876840"/>
            <a:chExt cx="2324160" cy="285480"/>
          </a:xfrm>
        </p:grpSpPr>
        <p:sp>
          <p:nvSpPr>
            <p:cNvPr id="600" name=""/>
            <p:cNvSpPr/>
            <p:nvPr/>
          </p:nvSpPr>
          <p:spPr>
            <a:xfrm>
              <a:off x="1457280" y="387684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38360" y="3876840"/>
              <a:ext cx="17172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080" y="3876840"/>
              <a:ext cx="17136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3589920" y="4411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81440" y="417204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781440" y="464796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265760" y="4143240"/>
            <a:ext cx="423000" cy="1076040"/>
            <a:chOff x="1265760" y="4143240"/>
            <a:chExt cx="423000" cy="1076040"/>
          </a:xfrm>
        </p:grpSpPr>
        <p:sp>
          <p:nvSpPr>
            <p:cNvPr id="607" name=""/>
            <p:cNvSpPr/>
            <p:nvPr/>
          </p:nvSpPr>
          <p:spPr>
            <a:xfrm>
              <a:off x="1265760" y="43894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57280" y="414324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1457280" y="463212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105520" y="328608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3571920"/>
            <a:ext cx="2324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05520" y="5229360"/>
            <a:ext cx="232416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914000" y="4148280"/>
            <a:ext cx="423000" cy="1075680"/>
            <a:chOff x="4914000" y="4148280"/>
            <a:chExt cx="423000" cy="1075680"/>
          </a:xfrm>
        </p:grpSpPr>
        <p:sp>
          <p:nvSpPr>
            <p:cNvPr id="614" name=""/>
            <p:cNvSpPr/>
            <p:nvPr/>
          </p:nvSpPr>
          <p:spPr>
            <a:xfrm>
              <a:off x="49140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0552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510552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237800" y="4148280"/>
            <a:ext cx="423000" cy="1075680"/>
            <a:chOff x="7237800" y="4148280"/>
            <a:chExt cx="423000" cy="1075680"/>
          </a:xfrm>
        </p:grpSpPr>
        <p:sp>
          <p:nvSpPr>
            <p:cNvPr id="618" name=""/>
            <p:cNvSpPr/>
            <p:nvPr/>
          </p:nvSpPr>
          <p:spPr>
            <a:xfrm>
              <a:off x="7237800" y="439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29680" y="4148280"/>
              <a:ext cx="0" cy="45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429680" y="4637160"/>
              <a:ext cx="0" cy="58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67684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7684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34200" y="35053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19920" y="34480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91992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34200" y="3738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105520" y="3848040"/>
            <a:ext cx="2324160" cy="295200"/>
            <a:chOff x="5105520" y="3848040"/>
            <a:chExt cx="2324160" cy="295200"/>
          </a:xfrm>
        </p:grpSpPr>
        <p:sp>
          <p:nvSpPr>
            <p:cNvPr id="628" name=""/>
            <p:cNvSpPr/>
            <p:nvPr/>
          </p:nvSpPr>
          <p:spPr>
            <a:xfrm>
              <a:off x="5105520" y="384804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919920" y="40096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34200" y="40096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676840" y="40096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33420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91992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76840" y="53816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47920" y="2228760"/>
            <a:ext cx="3048120" cy="1057320"/>
          </a:xfrm>
          <a:custGeom>
            <a:avLst/>
            <a:gdLst/>
            <a:ahLst/>
            <a:rect l="l" t="t" r="r" b="b"/>
            <a:pathLst>
              <a:path w="2076" h="666">
                <a:moveTo>
                  <a:pt x="0" y="0"/>
                </a:moveTo>
                <a:lnTo>
                  <a:pt x="0" y="288"/>
                </a:lnTo>
                <a:lnTo>
                  <a:pt x="2076" y="288"/>
                </a:lnTo>
                <a:lnTo>
                  <a:pt x="2076" y="666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90840" y="2228760"/>
            <a:ext cx="4552920" cy="3581640"/>
          </a:xfrm>
          <a:custGeom>
            <a:avLst/>
            <a:gdLst/>
            <a:ahLst/>
            <a:rect l="l" t="t" r="r" b="b"/>
            <a:pathLst>
              <a:path w="2868" h="2256">
                <a:moveTo>
                  <a:pt x="0" y="0"/>
                </a:moveTo>
                <a:lnTo>
                  <a:pt x="0" y="168"/>
                </a:lnTo>
                <a:lnTo>
                  <a:pt x="2868" y="168"/>
                </a:lnTo>
                <a:lnTo>
                  <a:pt x="2868" y="2256"/>
                </a:lnTo>
              </a:path>
            </a:pathLst>
          </a:custGeom>
          <a:noFill/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29160" y="581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67160" y="6000840"/>
            <a:ext cx="2876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26716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9342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62940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7210440" y="55148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81280" y="2228760"/>
            <a:ext cx="0" cy="10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485800" y="6067440"/>
            <a:ext cx="176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24400" y="5495760"/>
            <a:ext cx="723600" cy="343080"/>
          </a:xfrm>
          <a:custGeom>
            <a:avLst/>
            <a:gdLst/>
            <a:ahLst/>
            <a:rect l="l" t="t" r="r" b="b"/>
            <a:pathLst>
              <a:path w="456" h="216">
                <a:moveTo>
                  <a:pt x="0" y="0"/>
                </a:moveTo>
                <a:lnTo>
                  <a:pt x="0" y="216"/>
                </a:lnTo>
                <a:lnTo>
                  <a:pt x="456" y="2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48000" y="5600880"/>
            <a:ext cx="57168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524480" y="536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8200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0096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05440" y="5962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52480" y="269568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38360" y="3305160"/>
            <a:ext cx="17172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89040" y="3319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47800" y="3319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15440" y="32972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1600" y="32497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59040" y="26877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Wort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54560" y="2201760"/>
            <a:ext cx="26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Byte-Anwahl im 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23400" y="56404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Valid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485880" y="5648400"/>
            <a:ext cx="75960" cy="85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210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86728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657216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7143840" y="575784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324240" y="2343240"/>
            <a:ext cx="123840" cy="1141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81320" y="2505240"/>
            <a:ext cx="123840" cy="114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724040" y="2457360"/>
            <a:ext cx="123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39000" y="1935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61600" y="14209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38360" y="16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1200" y="1658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69440" y="2363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23920" y="2430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09920" y="2211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9380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960520" y="5630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654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55800" y="564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7320" y="6002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10200" y="5952960"/>
            <a:ext cx="666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813400" y="60498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g-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095680" y="576432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n/zu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57320" y="3305160"/>
            <a:ext cx="0" cy="219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65800" y="4029120"/>
            <a:ext cx="423000" cy="1076040"/>
            <a:chOff x="865800" y="4029120"/>
            <a:chExt cx="423000" cy="1076040"/>
          </a:xfrm>
        </p:grpSpPr>
        <p:sp>
          <p:nvSpPr>
            <p:cNvPr id="685" name=""/>
            <p:cNvSpPr/>
            <p:nvPr/>
          </p:nvSpPr>
          <p:spPr>
            <a:xfrm>
              <a:off x="865800" y="42753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56960" y="402912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056960" y="451800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1057320" y="499104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57320" y="332424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55960" y="4029120"/>
            <a:ext cx="423000" cy="1076040"/>
            <a:chOff x="255960" y="4029120"/>
            <a:chExt cx="423000" cy="1076040"/>
          </a:xfrm>
        </p:grpSpPr>
        <p:sp>
          <p:nvSpPr>
            <p:cNvPr id="691" name=""/>
            <p:cNvSpPr/>
            <p:nvPr/>
          </p:nvSpPr>
          <p:spPr>
            <a:xfrm>
              <a:off x="255960" y="42753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7480" y="4029120"/>
              <a:ext cx="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47480" y="4518000"/>
              <a:ext cx="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447840" y="357192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47480" y="3305160"/>
            <a:ext cx="60948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7840" y="5086440"/>
            <a:ext cx="60948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42920" y="2724120"/>
            <a:ext cx="2114640" cy="3324240"/>
          </a:xfrm>
          <a:custGeom>
            <a:avLst/>
            <a:gdLst/>
            <a:ahLst/>
            <a:rect l="l" t="t" r="r" b="b"/>
            <a:pathLst>
              <a:path w="1332" h="2094">
                <a:moveTo>
                  <a:pt x="1032" y="0"/>
                </a:moveTo>
                <a:lnTo>
                  <a:pt x="0" y="0"/>
                </a:lnTo>
                <a:lnTo>
                  <a:pt x="0" y="2094"/>
                </a:lnTo>
                <a:lnTo>
                  <a:pt x="1332" y="20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5943600"/>
            <a:ext cx="4190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549160" y="1925640"/>
            <a:ext cx="618120" cy="307080"/>
            <a:chOff x="2549160" y="1925640"/>
            <a:chExt cx="618120" cy="307080"/>
          </a:xfrm>
        </p:grpSpPr>
        <p:sp>
          <p:nvSpPr>
            <p:cNvPr id="700" name=""/>
            <p:cNvSpPr/>
            <p:nvPr/>
          </p:nvSpPr>
          <p:spPr>
            <a:xfrm>
              <a:off x="2612880" y="1942920"/>
              <a:ext cx="530280" cy="28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49160" y="192564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99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57360" y="2228760"/>
            <a:ext cx="2066760" cy="1257480"/>
          </a:xfrm>
          <a:custGeom>
            <a:avLst/>
            <a:gdLst/>
            <a:ahLst/>
            <a:rect l="l" t="t" r="r" b="b"/>
            <a:pathLst>
              <a:path w="1302" h="792">
                <a:moveTo>
                  <a:pt x="1302" y="0"/>
                </a:moveTo>
                <a:lnTo>
                  <a:pt x="1302" y="486"/>
                </a:lnTo>
                <a:lnTo>
                  <a:pt x="0" y="486"/>
                </a:lnTo>
                <a:lnTo>
                  <a:pt x="0" y="792"/>
                </a:lnTo>
              </a:path>
            </a:pathLst>
          </a:custGeom>
          <a:noFill/>
          <a:ln w="1260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666520" y="2543040"/>
            <a:ext cx="104760" cy="1047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39720" y="244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7600" y="274464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Satz-Anwa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9120" y="344016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7560" y="40212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8200" y="499284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105520" y="4133880"/>
            <a:ext cx="2324160" cy="295200"/>
            <a:chOff x="5105520" y="4133880"/>
            <a:chExt cx="2324160" cy="295200"/>
          </a:xfrm>
        </p:grpSpPr>
        <p:sp>
          <p:nvSpPr>
            <p:cNvPr id="710" name=""/>
            <p:cNvSpPr/>
            <p:nvPr/>
          </p:nvSpPr>
          <p:spPr>
            <a:xfrm>
              <a:off x="5105520" y="413388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19920" y="429552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34200" y="429552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76840" y="429552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105520" y="4943520"/>
            <a:ext cx="2324160" cy="295200"/>
            <a:chOff x="5105520" y="4943520"/>
            <a:chExt cx="2324160" cy="295200"/>
          </a:xfrm>
        </p:grpSpPr>
        <p:sp>
          <p:nvSpPr>
            <p:cNvPr id="715" name=""/>
            <p:cNvSpPr/>
            <p:nvPr/>
          </p:nvSpPr>
          <p:spPr>
            <a:xfrm>
              <a:off x="5105520" y="494352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19920" y="510516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34200" y="510516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76840" y="510516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105520" y="4429080"/>
            <a:ext cx="23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095800" y="4933800"/>
            <a:ext cx="233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457280" y="4162320"/>
            <a:ext cx="2324160" cy="285480"/>
            <a:chOff x="1457280" y="4162320"/>
            <a:chExt cx="2324160" cy="285480"/>
          </a:xfrm>
        </p:grpSpPr>
        <p:sp>
          <p:nvSpPr>
            <p:cNvPr id="722" name=""/>
            <p:cNvSpPr/>
            <p:nvPr/>
          </p:nvSpPr>
          <p:spPr>
            <a:xfrm>
              <a:off x="1457280" y="416232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38360" y="4162320"/>
              <a:ext cx="17172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10080" y="4162320"/>
              <a:ext cx="17136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457280" y="4924440"/>
            <a:ext cx="2324160" cy="285480"/>
            <a:chOff x="1457280" y="4924440"/>
            <a:chExt cx="2324160" cy="285480"/>
          </a:xfrm>
        </p:grpSpPr>
        <p:sp>
          <p:nvSpPr>
            <p:cNvPr id="726" name=""/>
            <p:cNvSpPr/>
            <p:nvPr/>
          </p:nvSpPr>
          <p:spPr>
            <a:xfrm>
              <a:off x="1457280" y="4924440"/>
              <a:ext cx="2324160" cy="28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38360" y="4924440"/>
              <a:ext cx="17172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10080" y="4924440"/>
              <a:ext cx="17136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457280" y="4915080"/>
            <a:ext cx="232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457280" y="3867120"/>
            <a:ext cx="232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282680" y="3314880"/>
            <a:ext cx="88920" cy="514080"/>
          </a:xfrm>
          <a:custGeom>
            <a:avLst/>
            <a:gdLst>
              <a:gd name="textAreaLeft" fmla="*/ 56880 w 88920"/>
              <a:gd name="textAreaRight" fmla="*/ 89280 w 88920"/>
              <a:gd name="textAreaTop" fmla="*/ 13320 h 514080"/>
              <a:gd name="textAreaBottom" fmla="*/ 500760 h 51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82680" y="3905280"/>
            <a:ext cx="88920" cy="514440"/>
          </a:xfrm>
          <a:custGeom>
            <a:avLst/>
            <a:gdLst>
              <a:gd name="textAreaLeft" fmla="*/ 56880 w 88920"/>
              <a:gd name="textAreaRight" fmla="*/ 89280 w 889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92400" y="4971960"/>
            <a:ext cx="88560" cy="514440"/>
          </a:xfrm>
          <a:custGeom>
            <a:avLst/>
            <a:gdLst>
              <a:gd name="textAreaLeft" fmla="*/ 56520 w 88560"/>
              <a:gd name="textAreaRight" fmla="*/ 88920 w 8856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57320" y="5153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66680" y="4172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57320" y="35719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781440" y="42958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90800" y="508644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42920" y="57816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95360" y="5638680"/>
            <a:ext cx="4194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2495160" y="5495760"/>
            <a:ext cx="97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4480" y="5753160"/>
            <a:ext cx="5364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89160" y="1150920"/>
            <a:ext cx="312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pazität: 25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lock = 4  Wörter = 16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n-Way Set Associative Cach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6560" y="1380960"/>
            <a:ext cx="821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Zum Auffinden eines Datums müssen alle n Tags m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emselben Index parallel verglich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er Aufwand steigt mit der Zahl n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ür große n nähert sich der Aufwand 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oll-assoziativen 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ompromiß zwischen Direct Mapped Cache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nd voll-assoziativem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Beispiel: Organisation eines Caches mit 8 Speicherplätze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93200" y="2201760"/>
            <a:ext cx="2364480" cy="3074760"/>
            <a:chOff x="493200" y="2201760"/>
            <a:chExt cx="2364480" cy="3074760"/>
          </a:xfrm>
        </p:grpSpPr>
        <p:sp>
          <p:nvSpPr>
            <p:cNvPr id="748" name=""/>
            <p:cNvSpPr/>
            <p:nvPr/>
          </p:nvSpPr>
          <p:spPr>
            <a:xfrm>
              <a:off x="493200" y="2201760"/>
              <a:ext cx="236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lock #  0  1  2  3  4  5  6 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8560" y="296532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1600" y="42796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285920" y="2486160"/>
              <a:ext cx="1485360" cy="2790360"/>
              <a:chOff x="1285920" y="2486160"/>
              <a:chExt cx="1485360" cy="27903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1285920" y="2486160"/>
                <a:ext cx="1485360" cy="2285640"/>
                <a:chOff x="1285920" y="2486160"/>
                <a:chExt cx="1485360" cy="228564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128592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71320" y="2486160"/>
                  <a:ext cx="18576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65744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84284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02860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214360" y="2486160"/>
                  <a:ext cx="18576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40012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58588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285920" y="3771720"/>
                  <a:ext cx="1485360" cy="387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771280" y="3782160"/>
                  <a:ext cx="0" cy="36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85920" y="3782160"/>
                  <a:ext cx="0" cy="36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 flipV="1">
                <a:off x="2114640" y="4762080"/>
                <a:ext cx="0" cy="51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985400" y="4199040"/>
                <a:ext cx="2660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6" name=""/>
          <p:cNvGrpSpPr/>
          <p:nvPr/>
        </p:nvGrpSpPr>
        <p:grpSpPr>
          <a:xfrm>
            <a:off x="3272400" y="2211480"/>
            <a:ext cx="2223000" cy="3065040"/>
            <a:chOff x="3272400" y="2211480"/>
            <a:chExt cx="2223000" cy="3065040"/>
          </a:xfrm>
        </p:grpSpPr>
        <p:sp>
          <p:nvSpPr>
            <p:cNvPr id="767" name=""/>
            <p:cNvSpPr/>
            <p:nvPr/>
          </p:nvSpPr>
          <p:spPr>
            <a:xfrm>
              <a:off x="3273840" y="2211480"/>
              <a:ext cx="209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atz #   0     1      2     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4010040" y="2486160"/>
              <a:ext cx="1485360" cy="2790360"/>
              <a:chOff x="4010040" y="2486160"/>
              <a:chExt cx="1485360" cy="279036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4010040" y="2486160"/>
                <a:ext cx="1485360" cy="2285640"/>
                <a:chOff x="4010040" y="2486160"/>
                <a:chExt cx="1485360" cy="228564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401004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95440" y="2486160"/>
                  <a:ext cx="18576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38156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56696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5272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938480" y="2486160"/>
                  <a:ext cx="18576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12424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1000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010040" y="3771720"/>
                  <a:ext cx="1485360" cy="387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495400" y="3782160"/>
                  <a:ext cx="0" cy="36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010040" y="3782160"/>
                  <a:ext cx="0" cy="36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"/>
              <p:cNvSpPr/>
              <p:nvPr/>
            </p:nvSpPr>
            <p:spPr>
              <a:xfrm flipV="1">
                <a:off x="4286160" y="4762080"/>
                <a:ext cx="0" cy="51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156920" y="4199040"/>
                <a:ext cx="2660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4086000" y="4762080"/>
                <a:ext cx="0" cy="51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3272400" y="29700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75440" y="42796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415560" y="2486160"/>
            <a:ext cx="2242080" cy="2790720"/>
            <a:chOff x="6415560" y="2486160"/>
            <a:chExt cx="2242080" cy="2790720"/>
          </a:xfrm>
        </p:grpSpPr>
        <p:grpSp>
          <p:nvGrpSpPr>
            <p:cNvPr id="787" name=""/>
            <p:cNvGrpSpPr/>
            <p:nvPr/>
          </p:nvGrpSpPr>
          <p:grpSpPr>
            <a:xfrm>
              <a:off x="7172280" y="2486160"/>
              <a:ext cx="1485360" cy="2790720"/>
              <a:chOff x="7172280" y="2486160"/>
              <a:chExt cx="1485360" cy="27907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7172280" y="2486160"/>
                <a:ext cx="1485360" cy="2285640"/>
                <a:chOff x="7172280" y="2486160"/>
                <a:chExt cx="1485360" cy="22856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717228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357680" y="2486160"/>
                  <a:ext cx="18576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54380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72920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91496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100720" y="2486160"/>
                  <a:ext cx="18576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28648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472240" y="2486160"/>
                  <a:ext cx="185400" cy="2285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172280" y="3771720"/>
                  <a:ext cx="1485360" cy="387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657640" y="3782160"/>
                  <a:ext cx="0" cy="36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172280" y="3782160"/>
                  <a:ext cx="0" cy="36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 flipV="1">
                <a:off x="7448400" y="4762800"/>
                <a:ext cx="0" cy="51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243280" y="4189680"/>
                <a:ext cx="2660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7248600" y="4762800"/>
                <a:ext cx="0" cy="51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829640" y="4752720"/>
                <a:ext cx="0" cy="51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7629480" y="4752720"/>
                <a:ext cx="0" cy="51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8181720" y="4762800"/>
                <a:ext cx="0" cy="51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7981920" y="4762800"/>
                <a:ext cx="0" cy="51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8572320" y="4762800"/>
                <a:ext cx="0" cy="51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8372520" y="4762800"/>
                <a:ext cx="0" cy="51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6415560" y="29700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571080" y="42796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019240" y="2476440"/>
            <a:ext cx="200160" cy="1295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2486160"/>
            <a:ext cx="190440" cy="1295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267760" y="2476440"/>
            <a:ext cx="209520" cy="1295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7920" y="132552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-mappe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t-associativ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lly 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5960" y="4913280"/>
            <a:ext cx="688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ch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ch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1080" y="1066680"/>
            <a:ext cx="879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Aufgabe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8600" y="1201680"/>
            <a:ext cx="82994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einem Mikroprozessorsystem mit 32-bit-Datenzugriff auf den Hauptspeicher ist ein Daten-Cache vorhanden. Das Laden des Caches erfolgt in Blöcken von je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ytes, d.h. von zwei Wörtern. Die Hauptspeicheradresse umfasst 24 Bits; die Cache-Kapazität beträgt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256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Byt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66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ben Sie die Anzahl der Cache-Zeilen an und skizzieren Sie die Unterteilung der Hauptspeicheradresse für direct-mapped-Cache DM , vollassoziativen Cache AV und 4-way-set-assoziativ-Cache A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1840" y="1220760"/>
            <a:ext cx="858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Lösu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14000" y="1268280"/>
            <a:ext cx="7471080" cy="869400"/>
            <a:chOff x="414000" y="1268280"/>
            <a:chExt cx="7471080" cy="869400"/>
          </a:xfrm>
        </p:grpSpPr>
        <p:sp>
          <p:nvSpPr>
            <p:cNvPr id="821" name=""/>
            <p:cNvSpPr/>
            <p:nvPr/>
          </p:nvSpPr>
          <p:spPr>
            <a:xfrm>
              <a:off x="414000" y="1477800"/>
              <a:ext cx="22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ache-Zeilen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16840" y="1268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ache-Kapazitä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968920" y="167796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lockgröß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676600" y="1704960"/>
              <a:ext cx="232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16320" y="1487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93040" y="163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27080" y="1297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62720" y="1704960"/>
              <a:ext cx="61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89480" y="146844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= 32 Zei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944640" y="2728800"/>
            <a:ext cx="6703560" cy="2595240"/>
            <a:chOff x="944640" y="2728800"/>
            <a:chExt cx="6703560" cy="2595240"/>
          </a:xfrm>
        </p:grpSpPr>
        <p:sp>
          <p:nvSpPr>
            <p:cNvPr id="831" name=""/>
            <p:cNvSpPr/>
            <p:nvPr/>
          </p:nvSpPr>
          <p:spPr>
            <a:xfrm>
              <a:off x="5245920" y="2781360"/>
              <a:ext cx="2391840" cy="34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22240" y="2766240"/>
              <a:ext cx="239148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41480" y="2781360"/>
              <a:ext cx="1195920" cy="34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722240" y="4976280"/>
              <a:ext cx="239148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27720" y="2766240"/>
              <a:ext cx="1494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27720" y="4976280"/>
              <a:ext cx="1494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953520" y="2766240"/>
              <a:ext cx="0" cy="3477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43080" y="4976280"/>
              <a:ext cx="0" cy="3477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13720" y="3114360"/>
              <a:ext cx="0" cy="1876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22240" y="3114360"/>
              <a:ext cx="0" cy="1876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44640" y="272880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Zeile: 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028880" y="4937760"/>
              <a:ext cx="70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Zeile: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90680" y="3825720"/>
              <a:ext cx="0" cy="559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45920" y="4915440"/>
              <a:ext cx="2391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52640" y="4915440"/>
              <a:ext cx="119556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37760" y="3053520"/>
              <a:ext cx="0" cy="1876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245920" y="3129480"/>
              <a:ext cx="0" cy="1876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02240" y="292500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90240" y="292500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100200" y="292500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66320" y="507456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54320" y="507456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63920" y="507456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51440" y="505908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39800" y="505908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349400" y="505908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40640" y="292500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29000" y="292500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38960" y="292500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124520" y="2932920"/>
              <a:ext cx="113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35320" y="5127120"/>
              <a:ext cx="113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Arial"/>
              </a:rPr>
              <a:t>Lösu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457560" y="3087720"/>
            <a:ext cx="7770600" cy="1603440"/>
            <a:chOff x="457560" y="3087720"/>
            <a:chExt cx="7770600" cy="1603440"/>
          </a:xfrm>
        </p:grpSpPr>
        <p:sp>
          <p:nvSpPr>
            <p:cNvPr id="864" name=""/>
            <p:cNvSpPr/>
            <p:nvPr/>
          </p:nvSpPr>
          <p:spPr>
            <a:xfrm>
              <a:off x="1371600" y="3790800"/>
              <a:ext cx="48387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48200" y="3790800"/>
              <a:ext cx="12384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076800" y="406728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34080" y="4062240"/>
              <a:ext cx="0" cy="1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610240" y="4062240"/>
              <a:ext cx="0" cy="1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05480" y="4062240"/>
              <a:ext cx="0" cy="1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72280" y="4062240"/>
              <a:ext cx="0" cy="1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38720" y="379080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52320" y="3576600"/>
              <a:ext cx="116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7 6 5 4 3 2 1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38720" y="4295880"/>
              <a:ext cx="60012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40720" y="432288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cc99"/>
                  </a:solidFill>
                  <a:latin typeface="Arial"/>
                </a:rPr>
                <a:t>Zeilen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21200" y="3567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57560" y="30877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46280" y="38275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2 Zeil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498960" y="4630680"/>
            <a:ext cx="8644320" cy="1670040"/>
            <a:chOff x="498960" y="4630680"/>
            <a:chExt cx="8644320" cy="1670040"/>
          </a:xfrm>
        </p:grpSpPr>
        <p:sp>
          <p:nvSpPr>
            <p:cNvPr id="879" name=""/>
            <p:cNvSpPr/>
            <p:nvPr/>
          </p:nvSpPr>
          <p:spPr>
            <a:xfrm>
              <a:off x="1400040" y="5477040"/>
              <a:ext cx="483876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77000" y="5477040"/>
              <a:ext cx="1238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05600" y="57531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62520" y="574848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638680" y="574848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495760" y="547704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80200" y="5243400"/>
              <a:ext cx="94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5 4 3 2 1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40280" y="5253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8960" y="4630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94720" y="5465880"/>
              <a:ext cx="224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2 Zeilen </a:t>
              </a:r>
              <a:r>
                <a:rPr b="0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8 Sät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486400" y="5962680"/>
              <a:ext cx="45720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50880" y="5932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cc"/>
                  </a:solidFill>
                  <a:latin typeface="Arial"/>
                </a:rPr>
                <a:t>Satz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379440" y="124920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teilung der HPS-Adre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71960" y="1868400"/>
            <a:ext cx="7769520" cy="1260720"/>
            <a:chOff x="471960" y="1868400"/>
            <a:chExt cx="7769520" cy="1260720"/>
          </a:xfrm>
        </p:grpSpPr>
        <p:sp>
          <p:nvSpPr>
            <p:cNvPr id="893" name=""/>
            <p:cNvSpPr/>
            <p:nvPr/>
          </p:nvSpPr>
          <p:spPr>
            <a:xfrm>
              <a:off x="6466680" y="2643120"/>
              <a:ext cx="177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Arial"/>
                </a:rPr>
                <a:t>Byte-Adresse im W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338800" y="285264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cc66"/>
                  </a:solidFill>
                  <a:latin typeface="Arial"/>
                </a:rPr>
                <a:t>Wortadresse im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19720" y="2629080"/>
              <a:ext cx="285840" cy="142560"/>
            </a:xfrm>
            <a:custGeom>
              <a:avLst/>
              <a:gdLst/>
              <a:ahLst/>
              <a:rect l="l" t="t" r="r" b="b"/>
              <a:pathLst>
                <a:path w="180" h="90">
                  <a:moveTo>
                    <a:pt x="0" y="0"/>
                  </a:moveTo>
                  <a:lnTo>
                    <a:pt x="0" y="90"/>
                  </a:lnTo>
                  <a:lnTo>
                    <a:pt x="180" y="9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29280" y="2629080"/>
              <a:ext cx="0" cy="247320"/>
            </a:xfrm>
            <a:prstGeom prst="line">
              <a:avLst/>
            </a:prstGeom>
            <a:ln w="1260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67000" y="2238480"/>
              <a:ext cx="4838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943600" y="2238480"/>
              <a:ext cx="1238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72200" y="251460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862600" y="20239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2 1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16240" y="20145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1960" y="18684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2939760" y="2239920"/>
            <a:ext cx="619560" cy="3627720"/>
            <a:chOff x="2939760" y="2239920"/>
            <a:chExt cx="619560" cy="3627720"/>
          </a:xfrm>
        </p:grpSpPr>
        <p:sp>
          <p:nvSpPr>
            <p:cNvPr id="904" name=""/>
            <p:cNvSpPr/>
            <p:nvPr/>
          </p:nvSpPr>
          <p:spPr>
            <a:xfrm>
              <a:off x="2939760" y="2239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Arial"/>
                </a:rPr>
                <a:t>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39760" y="37735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Arial"/>
                </a:rPr>
                <a:t>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39760" y="54687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Arial"/>
                </a:rPr>
                <a:t>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Erzielbare Cache-Trefferquo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98080" y="110952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ch Unterlagen der Firma Int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5920" y="5253120"/>
            <a:ext cx="8340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ache-Größen &lt; 64 kByte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2-Way Set Associative Cache besser als Direct Mapped Cach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ache-Größen </a:t>
            </a:r>
            <a:r>
              <a:rPr b="1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64 kByte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 kaum noch Unterschi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071720" y="1658880"/>
          <a:ext cx="6967440" cy="35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658880"/>
                    <a:ext cx="696744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Erzielbare Cache-Trefferquo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27040" y="1098720"/>
            <a:ext cx="819936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Nach Untersuchungen von Agarwal, Hennessy und Horowitz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ine Cache-Trefferquote von circa 94% kann bei einem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64 kByte großen Cachespeicher erreicht werden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(selbstverständlich gilt: je größer der Cachespeicher, desto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rößer die Trefferquot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etrennte Daten- und Befehls-Cachespeicher sind bei sehr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leinen Cachespeichergrößen vorteilhaft, fallen jedoch bei 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Cachespeichergrößen ab ca. 8 KByte nicht mehr ins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3333cc"/>
              </a:buClr>
              <a:buSzPct val="75000"/>
              <a:buFont typeface="Monotype Sorts" charset="2"/>
              <a:buChar char="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ei Cachespeichergrößen ab 64 KByte sind Direct Mapped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Cachespeicher mit ihrer Trefferquote nur wenig schlechter 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ls Cachespeicher mit Assoziativität 2 oder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Erzielbare Cache-Trefferquote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31280" y="1414440"/>
            <a:ext cx="7900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ll-assoziative Cachespeicher werden heute nur für sehr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leine auf dem Chip integrierte Caches mit 32 bis 128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trägen verwend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i größeren Cachespeichern findet sich zur Zeit ein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rend zur Direct Mapped Organisation oder 2 - 4 fach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ssoziativer Organis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Verwendung mehrerer Cach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40640" y="1268280"/>
            <a:ext cx="827316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ft findet sich eine mehrstufige Cache-Organis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f dem Prozessor-Chip befindet sich der sogenann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400" spc="-1" strike="noStrike">
                <a:solidFill>
                  <a:srgbClr val="0000f0"/>
                </a:solidFill>
                <a:latin typeface="Arial"/>
              </a:rPr>
              <a:t>First-Level-Cache </a:t>
            </a:r>
            <a:r>
              <a:rPr b="0" sz="2400" spc="-1" strike="noStrike">
                <a:solidFill>
                  <a:srgbClr val="0000f0"/>
                </a:solidFill>
                <a:latin typeface="Arial"/>
              </a:rPr>
              <a:t>(</a:t>
            </a:r>
            <a:r>
              <a:rPr b="1" i="1" sz="2400" spc="-1" strike="noStrike">
                <a:solidFill>
                  <a:srgbClr val="0000f0"/>
                </a:solidFill>
                <a:latin typeface="Arial"/>
              </a:rPr>
              <a:t>On-Chip-Cache</a:t>
            </a:r>
            <a:r>
              <a:rPr b="0" sz="2400" spc="-1" strike="noStrike">
                <a:solidFill>
                  <a:srgbClr val="0000f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äufig getrennte On-Chip-Caches: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Befehlscach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fü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efehle und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atencach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für die Daten. </a:t>
            </a:r>
            <a:br>
              <a:rPr sz="2400"/>
            </a:b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aralleler Zugriff auf Programm und Daten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odurch die hohen Anforderungen bei heutig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uperskalar-Prozessoren an die Speicherbandbreit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rfüllt werden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5524560" y="1434960"/>
            <a:ext cx="876240" cy="3861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031840" y="2438280"/>
            <a:ext cx="2984760" cy="1739880"/>
          </a:xfrm>
          <a:prstGeom prst="rect">
            <a:avLst/>
          </a:prstGeom>
          <a:solidFill>
            <a:srgbClr val="ffe2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838600" y="3726720"/>
            <a:ext cx="1155600" cy="12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83360" y="2666880"/>
            <a:ext cx="24120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0" y="192"/>
                </a:moveTo>
                <a:lnTo>
                  <a:pt x="0" y="0"/>
                </a:lnTo>
                <a:lnTo>
                  <a:pt x="15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44720" y="2959200"/>
            <a:ext cx="415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35640" y="1536840"/>
            <a:ext cx="876240" cy="3860640"/>
          </a:xfrm>
          <a:prstGeom prst="rect">
            <a:avLst/>
          </a:prstGeom>
          <a:solidFill>
            <a:srgbClr val="c5e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879560" y="3733920"/>
            <a:ext cx="5905440" cy="761760"/>
          </a:xfrm>
          <a:custGeom>
            <a:avLst/>
            <a:gdLst/>
            <a:ahLst/>
            <a:rect l="l" t="t" r="r" b="b"/>
            <a:pathLst>
              <a:path w="3720" h="480">
                <a:moveTo>
                  <a:pt x="0" y="0"/>
                </a:moveTo>
                <a:lnTo>
                  <a:pt x="0" y="480"/>
                </a:lnTo>
                <a:lnTo>
                  <a:pt x="2160" y="480"/>
                </a:lnTo>
                <a:lnTo>
                  <a:pt x="2160" y="96"/>
                </a:lnTo>
                <a:lnTo>
                  <a:pt x="372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01920" y="1955880"/>
            <a:ext cx="4432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Anbindung des Caches an den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19040" y="1600200"/>
            <a:ext cx="1219320" cy="3720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59800" y="1701720"/>
            <a:ext cx="1079280" cy="3479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89120" y="1955880"/>
            <a:ext cx="1638360" cy="787320"/>
          </a:xfrm>
          <a:custGeom>
            <a:avLst/>
            <a:gdLst/>
            <a:ahLst/>
            <a:rect l="l" t="t" r="r" b="b"/>
            <a:pathLst>
              <a:path w="1128" h="184">
                <a:moveTo>
                  <a:pt x="0" y="0"/>
                </a:moveTo>
                <a:lnTo>
                  <a:pt x="1128" y="0"/>
                </a:lnTo>
                <a:lnTo>
                  <a:pt x="1128" y="184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300760" y="153504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ress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301840" y="45194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5400000">
            <a:off x="1977480" y="3063960"/>
            <a:ext cx="1187640" cy="53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eu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5400000">
            <a:off x="2727000" y="3063600"/>
            <a:ext cx="1187640" cy="5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ag-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5400000">
            <a:off x="3842280" y="2883600"/>
            <a:ext cx="1187640" cy="90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n-RAM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S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94160" y="1955880"/>
            <a:ext cx="0" cy="79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90200" y="20368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-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5590800" y="1685880"/>
            <a:ext cx="539640" cy="527040"/>
            <a:chOff x="5590800" y="1685880"/>
            <a:chExt cx="539640" cy="527040"/>
          </a:xfrm>
        </p:grpSpPr>
        <p:sp>
          <p:nvSpPr>
            <p:cNvPr id="938" name=""/>
            <p:cNvSpPr/>
            <p:nvPr/>
          </p:nvSpPr>
          <p:spPr>
            <a:xfrm rot="5400000">
              <a:off x="5596920" y="1679400"/>
              <a:ext cx="52704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5400000">
              <a:off x="5689440" y="1778040"/>
              <a:ext cx="355680" cy="34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590800" y="3641760"/>
            <a:ext cx="539640" cy="527040"/>
            <a:chOff x="5590800" y="3641760"/>
            <a:chExt cx="539640" cy="527040"/>
          </a:xfrm>
        </p:grpSpPr>
        <p:sp>
          <p:nvSpPr>
            <p:cNvPr id="941" name=""/>
            <p:cNvSpPr/>
            <p:nvPr/>
          </p:nvSpPr>
          <p:spPr>
            <a:xfrm rot="5400000">
              <a:off x="5596920" y="3635280"/>
              <a:ext cx="52704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5400000">
              <a:off x="5689440" y="3733560"/>
              <a:ext cx="3553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1638360" y="373392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06760" y="3936960"/>
            <a:ext cx="0" cy="8892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44480" y="4883040"/>
            <a:ext cx="3975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5628960" y="4378320"/>
            <a:ext cx="539640" cy="907920"/>
            <a:chOff x="5628960" y="4378320"/>
            <a:chExt cx="539640" cy="907920"/>
          </a:xfrm>
        </p:grpSpPr>
        <p:sp>
          <p:nvSpPr>
            <p:cNvPr id="947" name=""/>
            <p:cNvSpPr/>
            <p:nvPr/>
          </p:nvSpPr>
          <p:spPr>
            <a:xfrm rot="5400000">
              <a:off x="5444640" y="4562280"/>
              <a:ext cx="90792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5400000">
              <a:off x="5727240" y="4470120"/>
              <a:ext cx="355320" cy="34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16200000">
              <a:off x="5727240" y="4800600"/>
              <a:ext cx="355680" cy="34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6184800" y="478800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120760" y="2577960"/>
            <a:ext cx="1587600" cy="149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01480" y="4176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ue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60480" y="2055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45200" y="2921040"/>
            <a:ext cx="7128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41400" y="3708360"/>
            <a:ext cx="716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81720" y="54212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201080" y="1486080"/>
            <a:ext cx="0" cy="436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18320" y="1486080"/>
            <a:ext cx="0" cy="4368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72480" y="1486080"/>
            <a:ext cx="0" cy="4330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401880" y="59040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409360" y="2529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921360" y="2908440"/>
            <a:ext cx="716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934320" y="3848040"/>
            <a:ext cx="712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505480" y="105264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cc66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Anbindung des Caches an den Systemb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2680" y="1278000"/>
            <a:ext cx="83296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0"/>
                </a:solidFill>
                <a:latin typeface="Arial"/>
              </a:rPr>
              <a:t>Cache-Controll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g-RAM + Steuerung + Tag-Komparator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Da dieser sehr schnell sein muß </a:t>
            </a:r>
            <a:r>
              <a:rPr b="0" lang="de-DE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uf einem Chip integr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speicher selbst ist seperat mit SRAM-Bausteinen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uf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Cache-Controller übernimmt die Steuerung der Treiber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zum Systembus (Systembuszugriff nur bei Cache-Miss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onst ist der Systembus für andere Komponenten frei)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owie der Systembussignale zur Einfügung vo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artezyklen bei Cache-Miss (READY, HOLD, HOLDA, 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765800" y="278748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ENDE- vl-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Speicherhierarchi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9760" y="1481040"/>
            <a:ext cx="8124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960" y="1249200"/>
            <a:ext cx="8145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Buszykluszeit moderner Prozessoren ist erheblich kürzer als die Zykluszeit preiswerter, großer DRAM-Bau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s zwingt zum Einfügen von Wartezykl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SRAM-Bausteine hingegen, die ohne Wartezyklen betrieb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 können, sind jedoch klein, teuer und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leistungsintensi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nur kleine Speicher können so aufgebaut wer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0600" y="1066680"/>
            <a:ext cx="82868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360" y="1116000"/>
            <a:ext cx="829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CPU-Cache-Speiche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ersteht man ein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kleinen, schnellen Pufferspeicher, in dem Kopien derjenigen Teile des Arbeitsspeichers bereitgehal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werden, auf die aller Wahrscheinlichkeit nach von der CPU als nächstes zugegriffen wir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65160" y="3249720"/>
            <a:ext cx="6566040" cy="3027960"/>
            <a:chOff x="965160" y="3249720"/>
            <a:chExt cx="6566040" cy="3027960"/>
          </a:xfrm>
        </p:grpSpPr>
        <p:sp>
          <p:nvSpPr>
            <p:cNvPr id="73" name=""/>
            <p:cNvSpPr/>
            <p:nvPr/>
          </p:nvSpPr>
          <p:spPr>
            <a:xfrm>
              <a:off x="965160" y="3308400"/>
              <a:ext cx="1117800" cy="285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3400" y="3308400"/>
              <a:ext cx="1117800" cy="285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pei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90840" y="4013280"/>
              <a:ext cx="180360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16680" y="41007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52960" y="4686480"/>
              <a:ext cx="1041480" cy="139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52960" y="4978440"/>
              <a:ext cx="1041480" cy="139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5400000">
              <a:off x="3206520" y="4210200"/>
              <a:ext cx="1168200" cy="78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eu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13400" y="3848400"/>
              <a:ext cx="1117800" cy="164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13400" y="5220000"/>
              <a:ext cx="1117800" cy="164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2960" y="3632400"/>
              <a:ext cx="433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84600" y="3632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2960" y="5905800"/>
              <a:ext cx="433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73520" y="5168880"/>
              <a:ext cx="0" cy="74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70000" y="4356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94440" y="4330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02000" y="5384880"/>
              <a:ext cx="1828800" cy="292320"/>
            </a:xfrm>
            <a:custGeom>
              <a:avLst/>
              <a:gdLst/>
              <a:ahLst/>
              <a:rect l="l" t="t" r="r" b="b"/>
              <a:pathLst>
                <a:path w="1152" h="184">
                  <a:moveTo>
                    <a:pt x="0" y="184"/>
                  </a:moveTo>
                  <a:lnTo>
                    <a:pt x="1152" y="184"/>
                  </a:lnTo>
                  <a:lnTo>
                    <a:pt x="11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38760" y="5257800"/>
              <a:ext cx="1523880" cy="432000"/>
            </a:xfrm>
            <a:custGeom>
              <a:avLst/>
              <a:gdLst/>
              <a:ahLst/>
              <a:rect l="l" t="t" r="r" b="b"/>
              <a:pathLst>
                <a:path w="704" h="184">
                  <a:moveTo>
                    <a:pt x="0" y="0"/>
                  </a:moveTo>
                  <a:lnTo>
                    <a:pt x="0" y="184"/>
                  </a:lnTo>
                  <a:lnTo>
                    <a:pt x="704" y="1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02800" y="324972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ress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7920" y="587880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ten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50640" y="40118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euer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22320" y="53326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erarbei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6000" y="5332680"/>
              <a:ext cx="16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-/auslag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99"/>
                </a:solidFill>
                <a:latin typeface="Arial"/>
              </a:rPr>
              <a:t>Cache-Speich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1520" y="1076400"/>
            <a:ext cx="8523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CPU-Cache-Speicher bezieht seine Effiziens im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wesentlichen aus der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Lokalitätseigenschaf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o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grammen (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locality of referenc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, d.h. es werde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timmte Speicherzellen bevorzugt und wiederhol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angesprochen (z.B. Programmschlei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Zeitliche Lokalität: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Information, die in naher Zukunft angesprochen wird,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st mit großer Wahrscheinlichkeit schon früher einmal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ngesprochen worden (Schleife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800"/>
              </a:buClr>
              <a:buSzPct val="75000"/>
              <a:buFont typeface="Monotype Sorts" charset="2"/>
              <a:buChar char="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cc"/>
                </a:solidFill>
                <a:latin typeface="Arial"/>
              </a:rPr>
              <a:t>Örtliche Lokalität:</a:t>
            </a:r>
            <a:r>
              <a:rPr b="0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zukunftiger Zugriff wird mit großer Wahrscheinlichkeit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der Nähe des bisherigen Zugriffs lieg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11:54:09Z</dcterms:created>
  <dc:creator>Tamim Asfour</dc:creator>
  <dc:description/>
  <dc:language>en-US</dc:language>
  <cp:lastModifiedBy>Mladen Milushev</cp:lastModifiedBy>
  <cp:lastPrinted>2000-05-30T19:51:59Z</cp:lastPrinted>
  <dcterms:modified xsi:type="dcterms:W3CDTF">2005-11-29T12:59:14Z</dcterms:modified>
  <cp:revision>1269</cp:revision>
  <dc:subject/>
  <dc:title>TI-2</dc:title>
</cp:coreProperties>
</file>