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B3E19B4-0450-4CC2-A764-3E16EBB5378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ie Frequenzen der Einstiegsmodelle liegen bei 1,4 und 1,5 GHz. Tatsächlich sollen Taktraten von bis zu 5 GHz möglich sei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hat mit seinem Vorgänger, dem Pentium 3, der auf den PentiumPro basiert, nur noch wenig gemeinsam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aut man sich die innere Struktur des Pentium 4 genauer an, so wurde hier einiges umgekrempe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ber nicht nur Intern sieht es anders aus. Auch um den Prozessor herum hat sich einiges veränder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r Pentium 4 ist zwar ein gewöhnlicher Sockel-Prozessor. Aber dafür braucht er ein neues Motherboard nebst Prozessorsockel(Sockel 423)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zukommt ein riesiger Kühlkörper mit Lüfter. Das zusammen ist direkt mit dem PC-Gehäuse verschraubt. Somit ist auch ein neues Gehäuse notwendig,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die entsprechenden Verschraubungen hat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as Gehäuse, sowie das Netzteil, müssen der ATX-Spezifikation Version 2.03 zugrunde liegen, da das Netzteil auch über zwei zusätzlich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tecker mit dem Motherboard verbunden werden muß. Diese Maßnahmen hat Intel Aufgrund des hohen Strombedarfs seiner Prozessoren getroffen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d somit Probleme durch die Stromversorgung, wie es bei den Athlon-Systemen ist, auszuschließen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us der Computer-Zeitung 40/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sinkenden Strukturgrößen stoßen an die Grenzen der Physi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Chipentwicklung, wie sie sich in den nächsten Jahren aus der Sicht der Semiconductor Industry Association (SIA) darstellt: Es ist absehbar, daß die Industrie die Vorhersage übertrifft. Mit der 0,25 -Mikron-Technik senkt Intel beispielsweise die Betriebsspannung auf 1,8 Vo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elle Anwendungen der Informatik und Mikrosystem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Dr. R. 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B67-8D13-4BB1-8A80-6C0931FDA9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181160"/>
            <a:ext cx="819144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Vorles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b"/>
                </a:solidFill>
                <a:latin typeface="Arial"/>
              </a:rPr>
              <a:t>Technische Informatik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WS 200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FDI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stitut für Rechnerentwurf und Fehlertoleranz (I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b"/>
                </a:solidFill>
                <a:latin typeface="Arial"/>
              </a:rPr>
              <a:t>Industrielle Anwendungen der Informatik und Mikrosystemtechnik (IA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880" y="1224000"/>
            <a:ext cx="798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600" y="1109520"/>
            <a:ext cx="828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ähring, Helmu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rechner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3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 I – ISBN 3-540-41648-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kroprozessoren und Digitale Signalprozess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nd II – ISBN 3-540-43693-6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sse, Speicher, Peripherie und Mikro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kschulte, Uwe und Theo Ungerer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controller und Mikroprozessor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4309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ik, Thomas und Hans Liebig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ikroprozessor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ringer-Verlag, 5.Auflag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SBN 3-540-6401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360" y="1325520"/>
            <a:ext cx="822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000" y="1344600"/>
            <a:ext cx="60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Themen T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Grundlagen, Definitionen und Erklärungen. Historische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, 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1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5, 4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.Steuerwerk, Steuer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3.Rechenwerk (Operationswe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.Registersa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8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Adreßw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6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5, 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.Systembusschnitt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1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2, 11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19,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7.Pipeline-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, 6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8.CIS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, 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0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6880" y="103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3080" y="1260360"/>
            <a:ext cx="7841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12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2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1, 1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62, 16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74, 17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89, 19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96, 20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.Speicherhierarchie, Cache-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4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32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3, 33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1.Virtuelle Speicherverw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8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07, 31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17, 325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26, 3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T.F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40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0, 41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2.Direkter Speicherzu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3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4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3.Systemsteuer- und Schnittstellenbausteine. Grund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1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4.Behandlung von Ausnahmesituation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44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5.Interrupt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22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25, 229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6.Digitale Signalprozessoren (D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H.B. 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s. 361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69, 37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78, 380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3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7.Mikro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U.B.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. 72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81, 118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23, 12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0, 133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34, 137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 der Rechenmaschin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280" y="1320840"/>
            <a:ext cx="8585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4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as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 funktionierende Rechenmaschine (Addition und Subtrak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in mechanisch, Betrieben mit einer Handkur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67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G. W. Leibn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4 Grundrech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k nicht voll funktionsfäh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722-74:  M. H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chanische Problem weitgehend gelö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280" y="1320840"/>
            <a:ext cx="85852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Difference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und Subtrak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nte der Berechnung von Zahlentabellen für die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iff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Führte nur e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n einzigen Algorithmus (Methode der finit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fferenzen mit Hilfe von Polynom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1197000"/>
            <a:ext cx="8480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Charles Babbage (1792-18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SzPct val="75000"/>
              <a:buFont typeface="Monotype Sorts" charset="2"/>
              <a:buChar char="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Analytical Engine:</a:t>
            </a:r>
            <a:r>
              <a:rPr b="1" sz="2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Rechenautomat aus Speicher (Säulen), Recheneinhei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Mühle), Eingabeeinheit (Kartenleser) und 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Programmsteuerung über Lochkar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öglichkeit im Programm zu spr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gebnisse wurden auf einer Kupferplatte gestan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hält bereits die meitsen Funktionsbaugruppen modern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henautom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oftware: einfache Assembler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8280" y="1197000"/>
            <a:ext cx="858528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6:  Konrad Z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aute Eine Reihe von programmgesteuerte Rechenmaschinen mittels elektromagnetischer R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peicher, Eingabewerk, Rechenwerk, Plansteuerwerk und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gabewe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nwendung des Dualsystems und der halblogarithm.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ahlendarstellung (Gleitkommadarstellung) sowie des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ssagenkakü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baute Maschinen (Z1, Z2, Z3 und Z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 Maschinen wurden 1944 zerstört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Nachbau der Z3 steht im Deutschen Museum in Mün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7640" y="1087560"/>
            <a:ext cx="5443560" cy="508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080" y="2751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bef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0560" y="3152880"/>
            <a:ext cx="828720" cy="247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47760" y="1733400"/>
            <a:ext cx="9050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7120" y="14558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076720" y="1333440"/>
            <a:ext cx="2200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9800" y="1103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0560" y="3143160"/>
            <a:ext cx="1800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7760" y="1752480"/>
            <a:ext cx="2305080" cy="809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33680" y="1343160"/>
            <a:ext cx="2933640" cy="1285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4000" y="187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ger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33800" y="206676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95760" y="2085840"/>
            <a:ext cx="1905120" cy="619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23440" y="4170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981480" y="3466800"/>
            <a:ext cx="771480" cy="780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191280" y="4295880"/>
            <a:ext cx="1504800" cy="9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562720" y="3124080"/>
            <a:ext cx="2133360" cy="1162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771880" y="3619440"/>
            <a:ext cx="1895400" cy="666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05640" y="5448240"/>
            <a:ext cx="141912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12600" y="5246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chen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762360" y="4076640"/>
            <a:ext cx="3324240" cy="13622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ahoma"/>
              </a:rPr>
              <a:t>Z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52640" y="1109520"/>
            <a:ext cx="4830840" cy="502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9560" y="1828800"/>
            <a:ext cx="2019600" cy="847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8520" y="15890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171840" y="3076560"/>
            <a:ext cx="971640" cy="9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9480" y="27417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is d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enwe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47920"/>
            <a:ext cx="1133640" cy="44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440" y="27511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hstreife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8280" y="1197000"/>
            <a:ext cx="83469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38:  Howard A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programmgesteuerter Rechenautomat der USA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Havard Mark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zimales Zählrad-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hr große 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lativ schn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23-stelligen Dezimalzahlen in 0,3 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65 sec und Division in 11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Zur Ein- und Ausgabe wurden gelochte Paperbänder benu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rk II: Aikens Nachfolger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98400"/>
            <a:ext cx="8305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Technische Informatik II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520" y="1362240"/>
            <a:ext cx="84297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In der Vorlesung TI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vor allem 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Prozessor- und 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Rechner-</a:t>
            </a: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sz="32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oftware-Aspekte nur auf der niedrigsten Ebene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(Befehlssätze, maschinennahe Programmierung, 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Arial"/>
              </a:rPr>
              <a:t>Speicher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8280" y="1225440"/>
            <a:ext cx="83469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3-1949:  P. Eckert, J.W. Mauc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NIAC (Electronic Numerical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Integrator And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mals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7468 Elektronenröhren, 1500 Re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wicht: 30 T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, Leistungsverbrauch: 174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dition von 10-stelligen Zahlen in 0,2 msec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Multiplikation in 2,8 m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ung durch Verschalten von Schalttafel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Sehr umständlich und fehleranfäll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8280" y="1225440"/>
            <a:ext cx="834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44-1946:  Von Neumann, A.W. Burcks, H.H. Gold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Bau des Rechenautomaten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EDVAC (Electronic Discrete 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0000cc"/>
                </a:solidFill>
                <a:latin typeface="Tahoma"/>
              </a:rPr>
              <a:t>Variable Automatic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ster Anwendung elektronischer Schalt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 mit Befehlen und Adressen wurde erstmals inter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gespeichert und in der gleichen Art kodiert und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dressen und Befehle konnten von der Maschine selbs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ufgrund bedingter Befehle war die Maschine in der Lage, d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ablauf in Abhängigkeit von Zwischenergebnissen zu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Von Neumann, A.W. Burcks, H.H. Goldstine: EDVA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04920" y="1082520"/>
            <a:ext cx="60055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40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Tahoma"/>
              </a:rPr>
              <a:t>1.1  Historische Entwicklung von Mikrorechner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960" y="1123920"/>
            <a:ext cx="82742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1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Jap. Firma Busicom beauftragt die gerade 3 Jahre alte Firma Inte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inen Chipsatz für Tischrechner zu entwick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a Intel bisher Speicher entwickelt (erstes EPROM 1701 im Jahr 196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wurde hierfür als Konzept keine festverdrahtete Logik, sondern 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ogrammierbare Logik gewäh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entwickelt einen Chipsatz bestehend aus 3 Chips mit je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2000 MOS-Transis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omponent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estwertspeicher, RAM,  Zentraleinheit (CPU), 4 Bit BCD ALU, 4 Bit Datenbus, 12 Bit Adressbus, 45 Befeh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ntwicklungszeit ca. 9 Mann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Die erste</a:t>
            </a: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de-DE" sz="3600" spc="-1" strike="noStrike">
                <a:solidFill>
                  <a:srgbClr val="003399"/>
                </a:solidFill>
                <a:latin typeface="Tahoma"/>
              </a:rPr>
              <a:t>P-Anzeige (15. Nov. 1971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33360" y="1216080"/>
            <a:ext cx="6753240" cy="4373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68480" y="558792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zeitschrift: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ronics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143000"/>
            <a:ext cx="831852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Fast gleichzeitig beauftragte die Firma Datapoint Corporation die Fi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und Texas Instruments mit der Entwicklung eines Bausteins zur Steuerung eines Termi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tel hatte Erfolg, der Baustein war jedoch um Faktor 10 zu langs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ieser Baustein wurde von Intel 1972 unter der Bezeichnung </a:t>
            </a:r>
            <a:r>
              <a:rPr b="1" sz="2000" spc="-1" strike="noStrike">
                <a:solidFill>
                  <a:srgbClr val="0000be"/>
                </a:solidFill>
                <a:latin typeface="Tahoma"/>
              </a:rPr>
              <a:t>8008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ls universelle 8-Bit CPU vertri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cc"/>
                </a:solidFill>
                <a:latin typeface="Tahoma"/>
              </a:rPr>
              <a:t>Kenndaten: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3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 (2 Versorgungsspann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4 Bit Adressbus (16 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6 Register (8 Bit), 45 Befeh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3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8 Anschlü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40" y="1168560"/>
            <a:ext cx="83948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cc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2: Intel 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 mit erhöhter Rechen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struktionszeit ca. 2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5000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 1974 in NMOS-Technologie (einfache 5 Vol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Versorgungsspannu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ca. 75 Befehle (dazu Unterstützung externer Unterbrechungen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d Unterprogrammsprü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Datenbus, 16 Bit Adressbus (64k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strie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040" y="1168560"/>
            <a:ext cx="8394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2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otorola 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8 Bit Prozessor in NMOS-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5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pezi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zur Floppy-Disk oder Bildschirmsteu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3333cc"/>
                </a:solidFill>
                <a:latin typeface="Tahoma"/>
              </a:rPr>
              <a:t>Erster CMOS-Prozessor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von Rockwell (</a:t>
            </a:r>
            <a:r>
              <a:rPr b="1" sz="2400" spc="-1" strike="noStrike">
                <a:solidFill>
                  <a:srgbClr val="0000cc"/>
                </a:solidFill>
                <a:latin typeface="Tahoma"/>
              </a:rPr>
              <a:t>RCA1802</a:t>
            </a:r>
            <a:r>
              <a:rPr b="0" sz="2400" spc="-1" strike="noStrike">
                <a:solidFill>
                  <a:srgbClr val="0000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8280" y="1130400"/>
            <a:ext cx="858528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4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r 16 Bit Prozessor PACE von National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MOS Technologie, Instruktionszeit 10 Mikrose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(Als SUPER-PACE in Bipolartechnolgie erheblich schnell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aber auch wesentlich höherer Stromverbrau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TMS 9000 von 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16 Bit Prozessor, verwaltete seine Register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chreib-Lesespeic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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ascher Programmwechsel, aber langsame Verarbeitung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9800" y="1346040"/>
            <a:ext cx="7836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Z80 der Firma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8 Bit Prozessor, aufwärtskompatibel zu 8080, aber mit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höherer Leistungsfähigkeit und meh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e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85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Erweiterung des 8080 mit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Unterbrechungsverwaltung, verbesserter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ipheri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Tahoma"/>
              </a:rPr>
              <a:t>Gliederung der Steuerungsebenen im Rechnersysem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360" y="1182600"/>
            <a:ext cx="8516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120" y="1346040"/>
            <a:ext cx="79884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8:  8086 von Int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ter 16 Bit Prozessor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 (High Density 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27000 Transistoren (aber 30% mehr Fläch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s ein 80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Datenbu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20 Bit Adressbus (1MB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6120" y="1117440"/>
            <a:ext cx="79884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00 von Motorola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intern jedoch 32 B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68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4 Bit Adressbus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thogonaler Befehlsatz wie bei Minicomputer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79: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Z8000 von Z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Bit Prozessor, Nachfolger des Z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68560"/>
            <a:ext cx="79880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79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Erste Signalprozessoren, z.B. 2929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zialisiert auf die Verarbeitung von analogen Signalen, die durch interne AD/DA-Wandler digitalisi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58720" y="3835440"/>
            <a:ext cx="7962840" cy="2247840"/>
            <a:chOff x="558720" y="3835440"/>
            <a:chExt cx="7962840" cy="2247840"/>
          </a:xfrm>
        </p:grpSpPr>
        <p:sp>
          <p:nvSpPr>
            <p:cNvPr id="146" name=""/>
            <p:cNvSpPr/>
            <p:nvPr/>
          </p:nvSpPr>
          <p:spPr>
            <a:xfrm>
              <a:off x="558720" y="3835440"/>
              <a:ext cx="7962840" cy="22478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90440" y="3994200"/>
              <a:ext cx="6899400" cy="1927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1979 existierten ca. 80 verschiede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Tahoma"/>
                </a:rPr>
                <a:t>Mikroprozessoren, es wurden bis dahin ca. 75 Millionen Mikroprozessoren  verkau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8280" y="1244520"/>
            <a:ext cx="8407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2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2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 dem 80186 der zweite Nachfolger des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30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höhter Adressraum (16 M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Betriebsarten für Multitasking-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mgeb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Jahrelang in vielen Personal Comput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z.B. IBM AT)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8280" y="1244520"/>
            <a:ext cx="8407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1: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32 Bit Prozessor iAPX432 von Int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 Bausteine, insgesamt ca. 219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16 Mbyte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00 Mannjahre Entwicklungs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konnte sich auf dem Markt jedoch nicht durch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Herstellung eingestellt.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2880" y="1168560"/>
            <a:ext cx="87886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803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MOS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75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irtuelle Speicherverwaltung, Segmentierung, P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8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6802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2 B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inearer Adress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1168560"/>
            <a:ext cx="840744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89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80486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weiterung des 80386 um integrierten Cache und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ierten numerischen C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stützung mehrerer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1990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68040 von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68030 zweiter Nachfolger des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. 1 2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280" y="1168560"/>
            <a:ext cx="877572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4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80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3 1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tern teilweise 64 Bit 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2 fach Superskalar, Code und Daten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2-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ower PC’s MPC601, MPC603, MPC604,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MPC620 von Motorola/IBM/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ISC Architektur, teilweise 64 Bit Architektur (Dat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4 000 000 Transistoren (MPC6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" y="1168560"/>
            <a:ext cx="8407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5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Pro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des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ganz anderer interner Auf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5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Zwei eingebaute Cache-Speicher-Eb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8280" y="1168560"/>
            <a:ext cx="840744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6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Pro mit speziellen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ultimedia-Erweiterungen (M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3-5 fach Supers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a. 14 stufige Befehls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7 500 000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peculative execution, dynamic 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546120"/>
            <a:ext cx="808992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echnische Informatik II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6320" y="1797120"/>
            <a:ext cx="7832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8280" y="1168560"/>
            <a:ext cx="840744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1998: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be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 (I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IMD = Single Instruction, Multiple Data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 KByte Daten- und Befehls-Cache mit volle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zessorta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nd-Level-Cache mit halbem Prozessorta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99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bindung an die Außenwelt über einen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00 - 133 MHz arbeitenden System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ahoma"/>
              </a:rPr>
              <a:t>1.1  Historische Entwicklu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1520" y="1150920"/>
            <a:ext cx="8772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.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2000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: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be"/>
                </a:solidFill>
                <a:latin typeface="Tahoma"/>
              </a:rPr>
              <a:t>Pentium </a:t>
            </a: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4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mplette Neuentwicklung von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® NetBurst™ micro-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be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Nachfolger vom Pentium I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mi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net Streaming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tensio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hanced floating point/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ced dynamic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yper-pipelin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ecution trace cache and advanced transf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be"/>
              </a:buClr>
              <a:buSzPct val="75000"/>
              <a:buFont typeface="Wingdings" charset="2"/>
              <a:buChar char="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400MHz System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0520" y="1127160"/>
            <a:ext cx="86374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e Leistungssteigerung bei Mikroprozessoren ist durch folgende Fortschritte erreicht word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1600" y="3676680"/>
            <a:ext cx="8683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Gatterzahl auf dem C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Steigerung der Taktrat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ch Fortschritte beim Hardware-Entwurf (Architektur, Mikroarchitektur, Entwurfswerkze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8508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3038d"/>
                </a:solidFill>
                <a:latin typeface="Tahoma"/>
              </a:rPr>
              <a:t>Exponentialgesetz der Mikroelektronik „Mooresches Gesetz“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84488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3399"/>
                </a:solidFill>
                <a:latin typeface="Arial"/>
              </a:rPr>
              <a:t>Mehr Leistung bei weniger Stromverbrauch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1240" y="139716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grö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41320" y="2144880"/>
            <a:ext cx="7232040" cy="3572640"/>
            <a:chOff x="841320" y="2144880"/>
            <a:chExt cx="7232040" cy="3572640"/>
          </a:xfrm>
        </p:grpSpPr>
        <p:grpSp>
          <p:nvGrpSpPr>
            <p:cNvPr id="175" name=""/>
            <p:cNvGrpSpPr/>
            <p:nvPr/>
          </p:nvGrpSpPr>
          <p:grpSpPr>
            <a:xfrm>
              <a:off x="922320" y="5625720"/>
              <a:ext cx="7068240" cy="79920"/>
              <a:chOff x="922320" y="5625720"/>
              <a:chExt cx="7068240" cy="79920"/>
            </a:xfrm>
          </p:grpSpPr>
          <p:sp>
            <p:nvSpPr>
              <p:cNvPr id="176" name=""/>
              <p:cNvSpPr/>
              <p:nvPr/>
            </p:nvSpPr>
            <p:spPr>
              <a:xfrm>
                <a:off x="922320" y="56257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121480" y="5625720"/>
                <a:ext cx="4777560" cy="79920"/>
                <a:chOff x="2121480" y="5625720"/>
                <a:chExt cx="4777560" cy="79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12148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296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2880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092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899040" y="562572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841320" y="2224440"/>
              <a:ext cx="75240" cy="3493080"/>
              <a:chOff x="841320" y="2224440"/>
              <a:chExt cx="75240" cy="349308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916560" y="2224440"/>
                <a:ext cx="0" cy="349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841320" y="2554560"/>
                <a:ext cx="72000" cy="2625480"/>
                <a:chOff x="841320" y="2554560"/>
                <a:chExt cx="72000" cy="2625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841320" y="51800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41320" y="430128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1320" y="34279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1320" y="25545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907200" y="2144880"/>
              <a:ext cx="7068240" cy="79920"/>
              <a:chOff x="907200" y="2144880"/>
              <a:chExt cx="7068240" cy="799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907200" y="2216520"/>
                <a:ext cx="706824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2106360" y="2144880"/>
                <a:ext cx="4777560" cy="79920"/>
                <a:chOff x="2106360" y="2144880"/>
                <a:chExt cx="4777560" cy="799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210636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33145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451368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56941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6883920" y="2144880"/>
                  <a:ext cx="0" cy="7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7998120" y="2211840"/>
              <a:ext cx="75240" cy="3493440"/>
              <a:chOff x="7998120" y="2211840"/>
              <a:chExt cx="75240" cy="349344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7998120" y="2211840"/>
                <a:ext cx="0" cy="34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8001360" y="2541600"/>
                <a:ext cx="72000" cy="2625840"/>
                <a:chOff x="8001360" y="2541600"/>
                <a:chExt cx="72000" cy="26258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>
                  <a:off x="8001360" y="516744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8001360" y="428832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001360" y="341496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001360" y="2541600"/>
                  <a:ext cx="7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59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3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2800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2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784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432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98360" y="183204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9400" y="18334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8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500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680" y="410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680" y="236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912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4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8104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604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44800" y="567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4996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49600" y="322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9240" y="411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8880" y="497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917640" y="2536920"/>
            <a:ext cx="6956280" cy="26366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25560" y="3444840"/>
            <a:ext cx="697068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925560" y="4275000"/>
            <a:ext cx="6958080" cy="9036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33480" y="4471560"/>
            <a:ext cx="6927840" cy="723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6960" y="2516040"/>
            <a:ext cx="6991200" cy="269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270800">
            <a:off x="1936080" y="294012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riebs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299800">
            <a:off x="5304960" y="27954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its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0775000">
            <a:off x="4935960" y="34336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kfunktionen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46400">
            <a:off x="5473440" y="4303440"/>
            <a:ext cx="57924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21137400">
            <a:off x="4806360" y="4097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Größe der Speicher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309600">
            <a:off x="3934440" y="476388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schlüsse pro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eistungsentwickl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55600" y="1138320"/>
            <a:ext cx="6747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b"/>
                </a:solidFill>
                <a:latin typeface="Tahoma"/>
              </a:rPr>
              <a:t>Beispiele von Mikroprozesso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92680" y="1333440"/>
            <a:ext cx="4730760" cy="4649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30120" y="2247840"/>
            <a:ext cx="344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3080" y="1805040"/>
            <a:ext cx="319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Zwei unabhängige 6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11336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b"/>
                </a:solidFill>
                <a:latin typeface="Arial"/>
              </a:rPr>
              <a:t>IBM Pow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rne Entwickl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520" y="1252440"/>
            <a:ext cx="86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IBM und XILINX bereiten sich f</a:t>
            </a:r>
            <a:r>
              <a:rPr b="0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r die Produktion der er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90-Nanometer-Chips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 300 -mm-Wafern v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27080" y="2279520"/>
            <a:ext cx="697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Chips mit mehreren Hundert Millionen Transis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und bis zu 72 Millionen Logik-G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Versorgungsspannung von unter 1 V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Bis zu acht Kuper-Metalllagen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kapazitätsarme Low-K-Dielektrika als Isolator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Diffusionsbarriere zum Siliz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 die neue Fabrik hat IBM rund 2,5 Milliarden USD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9b"/>
                </a:solidFill>
                <a:latin typeface="Tahoma"/>
              </a:rPr>
              <a:t>invest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3038d"/>
                </a:solidFill>
                <a:latin typeface="Tahoma"/>
              </a:rPr>
              <a:t>Zukünftige Entwicklung in Schlagworte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5520" y="1247760"/>
            <a:ext cx="81658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Quanten-Computer: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xistieren bisher nur in der Theorie und sind so exotisch wie die Quantenmechanik selbst.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s Speicher für Information in einem Quanten-Computer könnten Wasserstoffatome die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cc"/>
                </a:solidFill>
                <a:latin typeface="Tahoma"/>
              </a:rPr>
              <a:t>Molekulare Computer (DNA-Computer)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önnen Moleküle sich gegenseitig beeinflussen und dadurch Berechnungen anstellen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3320" y="1015920"/>
            <a:ext cx="772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Prinzipieller Aufbau ein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euer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peration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Adres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s interne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ie Systembus-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RISC vs. CISC 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on-Neumann- vs. Harvard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Befehls-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inzip und Funktio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aten- und Kontrollkonflikte und deren Behe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50400" y="1306440"/>
            <a:ext cx="739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Einf</a:t>
            </a:r>
            <a:r>
              <a:rPr b="1" lang="de-DE" sz="2400" spc="-1" strike="noStrike">
                <a:solidFill>
                  <a:srgbClr val="00009b"/>
                </a:solidFill>
                <a:latin typeface="Tahoma"/>
              </a:rPr>
              <a:t>ü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hrung in die Assembler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grammiertechn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PS-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Organisation des Arbeits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Aufbau von Speicher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Organisation von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peic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ache-Speicher (Prinzip, Techn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orlesungsinhal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1880" y="1316160"/>
            <a:ext cx="730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System-Steuer- und Schnittstellen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us-Arbiter, Interrupt-Controller, Schnittstell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b"/>
              </a:buClr>
              <a:buSzPct val="7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b"/>
                </a:solidFill>
                <a:latin typeface="Tahoma"/>
              </a:rPr>
              <a:t>Mikrocontroller &amp; Digitale Signal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Eingabe-/Ausgabe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Zeitgeber/Zähler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peicher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Unterbrechungs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DMA (direct Memory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20" y="1085760"/>
            <a:ext cx="777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U. Brinkschulte und Th. Unger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controller und Mikroprozess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Springer-Verlag,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H. Bäh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rechner-Systeme,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3. Auflage 2002 (Band I/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Th. Flick, H. Liebi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Mikroprozessortechnik;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 Springer-Lehrbuc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5. Auflage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W. Oberschelp, G. Vo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Rechneraufbau und Rechnerstrukturen, 8. Aufla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b"/>
                </a:solidFill>
                <a:latin typeface="Tahoma"/>
              </a:rPr>
              <a:t>Oldenbourg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iteratu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3640" y="1150920"/>
            <a:ext cx="85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d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. Patterson, J. Hennes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Computer Organisation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organ Kaufmann Publ. 3. Auflag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. Silic, B. Robic and 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Processor architecture : from datafl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uperscalar and beyond; Spring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. Ung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Mikroprozessortechnik, Thomso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•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.S. Tan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b"/>
                </a:solidFill>
                <a:latin typeface="Tahoma"/>
              </a:rPr>
              <a:t>Structured Computer Organization, 4. Auflag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6-09-12T12:20:09Z</dcterms:modified>
  <cp:revision>372</cp:revision>
  <dc:subject/>
  <dc:title>TI-2</dc:title>
</cp:coreProperties>
</file>