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F102-46A5-4577-82D8-CB66C10C37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120" y="1181160"/>
            <a:ext cx="71010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808080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808080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6800" y="1106640"/>
            <a:ext cx="80514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Vorgang bleibt dem Anwender völlig verborg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.h. der Arbeitsspeicher erscheint dem Anwen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 größer, als er in Wahrheit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nach diesem Konzept verwalteter Speicher heiß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halb virtueller 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modernen Prozessoren wird die Verwaltung dies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n Speichers hardwaremäßig durch eine MM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mory management unit) unterstü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aufgabe dieser virtuellen Speicherverwaltung: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Umsetzung virtueller (logischer) Adressen in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hysikalische 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71440" y="5295960"/>
            <a:ext cx="6972480" cy="838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22440" y="1974960"/>
            <a:ext cx="148572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83160" y="1974960"/>
            <a:ext cx="1485720" cy="1434960"/>
          </a:xfrm>
          <a:prstGeom prst="rect">
            <a:avLst/>
          </a:prstGeom>
          <a:solidFill>
            <a:srgbClr val="c5e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07240" y="1974960"/>
            <a:ext cx="1485720" cy="1434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50720" y="1249200"/>
            <a:ext cx="8332920" cy="3371040"/>
            <a:chOff x="450720" y="1249200"/>
            <a:chExt cx="8332920" cy="3371040"/>
          </a:xfrm>
        </p:grpSpPr>
        <p:sp>
          <p:nvSpPr>
            <p:cNvPr id="350" name=""/>
            <p:cNvSpPr/>
            <p:nvPr/>
          </p:nvSpPr>
          <p:spPr>
            <a:xfrm>
              <a:off x="450720" y="3916440"/>
              <a:ext cx="833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Benutz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kennzeichnet seine Objekte (Programme, Unterprogramme,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Variablen, ...) durch Na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0280" y="2495520"/>
              <a:ext cx="152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7000" y="1249200"/>
              <a:ext cx="219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amensraum de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nutz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0640" y="2125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98600" y="1249200"/>
            <a:ext cx="8332560" cy="3837600"/>
            <a:chOff x="498600" y="1249200"/>
            <a:chExt cx="8332560" cy="3837600"/>
          </a:xfrm>
        </p:grpSpPr>
        <p:sp>
          <p:nvSpPr>
            <p:cNvPr id="355" name=""/>
            <p:cNvSpPr/>
            <p:nvPr/>
          </p:nvSpPr>
          <p:spPr>
            <a:xfrm>
              <a:off x="4356000" y="3117960"/>
              <a:ext cx="15264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72360" y="1249200"/>
              <a:ext cx="15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rtuell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1800" y="248112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irtuell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15920" y="2597040"/>
              <a:ext cx="32893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7840" y="31417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8600" y="4687920"/>
              <a:ext cx="83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Compil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übersetzt diese Namen in virtuelle (logische) Adress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96800" y="1249200"/>
            <a:ext cx="8332920" cy="4926960"/>
            <a:chOff x="496800" y="1249200"/>
            <a:chExt cx="8332920" cy="4926960"/>
          </a:xfrm>
        </p:grpSpPr>
        <p:sp>
          <p:nvSpPr>
            <p:cNvPr id="362" name=""/>
            <p:cNvSpPr/>
            <p:nvPr/>
          </p:nvSpPr>
          <p:spPr>
            <a:xfrm>
              <a:off x="7099200" y="2330280"/>
              <a:ext cx="152640" cy="140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18320" y="124920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hysikalischer 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07600" y="25066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559400" y="2444400"/>
              <a:ext cx="24890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34200" y="2849400"/>
              <a:ext cx="141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riebs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stem und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6800" y="5167440"/>
              <a:ext cx="833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Virtuelle Speicherverwaltung: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wandelt diese Adressen zur Laufzeit j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nach gerade gegebener Speicherbelegung in die physikalisch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Adresse (wirklicher Ort des Objekts im Hauptspeicher)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6560" y="1268280"/>
            <a:ext cx="527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W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-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Adres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59880" y="1905120"/>
            <a:ext cx="1200240" cy="398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55560" y="3238560"/>
            <a:ext cx="25902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yn. Adres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((PC) - 1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58440" y="4800600"/>
            <a:ext cx="22626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irtuelle Speich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waltung (MM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72160" y="1714680"/>
            <a:ext cx="0" cy="107604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43360" y="316224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95840" y="474336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7560" y="2506680"/>
            <a:ext cx="82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virtuelle Adressraum in Segmen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r Länge zer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 sind ein oder mehrere Segmente z.B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Programmcode und die Daten, 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zelnen Segmente enthalten logis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hängende Informationen (Programm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Datenmodule) und können relativ groß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760" y="1204920"/>
            <a:ext cx="82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existieren zwei grundlegende Verfahren zur virtu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verwaltung (Segmentierung und Seitenwech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gment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6320" y="1220760"/>
            <a:ext cx="88189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 spiegelt logische Programmstrukt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große Segmente relativ seltener Daten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atentransfer, dann jedoch umfangre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 Programm nur aus einem Code-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-Segment (wird vom Compiler ode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gelegt), so muss es vollständig eingelag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2760" y="1314360"/>
            <a:ext cx="798804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ufteilung in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logische und der physikal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raum in "Segmente fester Länge",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genannten Seiten (pages) unterte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eiten sind relativ klein (256 Byte - 4 k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zess wird auf viele dieser Seiten verteil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ine logischen Zusammenhänge wie bei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itenaufteil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0280" y="1135080"/>
            <a:ext cx="84758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kleine Seiten wird nur der wirklich benötig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 eines Programms eingelag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ingerer Verwaltungsaufwand als 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er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5720" y="4844880"/>
            <a:ext cx="8273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Ältere Prozessoren unterstützten jeweils nur ein Verfahren, z.B. Segmentierung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bei 80286, 68010 und Seitenwechsel bei Z8003/4, National 3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eutige Mikroprozessoren, z.B. 80386, 80486, Pentium, ... unterstützen beid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82400" y="37576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32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04840" y="1535040"/>
            <a:ext cx="3743640" cy="1255680"/>
            <a:chOff x="1104840" y="1535040"/>
            <a:chExt cx="3743640" cy="1255680"/>
          </a:xfrm>
        </p:grpSpPr>
        <p:sp>
          <p:nvSpPr>
            <p:cNvPr id="414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33760" y="19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03200" y="153504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.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61840" y="1535040"/>
            <a:ext cx="3067920" cy="4256280"/>
            <a:chOff x="3561840" y="1535040"/>
            <a:chExt cx="3067920" cy="4256280"/>
          </a:xfrm>
        </p:grpSpPr>
        <p:sp>
          <p:nvSpPr>
            <p:cNvPr id="419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8520" y="4924440"/>
              <a:ext cx="1886040" cy="380880"/>
            </a:xfrm>
            <a:custGeom>
              <a:avLst/>
              <a:gdLst/>
              <a:ahLst/>
              <a:rect l="l" t="t" r="r" b="b"/>
              <a:pathLst>
                <a:path w="1188" h="240">
                  <a:moveTo>
                    <a:pt x="0" y="0"/>
                  </a:moveTo>
                  <a:lnTo>
                    <a:pt x="0" y="240"/>
                  </a:lnTo>
                  <a:lnTo>
                    <a:pt x="118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561840" y="5086440"/>
              <a:ext cx="13356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5516640" y="1535040"/>
              <a:ext cx="1113120" cy="4256280"/>
              <a:chOff x="5516640" y="1535040"/>
              <a:chExt cx="1113120" cy="4256280"/>
            </a:xfrm>
          </p:grpSpPr>
          <p:sp>
            <p:nvSpPr>
              <p:cNvPr id="423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10400" y="1866960"/>
                <a:ext cx="399960" cy="3438360"/>
              </a:xfrm>
              <a:custGeom>
                <a:avLst/>
                <a:gdLst/>
                <a:ahLst/>
                <a:rect l="l" t="t" r="r" b="b"/>
                <a:pathLst>
                  <a:path w="252" h="1980">
                    <a:moveTo>
                      <a:pt x="252" y="0"/>
                    </a:moveTo>
                    <a:lnTo>
                      <a:pt x="252" y="1980"/>
                    </a:lnTo>
                    <a:lnTo>
                      <a:pt x="0" y="1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57760" y="5448240"/>
                <a:ext cx="0" cy="34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143760" y="203976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591160" y="550548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27240" y="5425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51040" y="1949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9720" y="153504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yte-N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000160" y="2603520"/>
            <a:ext cx="2082600" cy="356400"/>
            <a:chOff x="2000160" y="2603520"/>
            <a:chExt cx="2082600" cy="356400"/>
          </a:xfrm>
        </p:grpSpPr>
        <p:sp>
          <p:nvSpPr>
            <p:cNvPr id="433" name=""/>
            <p:cNvSpPr/>
            <p:nvPr/>
          </p:nvSpPr>
          <p:spPr>
            <a:xfrm>
              <a:off x="2000160" y="2603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9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8280" y="26226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55600" y="2851200"/>
            <a:ext cx="2027160" cy="346680"/>
            <a:chOff x="2055600" y="2851200"/>
            <a:chExt cx="2027160" cy="346680"/>
          </a:xfrm>
        </p:grpSpPr>
        <p:sp>
          <p:nvSpPr>
            <p:cNvPr id="436" name=""/>
            <p:cNvSpPr/>
            <p:nvPr/>
          </p:nvSpPr>
          <p:spPr>
            <a:xfrm>
              <a:off x="2055600" y="2851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8280" y="28605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000160" y="3089160"/>
            <a:ext cx="2082600" cy="337320"/>
            <a:chOff x="2000160" y="3089160"/>
            <a:chExt cx="2082600" cy="337320"/>
          </a:xfrm>
        </p:grpSpPr>
        <p:sp>
          <p:nvSpPr>
            <p:cNvPr id="439" name=""/>
            <p:cNvSpPr/>
            <p:nvPr/>
          </p:nvSpPr>
          <p:spPr>
            <a:xfrm>
              <a:off x="2000160" y="3089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8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38280" y="30891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5040" y="1119240"/>
            <a:ext cx="86202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 wird in eine Segmentnummer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wertige Bi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irtuellen Adresse) als Kennung eines Segments und in eine Bytenummer (verbleib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s der Adresse) als Abstand zum Segmentanfa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imale virtuelle Segmentanzahl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aximale Segmentgröß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dreßabbildung erfolgt über eine Segmenttabelle (im Registerspeicher der MM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le Adresse ergibt sich aus der Segmentbasisadresse, zu der die virtuelle Bytenummmer addier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längenangaben in der Segmenttabelle, um segement-überschreitende Zugriffe feststellen und ggf. verhindern zu kö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Segmenten mit einer geringeren Größe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ilt der ungenutzte Raum als Ver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Ausnutzung des Hauptspeichers, wenn man die Segmentgrenzen an jeder Byteadresse zuläs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eitenwechsel (Paging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16320" y="5796000"/>
            <a:ext cx="503208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87680" y="1523880"/>
            <a:ext cx="486072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17320" y="5559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55640" y="2666880"/>
            <a:ext cx="296568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63520" y="2668680"/>
            <a:ext cx="2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41400" y="45543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3840" y="382104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-Bit-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9640" y="14590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2160" y="5154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22960" y="2332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4328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4328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41840" y="308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29280" y="1514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374880" y="1544760"/>
            <a:ext cx="835920" cy="4583520"/>
            <a:chOff x="6374880" y="1544760"/>
            <a:chExt cx="835920" cy="4583520"/>
          </a:xfrm>
        </p:grpSpPr>
        <p:sp>
          <p:nvSpPr>
            <p:cNvPr id="468" name=""/>
            <p:cNvSpPr/>
            <p:nvPr/>
          </p:nvSpPr>
          <p:spPr>
            <a:xfrm flipH="1">
              <a:off x="6620040" y="204948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1796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74880" y="15447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960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488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813120" y="58212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05600" y="581976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104840" y="1544760"/>
            <a:ext cx="3734280" cy="4246560"/>
            <a:chOff x="1104840" y="1544760"/>
            <a:chExt cx="3734280" cy="4246560"/>
          </a:xfrm>
        </p:grpSpPr>
        <p:sp>
          <p:nvSpPr>
            <p:cNvPr id="476" name=""/>
            <p:cNvSpPr/>
            <p:nvPr/>
          </p:nvSpPr>
          <p:spPr>
            <a:xfrm>
              <a:off x="3355560" y="5006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219480" y="513396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040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74600" y="1544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iten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86080" y="4933800"/>
              <a:ext cx="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507760" y="1244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30960" y="124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24000" y="1235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52760" y="33717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6280" y="333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00040" y="34797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34120" y="2608200"/>
            <a:ext cx="181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ngröß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by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9760" y="1481040"/>
            <a:ext cx="8124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5548320" y="49338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24080" y="49626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24080" y="26193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24080" y="30099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24080" y="3400560"/>
            <a:ext cx="146700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24080" y="37908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24080" y="41814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24080" y="45720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38960" y="220032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38960" y="29811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38960" y="33717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38960" y="37623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38960" y="41529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38960" y="454356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16160" y="48448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48862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92520" y="482616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30680" y="487692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24080" y="22287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38960" y="259092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00560" y="16876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70520" y="17352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32000" y="22305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46880" y="220824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2280" y="26877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57240" y="2238480"/>
            <a:ext cx="0" cy="153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24240" y="2255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24240" y="2637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24240" y="30052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24240" y="3398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24240" y="37926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24240" y="41734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24240" y="4541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76920" y="2293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76920" y="26748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76920" y="30430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76920" y="3436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76920" y="3830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6920" y="421164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76920" y="4579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95760" y="2438280"/>
            <a:ext cx="1854000" cy="115596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2806560"/>
            <a:ext cx="1854360" cy="19558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695760" y="2793240"/>
            <a:ext cx="1854000" cy="8002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95760" y="3200400"/>
            <a:ext cx="186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3840" y="1260360"/>
            <a:ext cx="81658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Austausch von Daten zwischen Arbeits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undspeicher ergeben sich drei Problemkr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er Einlagerungszeit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werden Segmente oder Seiten in den Arbeitsspeicher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ängiges Verfah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agerung auf Anforderung (Demand Paging bei Seitenverfah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0680" y="1409760"/>
            <a:ext cx="807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lagerung auf Anforderung </a:t>
            </a:r>
            <a:r>
              <a:rPr b="0" i="1" lang="de-DE" sz="2400" spc="-1" strike="noStrike">
                <a:solidFill>
                  <a:srgbClr val="3333ff"/>
                </a:solidFill>
                <a:latin typeface="Arial"/>
              </a:rPr>
              <a:t>(Demand Pag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erden Daten eingelagert, sobald auf s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griffen wird, sie sich aber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i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griff auf ein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s Segment oder Seite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gment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iten-Fehl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gment fault, page 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1640" y="1155600"/>
            <a:ext cx="8251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2. Das Zuweis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 welche Stelle des Arbeitsspeichers werden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 oder Segmente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muss eine ausreichend große Lücke im Arbeitsspeicher gefund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rei Strateg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i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t-fit 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n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3560" y="1200240"/>
            <a:ext cx="8149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blem bei allen drei 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icher zerfällt nach einiger Zeit in belegt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belegte Speicherbereiche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xterne Fragmentie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0320" y="46576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unbelegten Speicherbereiche sind hierbei oft zu klei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egmente aufnehm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1512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1500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67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57360" y="3500280"/>
            <a:ext cx="104796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24000" y="3500280"/>
            <a:ext cx="33336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36272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350532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76520" y="399096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46960" y="3584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89360" y="30780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1640" y="1155600"/>
            <a:ext cx="83473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Zuweis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taucht dieses Problem nicht auf, da alle Sei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 groß sind und somit immer “passende Lücken” entsteh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externe Fragmentie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doch: Problem der 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internen Fra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entsteht bei der Aufteilung eines Programm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S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heitliche Seitengröß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f der letzten Seit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s Programm-Moduls entsteht mit hoh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ahrscheinlichkeit ein ungenutzter Leerra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31640" y="1069920"/>
            <a:ext cx="82328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3. Das Ersetz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lche Segmente oder Seiten müssen ausgelage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um Platz für neu benötigte Daten zu schaff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wird die Anzahl der gleichzeitig von ein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ß benutzbaren Segmente limit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lagerung eines neuen Segments wird e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vor für diesen Prozeß benutzte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gelag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ist jedoch auch eine der im folgenden für Seiten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chsel-Verfahren beschriebenen Methoden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6600" y="1298520"/>
            <a:ext cx="82422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Ersetz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5 gängigste Strategien zum Ersetzen einer Se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ich am längst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befindende Seite wird er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a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zuletzt eingelager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e, auf die a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ängsten nicht zugegriffen wurde,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22280" y="1266840"/>
            <a:ext cx="82422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F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 ihr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lagerung am seltensten benutzte Seit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D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ference density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schung aus LR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LF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e Seite mit der geringsten Zugriffdich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nzahl Zugriffe / Einlagerungszeitraum)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eben werden bevorzugt solche Seiten ersetzt,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nicht verändert wu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 Rückschreiben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änderten Seite erforderl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54400" y="1173240"/>
            <a:ext cx="81352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Möglichkeiten der Cache-Einbindung bei virtuell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irtuell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CPU und MMU gelegt. Die höherwerti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s der logischen Adressen als Tag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567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90920" y="4772160"/>
              <a:ext cx="838080" cy="5713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00240" y="43434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09960" y="535320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99"/>
                </a:solidFill>
                <a:latin typeface="Arial"/>
              </a:rPr>
              <a:t>4.1 Grundprinzip und Zusammenhang mit dem Betriebsystem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1249200"/>
            <a:ext cx="75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 des Begriffs "Betriebssystem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nach dem Deutschen Institut für Normung (DIN 4430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2238480"/>
            <a:ext cx="8296200" cy="20764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 Betriebsystem umfasst die Programme eines digital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systems, die zusammen mit den Eigenschaften der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anlage die Grundlage der möglichen Betriebsart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des digitalen Rechensystems bilden und insbesondere die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Abwicklung von Programmen steuern und überw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640" y="453564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 eines Betriebsystems ist es, die semant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 zwischen Anwendung (wünscht möglich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Operationen) und Hardware (bietet elementa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en) zu verklein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11640" y="1287360"/>
            <a:ext cx="7576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ysikalisch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MMU und Speicher gelegt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höherwertigen Bits der physikalischen Adre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als Tags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582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72080" y="4762440"/>
              <a:ext cx="838080" cy="57168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48360" y="433404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58080" y="53434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irtueller und physikalischer Cach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4760" y="1316160"/>
            <a:ext cx="8166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virtuell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Treffern wird die MMU nicht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physikalisch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hysikalische Adresse ist i.A. viel kleiner als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 Adresse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eniger Bits müssen als Ta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die MMU auf dem Prozessorchip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kann nur der physikalische Cache außerhalb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3016080"/>
            <a:ext cx="38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5 Segment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08680" y="1239840"/>
            <a:ext cx="808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ein oder mehrere physikalis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e (zusammenhängende Speicherberei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bler Länge) 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verschiedene Segmenttypen (für Code, Da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ximale Segmentlängen je nach Prozessor zwisch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64 KByte und 4 G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2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rechnung der physikalischen aus der logischen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14560" y="2219400"/>
            <a:ext cx="130464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19200" y="2219400"/>
            <a:ext cx="130500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29200" y="1981080"/>
            <a:ext cx="1943280" cy="64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032440" y="4584600"/>
            <a:ext cx="19429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25960" y="3133800"/>
            <a:ext cx="1943280" cy="399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w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71560" y="2676600"/>
            <a:ext cx="2772000" cy="1866960"/>
          </a:xfrm>
          <a:custGeom>
            <a:avLst/>
            <a:gdLst/>
            <a:ahLst/>
            <a:rect l="l" t="t" r="r" b="b"/>
            <a:pathLst>
              <a:path w="1746" h="1176">
                <a:moveTo>
                  <a:pt x="0" y="0"/>
                </a:moveTo>
                <a:lnTo>
                  <a:pt x="0" y="1176"/>
                </a:lnTo>
                <a:lnTo>
                  <a:pt x="1746" y="11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67200" y="2657520"/>
            <a:ext cx="1581120" cy="1374840"/>
          </a:xfrm>
          <a:custGeom>
            <a:avLst/>
            <a:gdLst/>
            <a:ahLst/>
            <a:rect l="l" t="t" r="r" b="b"/>
            <a:pathLst>
              <a:path w="996" h="866">
                <a:moveTo>
                  <a:pt x="0" y="0"/>
                </a:moveTo>
                <a:lnTo>
                  <a:pt x="0" y="864"/>
                </a:lnTo>
                <a:lnTo>
                  <a:pt x="996" y="8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38600" y="3533760"/>
            <a:ext cx="276480" cy="990720"/>
          </a:xfrm>
          <a:custGeom>
            <a:avLst/>
            <a:gdLst/>
            <a:ahLst/>
            <a:rect l="l" t="t" r="r" b="b"/>
            <a:pathLst>
              <a:path w="174" h="624">
                <a:moveTo>
                  <a:pt x="174" y="0"/>
                </a:moveTo>
                <a:lnTo>
                  <a:pt x="0" y="0"/>
                </a:lnTo>
                <a:lnTo>
                  <a:pt x="0" y="624"/>
                </a:lnTo>
                <a:lnTo>
                  <a:pt x="168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43840" y="2638440"/>
            <a:ext cx="247680" cy="1906560"/>
          </a:xfrm>
          <a:custGeom>
            <a:avLst/>
            <a:gdLst/>
            <a:ahLst/>
            <a:rect l="l" t="t" r="r" b="b"/>
            <a:pathLst>
              <a:path w="156" h="1201">
                <a:moveTo>
                  <a:pt x="0" y="0"/>
                </a:moveTo>
                <a:lnTo>
                  <a:pt x="156" y="0"/>
                </a:lnTo>
                <a:lnTo>
                  <a:pt x="156" y="1201"/>
                </a:lnTo>
                <a:lnTo>
                  <a:pt x="6" y="12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3856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3800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4048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029200" y="4314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61240" y="38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61240" y="4054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61240" y="4321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7248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02920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029200" y="5219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029200" y="196848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26160" y="1585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93080" y="14112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55680" y="3303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94040" y="459900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92080" y="260208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1              16 15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029200" y="45687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029200" y="2616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2280" y="1096920"/>
            <a:ext cx="802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 Speicherzelle wird durch einen Segment-Selektor, der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anfang kennzeichnet, und einen Offset innerhalb de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s adres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Selektoren werden in speziellen Segment-Register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peichert, da durch Lokalitäts-Eigenschaften in Programm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-Selektoren selten wechsel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m dies zu unterstützen, existieren verschiedene Register fü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verschieden Segment-Ty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de-Segment, Daten-Segment, Stack-Segment, Extra-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ichtige Informationen über das ausgewählte Segment werden i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sz="2000" spc="-1" strike="noStrike">
                <a:solidFill>
                  <a:srgbClr val="3333ff"/>
                </a:solidFill>
                <a:latin typeface="Arial"/>
              </a:rPr>
              <a:t>Segment-Descriptor-Cach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bgeleg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keine Speicherzugriff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im Lesen der Segmenteigenscha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34080" y="1190520"/>
            <a:ext cx="619200" cy="461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00920" y="2486160"/>
            <a:ext cx="1095480" cy="1771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91360" y="263844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91360" y="294336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91360" y="323856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191360" y="354348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081920" y="384336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91440" y="2552760"/>
            <a:ext cx="799920" cy="266760"/>
          </a:xfrm>
          <a:custGeom>
            <a:avLst/>
            <a:gdLst/>
            <a:ahLst/>
            <a:rect l="l" t="t" r="r" b="b"/>
            <a:pathLst>
              <a:path w="504" h="168">
                <a:moveTo>
                  <a:pt x="504" y="168"/>
                </a:moveTo>
                <a:lnTo>
                  <a:pt x="264" y="168"/>
                </a:lnTo>
                <a:lnTo>
                  <a:pt x="26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62640" y="2895480"/>
            <a:ext cx="809640" cy="228600"/>
          </a:xfrm>
          <a:custGeom>
            <a:avLst/>
            <a:gdLst/>
            <a:ahLst/>
            <a:rect l="l" t="t" r="r" b="b"/>
            <a:pathLst>
              <a:path w="510" h="144">
                <a:moveTo>
                  <a:pt x="510" y="144"/>
                </a:moveTo>
                <a:lnTo>
                  <a:pt x="276" y="144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53280" y="3429000"/>
            <a:ext cx="809640" cy="390600"/>
          </a:xfrm>
          <a:custGeom>
            <a:avLst/>
            <a:gdLst/>
            <a:ahLst/>
            <a:rect l="l" t="t" r="r" b="b"/>
            <a:pathLst>
              <a:path w="528" h="258">
                <a:moveTo>
                  <a:pt x="528" y="0"/>
                </a:moveTo>
                <a:lnTo>
                  <a:pt x="288" y="0"/>
                </a:lnTo>
                <a:lnTo>
                  <a:pt x="288" y="258"/>
                </a:lnTo>
                <a:lnTo>
                  <a:pt x="18" y="258"/>
                </a:lnTo>
                <a:lnTo>
                  <a:pt x="0" y="2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81720" y="3714840"/>
            <a:ext cx="819360" cy="990360"/>
          </a:xfrm>
          <a:custGeom>
            <a:avLst/>
            <a:gdLst/>
            <a:ahLst/>
            <a:rect l="l" t="t" r="r" b="b"/>
            <a:pathLst>
              <a:path w="516" h="624">
                <a:moveTo>
                  <a:pt x="516" y="0"/>
                </a:moveTo>
                <a:lnTo>
                  <a:pt x="276" y="0"/>
                </a:lnTo>
                <a:lnTo>
                  <a:pt x="276" y="624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34080" y="1419120"/>
            <a:ext cx="619200" cy="295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34080" y="1714680"/>
            <a:ext cx="619200" cy="295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34080" y="229536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34080" y="263844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34080" y="319104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34080" y="409572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34080" y="500076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2760" y="2021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57160" y="150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57160" y="2427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24760" y="31798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01080" y="511344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01080" y="40845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77400" y="5792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2080" y="1257480"/>
            <a:ext cx="42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die Arbeitsmen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working set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Prozessors mit Hilfe des Segment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543640" y="4943520"/>
            <a:ext cx="390600" cy="438120"/>
          </a:xfrm>
          <a:prstGeom prst="downArrow">
            <a:avLst>
              <a:gd name="adj1" fmla="val 44713"/>
              <a:gd name="adj2" fmla="val 4914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00840" y="2676600"/>
            <a:ext cx="390600" cy="1704960"/>
          </a:xfrm>
          <a:prstGeom prst="downArrow">
            <a:avLst>
              <a:gd name="adj1" fmla="val 39833"/>
              <a:gd name="adj2" fmla="val 803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26880" y="1096920"/>
            <a:ext cx="822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80286 kennt zwei spezielle Betriebsarten für di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verwal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al (Address) Mod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Kompatibilitätsmo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 80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921120" y="1920960"/>
            <a:ext cx="3532320" cy="603000"/>
            <a:chOff x="3921120" y="1920960"/>
            <a:chExt cx="3532320" cy="603000"/>
          </a:xfrm>
        </p:grpSpPr>
        <p:sp>
          <p:nvSpPr>
            <p:cNvPr id="663" name=""/>
            <p:cNvSpPr/>
            <p:nvPr/>
          </p:nvSpPr>
          <p:spPr>
            <a:xfrm>
              <a:off x="3921120" y="218124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15080" y="21812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31920" y="19209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73720" y="1920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75480" y="21924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0560" y="2192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917520" y="2978280"/>
            <a:ext cx="3521520" cy="612720"/>
            <a:chOff x="3917520" y="2978280"/>
            <a:chExt cx="3521520" cy="612720"/>
          </a:xfrm>
        </p:grpSpPr>
        <p:sp>
          <p:nvSpPr>
            <p:cNvPr id="670" name=""/>
            <p:cNvSpPr/>
            <p:nvPr/>
          </p:nvSpPr>
          <p:spPr>
            <a:xfrm>
              <a:off x="3940200" y="323856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34000" y="3247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17520" y="2978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59320" y="2978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52080" y="3259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334400" y="323064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gment-Sel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714920" y="4390920"/>
            <a:ext cx="2095560" cy="581040"/>
          </a:xfrm>
          <a:custGeom>
            <a:avLst/>
            <a:gdLst>
              <a:gd name="textAreaLeft" fmla="*/ 460800 w 2095560"/>
              <a:gd name="textAreaRight" fmla="*/ 1634760 w 2095560"/>
              <a:gd name="textAreaTop" fmla="*/ 127800 h 581040"/>
              <a:gd name="textAreaBottom" fmla="*/ 4532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907800" y="5530680"/>
            <a:ext cx="3602880" cy="610560"/>
            <a:chOff x="3907800" y="5530680"/>
            <a:chExt cx="3602880" cy="610560"/>
          </a:xfrm>
        </p:grpSpPr>
        <p:sp>
          <p:nvSpPr>
            <p:cNvPr id="678" name=""/>
            <p:cNvSpPr/>
            <p:nvPr/>
          </p:nvSpPr>
          <p:spPr>
            <a:xfrm>
              <a:off x="3949560" y="579600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07800" y="5530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30960" y="5530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00320" y="5803920"/>
              <a:ext cx="298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 Adresse  (20 B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 rot="16200000">
            <a:off x="6129360" y="1385640"/>
            <a:ext cx="104760" cy="2485800"/>
          </a:xfrm>
          <a:custGeom>
            <a:avLst/>
            <a:gdLst>
              <a:gd name="textAreaLeft" fmla="*/ 66960 w 104760"/>
              <a:gd name="textAreaRight" fmla="*/ 105120 w 104760"/>
              <a:gd name="textAreaTop" fmla="*/ 64800 h 2485800"/>
              <a:gd name="textAreaBottom" fmla="*/ 2421000 h 24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24560" y="3774960"/>
            <a:ext cx="390600" cy="666720"/>
          </a:xfrm>
          <a:prstGeom prst="downArrow">
            <a:avLst>
              <a:gd name="adj1" fmla="val 44713"/>
              <a:gd name="adj2" fmla="val 7478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659200" y="2007720"/>
            <a:ext cx="155880" cy="3387600"/>
          </a:xfrm>
          <a:custGeom>
            <a:avLst/>
            <a:gdLst>
              <a:gd name="textAreaLeft" fmla="*/ 99720 w 155880"/>
              <a:gd name="textAreaRight" fmla="*/ 156240 w 155880"/>
              <a:gd name="textAreaTop" fmla="*/ 88200 h 3387600"/>
              <a:gd name="textAreaBottom" fmla="*/ 3299400 h 33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 rot="5400000">
            <a:off x="5572080" y="3762360"/>
            <a:ext cx="285840" cy="3476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90360 h 3476880"/>
              <a:gd name="textAreaBottom" fmla="*/ 3386520 h 347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7"/>
                </a:lnTo>
                <a:cubicBezTo>
                  <a:pt x="10800" y="10057"/>
                  <a:pt x="5400" y="10957"/>
                  <a:pt x="0" y="10957"/>
                </a:cubicBezTo>
                <a:cubicBezTo>
                  <a:pt x="5400" y="10957"/>
                  <a:pt x="10800" y="11857"/>
                  <a:pt x="10800" y="1275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73400" y="20098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z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73400" y="311472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5921280" y="2644920"/>
            <a:ext cx="1505160" cy="3558960"/>
          </a:xfrm>
          <a:prstGeom prst="cube">
            <a:avLst>
              <a:gd name="adj" fmla="val 6893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21280" y="3193920"/>
            <a:ext cx="1390680" cy="96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21280" y="4584600"/>
            <a:ext cx="1390680" cy="1425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2920" y="1087560"/>
            <a:ext cx="82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tected (Virtual Address) Mode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mit vergrößertem Adressraum und erweiterten Fähigkeiten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schutz, Multi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1280" y="3527280"/>
            <a:ext cx="1390680" cy="2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21280" y="5032440"/>
            <a:ext cx="139068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Segment-</a:t>
            </a:r>
            <a:br>
              <a:rPr sz="1600"/>
            </a:b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Deskr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02400" y="4575240"/>
            <a:ext cx="190800" cy="1238040"/>
          </a:xfrm>
          <a:custGeom>
            <a:avLst/>
            <a:gdLst>
              <a:gd name="textAreaLeft" fmla="*/ 0 w 190800"/>
              <a:gd name="textAreaRight" fmla="*/ 68760 w 1908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531200" y="3203640"/>
            <a:ext cx="171360" cy="923760"/>
          </a:xfrm>
          <a:custGeom>
            <a:avLst/>
            <a:gdLst>
              <a:gd name="textAreaLeft" fmla="*/ 0 w 171360"/>
              <a:gd name="textAreaRight" fmla="*/ 61920 w 171360"/>
              <a:gd name="textAreaTop" fmla="*/ 23760 h 923760"/>
              <a:gd name="textAreaBottom" fmla="*/ 900000 h 92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51040" y="2260440"/>
            <a:ext cx="4419360" cy="3848400"/>
          </a:xfrm>
          <a:prstGeom prst="rect">
            <a:avLst/>
          </a:prstGeom>
          <a:solidFill>
            <a:srgbClr val="d9ff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4452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rot="16200000">
            <a:off x="3606480" y="3784320"/>
            <a:ext cx="1600200" cy="876240"/>
          </a:xfrm>
          <a:custGeom>
            <a:avLst/>
            <a:gdLst>
              <a:gd name="textAreaLeft" fmla="*/ 267840 w 1600200"/>
              <a:gd name="textAreaRight" fmla="*/ 1332360 w 1600200"/>
              <a:gd name="textAreaTop" fmla="*/ 146520 h 876240"/>
              <a:gd name="textAreaBottom" fmla="*/ 72972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37" y="21600"/>
                </a:lnTo>
                <a:lnTo>
                  <a:pt x="336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30600" y="4724280"/>
            <a:ext cx="1257120" cy="60984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974760" y="549900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5400000">
            <a:off x="3932280" y="399816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3364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11280" y="5334120"/>
            <a:ext cx="2476440" cy="33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ment-Basis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13000" y="504360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3                                   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3949560" y="4127400"/>
            <a:ext cx="2919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683160" y="2983680"/>
            <a:ext cx="291960" cy="76212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47760" y="2338560"/>
            <a:ext cx="36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 1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68560" y="2971800"/>
            <a:ext cx="5460840" cy="2946240"/>
          </a:xfrm>
          <a:custGeom>
            <a:avLst/>
            <a:gdLst/>
            <a:ahLst/>
            <a:rect l="l" t="t" r="r" b="b"/>
            <a:pathLst>
              <a:path w="3488" h="1856">
                <a:moveTo>
                  <a:pt x="576" y="0"/>
                </a:moveTo>
                <a:lnTo>
                  <a:pt x="576" y="192"/>
                </a:lnTo>
                <a:lnTo>
                  <a:pt x="0" y="192"/>
                </a:lnTo>
                <a:lnTo>
                  <a:pt x="0" y="1856"/>
                </a:lnTo>
                <a:lnTo>
                  <a:pt x="3488" y="1856"/>
                </a:lnTo>
                <a:lnTo>
                  <a:pt x="3488" y="16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38760" y="3657600"/>
            <a:ext cx="1104840" cy="558720"/>
          </a:xfrm>
          <a:custGeom>
            <a:avLst/>
            <a:gdLst/>
            <a:ahLst/>
            <a:rect l="l" t="t" r="r" b="b"/>
            <a:pathLst>
              <a:path w="696" h="352">
                <a:moveTo>
                  <a:pt x="0" y="352"/>
                </a:moveTo>
                <a:lnTo>
                  <a:pt x="440" y="352"/>
                </a:lnTo>
                <a:lnTo>
                  <a:pt x="440" y="0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835040" y="3500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59080" y="474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kripto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1280" y="358776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23440" y="220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60440" y="1392120"/>
            <a:ext cx="794376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Segment-Selektor spezifiziert hier nicht die Basisadresse des Segments selbst, sondern verweist auf d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 Deskript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n der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-Deskriptor-Tabel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m 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r Segment-Deskriptor beschreibt das zugehörige Segment durch folgende Attribu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Basisadresse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ase addres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Größe in Bytes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Zugriffsrechte auf das Segmen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access righ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bbildung eines logischen 32-Bit Adressraums auf ein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hysikalischen 24 Bit Adress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Betriebsystem verkleinert die semantische Lück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00240" y="3486240"/>
            <a:ext cx="2609640" cy="2104920"/>
            <a:chOff x="1200240" y="3486240"/>
            <a:chExt cx="2609640" cy="2104920"/>
          </a:xfrm>
        </p:grpSpPr>
        <p:sp>
          <p:nvSpPr>
            <p:cNvPr id="55" name=""/>
            <p:cNvSpPr/>
            <p:nvPr/>
          </p:nvSpPr>
          <p:spPr>
            <a:xfrm>
              <a:off x="1200240" y="348624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9600" y="502920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200240" y="1190520"/>
            <a:ext cx="6560280" cy="1943280"/>
            <a:chOff x="1200240" y="1190520"/>
            <a:chExt cx="6560280" cy="1943280"/>
          </a:xfrm>
        </p:grpSpPr>
        <p:sp>
          <p:nvSpPr>
            <p:cNvPr id="58" name=""/>
            <p:cNvSpPr/>
            <p:nvPr/>
          </p:nvSpPr>
          <p:spPr>
            <a:xfrm>
              <a:off x="1200240" y="119052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9600" y="257184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48200" y="216216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2320" y="18972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28960" y="1762200"/>
              <a:ext cx="228600" cy="809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9640"/>
                <a:gd name="textAreaBottom" fmla="*/ 78876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9840" y="4057560"/>
            <a:ext cx="7679160" cy="2164680"/>
            <a:chOff x="519840" y="4057560"/>
            <a:chExt cx="7679160" cy="2164680"/>
          </a:xfrm>
        </p:grpSpPr>
        <p:sp>
          <p:nvSpPr>
            <p:cNvPr id="64" name=""/>
            <p:cNvSpPr/>
            <p:nvPr/>
          </p:nvSpPr>
          <p:spPr>
            <a:xfrm>
              <a:off x="519840" y="5762520"/>
              <a:ext cx="75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ystem erweitert die Fähigkeiten der Hardwar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09600" y="4467240"/>
              <a:ext cx="2600280" cy="561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800" y="406872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9600" y="4057560"/>
              <a:ext cx="228600" cy="428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1160 h 428760"/>
                <a:gd name="textAreaBottom" fmla="*/ 4176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00680" y="42670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6  Seiten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1440" y="1144440"/>
            <a:ext cx="8136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viele kleine Seiten gleicher Läng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längen von 256 Byte bis 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 Segmenten können Seiten nicht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liebiger Stelle im Speicher beginnen, sondern nur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m festen an der Seitengröße orientierten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3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Kompatibilitätsgründen zum 80286 enthäl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80386 sowohl eine Segment-Verwaltung wie auch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93840" y="1994040"/>
            <a:ext cx="18414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59120" y="1994040"/>
            <a:ext cx="171468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6730920" y="1993680"/>
            <a:ext cx="1968480" cy="126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2952720" y="2381400"/>
            <a:ext cx="12600" cy="406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076800" y="2368080"/>
            <a:ext cx="12960" cy="406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6560" y="3605040"/>
            <a:ext cx="82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nächst wird wie beim 80286 die logische Adresse üb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egment-Verwaltung umgesetzt. Die entstehe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heißt hi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m 80286 wurde die logisch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80386 jedoch auf 48 Bit erweitert, die linear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entspricht der physikalischen beim 80286) auf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22640" y="1568520"/>
            <a:ext cx="152388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73800" y="1568520"/>
            <a:ext cx="125712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ging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11560" y="2762280"/>
            <a:ext cx="129528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kritor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11960" y="2774880"/>
            <a:ext cx="114300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5800" y="119232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08520" y="119232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07040" y="119232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3480" y="21384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ktor: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6520" y="1203480"/>
            <a:ext cx="820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nachgeschaltete Seiten-Verwaltung kann optio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geschalt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tibilitätsmode zum 80286,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ineare Adresse = physikalisch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derenfalls wird aus der linearen Adresse durch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 die physikalische Adresse ermitt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bei Prozessoren mit ausschliesslich Seiten-Verwalt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pricht die lineare Adresse somit der logischen Adr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4267080" y="502920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381800" y="1222200"/>
            <a:ext cx="127656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81800" y="2114640"/>
            <a:ext cx="1162080" cy="131760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38180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54080" y="1676520"/>
            <a:ext cx="1690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631880" y="443844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13080" y="1676520"/>
            <a:ext cx="1474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9040" y="539748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0760" y="504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60920" y="1955880"/>
            <a:ext cx="1422360" cy="76176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81000" y="1995480"/>
            <a:ext cx="45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57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51840" y="5597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Adressr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74120" y="24354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6608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25804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6760" y="2790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1676520"/>
            <a:ext cx="14875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27000" y="539748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5880" y="2489040"/>
            <a:ext cx="41940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27880" y="2717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40120" y="343224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4012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3244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2440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616720" y="475920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6200000">
            <a:off x="5118120" y="3708360"/>
            <a:ext cx="1993680" cy="39384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00680" y="4800600"/>
            <a:ext cx="41904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11480" y="2019240"/>
            <a:ext cx="1130400" cy="2768760"/>
          </a:xfrm>
          <a:custGeom>
            <a:avLst/>
            <a:gdLst/>
            <a:ahLst/>
            <a:rect l="l" t="t" r="r" b="b"/>
            <a:pathLst>
              <a:path w="480" h="1744">
                <a:moveTo>
                  <a:pt x="0" y="0"/>
                </a:moveTo>
                <a:lnTo>
                  <a:pt x="0" y="568"/>
                </a:lnTo>
                <a:lnTo>
                  <a:pt x="480" y="568"/>
                </a:lnTo>
                <a:lnTo>
                  <a:pt x="480" y="1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76640" y="3432240"/>
            <a:ext cx="126360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7664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6860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6056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5288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397160" y="401328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816200" y="424188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20960" y="5016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720960" y="4127400"/>
            <a:ext cx="1054080" cy="14734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4140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36640" y="5524560"/>
            <a:ext cx="143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19280" y="2025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197800" y="5597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tabell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Verzeich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22040" y="55976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70760" y="12574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94760" y="205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Konkat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7880" y="1382760"/>
            <a:ext cx="837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stufiges hierarchiches Tabellenverfah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tab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, Seitentabellen und Seiten si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4 KByte lang, Seitentabellen und -verzeichnis fa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1000 Einträ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800760" y="1371600"/>
            <a:ext cx="809640" cy="4114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10480" y="2048040"/>
            <a:ext cx="793800" cy="119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314440" y="4200480"/>
            <a:ext cx="828720" cy="12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14440" y="4200480"/>
            <a:ext cx="828720" cy="1276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10160" y="4210200"/>
            <a:ext cx="819000" cy="1276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7620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43160" y="2009880"/>
            <a:ext cx="1447920" cy="9525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7952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81280" y="1976400"/>
            <a:ext cx="50472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31444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2720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3672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40120" y="4376880"/>
            <a:ext cx="19836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0724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2000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22628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439040" y="2325600"/>
            <a:ext cx="1713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1016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2292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2920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241960" y="4910040"/>
            <a:ext cx="1839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19360" y="1762200"/>
            <a:ext cx="3191040" cy="676080"/>
          </a:xfrm>
          <a:custGeom>
            <a:avLst/>
            <a:gdLst/>
            <a:ahLst/>
            <a:rect l="l" t="t" r="r" b="b"/>
            <a:pathLst>
              <a:path w="2010" h="426">
                <a:moveTo>
                  <a:pt x="0" y="132"/>
                </a:moveTo>
                <a:lnTo>
                  <a:pt x="0" y="0"/>
                </a:lnTo>
                <a:lnTo>
                  <a:pt x="2010" y="6"/>
                </a:lnTo>
                <a:lnTo>
                  <a:pt x="2010" y="4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76480" y="2276640"/>
            <a:ext cx="2038320" cy="2685960"/>
          </a:xfrm>
          <a:custGeom>
            <a:avLst/>
            <a:gdLst/>
            <a:ahLst/>
            <a:rect l="l" t="t" r="r" b="b"/>
            <a:pathLst>
              <a:path w="1284" h="1692">
                <a:moveTo>
                  <a:pt x="0" y="0"/>
                </a:moveTo>
                <a:lnTo>
                  <a:pt x="6" y="756"/>
                </a:lnTo>
                <a:lnTo>
                  <a:pt x="1284" y="774"/>
                </a:lnTo>
                <a:lnTo>
                  <a:pt x="1284" y="1692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52880" y="4486320"/>
            <a:ext cx="1438200" cy="981000"/>
          </a:xfrm>
          <a:custGeom>
            <a:avLst/>
            <a:gdLst/>
            <a:ahLst/>
            <a:rect l="l" t="t" r="r" b="b"/>
            <a:pathLst>
              <a:path w="906" h="636">
                <a:moveTo>
                  <a:pt x="0" y="6"/>
                </a:moveTo>
                <a:lnTo>
                  <a:pt x="240" y="0"/>
                </a:lnTo>
                <a:lnTo>
                  <a:pt x="240" y="636"/>
                </a:lnTo>
                <a:lnTo>
                  <a:pt x="906" y="63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33600" y="2257560"/>
            <a:ext cx="1440" cy="2200320"/>
          </a:xfrm>
          <a:custGeom>
            <a:avLst/>
            <a:gdLst/>
            <a:ahLst/>
            <a:rect l="l" t="t" r="r" b="b"/>
            <a:pathLst>
              <a:path w="1" h="1386">
                <a:moveTo>
                  <a:pt x="0" y="0"/>
                </a:moveTo>
                <a:lnTo>
                  <a:pt x="0" y="1386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523880" y="2790360"/>
            <a:ext cx="1571760" cy="972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0858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714680" y="4581360"/>
            <a:ext cx="59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533600" y="47052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43000" y="5305320"/>
            <a:ext cx="790560" cy="29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85880" y="5448240"/>
            <a:ext cx="628560" cy="9720"/>
          </a:xfrm>
          <a:custGeom>
            <a:avLst/>
            <a:gdLst/>
            <a:ahLst/>
            <a:rect l="l" t="t" r="r" b="b"/>
            <a:pathLst>
              <a:path w="396" h="6">
                <a:moveTo>
                  <a:pt x="0" y="0"/>
                </a:moveTo>
                <a:lnTo>
                  <a:pt x="396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429160" y="2666880"/>
            <a:ext cx="381240" cy="2333880"/>
          </a:xfrm>
          <a:custGeom>
            <a:avLst/>
            <a:gdLst/>
            <a:ahLst/>
            <a:rect l="l" t="t" r="r" b="b"/>
            <a:pathLst>
              <a:path w="240" h="1470">
                <a:moveTo>
                  <a:pt x="0" y="1470"/>
                </a:moveTo>
                <a:lnTo>
                  <a:pt x="240" y="146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829480" y="3267000"/>
            <a:ext cx="952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943600" y="2514600"/>
            <a:ext cx="81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6292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09760" y="4495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67480" y="245736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81600" y="4981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43480" y="5079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80040" y="506736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1400" y="16081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91720" y="1407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65840" y="12812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G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53600" y="263844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-kbyte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32040" y="20811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ffer (h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560" y="2028960"/>
            <a:ext cx="118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okasi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98760" y="35290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Treffer (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104120" y="52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65320" y="220824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1      21       11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662440" y="2397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07960" y="4441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973320" y="492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68640" y="1278000"/>
            <a:ext cx="799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chneller voll-assoziativer Cach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okaside Buff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TBL) speichert automatisch die 32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letzt benutzen Einträge aus Seitentabellenverzeichni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eiten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Trefferfall (Trefferquote ca. 90 %) muß nich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im Hauptspeicher liegenden Tab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4400" y="129708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ohl bei segmentorientierter wie bei seitenorientier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eine Seite oder ein Segment nicht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tspeicher, so löst der Prozessor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 aus, um die Seite oder da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Betriebssystem zu la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- oder Segment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01840" y="1181160"/>
            <a:ext cx="79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gment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im Segment-Deskriptor zeigt an, ob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 im Hauptspeicher ist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iten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nummer befindet sich nicht in der Seitentabel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fehl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zielles Kennungbit im Seitentabellen-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tabellen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8600" y="1239840"/>
            <a:ext cx="82296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tragsverwaltung (Prozeß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Betriebsmittel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resource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et alle peripheren Betriebsmittel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nersystems, wie z.B. Festplatte, Floppy Disk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DROM, Drucke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Zie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fache, effektive und konfliktfreie Nutzung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 durch die verschiedenen Proze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8600" y="1239840"/>
            <a:ext cx="8219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Auftrags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task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ung der Prozess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Prozeß kann im Laufe seiner Bearbeitung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folgende unterscheidbaren Zustä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ne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09760" y="3933720"/>
            <a:ext cx="6438960" cy="1986120"/>
            <a:chOff x="1409760" y="3933720"/>
            <a:chExt cx="6438960" cy="1986120"/>
          </a:xfrm>
        </p:grpSpPr>
        <p:sp>
          <p:nvSpPr>
            <p:cNvPr id="74" name=""/>
            <p:cNvSpPr/>
            <p:nvPr/>
          </p:nvSpPr>
          <p:spPr>
            <a:xfrm>
              <a:off x="3819600" y="393372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0976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28760" y="4438440"/>
              <a:ext cx="1590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00720" y="4495680"/>
              <a:ext cx="165744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09960" y="546732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09960" y="574344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5040" y="1192320"/>
            <a:ext cx="8445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ltung dieser Zustände und Übergän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ufgrund äußerer oder innerer Ereignisse) si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e Aufgaben der Auftragsverwalt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st effiziente und scheinbar paralle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rbeitung mehrerer 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76360" y="4219560"/>
            <a:ext cx="5794200" cy="1788840"/>
            <a:chOff x="1476360" y="4219560"/>
            <a:chExt cx="5794200" cy="1788840"/>
          </a:xfrm>
        </p:grpSpPr>
        <p:sp>
          <p:nvSpPr>
            <p:cNvPr id="84" name=""/>
            <p:cNvSpPr/>
            <p:nvPr/>
          </p:nvSpPr>
          <p:spPr>
            <a:xfrm>
              <a:off x="3645000" y="421956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305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213280" y="4674240"/>
              <a:ext cx="1431360" cy="7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7720" y="4725720"/>
              <a:ext cx="1491480" cy="69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560088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16360" y="584964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8600" y="1239840"/>
            <a:ext cx="821988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peicher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memory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immer größer werdende Programme so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r quasi gleichzeitig laufender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zur Verfügung stehende Arbeitsspeicher wir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 zu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bhilf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die gerade benötigten Teile der aktiv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 werden wirklich im Arbeits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halten, der Rest befindet sich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rundspeicher und wird bei Bedarf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wapping, pag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Grundstruktur virtueller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85960" y="1463760"/>
            <a:ext cx="6969960" cy="3813480"/>
            <a:chOff x="885960" y="1463760"/>
            <a:chExt cx="6969960" cy="3813480"/>
          </a:xfrm>
        </p:grpSpPr>
        <p:sp>
          <p:nvSpPr>
            <p:cNvPr id="95" name=""/>
            <p:cNvSpPr/>
            <p:nvPr/>
          </p:nvSpPr>
          <p:spPr>
            <a:xfrm>
              <a:off x="1219320" y="1868400"/>
              <a:ext cx="495360" cy="505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24120" y="26290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4120" y="21337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24120" y="3105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2720" y="2876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52720" y="26290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52720" y="2381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52720" y="21337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52720" y="18860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52720" y="3105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00560" y="2876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00560" y="2381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00560" y="3105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71960" y="2876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71960" y="2381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71960" y="18860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724120" y="1886040"/>
              <a:ext cx="905040" cy="1466640"/>
              <a:chOff x="2724120" y="1886040"/>
              <a:chExt cx="905040" cy="1466640"/>
            </a:xfrm>
          </p:grpSpPr>
          <p:sp>
            <p:nvSpPr>
              <p:cNvPr id="112" name=""/>
              <p:cNvSpPr/>
              <p:nvPr/>
            </p:nvSpPr>
            <p:spPr>
              <a:xfrm>
                <a:off x="2724120" y="2381400"/>
                <a:ext cx="228600" cy="247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00560" y="2629080"/>
                <a:ext cx="228600" cy="24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00560" y="1886040"/>
                <a:ext cx="228600" cy="2476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71960" y="2629080"/>
                <a:ext cx="228600" cy="24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71960" y="3105000"/>
                <a:ext cx="228600" cy="247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629160" y="26290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29160" y="2381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29160" y="21337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9160" y="18860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9160" y="3105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7760" y="2876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724120" y="1886040"/>
              <a:ext cx="1362240" cy="1238040"/>
              <a:chOff x="2724120" y="1886040"/>
              <a:chExt cx="1362240" cy="1238040"/>
            </a:xfrm>
          </p:grpSpPr>
          <p:sp>
            <p:nvSpPr>
              <p:cNvPr id="124" name=""/>
              <p:cNvSpPr/>
              <p:nvPr/>
            </p:nvSpPr>
            <p:spPr>
              <a:xfrm>
                <a:off x="2724120" y="2876400"/>
                <a:ext cx="228600" cy="247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24120" y="1886040"/>
                <a:ext cx="228600" cy="247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00560" y="2133720"/>
                <a:ext cx="228600" cy="2476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71960" y="2133720"/>
                <a:ext cx="228600" cy="2476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29160" y="2876400"/>
                <a:ext cx="228600" cy="247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57760" y="2629080"/>
                <a:ext cx="228600" cy="247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57760" y="23814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57760" y="21337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57760" y="18860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7760" y="3105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1488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1488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1488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1488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1488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4348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4348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4348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132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132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6272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272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1992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1992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992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4852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852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852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4852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1488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1488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1488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348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3480" y="4076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348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4348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4348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1320" y="4076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132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132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4076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92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992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992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1992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4076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852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4852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12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712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0572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0572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0572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53200" y="4076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5320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5320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5320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320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2460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460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2460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2460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81800" y="4076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8180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180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1800" y="45529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0400" y="4324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10400" y="4076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0400" y="3828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0400" y="358128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10400" y="33336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7712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7712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572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0572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0572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0572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5320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5320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5320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320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5320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5320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2460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24600" y="261000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2460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2460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24600" y="186696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2460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8180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180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8180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8180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10400" y="28576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10400" y="236232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10400" y="2114640"/>
              <a:ext cx="228600" cy="24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10400" y="3086280"/>
              <a:ext cx="2286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86360" y="2143080"/>
              <a:ext cx="102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24040" y="2124000"/>
              <a:ext cx="102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17800" y="14637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2640" y="1463760"/>
              <a:ext cx="182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aupt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77160" y="1463760"/>
              <a:ext cx="24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intergrund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3120" y="3373560"/>
              <a:ext cx="189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rbeitsme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99760" y="4811760"/>
              <a:ext cx="275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gramme und 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85960" y="1866960"/>
              <a:ext cx="6953040" cy="3410280"/>
              <a:chOff x="885960" y="1866960"/>
              <a:chExt cx="6953040" cy="3410280"/>
            </a:xfrm>
          </p:grpSpPr>
          <p:sp>
            <p:nvSpPr>
              <p:cNvPr id="252" name=""/>
              <p:cNvSpPr/>
              <p:nvPr/>
            </p:nvSpPr>
            <p:spPr>
              <a:xfrm>
                <a:off x="5114880" y="2362320"/>
                <a:ext cx="228600" cy="2476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343480" y="2610000"/>
                <a:ext cx="228600" cy="2476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920" y="1866960"/>
                <a:ext cx="228600" cy="247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14880" y="4076640"/>
                <a:ext cx="228600" cy="2476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14880" y="3581280"/>
                <a:ext cx="228600" cy="24768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62720" y="4324320"/>
                <a:ext cx="228600" cy="2476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076640"/>
                <a:ext cx="228600" cy="24768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48520" y="3828960"/>
                <a:ext cx="228600" cy="2476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77120" y="4076640"/>
                <a:ext cx="228600" cy="24768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05720" y="4076640"/>
                <a:ext cx="228600" cy="2476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05720" y="3333600"/>
                <a:ext cx="228600" cy="24768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53200" y="4324320"/>
                <a:ext cx="228600" cy="24768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24600" y="4076640"/>
                <a:ext cx="228600" cy="2476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24600" y="4552920"/>
                <a:ext cx="228600" cy="24768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610400" y="4552920"/>
                <a:ext cx="228600" cy="24768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77120" y="3086280"/>
                <a:ext cx="228600" cy="24732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10400" y="1866960"/>
                <a:ext cx="228600" cy="2476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5960" y="4943520"/>
                <a:ext cx="228600" cy="24768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35960" y="4878360"/>
                <a:ext cx="13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Prozess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4090320" y="2222640"/>
              <a:ext cx="109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apping,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724120" y="1886040"/>
              <a:ext cx="905040" cy="1466640"/>
              <a:chOff x="2724120" y="1886040"/>
              <a:chExt cx="905040" cy="1466640"/>
            </a:xfrm>
          </p:grpSpPr>
          <p:sp>
            <p:nvSpPr>
              <p:cNvPr id="273" name=""/>
              <p:cNvSpPr/>
              <p:nvPr/>
            </p:nvSpPr>
            <p:spPr>
              <a:xfrm>
                <a:off x="2724120" y="23814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00560" y="26290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00560" y="18860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71960" y="26290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71960" y="3105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24120" y="1886040"/>
              <a:ext cx="1362240" cy="1238040"/>
              <a:chOff x="2724120" y="1886040"/>
              <a:chExt cx="1362240" cy="1238040"/>
            </a:xfrm>
          </p:grpSpPr>
          <p:sp>
            <p:nvSpPr>
              <p:cNvPr id="279" name=""/>
              <p:cNvSpPr/>
              <p:nvPr/>
            </p:nvSpPr>
            <p:spPr>
              <a:xfrm>
                <a:off x="2724120" y="28764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24120" y="18860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00560" y="21337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71960" y="21337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29160" y="28764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57760" y="26290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885960" y="1866960"/>
              <a:ext cx="6953040" cy="2933640"/>
              <a:chOff x="885960" y="1866960"/>
              <a:chExt cx="6953040" cy="29336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5114880" y="1866960"/>
                <a:ext cx="2724120" cy="2933640"/>
                <a:chOff x="5114880" y="1866960"/>
                <a:chExt cx="2724120" cy="29336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3480" y="2857680"/>
                  <a:ext cx="228600" cy="247320"/>
                </a:xfrm>
                <a:prstGeom prst="rect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43480" y="2114640"/>
                  <a:ext cx="228600" cy="247680"/>
                </a:xfrm>
                <a:prstGeom prst="rect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91320" y="2114640"/>
                  <a:ext cx="228600" cy="247680"/>
                </a:xfrm>
                <a:prstGeom prst="rect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562720" y="2114640"/>
                  <a:ext cx="228600" cy="247680"/>
                </a:xfrm>
                <a:prstGeom prst="rect">
                  <a:avLst/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562720" y="3086280"/>
                  <a:ext cx="228600" cy="247320"/>
                </a:xfrm>
                <a:prstGeom prst="rect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114880" y="4552920"/>
                  <a:ext cx="228600" cy="247680"/>
                </a:xfrm>
                <a:prstGeom prst="rect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343480" y="3828960"/>
                  <a:ext cx="228600" cy="24768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62720" y="3333600"/>
                  <a:ext cx="228600" cy="247680"/>
                </a:xfrm>
                <a:prstGeom prst="rect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248520" y="4324320"/>
                  <a:ext cx="228600" cy="247680"/>
                </a:xfrm>
                <a:prstGeom prst="rect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477120" y="3581280"/>
                  <a:ext cx="228600" cy="247680"/>
                </a:xfrm>
                <a:prstGeom prst="rect">
                  <a:avLst/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381800" y="4324320"/>
                  <a:ext cx="228600" cy="247680"/>
                </a:xfrm>
                <a:prstGeom prst="rect">
                  <a:avLst/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381800" y="3581280"/>
                  <a:ext cx="228600" cy="247680"/>
                </a:xfrm>
                <a:prstGeom prst="rect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705720" y="2857680"/>
                  <a:ext cx="228600" cy="247320"/>
                </a:xfrm>
                <a:prstGeom prst="rect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705720" y="2362320"/>
                  <a:ext cx="228600" cy="247680"/>
                </a:xfrm>
                <a:prstGeom prst="rect">
                  <a:avLst/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381800" y="2610000"/>
                  <a:ext cx="228600" cy="247680"/>
                </a:xfrm>
                <a:prstGeom prst="rect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381800" y="1866960"/>
                  <a:ext cx="228600" cy="247680"/>
                </a:xfrm>
                <a:prstGeom prst="rect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610400" y="2610000"/>
                  <a:ext cx="228600" cy="247680"/>
                </a:xfrm>
                <a:prstGeom prst="rect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885960" y="1866960"/>
                <a:ext cx="6953040" cy="2933640"/>
                <a:chOff x="885960" y="1866960"/>
                <a:chExt cx="6953040" cy="29336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85960" y="4457880"/>
                  <a:ext cx="228600" cy="247320"/>
                </a:xfrm>
                <a:prstGeom prst="rect">
                  <a:avLst/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335960" y="4363920"/>
                  <a:ext cx="131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Prozess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43480" y="2857680"/>
                  <a:ext cx="228600" cy="247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43480" y="211464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91320" y="211464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562720" y="211464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62720" y="3086280"/>
                  <a:ext cx="228600" cy="247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14880" y="455292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343480" y="382896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62720" y="333360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248520" y="432432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477120" y="358128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381800" y="432432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381800" y="358128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05720" y="2857680"/>
                  <a:ext cx="228600" cy="247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05720" y="236232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381800" y="261000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381800" y="186696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610400" y="2610000"/>
                  <a:ext cx="22860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114880" y="1866960"/>
              <a:ext cx="2724120" cy="2933640"/>
              <a:chOff x="5114880" y="1866960"/>
              <a:chExt cx="2724120" cy="2933640"/>
            </a:xfrm>
          </p:grpSpPr>
          <p:sp>
            <p:nvSpPr>
              <p:cNvPr id="325" name=""/>
              <p:cNvSpPr/>
              <p:nvPr/>
            </p:nvSpPr>
            <p:spPr>
              <a:xfrm>
                <a:off x="5114880" y="2362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4348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19920" y="1866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14880" y="4076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1488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6272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19920" y="4076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48520" y="3828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77120" y="4076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05720" y="4076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05720" y="33336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5320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24600" y="4076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24600" y="45529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10400" y="45529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77120" y="30862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610400" y="1866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8-05-14T02:26:21Z</dcterms:modified>
  <cp:revision>1514</cp:revision>
  <dc:subject/>
  <dc:title>TI-2</dc:title>
</cp:coreProperties>
</file>