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05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68724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stitut für Prozessrechentechnik, Automation und Roboti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f. rer.nat. U. Brinkschul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371520" y="6400800"/>
          <a:ext cx="360360" cy="360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1520" y="6400800"/>
                    <a:ext cx="3603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8305920" y="64008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D92D8-8354-4AAA-9E53-DCF388D1010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990720"/>
            <a:ext cx="8305920" cy="75960"/>
          </a:xfrm>
          <a:prstGeom prst="rect">
            <a:avLst/>
          </a:prstGeom>
          <a:gradFill rotWithShape="0">
            <a:gsLst>
              <a:gs pos="0">
                <a:srgbClr val="d5ffd5"/>
              </a:gs>
              <a:gs pos="50000">
                <a:srgbClr val="336600"/>
              </a:gs>
              <a:gs pos="100000">
                <a:srgbClr val="d5ff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248520"/>
            <a:ext cx="8305920" cy="759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50000">
                <a:srgbClr val="d5ffd5"/>
              </a:gs>
              <a:gs pos="100000">
                <a:srgbClr val="33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3.png"/><Relationship Id="rId33" Type="http://schemas.openxmlformats.org/officeDocument/2006/relationships/image" Target="../media/image3.png"/><Relationship Id="rId34" Type="http://schemas.openxmlformats.org/officeDocument/2006/relationships/image" Target="../media/image3.png"/><Relationship Id="rId35" Type="http://schemas.openxmlformats.org/officeDocument/2006/relationships/image" Target="../media/image3.png"/><Relationship Id="rId36" Type="http://schemas.openxmlformats.org/officeDocument/2006/relationships/image" Target="../media/image3.png"/><Relationship Id="rId37" Type="http://schemas.openxmlformats.org/officeDocument/2006/relationships/image" Target="../media/image3.png"/><Relationship Id="rId38" Type="http://schemas.openxmlformats.org/officeDocument/2006/relationships/image" Target="../media/image3.png"/><Relationship Id="rId39" Type="http://schemas.openxmlformats.org/officeDocument/2006/relationships/image" Target="../media/image3.png"/><Relationship Id="rId40" Type="http://schemas.openxmlformats.org/officeDocument/2006/relationships/image" Target="../media/image3.png"/><Relationship Id="rId41" Type="http://schemas.openxmlformats.org/officeDocument/2006/relationships/image" Target="../media/image3.png"/><Relationship Id="rId42" Type="http://schemas.openxmlformats.org/officeDocument/2006/relationships/image" Target="../media/image3.png"/><Relationship Id="rId43" Type="http://schemas.openxmlformats.org/officeDocument/2006/relationships/image" Target="../media/image3.png"/><Relationship Id="rId44" Type="http://schemas.openxmlformats.org/officeDocument/2006/relationships/image" Target="../media/image3.png"/><Relationship Id="rId45" Type="http://schemas.openxmlformats.org/officeDocument/2006/relationships/image" Target="../media/image3.png"/><Relationship Id="rId46" Type="http://schemas.openxmlformats.org/officeDocument/2006/relationships/image" Target="../media/image3.png"/><Relationship Id="rId47" Type="http://schemas.openxmlformats.org/officeDocument/2006/relationships/image" Target="../media/image3.png"/><Relationship Id="rId48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Virutelle Speicherverwaltu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91200" y="1170000"/>
            <a:ext cx="70959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Halbleiterspeich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Aufbau und Organi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Techniken zur Zugriffsbeschleunig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Speicherhierarch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􀂾􀂾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Cache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􀂾􀂾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Virtuelle Speicherverwalt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Direct Memory Access (DM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99"/>
                </a:solidFill>
                <a:latin typeface="Arial"/>
              </a:rPr>
              <a:t>Virtuelle Speicherverwaltung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96800" y="1106640"/>
            <a:ext cx="8051400" cy="50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cc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ser Vorgang bleibt dem Anwender völlig verborgen,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.h. der Arbeitsspeicher erscheint dem Anwender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sentlich größer, als er in Wahrheit 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cc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nach diesem Konzept verwalteter Speicher heißt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shalb virtueller Speic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cc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on modernen Prozessoren wird die Verwaltung dieses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irtuellen Speichers hardwaremäßig durch eine MMU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memory management unit) unterstütz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"/>
              </a:lnSpc>
              <a:spcBef>
                <a:spcPts val="1500"/>
              </a:spcBef>
              <a:buClr>
                <a:srgbClr val="00cc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cc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auptaufgabe dieser virtuellen Speicherverwaltung:</a:t>
            </a:r>
            <a:br>
              <a:rPr sz="2400"/>
            </a:br>
            <a:r>
              <a:rPr b="1" lang="de-DE" sz="2400" spc="-1" strike="noStrike">
                <a:solidFill>
                  <a:srgbClr val="3333ff"/>
                </a:solidFill>
                <a:latin typeface="Arial"/>
              </a:rPr>
              <a:t>Umsetzung virtueller (logischer) Adressen in</a:t>
            </a:r>
            <a:br>
              <a:rPr sz="2400"/>
            </a:br>
            <a:r>
              <a:rPr b="1" lang="de-DE" sz="2400" spc="-1" strike="noStrike">
                <a:solidFill>
                  <a:srgbClr val="3333ff"/>
                </a:solidFill>
                <a:latin typeface="Arial"/>
              </a:rPr>
              <a:t> physikalische Adre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171440" y="5295960"/>
            <a:ext cx="6972480" cy="8380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99"/>
                </a:solidFill>
                <a:latin typeface="Arial"/>
              </a:rPr>
              <a:t>Virtuelle Speicherverwaltung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22440" y="1974960"/>
            <a:ext cx="1485720" cy="14349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683160" y="1974960"/>
            <a:ext cx="1485720" cy="1434960"/>
          </a:xfrm>
          <a:prstGeom prst="rect">
            <a:avLst/>
          </a:prstGeom>
          <a:solidFill>
            <a:srgbClr val="c5e2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07240" y="1974960"/>
            <a:ext cx="1485720" cy="14349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450720" y="1249200"/>
            <a:ext cx="8332920" cy="3371040"/>
            <a:chOff x="450720" y="1249200"/>
            <a:chExt cx="8332920" cy="3371040"/>
          </a:xfrm>
        </p:grpSpPr>
        <p:sp>
          <p:nvSpPr>
            <p:cNvPr id="350" name=""/>
            <p:cNvSpPr/>
            <p:nvPr/>
          </p:nvSpPr>
          <p:spPr>
            <a:xfrm>
              <a:off x="450720" y="3916440"/>
              <a:ext cx="8332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000" spc="-1" strike="noStrike">
                  <a:solidFill>
                    <a:srgbClr val="3333ff"/>
                  </a:solidFill>
                  <a:latin typeface="Arial"/>
                </a:rPr>
                <a:t>Benutzer:</a:t>
              </a:r>
              <a:r>
                <a:rPr b="0" sz="2000" spc="-1" strike="noStrike">
                  <a:solidFill>
                    <a:srgbClr val="000000"/>
                  </a:solidFill>
                  <a:latin typeface="Arial"/>
                </a:rPr>
                <a:t> kennzeichnet seine Objekte (Programme, Unterprogramme, </a:t>
              </a:r>
              <a:r>
                <a:rPr b="0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sz="2000" spc="-1" strike="noStrike">
                  <a:solidFill>
                    <a:srgbClr val="000000"/>
                  </a:solidFill>
                  <a:latin typeface="Arial"/>
                </a:rPr>
                <a:t>Variablen, ...) durch Nam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00280" y="2495520"/>
              <a:ext cx="152280" cy="1396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77000" y="1249200"/>
              <a:ext cx="2192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Namensraum des</a:t>
              </a:r>
              <a:br>
                <a:rPr sz="2000"/>
              </a:b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Benutz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10640" y="212580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498600" y="1249200"/>
            <a:ext cx="8332560" cy="3837600"/>
            <a:chOff x="498600" y="1249200"/>
            <a:chExt cx="8332560" cy="3837600"/>
          </a:xfrm>
        </p:grpSpPr>
        <p:sp>
          <p:nvSpPr>
            <p:cNvPr id="355" name=""/>
            <p:cNvSpPr/>
            <p:nvPr/>
          </p:nvSpPr>
          <p:spPr>
            <a:xfrm>
              <a:off x="4356000" y="3117960"/>
              <a:ext cx="152640" cy="1396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672360" y="1249200"/>
              <a:ext cx="1555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Virtueller </a:t>
              </a:r>
              <a:br>
                <a:rPr sz="2000"/>
              </a:b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Adressra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961800" y="2481120"/>
              <a:ext cx="1017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virtuelle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dres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015920" y="2597040"/>
              <a:ext cx="3289320" cy="58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247840" y="3141720"/>
              <a:ext cx="109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Compil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98600" y="4687920"/>
              <a:ext cx="833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000" spc="-1" strike="noStrike">
                  <a:solidFill>
                    <a:srgbClr val="3333ff"/>
                  </a:solidFill>
                  <a:latin typeface="Arial"/>
                </a:rPr>
                <a:t>Compiler:</a:t>
              </a:r>
              <a:r>
                <a:rPr b="0" sz="2000" spc="-1" strike="noStrike">
                  <a:solidFill>
                    <a:srgbClr val="000000"/>
                  </a:solidFill>
                  <a:latin typeface="Arial"/>
                </a:rPr>
                <a:t> übersetzt diese Namen in virtuelle (logische) Adressen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496800" y="1249200"/>
            <a:ext cx="8332920" cy="4926960"/>
            <a:chOff x="496800" y="1249200"/>
            <a:chExt cx="8332920" cy="4926960"/>
          </a:xfrm>
        </p:grpSpPr>
        <p:sp>
          <p:nvSpPr>
            <p:cNvPr id="362" name=""/>
            <p:cNvSpPr/>
            <p:nvPr/>
          </p:nvSpPr>
          <p:spPr>
            <a:xfrm>
              <a:off x="7099200" y="2330280"/>
              <a:ext cx="152640" cy="1400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718320" y="1249200"/>
              <a:ext cx="2073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Physikalischer Adressra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807600" y="2506680"/>
              <a:ext cx="1535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physikalische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dres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4559400" y="2444400"/>
              <a:ext cx="2489040" cy="74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434200" y="2849400"/>
              <a:ext cx="1412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Betriebs-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ystem und 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MM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96800" y="5167440"/>
              <a:ext cx="83329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000" spc="-1" strike="noStrike">
                  <a:solidFill>
                    <a:srgbClr val="3333ff"/>
                  </a:solidFill>
                  <a:latin typeface="Arial"/>
                </a:rPr>
                <a:t>Virtuelle Speicherverwaltung:</a:t>
              </a:r>
              <a:r>
                <a:rPr b="1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sz="2000" spc="-1" strike="noStrike">
                  <a:solidFill>
                    <a:srgbClr val="000000"/>
                  </a:solidFill>
                  <a:latin typeface="Arial"/>
                </a:rPr>
                <a:t>wandelt diese Adressen zur Laufzeit je </a:t>
              </a:r>
              <a:br>
                <a:rPr sz="2000"/>
              </a:br>
              <a:r>
                <a:rPr b="0" sz="2000" spc="-1" strike="noStrike">
                  <a:solidFill>
                    <a:srgbClr val="000000"/>
                  </a:solidFill>
                  <a:latin typeface="Arial"/>
                </a:rPr>
                <a:t>nach gerade gegebener Speicherbelegung in die physikalische </a:t>
              </a:r>
              <a:br>
                <a:rPr sz="2000"/>
              </a:br>
              <a:r>
                <a:rPr b="0" sz="2000" spc="-1" strike="noStrike">
                  <a:solidFill>
                    <a:srgbClr val="000000"/>
                  </a:solidFill>
                  <a:latin typeface="Arial"/>
                </a:rPr>
                <a:t>Adresse (wirklicher Ort des Objekts im Hauptspeicher) 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Beispiel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56560" y="1268280"/>
            <a:ext cx="5273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ame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MP WEI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MP -1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ogische Adresse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58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hysikalische Adress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31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159880" y="1905120"/>
            <a:ext cx="1200240" cy="398880"/>
          </a:xfrm>
          <a:prstGeom prst="rect">
            <a:avLst/>
          </a:prstGeom>
          <a:noFill/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Compi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155560" y="3238560"/>
            <a:ext cx="2590200" cy="703800"/>
          </a:xfrm>
          <a:prstGeom prst="rect">
            <a:avLst/>
          </a:prstGeom>
          <a:noFill/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dyn. Adressrechn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((PC) - 12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158440" y="4800600"/>
            <a:ext cx="2262600" cy="703800"/>
          </a:xfrm>
          <a:prstGeom prst="rect">
            <a:avLst/>
          </a:prstGeom>
          <a:noFill/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Virtuelle Speicher-</a:t>
            </a:r>
            <a:br>
              <a:rPr sz="2000"/>
            </a:b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verwaltung (MM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772160" y="1714680"/>
            <a:ext cx="0" cy="1076040"/>
          </a:xfrm>
          <a:prstGeom prst="line">
            <a:avLst/>
          </a:prstGeom>
          <a:ln w="7632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743360" y="3162240"/>
            <a:ext cx="0" cy="1076400"/>
          </a:xfrm>
          <a:prstGeom prst="line">
            <a:avLst/>
          </a:prstGeom>
          <a:ln w="7632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695840" y="4743360"/>
            <a:ext cx="0" cy="1076400"/>
          </a:xfrm>
          <a:prstGeom prst="line">
            <a:avLst/>
          </a:prstGeom>
          <a:ln w="7632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Arial"/>
              </a:rPr>
              <a:t>4.2 Segmentierungs- und Seitenwechselverfahre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67560" y="2506680"/>
            <a:ext cx="8262720" cy="34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Segment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199"/>
              </a:spcBef>
              <a:buClr>
                <a:srgbClr val="00cc99"/>
              </a:buClr>
              <a:buSzPct val="75000"/>
              <a:buFont typeface="Wingdings" charset="2"/>
              <a:buChar char="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ierbei wird der virtuelle Adressraum in Segment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schiedener Länge zerleg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199"/>
              </a:spcBef>
              <a:buClr>
                <a:srgbClr val="00cc99"/>
              </a:buClr>
              <a:buSzPct val="75000"/>
              <a:buFont typeface="Wingdings" charset="2"/>
              <a:buChar char="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edem Prozess sind ein oder mehrere Segmente z.B.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ür den Programmcode und die Daten, zugeord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199"/>
              </a:spcBef>
              <a:buClr>
                <a:srgbClr val="00cc99"/>
              </a:buClr>
              <a:buSzPct val="75000"/>
              <a:buFont typeface="Wingdings" charset="2"/>
              <a:buChar char="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einzelnen Segmente enthalten logisch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sammenhängende Informationen (Programm-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d Datenmodule) und können relativ groß s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28760" y="1204920"/>
            <a:ext cx="82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s existieren zwei grundlegende Verfahren zur virtuelle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icherverwaltung (Segmentierung und Seitenwechs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Arial"/>
              </a:rPr>
              <a:t>4.2 Segmentierungs- und Seitenwechselverfahre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02760" y="1314360"/>
            <a:ext cx="7988040" cy="34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Aufteilung in S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cc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ierbei wird der logische und der physikalisch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ressraum in "Segmente fester Länge", di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ogenannten Seiten (pages) untertei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cc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Seiten sind relativ klein (256 Byte - 4 kBy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cc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Prozess wird auf viele dieser Seiten verteilt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keine logischen Zusammenhänge wie bei der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gmentieru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Segmentieru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56320" y="1220760"/>
            <a:ext cx="8818920" cy="48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Vortei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gmentierung spiegelt logische Programmstruktur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e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urch große Segmente relativ seltener Datentransf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Nachteile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nn Datentransfer, dann jedoch umfangrei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teht ein Programm nur aus einem Code- und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ten-Segment (wird vom Compiler oder Benutzer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estgelegt), so muss es vollständig eingelagert wer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Seitenaufteilu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60280" y="1135080"/>
            <a:ext cx="847584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Vortei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urch kleine Seiten wird nur der wirklich benötigt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Teil eines Programms eingelager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geringerer Verwaltungsaufwand als Segment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Nachteil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häufiger Datentrans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95720" y="4844880"/>
            <a:ext cx="827316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Ältere Prozessoren unterstützten jeweils nur ein Verfahren, z.B. Segmentierung </a:t>
            </a:r>
            <a:br>
              <a:rPr sz="1800"/>
            </a:br>
            <a:r>
              <a:rPr b="0" sz="1800" spc="-1" strike="noStrike">
                <a:solidFill>
                  <a:srgbClr val="000000"/>
                </a:solidFill>
                <a:latin typeface="Arial"/>
              </a:rPr>
              <a:t>bei 80286, 68010 und Seitenwechsel bei Z8003/4, National 3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Heutige Mikroprozessoren, z.B. 80386, 80486, Pentium, ... unterstützen beide </a:t>
            </a:r>
            <a:br>
              <a:rPr sz="1800"/>
            </a:br>
            <a:r>
              <a:rPr b="0" sz="1800" spc="-1" strike="noStrike">
                <a:solidFill>
                  <a:srgbClr val="000000"/>
                </a:solidFill>
                <a:latin typeface="Arial"/>
              </a:rPr>
              <a:t>Verfah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Arial"/>
              </a:rPr>
              <a:t>4.3 Probleme der virtuellen Speicherverwaltun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93840" y="1260360"/>
            <a:ext cx="816588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Beim Austausch von Daten zwischen Arbeits- und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Hintergundspeicher ergeben sich drei Problemkrei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ff"/>
                </a:solidFill>
                <a:latin typeface="Arial"/>
              </a:rPr>
              <a:t>1. </a:t>
            </a:r>
            <a:r>
              <a:rPr b="1" lang="de-DE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3333ff"/>
                </a:solidFill>
                <a:latin typeface="Arial"/>
              </a:rPr>
              <a:t>Der Einlagerungszeitpun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ann werden Segmente oder Seiten in den Arbeitsspeicher eingelager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ängiges Verfahren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lagerung auf Anforderung (Demand Paging bei Seitenverfahr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Arial"/>
              </a:rPr>
              <a:t>4.3 Probleme der virtuellen Speicherverwaltun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0680" y="1409760"/>
            <a:ext cx="8073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ff"/>
                </a:solidFill>
                <a:latin typeface="Arial"/>
              </a:rPr>
              <a:t>Einlagerung auf Anforderung </a:t>
            </a:r>
            <a:r>
              <a:rPr b="0" i="1" lang="de-DE" sz="2400" spc="-1" strike="noStrike">
                <a:solidFill>
                  <a:srgbClr val="3333ff"/>
                </a:solidFill>
                <a:latin typeface="Arial"/>
              </a:rPr>
              <a:t>(Demand Paging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ierbei werden Daten eingelagert, sobald auf si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gegriffen wird, sie sich aber nicht im Arbeitsspeicher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fin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Zugriff auf ein nicht im Arbeitsspeicher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orhandenes Segment oder Seite heißt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egment-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der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eiten-Fehle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segment fault, page faul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Arial"/>
              </a:rPr>
              <a:t>4.3 Probleme der virtuellen Speicherverwaltun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31640" y="1155600"/>
            <a:ext cx="8251920" cy="50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ff"/>
                </a:solidFill>
                <a:latin typeface="Arial"/>
              </a:rPr>
              <a:t>2. Das Zuweisungs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An welche Stelle des Arbeitsspeichers werden di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Seiten oder Segmente eingelager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ff"/>
                </a:solidFill>
                <a:latin typeface="Arial"/>
              </a:rPr>
              <a:t>Bei Segmentierungsverfahren:</a:t>
            </a:r>
            <a:r>
              <a:rPr b="0" lang="de-DE" sz="24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ier muss eine ausreichend große Lücke im Arbeitsspeicher gefunden wer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ff"/>
                </a:solidFill>
                <a:latin typeface="Arial"/>
              </a:rPr>
              <a:t>Drei Strategi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first-fit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ste passende Lücke wird geno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best-fit 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leinste passende Lücke wird geno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worst-fit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rößte passende Lücke wird geno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99"/>
                </a:solidFill>
                <a:latin typeface="Arial"/>
              </a:rPr>
              <a:t>4.1 Grundprinzip und Zusammenhang mit dem Betriebsystem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3840" y="1249200"/>
            <a:ext cx="7580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efinition des Begriffs "Betriebssystem“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.B. nach dem Deutschen Institut für Normung (DIN 44300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95360" y="2238480"/>
            <a:ext cx="8296200" cy="2076480"/>
          </a:xfrm>
          <a:prstGeom prst="flowChartProcess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72000" bIns="72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ff"/>
                </a:solidFill>
                <a:latin typeface="Arial"/>
              </a:rPr>
              <a:t>Ein Betriebsystem umfasst die Programme eines digitalen </a:t>
            </a:r>
            <a:br>
              <a:rPr sz="2400"/>
            </a:br>
            <a:r>
              <a:rPr b="0" lang="de-DE" sz="2400" spc="-1" strike="noStrike">
                <a:solidFill>
                  <a:srgbClr val="3333ff"/>
                </a:solidFill>
                <a:latin typeface="Arial"/>
              </a:rPr>
              <a:t>Rechensystems, die zusammen mit den Eigenschaften der </a:t>
            </a:r>
            <a:br>
              <a:rPr sz="2400"/>
            </a:br>
            <a:r>
              <a:rPr b="0" lang="de-DE" sz="2400" spc="-1" strike="noStrike">
                <a:solidFill>
                  <a:srgbClr val="3333ff"/>
                </a:solidFill>
                <a:latin typeface="Arial"/>
              </a:rPr>
              <a:t>Rechenanlage die Grundlage der möglichen Betriebsarten </a:t>
            </a:r>
            <a:br>
              <a:rPr sz="2400"/>
            </a:br>
            <a:r>
              <a:rPr b="0" lang="de-DE" sz="2400" spc="-1" strike="noStrike">
                <a:solidFill>
                  <a:srgbClr val="3333ff"/>
                </a:solidFill>
                <a:latin typeface="Arial"/>
              </a:rPr>
              <a:t>des digitalen Rechensystems bilden und insbesondere die </a:t>
            </a:r>
            <a:br>
              <a:rPr sz="2400"/>
            </a:br>
            <a:r>
              <a:rPr b="0" lang="de-DE" sz="2400" spc="-1" strike="noStrike">
                <a:solidFill>
                  <a:srgbClr val="3333ff"/>
                </a:solidFill>
                <a:latin typeface="Arial"/>
              </a:rPr>
              <a:t>Abwicklung von Programmen steuern und überwach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94640" y="4535640"/>
            <a:ext cx="826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iel eines Betriebsystems ist es, die semantisch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ücke zwischen Anwendung (wünscht möglichst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ohe Operationen) und Hardware (bietet elementar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perationen) zu verkleiner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Arial"/>
              </a:rPr>
              <a:t>4.3 Probleme der virtuellen Speicherverwaltun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03560" y="1200240"/>
            <a:ext cx="814968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ff"/>
                </a:solidFill>
                <a:latin typeface="Arial"/>
              </a:rPr>
              <a:t>Problem bei allen drei Verfahr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Speicher zerfällt nach einiger Zeit in belegte und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belegte Speicherbereiche </a:t>
            </a:r>
            <a:r>
              <a:rPr b="0" lang="de-DE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externe Fragmentieru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00320" y="4657680"/>
            <a:ext cx="849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unbelegten Speicherbereiche sind hierbei oft zu klein,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m Segmente aufnehmen zu kön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315120" y="3500280"/>
            <a:ext cx="1047600" cy="486000"/>
          </a:xfrm>
          <a:prstGeom prst="rect">
            <a:avLst/>
          </a:prstGeom>
          <a:solidFill>
            <a:srgbClr val="ffe26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gmen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715000" y="3500280"/>
            <a:ext cx="600120" cy="48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e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667400" y="3500280"/>
            <a:ext cx="1047600" cy="486000"/>
          </a:xfrm>
          <a:prstGeom prst="rect">
            <a:avLst/>
          </a:prstGeom>
          <a:solidFill>
            <a:srgbClr val="ffe26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gmen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57360" y="3500280"/>
            <a:ext cx="1047960" cy="486000"/>
          </a:xfrm>
          <a:prstGeom prst="rect">
            <a:avLst/>
          </a:prstGeom>
          <a:solidFill>
            <a:srgbClr val="ffe26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gmen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076400" y="3500280"/>
            <a:ext cx="1047600" cy="486000"/>
          </a:xfrm>
          <a:prstGeom prst="rect">
            <a:avLst/>
          </a:prstGeom>
          <a:solidFill>
            <a:srgbClr val="ffe26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gmen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24000" y="3500280"/>
            <a:ext cx="333360" cy="48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e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362720" y="3500280"/>
            <a:ext cx="600120" cy="48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e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505320" y="3505320"/>
            <a:ext cx="122868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476520" y="3990960"/>
            <a:ext cx="122868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846960" y="35845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e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089360" y="3078000"/>
            <a:ext cx="193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rbeitsspeic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Arial"/>
              </a:rPr>
              <a:t>4.3 Probleme der virtuellen Speicherverwaltun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31640" y="1155600"/>
            <a:ext cx="8347320" cy="50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62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ff"/>
                </a:solidFill>
                <a:latin typeface="Arial"/>
              </a:rPr>
              <a:t>Zuweisungsproblem bei Seitenwechselverfah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762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762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Hier taucht dieses Problem nicht auf, da alle Seit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gleich groß sind und somit immer “passende Lücken” entstehen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keine externe Fragmentierun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762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762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doch: Problem der </a:t>
            </a:r>
            <a:r>
              <a:rPr b="1" sz="2400" spc="-1" strike="noStrike">
                <a:solidFill>
                  <a:srgbClr val="ff0000"/>
                </a:solidFill>
                <a:latin typeface="Arial"/>
              </a:rPr>
              <a:t>internen Fragment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762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762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se entsteht bei der Aufteilung eines Programms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auf die Seit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762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762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heitliche Seitengröße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auf der letzten Seite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jedes Programm-Moduls entsteht mit hoher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Wahrscheinlichkeit ein ungenutzter Leerraum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Arial"/>
              </a:rPr>
              <a:t>4.3 Probleme der virtuellen Speicherverwaltun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31640" y="1069920"/>
            <a:ext cx="823284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66720"/>
                <a:tab algn="l" pos="114300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ff"/>
                </a:solidFill>
                <a:latin typeface="Arial"/>
              </a:rPr>
              <a:t>3. Das Ersetzungs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66720"/>
                <a:tab algn="l" pos="114300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Welche Segmente oder Seiten müssen ausgelagert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werden, um Platz für neu benötigte Daten zu schaffe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66720"/>
                <a:tab algn="l" pos="114300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66720"/>
                <a:tab algn="l" pos="114300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ff"/>
                </a:solidFill>
                <a:latin typeface="Arial"/>
              </a:rPr>
              <a:t>Bei Segmentierungsverfahren:</a:t>
            </a:r>
            <a:r>
              <a:rPr b="0" lang="de-DE" sz="24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66720"/>
                <a:tab algn="l" pos="114300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Meist wird die Anzahl der gleichzeitig von einem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Prozeß benutzbaren Segmente limitier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66720"/>
                <a:tab algn="l" pos="114300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bei Einlagerung eines neuen Segments wird ei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zuvor für diesen Prozeß benutztes Segment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usgelag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66720"/>
                <a:tab algn="l" pos="114300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Es ist jedoch auch eine der im folgenden für Seiten-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wechsel-Verfahren beschriebenen Methoden mögl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Arial"/>
              </a:rPr>
              <a:t>4.3 Probleme der virtuellen Speicherverwaltun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36600" y="1298520"/>
            <a:ext cx="8242200" cy="40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8571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ff"/>
                </a:solidFill>
                <a:latin typeface="Arial"/>
              </a:rPr>
              <a:t>Ersetzungsproblem bei Seitenwechselverfah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571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5 gängigste Strategien zum Ersetzen einer Seit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71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8571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FIFO (</a:t>
            </a:r>
            <a:r>
              <a:rPr b="1" i="1" sz="2400" spc="-1" strike="noStrike">
                <a:solidFill>
                  <a:srgbClr val="000000"/>
                </a:solidFill>
                <a:latin typeface="Arial"/>
              </a:rPr>
              <a:t>first-in-first-out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die sich am längsten im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rbeitsspeicher befindende Seite wird ersetz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8571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LIFO (</a:t>
            </a:r>
            <a:r>
              <a:rPr b="1" i="1" sz="2400" spc="-1" strike="noStrike">
                <a:solidFill>
                  <a:srgbClr val="000000"/>
                </a:solidFill>
                <a:latin typeface="Arial"/>
              </a:rPr>
              <a:t>last-in-first-out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die zuletzt eingelagert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eite wird ersetz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8571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LRU (</a:t>
            </a:r>
            <a:r>
              <a:rPr b="1" i="1" sz="2400" spc="-1" strike="noStrike">
                <a:solidFill>
                  <a:srgbClr val="000000"/>
                </a:solidFill>
                <a:latin typeface="Arial"/>
              </a:rPr>
              <a:t>least recently used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die Seite, auf die am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längsten nicht zugegriffen wurde, wird ersetz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Arial"/>
              </a:rPr>
              <a:t>4.3 Probleme der virtuellen Speicherverwaltun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22280" y="1266840"/>
            <a:ext cx="8242200" cy="42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8571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LFU (</a:t>
            </a:r>
            <a:r>
              <a:rPr b="1" i="1" sz="2400" spc="-1" strike="noStrike">
                <a:solidFill>
                  <a:srgbClr val="000000"/>
                </a:solidFill>
                <a:latin typeface="Arial"/>
              </a:rPr>
              <a:t>least frequently used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die seit ihrer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lagerung am seltensten benutzte Seite wird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rsetz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8571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LRD (</a:t>
            </a:r>
            <a:r>
              <a:rPr b="1" i="1" sz="2400" spc="-1" strike="noStrike">
                <a:solidFill>
                  <a:srgbClr val="000000"/>
                </a:solidFill>
                <a:latin typeface="Arial"/>
              </a:rPr>
              <a:t>least reference density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) 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Mischung aus LRU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und LFU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 D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ie Seite mit der geringsten Zugriffdichte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Anzahl Zugriffe / Einlagerungszeitraum) wird ersetz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71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8571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aneben werden bevorzugt solche Seiten ersetzt, di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nicht verändert wurden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kein Rückschreiben der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geänderten Seite erforderlich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5724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4.4   Cache und Speicherverwaltungseinhei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54400" y="1173240"/>
            <a:ext cx="813528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Zwei Möglichkeiten der Cache-Einbindung bei virtueller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Speicherverwaltu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Virtueller Cach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wird zwischen CPU und MMU gelegt. Die höherwertig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Bits der logischen Adressen als Tags abgeleg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990720" y="3994200"/>
            <a:ext cx="6819840" cy="1923840"/>
            <a:chOff x="990720" y="3994200"/>
            <a:chExt cx="6819840" cy="1923840"/>
          </a:xfrm>
        </p:grpSpPr>
        <p:sp>
          <p:nvSpPr>
            <p:cNvPr id="418" name=""/>
            <p:cNvSpPr/>
            <p:nvPr/>
          </p:nvSpPr>
          <p:spPr>
            <a:xfrm>
              <a:off x="990720" y="4156200"/>
              <a:ext cx="1171440" cy="17618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590920" y="4772160"/>
              <a:ext cx="838080" cy="571320"/>
            </a:xfrm>
            <a:prstGeom prst="rect">
              <a:avLst/>
            </a:prstGeom>
            <a:solidFill>
              <a:srgbClr val="ff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Cac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000680" y="4183200"/>
              <a:ext cx="1171440" cy="1171440"/>
            </a:xfrm>
            <a:prstGeom prst="rect">
              <a:avLst/>
            </a:prstGeom>
            <a:solidFill>
              <a:srgbClr val="c5e2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MM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600960" y="4175280"/>
              <a:ext cx="1209600" cy="17240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Speich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162160" y="5781600"/>
              <a:ext cx="443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62160" y="4324320"/>
              <a:ext cx="1838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172120" y="4324320"/>
              <a:ext cx="1428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00240" y="4343400"/>
              <a:ext cx="0" cy="419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009960" y="5353200"/>
              <a:ext cx="0" cy="438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945240" y="5470560"/>
              <a:ext cx="72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Dat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162160" y="3994200"/>
              <a:ext cx="172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logische Adres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124600" y="4003560"/>
              <a:ext cx="139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physikalische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dres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4.4   Cache und Speicherverwaltungseinhei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11640" y="1287360"/>
            <a:ext cx="757620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hysikalischer Cach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wird zwischen MMU und Speicher gelegt.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höherwertigen Bits der physikalischen Adress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werden als Tags abgele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990720" y="3994200"/>
            <a:ext cx="6819840" cy="1923840"/>
            <a:chOff x="990720" y="3994200"/>
            <a:chExt cx="6819840" cy="1923840"/>
          </a:xfrm>
        </p:grpSpPr>
        <p:sp>
          <p:nvSpPr>
            <p:cNvPr id="433" name=""/>
            <p:cNvSpPr/>
            <p:nvPr/>
          </p:nvSpPr>
          <p:spPr>
            <a:xfrm>
              <a:off x="990720" y="4156200"/>
              <a:ext cx="1171440" cy="17618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572080" y="4762440"/>
              <a:ext cx="838080" cy="571680"/>
            </a:xfrm>
            <a:prstGeom prst="rect">
              <a:avLst/>
            </a:prstGeom>
            <a:solidFill>
              <a:srgbClr val="ff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Cac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000680" y="4183200"/>
              <a:ext cx="1171440" cy="1171440"/>
            </a:xfrm>
            <a:prstGeom prst="rect">
              <a:avLst/>
            </a:prstGeom>
            <a:solidFill>
              <a:srgbClr val="c5e2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MM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600960" y="4175280"/>
              <a:ext cx="1209600" cy="17240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Speich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162160" y="5781600"/>
              <a:ext cx="443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162160" y="4324320"/>
              <a:ext cx="1838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172120" y="4324320"/>
              <a:ext cx="1428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048360" y="4334040"/>
              <a:ext cx="0" cy="419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058080" y="5343480"/>
              <a:ext cx="0" cy="438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945240" y="5470560"/>
              <a:ext cx="72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Dat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162160" y="3994200"/>
              <a:ext cx="172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logische Adres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124600" y="4003560"/>
              <a:ext cx="139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physikalische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dres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99"/>
                </a:solidFill>
                <a:latin typeface="Arial"/>
              </a:rPr>
              <a:t>Virtueller und physikalischer Cach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61000" y="1316160"/>
            <a:ext cx="8166600" cy="45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cc66"/>
                </a:solidFill>
                <a:latin typeface="Arial"/>
              </a:rPr>
              <a:t>Vorteile des virtuellen Cach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bei Treffern wird die MMU nicht benöti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cc66"/>
                </a:solidFill>
                <a:latin typeface="Arial"/>
              </a:rPr>
              <a:t>Vorteile des physikalischen Cach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physikalische Adresse ist i.A. viel kleiner als di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logische Adresse 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weniger Bits müssen als Tag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gespeichert werd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befindet sich die MMU auf dem Prozessorchip,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o kann nur der physikalische Cache außerhalb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rweitert werd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4.5 Segmentbasierte Speicherverwalt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652760" y="2666880"/>
            <a:ext cx="2965320" cy="2268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rot="5400000">
            <a:off x="20160" y="3560760"/>
            <a:ext cx="2278080" cy="480960"/>
          </a:xfrm>
          <a:custGeom>
            <a:avLst/>
            <a:gdLst>
              <a:gd name="textAreaLeft" fmla="*/ 285840 w 2278080"/>
              <a:gd name="textAreaRight" fmla="*/ 1992240 w 2278080"/>
              <a:gd name="textAreaTop" fmla="*/ 60120 h 480960"/>
              <a:gd name="textAreaBottom" fmla="*/ 420840 h 48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69" y="21600"/>
                </a:lnTo>
                <a:lnTo>
                  <a:pt x="1731" y="216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949560" y="5796000"/>
            <a:ext cx="3498840" cy="3380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949560" y="1523880"/>
            <a:ext cx="3498840" cy="338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943520" y="1523880"/>
            <a:ext cx="0" cy="34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879360" y="12636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860360" y="12636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202160" y="12636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907800" y="55306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230960" y="55306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67040" y="2676600"/>
            <a:ext cx="0" cy="2266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643040" y="2666880"/>
            <a:ext cx="2965320" cy="23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652760" y="2905200"/>
            <a:ext cx="2965320" cy="23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652760" y="3143160"/>
            <a:ext cx="2965320" cy="23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652760" y="4686480"/>
            <a:ext cx="2965320" cy="239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390680" y="2800440"/>
            <a:ext cx="27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390680" y="3029040"/>
            <a:ext cx="27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400040" y="3276720"/>
            <a:ext cx="27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400040" y="4800600"/>
            <a:ext cx="27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163520" y="2668680"/>
            <a:ext cx="27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78480" y="46116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774440" y="3544920"/>
            <a:ext cx="953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4-Bit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gment-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änge in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182400" y="3757680"/>
            <a:ext cx="125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ale 32-Bit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asisadre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603080" y="1477800"/>
            <a:ext cx="210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irtuelle Adr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188360" y="5764320"/>
            <a:ext cx="27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hysikalische Adr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1104840" y="1535040"/>
            <a:ext cx="3743640" cy="1255680"/>
            <a:chOff x="1104840" y="1535040"/>
            <a:chExt cx="3743640" cy="1255680"/>
          </a:xfrm>
        </p:grpSpPr>
        <p:sp>
          <p:nvSpPr>
            <p:cNvPr id="474" name=""/>
            <p:cNvSpPr/>
            <p:nvPr/>
          </p:nvSpPr>
          <p:spPr>
            <a:xfrm>
              <a:off x="1104840" y="1857240"/>
              <a:ext cx="3314880" cy="933480"/>
            </a:xfrm>
            <a:custGeom>
              <a:avLst/>
              <a:gdLst/>
              <a:ahLst/>
              <a:rect l="l" t="t" r="r" b="b"/>
              <a:pathLst>
                <a:path w="2088" h="588">
                  <a:moveTo>
                    <a:pt x="2088" y="0"/>
                  </a:moveTo>
                  <a:lnTo>
                    <a:pt x="2088" y="240"/>
                  </a:lnTo>
                  <a:lnTo>
                    <a:pt x="0" y="240"/>
                  </a:lnTo>
                  <a:lnTo>
                    <a:pt x="0" y="58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4343040" y="2049480"/>
              <a:ext cx="152280" cy="104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433760" y="1949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003200" y="153504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eg.-Nr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3561840" y="1535040"/>
            <a:ext cx="3067920" cy="4256280"/>
            <a:chOff x="3561840" y="1535040"/>
            <a:chExt cx="3067920" cy="4256280"/>
          </a:xfrm>
        </p:grpSpPr>
        <p:sp>
          <p:nvSpPr>
            <p:cNvPr id="479" name=""/>
            <p:cNvSpPr/>
            <p:nvPr/>
          </p:nvSpPr>
          <p:spPr>
            <a:xfrm>
              <a:off x="3679200" y="497844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638520" y="4924440"/>
              <a:ext cx="1886040" cy="380880"/>
            </a:xfrm>
            <a:custGeom>
              <a:avLst/>
              <a:gdLst/>
              <a:ahLst/>
              <a:rect l="l" t="t" r="r" b="b"/>
              <a:pathLst>
                <a:path w="1188" h="240">
                  <a:moveTo>
                    <a:pt x="0" y="0"/>
                  </a:moveTo>
                  <a:lnTo>
                    <a:pt x="0" y="240"/>
                  </a:lnTo>
                  <a:lnTo>
                    <a:pt x="1188" y="2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3561840" y="5086440"/>
              <a:ext cx="133560" cy="123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2" name=""/>
            <p:cNvGrpSpPr/>
            <p:nvPr/>
          </p:nvGrpSpPr>
          <p:grpSpPr>
            <a:xfrm>
              <a:off x="5516640" y="1535040"/>
              <a:ext cx="1113120" cy="4256280"/>
              <a:chOff x="5516640" y="1535040"/>
              <a:chExt cx="1113120" cy="4256280"/>
            </a:xfrm>
          </p:grpSpPr>
          <p:sp>
            <p:nvSpPr>
              <p:cNvPr id="483" name=""/>
              <p:cNvSpPr/>
              <p:nvPr/>
            </p:nvSpPr>
            <p:spPr>
              <a:xfrm>
                <a:off x="5516640" y="5168880"/>
                <a:ext cx="293760" cy="2761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810400" y="1866960"/>
                <a:ext cx="399960" cy="3438360"/>
              </a:xfrm>
              <a:custGeom>
                <a:avLst/>
                <a:gdLst/>
                <a:ahLst/>
                <a:rect l="l" t="t" r="r" b="b"/>
                <a:pathLst>
                  <a:path w="252" h="1980">
                    <a:moveTo>
                      <a:pt x="252" y="0"/>
                    </a:moveTo>
                    <a:lnTo>
                      <a:pt x="252" y="1980"/>
                    </a:lnTo>
                    <a:lnTo>
                      <a:pt x="0" y="198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657760" y="5448240"/>
                <a:ext cx="0" cy="34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>
                <a:off x="6143760" y="2039760"/>
                <a:ext cx="133200" cy="123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H="1">
                <a:off x="5591160" y="5505480"/>
                <a:ext cx="133200" cy="123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727240" y="542592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3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251040" y="194940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679720" y="1535040"/>
                <a:ext cx="83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Byte-Nr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1" name=""/>
          <p:cNvSpPr/>
          <p:nvPr/>
        </p:nvSpPr>
        <p:spPr>
          <a:xfrm>
            <a:off x="1589760" y="233208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gmenttab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2000160" y="2603520"/>
            <a:ext cx="2082600" cy="356400"/>
            <a:chOff x="2000160" y="2603520"/>
            <a:chExt cx="2082600" cy="356400"/>
          </a:xfrm>
        </p:grpSpPr>
        <p:sp>
          <p:nvSpPr>
            <p:cNvPr id="493" name=""/>
            <p:cNvSpPr/>
            <p:nvPr/>
          </p:nvSpPr>
          <p:spPr>
            <a:xfrm>
              <a:off x="2000160" y="2603520"/>
              <a:ext cx="63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793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338280" y="2622600"/>
              <a:ext cx="74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025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2055600" y="2851200"/>
            <a:ext cx="2027160" cy="346680"/>
            <a:chOff x="2055600" y="2851200"/>
            <a:chExt cx="2027160" cy="346680"/>
          </a:xfrm>
        </p:grpSpPr>
        <p:sp>
          <p:nvSpPr>
            <p:cNvPr id="496" name=""/>
            <p:cNvSpPr/>
            <p:nvPr/>
          </p:nvSpPr>
          <p:spPr>
            <a:xfrm>
              <a:off x="2055600" y="2851200"/>
              <a:ext cx="51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25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338280" y="2860560"/>
              <a:ext cx="74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2000160" y="3089160"/>
            <a:ext cx="2082600" cy="337320"/>
            <a:chOff x="2000160" y="3089160"/>
            <a:chExt cx="2082600" cy="337320"/>
          </a:xfrm>
        </p:grpSpPr>
        <p:sp>
          <p:nvSpPr>
            <p:cNvPr id="499" name=""/>
            <p:cNvSpPr/>
            <p:nvPr/>
          </p:nvSpPr>
          <p:spPr>
            <a:xfrm>
              <a:off x="2000160" y="3089160"/>
              <a:ext cx="63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384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338280" y="3089160"/>
              <a:ext cx="74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819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gmentbasierte Speicherverwalt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65040" y="1119240"/>
            <a:ext cx="8620200" cy="50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irtuelle Adresse wird in eine Segmentnummer (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öherwertige Bits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virtuellen Adresse) als Kennung eines Segments und in eine Bytenummer (verbleibend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its der Adresse) als Abstand zum Segmentanfa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ximale virtuelle Segmentanzahl =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de-DE" sz="2000" spc="-1" strike="noStrike" baseline="30000">
                <a:solidFill>
                  <a:srgbClr val="000000"/>
                </a:solidFill>
                <a:latin typeface="Arial"/>
              </a:rPr>
              <a:t>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Maximale Segmentgröß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de-DE" sz="20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Adreßabbildung erfolgt über eine Segmenttabelle (im Registerspeicher der MMU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ale Adresse ergibt sich aus der Segmentbasisadresse, zu der die virtuelle Bytenummmer addiert wir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gmentlängenangaben in der Segmenttabelle, um segement-überschreitende Zugriffe feststellen und ggf. verhindern zu könn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 Segmenten mit einer geringeren Größe al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de-DE" sz="20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gilt der ungenutzte Raum als Verschnit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ute Ausnutzung des Hauptspeichers, wenn man die Segmentgrenzen an jeder Byteadresse zuläss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99"/>
                </a:solidFill>
                <a:latin typeface="Arial"/>
              </a:rPr>
              <a:t>4.1 Grundprinzip und Zusammenhang mit dem Betriebsystem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3840" y="1249200"/>
            <a:ext cx="7580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efinition des Begriffs "Betriebssystem“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.B. nach dem Deutschen Institut für Normung (DIN 44300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360" y="2238480"/>
            <a:ext cx="8296200" cy="2076480"/>
          </a:xfrm>
          <a:prstGeom prst="flowChartProcess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72000" bIns="72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ff"/>
                </a:solidFill>
                <a:latin typeface="Arial"/>
              </a:rPr>
              <a:t>Ein Betriebsystem umfasst die Programme eines digitalen </a:t>
            </a:r>
            <a:br>
              <a:rPr sz="2400"/>
            </a:br>
            <a:r>
              <a:rPr b="0" lang="de-DE" sz="2400" spc="-1" strike="noStrike">
                <a:solidFill>
                  <a:srgbClr val="3333ff"/>
                </a:solidFill>
                <a:latin typeface="Arial"/>
              </a:rPr>
              <a:t>Rechensystems, die zusammen mit den Eigenschaften der </a:t>
            </a:r>
            <a:br>
              <a:rPr sz="2400"/>
            </a:br>
            <a:r>
              <a:rPr b="0" lang="de-DE" sz="2400" spc="-1" strike="noStrike">
                <a:solidFill>
                  <a:srgbClr val="3333ff"/>
                </a:solidFill>
                <a:latin typeface="Arial"/>
              </a:rPr>
              <a:t>Rechenanlage die Grundlage der möglichen Betriebsarten </a:t>
            </a:r>
            <a:br>
              <a:rPr sz="2400"/>
            </a:br>
            <a:r>
              <a:rPr b="0" lang="de-DE" sz="2400" spc="-1" strike="noStrike">
                <a:solidFill>
                  <a:srgbClr val="3333ff"/>
                </a:solidFill>
                <a:latin typeface="Arial"/>
              </a:rPr>
              <a:t>des digitalen Rechensystems bilden und insbesondere die </a:t>
            </a:r>
            <a:br>
              <a:rPr sz="2400"/>
            </a:br>
            <a:r>
              <a:rPr b="0" lang="de-DE" sz="2400" spc="-1" strike="noStrike">
                <a:solidFill>
                  <a:srgbClr val="3333ff"/>
                </a:solidFill>
                <a:latin typeface="Arial"/>
              </a:rPr>
              <a:t>Abwicklung von Programmen steuern und überwach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94640" y="4535640"/>
            <a:ext cx="826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iel eines Betriebsystems ist es, die semantisch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ücke zwischen Anwendung (wünscht möglichst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ohe Operationen) und Hardware (bietet elementar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perationen) zu verkleiner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5864400" y="2139840"/>
            <a:ext cx="1973160" cy="1239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864400" y="2149560"/>
            <a:ext cx="1973160" cy="374472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864400" y="2143080"/>
            <a:ext cx="1973160" cy="3776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472080" y="589428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088960" y="1614600"/>
            <a:ext cx="136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hysikalische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asisadre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634880" y="536256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659920" y="536256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521000" y="1854360"/>
            <a:ext cx="1973160" cy="1239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521000" y="3111480"/>
            <a:ext cx="1973160" cy="1239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Virtueller und physikalischer Adressrau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521000" y="1857240"/>
            <a:ext cx="1973160" cy="4015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521000" y="5594400"/>
            <a:ext cx="1973160" cy="23976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128680" y="560880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547080" y="1309680"/>
            <a:ext cx="886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Virtuelle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eg.-N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521000" y="4368960"/>
            <a:ext cx="1973160" cy="1239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292920" y="255276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299240" y="255420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865960" y="5334120"/>
            <a:ext cx="6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6M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292920" y="377028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317960" y="377028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291480" y="507672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316520" y="507672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252080" y="5783400"/>
            <a:ext cx="2629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irtueller Adressra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263200" y="5735520"/>
            <a:ext cx="3256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hysikalischer Adressra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549600" y="17859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549600" y="30528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549600" y="43671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3809880" y="1943280"/>
            <a:ext cx="5335200" cy="1866600"/>
            <a:chOff x="3809880" y="1943280"/>
            <a:chExt cx="5335200" cy="1866600"/>
          </a:xfrm>
        </p:grpSpPr>
        <p:sp>
          <p:nvSpPr>
            <p:cNvPr id="531" name=""/>
            <p:cNvSpPr/>
            <p:nvPr/>
          </p:nvSpPr>
          <p:spPr>
            <a:xfrm>
              <a:off x="5864400" y="3102120"/>
              <a:ext cx="1973160" cy="658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8058240" y="31240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101800" y="3457440"/>
              <a:ext cx="1043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egment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234040" y="2948040"/>
              <a:ext cx="67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1025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809880" y="1943280"/>
              <a:ext cx="1447920" cy="1190520"/>
            </a:xfrm>
            <a:custGeom>
              <a:avLst/>
              <a:gdLst/>
              <a:ahLst/>
              <a:rect l="l" t="t" r="r" b="b"/>
              <a:pathLst>
                <a:path w="912" h="930">
                  <a:moveTo>
                    <a:pt x="0" y="0"/>
                  </a:moveTo>
                  <a:lnTo>
                    <a:pt x="276" y="0"/>
                  </a:lnTo>
                  <a:lnTo>
                    <a:pt x="666" y="930"/>
                  </a:lnTo>
                  <a:lnTo>
                    <a:pt x="912" y="93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3809880" y="2614680"/>
            <a:ext cx="5335200" cy="594360"/>
            <a:chOff x="3809880" y="2614680"/>
            <a:chExt cx="5335200" cy="594360"/>
          </a:xfrm>
        </p:grpSpPr>
        <p:sp>
          <p:nvSpPr>
            <p:cNvPr id="537" name=""/>
            <p:cNvSpPr/>
            <p:nvPr/>
          </p:nvSpPr>
          <p:spPr>
            <a:xfrm>
              <a:off x="8101800" y="2800080"/>
              <a:ext cx="1043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egment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864400" y="2777760"/>
              <a:ext cx="1973160" cy="325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048520" y="2781000"/>
              <a:ext cx="0" cy="32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34040" y="2614680"/>
              <a:ext cx="67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3809880" y="2751840"/>
              <a:ext cx="1447920" cy="456840"/>
            </a:xfrm>
            <a:custGeom>
              <a:avLst/>
              <a:gdLst/>
              <a:ahLst/>
              <a:rect l="l" t="t" r="r" b="b"/>
              <a:pathLst>
                <a:path w="912" h="930">
                  <a:moveTo>
                    <a:pt x="0" y="0"/>
                  </a:moveTo>
                  <a:lnTo>
                    <a:pt x="276" y="0"/>
                  </a:lnTo>
                  <a:lnTo>
                    <a:pt x="666" y="930"/>
                  </a:lnTo>
                  <a:lnTo>
                    <a:pt x="912" y="93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3819600" y="3605040"/>
            <a:ext cx="5325480" cy="964440"/>
            <a:chOff x="3819600" y="3605040"/>
            <a:chExt cx="5325480" cy="964440"/>
          </a:xfrm>
        </p:grpSpPr>
        <p:sp>
          <p:nvSpPr>
            <p:cNvPr id="543" name=""/>
            <p:cNvSpPr/>
            <p:nvPr/>
          </p:nvSpPr>
          <p:spPr>
            <a:xfrm>
              <a:off x="5864400" y="3759120"/>
              <a:ext cx="1973160" cy="658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8048520" y="379080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8101800" y="4029120"/>
              <a:ext cx="1043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egment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636320" y="392256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661360" y="392256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214960" y="3605040"/>
              <a:ext cx="67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1819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214960" y="4262400"/>
              <a:ext cx="67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2203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3819600" y="3771360"/>
              <a:ext cx="1447560" cy="780840"/>
            </a:xfrm>
            <a:custGeom>
              <a:avLst/>
              <a:gdLst/>
              <a:ahLst/>
              <a:rect l="l" t="t" r="r" b="b"/>
              <a:pathLst>
                <a:path w="912" h="930">
                  <a:moveTo>
                    <a:pt x="0" y="0"/>
                  </a:moveTo>
                  <a:lnTo>
                    <a:pt x="276" y="0"/>
                  </a:lnTo>
                  <a:lnTo>
                    <a:pt x="666" y="930"/>
                  </a:lnTo>
                  <a:lnTo>
                    <a:pt x="912" y="93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289800" y="1828800"/>
            <a:ext cx="3204360" cy="685800"/>
            <a:chOff x="289800" y="1828800"/>
            <a:chExt cx="3204360" cy="685800"/>
          </a:xfrm>
        </p:grpSpPr>
        <p:grpSp>
          <p:nvGrpSpPr>
            <p:cNvPr id="552" name=""/>
            <p:cNvGrpSpPr/>
            <p:nvPr/>
          </p:nvGrpSpPr>
          <p:grpSpPr>
            <a:xfrm>
              <a:off x="289800" y="1828800"/>
              <a:ext cx="3204360" cy="685800"/>
              <a:chOff x="289800" y="1828800"/>
              <a:chExt cx="3204360" cy="685800"/>
            </a:xfrm>
          </p:grpSpPr>
          <p:sp>
            <p:nvSpPr>
              <p:cNvPr id="553" name=""/>
              <p:cNvSpPr/>
              <p:nvPr/>
            </p:nvSpPr>
            <p:spPr>
              <a:xfrm>
                <a:off x="1521000" y="1854360"/>
                <a:ext cx="1973160" cy="6588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352520" y="1828800"/>
                <a:ext cx="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289800" y="2019240"/>
                <a:ext cx="1043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Segment 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1858320" y="2093760"/>
              <a:ext cx="129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7937 by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270720" y="3071880"/>
            <a:ext cx="3223440" cy="368280"/>
            <a:chOff x="270720" y="3071880"/>
            <a:chExt cx="3223440" cy="368280"/>
          </a:xfrm>
        </p:grpSpPr>
        <p:grpSp>
          <p:nvGrpSpPr>
            <p:cNvPr id="558" name=""/>
            <p:cNvGrpSpPr/>
            <p:nvPr/>
          </p:nvGrpSpPr>
          <p:grpSpPr>
            <a:xfrm>
              <a:off x="270720" y="3073320"/>
              <a:ext cx="3223440" cy="349920"/>
              <a:chOff x="270720" y="3073320"/>
              <a:chExt cx="3223440" cy="349920"/>
            </a:xfrm>
          </p:grpSpPr>
          <p:sp>
            <p:nvSpPr>
              <p:cNvPr id="559" name=""/>
              <p:cNvSpPr/>
              <p:nvPr/>
            </p:nvSpPr>
            <p:spPr>
              <a:xfrm>
                <a:off x="1521000" y="3098160"/>
                <a:ext cx="1973160" cy="3250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333440" y="3073320"/>
                <a:ext cx="0" cy="323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270720" y="3091680"/>
                <a:ext cx="1043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Segment 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2" name=""/>
            <p:cNvSpPr/>
            <p:nvPr/>
          </p:nvSpPr>
          <p:spPr>
            <a:xfrm>
              <a:off x="1921680" y="3071880"/>
              <a:ext cx="116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258 by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289800" y="4334040"/>
            <a:ext cx="3204360" cy="685800"/>
            <a:chOff x="289800" y="4334040"/>
            <a:chExt cx="3204360" cy="685800"/>
          </a:xfrm>
        </p:grpSpPr>
        <p:grpSp>
          <p:nvGrpSpPr>
            <p:cNvPr id="564" name=""/>
            <p:cNvGrpSpPr/>
            <p:nvPr/>
          </p:nvGrpSpPr>
          <p:grpSpPr>
            <a:xfrm>
              <a:off x="289800" y="4334040"/>
              <a:ext cx="3204360" cy="685800"/>
              <a:chOff x="289800" y="4334040"/>
              <a:chExt cx="3204360" cy="685800"/>
            </a:xfrm>
          </p:grpSpPr>
          <p:sp>
            <p:nvSpPr>
              <p:cNvPr id="565" name=""/>
              <p:cNvSpPr/>
              <p:nvPr/>
            </p:nvSpPr>
            <p:spPr>
              <a:xfrm>
                <a:off x="1521000" y="4359240"/>
                <a:ext cx="1973160" cy="6588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352520" y="4334040"/>
                <a:ext cx="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89800" y="4524480"/>
                <a:ext cx="1043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Segment 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8" name=""/>
            <p:cNvSpPr/>
            <p:nvPr/>
          </p:nvSpPr>
          <p:spPr>
            <a:xfrm>
              <a:off x="1858320" y="4494240"/>
              <a:ext cx="129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3843 by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7636320" y="320040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642640" y="320184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827800" y="4076640"/>
            <a:ext cx="6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6M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827800" y="2819520"/>
            <a:ext cx="6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6M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Segmentbasierte Speicherverwaltung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652760" y="2666880"/>
            <a:ext cx="2965320" cy="2268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rot="5400000">
            <a:off x="20160" y="3560760"/>
            <a:ext cx="2278080" cy="480960"/>
          </a:xfrm>
          <a:custGeom>
            <a:avLst/>
            <a:gdLst>
              <a:gd name="textAreaLeft" fmla="*/ 285840 w 2278080"/>
              <a:gd name="textAreaRight" fmla="*/ 1992240 w 2278080"/>
              <a:gd name="textAreaTop" fmla="*/ 60120 h 480960"/>
              <a:gd name="textAreaBottom" fmla="*/ 420840 h 48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69" y="21600"/>
                </a:lnTo>
                <a:lnTo>
                  <a:pt x="1731" y="216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949560" y="5796000"/>
            <a:ext cx="3498840" cy="3380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949560" y="1523880"/>
            <a:ext cx="3498840" cy="338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943520" y="1523880"/>
            <a:ext cx="0" cy="34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907800" y="55306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7230960" y="55306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104840" y="1857240"/>
            <a:ext cx="3314880" cy="933480"/>
          </a:xfrm>
          <a:custGeom>
            <a:avLst/>
            <a:gdLst/>
            <a:ahLst/>
            <a:rect l="l" t="t" r="r" b="b"/>
            <a:pathLst>
              <a:path w="2088" h="588">
                <a:moveTo>
                  <a:pt x="2088" y="0"/>
                </a:moveTo>
                <a:lnTo>
                  <a:pt x="2088" y="240"/>
                </a:lnTo>
                <a:lnTo>
                  <a:pt x="0" y="240"/>
                </a:lnTo>
                <a:lnTo>
                  <a:pt x="0" y="58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867040" y="2676600"/>
            <a:ext cx="0" cy="2266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643040" y="2666880"/>
            <a:ext cx="2965320" cy="23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652760" y="2905200"/>
            <a:ext cx="2965320" cy="23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652760" y="3143160"/>
            <a:ext cx="2965320" cy="23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652760" y="4686480"/>
            <a:ext cx="2965320" cy="239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390680" y="2800440"/>
            <a:ext cx="27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390680" y="3029040"/>
            <a:ext cx="27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400040" y="3276720"/>
            <a:ext cx="27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400040" y="4800600"/>
            <a:ext cx="27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163520" y="2668680"/>
            <a:ext cx="27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978480" y="46116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4343040" y="2049480"/>
            <a:ext cx="152280" cy="104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3561840" y="5086440"/>
            <a:ext cx="133560" cy="123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433760" y="19494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774440" y="3544920"/>
            <a:ext cx="953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6-Bit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gment-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änge in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löck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889360" y="3757680"/>
            <a:ext cx="159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ale Block-Nr.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ls Segmant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603080" y="1477800"/>
            <a:ext cx="210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irtuelle Adr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188360" y="5764320"/>
            <a:ext cx="27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hysikalische Adr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003200" y="1535040"/>
            <a:ext cx="84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g.-N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589760" y="233208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gmenttab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000160" y="26035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055960" y="2851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000160" y="30891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575160" y="2622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575160" y="28605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519360" y="30891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879360" y="12636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860360" y="12636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202160" y="12636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657840" y="1523880"/>
            <a:ext cx="0" cy="34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165280" y="580248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lock-N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562800" y="5800680"/>
            <a:ext cx="0" cy="333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357600" y="55306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462720" y="12636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6641640" y="1554120"/>
            <a:ext cx="864720" cy="4574160"/>
            <a:chOff x="6641640" y="1554120"/>
            <a:chExt cx="864720" cy="4574160"/>
          </a:xfrm>
        </p:grpSpPr>
        <p:sp>
          <p:nvSpPr>
            <p:cNvPr id="617" name=""/>
            <p:cNvSpPr/>
            <p:nvPr/>
          </p:nvSpPr>
          <p:spPr>
            <a:xfrm>
              <a:off x="6641640" y="1554120"/>
              <a:ext cx="83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yte-Nr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153200" y="1876320"/>
              <a:ext cx="0" cy="392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670440" y="5821200"/>
              <a:ext cx="83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yte-Nr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3638520" y="1573200"/>
            <a:ext cx="2991240" cy="4218120"/>
            <a:chOff x="3638520" y="1573200"/>
            <a:chExt cx="2991240" cy="4218120"/>
          </a:xfrm>
        </p:grpSpPr>
        <p:sp>
          <p:nvSpPr>
            <p:cNvPr id="621" name=""/>
            <p:cNvSpPr/>
            <p:nvPr/>
          </p:nvSpPr>
          <p:spPr>
            <a:xfrm>
              <a:off x="3679200" y="497844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727240" y="542592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3" name=""/>
            <p:cNvGrpSpPr/>
            <p:nvPr/>
          </p:nvGrpSpPr>
          <p:grpSpPr>
            <a:xfrm>
              <a:off x="3638520" y="1573200"/>
              <a:ext cx="2991240" cy="4218120"/>
              <a:chOff x="3638520" y="1573200"/>
              <a:chExt cx="2991240" cy="4218120"/>
            </a:xfrm>
          </p:grpSpPr>
          <p:sp>
            <p:nvSpPr>
              <p:cNvPr id="624" name=""/>
              <p:cNvSpPr/>
              <p:nvPr/>
            </p:nvSpPr>
            <p:spPr>
              <a:xfrm>
                <a:off x="5516640" y="5168880"/>
                <a:ext cx="293760" cy="2761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5" name=""/>
              <p:cNvGrpSpPr/>
              <p:nvPr/>
            </p:nvGrpSpPr>
            <p:grpSpPr>
              <a:xfrm>
                <a:off x="3638520" y="1573200"/>
                <a:ext cx="2991240" cy="4218120"/>
                <a:chOff x="3638520" y="1573200"/>
                <a:chExt cx="2991240" cy="4218120"/>
              </a:xfrm>
            </p:grpSpPr>
            <p:sp>
              <p:nvSpPr>
                <p:cNvPr id="626" name=""/>
                <p:cNvSpPr/>
                <p:nvPr/>
              </p:nvSpPr>
              <p:spPr>
                <a:xfrm>
                  <a:off x="3638520" y="4924440"/>
                  <a:ext cx="1886040" cy="380880"/>
                </a:xfrm>
                <a:custGeom>
                  <a:avLst/>
                  <a:gdLst/>
                  <a:ahLst/>
                  <a:rect l="l" t="t" r="r" b="b"/>
                  <a:pathLst>
                    <a:path w="1188" h="240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1188" y="24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5810400" y="1866960"/>
                  <a:ext cx="399960" cy="3438360"/>
                </a:xfrm>
                <a:custGeom>
                  <a:avLst/>
                  <a:gdLst/>
                  <a:ahLst/>
                  <a:rect l="l" t="t" r="r" b="b"/>
                  <a:pathLst>
                    <a:path w="252" h="1980">
                      <a:moveTo>
                        <a:pt x="252" y="0"/>
                      </a:moveTo>
                      <a:lnTo>
                        <a:pt x="252" y="1980"/>
                      </a:lnTo>
                      <a:lnTo>
                        <a:pt x="0" y="1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5657760" y="5448240"/>
                  <a:ext cx="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 flipH="1">
                  <a:off x="6143760" y="2039760"/>
                  <a:ext cx="133200" cy="123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 flipH="1">
                  <a:off x="5591160" y="5505480"/>
                  <a:ext cx="133200" cy="123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6251040" y="1949400"/>
                  <a:ext cx="378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1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5412960" y="1573200"/>
                  <a:ext cx="915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Block-Nr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5518080" y="5140440"/>
                  <a:ext cx="2844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Segmentbasierte Speicherverwaltung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52440" y="1208160"/>
            <a:ext cx="862020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gmentgrenzen nicht an jeder Byteadresse, sondern an Vielfachen von Blöcken (hier von 256 Bytes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gmente werden im virtuellen physikalischen Adressraum in Blöcke von 256 Bytes unterteil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.h. die Bytenummer au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Bits wird aufgeteilt in eine kürzere Bytenummer für die Byteadressierung im Block und eine Blocknumm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 Adreßumsetzung wird die virtuelle Segementnummer auf eine reale 24-Bit-Blocknummer als Segmentbasis abgebild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irtuelle Bytenummer für die Adressierung innerhalb des Blocks  wird unverändert übernomm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Virtueller und physikalischer Adressrau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864400" y="2139840"/>
            <a:ext cx="1973160" cy="1239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864400" y="3397320"/>
            <a:ext cx="1973160" cy="249696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864400" y="2143080"/>
            <a:ext cx="1973160" cy="3776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472080" y="589428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088960" y="1614600"/>
            <a:ext cx="136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hysikalische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lock-N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634880" y="536256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659920" y="536256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521000" y="1854360"/>
            <a:ext cx="1973160" cy="1239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521000" y="3111480"/>
            <a:ext cx="1973160" cy="1239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521000" y="1857240"/>
            <a:ext cx="1973160" cy="4015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521000" y="5607000"/>
            <a:ext cx="1973160" cy="23976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128680" y="560880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547080" y="1309680"/>
            <a:ext cx="886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Virtuelle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eg.-N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521000" y="4368960"/>
            <a:ext cx="1973160" cy="1239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856240" y="5343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64K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292920" y="377028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317960" y="377028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291480" y="507672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316520" y="507672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252080" y="5783400"/>
            <a:ext cx="2629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irtueller Adressra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263200" y="5735520"/>
            <a:ext cx="3256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hysikalischer Adressra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549600" y="17859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549600" y="30528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549600" y="43671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292920" y="215280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808720" y="4038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64K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818080" y="278136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64K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302640" y="452448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89800" y="4334040"/>
            <a:ext cx="3331440" cy="822240"/>
            <a:chOff x="289800" y="4334040"/>
            <a:chExt cx="3331440" cy="822240"/>
          </a:xfrm>
        </p:grpSpPr>
        <p:sp>
          <p:nvSpPr>
            <p:cNvPr id="666" name=""/>
            <p:cNvSpPr/>
            <p:nvPr/>
          </p:nvSpPr>
          <p:spPr>
            <a:xfrm>
              <a:off x="1521000" y="4359240"/>
              <a:ext cx="1973160" cy="744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352520" y="433404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89800" y="4524480"/>
              <a:ext cx="1043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egment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523880" y="4562640"/>
              <a:ext cx="104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390840" y="4572000"/>
              <a:ext cx="104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514520" y="4943520"/>
              <a:ext cx="104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381480" y="4952880"/>
              <a:ext cx="104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308600" y="452592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252960" y="4910040"/>
              <a:ext cx="349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290760" y="4348080"/>
              <a:ext cx="330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270720" y="3086280"/>
            <a:ext cx="3350520" cy="460440"/>
            <a:chOff x="270720" y="3086280"/>
            <a:chExt cx="3350520" cy="460440"/>
          </a:xfrm>
        </p:grpSpPr>
        <p:sp>
          <p:nvSpPr>
            <p:cNvPr id="677" name=""/>
            <p:cNvSpPr/>
            <p:nvPr/>
          </p:nvSpPr>
          <p:spPr>
            <a:xfrm>
              <a:off x="1521000" y="3111480"/>
              <a:ext cx="1973160" cy="4017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333440" y="30862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70720" y="3105000"/>
              <a:ext cx="1043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egment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523880" y="3305160"/>
              <a:ext cx="104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390840" y="3314880"/>
              <a:ext cx="104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290760" y="3110040"/>
              <a:ext cx="330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290760" y="3300480"/>
              <a:ext cx="330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4" name=""/>
          <p:cNvSpPr/>
          <p:nvPr/>
        </p:nvSpPr>
        <p:spPr>
          <a:xfrm>
            <a:off x="7734240" y="2333520"/>
            <a:ext cx="104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867280" y="2352600"/>
            <a:ext cx="104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834520" y="2116080"/>
            <a:ext cx="743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Block-N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662960" y="2109960"/>
            <a:ext cx="33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653240" y="2319480"/>
            <a:ext cx="33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3809880" y="1943280"/>
            <a:ext cx="5335200" cy="2394000"/>
            <a:chOff x="3809880" y="1943280"/>
            <a:chExt cx="5335200" cy="2394000"/>
          </a:xfrm>
        </p:grpSpPr>
        <p:sp>
          <p:nvSpPr>
            <p:cNvPr id="690" name=""/>
            <p:cNvSpPr/>
            <p:nvPr/>
          </p:nvSpPr>
          <p:spPr>
            <a:xfrm>
              <a:off x="3809880" y="1943280"/>
              <a:ext cx="1619280" cy="1266480"/>
            </a:xfrm>
            <a:custGeom>
              <a:avLst/>
              <a:gdLst/>
              <a:ahLst/>
              <a:rect l="l" t="t" r="r" b="b"/>
              <a:pathLst>
                <a:path w="912" h="930">
                  <a:moveTo>
                    <a:pt x="0" y="0"/>
                  </a:moveTo>
                  <a:lnTo>
                    <a:pt x="276" y="0"/>
                  </a:lnTo>
                  <a:lnTo>
                    <a:pt x="666" y="930"/>
                  </a:lnTo>
                  <a:lnTo>
                    <a:pt x="912" y="93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1" name=""/>
            <p:cNvGrpSpPr/>
            <p:nvPr/>
          </p:nvGrpSpPr>
          <p:grpSpPr>
            <a:xfrm>
              <a:off x="5492520" y="3052800"/>
              <a:ext cx="3652560" cy="1284480"/>
              <a:chOff x="5492520" y="3052800"/>
              <a:chExt cx="3652560" cy="1284480"/>
            </a:xfrm>
          </p:grpSpPr>
          <p:sp>
            <p:nvSpPr>
              <p:cNvPr id="692" name=""/>
              <p:cNvSpPr/>
              <p:nvPr/>
            </p:nvSpPr>
            <p:spPr>
              <a:xfrm>
                <a:off x="5864400" y="3102120"/>
                <a:ext cx="1973160" cy="12207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058240" y="3152880"/>
                <a:ext cx="0" cy="1133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101800" y="3648240"/>
                <a:ext cx="1043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Segment 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7646040" y="3552840"/>
                <a:ext cx="42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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652000" y="3554280"/>
                <a:ext cx="42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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492520" y="30528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734240" y="3276720"/>
                <a:ext cx="104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734240" y="4105440"/>
                <a:ext cx="104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867280" y="3295800"/>
                <a:ext cx="104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867280" y="4124160"/>
                <a:ext cx="104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653240" y="307188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586640" y="409104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0000"/>
                    </a:solidFill>
                    <a:latin typeface="Arial"/>
                  </a:rPr>
                  <a:t>3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4" name=""/>
          <p:cNvSpPr/>
          <p:nvPr/>
        </p:nvSpPr>
        <p:spPr>
          <a:xfrm>
            <a:off x="7586640" y="5338800"/>
            <a:ext cx="33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289800" y="1824120"/>
            <a:ext cx="3350160" cy="1008000"/>
            <a:chOff x="289800" y="1824120"/>
            <a:chExt cx="3350160" cy="1008000"/>
          </a:xfrm>
        </p:grpSpPr>
        <p:sp>
          <p:nvSpPr>
            <p:cNvPr id="706" name=""/>
            <p:cNvSpPr/>
            <p:nvPr/>
          </p:nvSpPr>
          <p:spPr>
            <a:xfrm>
              <a:off x="1521000" y="1854360"/>
              <a:ext cx="1973160" cy="93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352520" y="1828800"/>
              <a:ext cx="0" cy="90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89800" y="2019240"/>
              <a:ext cx="1043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egment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99240" y="215424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523880" y="2048040"/>
              <a:ext cx="104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523880" y="2228760"/>
              <a:ext cx="104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523880" y="2610000"/>
              <a:ext cx="104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390840" y="2038320"/>
              <a:ext cx="104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390840" y="2219400"/>
              <a:ext cx="104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390840" y="2619360"/>
              <a:ext cx="104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309840" y="182412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243240" y="258588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472040" y="1830240"/>
              <a:ext cx="743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Block-Nr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9" name=""/>
          <p:cNvSpPr/>
          <p:nvPr/>
        </p:nvSpPr>
        <p:spPr>
          <a:xfrm>
            <a:off x="5987160" y="2268360"/>
            <a:ext cx="743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Block-N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3886200" y="2543040"/>
            <a:ext cx="5258880" cy="657360"/>
            <a:chOff x="3886200" y="2543040"/>
            <a:chExt cx="5258880" cy="657360"/>
          </a:xfrm>
        </p:grpSpPr>
        <p:grpSp>
          <p:nvGrpSpPr>
            <p:cNvPr id="721" name=""/>
            <p:cNvGrpSpPr/>
            <p:nvPr/>
          </p:nvGrpSpPr>
          <p:grpSpPr>
            <a:xfrm>
              <a:off x="5473440" y="2543040"/>
              <a:ext cx="3671640" cy="622440"/>
              <a:chOff x="5473440" y="2543040"/>
              <a:chExt cx="3671640" cy="622440"/>
            </a:xfrm>
          </p:grpSpPr>
          <p:sp>
            <p:nvSpPr>
              <p:cNvPr id="722" name=""/>
              <p:cNvSpPr/>
              <p:nvPr/>
            </p:nvSpPr>
            <p:spPr>
              <a:xfrm>
                <a:off x="8101800" y="2819520"/>
                <a:ext cx="1043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Segment 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5864400" y="2787480"/>
                <a:ext cx="1973160" cy="3254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048520" y="2790720"/>
                <a:ext cx="0" cy="32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5473440" y="273852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734240" y="2543040"/>
                <a:ext cx="104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734240" y="2952720"/>
                <a:ext cx="104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867280" y="2562120"/>
                <a:ext cx="104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5867280" y="2971800"/>
                <a:ext cx="104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653240" y="254808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653240" y="275760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653240" y="291924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3" name=""/>
            <p:cNvSpPr/>
            <p:nvPr/>
          </p:nvSpPr>
          <p:spPr>
            <a:xfrm flipV="1">
              <a:off x="3886200" y="2857680"/>
              <a:ext cx="1619280" cy="342720"/>
            </a:xfrm>
            <a:custGeom>
              <a:avLst/>
              <a:gdLst/>
              <a:ahLst/>
              <a:rect l="l" t="t" r="r" b="b"/>
              <a:pathLst>
                <a:path w="912" h="930">
                  <a:moveTo>
                    <a:pt x="0" y="0"/>
                  </a:moveTo>
                  <a:lnTo>
                    <a:pt x="276" y="0"/>
                  </a:lnTo>
                  <a:lnTo>
                    <a:pt x="666" y="930"/>
                  </a:lnTo>
                  <a:lnTo>
                    <a:pt x="912" y="93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3800520" y="4281480"/>
            <a:ext cx="5344560" cy="1084320"/>
            <a:chOff x="3800520" y="4281480"/>
            <a:chExt cx="5344560" cy="1084320"/>
          </a:xfrm>
        </p:grpSpPr>
        <p:grpSp>
          <p:nvGrpSpPr>
            <p:cNvPr id="735" name=""/>
            <p:cNvGrpSpPr/>
            <p:nvPr/>
          </p:nvGrpSpPr>
          <p:grpSpPr>
            <a:xfrm>
              <a:off x="5434920" y="4281480"/>
              <a:ext cx="3710160" cy="1084320"/>
              <a:chOff x="5434920" y="4281480"/>
              <a:chExt cx="3710160" cy="1084320"/>
            </a:xfrm>
          </p:grpSpPr>
          <p:sp>
            <p:nvSpPr>
              <p:cNvPr id="736" name=""/>
              <p:cNvSpPr/>
              <p:nvPr/>
            </p:nvSpPr>
            <p:spPr>
              <a:xfrm>
                <a:off x="5864400" y="4311720"/>
                <a:ext cx="1973160" cy="10396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8048520" y="4324320"/>
                <a:ext cx="0" cy="1028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8101800" y="4648320"/>
                <a:ext cx="1043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Segment 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607880" y="4608360"/>
                <a:ext cx="42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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632920" y="4608360"/>
                <a:ext cx="42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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434920" y="428148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3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724880" y="4581360"/>
                <a:ext cx="104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743960" y="5143680"/>
                <a:ext cx="104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867280" y="4600440"/>
                <a:ext cx="104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5867280" y="5162400"/>
                <a:ext cx="104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586640" y="43387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0000"/>
                    </a:solidFill>
                    <a:latin typeface="Arial"/>
                  </a:rPr>
                  <a:t>3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596360" y="511956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0000"/>
                    </a:solidFill>
                    <a:latin typeface="Arial"/>
                  </a:rPr>
                  <a:t>5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8" name=""/>
            <p:cNvSpPr/>
            <p:nvPr/>
          </p:nvSpPr>
          <p:spPr>
            <a:xfrm flipV="1">
              <a:off x="3800520" y="4343400"/>
              <a:ext cx="1619280" cy="209520"/>
            </a:xfrm>
            <a:custGeom>
              <a:avLst/>
              <a:gdLst/>
              <a:ahLst/>
              <a:rect l="l" t="t" r="r" b="b"/>
              <a:pathLst>
                <a:path w="912" h="930">
                  <a:moveTo>
                    <a:pt x="0" y="0"/>
                  </a:moveTo>
                  <a:lnTo>
                    <a:pt x="276" y="0"/>
                  </a:lnTo>
                  <a:lnTo>
                    <a:pt x="666" y="930"/>
                  </a:lnTo>
                  <a:lnTo>
                    <a:pt x="912" y="93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4.5 Segmentorientierte Speicherverwalt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508680" y="1239840"/>
            <a:ext cx="8085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er Speicher wird in ein oder mehrere physikalisch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Segmente (zusammenhängende Speicherbereich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variabler Länge) untertei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Oft verschiedene Segmenttypen (für Code, Daten,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Maximale Segmentlängen je nach Prozessor zwisch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64 KByte und 4 G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Fallbeispiel Intel 80286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Berechnung der physikalischen aus der logischen Adr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99"/>
                </a:solidFill>
                <a:latin typeface="Arial"/>
              </a:rPr>
              <a:t>Beispiel: Intel 80286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1114560" y="2219400"/>
            <a:ext cx="1304640" cy="4284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lek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419200" y="2219400"/>
            <a:ext cx="1305000" cy="4284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029200" y="1981080"/>
            <a:ext cx="1943280" cy="648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032440" y="4584600"/>
            <a:ext cx="1942920" cy="647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025960" y="3133800"/>
            <a:ext cx="1943280" cy="3999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peicherw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771560" y="2676600"/>
            <a:ext cx="2772000" cy="1866960"/>
          </a:xfrm>
          <a:custGeom>
            <a:avLst/>
            <a:gdLst/>
            <a:ahLst/>
            <a:rect l="l" t="t" r="r" b="b"/>
            <a:pathLst>
              <a:path w="1746" h="1176">
                <a:moveTo>
                  <a:pt x="0" y="0"/>
                </a:moveTo>
                <a:lnTo>
                  <a:pt x="0" y="1176"/>
                </a:lnTo>
                <a:lnTo>
                  <a:pt x="1746" y="1176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067200" y="2657520"/>
            <a:ext cx="1581120" cy="1374840"/>
          </a:xfrm>
          <a:custGeom>
            <a:avLst/>
            <a:gdLst/>
            <a:ahLst/>
            <a:rect l="l" t="t" r="r" b="b"/>
            <a:pathLst>
              <a:path w="996" h="866">
                <a:moveTo>
                  <a:pt x="0" y="0"/>
                </a:moveTo>
                <a:lnTo>
                  <a:pt x="0" y="864"/>
                </a:lnTo>
                <a:lnTo>
                  <a:pt x="996" y="86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638600" y="3533760"/>
            <a:ext cx="276480" cy="990720"/>
          </a:xfrm>
          <a:custGeom>
            <a:avLst/>
            <a:gdLst/>
            <a:ahLst/>
            <a:rect l="l" t="t" r="r" b="b"/>
            <a:pathLst>
              <a:path w="174" h="624">
                <a:moveTo>
                  <a:pt x="174" y="0"/>
                </a:moveTo>
                <a:lnTo>
                  <a:pt x="0" y="0"/>
                </a:lnTo>
                <a:lnTo>
                  <a:pt x="0" y="624"/>
                </a:lnTo>
                <a:lnTo>
                  <a:pt x="168" y="62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143840" y="2638440"/>
            <a:ext cx="247680" cy="1906560"/>
          </a:xfrm>
          <a:custGeom>
            <a:avLst/>
            <a:gdLst/>
            <a:ahLst/>
            <a:rect l="l" t="t" r="r" b="b"/>
            <a:pathLst>
              <a:path w="156" h="1201">
                <a:moveTo>
                  <a:pt x="0" y="0"/>
                </a:moveTo>
                <a:lnTo>
                  <a:pt x="156" y="0"/>
                </a:lnTo>
                <a:lnTo>
                  <a:pt x="156" y="1201"/>
                </a:lnTo>
                <a:lnTo>
                  <a:pt x="6" y="120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038560" y="288612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858000" y="288612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029200" y="380052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029200" y="404820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029200" y="431496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861240" y="38070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861240" y="40543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861240" y="43210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972480" y="1974960"/>
            <a:ext cx="0" cy="327636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029200" y="1974960"/>
            <a:ext cx="0" cy="327636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029200" y="5219640"/>
            <a:ext cx="194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029200" y="1968480"/>
            <a:ext cx="194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226160" y="15858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irtuelle Adr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293080" y="141120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555680" y="330372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994040" y="4599000"/>
            <a:ext cx="243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gmentanf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892080" y="2602080"/>
            <a:ext cx="29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1              16 15             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029200" y="4568760"/>
            <a:ext cx="194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029200" y="2616120"/>
            <a:ext cx="194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99"/>
                </a:solidFill>
                <a:latin typeface="Arial"/>
              </a:rPr>
              <a:t>Beispiel: Intel 80286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512280" y="1096920"/>
            <a:ext cx="80247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Jede Speicherzelle wird durch einen Segment-Selektor, der den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Segmentanfang kennzeichnet, und einen Offset innerhalb des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Segments adressi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Die Segment-Selektoren werden in speziellen Segment-Registern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gespeichert, da durch Lokalitäts-Eigenschaften in Programmen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Segment-Selektoren selten wechsel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Um dies zu unterstützen, existieren verschiedene Register für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verschieden Segment-Typ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Code-Segment, Daten-Segment, Stack-Segment, Extra-Seg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Wichtige Informationen über das ausgewählte Segment werden in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einem </a:t>
            </a:r>
            <a:r>
              <a:rPr b="0" sz="2000" spc="-1" strike="noStrike">
                <a:solidFill>
                  <a:srgbClr val="3333ff"/>
                </a:solidFill>
                <a:latin typeface="Arial"/>
              </a:rPr>
              <a:t>Segment-Descriptor-Cache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abgelegt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keine Speicherzugriffe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beim Lesen der Segmenteigenschaf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99"/>
                </a:solidFill>
                <a:latin typeface="Arial"/>
              </a:rPr>
              <a:t>Beispiel: Intel 80286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5734080" y="1190520"/>
            <a:ext cx="619200" cy="461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000920" y="2486160"/>
            <a:ext cx="1095480" cy="17715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7191360" y="2638440"/>
            <a:ext cx="71424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191360" y="2943360"/>
            <a:ext cx="71424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191360" y="3238560"/>
            <a:ext cx="71424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191360" y="3543480"/>
            <a:ext cx="71424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7081920" y="3843360"/>
            <a:ext cx="985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EGMENT-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391440" y="2552760"/>
            <a:ext cx="799920" cy="266760"/>
          </a:xfrm>
          <a:custGeom>
            <a:avLst/>
            <a:gdLst/>
            <a:ahLst/>
            <a:rect l="l" t="t" r="r" b="b"/>
            <a:pathLst>
              <a:path w="504" h="168">
                <a:moveTo>
                  <a:pt x="504" y="168"/>
                </a:moveTo>
                <a:lnTo>
                  <a:pt x="264" y="168"/>
                </a:lnTo>
                <a:lnTo>
                  <a:pt x="264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362640" y="2895480"/>
            <a:ext cx="809640" cy="228600"/>
          </a:xfrm>
          <a:custGeom>
            <a:avLst/>
            <a:gdLst/>
            <a:ahLst/>
            <a:rect l="l" t="t" r="r" b="b"/>
            <a:pathLst>
              <a:path w="510" h="144">
                <a:moveTo>
                  <a:pt x="510" y="144"/>
                </a:moveTo>
                <a:lnTo>
                  <a:pt x="276" y="144"/>
                </a:lnTo>
                <a:lnTo>
                  <a:pt x="276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353280" y="3429000"/>
            <a:ext cx="809640" cy="390600"/>
          </a:xfrm>
          <a:custGeom>
            <a:avLst/>
            <a:gdLst/>
            <a:ahLst/>
            <a:rect l="l" t="t" r="r" b="b"/>
            <a:pathLst>
              <a:path w="528" h="258">
                <a:moveTo>
                  <a:pt x="528" y="0"/>
                </a:moveTo>
                <a:lnTo>
                  <a:pt x="288" y="0"/>
                </a:lnTo>
                <a:lnTo>
                  <a:pt x="288" y="258"/>
                </a:lnTo>
                <a:lnTo>
                  <a:pt x="18" y="258"/>
                </a:lnTo>
                <a:lnTo>
                  <a:pt x="0" y="252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381720" y="3714840"/>
            <a:ext cx="819360" cy="990360"/>
          </a:xfrm>
          <a:custGeom>
            <a:avLst/>
            <a:gdLst/>
            <a:ahLst/>
            <a:rect l="l" t="t" r="r" b="b"/>
            <a:pathLst>
              <a:path w="516" h="624">
                <a:moveTo>
                  <a:pt x="516" y="0"/>
                </a:moveTo>
                <a:lnTo>
                  <a:pt x="276" y="0"/>
                </a:lnTo>
                <a:lnTo>
                  <a:pt x="276" y="624"/>
                </a:lnTo>
                <a:lnTo>
                  <a:pt x="0" y="624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734080" y="1419120"/>
            <a:ext cx="619200" cy="2955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734080" y="1714680"/>
            <a:ext cx="619200" cy="295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734080" y="2295360"/>
            <a:ext cx="619200" cy="247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734080" y="2638440"/>
            <a:ext cx="619200" cy="247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734080" y="3191040"/>
            <a:ext cx="619200" cy="6094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734080" y="4095720"/>
            <a:ext cx="619200" cy="6094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734080" y="5000760"/>
            <a:ext cx="619200" cy="6094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7232760" y="202104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4457160" y="150336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odul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457160" y="242712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odul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4424760" y="3179880"/>
            <a:ext cx="10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zess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501080" y="5113440"/>
            <a:ext cx="9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en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501080" y="4084560"/>
            <a:ext cx="9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en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477400" y="579276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peic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62080" y="1257480"/>
            <a:ext cx="421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griff auf die Arbeitsmenge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working set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ines Prozessors mit Hilfe des Segmentregi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"/>
          <p:cNvSpPr/>
          <p:nvPr/>
        </p:nvSpPr>
        <p:spPr>
          <a:xfrm>
            <a:off x="5543640" y="4943520"/>
            <a:ext cx="390600" cy="438120"/>
          </a:xfrm>
          <a:prstGeom prst="downArrow">
            <a:avLst>
              <a:gd name="adj1" fmla="val 44713"/>
              <a:gd name="adj2" fmla="val 4914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000840" y="2676600"/>
            <a:ext cx="390600" cy="1704960"/>
          </a:xfrm>
          <a:prstGeom prst="downArrow">
            <a:avLst>
              <a:gd name="adj1" fmla="val 39833"/>
              <a:gd name="adj2" fmla="val 8030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99"/>
                </a:solidFill>
                <a:latin typeface="Arial"/>
              </a:rPr>
              <a:t>Adressierungs-Modi des 80286 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326880" y="1096920"/>
            <a:ext cx="8221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Der 80286 kennt zwei spezielle Betriebsarten für die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Segmentverwaltu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Real (Address) Mode</a:t>
            </a:r>
            <a:br>
              <a:rPr sz="2000"/>
            </a:br>
            <a:r>
              <a:rPr b="1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(Kompatibilitätsmode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zu 808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3921120" y="1920960"/>
            <a:ext cx="3532320" cy="603000"/>
            <a:chOff x="3921120" y="1920960"/>
            <a:chExt cx="3532320" cy="603000"/>
          </a:xfrm>
        </p:grpSpPr>
        <p:sp>
          <p:nvSpPr>
            <p:cNvPr id="814" name=""/>
            <p:cNvSpPr/>
            <p:nvPr/>
          </p:nvSpPr>
          <p:spPr>
            <a:xfrm>
              <a:off x="3921120" y="2181240"/>
              <a:ext cx="3498840" cy="338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915080" y="2181240"/>
              <a:ext cx="0" cy="342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831920" y="192096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173720" y="19209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975480" y="21924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0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650560" y="2192400"/>
              <a:ext cx="65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Off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3917520" y="2978280"/>
            <a:ext cx="3521520" cy="612720"/>
            <a:chOff x="3917520" y="2978280"/>
            <a:chExt cx="3521520" cy="612720"/>
          </a:xfrm>
        </p:grpSpPr>
        <p:sp>
          <p:nvSpPr>
            <p:cNvPr id="821" name=""/>
            <p:cNvSpPr/>
            <p:nvPr/>
          </p:nvSpPr>
          <p:spPr>
            <a:xfrm>
              <a:off x="3940200" y="3238560"/>
              <a:ext cx="3498840" cy="338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534000" y="3247920"/>
              <a:ext cx="0" cy="34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917520" y="297828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259320" y="29782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652080" y="325908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0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334400" y="3230640"/>
              <a:ext cx="160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gment-Selek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7" name=""/>
          <p:cNvSpPr/>
          <p:nvPr/>
        </p:nvSpPr>
        <p:spPr>
          <a:xfrm>
            <a:off x="4714920" y="4390920"/>
            <a:ext cx="2095560" cy="581040"/>
          </a:xfrm>
          <a:custGeom>
            <a:avLst/>
            <a:gdLst>
              <a:gd name="textAreaLeft" fmla="*/ 460800 w 2095560"/>
              <a:gd name="textAreaRight" fmla="*/ 1634760 w 2095560"/>
              <a:gd name="textAreaTop" fmla="*/ 127800 h 581040"/>
              <a:gd name="textAreaBottom" fmla="*/ 453240 h 58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ddier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8" name=""/>
          <p:cNvGrpSpPr/>
          <p:nvPr/>
        </p:nvGrpSpPr>
        <p:grpSpPr>
          <a:xfrm>
            <a:off x="3907800" y="5530680"/>
            <a:ext cx="3602880" cy="610560"/>
            <a:chOff x="3907800" y="5530680"/>
            <a:chExt cx="3602880" cy="610560"/>
          </a:xfrm>
        </p:grpSpPr>
        <p:sp>
          <p:nvSpPr>
            <p:cNvPr id="829" name=""/>
            <p:cNvSpPr/>
            <p:nvPr/>
          </p:nvSpPr>
          <p:spPr>
            <a:xfrm>
              <a:off x="3949560" y="5796000"/>
              <a:ext cx="3498840" cy="338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907800" y="553068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230960" y="55306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000320" y="5803920"/>
              <a:ext cx="2983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Physikalische Adresse  (20 Bi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3" name=""/>
          <p:cNvSpPr/>
          <p:nvPr/>
        </p:nvSpPr>
        <p:spPr>
          <a:xfrm rot="16200000">
            <a:off x="6129360" y="1385640"/>
            <a:ext cx="104760" cy="2485800"/>
          </a:xfrm>
          <a:custGeom>
            <a:avLst/>
            <a:gdLst>
              <a:gd name="textAreaLeft" fmla="*/ 66960 w 104760"/>
              <a:gd name="textAreaRight" fmla="*/ 105120 w 104760"/>
              <a:gd name="textAreaTop" fmla="*/ 64800 h 2485800"/>
              <a:gd name="textAreaBottom" fmla="*/ 2421000 h 24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524560" y="3774960"/>
            <a:ext cx="390600" cy="666720"/>
          </a:xfrm>
          <a:prstGeom prst="downArrow">
            <a:avLst>
              <a:gd name="adj1" fmla="val 44713"/>
              <a:gd name="adj2" fmla="val 7478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rot="16200000">
            <a:off x="5659200" y="2007720"/>
            <a:ext cx="155880" cy="3387600"/>
          </a:xfrm>
          <a:custGeom>
            <a:avLst/>
            <a:gdLst>
              <a:gd name="textAreaLeft" fmla="*/ 99720 w 155880"/>
              <a:gd name="textAreaRight" fmla="*/ 156240 w 155880"/>
              <a:gd name="textAreaTop" fmla="*/ 88200 h 3387600"/>
              <a:gd name="textAreaBottom" fmla="*/ 3299400 h 338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V="1" rot="5400000">
            <a:off x="5572080" y="3762360"/>
            <a:ext cx="285840" cy="3476880"/>
          </a:xfrm>
          <a:custGeom>
            <a:avLst/>
            <a:gdLst>
              <a:gd name="textAreaLeft" fmla="*/ 182520 w 285840"/>
              <a:gd name="textAreaRight" fmla="*/ 286200 w 285840"/>
              <a:gd name="textAreaTop" fmla="*/ 90360 h 3476880"/>
              <a:gd name="textAreaBottom" fmla="*/ 3386520 h 347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157"/>
                </a:lnTo>
                <a:cubicBezTo>
                  <a:pt x="10800" y="10057"/>
                  <a:pt x="5400" y="10957"/>
                  <a:pt x="0" y="10957"/>
                </a:cubicBezTo>
                <a:cubicBezTo>
                  <a:pt x="5400" y="10957"/>
                  <a:pt x="10800" y="11857"/>
                  <a:pt x="10800" y="12757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7673400" y="2009880"/>
            <a:ext cx="125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fset zu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isadre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7673400" y="3114720"/>
            <a:ext cx="125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gment-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isadre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5921280" y="2644920"/>
            <a:ext cx="1505160" cy="3558960"/>
          </a:xfrm>
          <a:prstGeom prst="cube">
            <a:avLst>
              <a:gd name="adj" fmla="val 6893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5921280" y="3193920"/>
            <a:ext cx="1390680" cy="962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921280" y="4584600"/>
            <a:ext cx="1390680" cy="1425600"/>
          </a:xfrm>
          <a:prstGeom prst="rect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99"/>
                </a:solidFill>
                <a:latin typeface="Arial"/>
              </a:rPr>
              <a:t>Adressierungs-Modi des 80286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412920" y="1087560"/>
            <a:ext cx="8221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Protected (Virtual Address) Mode </a:t>
            </a:r>
            <a:br>
              <a:rPr sz="2000"/>
            </a:br>
            <a:r>
              <a:rPr b="1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Modus mit vergrößertem Adressraum und erweiterten Fähigkeiten zu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Speicherschutz, Multitas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921280" y="3527280"/>
            <a:ext cx="1390680" cy="219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ff"/>
                </a:solidFill>
                <a:latin typeface="Arial"/>
              </a:rPr>
              <a:t>Oper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921280" y="5032440"/>
            <a:ext cx="1390680" cy="542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ff"/>
                </a:solidFill>
                <a:latin typeface="Arial"/>
              </a:rPr>
              <a:t>Segment-</a:t>
            </a:r>
            <a:br>
              <a:rPr sz="1600"/>
            </a:br>
            <a:r>
              <a:rPr b="1" lang="de-DE" sz="1600" spc="-1" strike="noStrike">
                <a:solidFill>
                  <a:srgbClr val="0000ff"/>
                </a:solidFill>
                <a:latin typeface="Arial"/>
              </a:rPr>
              <a:t>Deskr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7502400" y="4575240"/>
            <a:ext cx="190800" cy="1238040"/>
          </a:xfrm>
          <a:custGeom>
            <a:avLst/>
            <a:gdLst>
              <a:gd name="textAreaLeft" fmla="*/ 0 w 190800"/>
              <a:gd name="textAreaRight" fmla="*/ 68760 w 190800"/>
              <a:gd name="textAreaTop" fmla="*/ 32040 h 1238040"/>
              <a:gd name="textAreaBottom" fmla="*/ 1206000 h 123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531200" y="3203640"/>
            <a:ext cx="171360" cy="923760"/>
          </a:xfrm>
          <a:custGeom>
            <a:avLst/>
            <a:gdLst>
              <a:gd name="textAreaLeft" fmla="*/ 0 w 171360"/>
              <a:gd name="textAreaRight" fmla="*/ 61920 w 171360"/>
              <a:gd name="textAreaTop" fmla="*/ 23760 h 923760"/>
              <a:gd name="textAreaBottom" fmla="*/ 900000 h 923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851040" y="2260440"/>
            <a:ext cx="4419360" cy="3848400"/>
          </a:xfrm>
          <a:prstGeom prst="rect">
            <a:avLst/>
          </a:prstGeom>
          <a:solidFill>
            <a:srgbClr val="d9fff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244520" y="2629080"/>
            <a:ext cx="1690920" cy="342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lek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H="1" rot="16200000">
            <a:off x="3606480" y="3784320"/>
            <a:ext cx="1600200" cy="876240"/>
          </a:xfrm>
          <a:custGeom>
            <a:avLst/>
            <a:gdLst>
              <a:gd name="textAreaLeft" fmla="*/ 267840 w 1600200"/>
              <a:gd name="textAreaRight" fmla="*/ 1332360 w 1600200"/>
              <a:gd name="textAreaTop" fmla="*/ 146520 h 876240"/>
              <a:gd name="textAreaBottom" fmla="*/ 729720 h 87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237" y="21600"/>
                </a:lnTo>
                <a:lnTo>
                  <a:pt x="3363" y="21600"/>
                </a:lnTo>
                <a:close/>
              </a:path>
            </a:pathLst>
          </a:cu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730600" y="4724280"/>
            <a:ext cx="1257120" cy="609840"/>
          </a:xfrm>
          <a:custGeom>
            <a:avLst/>
            <a:gdLst/>
            <a:ahLst/>
            <a:rect l="l" t="t" r="r" b="b"/>
            <a:pathLst>
              <a:path w="792" h="384">
                <a:moveTo>
                  <a:pt x="0" y="384"/>
                </a:moveTo>
                <a:lnTo>
                  <a:pt x="0" y="8"/>
                </a:lnTo>
                <a:lnTo>
                  <a:pt x="792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flipH="1">
            <a:off x="3974760" y="5499000"/>
            <a:ext cx="1942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rot="5400000">
            <a:off x="3932280" y="399816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dresse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ddier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933640" y="2629080"/>
            <a:ext cx="1690920" cy="342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511280" y="5334120"/>
            <a:ext cx="2476440" cy="330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egment-Basis Adre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413000" y="5043600"/>
            <a:ext cx="272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23                                     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rot="5400000">
            <a:off x="3949560" y="4127400"/>
            <a:ext cx="291960" cy="266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V="1">
            <a:off x="3683160" y="2983680"/>
            <a:ext cx="291960" cy="762120"/>
          </a:xfrm>
          <a:custGeom>
            <a:avLst/>
            <a:gdLst/>
            <a:ahLst/>
            <a:rect l="l" t="t" r="r" b="b"/>
            <a:pathLst>
              <a:path w="792" h="384">
                <a:moveTo>
                  <a:pt x="0" y="384"/>
                </a:moveTo>
                <a:lnTo>
                  <a:pt x="0" y="8"/>
                </a:lnTo>
                <a:lnTo>
                  <a:pt x="792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1247760" y="2338560"/>
            <a:ext cx="362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6  15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168560" y="2971800"/>
            <a:ext cx="5460840" cy="2946240"/>
          </a:xfrm>
          <a:custGeom>
            <a:avLst/>
            <a:gdLst/>
            <a:ahLst/>
            <a:rect l="l" t="t" r="r" b="b"/>
            <a:pathLst>
              <a:path w="3488" h="1856">
                <a:moveTo>
                  <a:pt x="576" y="0"/>
                </a:moveTo>
                <a:lnTo>
                  <a:pt x="576" y="192"/>
                </a:lnTo>
                <a:lnTo>
                  <a:pt x="0" y="192"/>
                </a:lnTo>
                <a:lnTo>
                  <a:pt x="0" y="1856"/>
                </a:lnTo>
                <a:lnTo>
                  <a:pt x="3488" y="1856"/>
                </a:lnTo>
                <a:lnTo>
                  <a:pt x="3488" y="164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838760" y="3657600"/>
            <a:ext cx="1104840" cy="558720"/>
          </a:xfrm>
          <a:custGeom>
            <a:avLst/>
            <a:gdLst/>
            <a:ahLst/>
            <a:rect l="l" t="t" r="r" b="b"/>
            <a:pathLst>
              <a:path w="696" h="352">
                <a:moveTo>
                  <a:pt x="0" y="352"/>
                </a:moveTo>
                <a:lnTo>
                  <a:pt x="440" y="352"/>
                </a:lnTo>
                <a:lnTo>
                  <a:pt x="440" y="0"/>
                </a:lnTo>
                <a:lnTo>
                  <a:pt x="69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7835040" y="350028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759080" y="4745160"/>
            <a:ext cx="129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gment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skriptor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ab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1601280" y="3587760"/>
            <a:ext cx="125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99"/>
                </a:solidFill>
                <a:latin typeface="Arial"/>
              </a:rPr>
              <a:t>CP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923440" y="220968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Arial"/>
              </a:rPr>
              <a:t>Betriebsystem verkleinert die semantische Lücke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200240" y="3486240"/>
            <a:ext cx="2609640" cy="2104920"/>
            <a:chOff x="1200240" y="3486240"/>
            <a:chExt cx="2609640" cy="2104920"/>
          </a:xfrm>
        </p:grpSpPr>
        <p:sp>
          <p:nvSpPr>
            <p:cNvPr id="56" name=""/>
            <p:cNvSpPr/>
            <p:nvPr/>
          </p:nvSpPr>
          <p:spPr>
            <a:xfrm>
              <a:off x="1200240" y="3486240"/>
              <a:ext cx="2600280" cy="56196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Anwendung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209600" y="5029200"/>
              <a:ext cx="2600280" cy="561960"/>
            </a:xfrm>
            <a:prstGeom prst="rect">
              <a:avLst/>
            </a:prstGeom>
            <a:solidFill>
              <a:srgbClr val="ffe26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Hardwa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1200240" y="1190520"/>
            <a:ext cx="6560280" cy="1943280"/>
            <a:chOff x="1200240" y="1190520"/>
            <a:chExt cx="6560280" cy="1943280"/>
          </a:xfrm>
        </p:grpSpPr>
        <p:sp>
          <p:nvSpPr>
            <p:cNvPr id="59" name=""/>
            <p:cNvSpPr/>
            <p:nvPr/>
          </p:nvSpPr>
          <p:spPr>
            <a:xfrm>
              <a:off x="1200240" y="1190520"/>
              <a:ext cx="2600280" cy="56196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Anwendung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9600" y="2571840"/>
              <a:ext cx="2600280" cy="561960"/>
            </a:xfrm>
            <a:prstGeom prst="rect">
              <a:avLst/>
            </a:prstGeom>
            <a:solidFill>
              <a:srgbClr val="ffe26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Hardwa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48200" y="2162160"/>
              <a:ext cx="647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972320" y="1897200"/>
              <a:ext cx="278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semantische Lück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28960" y="1762200"/>
              <a:ext cx="228600" cy="8096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0880 h 809640"/>
                <a:gd name="textAreaBottom" fmla="*/ 788760 h 80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519840" y="4057560"/>
            <a:ext cx="7679160" cy="2164680"/>
            <a:chOff x="519840" y="4057560"/>
            <a:chExt cx="7679160" cy="2164680"/>
          </a:xfrm>
        </p:grpSpPr>
        <p:sp>
          <p:nvSpPr>
            <p:cNvPr id="65" name=""/>
            <p:cNvSpPr/>
            <p:nvPr/>
          </p:nvSpPr>
          <p:spPr>
            <a:xfrm>
              <a:off x="519840" y="5762520"/>
              <a:ext cx="753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Betriebsystem erweitert die Fähigkeiten der Hardwar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209600" y="4467240"/>
              <a:ext cx="2600280" cy="561960"/>
            </a:xfrm>
            <a:prstGeom prst="rect">
              <a:avLst/>
            </a:prstGeom>
            <a:solidFill>
              <a:srgbClr val="ff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Betriebssyst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410800" y="4068720"/>
              <a:ext cx="278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semantische Lück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819600" y="4057560"/>
              <a:ext cx="228600" cy="42876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1160 h 428760"/>
                <a:gd name="textAreaBottom" fmla="*/ 417600 h 42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000680" y="4267080"/>
              <a:ext cx="647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99"/>
                </a:solidFill>
                <a:latin typeface="Arial"/>
              </a:rPr>
              <a:t>Adressierungs-Modi des 80286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460440" y="1392120"/>
            <a:ext cx="7943760" cy="42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Der Segment-Selektor spezifiziert hier nicht die Basisadresse des Segments selbst, sondern verweist auf den </a:t>
            </a:r>
            <a:br>
              <a:rPr sz="2000"/>
            </a:br>
            <a:r>
              <a:rPr b="1" sz="2000" spc="-1" strike="noStrike">
                <a:solidFill>
                  <a:srgbClr val="000000"/>
                </a:solidFill>
                <a:latin typeface="Arial"/>
              </a:rPr>
              <a:t>Segment Deskriptor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in der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Segment-Deskriptor-Tabelle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im Hauptspeic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Jeder Segment-Deskriptor beschreibt das zugehörige Segment durch folgende Attribu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380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die Segment-Basisadresse (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base address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380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die Segment-Größe in Bytes (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limit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380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die Zugriffsrechte auf das Segment (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access rights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bbildung eines logischen 32-Bit Adressraums auf einen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physikalischen 24 Bit Adressrau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4.6 Seitenwechsel (Paging)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652760" y="2666880"/>
            <a:ext cx="2965320" cy="2268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rot="5400000">
            <a:off x="20160" y="3560760"/>
            <a:ext cx="2278080" cy="480960"/>
          </a:xfrm>
          <a:custGeom>
            <a:avLst/>
            <a:gdLst>
              <a:gd name="textAreaLeft" fmla="*/ 285840 w 2278080"/>
              <a:gd name="textAreaRight" fmla="*/ 1992240 w 2278080"/>
              <a:gd name="textAreaTop" fmla="*/ 60120 h 480960"/>
              <a:gd name="textAreaBottom" fmla="*/ 420840 h 48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69" y="21600"/>
                </a:lnTo>
                <a:lnTo>
                  <a:pt x="1731" y="216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416320" y="5796000"/>
            <a:ext cx="5032080" cy="3380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587680" y="1523880"/>
            <a:ext cx="4860720" cy="338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317320" y="55594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7230960" y="55306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655640" y="2666880"/>
            <a:ext cx="2965680" cy="23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652760" y="2905200"/>
            <a:ext cx="2965320" cy="23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652760" y="4686480"/>
            <a:ext cx="2965320" cy="239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390680" y="2800440"/>
            <a:ext cx="27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390680" y="3029040"/>
            <a:ext cx="27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400040" y="3276720"/>
            <a:ext cx="27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400040" y="4800600"/>
            <a:ext cx="27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163520" y="2668680"/>
            <a:ext cx="279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941400" y="4554360"/>
            <a:ext cx="55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</a:rPr>
              <a:t>20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2193840" y="3821040"/>
            <a:ext cx="17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0-Bit-Rahmen-N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69640" y="1459080"/>
            <a:ext cx="210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irtuelle Adr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-2160" y="5154480"/>
            <a:ext cx="27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hysikalische Adr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722960" y="233208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itentab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2843280" y="2622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843280" y="28605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2841840" y="3089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029280" y="1514520"/>
            <a:ext cx="0" cy="342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2" name=""/>
          <p:cNvGrpSpPr/>
          <p:nvPr/>
        </p:nvGrpSpPr>
        <p:grpSpPr>
          <a:xfrm>
            <a:off x="6374880" y="1544760"/>
            <a:ext cx="835920" cy="4583520"/>
            <a:chOff x="6374880" y="1544760"/>
            <a:chExt cx="835920" cy="4583520"/>
          </a:xfrm>
        </p:grpSpPr>
        <p:sp>
          <p:nvSpPr>
            <p:cNvPr id="893" name=""/>
            <p:cNvSpPr/>
            <p:nvPr/>
          </p:nvSpPr>
          <p:spPr>
            <a:xfrm flipH="1">
              <a:off x="6620040" y="2049480"/>
              <a:ext cx="133200" cy="123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717960" y="189216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374880" y="1544760"/>
              <a:ext cx="83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yte-Nr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696000" y="1876320"/>
              <a:ext cx="0" cy="392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374880" y="5821200"/>
              <a:ext cx="83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yte-Nr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8" name=""/>
          <p:cNvSpPr/>
          <p:nvPr/>
        </p:nvSpPr>
        <p:spPr>
          <a:xfrm>
            <a:off x="3813120" y="5821200"/>
            <a:ext cx="114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ahmen-N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6105600" y="5819760"/>
            <a:ext cx="0" cy="333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0" name=""/>
          <p:cNvGrpSpPr/>
          <p:nvPr/>
        </p:nvGrpSpPr>
        <p:grpSpPr>
          <a:xfrm>
            <a:off x="1104840" y="1544760"/>
            <a:ext cx="3734280" cy="4246560"/>
            <a:chOff x="1104840" y="1544760"/>
            <a:chExt cx="3734280" cy="4246560"/>
          </a:xfrm>
        </p:grpSpPr>
        <p:sp>
          <p:nvSpPr>
            <p:cNvPr id="901" name=""/>
            <p:cNvSpPr/>
            <p:nvPr/>
          </p:nvSpPr>
          <p:spPr>
            <a:xfrm>
              <a:off x="3355560" y="500688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104840" y="1857240"/>
              <a:ext cx="3314880" cy="933480"/>
            </a:xfrm>
            <a:custGeom>
              <a:avLst/>
              <a:gdLst/>
              <a:ahLst/>
              <a:rect l="l" t="t" r="r" b="b"/>
              <a:pathLst>
                <a:path w="2088" h="588">
                  <a:moveTo>
                    <a:pt x="2088" y="0"/>
                  </a:moveTo>
                  <a:lnTo>
                    <a:pt x="2088" y="240"/>
                  </a:lnTo>
                  <a:lnTo>
                    <a:pt x="0" y="240"/>
                  </a:lnTo>
                  <a:lnTo>
                    <a:pt x="0" y="58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>
              <a:off x="4343040" y="2049480"/>
              <a:ext cx="152280" cy="104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3219480" y="5133960"/>
              <a:ext cx="133200" cy="123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460400" y="189216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774600" y="1544760"/>
              <a:ext cx="98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eiten-Nr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286080" y="4933800"/>
              <a:ext cx="0" cy="85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8" name=""/>
          <p:cNvSpPr/>
          <p:nvPr/>
        </p:nvSpPr>
        <p:spPr>
          <a:xfrm>
            <a:off x="2507760" y="12445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7230960" y="12445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724000" y="123516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652760" y="3143160"/>
            <a:ext cx="2965320" cy="23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652760" y="3371760"/>
            <a:ext cx="2965320" cy="23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816280" y="3330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400040" y="3479760"/>
            <a:ext cx="27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7134120" y="2608200"/>
            <a:ext cx="18194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eitengröß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4 Kby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/>
          <p:nvPr/>
        </p:nvSpPr>
        <p:spPr>
          <a:xfrm>
            <a:off x="5548320" y="4933800"/>
            <a:ext cx="1467000" cy="390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2224080" y="4962600"/>
            <a:ext cx="1467000" cy="390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Virtueller und physikalischer Adressrau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224080" y="2619360"/>
            <a:ext cx="1467000" cy="390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224080" y="3009960"/>
            <a:ext cx="1467000" cy="390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224080" y="3400560"/>
            <a:ext cx="1467000" cy="390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224080" y="3790800"/>
            <a:ext cx="1467000" cy="390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224080" y="4181400"/>
            <a:ext cx="1467000" cy="390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2224080" y="4572000"/>
            <a:ext cx="1467000" cy="390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5538960" y="2200320"/>
            <a:ext cx="1466640" cy="390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5538960" y="2981160"/>
            <a:ext cx="1466640" cy="390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538960" y="3371760"/>
            <a:ext cx="1466640" cy="390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5538960" y="3762360"/>
            <a:ext cx="1466640" cy="390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5538960" y="4152960"/>
            <a:ext cx="1466640" cy="390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538960" y="4543560"/>
            <a:ext cx="1466640" cy="390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216160" y="4844880"/>
            <a:ext cx="0" cy="581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7010280" y="4886280"/>
            <a:ext cx="0" cy="581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692520" y="4826160"/>
            <a:ext cx="0" cy="581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530680" y="4876920"/>
            <a:ext cx="0" cy="581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224080" y="2228760"/>
            <a:ext cx="1467000" cy="390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538960" y="2590920"/>
            <a:ext cx="1466640" cy="390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600560" y="168768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irtueller Adressra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970520" y="1735200"/>
            <a:ext cx="32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hysikalischer Adressra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232000" y="223056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5546880" y="2208240"/>
            <a:ext cx="11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ah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22280" y="2687760"/>
            <a:ext cx="160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1857240" y="2238480"/>
            <a:ext cx="0" cy="15336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324240" y="225576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324240" y="263700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3324240" y="300528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324240" y="339876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3324240" y="379260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324240" y="417348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3324240" y="454176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676920" y="229392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676920" y="267480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6676920" y="304308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6676920" y="343692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676920" y="383076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6676920" y="421164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676920" y="457992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695760" y="2438280"/>
            <a:ext cx="1854000" cy="1155960"/>
          </a:xfrm>
          <a:custGeom>
            <a:avLst/>
            <a:gdLst/>
            <a:ahLst/>
            <a:rect l="l" t="t" r="r" b="b"/>
            <a:pathLst>
              <a:path w="1168" h="728">
                <a:moveTo>
                  <a:pt x="0" y="0"/>
                </a:moveTo>
                <a:lnTo>
                  <a:pt x="376" y="0"/>
                </a:lnTo>
                <a:lnTo>
                  <a:pt x="656" y="728"/>
                </a:lnTo>
                <a:lnTo>
                  <a:pt x="1168" y="72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708360" y="2806560"/>
            <a:ext cx="1854360" cy="1955880"/>
          </a:xfrm>
          <a:custGeom>
            <a:avLst/>
            <a:gdLst/>
            <a:ahLst/>
            <a:rect l="l" t="t" r="r" b="b"/>
            <a:pathLst>
              <a:path w="1168" h="728">
                <a:moveTo>
                  <a:pt x="0" y="0"/>
                </a:moveTo>
                <a:lnTo>
                  <a:pt x="376" y="0"/>
                </a:lnTo>
                <a:lnTo>
                  <a:pt x="656" y="728"/>
                </a:lnTo>
                <a:lnTo>
                  <a:pt x="1168" y="72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flipV="1">
            <a:off x="3695760" y="2793240"/>
            <a:ext cx="1854000" cy="800280"/>
          </a:xfrm>
          <a:custGeom>
            <a:avLst/>
            <a:gdLst/>
            <a:ahLst/>
            <a:rect l="l" t="t" r="r" b="b"/>
            <a:pathLst>
              <a:path w="1168" h="728">
                <a:moveTo>
                  <a:pt x="0" y="0"/>
                </a:moveTo>
                <a:lnTo>
                  <a:pt x="376" y="0"/>
                </a:lnTo>
                <a:lnTo>
                  <a:pt x="656" y="728"/>
                </a:lnTo>
                <a:lnTo>
                  <a:pt x="1168" y="72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695760" y="3200400"/>
            <a:ext cx="1866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4.6  Seitenorientierte Speicherverwalt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451440" y="1144440"/>
            <a:ext cx="813600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er Speicher wird in viele kleine Seiten gleicher Läng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untertei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Seitenlängen von 256 Byte bis 4 k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Im Unterschied zu Segmenten können Seiten nicht a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beliebiger Stelle im Speicher beginnen, sondern nur i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em festen an der Seitengröße orientierten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Fallbeispiel Intel 80386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Aus Kompatibilitätsgründen zum 80286 enthält der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80386 sowohl eine Segment-Verwaltung wie auch ein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Seiten-Verwal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"/>
          <p:cNvSpPr/>
          <p:nvPr/>
        </p:nvSpPr>
        <p:spPr>
          <a:xfrm>
            <a:off x="393840" y="1994040"/>
            <a:ext cx="1841400" cy="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759120" y="1994040"/>
            <a:ext cx="1714680" cy="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flipV="1">
            <a:off x="6730920" y="1993680"/>
            <a:ext cx="1968480" cy="1260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 flipV="1">
            <a:off x="2952720" y="2381400"/>
            <a:ext cx="12600" cy="40608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V="1">
            <a:off x="6076800" y="2368080"/>
            <a:ext cx="12960" cy="40644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Berechnung der physikalischen Adressen beim 80386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466560" y="3605040"/>
            <a:ext cx="8242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Zunächst wird wie beim 80286 die logische Adresse über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e Segment-Verwaltung umgesetzt. Die entstehend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Adresse heißt hier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lineare Adr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Im Unterschied zum 80286 wurde die logische Adress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beim 80386 jedoch auf 48 Bit erweitert, die lineare Adress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(entspricht der physikalischen beim 80286) auf 32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2222640" y="1568520"/>
            <a:ext cx="1523880" cy="850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egment-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he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5473800" y="1568520"/>
            <a:ext cx="1257120" cy="850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aging-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he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2311560" y="2762280"/>
            <a:ext cx="1295280" cy="635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skritor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abel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5511960" y="2774880"/>
            <a:ext cx="1143000" cy="635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iten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abel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15800" y="1192320"/>
            <a:ext cx="127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ogisch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908520" y="1192320"/>
            <a:ext cx="11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inear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7007040" y="1192320"/>
            <a:ext cx="172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hysikalisch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303480" y="2138400"/>
            <a:ext cx="186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lektor:Off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Berechnung der physikalischen Adressen beim 80386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416520" y="1203480"/>
            <a:ext cx="8207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nachgeschaltete Seiten-Verwaltung kann optional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abgeschaltet wer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Kompatibilitätsmode zum 80286,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lineare Adresse = physikalische Adr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Anderenfalls wird aus der linearen Adresse durch di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Seiten-Verwaltung die physikalische Adresse ermitte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(bei Prozessoren mit ausschliesslich Seiten-Verwaltung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entspricht die lineare Adresse somit der logischen Adres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"/>
          <p:cNvSpPr/>
          <p:nvPr/>
        </p:nvSpPr>
        <p:spPr>
          <a:xfrm>
            <a:off x="4267080" y="5029200"/>
            <a:ext cx="482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Berechnung der physikalischen aus der linearen Adress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7381800" y="1222200"/>
            <a:ext cx="1276560" cy="4397400"/>
          </a:xfrm>
          <a:prstGeom prst="cube">
            <a:avLst>
              <a:gd name="adj" fmla="val 6893"/>
            </a:avLst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7381800" y="2114640"/>
            <a:ext cx="1162080" cy="1317600"/>
          </a:xfrm>
          <a:prstGeom prst="rect">
            <a:avLst/>
          </a:prstGeom>
          <a:solidFill>
            <a:srgbClr val="85ffd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7381800" y="2435400"/>
            <a:ext cx="285840" cy="269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1054080" y="1676520"/>
            <a:ext cx="1690560" cy="342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 flipV="1">
            <a:off x="1631880" y="4438440"/>
            <a:ext cx="0" cy="1104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2413080" y="1676520"/>
            <a:ext cx="1474560" cy="342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age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419040" y="5397480"/>
            <a:ext cx="507960" cy="26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20760" y="50436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 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660920" y="1955880"/>
            <a:ext cx="1422360" cy="761760"/>
          </a:xfrm>
          <a:custGeom>
            <a:avLst/>
            <a:gdLst/>
            <a:ahLst/>
            <a:rect l="l" t="t" r="r" b="b"/>
            <a:pathLst>
              <a:path w="816" h="792">
                <a:moveTo>
                  <a:pt x="0" y="0"/>
                </a:moveTo>
                <a:lnTo>
                  <a:pt x="0" y="783"/>
                </a:lnTo>
                <a:lnTo>
                  <a:pt x="816" y="79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981000" y="1995480"/>
            <a:ext cx="45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34960"/>
                <a:tab algn="l" pos="285768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7251840" y="5597640"/>
            <a:ext cx="163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Arial"/>
              </a:rPr>
              <a:t>Physikalischer</a:t>
            </a:r>
            <a:br>
              <a:rPr sz="1800"/>
            </a:br>
            <a:r>
              <a:rPr b="0" lang="de-DE" sz="1800" spc="-1" strike="noStrike">
                <a:solidFill>
                  <a:srgbClr val="000099"/>
                </a:solidFill>
                <a:latin typeface="Arial"/>
              </a:rPr>
              <a:t>Adressra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7674120" y="2435400"/>
            <a:ext cx="285480" cy="269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966080" y="2435400"/>
            <a:ext cx="285840" cy="269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8258040" y="2435400"/>
            <a:ext cx="285840" cy="269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7466760" y="27907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Arial"/>
              </a:rPr>
              <a:t>4-Kbyte</a:t>
            </a:r>
            <a:br>
              <a:rPr sz="1800"/>
            </a:br>
            <a:r>
              <a:rPr b="0" lang="de-DE" sz="1800" spc="-1" strike="noStrike">
                <a:solidFill>
                  <a:srgbClr val="000099"/>
                </a:solidFill>
                <a:latin typeface="Arial"/>
              </a:rPr>
              <a:t>Se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3886200" y="1676520"/>
            <a:ext cx="1487520" cy="342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927000" y="5397480"/>
            <a:ext cx="343080" cy="26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095880" y="2489040"/>
            <a:ext cx="419400" cy="44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6527880" y="271764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4740120" y="3432240"/>
            <a:ext cx="1263960" cy="2187360"/>
          </a:xfrm>
          <a:prstGeom prst="cube">
            <a:avLst>
              <a:gd name="adj" fmla="val 6893"/>
            </a:avLst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4740120" y="4759200"/>
            <a:ext cx="285840" cy="27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5032440" y="4759200"/>
            <a:ext cx="285840" cy="27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5324400" y="4759200"/>
            <a:ext cx="285840" cy="27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616720" y="4759200"/>
            <a:ext cx="285480" cy="27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 rot="16200000">
            <a:off x="5118120" y="3708360"/>
            <a:ext cx="1993680" cy="393840"/>
          </a:xfrm>
          <a:custGeom>
            <a:avLst/>
            <a:gdLst/>
            <a:ahLst/>
            <a:rect l="l" t="t" r="r" b="b"/>
            <a:pathLst>
              <a:path w="816" h="792">
                <a:moveTo>
                  <a:pt x="0" y="0"/>
                </a:moveTo>
                <a:lnTo>
                  <a:pt x="0" y="783"/>
                </a:lnTo>
                <a:lnTo>
                  <a:pt x="816" y="79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4000680" y="4800600"/>
            <a:ext cx="419040" cy="4446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3111480" y="2019240"/>
            <a:ext cx="1130400" cy="2768760"/>
          </a:xfrm>
          <a:custGeom>
            <a:avLst/>
            <a:gdLst/>
            <a:ahLst/>
            <a:rect l="l" t="t" r="r" b="b"/>
            <a:pathLst>
              <a:path w="480" h="1744">
                <a:moveTo>
                  <a:pt x="0" y="0"/>
                </a:moveTo>
                <a:lnTo>
                  <a:pt x="0" y="568"/>
                </a:lnTo>
                <a:lnTo>
                  <a:pt x="480" y="568"/>
                </a:lnTo>
                <a:lnTo>
                  <a:pt x="480" y="1744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2276640" y="3432240"/>
            <a:ext cx="1263600" cy="2187360"/>
          </a:xfrm>
          <a:prstGeom prst="cube">
            <a:avLst>
              <a:gd name="adj" fmla="val 6893"/>
            </a:avLst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2276640" y="3984480"/>
            <a:ext cx="285480" cy="27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2568600" y="3984480"/>
            <a:ext cx="285840" cy="27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2860560" y="3984480"/>
            <a:ext cx="285840" cy="27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3152880" y="3984480"/>
            <a:ext cx="285480" cy="27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1397160" y="4013280"/>
            <a:ext cx="419040" cy="44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816200" y="4241880"/>
            <a:ext cx="482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3720960" y="50166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720960" y="4127400"/>
            <a:ext cx="1054080" cy="1473480"/>
          </a:xfrm>
          <a:custGeom>
            <a:avLst/>
            <a:gdLst/>
            <a:ahLst/>
            <a:rect l="l" t="t" r="r" b="b"/>
            <a:pathLst>
              <a:path w="816" h="792">
                <a:moveTo>
                  <a:pt x="0" y="0"/>
                </a:moveTo>
                <a:lnTo>
                  <a:pt x="0" y="783"/>
                </a:lnTo>
                <a:lnTo>
                  <a:pt x="816" y="79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3429000" y="414036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V="1">
            <a:off x="836640" y="5524560"/>
            <a:ext cx="1436760" cy="9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1619280" y="2025000"/>
            <a:ext cx="0" cy="1981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197800" y="5597640"/>
            <a:ext cx="170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Arial"/>
              </a:rPr>
              <a:t>Seitentabellen-</a:t>
            </a:r>
            <a:br>
              <a:rPr sz="1800"/>
            </a:br>
            <a:r>
              <a:rPr b="0" lang="de-DE" sz="1800" spc="-1" strike="noStrike">
                <a:solidFill>
                  <a:srgbClr val="000099"/>
                </a:solidFill>
                <a:latin typeface="Arial"/>
              </a:rPr>
              <a:t>Verzeichn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4622040" y="5597640"/>
            <a:ext cx="90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Arial"/>
              </a:rPr>
              <a:t>Seiten-</a:t>
            </a:r>
            <a:br>
              <a:rPr sz="1800"/>
            </a:br>
            <a:r>
              <a:rPr b="0" lang="de-DE" sz="1800" spc="-1" strike="noStrike">
                <a:solidFill>
                  <a:srgbClr val="000099"/>
                </a:solidFill>
                <a:latin typeface="Arial"/>
              </a:rPr>
              <a:t>tab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1670760" y="1257480"/>
            <a:ext cx="23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ff"/>
                </a:solidFill>
                <a:latin typeface="Arial"/>
              </a:rPr>
              <a:t>Lineare Adr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5594760" y="2054160"/>
            <a:ext cx="16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cc99"/>
                </a:solidFill>
                <a:latin typeface="Arial"/>
              </a:rPr>
              <a:t>Konkate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Berechnung der physikalischen aus der linearen Adress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497880" y="1382760"/>
            <a:ext cx="8373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2 stufiges hierarchiches Tabellenverfahr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eitentabellenverzeichnis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Seitentabellen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S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Seitentabellenverzeichnis, Seitentabellen und Seiten sind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jeweils 4 KByte lang, Seitentabellen und -verzeichnis fass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jeweils 1000 Einträ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"/>
          <p:cNvSpPr/>
          <p:nvPr/>
        </p:nvSpPr>
        <p:spPr>
          <a:xfrm>
            <a:off x="6800760" y="1371600"/>
            <a:ext cx="809640" cy="41148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6810480" y="2048040"/>
            <a:ext cx="793800" cy="119988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300" spc="-1" strike="noStrike">
                <a:solidFill>
                  <a:srgbClr val="000099"/>
                </a:solidFill>
                <a:latin typeface="Arial"/>
              </a:rPr>
              <a:t>Beschleunigung der Adressberechnung durch einen Cache</a:t>
            </a:r>
            <a:endParaRPr b="0" lang="en-US" sz="2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2314440" y="4200480"/>
            <a:ext cx="828720" cy="1257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2314440" y="4200480"/>
            <a:ext cx="828720" cy="12765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610160" y="4210200"/>
            <a:ext cx="819000" cy="1276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1276200" y="1976400"/>
            <a:ext cx="505080" cy="2570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3143160" y="2009880"/>
            <a:ext cx="1447920" cy="95256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2279520" y="1976400"/>
            <a:ext cx="505080" cy="2570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1781280" y="1976400"/>
            <a:ext cx="504720" cy="2570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2314440" y="4376880"/>
            <a:ext cx="209520" cy="199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2527200" y="4376880"/>
            <a:ext cx="209520" cy="199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736720" y="4376880"/>
            <a:ext cx="209520" cy="199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940120" y="4376880"/>
            <a:ext cx="198360" cy="199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807240" y="2319480"/>
            <a:ext cx="209520" cy="199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7020000" y="2319480"/>
            <a:ext cx="209520" cy="199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7226280" y="2319480"/>
            <a:ext cx="209520" cy="199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7439040" y="2325600"/>
            <a:ext cx="171360" cy="201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4610160" y="4910040"/>
            <a:ext cx="209520" cy="200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822920" y="4910040"/>
            <a:ext cx="209520" cy="200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029200" y="4910040"/>
            <a:ext cx="209520" cy="200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241960" y="4910040"/>
            <a:ext cx="183960" cy="201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2619360" y="1762200"/>
            <a:ext cx="3191040" cy="676080"/>
          </a:xfrm>
          <a:custGeom>
            <a:avLst/>
            <a:gdLst/>
            <a:ahLst/>
            <a:rect l="l" t="t" r="r" b="b"/>
            <a:pathLst>
              <a:path w="2010" h="426">
                <a:moveTo>
                  <a:pt x="0" y="132"/>
                </a:moveTo>
                <a:lnTo>
                  <a:pt x="0" y="0"/>
                </a:lnTo>
                <a:lnTo>
                  <a:pt x="2010" y="6"/>
                </a:lnTo>
                <a:lnTo>
                  <a:pt x="2010" y="4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076480" y="2276640"/>
            <a:ext cx="2038320" cy="2685960"/>
          </a:xfrm>
          <a:custGeom>
            <a:avLst/>
            <a:gdLst/>
            <a:ahLst/>
            <a:rect l="l" t="t" r="r" b="b"/>
            <a:pathLst>
              <a:path w="1284" h="1692">
                <a:moveTo>
                  <a:pt x="0" y="0"/>
                </a:moveTo>
                <a:lnTo>
                  <a:pt x="6" y="756"/>
                </a:lnTo>
                <a:lnTo>
                  <a:pt x="1284" y="774"/>
                </a:lnTo>
                <a:lnTo>
                  <a:pt x="1284" y="1692"/>
                </a:lnTo>
              </a:path>
            </a:pathLst>
          </a:custGeom>
          <a:noFill/>
          <a:ln w="19080">
            <a:solidFill>
              <a:srgbClr val="000000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3152880" y="4486320"/>
            <a:ext cx="1438200" cy="981000"/>
          </a:xfrm>
          <a:custGeom>
            <a:avLst/>
            <a:gdLst/>
            <a:ahLst/>
            <a:rect l="l" t="t" r="r" b="b"/>
            <a:pathLst>
              <a:path w="906" h="636">
                <a:moveTo>
                  <a:pt x="0" y="6"/>
                </a:moveTo>
                <a:lnTo>
                  <a:pt x="240" y="0"/>
                </a:lnTo>
                <a:lnTo>
                  <a:pt x="240" y="636"/>
                </a:lnTo>
                <a:lnTo>
                  <a:pt x="906" y="630"/>
                </a:lnTo>
              </a:path>
            </a:pathLst>
          </a:custGeom>
          <a:noFill/>
          <a:ln w="19080">
            <a:solidFill>
              <a:srgbClr val="000000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1533600" y="2257560"/>
            <a:ext cx="1440" cy="2200320"/>
          </a:xfrm>
          <a:custGeom>
            <a:avLst/>
            <a:gdLst/>
            <a:ahLst/>
            <a:rect l="l" t="t" r="r" b="b"/>
            <a:pathLst>
              <a:path w="1" h="1386">
                <a:moveTo>
                  <a:pt x="0" y="0"/>
                </a:moveTo>
                <a:lnTo>
                  <a:pt x="0" y="1386"/>
                </a:lnTo>
              </a:path>
            </a:pathLst>
          </a:custGeom>
          <a:noFill/>
          <a:ln w="19080">
            <a:solidFill>
              <a:srgbClr val="000000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V="1">
            <a:off x="1523880" y="2790360"/>
            <a:ext cx="1571760" cy="9720"/>
          </a:xfrm>
          <a:prstGeom prst="line">
            <a:avLst/>
          </a:prstGeom>
          <a:ln w="1908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 flipV="1">
            <a:off x="2085840" y="2514240"/>
            <a:ext cx="1019160" cy="19080"/>
          </a:xfrm>
          <a:prstGeom prst="line">
            <a:avLst/>
          </a:prstGeom>
          <a:ln w="1908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1714680" y="4581360"/>
            <a:ext cx="59040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 flipV="1">
            <a:off x="1533600" y="4705200"/>
            <a:ext cx="0" cy="6192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143000" y="5305320"/>
            <a:ext cx="790560" cy="295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1685880" y="5448240"/>
            <a:ext cx="628560" cy="9720"/>
          </a:xfrm>
          <a:custGeom>
            <a:avLst/>
            <a:gdLst/>
            <a:ahLst/>
            <a:rect l="l" t="t" r="r" b="b"/>
            <a:pathLst>
              <a:path w="396" h="6">
                <a:moveTo>
                  <a:pt x="0" y="0"/>
                </a:moveTo>
                <a:lnTo>
                  <a:pt x="396" y="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429160" y="2666880"/>
            <a:ext cx="381240" cy="2333880"/>
          </a:xfrm>
          <a:custGeom>
            <a:avLst/>
            <a:gdLst/>
            <a:ahLst/>
            <a:rect l="l" t="t" r="r" b="b"/>
            <a:pathLst>
              <a:path w="240" h="1470">
                <a:moveTo>
                  <a:pt x="0" y="1470"/>
                </a:moveTo>
                <a:lnTo>
                  <a:pt x="240" y="1464"/>
                </a:lnTo>
                <a:lnTo>
                  <a:pt x="24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829480" y="3267000"/>
            <a:ext cx="95220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5943600" y="2514600"/>
            <a:ext cx="819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4629240" y="2514240"/>
            <a:ext cx="1019160" cy="19080"/>
          </a:xfrm>
          <a:prstGeom prst="line">
            <a:avLst/>
          </a:prstGeom>
          <a:ln w="1908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409760" y="4495680"/>
            <a:ext cx="295200" cy="2095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667480" y="2457360"/>
            <a:ext cx="295200" cy="2095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981600" y="4981680"/>
            <a:ext cx="295200" cy="2095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3543480" y="507996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280040" y="5067360"/>
            <a:ext cx="33012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81400" y="160812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are Adre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3591720" y="14079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5865840" y="128124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 Gby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753600" y="2638440"/>
            <a:ext cx="95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4-kbyte-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e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532040" y="208116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effer (hi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3274560" y="2028960"/>
            <a:ext cx="118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ranslation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ookasid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1598760" y="352908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ein Treffer (mi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104120" y="52848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1165320" y="2208240"/>
            <a:ext cx="178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31      21       11    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5662440" y="23972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1407960" y="44416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973320" y="49244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300" spc="-1" strike="noStrike">
                <a:solidFill>
                  <a:srgbClr val="000099"/>
                </a:solidFill>
                <a:latin typeface="Arial"/>
              </a:rPr>
              <a:t>Beschleunigung der Adressberechnung durch einen Cache</a:t>
            </a:r>
            <a:endParaRPr b="0" lang="en-US" sz="2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368640" y="1278000"/>
            <a:ext cx="7997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 schneller voll-assoziativer Cache (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Translation </a:t>
            </a:r>
            <a:br>
              <a:rPr sz="2400"/>
            </a:b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Lookaside Buffer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, TBL) speichert automatisch die 32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zuletzt benutzen Einträge aus Seitentabellenverzeichnis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und Seitentabe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Im Trefferfall (Trefferquote ca. 90 %) muß nicht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uf die im Hauptspeicher liegenden Tabell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zugegriffen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Spezielle Aufgaben von Betriebssysteme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98600" y="1239840"/>
            <a:ext cx="82296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3333cc"/>
              </a:buClr>
              <a:buSzPct val="75000"/>
              <a:buFont typeface="Monotype Sorts" charset="2"/>
              <a:buChar char=""/>
              <a:tabLst>
                <a:tab algn="l" pos="28584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Betriebsmittelverwaltu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3333cc"/>
              </a:buClr>
              <a:buSzPct val="75000"/>
              <a:buFont typeface="Monotype Sorts" charset="2"/>
              <a:buChar char=""/>
              <a:tabLst>
                <a:tab algn="l" pos="28584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uftragsverwaltung (Prozeßverwaltu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3333cc"/>
              </a:buClr>
              <a:buSzPct val="75000"/>
              <a:buFont typeface="Monotype Sorts" charset="2"/>
              <a:buChar char=""/>
              <a:tabLst>
                <a:tab algn="l" pos="28584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peicherverwaltu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3333cc"/>
              </a:buClr>
              <a:buSzPct val="75000"/>
              <a:buFont typeface="Monotype Sorts" charset="2"/>
              <a:buChar char=""/>
              <a:tabLst>
                <a:tab algn="l" pos="28584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3333cc"/>
              </a:buClr>
              <a:buSzPct val="75000"/>
              <a:buFont typeface="Monotype Sorts" charset="2"/>
              <a:buChar char=""/>
              <a:tabLst>
                <a:tab algn="l" pos="28584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3333cc"/>
                </a:solidFill>
                <a:latin typeface="Arial"/>
              </a:rPr>
              <a:t>Betriebsmittelverwaltung (</a:t>
            </a:r>
            <a:r>
              <a:rPr b="1" i="1" sz="2400" spc="-1" strike="noStrike">
                <a:solidFill>
                  <a:srgbClr val="3333cc"/>
                </a:solidFill>
                <a:latin typeface="Arial"/>
              </a:rPr>
              <a:t>resource management</a:t>
            </a:r>
            <a:r>
              <a:rPr b="1" sz="2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28584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Verwaltet alle peripheren Betriebsmittel des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Rechnersystems, wie z.B. Festplatte, Floppy Disk,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CDROM, Drucker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28584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99"/>
                </a:solidFill>
                <a:latin typeface="Arial"/>
              </a:rPr>
              <a:t>Ziel: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fache, effektive und konfliktfreie Nutzung der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Betriebsmittel durch die verschiedenen Prozess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Anmerkung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554400" y="1297080"/>
            <a:ext cx="7850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Sowohl bei segmentorientierter wie bei seitenorientierter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Speicherverwaltung gi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Befindet sich eine Seite oder ein Segment nicht im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Hauptspeicher, so löst der Prozessor ein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Unterbrechung aus, um die Seite oder das Segment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durch das Betriebssystem zu lad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(Seiten- oder Segmentfeh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Anmerkung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501840" y="1181160"/>
            <a:ext cx="7919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Erkennung eines Segmentfehl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Bit im Segment-Deskriptor zeigt an, ob das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Segment im Hauptspeicher ist oder ni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Erkennung eines Seitenfehl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Seitennummer befindet sich nicht in der Seitentabell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(Seitenfehle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pezielles Kennungbit im Seitentabellen-Verzeich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(Seitentabellenfeh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Spezielle Aufgaben von Betriebssysteme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8600" y="1239840"/>
            <a:ext cx="821988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3333cc"/>
              </a:buClr>
              <a:buSzPct val="75000"/>
              <a:buFont typeface="Monotype Sorts" charset="2"/>
              <a:buChar char=""/>
              <a:tabLst>
                <a:tab algn="l" pos="28584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3333cc"/>
                </a:solidFill>
                <a:latin typeface="Arial"/>
              </a:rPr>
              <a:t>Auftragsverwaltung (</a:t>
            </a:r>
            <a:r>
              <a:rPr b="1" i="1" sz="2400" spc="-1" strike="noStrike">
                <a:solidFill>
                  <a:srgbClr val="3333cc"/>
                </a:solidFill>
                <a:latin typeface="Arial"/>
              </a:rPr>
              <a:t>task management</a:t>
            </a:r>
            <a:r>
              <a:rPr b="1" sz="2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28584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Verwaltung der Prozesse (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tasks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28584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 Prozeß kann im Laufe seiner Bearbeitung im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wesentlichen folgende unterscheidbaren Zuständ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nnehm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1409760" y="3933720"/>
            <a:ext cx="6438960" cy="1986120"/>
            <a:chOff x="1409760" y="3933720"/>
            <a:chExt cx="6438960" cy="1986120"/>
          </a:xfrm>
        </p:grpSpPr>
        <p:sp>
          <p:nvSpPr>
            <p:cNvPr id="75" name=""/>
            <p:cNvSpPr/>
            <p:nvPr/>
          </p:nvSpPr>
          <p:spPr>
            <a:xfrm>
              <a:off x="3819600" y="3933720"/>
              <a:ext cx="1600200" cy="647640"/>
            </a:xfrm>
            <a:prstGeom prst="roundRect">
              <a:avLst>
                <a:gd name="adj" fmla="val 36764"/>
              </a:avLst>
            </a:prstGeom>
            <a:solidFill>
              <a:srgbClr val="c5e2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blockie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409760" y="5272200"/>
              <a:ext cx="1600200" cy="647640"/>
            </a:xfrm>
            <a:prstGeom prst="roundRect">
              <a:avLst>
                <a:gd name="adj" fmla="val 36764"/>
              </a:avLst>
            </a:prstGeom>
            <a:solidFill>
              <a:srgbClr val="c5e2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akti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8520" y="5272200"/>
              <a:ext cx="1600200" cy="647640"/>
            </a:xfrm>
            <a:prstGeom prst="roundRect">
              <a:avLst>
                <a:gd name="adj" fmla="val 36764"/>
              </a:avLst>
            </a:prstGeom>
            <a:solidFill>
              <a:srgbClr val="c5e2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bere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2228760" y="4438440"/>
              <a:ext cx="1590840" cy="80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400720" y="4495680"/>
              <a:ext cx="1657440" cy="77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3009960" y="5467320"/>
              <a:ext cx="324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009960" y="5743440"/>
              <a:ext cx="324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Spezielle Aufgaben von Betriebssysteme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65040" y="1192320"/>
            <a:ext cx="844560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waltung dieser Zustände und Übergäng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aufgrund äußerer oder innerer Ereignisse) sind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sentliche Aufgaben der Auftragsverwaltu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Ziel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öglichst effiziente und scheinbar parallel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arbeitung mehrerer Aufga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476360" y="4219560"/>
            <a:ext cx="5794200" cy="1788840"/>
            <a:chOff x="1476360" y="4219560"/>
            <a:chExt cx="5794200" cy="1788840"/>
          </a:xfrm>
        </p:grpSpPr>
        <p:sp>
          <p:nvSpPr>
            <p:cNvPr id="85" name=""/>
            <p:cNvSpPr/>
            <p:nvPr/>
          </p:nvSpPr>
          <p:spPr>
            <a:xfrm>
              <a:off x="3645000" y="4219560"/>
              <a:ext cx="1440000" cy="583200"/>
            </a:xfrm>
            <a:prstGeom prst="roundRect">
              <a:avLst>
                <a:gd name="adj" fmla="val 36764"/>
              </a:avLst>
            </a:prstGeom>
            <a:solidFill>
              <a:srgbClr val="c5e2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blockie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476360" y="5425200"/>
              <a:ext cx="1440000" cy="583200"/>
            </a:xfrm>
            <a:prstGeom prst="roundRect">
              <a:avLst>
                <a:gd name="adj" fmla="val 36764"/>
              </a:avLst>
            </a:prstGeom>
            <a:solidFill>
              <a:srgbClr val="c5e2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akti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830560" y="5425200"/>
              <a:ext cx="1440000" cy="583200"/>
            </a:xfrm>
            <a:prstGeom prst="roundRect">
              <a:avLst>
                <a:gd name="adj" fmla="val 36764"/>
              </a:avLst>
            </a:prstGeom>
            <a:solidFill>
              <a:srgbClr val="c5e2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bere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2213280" y="4674240"/>
              <a:ext cx="1431360" cy="72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067720" y="4725720"/>
              <a:ext cx="1491480" cy="69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2916000" y="5600880"/>
              <a:ext cx="292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916360" y="5849640"/>
              <a:ext cx="292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Spezielle Aufgaben von Betriebssysteme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8600" y="1239840"/>
            <a:ext cx="8219880" cy="45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3333cc"/>
              </a:buClr>
              <a:buSzPct val="75000"/>
              <a:buFont typeface="Monotype Sorts" charset="2"/>
              <a:buChar char=""/>
              <a:tabLst>
                <a:tab algn="l" pos="285840"/>
                <a:tab algn="l" pos="76212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3333cc"/>
                </a:solidFill>
                <a:latin typeface="Arial"/>
              </a:rPr>
              <a:t>Speicherverwaltung (</a:t>
            </a:r>
            <a:r>
              <a:rPr b="1" i="1" sz="2400" spc="-1" strike="noStrike">
                <a:solidFill>
                  <a:srgbClr val="3333cc"/>
                </a:solidFill>
                <a:latin typeface="Arial"/>
              </a:rPr>
              <a:t>memory management</a:t>
            </a:r>
            <a:r>
              <a:rPr b="1" sz="2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285840"/>
                <a:tab algn="l" pos="76212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urch immer größer werdende Programme sowi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mehrerer quasi gleichzeitig laufender Program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285840"/>
                <a:tab algn="l" pos="76212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er zur Verfügung stehende Arbeitsspeicher wird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chnell zu kl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Abhilfe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Nur die gerade benötigten Teile der aktiv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Programme werden wirklich im Arbeitsspeicher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gehalten, der Rest befindet sich im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Hintergrundspeicher und wird bei Bedarf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geladen (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swapping, paging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Grundstruktur virtueller Speicherverwalt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1868400"/>
            <a:ext cx="495360" cy="50508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24120" y="26290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724120" y="21337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24120" y="31050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52720" y="28764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52720" y="26290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952720" y="23814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52720" y="21337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952720" y="188604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52720" y="31050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00560" y="28764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00560" y="23814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00560" y="31050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71960" y="28764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171960" y="23814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71960" y="188604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724120" y="1886040"/>
            <a:ext cx="905040" cy="1466640"/>
            <a:chOff x="2724120" y="1886040"/>
            <a:chExt cx="905040" cy="1466640"/>
          </a:xfrm>
        </p:grpSpPr>
        <p:sp>
          <p:nvSpPr>
            <p:cNvPr id="112" name=""/>
            <p:cNvSpPr/>
            <p:nvPr/>
          </p:nvSpPr>
          <p:spPr>
            <a:xfrm>
              <a:off x="2724120" y="2381400"/>
              <a:ext cx="228600" cy="2476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400560" y="2629080"/>
              <a:ext cx="228600" cy="247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00560" y="1886040"/>
              <a:ext cx="228600" cy="2476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171960" y="2629080"/>
              <a:ext cx="228600" cy="2473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171960" y="3105000"/>
              <a:ext cx="228600" cy="2476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629160" y="26290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29160" y="23814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629160" y="21337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29160" y="188604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29160" y="31050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57760" y="28764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724120" y="1886040"/>
            <a:ext cx="1362240" cy="1238040"/>
            <a:chOff x="2724120" y="1886040"/>
            <a:chExt cx="1362240" cy="1238040"/>
          </a:xfrm>
        </p:grpSpPr>
        <p:sp>
          <p:nvSpPr>
            <p:cNvPr id="124" name=""/>
            <p:cNvSpPr/>
            <p:nvPr/>
          </p:nvSpPr>
          <p:spPr>
            <a:xfrm>
              <a:off x="2724120" y="2876400"/>
              <a:ext cx="228600" cy="24768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724120" y="1886040"/>
              <a:ext cx="228600" cy="2476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400560" y="2133720"/>
              <a:ext cx="228600" cy="24768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171960" y="2133720"/>
              <a:ext cx="228600" cy="24768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629160" y="2876400"/>
              <a:ext cx="228600" cy="24768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57760" y="2629080"/>
              <a:ext cx="228600" cy="2473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3857760" y="23814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57760" y="21337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57760" y="188604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57760" y="31050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14880" y="28576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14880" y="26100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14880" y="211464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14880" y="186696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14880" y="30862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43480" y="23623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43480" y="186696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43480" y="30862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91320" y="28576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791320" y="26100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91320" y="23623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91320" y="186696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91320" y="30862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562720" y="28576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562720" y="26100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562720" y="23623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86696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19920" y="28576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19920" y="26100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19920" y="23623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19920" y="211464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19920" y="30862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248520" y="28576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248520" y="26100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248520" y="23623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248520" y="211464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248520" y="186696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248520" y="30862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14880" y="43243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14880" y="382896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14880" y="33336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43480" y="43243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43480" y="407664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43480" y="358128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43480" y="33336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43480" y="45529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91320" y="43243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91320" y="407664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791320" y="382896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91320" y="358128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91320" y="33336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1320" y="45529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562720" y="407664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562720" y="382896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562720" y="358128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62720" y="45529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19920" y="43243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19920" y="382896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19920" y="358128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19920" y="33336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5529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248520" y="407664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248520" y="358128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248520" y="33336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248520" y="45529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477120" y="43243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77120" y="382896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77120" y="33336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477120" y="45529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05720" y="43243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705720" y="382896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705720" y="358128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705720" y="45529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153200" y="407664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153200" y="382896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153200" y="358128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153200" y="33336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153200" y="45529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924600" y="43243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924600" y="382896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924600" y="358128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924600" y="33336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381800" y="407664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381800" y="382896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381800" y="33336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381800" y="45529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10400" y="43243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10400" y="407664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10400" y="382896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10400" y="358128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610400" y="33336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77120" y="28576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77120" y="26100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77120" y="23623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477120" y="211464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477120" y="186696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705720" y="26100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05720" y="211464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186696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705720" y="30862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153200" y="28576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153200" y="26100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153200" y="23623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153200" y="211464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153200" y="186696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53200" y="30862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924600" y="28576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924600" y="26100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924600" y="23623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924600" y="211464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924600" y="186696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924600" y="30862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381800" y="28576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381800" y="23623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381800" y="211464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381800" y="30862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610400" y="28576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10400" y="23623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10400" y="211464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10400" y="30862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086360" y="2143080"/>
            <a:ext cx="10285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724040" y="2124000"/>
            <a:ext cx="10285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117800" y="146376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492640" y="1463760"/>
            <a:ext cx="182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auptspeic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177160" y="1463760"/>
            <a:ext cx="24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intergrundspeic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63120" y="3373560"/>
            <a:ext cx="189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rbeitsme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099760" y="4811760"/>
            <a:ext cx="275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gramme und Da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85960" y="1866960"/>
            <a:ext cx="6953040" cy="3410280"/>
            <a:chOff x="885960" y="1866960"/>
            <a:chExt cx="6953040" cy="3410280"/>
          </a:xfrm>
        </p:grpSpPr>
        <p:sp>
          <p:nvSpPr>
            <p:cNvPr id="252" name=""/>
            <p:cNvSpPr/>
            <p:nvPr/>
          </p:nvSpPr>
          <p:spPr>
            <a:xfrm>
              <a:off x="5114880" y="2362320"/>
              <a:ext cx="228600" cy="24768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343480" y="2610000"/>
              <a:ext cx="228600" cy="24768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019920" y="1866960"/>
              <a:ext cx="228600" cy="24768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114880" y="4076640"/>
              <a:ext cx="228600" cy="24768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114880" y="3581280"/>
              <a:ext cx="228600" cy="24768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562720" y="4324320"/>
              <a:ext cx="228600" cy="24768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19920" y="4076640"/>
              <a:ext cx="228600" cy="247680"/>
            </a:xfrm>
            <a:prstGeom prst="rect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248520" y="3828960"/>
              <a:ext cx="228600" cy="247680"/>
            </a:xfrm>
            <a:prstGeom prst="rect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477120" y="4076640"/>
              <a:ext cx="228600" cy="247680"/>
            </a:xfrm>
            <a:prstGeom prst="rect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705720" y="4076640"/>
              <a:ext cx="228600" cy="247680"/>
            </a:xfrm>
            <a:prstGeom prst="rect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705720" y="3333600"/>
              <a:ext cx="228600" cy="247680"/>
            </a:xfrm>
            <a:prstGeom prst="rect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153200" y="4324320"/>
              <a:ext cx="228600" cy="247680"/>
            </a:xfrm>
            <a:prstGeom prst="rect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924600" y="4076640"/>
              <a:ext cx="228600" cy="247680"/>
            </a:xfrm>
            <a:prstGeom prst="rect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924600" y="4552920"/>
              <a:ext cx="228600" cy="247680"/>
            </a:xfrm>
            <a:prstGeom prst="rect">
              <a:avLst/>
            </a:prstGeom>
            <a:blipFill rotWithShape="0">
              <a:blip r:embed="rId2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10400" y="4552920"/>
              <a:ext cx="228600" cy="247680"/>
            </a:xfrm>
            <a:prstGeom prst="rect">
              <a:avLst/>
            </a:prstGeom>
            <a:blipFill rotWithShape="0">
              <a:blip r:embed="rId2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477120" y="3086280"/>
              <a:ext cx="228600" cy="247320"/>
            </a:xfrm>
            <a:prstGeom prst="rect">
              <a:avLst/>
            </a:prstGeom>
            <a:blipFill rotWithShape="0">
              <a:blip r:embed="rId27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610400" y="1866960"/>
              <a:ext cx="228600" cy="247680"/>
            </a:xfrm>
            <a:prstGeom prst="rect">
              <a:avLst/>
            </a:prstGeom>
            <a:blipFill rotWithShape="0">
              <a:blip r:embed="rId28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85960" y="4943520"/>
              <a:ext cx="228600" cy="247680"/>
            </a:xfrm>
            <a:prstGeom prst="rect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335960" y="4878360"/>
              <a:ext cx="131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Prozess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4090320" y="2222640"/>
            <a:ext cx="109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wapping,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2724120" y="1886040"/>
            <a:ext cx="905040" cy="1466640"/>
            <a:chOff x="2724120" y="1886040"/>
            <a:chExt cx="905040" cy="1466640"/>
          </a:xfrm>
        </p:grpSpPr>
        <p:sp>
          <p:nvSpPr>
            <p:cNvPr id="273" name=""/>
            <p:cNvSpPr/>
            <p:nvPr/>
          </p:nvSpPr>
          <p:spPr>
            <a:xfrm>
              <a:off x="2724120" y="238140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400560" y="2629080"/>
              <a:ext cx="228600" cy="247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400560" y="188604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171960" y="2629080"/>
              <a:ext cx="228600" cy="247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171960" y="310500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2724120" y="1886040"/>
            <a:ext cx="1362240" cy="1238040"/>
            <a:chOff x="2724120" y="1886040"/>
            <a:chExt cx="1362240" cy="1238040"/>
          </a:xfrm>
        </p:grpSpPr>
        <p:sp>
          <p:nvSpPr>
            <p:cNvPr id="279" name=""/>
            <p:cNvSpPr/>
            <p:nvPr/>
          </p:nvSpPr>
          <p:spPr>
            <a:xfrm>
              <a:off x="2724120" y="287640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724120" y="188604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400560" y="213372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171960" y="213372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29160" y="287640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857760" y="2629080"/>
              <a:ext cx="228600" cy="247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885960" y="1866960"/>
            <a:ext cx="6953040" cy="2933640"/>
            <a:chOff x="885960" y="1866960"/>
            <a:chExt cx="6953040" cy="2933640"/>
          </a:xfrm>
        </p:grpSpPr>
        <p:grpSp>
          <p:nvGrpSpPr>
            <p:cNvPr id="286" name=""/>
            <p:cNvGrpSpPr/>
            <p:nvPr/>
          </p:nvGrpSpPr>
          <p:grpSpPr>
            <a:xfrm>
              <a:off x="5114880" y="1866960"/>
              <a:ext cx="2724120" cy="2933640"/>
              <a:chOff x="5114880" y="1866960"/>
              <a:chExt cx="2724120" cy="2933640"/>
            </a:xfrm>
          </p:grpSpPr>
          <p:sp>
            <p:nvSpPr>
              <p:cNvPr id="287" name=""/>
              <p:cNvSpPr/>
              <p:nvPr/>
            </p:nvSpPr>
            <p:spPr>
              <a:xfrm>
                <a:off x="5343480" y="2857680"/>
                <a:ext cx="228600" cy="247320"/>
              </a:xfrm>
              <a:prstGeom prst="rect">
                <a:avLst/>
              </a:prstGeom>
              <a:blipFill rotWithShape="0">
                <a:blip r:embed="rId30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343480" y="2114640"/>
                <a:ext cx="228600" cy="247680"/>
              </a:xfrm>
              <a:prstGeom prst="rect">
                <a:avLst/>
              </a:prstGeom>
              <a:blipFill rotWithShape="0">
                <a:blip r:embed="rId3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791320" y="2114640"/>
                <a:ext cx="228600" cy="247680"/>
              </a:xfrm>
              <a:prstGeom prst="rect">
                <a:avLst/>
              </a:prstGeom>
              <a:blipFill rotWithShape="0">
                <a:blip r:embed="rId3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562720" y="2114640"/>
                <a:ext cx="228600" cy="247680"/>
              </a:xfrm>
              <a:prstGeom prst="rect">
                <a:avLst/>
              </a:prstGeom>
              <a:blipFill rotWithShape="0">
                <a:blip r:embed="rId33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562720" y="3086280"/>
                <a:ext cx="228600" cy="247320"/>
              </a:xfrm>
              <a:prstGeom prst="rect">
                <a:avLst/>
              </a:prstGeom>
              <a:blipFill rotWithShape="0">
                <a:blip r:embed="rId3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114880" y="4552920"/>
                <a:ext cx="228600" cy="247680"/>
              </a:xfrm>
              <a:prstGeom prst="rect">
                <a:avLst/>
              </a:prstGeom>
              <a:blipFill rotWithShape="0">
                <a:blip r:embed="rId35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343480" y="3828960"/>
                <a:ext cx="228600" cy="247680"/>
              </a:xfrm>
              <a:prstGeom prst="rect">
                <a:avLst/>
              </a:prstGeom>
              <a:blipFill rotWithShape="0">
                <a:blip r:embed="rId36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562720" y="3333600"/>
                <a:ext cx="228600" cy="247680"/>
              </a:xfrm>
              <a:prstGeom prst="rect">
                <a:avLst/>
              </a:prstGeom>
              <a:blipFill rotWithShape="0">
                <a:blip r:embed="rId37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248520" y="4324320"/>
                <a:ext cx="228600" cy="247680"/>
              </a:xfrm>
              <a:prstGeom prst="rect">
                <a:avLst/>
              </a:prstGeom>
              <a:blipFill rotWithShape="0">
                <a:blip r:embed="rId38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477120" y="3581280"/>
                <a:ext cx="228600" cy="247680"/>
              </a:xfrm>
              <a:prstGeom prst="rect">
                <a:avLst/>
              </a:prstGeom>
              <a:blipFill rotWithShape="0">
                <a:blip r:embed="rId39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381800" y="4324320"/>
                <a:ext cx="228600" cy="247680"/>
              </a:xfrm>
              <a:prstGeom prst="rect">
                <a:avLst/>
              </a:prstGeom>
              <a:blipFill rotWithShape="0">
                <a:blip r:embed="rId40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381800" y="3581280"/>
                <a:ext cx="228600" cy="247680"/>
              </a:xfrm>
              <a:prstGeom prst="rect">
                <a:avLst/>
              </a:prstGeom>
              <a:blipFill rotWithShape="0">
                <a:blip r:embed="rId4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705720" y="2857680"/>
                <a:ext cx="228600" cy="247320"/>
              </a:xfrm>
              <a:prstGeom prst="rect">
                <a:avLst/>
              </a:prstGeom>
              <a:blipFill rotWithShape="0">
                <a:blip r:embed="rId4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705720" y="2362320"/>
                <a:ext cx="228600" cy="247680"/>
              </a:xfrm>
              <a:prstGeom prst="rect">
                <a:avLst/>
              </a:prstGeom>
              <a:blipFill rotWithShape="0">
                <a:blip r:embed="rId43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381800" y="2610000"/>
                <a:ext cx="228600" cy="247680"/>
              </a:xfrm>
              <a:prstGeom prst="rect">
                <a:avLst/>
              </a:prstGeom>
              <a:blipFill rotWithShape="0">
                <a:blip r:embed="rId4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381800" y="1866960"/>
                <a:ext cx="228600" cy="247680"/>
              </a:xfrm>
              <a:prstGeom prst="rect">
                <a:avLst/>
              </a:prstGeom>
              <a:blipFill rotWithShape="0">
                <a:blip r:embed="rId45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610400" y="2610000"/>
                <a:ext cx="228600" cy="247680"/>
              </a:xfrm>
              <a:prstGeom prst="rect">
                <a:avLst/>
              </a:prstGeom>
              <a:blipFill rotWithShape="0">
                <a:blip r:embed="rId46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885960" y="1866960"/>
              <a:ext cx="6953040" cy="2933640"/>
              <a:chOff x="885960" y="1866960"/>
              <a:chExt cx="6953040" cy="2933640"/>
            </a:xfrm>
          </p:grpSpPr>
          <p:sp>
            <p:nvSpPr>
              <p:cNvPr id="305" name=""/>
              <p:cNvSpPr/>
              <p:nvPr/>
            </p:nvSpPr>
            <p:spPr>
              <a:xfrm>
                <a:off x="885960" y="4457880"/>
                <a:ext cx="228600" cy="247320"/>
              </a:xfrm>
              <a:prstGeom prst="rect">
                <a:avLst/>
              </a:prstGeom>
              <a:blipFill rotWithShape="0">
                <a:blip r:embed="rId47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335960" y="4363920"/>
                <a:ext cx="1314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Prozess 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343480" y="2857680"/>
                <a:ext cx="228600" cy="247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343480" y="2114640"/>
                <a:ext cx="228600" cy="247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791320" y="2114640"/>
                <a:ext cx="228600" cy="247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562720" y="2114640"/>
                <a:ext cx="228600" cy="247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562720" y="3086280"/>
                <a:ext cx="228600" cy="247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114880" y="4552920"/>
                <a:ext cx="228600" cy="247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343480" y="3828960"/>
                <a:ext cx="228600" cy="247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562720" y="3333600"/>
                <a:ext cx="228600" cy="247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248520" y="4324320"/>
                <a:ext cx="228600" cy="247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477120" y="3581280"/>
                <a:ext cx="228600" cy="247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381800" y="4324320"/>
                <a:ext cx="228600" cy="247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381800" y="3581280"/>
                <a:ext cx="228600" cy="247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705720" y="2857680"/>
                <a:ext cx="228600" cy="247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705720" y="2362320"/>
                <a:ext cx="228600" cy="247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381800" y="2610000"/>
                <a:ext cx="228600" cy="247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381800" y="1866960"/>
                <a:ext cx="228600" cy="247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10400" y="2610000"/>
                <a:ext cx="228600" cy="247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4" name=""/>
          <p:cNvGrpSpPr/>
          <p:nvPr/>
        </p:nvGrpSpPr>
        <p:grpSpPr>
          <a:xfrm>
            <a:off x="5114880" y="1866960"/>
            <a:ext cx="2724120" cy="2933640"/>
            <a:chOff x="5114880" y="1866960"/>
            <a:chExt cx="2724120" cy="2933640"/>
          </a:xfrm>
        </p:grpSpPr>
        <p:sp>
          <p:nvSpPr>
            <p:cNvPr id="325" name=""/>
            <p:cNvSpPr/>
            <p:nvPr/>
          </p:nvSpPr>
          <p:spPr>
            <a:xfrm>
              <a:off x="5114880" y="236232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343480" y="261000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019920" y="186696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114880" y="407664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14880" y="358128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562720" y="432432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19920" y="407664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248520" y="382896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477120" y="407664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705720" y="407664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705720" y="333360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153200" y="432432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924600" y="407664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924600" y="455292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610400" y="455292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477120" y="3086280"/>
              <a:ext cx="228600" cy="247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610400" y="186696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6T11:54:09Z</dcterms:created>
  <dc:creator>Tamim Asfour</dc:creator>
  <dc:description/>
  <dc:language>en-US</dc:language>
  <cp:lastModifiedBy>Mladen Milushev</cp:lastModifiedBy>
  <cp:lastPrinted>2000-05-30T19:51:59Z</cp:lastPrinted>
  <dcterms:modified xsi:type="dcterms:W3CDTF">2004-09-17T16:59:46Z</dcterms:modified>
  <cp:revision>1495</cp:revision>
  <dc:subject/>
  <dc:title>TI-2</dc:title>
</cp:coreProperties>
</file>