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1.wmf" ContentType="image/x-wmf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21C8E1-6199-4B62-BA67-FDDE0116CC4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ür den gleichen Preis liefert die Mikroelektronik die doppelte Leistung in weniger als zwei Jahren (oder die 100 fache Leistung in jeweils 10 Jahre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ses Gesetz gilt seit 30 Jahren und entgegen wenigen pessimistischen Stimmen ist seine Gültigkeit für die nächsten 20 Jahren relativ klar belegb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nerhalb von 10 Jahren erhöht sich die Ingerationsdichte um den Faktor 100, fällt der Preis pro Bit auf 1% und erhöhen sich die Kosten der Fertigunganlagen um den Faktor 1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72BD-64E3-4EF7-9827-7BF267E9F4E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Arial"/>
              </a:rPr>
              <a:t>2. Pipeline-Verarbeitu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8320" y="1541520"/>
            <a:ext cx="7990200" cy="39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lche Möglichkeiten hat man prinzipiell zur Leistungssteigerung in Rechnersystemen?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Technologische Maßnahm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wendung schnellerer Technologien, Redesign is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öt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Strukturelle Maßnah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728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Zahl der Transistoren erhöhen </a:t>
            </a: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rallelarb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Pipeline-Ver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47840" y="1163520"/>
            <a:ext cx="8269200" cy="45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t ablaufende Operationen werden in eine Folge v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ilprozessen zerlegt. Für jeden Teilprozess wird e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eller Prozessor vorgeseh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ypischer Fall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verarbeitung wird aufgeteilt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h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buClr>
                <a:srgbClr val="0000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interpretieren (decodie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buClr>
                <a:srgbClr val="0000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nd(en) h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buClr>
                <a:srgbClr val="0000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tion aus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buClr>
                <a:srgbClr val="0000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 speich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fünfstufige Befehlsver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03040" y="2593800"/>
            <a:ext cx="1519560" cy="2522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2087640" y="2600280"/>
            <a:ext cx="1519200" cy="25113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3870360" y="2622600"/>
            <a:ext cx="1519200" cy="24494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4"/>
          <a:stretch/>
        </p:blipFill>
        <p:spPr>
          <a:xfrm>
            <a:off x="5594400" y="2608200"/>
            <a:ext cx="1519200" cy="24955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5"/>
          <a:stretch/>
        </p:blipFill>
        <p:spPr>
          <a:xfrm>
            <a:off x="7318440" y="2608200"/>
            <a:ext cx="1519200" cy="24940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16200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Befehl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ho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4804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Befehl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dekod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2896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Operanden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ho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5300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Operation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ausfüh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277040" y="448632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Ergebnis</a:t>
            </a:r>
            <a:br>
              <a:rPr sz="1800"/>
            </a:b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speich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680" y="1201680"/>
            <a:ext cx="73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Ausführung eines Maschinenbefehls besteht au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hreren Teilschrit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Pipelin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52480" y="197172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1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874800" y="2246400"/>
            <a:ext cx="4974840" cy="527040"/>
            <a:chOff x="874800" y="2246400"/>
            <a:chExt cx="4974840" cy="527040"/>
          </a:xfrm>
        </p:grpSpPr>
        <p:sp>
          <p:nvSpPr>
            <p:cNvPr id="387" name=""/>
            <p:cNvSpPr/>
            <p:nvPr/>
          </p:nvSpPr>
          <p:spPr>
            <a:xfrm>
              <a:off x="874800" y="2246400"/>
              <a:ext cx="986400" cy="5270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66040" y="2246400"/>
              <a:ext cx="986760" cy="5270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63240" y="2246400"/>
              <a:ext cx="986400" cy="52704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72000" y="2246400"/>
              <a:ext cx="986400" cy="5270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68840" y="2246400"/>
              <a:ext cx="986400" cy="5270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5918040" y="2246400"/>
            <a:ext cx="987480" cy="527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fehl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15240" y="2246400"/>
            <a:ext cx="987480" cy="52704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fehl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ekod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912080" y="2246400"/>
            <a:ext cx="987480" cy="5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771560" y="4137120"/>
            <a:ext cx="4974840" cy="527040"/>
            <a:chOff x="1771560" y="4137120"/>
            <a:chExt cx="4974840" cy="527040"/>
          </a:xfrm>
        </p:grpSpPr>
        <p:sp>
          <p:nvSpPr>
            <p:cNvPr id="396" name=""/>
            <p:cNvSpPr/>
            <p:nvPr/>
          </p:nvSpPr>
          <p:spPr>
            <a:xfrm>
              <a:off x="1771560" y="4137120"/>
              <a:ext cx="986400" cy="5270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62800" y="4137120"/>
              <a:ext cx="986760" cy="5270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60000" y="4137120"/>
              <a:ext cx="986400" cy="52704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68760" y="4137120"/>
              <a:ext cx="986400" cy="5270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765600" y="4137120"/>
              <a:ext cx="986400" cy="5270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5854680" y="1952640"/>
            <a:ext cx="12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2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3560" y="421020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1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44520" y="1400040"/>
            <a:ext cx="54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quentielle Ausführ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696160" y="2143080"/>
            <a:ext cx="276480" cy="87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4520" y="3381480"/>
            <a:ext cx="54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ipeli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772080" y="5203800"/>
            <a:ext cx="4974840" cy="527040"/>
            <a:chOff x="3772080" y="5203800"/>
            <a:chExt cx="4974840" cy="527040"/>
          </a:xfrm>
        </p:grpSpPr>
        <p:sp>
          <p:nvSpPr>
            <p:cNvPr id="407" name=""/>
            <p:cNvSpPr/>
            <p:nvPr/>
          </p:nvSpPr>
          <p:spPr>
            <a:xfrm>
              <a:off x="3772080" y="5203800"/>
              <a:ext cx="986400" cy="5270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63320" y="5203800"/>
              <a:ext cx="986760" cy="5270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60520" y="5203800"/>
              <a:ext cx="986400" cy="52704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69280" y="5203800"/>
              <a:ext cx="986400" cy="5270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66120" y="5203800"/>
              <a:ext cx="986400" cy="5270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2771640" y="4670280"/>
            <a:ext cx="4974840" cy="527040"/>
            <a:chOff x="2771640" y="4670280"/>
            <a:chExt cx="4974840" cy="527040"/>
          </a:xfrm>
        </p:grpSpPr>
        <p:sp>
          <p:nvSpPr>
            <p:cNvPr id="413" name=""/>
            <p:cNvSpPr/>
            <p:nvPr/>
          </p:nvSpPr>
          <p:spPr>
            <a:xfrm>
              <a:off x="2771640" y="4670280"/>
              <a:ext cx="986400" cy="5270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62880" y="4670280"/>
              <a:ext cx="986760" cy="5270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sfüh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760080" y="4670280"/>
              <a:ext cx="986400" cy="52704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peic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68840" y="4670280"/>
              <a:ext cx="986400" cy="5270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fehl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kod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65680" y="4670280"/>
              <a:ext cx="986400" cy="5270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perande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1697040" y="475308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2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49600" y="533412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Arial"/>
              </a:rPr>
              <a:t>3. Befe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99"/>
                </a:solidFill>
                <a:latin typeface="Arial"/>
              </a:rPr>
              <a:t>Definitionen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24000" y="1200240"/>
            <a:ext cx="84675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 dem Begriff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Pipeli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ersteht man die Zerlegung einer Maschinenoperation in mehrere Phasen oder Suboperationen, die dann von hintereinander geschalteten Verarbeitungseinheiten taktsynchron bearbeitet werden, wobei jede Verarbeitungseinheit genau eine spezielle Teiloperation ausfüh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Gesamtheit dieser Verarbeitungseinheiten nennt man eine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Pipe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einer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Befehlspipelin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Instruction Pipeline) wird die Ausführung eines Maschinenbefehls in verschiedene Phasen unterteilt, aufeinanderfolgende Maschinenbefehle werden jeweils um einen Taktzyklus versetzt ausgefüh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99"/>
                </a:solidFill>
                <a:latin typeface="Arial"/>
              </a:rPr>
              <a:t>Eine einfache fünfstufige Befehlspipeline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404640" y="1366920"/>
            <a:ext cx="838224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Pipeline-Stufen und Pipeline-Regist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33360" y="1095480"/>
            <a:ext cx="86011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efinitionn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390600" y="1081080"/>
            <a:ext cx="82677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10880"/>
            <a:ext cx="83059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efinition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409680" y="1076400"/>
            <a:ext cx="82580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Leistungssteiger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395280" y="1076400"/>
            <a:ext cx="8296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Leistungssteiger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404640" y="1081080"/>
            <a:ext cx="82677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Technologie-Entwickl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1844" t="0" r="5952" b="0"/>
          <a:stretch/>
        </p:blipFill>
        <p:spPr>
          <a:xfrm>
            <a:off x="372960" y="1655640"/>
            <a:ext cx="4673880" cy="3819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60960" y="2351160"/>
            <a:ext cx="37749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mall Scale Integ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edium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Large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L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ery Large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L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ltra Large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SI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Giga Scale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Grundlegendes Befehlspipelin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365040" y="1135080"/>
            <a:ext cx="846000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Phasen der Befehlsausführung in einer </a:t>
            </a:r>
            <a:br>
              <a:rPr sz="2800"/>
            </a:b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fünfstufigen Pipeline (DLX-Pipeline)</a:t>
            </a: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5440" y="1081080"/>
            <a:ext cx="8666280" cy="54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4545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Befehlsbereitstellungs-Phase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(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IF-Phase: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Instruction Ffetch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durch d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fehlszähl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dressierte Befehl wird aus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m Arbeitsspeicher (bzw. dem Befehlscache) in einen Befehlspuffe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laden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r Befehlszähler wird weitergeschalt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Decodier-und Operandenbereitstellungsphase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(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ID-Phase: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Instruction Decode &amp;Register Fetch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s dem Operationscode des Maschinenbefehls werd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zessorinterne Steuersignale erzeugt. Die Operanden werden                  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s (Universal)-Register bereit gestellt (2.Takthälft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Ausführungsphase/ Berechnung der effektiven Adresse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(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EX-Phas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Execution/Effective Address Calculatio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Operation wird auf den Operanden ausgeführt.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i Lade-und Speicherbefehl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der Verzweigungen berechnet die ALU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ffektive Adres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Phasen der Befehlsausführung in einer </a:t>
            </a:r>
            <a:br>
              <a:rPr sz="2800"/>
            </a:b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fünfstufigen Pipeline (DLX-Pipeline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66560" y="1306440"/>
            <a:ext cx="833940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300" spc="-1" strike="noStrike">
                <a:solidFill>
                  <a:srgbClr val="00ba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Speicherzugriffsphase (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MEM-Phase:</a:t>
            </a:r>
            <a:r>
              <a:rPr b="1" lang="de-DE" sz="20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memory access)</a:t>
            </a:r>
            <a:r>
              <a:rPr b="1" lang="de-DE" sz="2000" spc="-1" strike="noStrike">
                <a:solidFill>
                  <a:srgbClr val="0099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Speicherzugriff (bei Lade- und Speicherbefehlen) wird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gefüh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300" spc="-1" strike="noStrike">
                <a:solidFill>
                  <a:srgbClr val="4545ff"/>
                </a:solidFill>
                <a:latin typeface="Arial"/>
              </a:rPr>
              <a:t>Resultatspeicherphase (</a:t>
            </a:r>
            <a:r>
              <a:rPr b="1" lang="de-DE" sz="2300" spc="-1" strike="noStrike">
                <a:solidFill>
                  <a:srgbClr val="ff0000"/>
                </a:solidFill>
                <a:latin typeface="Arial"/>
              </a:rPr>
              <a:t>WB- Phase:</a:t>
            </a:r>
            <a:r>
              <a:rPr b="1" lang="de-DE" sz="2300" spc="-1" strike="noStrike">
                <a:solidFill>
                  <a:srgbClr val="00ba00"/>
                </a:solidFill>
                <a:latin typeface="Arial"/>
              </a:rPr>
              <a:t> </a:t>
            </a:r>
            <a:r>
              <a:rPr b="1" lang="de-DE" sz="2300" spc="-1" strike="noStrike">
                <a:solidFill>
                  <a:srgbClr val="4545ff"/>
                </a:solidFill>
                <a:latin typeface="Arial"/>
              </a:rPr>
              <a:t>write back)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Ergebnis wird in einem (Universal)-Register geschrieb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1.Takthälfte)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fehle ohne Ergebnis durchlaufen diese Phase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ssiv.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300"/>
            </a:b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99"/>
                </a:solidFill>
                <a:latin typeface="Arial"/>
              </a:rPr>
              <a:t>Pipeline-Konflikte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52320" y="1690560"/>
            <a:ext cx="781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einer gefüllten Pipeline wird pro Taktzyklus ein Befehl beend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gibt jedoch einige Gründe, die den Durchfluss durch die Pipeline hemmen bzw. verzögern. Man spricht von  </a:t>
            </a:r>
            <a:r>
              <a:rPr b="1" lang="de-DE" sz="2400" spc="-1" strike="noStrike">
                <a:solidFill>
                  <a:srgbClr val="4545ff"/>
                </a:solidFill>
                <a:latin typeface="Arial"/>
              </a:rPr>
              <a:t>Pipeline-Hemm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 Verzögerungen entstehen durch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Daten-, Struktur- und Steuerflussabhängig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Drei Arten von Pipeline- Konflikt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5440" y="1081080"/>
            <a:ext cx="8666280" cy="51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Datenkonflikt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eten auf, wenn ein Operand ist in 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ipeline (noch) nicht verfügbar.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konflikte werden durch Daten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hängigkeiten im im Befehlsstrom erzeug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Struktur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Ressourcekonflikt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eten auf, wenn zwe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ipeline-Stufen dieselbe Ressou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 benötigen, auf diese abe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r einmal zugegriffen werden kann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4545ff"/>
                </a:solidFill>
                <a:latin typeface="Arial"/>
              </a:rPr>
              <a:t>Steuerflusskonflik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reten bei Programmsteuerbefehlen auf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in Befehlsbereitstellungsphase die Zieladresse des al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ächstes auszuführenden Befehls noch nicht berechnet ist bzw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im Falle eines bedigten Sprunges noch nicht klar ist, ob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haupt gesprungen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atenabhängigkei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380880" y="1057320"/>
            <a:ext cx="8286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atenabhängigkei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380880" y="1076400"/>
            <a:ext cx="82868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atenabhängigkei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99960" y="1071720"/>
            <a:ext cx="82677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Klassifizierung von Datenabhängigkeit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021040" y="1298520"/>
            <a:ext cx="673092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True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Anti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Output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570040"/>
                <a:tab algn="l" pos="3144960"/>
                <a:tab algn="l" pos="3616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788000" y="1766880"/>
            <a:ext cx="0" cy="10047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782960" y="3224160"/>
            <a:ext cx="0" cy="100512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84760" y="4684680"/>
            <a:ext cx="0" cy="1004760"/>
          </a:xfrm>
          <a:prstGeom prst="line">
            <a:avLst/>
          </a:prstGeom>
          <a:ln w="28440">
            <a:solidFill>
              <a:srgbClr val="00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202280" y="3216240"/>
            <a:ext cx="404640" cy="2503440"/>
          </a:xfrm>
          <a:custGeom>
            <a:avLst/>
            <a:gdLst/>
            <a:ahLst/>
            <a:rect l="l" t="t" r="r" b="b"/>
            <a:pathLst>
              <a:path w="601" h="1800">
                <a:moveTo>
                  <a:pt x="600" y="0"/>
                </a:moveTo>
                <a:lnTo>
                  <a:pt x="0" y="452"/>
                </a:lnTo>
                <a:lnTo>
                  <a:pt x="0" y="896"/>
                </a:lnTo>
                <a:lnTo>
                  <a:pt x="0" y="1373"/>
                </a:lnTo>
                <a:lnTo>
                  <a:pt x="601" y="1800"/>
                </a:lnTo>
              </a:path>
            </a:pathLst>
          </a:custGeom>
          <a:noFill/>
          <a:ln w="2844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2360" y="1432080"/>
            <a:ext cx="2833560" cy="19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312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ADD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2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312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ADD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4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1,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312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MULT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3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5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312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MULT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3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6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Datenkonflik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66560" y="1295280"/>
            <a:ext cx="79329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Monotype Sorts" charset="2"/>
              <a:buChar char=""/>
              <a:tabLst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merk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genabhängigkeit und Ausgabeabhängigkeiten werden häufig auch </a:t>
            </a:r>
            <a:r>
              <a:rPr b="0" lang="de-DE" sz="2400" spc="-1" strike="noStrike">
                <a:solidFill>
                  <a:srgbClr val="4545ff"/>
                </a:solidFill>
                <a:latin typeface="Arial"/>
              </a:rPr>
              <a:t>falsche Datenabhängigkei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der entsprechend dem englischen Begriff – “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ame Dependency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4545ff"/>
                </a:solidFill>
                <a:latin typeface="Arial"/>
              </a:rPr>
              <a:t>Namensabhäng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enant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8000"/>
                <a:tab algn="l" pos="1709640"/>
                <a:tab algn="l" pos="4097160"/>
                <a:tab algn="l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trukturelle Maßnahm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840" y="1173240"/>
            <a:ext cx="8416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Klassifikation von Rechnerstrukturen nach Flyn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cheidung bezüglich der gleichzeitig bearbeitet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- und Datenströme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SISD (Single Instruction Single Data):</a:t>
            </a:r>
            <a:r>
              <a:rPr b="0" lang="de-DE" sz="2400" spc="-1" strike="noStrike">
                <a:solidFill>
                  <a:srgbClr val="339966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Datenstrom wird entsprechend einer seriell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folge verarbeitet (von-Neumann-Rech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28680" y="4286160"/>
            <a:ext cx="1476360" cy="1609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4681440"/>
            <a:ext cx="819000" cy="86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695680" y="533412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704680" y="4838760"/>
            <a:ext cx="150516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93400" y="50277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10960" y="45226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71000" y="4562640"/>
            <a:ext cx="29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BM-PC, IBM 37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cro-VAX von D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99"/>
                </a:solidFill>
                <a:latin typeface="Arial"/>
              </a:rPr>
              <a:t>Definitionen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24000" y="1200240"/>
            <a:ext cx="84675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Lese-nach-Schreibe-Konflikt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(read after write,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RAW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Wird durch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chte Abhäng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erursac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chreibe-nach-Lese-Konflikt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(write after read,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AR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Wird durch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Gegenabhäng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erursacht. Tritt dan auf, wenn in einer Pipeline die Schreibestufe der Lesestufe   vorange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chreibe-nach-Schreibe-Konflikt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(write after write,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AW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Wird durch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usgabeabhäng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erursacht.Tritt in Pipelines auf, die mehr als in einer Stufe schreiben, oder es erlauben, dass die Ausführung eines Befehls fortgesetzt werden darf, wenn ein vorhergehender Befehl angehalten worden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WAR und WAW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95280" y="1104840"/>
            <a:ext cx="82868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Lösungen für Datenkonflik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385920" y="1081080"/>
            <a:ext cx="82962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ehlzuweisung durch einen Datenkonflik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380880" y="1076400"/>
            <a:ext cx="82965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Lösungen für Datenkonflik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385920" y="1076400"/>
            <a:ext cx="82864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Lösungen für Datenkonflik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271440" y="1076400"/>
            <a:ext cx="85726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Lösungen für Datenkonflik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80880" y="1081080"/>
            <a:ext cx="82868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Hardware-Lösung durch Interlock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414360" y="1095480"/>
            <a:ext cx="8267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Hardware-Lösung durch </a:t>
            </a:r>
            <a:r>
              <a:rPr b="0" i="1" lang="de-DE" sz="3200" spc="-1" strike="noStrike">
                <a:solidFill>
                  <a:srgbClr val="000099"/>
                </a:solidFill>
                <a:latin typeface="Arial"/>
              </a:rPr>
              <a:t>Forward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385920" y="1085760"/>
            <a:ext cx="82962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99"/>
                </a:solidFill>
                <a:latin typeface="Arial"/>
              </a:rPr>
              <a:t>Forwarding</a:t>
            </a: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-Technike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390600" y="1085760"/>
            <a:ext cx="82868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trukturelle Maßnahm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2960" y="119700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62120" indent="-285840">
              <a:lnSpc>
                <a:spcPct val="100000"/>
              </a:lnSpc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SIMD (Single Instruction Multiple Data):</a:t>
            </a:r>
            <a:r>
              <a:rPr b="0" lang="de-DE" sz="2400" spc="-1" strike="noStrike">
                <a:solidFill>
                  <a:srgbClr val="339966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Prozessoren führen gleichzeitig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dieselben Befehl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verschiedenen Da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us (Array-Prozessor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05000" y="2719440"/>
            <a:ext cx="1476360" cy="332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771640" y="570564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781000" y="2800440"/>
            <a:ext cx="19717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91680" y="5351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11120" y="24843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771640" y="440064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762280" y="339084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91680" y="40654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91680" y="30560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743360" y="2809800"/>
            <a:ext cx="0" cy="24768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743360" y="3685680"/>
            <a:ext cx="0" cy="35244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734000" y="5067360"/>
            <a:ext cx="0" cy="25704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531504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3372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76800" y="400536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75480" y="3000240"/>
            <a:ext cx="327744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ildverarbei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m Prozesso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rd ein Bildausschnit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eord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4797360"/>
            <a:ext cx="36360" cy="36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14920" y="4892760"/>
            <a:ext cx="36360" cy="36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14920" y="4987800"/>
            <a:ext cx="36360" cy="36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99"/>
                </a:solidFill>
                <a:latin typeface="Arial"/>
              </a:rPr>
              <a:t>Forwarding Techniken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11080" y="1488960"/>
            <a:ext cx="73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rdware – Auf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warding – Logik und zusätzliche Datenpf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393840" y="3162240"/>
            <a:ext cx="82296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Ressourcenkonflikt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390600" y="1104840"/>
            <a:ext cx="82868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880" y="19008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Ressourcenkonflikt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404640" y="1100160"/>
            <a:ext cx="82774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85089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Ressourcenkonflikt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98400" y="1335240"/>
            <a:ext cx="77979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ZapfDingbats"/>
                <a:ea typeface="ZapfDingbats"/>
              </a:rPr>
              <a:t>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Lösungen (Hardwar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Arbitrierung mit Interlock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itrierungslogik hält den Befehl, der 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flikt verursacht - Verzögerung dur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erzyk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Übertaktu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Ressource, die den Konflikt hervorruf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neller als die übrigen Pipeline-Stufen tak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Ressourcenreplizierung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ielfachu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Ressourc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teurungsskonflikt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395280" y="1066680"/>
            <a:ext cx="826776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30120" y="2247840"/>
            <a:ext cx="344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390600" y="1071720"/>
            <a:ext cx="825804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390600" y="1085760"/>
            <a:ext cx="8267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395280" y="1095480"/>
            <a:ext cx="8267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888920" y="50292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399960" y="1104840"/>
            <a:ext cx="82774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08040" y="1320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395280" y="1085760"/>
            <a:ext cx="82771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trukturelle Maßnahm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9320" y="1301760"/>
            <a:ext cx="767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62120" indent="-285840">
              <a:lnSpc>
                <a:spcPct val="100000"/>
              </a:lnSpc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MIMD (Multiple Instruction Multiple Data):</a:t>
            </a:r>
            <a:r>
              <a:rPr b="0" lang="de-DE" sz="2400" spc="-1" strike="noStrike">
                <a:solidFill>
                  <a:srgbClr val="339966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Prozessoren führen gleichzeitig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verschiedene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Befeh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uf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verschiedenen Da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771640" y="588636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1680" y="55324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771640" y="457200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62280" y="3552840"/>
            <a:ext cx="1495440" cy="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91680" y="4237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91680" y="32180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531504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91924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3948120"/>
            <a:ext cx="933480" cy="72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P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762280" y="5495760"/>
            <a:ext cx="149544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82320" y="51418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771640" y="4143240"/>
            <a:ext cx="149544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92040" y="37893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762280" y="3114720"/>
            <a:ext cx="149544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82320" y="27608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05000" y="2719440"/>
            <a:ext cx="1476360" cy="332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14920" y="4797360"/>
            <a:ext cx="36360" cy="36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14920" y="4950000"/>
            <a:ext cx="36360" cy="36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14920" y="5102280"/>
            <a:ext cx="36360" cy="36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05640" y="2990880"/>
            <a:ext cx="45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ultiprozessor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ste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BM 3084, Cray-2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390600" y="1104840"/>
            <a:ext cx="826776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90600" y="1104840"/>
            <a:ext cx="829620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390600" y="1128600"/>
            <a:ext cx="82771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13920" y="152280"/>
            <a:ext cx="844884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b"/>
                </a:solidFill>
                <a:latin typeface="Tahoma"/>
              </a:rPr>
              <a:t>Steuerflusskonflikte durch Verzwe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404640" y="1119240"/>
            <a:ext cx="82584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99"/>
                </a:solidFill>
                <a:latin typeface="Arial"/>
              </a:rPr>
              <a:t>EN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trukturelle Maßnahm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7160" y="1301760"/>
            <a:ext cx="868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62120" indent="-285840">
              <a:lnSpc>
                <a:spcPct val="100000"/>
              </a:lnSpc>
              <a:buClr>
                <a:srgbClr val="3399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MISD (Multiple Instruction Single Data):</a:t>
            </a:r>
            <a:r>
              <a:rPr b="0" lang="de-DE" sz="2400" spc="-1" strike="noStrike">
                <a:solidFill>
                  <a:srgbClr val="339966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wird nur ein Datenstrom bearbeitet. Bestimmt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ungseinheiten übernehmen die Ausführung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immter Teile einer Operation (Pipeline-Verarbeitung)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rallelität auf Befehlsebene.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Moderne“ Prozessoren: ab Intel 80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Wäsche-Pipelin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4720" y="1362240"/>
            <a:ext cx="83725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Wäsche-Vorgang kann in 4 Teilvorgänge unterteilt werd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mutzige Wäsche in die Waschmasch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sse Wäsche in den Trock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ten, Bügeln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eider in den Sch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Wäsche-Pipelin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3360" y="13320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ä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2080" y="1782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2080" y="2116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2080" y="2487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20200" y="1193760"/>
            <a:ext cx="69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6:00     7:00        8:00       9:00      10:00     11:00     12:00    13:00     14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2080" y="2840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46040" y="1708200"/>
            <a:ext cx="0" cy="160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5680" y="1596960"/>
            <a:ext cx="708012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03840" y="1546200"/>
            <a:ext cx="0" cy="10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655640" y="1784520"/>
            <a:ext cx="1409760" cy="412560"/>
            <a:chOff x="1655640" y="1784520"/>
            <a:chExt cx="1409760" cy="412560"/>
          </a:xfrm>
        </p:grpSpPr>
        <p:grpSp>
          <p:nvGrpSpPr>
            <p:cNvPr id="123" name=""/>
            <p:cNvGrpSpPr/>
            <p:nvPr/>
          </p:nvGrpSpPr>
          <p:grpSpPr>
            <a:xfrm>
              <a:off x="1655640" y="1864800"/>
              <a:ext cx="211320" cy="252360"/>
              <a:chOff x="1655640" y="1864800"/>
              <a:chExt cx="211320" cy="252360"/>
            </a:xfrm>
          </p:grpSpPr>
          <p:sp>
            <p:nvSpPr>
              <p:cNvPr id="124" name=""/>
              <p:cNvSpPr/>
              <p:nvPr/>
            </p:nvSpPr>
            <p:spPr>
              <a:xfrm>
                <a:off x="1655640" y="1864800"/>
                <a:ext cx="211320" cy="252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657080" y="186696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689840" y="1935000"/>
                <a:ext cx="153720" cy="12816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32760" y="187344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802880" y="187344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754000" y="1784520"/>
              <a:ext cx="311400" cy="412560"/>
              <a:chOff x="2754000" y="1784520"/>
              <a:chExt cx="311400" cy="412560"/>
            </a:xfrm>
          </p:grpSpPr>
          <p:sp>
            <p:nvSpPr>
              <p:cNvPr id="130" name=""/>
              <p:cNvSpPr/>
              <p:nvPr/>
            </p:nvSpPr>
            <p:spPr>
              <a:xfrm>
                <a:off x="2754000" y="1784520"/>
                <a:ext cx="311400" cy="4125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770920" y="181224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914560" y="181224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18880" y="19771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878560" y="19771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023920" y="1864800"/>
              <a:ext cx="211320" cy="252360"/>
              <a:chOff x="2023920" y="1864800"/>
              <a:chExt cx="211320" cy="2523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23920" y="1864800"/>
                <a:ext cx="211320" cy="25236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25360" y="186696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58120" y="1935000"/>
                <a:ext cx="153720" cy="12816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01040" y="187344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71160" y="187344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405880" y="1900080"/>
              <a:ext cx="286200" cy="18072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44680" y="2144880"/>
            <a:ext cx="1409760" cy="412560"/>
            <a:chOff x="3244680" y="2144880"/>
            <a:chExt cx="1409760" cy="412560"/>
          </a:xfrm>
        </p:grpSpPr>
        <p:grpSp>
          <p:nvGrpSpPr>
            <p:cNvPr id="143" name=""/>
            <p:cNvGrpSpPr/>
            <p:nvPr/>
          </p:nvGrpSpPr>
          <p:grpSpPr>
            <a:xfrm>
              <a:off x="3244680" y="2225160"/>
              <a:ext cx="211320" cy="252360"/>
              <a:chOff x="3244680" y="2225160"/>
              <a:chExt cx="211320" cy="252360"/>
            </a:xfrm>
          </p:grpSpPr>
          <p:sp>
            <p:nvSpPr>
              <p:cNvPr id="144" name=""/>
              <p:cNvSpPr/>
              <p:nvPr/>
            </p:nvSpPr>
            <p:spPr>
              <a:xfrm>
                <a:off x="3244680" y="2225160"/>
                <a:ext cx="211320" cy="252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246120" y="222732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78880" y="2295360"/>
                <a:ext cx="153720" cy="12816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421800" y="223380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391920" y="223380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4343040" y="2144880"/>
              <a:ext cx="311400" cy="412560"/>
              <a:chOff x="4343040" y="2144880"/>
              <a:chExt cx="311400" cy="412560"/>
            </a:xfrm>
          </p:grpSpPr>
          <p:sp>
            <p:nvSpPr>
              <p:cNvPr id="150" name=""/>
              <p:cNvSpPr/>
              <p:nvPr/>
            </p:nvSpPr>
            <p:spPr>
              <a:xfrm>
                <a:off x="4343040" y="2144880"/>
                <a:ext cx="311400" cy="4125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59960" y="217260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503600" y="217260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07920" y="233748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467600" y="233748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3612960" y="2225160"/>
              <a:ext cx="211320" cy="252360"/>
              <a:chOff x="3612960" y="2225160"/>
              <a:chExt cx="211320" cy="252360"/>
            </a:xfrm>
          </p:grpSpPr>
          <p:sp>
            <p:nvSpPr>
              <p:cNvPr id="156" name=""/>
              <p:cNvSpPr/>
              <p:nvPr/>
            </p:nvSpPr>
            <p:spPr>
              <a:xfrm>
                <a:off x="3612960" y="2225160"/>
                <a:ext cx="211320" cy="25236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614400" y="222732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647160" y="2295360"/>
                <a:ext cx="153720" cy="12816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790080" y="223380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760200" y="223380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994920" y="2260440"/>
              <a:ext cx="286200" cy="18072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879800" y="2502000"/>
            <a:ext cx="1407960" cy="412560"/>
            <a:chOff x="4879800" y="2502000"/>
            <a:chExt cx="1407960" cy="412560"/>
          </a:xfrm>
        </p:grpSpPr>
        <p:grpSp>
          <p:nvGrpSpPr>
            <p:cNvPr id="163" name=""/>
            <p:cNvGrpSpPr/>
            <p:nvPr/>
          </p:nvGrpSpPr>
          <p:grpSpPr>
            <a:xfrm>
              <a:off x="4879800" y="2582280"/>
              <a:ext cx="210960" cy="252360"/>
              <a:chOff x="4879800" y="2582280"/>
              <a:chExt cx="210960" cy="25236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9800" y="2582280"/>
                <a:ext cx="210960" cy="252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881240" y="2584440"/>
                <a:ext cx="20916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13640" y="2652480"/>
                <a:ext cx="153360" cy="12816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056560" y="259092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026680" y="259092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5976720" y="2502000"/>
              <a:ext cx="311040" cy="412560"/>
              <a:chOff x="5976720" y="2502000"/>
              <a:chExt cx="311040" cy="412560"/>
            </a:xfrm>
          </p:grpSpPr>
          <p:sp>
            <p:nvSpPr>
              <p:cNvPr id="170" name=""/>
              <p:cNvSpPr/>
              <p:nvPr/>
            </p:nvSpPr>
            <p:spPr>
              <a:xfrm>
                <a:off x="5976720" y="2502000"/>
                <a:ext cx="311040" cy="4125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993640" y="252972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36920" y="252972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141600" y="26946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100920" y="26946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5247720" y="2582280"/>
              <a:ext cx="210960" cy="252360"/>
              <a:chOff x="5247720" y="2582280"/>
              <a:chExt cx="210960" cy="252360"/>
            </a:xfrm>
          </p:grpSpPr>
          <p:sp>
            <p:nvSpPr>
              <p:cNvPr id="176" name=""/>
              <p:cNvSpPr/>
              <p:nvPr/>
            </p:nvSpPr>
            <p:spPr>
              <a:xfrm>
                <a:off x="5247720" y="2582280"/>
                <a:ext cx="210960" cy="25236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249160" y="2584440"/>
                <a:ext cx="20916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81560" y="2652480"/>
                <a:ext cx="153360" cy="12816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424480" y="259092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394600" y="259092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5629320" y="2617560"/>
              <a:ext cx="285840" cy="18072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531120" y="2887560"/>
            <a:ext cx="1409040" cy="412920"/>
            <a:chOff x="6531120" y="2887560"/>
            <a:chExt cx="1409040" cy="412920"/>
          </a:xfrm>
        </p:grpSpPr>
        <p:grpSp>
          <p:nvGrpSpPr>
            <p:cNvPr id="183" name=""/>
            <p:cNvGrpSpPr/>
            <p:nvPr/>
          </p:nvGrpSpPr>
          <p:grpSpPr>
            <a:xfrm>
              <a:off x="6531120" y="2967840"/>
              <a:ext cx="211320" cy="252720"/>
              <a:chOff x="6531120" y="2967840"/>
              <a:chExt cx="211320" cy="252720"/>
            </a:xfrm>
          </p:grpSpPr>
          <p:sp>
            <p:nvSpPr>
              <p:cNvPr id="184" name=""/>
              <p:cNvSpPr/>
              <p:nvPr/>
            </p:nvSpPr>
            <p:spPr>
              <a:xfrm>
                <a:off x="6531120" y="2967840"/>
                <a:ext cx="211320" cy="2527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532560" y="297000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65320" y="3038400"/>
                <a:ext cx="153720" cy="12852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08240" y="297648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678360" y="297648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629120" y="2887560"/>
              <a:ext cx="311040" cy="412920"/>
              <a:chOff x="7629120" y="2887560"/>
              <a:chExt cx="311040" cy="412920"/>
            </a:xfrm>
          </p:grpSpPr>
          <p:sp>
            <p:nvSpPr>
              <p:cNvPr id="190" name=""/>
              <p:cNvSpPr/>
              <p:nvPr/>
            </p:nvSpPr>
            <p:spPr>
              <a:xfrm>
                <a:off x="7629120" y="2887560"/>
                <a:ext cx="311040" cy="4129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646040" y="291528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789320" y="291528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794000" y="30805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753320" y="30805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899400" y="2967840"/>
              <a:ext cx="211320" cy="252720"/>
              <a:chOff x="6899400" y="2967840"/>
              <a:chExt cx="211320" cy="252720"/>
            </a:xfrm>
          </p:grpSpPr>
          <p:sp>
            <p:nvSpPr>
              <p:cNvPr id="196" name=""/>
              <p:cNvSpPr/>
              <p:nvPr/>
            </p:nvSpPr>
            <p:spPr>
              <a:xfrm>
                <a:off x="6899400" y="2967840"/>
                <a:ext cx="211320" cy="2527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900840" y="297000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933600" y="3038400"/>
                <a:ext cx="153720" cy="12852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076520" y="297648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046640" y="297648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281360" y="3003120"/>
              <a:ext cx="286200" cy="18108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7710480" y="1546200"/>
            <a:ext cx="0" cy="10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57360" y="1552680"/>
            <a:ext cx="407880" cy="88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62000" y="1552680"/>
            <a:ext cx="409680" cy="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67000" y="1552680"/>
            <a:ext cx="409680" cy="88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71640" y="1552680"/>
            <a:ext cx="409680" cy="8892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82760" y="1552680"/>
            <a:ext cx="409680" cy="88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7760" y="1552680"/>
            <a:ext cx="409680" cy="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92400" y="1552680"/>
            <a:ext cx="409680" cy="88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97400" y="1552680"/>
            <a:ext cx="409680" cy="8892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2040" y="1552680"/>
            <a:ext cx="409680" cy="88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08480" y="1552680"/>
            <a:ext cx="408240" cy="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13480" y="1552680"/>
            <a:ext cx="407880" cy="88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18120" y="1552680"/>
            <a:ext cx="409680" cy="8892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23120" y="1552680"/>
            <a:ext cx="409320" cy="88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27760" y="1552680"/>
            <a:ext cx="409680" cy="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32760" y="1552680"/>
            <a:ext cx="409320" cy="88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37400" y="1552680"/>
            <a:ext cx="409680" cy="8892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20920" y="4159080"/>
            <a:ext cx="0" cy="160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598760" y="3671640"/>
            <a:ext cx="700380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728720" y="4149720"/>
            <a:ext cx="1409760" cy="412920"/>
            <a:chOff x="1728720" y="4149720"/>
            <a:chExt cx="1409760" cy="412920"/>
          </a:xfrm>
        </p:grpSpPr>
        <p:grpSp>
          <p:nvGrpSpPr>
            <p:cNvPr id="222" name=""/>
            <p:cNvGrpSpPr/>
            <p:nvPr/>
          </p:nvGrpSpPr>
          <p:grpSpPr>
            <a:xfrm>
              <a:off x="1728720" y="4230000"/>
              <a:ext cx="211320" cy="252720"/>
              <a:chOff x="1728720" y="4230000"/>
              <a:chExt cx="211320" cy="252720"/>
            </a:xfrm>
          </p:grpSpPr>
          <p:sp>
            <p:nvSpPr>
              <p:cNvPr id="223" name=""/>
              <p:cNvSpPr/>
              <p:nvPr/>
            </p:nvSpPr>
            <p:spPr>
              <a:xfrm>
                <a:off x="1728720" y="4230000"/>
                <a:ext cx="211320" cy="2527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730160" y="423216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762920" y="4300560"/>
                <a:ext cx="153720" cy="12852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905840" y="423864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875960" y="423864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827080" y="4149720"/>
              <a:ext cx="311400" cy="412920"/>
              <a:chOff x="2827080" y="4149720"/>
              <a:chExt cx="311400" cy="412920"/>
            </a:xfrm>
          </p:grpSpPr>
          <p:sp>
            <p:nvSpPr>
              <p:cNvPr id="229" name=""/>
              <p:cNvSpPr/>
              <p:nvPr/>
            </p:nvSpPr>
            <p:spPr>
              <a:xfrm>
                <a:off x="2827080" y="4149720"/>
                <a:ext cx="311400" cy="4129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44000" y="417744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987640" y="417744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991960" y="434268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951640" y="434268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097000" y="4230000"/>
              <a:ext cx="211320" cy="252720"/>
              <a:chOff x="2097000" y="4230000"/>
              <a:chExt cx="211320" cy="252720"/>
            </a:xfrm>
          </p:grpSpPr>
          <p:sp>
            <p:nvSpPr>
              <p:cNvPr id="235" name=""/>
              <p:cNvSpPr/>
              <p:nvPr/>
            </p:nvSpPr>
            <p:spPr>
              <a:xfrm>
                <a:off x="2097000" y="4230000"/>
                <a:ext cx="211320" cy="2527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98440" y="423216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131200" y="4300560"/>
                <a:ext cx="153720" cy="12852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274120" y="423864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244240" y="423864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2478960" y="4265280"/>
              <a:ext cx="286200" cy="18108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157480" y="4533840"/>
            <a:ext cx="1409760" cy="411120"/>
            <a:chOff x="2157480" y="4533840"/>
            <a:chExt cx="1409760" cy="411120"/>
          </a:xfrm>
        </p:grpSpPr>
        <p:grpSp>
          <p:nvGrpSpPr>
            <p:cNvPr id="242" name=""/>
            <p:cNvGrpSpPr/>
            <p:nvPr/>
          </p:nvGrpSpPr>
          <p:grpSpPr>
            <a:xfrm>
              <a:off x="2157480" y="4613760"/>
              <a:ext cx="211320" cy="251640"/>
              <a:chOff x="2157480" y="4613760"/>
              <a:chExt cx="211320" cy="251640"/>
            </a:xfrm>
          </p:grpSpPr>
          <p:sp>
            <p:nvSpPr>
              <p:cNvPr id="243" name=""/>
              <p:cNvSpPr/>
              <p:nvPr/>
            </p:nvSpPr>
            <p:spPr>
              <a:xfrm>
                <a:off x="2157480" y="4613760"/>
                <a:ext cx="211320" cy="2516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158920" y="461592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191680" y="4683960"/>
                <a:ext cx="153720" cy="12780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334600" y="462240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04720" y="462240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255840" y="4533840"/>
              <a:ext cx="311400" cy="411120"/>
              <a:chOff x="3255840" y="4533840"/>
              <a:chExt cx="311400" cy="411120"/>
            </a:xfrm>
          </p:grpSpPr>
          <p:sp>
            <p:nvSpPr>
              <p:cNvPr id="249" name=""/>
              <p:cNvSpPr/>
              <p:nvPr/>
            </p:nvSpPr>
            <p:spPr>
              <a:xfrm>
                <a:off x="3255840" y="4533840"/>
                <a:ext cx="311400" cy="4111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272760" y="4561560"/>
                <a:ext cx="13068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416400" y="4561560"/>
                <a:ext cx="13068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20720" y="47257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380400" y="472572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2525760" y="4613760"/>
              <a:ext cx="211320" cy="251640"/>
              <a:chOff x="2525760" y="4613760"/>
              <a:chExt cx="211320" cy="251640"/>
            </a:xfrm>
          </p:grpSpPr>
          <p:sp>
            <p:nvSpPr>
              <p:cNvPr id="255" name=""/>
              <p:cNvSpPr/>
              <p:nvPr/>
            </p:nvSpPr>
            <p:spPr>
              <a:xfrm>
                <a:off x="2525760" y="4613760"/>
                <a:ext cx="211320" cy="25164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527200" y="461592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559960" y="4683960"/>
                <a:ext cx="153720" cy="12780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02880" y="462240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673000" y="462240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907720" y="4649040"/>
              <a:ext cx="286200" cy="18036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583000" y="4937040"/>
            <a:ext cx="1409040" cy="412920"/>
            <a:chOff x="2583000" y="4937040"/>
            <a:chExt cx="1409040" cy="412920"/>
          </a:xfrm>
        </p:grpSpPr>
        <p:grpSp>
          <p:nvGrpSpPr>
            <p:cNvPr id="262" name=""/>
            <p:cNvGrpSpPr/>
            <p:nvPr/>
          </p:nvGrpSpPr>
          <p:grpSpPr>
            <a:xfrm>
              <a:off x="2583000" y="5017320"/>
              <a:ext cx="211320" cy="252720"/>
              <a:chOff x="2583000" y="5017320"/>
              <a:chExt cx="211320" cy="252720"/>
            </a:xfrm>
          </p:grpSpPr>
          <p:sp>
            <p:nvSpPr>
              <p:cNvPr id="263" name=""/>
              <p:cNvSpPr/>
              <p:nvPr/>
            </p:nvSpPr>
            <p:spPr>
              <a:xfrm>
                <a:off x="2583000" y="5017320"/>
                <a:ext cx="211320" cy="2527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584440" y="5019480"/>
                <a:ext cx="20952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617200" y="5087880"/>
                <a:ext cx="153720" cy="12852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760120" y="502596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30240" y="502596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3681000" y="4937040"/>
              <a:ext cx="311040" cy="412920"/>
              <a:chOff x="3681000" y="4937040"/>
              <a:chExt cx="311040" cy="412920"/>
            </a:xfrm>
          </p:grpSpPr>
          <p:sp>
            <p:nvSpPr>
              <p:cNvPr id="269" name=""/>
              <p:cNvSpPr/>
              <p:nvPr/>
            </p:nvSpPr>
            <p:spPr>
              <a:xfrm>
                <a:off x="3681000" y="4937040"/>
                <a:ext cx="311040" cy="4129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697920" y="496476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841200" y="496476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845880" y="51300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805200" y="51300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951280" y="5017320"/>
              <a:ext cx="211320" cy="252720"/>
              <a:chOff x="2951280" y="5017320"/>
              <a:chExt cx="211320" cy="252720"/>
            </a:xfrm>
          </p:grpSpPr>
          <p:sp>
            <p:nvSpPr>
              <p:cNvPr id="275" name=""/>
              <p:cNvSpPr/>
              <p:nvPr/>
            </p:nvSpPr>
            <p:spPr>
              <a:xfrm>
                <a:off x="2951280" y="5017320"/>
                <a:ext cx="211320" cy="2527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952720" y="5019480"/>
                <a:ext cx="20952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985480" y="5087880"/>
                <a:ext cx="153720" cy="12852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28400" y="502596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98520" y="502596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3333240" y="5052600"/>
              <a:ext cx="286200" cy="18108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1419120" y="3360600"/>
            <a:ext cx="70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6:00      7:00        8:00       9:00      10:00     11:00      12:00    13:00     14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948040" y="5338800"/>
            <a:ext cx="1407960" cy="412560"/>
            <a:chOff x="2948040" y="5338800"/>
            <a:chExt cx="1407960" cy="412560"/>
          </a:xfrm>
        </p:grpSpPr>
        <p:grpSp>
          <p:nvGrpSpPr>
            <p:cNvPr id="283" name=""/>
            <p:cNvGrpSpPr/>
            <p:nvPr/>
          </p:nvGrpSpPr>
          <p:grpSpPr>
            <a:xfrm>
              <a:off x="2948040" y="5419080"/>
              <a:ext cx="210960" cy="252360"/>
              <a:chOff x="2948040" y="5419080"/>
              <a:chExt cx="210960" cy="252360"/>
            </a:xfrm>
          </p:grpSpPr>
          <p:sp>
            <p:nvSpPr>
              <p:cNvPr id="284" name=""/>
              <p:cNvSpPr/>
              <p:nvPr/>
            </p:nvSpPr>
            <p:spPr>
              <a:xfrm>
                <a:off x="2948040" y="5419080"/>
                <a:ext cx="210960" cy="252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949480" y="5421240"/>
                <a:ext cx="209160" cy="29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981880" y="5489280"/>
                <a:ext cx="153360" cy="128160"/>
              </a:xfrm>
              <a:prstGeom prst="flowChartAlternateProcess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124800" y="5427720"/>
                <a:ext cx="1692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094920" y="5427720"/>
                <a:ext cx="18000" cy="1476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4044960" y="5338800"/>
              <a:ext cx="311040" cy="412560"/>
              <a:chOff x="4044960" y="5338800"/>
              <a:chExt cx="311040" cy="412560"/>
            </a:xfrm>
          </p:grpSpPr>
          <p:sp>
            <p:nvSpPr>
              <p:cNvPr id="290" name=""/>
              <p:cNvSpPr/>
              <p:nvPr/>
            </p:nvSpPr>
            <p:spPr>
              <a:xfrm>
                <a:off x="4044960" y="5338800"/>
                <a:ext cx="311040" cy="4125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061880" y="536652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205160" y="5366520"/>
                <a:ext cx="1306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209840" y="55314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169160" y="5531400"/>
                <a:ext cx="16920" cy="1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315960" y="5419080"/>
              <a:ext cx="210960" cy="252360"/>
              <a:chOff x="3315960" y="5419080"/>
              <a:chExt cx="210960" cy="252360"/>
            </a:xfrm>
          </p:grpSpPr>
          <p:sp>
            <p:nvSpPr>
              <p:cNvPr id="296" name=""/>
              <p:cNvSpPr/>
              <p:nvPr/>
            </p:nvSpPr>
            <p:spPr>
              <a:xfrm>
                <a:off x="3315960" y="5419080"/>
                <a:ext cx="210960" cy="25236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17400" y="5421240"/>
                <a:ext cx="209160" cy="29520"/>
              </a:xfrm>
              <a:prstGeom prst="rect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349800" y="5489280"/>
                <a:ext cx="153360" cy="128160"/>
              </a:xfrm>
              <a:prstGeom prst="flowChartAlternateProcess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92720" y="5427720"/>
                <a:ext cx="1692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62840" y="5427720"/>
                <a:ext cx="18000" cy="14760"/>
              </a:xfrm>
              <a:prstGeom prst="ellipse">
                <a:avLst/>
              </a:prstGeom>
              <a:solidFill>
                <a:srgbClr val="ffffe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3697560" y="5454360"/>
              <a:ext cx="285840" cy="180720"/>
            </a:xfrm>
            <a:prstGeom prst="flowChartMultidocument">
              <a:avLst/>
            </a:prstGeom>
            <a:solidFill>
              <a:srgbClr val="ffe0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630440" y="3679920"/>
            <a:ext cx="1616040" cy="81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68520" y="3836880"/>
            <a:ext cx="1590840" cy="79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32120" y="3914640"/>
            <a:ext cx="1592280" cy="81000"/>
          </a:xfrm>
          <a:prstGeom prst="rect">
            <a:avLst/>
          </a:prstGeom>
          <a:solidFill>
            <a:srgbClr val="cc98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82760" y="155880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00600" y="155880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26360" y="156672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57360" y="155880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47920" y="364644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65760" y="364644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91160" y="365436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22520" y="364644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51760" y="155880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24840" y="3624120"/>
            <a:ext cx="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46240" y="3757680"/>
            <a:ext cx="1592280" cy="81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22240" y="411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22240" y="4449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22240" y="4821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2240" y="5173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99"/>
                </a:solidFill>
                <a:latin typeface="Arial"/>
              </a:rPr>
              <a:t>Pipeline-</a:t>
            </a: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Ver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6240" y="1160640"/>
            <a:ext cx="77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ung von 3 gleichartigen Verarbeitungsaufträg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4  Teilverarbeitungsschrit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0" y="3146400"/>
            <a:ext cx="2152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81772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27808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35772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89736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435560" y="296676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2760" y="213372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rielle Verarbei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38800" y="3146400"/>
            <a:ext cx="215244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97052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51016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049800" y="305604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588000" y="296676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600960" y="3147840"/>
            <a:ext cx="2152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7132680" y="30571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7672320" y="30571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8211960" y="30571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8748720" y="305748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20680" y="325584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Auftrag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92400" y="325584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00"/>
                </a:solidFill>
                <a:latin typeface="Arial"/>
              </a:rPr>
              <a:t>Auftrag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11800" y="325584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Auftrag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25600" y="280368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659640" y="280368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25920" y="280368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4880" y="385776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ipeline-Verarbei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09680" y="4803840"/>
            <a:ext cx="2152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74176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20176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28140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82104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67000" y="5767560"/>
            <a:ext cx="2152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798720" y="567648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338720" y="567648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878360" y="567648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415120" y="567684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30040" y="46465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Auftrag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11240" y="56181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Auftrag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49640" y="446076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325680" y="542304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33840" y="5261040"/>
            <a:ext cx="215244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326556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80520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34484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63560" y="512280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00"/>
                </a:solidFill>
                <a:latin typeface="Arial"/>
              </a:rPr>
              <a:t>Auftrag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49760" y="4937040"/>
            <a:ext cx="19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73528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4888080" y="51699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354560" y="47127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268800" y="567540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Mladen Milushev</dc:creator>
  <dc:description/>
  <dc:language>en-US</dc:language>
  <cp:lastModifiedBy>Mladen Milushev</cp:lastModifiedBy>
  <cp:lastPrinted>2000-05-02T16:11:13Z</cp:lastPrinted>
  <dcterms:modified xsi:type="dcterms:W3CDTF">2006-10-24T12:41:33Z</dcterms:modified>
  <cp:revision>820</cp:revision>
  <dc:subject/>
  <dc:title>ti2-vl6</dc:title>
</cp:coreProperties>
</file>