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C88-1F28-46A8-9BA2-122C0C8312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1343160"/>
            <a:ext cx="7877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führung in die Technische Informatik I für Informationswi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Mittwoch, 16. Mai 2001, 15:45 Uh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HS –101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im Informatik-Hauptgebäude am Fasanengarten (Geb. 50.3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Erhöhung der Verarbeitungsgeschwindigkeit eines </a:t>
            </a:r>
            <a:r>
              <a:rPr b="1" lang="de-DE" sz="2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5200" y="3295800"/>
            <a:ext cx="87631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bearbeitet Befeh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werk ermittelt gleichzeitig die Operand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von Befeh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 interpretiert gleichzeitig Befeh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28584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entium 4 können bis zu 128 Befehlen gleichzeitig in verschiedenen Pipelines verarbei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960" y="1200240"/>
            <a:ext cx="7572240" cy="1752480"/>
          </a:xfrm>
          <a:prstGeom prst="flowChartProcess">
            <a:avLst/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(Pipelin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öglichst viele der beschriebenen Komponen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verarbeiten gleichzeitig verschiedene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nach Art der Fließbandfertigung</a:t>
            </a:r>
            <a:r>
              <a:rPr b="1" lang="de-DE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1.5 Steuerwerk (Control Unit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960" y="1133640"/>
            <a:ext cx="81820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ynchrones Schal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liegt ein sog.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dynamisches Schaltwerk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ustandsinformation nicht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Flipflops, sondern in Kondensator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Mindesttaktfrequenz ist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halb dieser Taktfrequenz gehen die Inhalte der aus Kondensatoren bestehenden Zustandsregister durch Leckströme bereits vor dem nächsten Taktzyklus verl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aktgenerat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modernen Mikroprozessoren on Chip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mit externem Quarz verbund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1142" t="7115" r="0" b="0"/>
          <a:stretch/>
        </p:blipFill>
        <p:spPr>
          <a:xfrm>
            <a:off x="5808600" y="1160640"/>
            <a:ext cx="3335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Taktgenera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Rücksetzen eines Prozess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343160"/>
            <a:ext cx="8506080" cy="47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Nach dem Einschalten der Versorungsspannung wird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Kondensator C langsam über den Widerstand R aufgela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Zeitkonstante: 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sz="2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C * R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(10 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F * 20K</a:t>
            </a:r>
            <a:r>
              <a:rPr b="1" sz="2300" spc="-1" strike="noStrike">
                <a:solidFill>
                  <a:srgbClr val="000000"/>
                </a:solidFill>
                <a:latin typeface="Symbol"/>
                <a:ea typeface="Symbol"/>
              </a:rPr>
              <a:t>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200 m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Nach Überschreiten von 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sz="23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am Reset-Eingang beginnt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die Programmausführung mit dem Laden des ersten Befeh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Durch Druck auf die Taste kann 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über einen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Strombegrenzungs-Widerstand wieder entladen wer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62"/>
              </a:spcBef>
              <a:spcAft>
                <a:spcPts val="601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manueller Re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Die Diode dient zum schnellen Entladen von </a:t>
            </a:r>
            <a:r>
              <a:rPr b="1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300" spc="-1" strike="noStrike">
                <a:solidFill>
                  <a:srgbClr val="000000"/>
                </a:solidFill>
                <a:latin typeface="Arial"/>
              </a:rPr>
              <a:t>Abschaltung der Versorgungsspann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5  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4120" y="2511360"/>
            <a:ext cx="80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42840" y="4583160"/>
            <a:ext cx="6951960" cy="59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1520" y="5261040"/>
            <a:ext cx="875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zelne Bits eines Mikrobefehls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krooperationen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swahl- und Freigabesignale für die benötigt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-1142" t="5558" r="0" b="0"/>
          <a:stretch/>
        </p:blipFill>
        <p:spPr>
          <a:xfrm>
            <a:off x="6275520" y="1089000"/>
            <a:ext cx="2868480" cy="212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71520" y="1457280"/>
            <a:ext cx="5067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 Festwertspeicher liegt fü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n Befehl ein Mikro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1520" y="3936960"/>
            <a:ext cx="42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bau eines Mikrobefehl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3257640"/>
            <a:ext cx="67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Mikroprogramm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Folge von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Mikro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1658880"/>
            <a:ext cx="2601720" cy="3672360"/>
            <a:chOff x="304920" y="1658880"/>
            <a:chExt cx="2601720" cy="36723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42480" y="493236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81400" y="1660680"/>
            <a:ext cx="2601720" cy="3670560"/>
            <a:chOff x="3281400" y="1660680"/>
            <a:chExt cx="2601720" cy="36705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79840" y="493236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326280" y="1628640"/>
            <a:ext cx="2601720" cy="3702600"/>
            <a:chOff x="6326280" y="1628640"/>
            <a:chExt cx="2601720" cy="370260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377040" y="4932360"/>
              <a:ext cx="250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Phasen der Befehlsausfüh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8120" y="1162080"/>
            <a:ext cx="81154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Arial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Arial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Arial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5 Steuerwerk (Control Unit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Monotype Sorts" charset="2"/>
              <a:buChar char="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5 Steuerwerk (Control Unit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143000"/>
            <a:ext cx="833724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Monotype Sorts"/>
                <a:ea typeface="Monotype Sorts"/>
              </a:rPr>
              <a:t></a:t>
            </a:r>
            <a:r>
              <a:rPr b="0" sz="23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Das Steuerwerk eines Standard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Mikroprozessors ist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mikroprogrammiert, jedoch meist </a:t>
            </a:r>
            <a:br>
              <a:rPr sz="2400"/>
            </a:b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nicht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8"/>
                </a:solidFill>
                <a:latin typeface="Arial"/>
              </a:rPr>
              <a:t>mikroprogramm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Interner Aufbau eines einfachen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1104840"/>
            <a:ext cx="834408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ei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buszuteilung (Bus Arbitration)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Busanforderung, </a:t>
            </a:r>
            <a:r>
              <a:rPr b="0" i="1" sz="2400" spc="-1" strike="noStrike">
                <a:solidFill>
                  <a:srgbClr val="00a500"/>
                </a:solidFill>
                <a:latin typeface="Arial"/>
              </a:rPr>
              <a:t>(bus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HOLD, BR oder BR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800" y="1141560"/>
            <a:ext cx="8344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Arial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Arial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Arial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ilt der Prozessor mit, daß 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Busübernahme-Bestätigung:</a:t>
            </a: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Arial"/>
              </a:rPr>
              <a:t>(Bus grant 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acknowledge 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BGA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 )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ssor, daß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1800" y="1266840"/>
            <a:ext cx="70678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Arial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Arial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104840"/>
            <a:ext cx="808668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Arial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ermeldung </a:t>
            </a:r>
            <a:r>
              <a:rPr b="1" lang="de-DE" sz="2400" spc="-1" strike="noStrike">
                <a:solidFill>
                  <a:srgbClr val="00a500"/>
                </a:solidFill>
                <a:latin typeface="Arial"/>
              </a:rPr>
              <a:t>BERR</a:t>
            </a:r>
            <a:r>
              <a:rPr b="0" lang="de-DE" sz="2400" spc="-1" strike="noStrike">
                <a:solidFill>
                  <a:srgbClr val="00a500"/>
                </a:solidFill>
                <a:latin typeface="Arial"/>
              </a:rPr>
              <a:t> (Bus error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ann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komponenten erzeugt werden, die gera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Systembus benut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igna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eigt dem Prozessor an, das be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auf dem Systembus gerade laufenden Aktion e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er aufgetreten ist, z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bleibendes Quittungssign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einen geschützten Speicherberei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übertragungsfehler auf dem Bus, ...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ignal BERR löst in der Regel eine Unterbrechungs-behandlung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104840"/>
            <a:ext cx="808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Arial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er Prozessor angeschlossenen Komponenten seinen Zustand und den Typ der gerade ausgeführten Operation mitteilen, z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utzerprogramm/Systemprogramm; Halt-Zustand;  Zugriff auf Arbeitsspeicher oder Peripherie, ...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in-/Ausgabesignale des Steuerwer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1171440"/>
            <a:ext cx="8325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Arial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200" y="1152360"/>
            <a:ext cx="810576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Das Steuerregi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4720" y="1181160"/>
            <a:ext cx="7801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10000"/>
          </a:blip>
          <a:srcRect l="353" t="815" r="565" b="371"/>
          <a:stretch/>
        </p:blipFill>
        <p:spPr>
          <a:xfrm>
            <a:off x="1994040" y="1173240"/>
            <a:ext cx="5049720" cy="4800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05120" y="3686040"/>
            <a:ext cx="3057480" cy="723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3840" y="3019320"/>
            <a:ext cx="847800" cy="4478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10400" y="2981160"/>
            <a:ext cx="666720" cy="324000"/>
          </a:xfrm>
          <a:prstGeom prst="rect">
            <a:avLst/>
          </a:prstGeom>
          <a:noFill/>
          <a:ln w="38160">
            <a:solidFill>
              <a:srgbClr val="f8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4080" y="2095560"/>
            <a:ext cx="885960" cy="54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43440" y="2448000"/>
            <a:ext cx="876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2114640"/>
            <a:ext cx="2390760" cy="5619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66960" y="1562040"/>
            <a:ext cx="800280" cy="31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" y="1523880"/>
            <a:ext cx="72867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t die System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fehls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nthält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ade ausgeführten Befe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ek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mikroprogrammiertes Schaltwerk)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den Statussignalen beinflußt und erzeug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00"/>
                </a:solidFill>
                <a:latin typeface="Arial"/>
              </a:rPr>
              <a:t>Taktgenerator</a:t>
            </a:r>
            <a:r>
              <a:rPr b="0" sz="2400" spc="-1" strike="noStrike">
                <a:solidFill>
                  <a:srgbClr val="ffb445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zeugt den vom externen Quar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gelegten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7234" r="0" b="0"/>
          <a:stretch/>
        </p:blipFill>
        <p:spPr>
          <a:xfrm>
            <a:off x="5703840" y="1116000"/>
            <a:ext cx="3297240" cy="243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6035" r="29831" b="1572"/>
          <a:stretch/>
        </p:blipFill>
        <p:spPr>
          <a:xfrm>
            <a:off x="1000080" y="1127160"/>
            <a:ext cx="6848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04840"/>
            <a:ext cx="821052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Befehlsregister-Block: Prefetch-Queu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IFO-Speicher mit 32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Steuerung sorgt für weitestmögliche Fü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üllung kann meist aus dem on-chip Cache über ein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128 Bit breiten Datenpfad erf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uß die Füllung jedoch aus de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en (Cache Miss), haben diese Zugriffe höchst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ior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ventuelle gleichzeitig auf den Bus auszugebende Da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in Schreibpuffern (write buffers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1152360"/>
            <a:ext cx="78868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Befehls-Vordeco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der Prefetch-Queue gelangen die Befeh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n Befehls-Vor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bearbeitung der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rekt im Befehl angegebene Operand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nmittelbare Daten) sowie Adressdistanz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Offsets) werden abgezweigt und sepera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826776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Befehls-FIF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dekodierte Befehle gelangen in d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ehls-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latz für 3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Befehls-Decod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nimmt den obersten vordecodier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dem Befehls-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mittelt die Startadresse des zugehöri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gram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erwerk des Intel 8048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680" y="1247760"/>
            <a:ext cx="80578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Mikrobefehls-Steuerung, Mikrobefehls-Spei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nchrones mikroprogrammiertes Schaltwerk, erzeugt die Steuersignale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terpretiert die Meldesig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Arial"/>
              </a:rPr>
              <a:t>Zeit-Steu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nchronisiert die erzeugten Steuersignale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Operationswerk (Rechenwerk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1301760"/>
            <a:ext cx="77914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ührt die vom Steuerwerk verlang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arithmetisch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tionen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informiert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werk über den Ablauf d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gebnisses (z.B. Carry, Overflow, Zero, Sig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m Zwischenspeichern von Operanden un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gebnissen sind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ilfregist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kkumulator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h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1015920" y="1133640"/>
            <a:ext cx="6848640" cy="498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6210360" y="1125360"/>
            <a:ext cx="2716200" cy="22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gistersatz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840" y="4251240"/>
            <a:ext cx="85723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ung des Operationswerk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benutzte Operanden können do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erer Zugriff als auf den Hauptspei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9" t="14224" r="40577" b="43805"/>
          <a:stretch/>
        </p:blipFill>
        <p:spPr>
          <a:xfrm>
            <a:off x="693720" y="1184400"/>
            <a:ext cx="74376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dress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3840" y="4086360"/>
            <a:ext cx="82674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et nach den Vorschriften des Steuerwer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eines Befehls oder eines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rüher häufig Bestandteil des Rechen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eute sehr komplex (viele verschiedene komplex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ierungsarten) und deshalb eigenstän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3794" r="29831" b="22982"/>
          <a:stretch/>
        </p:blipFill>
        <p:spPr>
          <a:xfrm>
            <a:off x="1371600" y="1114560"/>
            <a:ext cx="60609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ystembus-Schnittstel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720" y="1147680"/>
            <a:ext cx="820116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99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verse Zwischenspeicher-Register (Puffer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r kurzfristigen Aufbewahrung von Adressen un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, z.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990000"/>
              </a:buClr>
              <a:buSzPct val="75000"/>
              <a:buFont typeface="Monotype Sorts" charset="2"/>
              <a:buChar char=""/>
              <a:tabLst>
                <a:tab algn="l" pos="285840"/>
                <a:tab algn="l" pos="76212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grammzähl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Adresse des nächsten Befehls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struction Pointer, Program Cou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990000"/>
              </a:buClr>
              <a:buSzPct val="75000"/>
              <a:buFont typeface="Monotype Sorts" charset="2"/>
              <a:buChar char=""/>
              <a:tabLst>
                <a:tab algn="l" pos="285840"/>
                <a:tab algn="l" pos="76212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puff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des gewünschten Operanden im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990000"/>
              </a:buClr>
              <a:buSzPct val="75000"/>
              <a:buFont typeface="Monotype Sorts" charset="2"/>
              <a:buChar char=""/>
              <a:tabLst>
                <a:tab algn="l" pos="285840"/>
                <a:tab algn="l" pos="76212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atenbuspuff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ert des gerade bearbeiteten Ope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99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Aus- und Eingangstreiber (Tristate-Trei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29" t="10932" r="40577" b="965"/>
          <a:stretch/>
        </p:blipFill>
        <p:spPr>
          <a:xfrm>
            <a:off x="858960" y="1171440"/>
            <a:ext cx="68911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Interne Bus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1409760"/>
            <a:ext cx="81057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nen zur Verbindung der Prozessor-Komponenten unter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eindeutig zwischen Daten- und Adressbus zu unterscheiden, da einmal Operanden und einmal Adressen übertra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eitere Funktionseinh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314360"/>
            <a:ext cx="782028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modernen Mikroprozess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seinhei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emory Management Unit, MM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ithmetik-K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Speicher (schnelle Zwischenspeicher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ür Befehle und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werden später seperat behand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09-27T10:33:59Z</dcterms:modified>
  <cp:revision>431</cp:revision>
  <dc:subject/>
  <dc:title>TI-2</dc:title>
</cp:coreProperties>
</file>