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2.xml.rels" ContentType="application/vnd.openxmlformats-package.relationships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embeddings/oleObject1.docx" ContentType="application/vnd.openxmlformats-officedocument.wordprocessingml.document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31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1.wmf" ContentType="image/x-wmf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4024080" y="0"/>
            <a:ext cx="30747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668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2"/>
          </p:nvPr>
        </p:nvSpPr>
        <p:spPr>
          <a:xfrm>
            <a:off x="0" y="9723240"/>
            <a:ext cx="307512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3"/>
          </p:nvPr>
        </p:nvSpPr>
        <p:spPr>
          <a:xfrm>
            <a:off x="4024080" y="9723240"/>
            <a:ext cx="30747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7AE011F-1264-4111-ACC7-A4745CB0C22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993600" y="7700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47520" y="4861080"/>
            <a:ext cx="5203800" cy="4603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Für den gleichen Preis liefert die Mikroelektronik die doppelte Leistung in weniger als zwei Jahren (oder die 100 fache Leistung in jeweils 10 Jahren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ieses Gesetz gilt seit 30 Jahren und entgegen wenigen pessimistischen Stimmen ist seine Gültigkeit für die nächsten 20 Jahren relativ klar belegba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Innerhalb von 10 Jahren erhöht sich die Ingerationsdichte um den Faktor 100, fällt der Preis pro Bit auf 1% und erhöhen sich die Kosten der Fertigunganlagen um den Faktor 10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305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38080" y="6324480"/>
            <a:ext cx="68724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3572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stitut für Prozessrechentechnik, Automation und Roboti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33572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f. rer.nat. U. Brinkschul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371520" y="6400800"/>
          <a:ext cx="360360" cy="360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1520" y="6400800"/>
                    <a:ext cx="36036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"/>
          <p:cNvSpPr/>
          <p:nvPr/>
        </p:nvSpPr>
        <p:spPr>
          <a:xfrm>
            <a:off x="8305920" y="64008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CC002-0436-47E1-9799-F2E2362222E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990720"/>
            <a:ext cx="8305920" cy="75960"/>
          </a:xfrm>
          <a:prstGeom prst="rect">
            <a:avLst/>
          </a:prstGeom>
          <a:gradFill rotWithShape="0">
            <a:gsLst>
              <a:gs pos="0">
                <a:srgbClr val="d5ffd5"/>
              </a:gs>
              <a:gs pos="50000">
                <a:srgbClr val="336600"/>
              </a:gs>
              <a:gs pos="100000">
                <a:srgbClr val="d5ffd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0880" y="6248520"/>
            <a:ext cx="8305920" cy="7596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50000">
                <a:srgbClr val="d5ffd5"/>
              </a:gs>
              <a:gs pos="100000">
                <a:srgbClr val="33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99"/>
                </a:solidFill>
                <a:latin typeface="Arial"/>
              </a:rPr>
              <a:t>2. Pipeline-Verarbeitung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8320" y="1541520"/>
            <a:ext cx="7990200" cy="39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Welche Möglichkeiten hat man prinzipiell zur Leistungssteigerung in Rechnersystemen?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28728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28728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ba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ba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ba00"/>
                </a:solidFill>
                <a:latin typeface="Arial"/>
              </a:rPr>
              <a:t>Technologische Maßnahmen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8728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nwendung schnellerer Technologien, Redesign ist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öti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28728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28728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28728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ba00"/>
                </a:solidFill>
                <a:latin typeface="Arial"/>
              </a:rPr>
              <a:t>Strukturelle Maßnahm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8728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.B. Zahl der Transistoren erhöhen </a:t>
            </a:r>
            <a:r>
              <a:rPr b="0" lang="de-DE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Parallelarb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Pipeline-Verarbeitung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47840" y="1163520"/>
            <a:ext cx="8269200" cy="45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ft ablaufende Operationen werden in eine Folge v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eilprozessen zerlegt. Für jeden Teilprozess wird e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ezieller Prozessor vorgeseh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ypischer Fall: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fehlsverarbeitung wird aufgeteilt 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cc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fehl ho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30000"/>
              </a:lnSpc>
              <a:buClr>
                <a:srgbClr val="0000cc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fehl interpretieren (decodier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30000"/>
              </a:lnSpc>
              <a:buClr>
                <a:srgbClr val="0000cc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perand(en) ho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30000"/>
              </a:lnSpc>
              <a:buClr>
                <a:srgbClr val="0000cc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peration ausfüh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30000"/>
              </a:lnSpc>
              <a:buClr>
                <a:srgbClr val="0000cc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gebnis speich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fünfstufige Befehlsverarbeitung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203040" y="2593800"/>
            <a:ext cx="1519560" cy="252288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2"/>
          <a:stretch/>
        </p:blipFill>
        <p:spPr>
          <a:xfrm>
            <a:off x="2087640" y="2600280"/>
            <a:ext cx="1519200" cy="251136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3"/>
          <a:stretch/>
        </p:blipFill>
        <p:spPr>
          <a:xfrm>
            <a:off x="3870360" y="2622600"/>
            <a:ext cx="1519200" cy="244944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4"/>
          <a:stretch/>
        </p:blipFill>
        <p:spPr>
          <a:xfrm>
            <a:off x="5594400" y="2608200"/>
            <a:ext cx="1519200" cy="249552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5"/>
          <a:stretch/>
        </p:blipFill>
        <p:spPr>
          <a:xfrm>
            <a:off x="7318440" y="2608200"/>
            <a:ext cx="1519200" cy="249408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162000" y="4486320"/>
            <a:ext cx="16002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cc"/>
                </a:solidFill>
                <a:latin typeface="Arial"/>
              </a:rPr>
              <a:t>Befehl</a:t>
            </a:r>
            <a:br>
              <a:rPr sz="1800"/>
            </a:br>
            <a:r>
              <a:rPr b="1" lang="de-DE" sz="1800" spc="-1" strike="noStrike">
                <a:solidFill>
                  <a:srgbClr val="0000cc"/>
                </a:solidFill>
                <a:latin typeface="Arial"/>
              </a:rPr>
              <a:t>hol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048040" y="4486320"/>
            <a:ext cx="16002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cc"/>
                </a:solidFill>
                <a:latin typeface="Arial"/>
              </a:rPr>
              <a:t>Befehl</a:t>
            </a:r>
            <a:br>
              <a:rPr sz="1800"/>
            </a:br>
            <a:r>
              <a:rPr b="1" lang="de-DE" sz="1800" spc="-1" strike="noStrike">
                <a:solidFill>
                  <a:srgbClr val="0000cc"/>
                </a:solidFill>
                <a:latin typeface="Arial"/>
              </a:rPr>
              <a:t>dekodier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828960" y="4486320"/>
            <a:ext cx="16002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cc"/>
                </a:solidFill>
                <a:latin typeface="Arial"/>
              </a:rPr>
              <a:t>Operanden</a:t>
            </a:r>
            <a:br>
              <a:rPr sz="1800"/>
            </a:br>
            <a:r>
              <a:rPr b="1" lang="de-DE" sz="1800" spc="-1" strike="noStrike">
                <a:solidFill>
                  <a:srgbClr val="0000cc"/>
                </a:solidFill>
                <a:latin typeface="Arial"/>
              </a:rPr>
              <a:t>hol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53000" y="4486320"/>
            <a:ext cx="16002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cc"/>
                </a:solidFill>
                <a:latin typeface="Arial"/>
              </a:rPr>
              <a:t>Operation</a:t>
            </a:r>
            <a:br>
              <a:rPr sz="1800"/>
            </a:br>
            <a:r>
              <a:rPr b="1" lang="de-DE" sz="1800" spc="-1" strike="noStrike">
                <a:solidFill>
                  <a:srgbClr val="0000cc"/>
                </a:solidFill>
                <a:latin typeface="Arial"/>
              </a:rPr>
              <a:t>ausführ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277040" y="4486320"/>
            <a:ext cx="16002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cc"/>
                </a:solidFill>
                <a:latin typeface="Arial"/>
              </a:rPr>
              <a:t>Ergebnis</a:t>
            </a:r>
            <a:br>
              <a:rPr sz="1800"/>
            </a:br>
            <a:r>
              <a:rPr b="1" lang="de-DE" sz="1800" spc="-1" strike="noStrike">
                <a:solidFill>
                  <a:srgbClr val="0000cc"/>
                </a:solidFill>
                <a:latin typeface="Arial"/>
              </a:rPr>
              <a:t>speiche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680" y="1201680"/>
            <a:ext cx="73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Ausführung eines Maschinenbefehls besteht aus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ehreren Teilschrit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Pipelining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852480" y="1971720"/>
            <a:ext cx="127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99"/>
                </a:solidFill>
                <a:latin typeface="Arial"/>
              </a:rPr>
              <a:t>1. Befeh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874800" y="2246400"/>
            <a:ext cx="4974840" cy="527040"/>
            <a:chOff x="874800" y="2246400"/>
            <a:chExt cx="4974840" cy="527040"/>
          </a:xfrm>
        </p:grpSpPr>
        <p:sp>
          <p:nvSpPr>
            <p:cNvPr id="387" name=""/>
            <p:cNvSpPr/>
            <p:nvPr/>
          </p:nvSpPr>
          <p:spPr>
            <a:xfrm>
              <a:off x="874800" y="2246400"/>
              <a:ext cx="986400" cy="52704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Befehl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hol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866040" y="2246400"/>
              <a:ext cx="986760" cy="52704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Operation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ausführ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863240" y="2246400"/>
              <a:ext cx="986400" cy="527040"/>
            </a:xfrm>
            <a:prstGeom prst="rect">
              <a:avLst/>
            </a:prstGeom>
            <a:solidFill>
              <a:srgbClr val="ff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Ergebnis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speicher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872000" y="2246400"/>
              <a:ext cx="986400" cy="527040"/>
            </a:xfrm>
            <a:prstGeom prst="rect">
              <a:avLst/>
            </a:prstGeom>
            <a:solidFill>
              <a:srgbClr val="ff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Befehl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dekodier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868840" y="2246400"/>
              <a:ext cx="986400" cy="52704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Operanden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hol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5918040" y="2246400"/>
            <a:ext cx="987480" cy="52704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Befehl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hol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915240" y="2246400"/>
            <a:ext cx="987480" cy="52704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Befehl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ekodie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912080" y="2246400"/>
            <a:ext cx="987480" cy="5270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. .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1771560" y="4137120"/>
            <a:ext cx="4974840" cy="527040"/>
            <a:chOff x="1771560" y="4137120"/>
            <a:chExt cx="4974840" cy="527040"/>
          </a:xfrm>
        </p:grpSpPr>
        <p:sp>
          <p:nvSpPr>
            <p:cNvPr id="396" name=""/>
            <p:cNvSpPr/>
            <p:nvPr/>
          </p:nvSpPr>
          <p:spPr>
            <a:xfrm>
              <a:off x="1771560" y="4137120"/>
              <a:ext cx="986400" cy="52704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Befehl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hol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762800" y="4137120"/>
              <a:ext cx="986760" cy="52704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Operation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ausführ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760000" y="4137120"/>
              <a:ext cx="986400" cy="527040"/>
            </a:xfrm>
            <a:prstGeom prst="rect">
              <a:avLst/>
            </a:prstGeom>
            <a:solidFill>
              <a:srgbClr val="ff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Ergebnis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speicher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768760" y="4137120"/>
              <a:ext cx="986400" cy="527040"/>
            </a:xfrm>
            <a:prstGeom prst="rect">
              <a:avLst/>
            </a:prstGeom>
            <a:solidFill>
              <a:srgbClr val="ff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Befehl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dekodier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765600" y="4137120"/>
              <a:ext cx="986400" cy="52704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Operanden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hol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" name=""/>
          <p:cNvSpPr/>
          <p:nvPr/>
        </p:nvSpPr>
        <p:spPr>
          <a:xfrm>
            <a:off x="5854680" y="1952640"/>
            <a:ext cx="127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99"/>
                </a:solidFill>
                <a:latin typeface="Arial"/>
              </a:rPr>
              <a:t>2. Befeh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63560" y="4210200"/>
            <a:ext cx="127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99"/>
                </a:solidFill>
                <a:latin typeface="Arial"/>
              </a:rPr>
              <a:t>1. Befeh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44520" y="1400040"/>
            <a:ext cx="54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equentielle Ausführu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8696160" y="2143080"/>
            <a:ext cx="276480" cy="87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44520" y="3381480"/>
            <a:ext cx="54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ipelin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3772080" y="5203800"/>
            <a:ext cx="4974840" cy="527040"/>
            <a:chOff x="3772080" y="5203800"/>
            <a:chExt cx="4974840" cy="527040"/>
          </a:xfrm>
        </p:grpSpPr>
        <p:sp>
          <p:nvSpPr>
            <p:cNvPr id="407" name=""/>
            <p:cNvSpPr/>
            <p:nvPr/>
          </p:nvSpPr>
          <p:spPr>
            <a:xfrm>
              <a:off x="3772080" y="5203800"/>
              <a:ext cx="986400" cy="52704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Befehl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hol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763320" y="5203800"/>
              <a:ext cx="986760" cy="52704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Operation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ausführ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760520" y="5203800"/>
              <a:ext cx="986400" cy="527040"/>
            </a:xfrm>
            <a:prstGeom prst="rect">
              <a:avLst/>
            </a:prstGeom>
            <a:solidFill>
              <a:srgbClr val="ff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Ergebnis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speicher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769280" y="5203800"/>
              <a:ext cx="986400" cy="527040"/>
            </a:xfrm>
            <a:prstGeom prst="rect">
              <a:avLst/>
            </a:prstGeom>
            <a:solidFill>
              <a:srgbClr val="ff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Befehl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dekodier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766120" y="5203800"/>
              <a:ext cx="986400" cy="52704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Operanden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hol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2771640" y="4670280"/>
            <a:ext cx="4974840" cy="527040"/>
            <a:chOff x="2771640" y="4670280"/>
            <a:chExt cx="4974840" cy="527040"/>
          </a:xfrm>
        </p:grpSpPr>
        <p:sp>
          <p:nvSpPr>
            <p:cNvPr id="413" name=""/>
            <p:cNvSpPr/>
            <p:nvPr/>
          </p:nvSpPr>
          <p:spPr>
            <a:xfrm>
              <a:off x="2771640" y="4670280"/>
              <a:ext cx="986400" cy="52704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Befehl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hol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62880" y="4670280"/>
              <a:ext cx="986760" cy="52704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Operation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ausführ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760080" y="4670280"/>
              <a:ext cx="986400" cy="527040"/>
            </a:xfrm>
            <a:prstGeom prst="rect">
              <a:avLst/>
            </a:prstGeom>
            <a:solidFill>
              <a:srgbClr val="ff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Ergebnis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speicher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768840" y="4670280"/>
              <a:ext cx="986400" cy="527040"/>
            </a:xfrm>
            <a:prstGeom prst="rect">
              <a:avLst/>
            </a:prstGeom>
            <a:solidFill>
              <a:srgbClr val="ff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Befehl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dekodier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765680" y="4670280"/>
              <a:ext cx="986400" cy="52704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Operanden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hol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1697040" y="4753080"/>
            <a:ext cx="127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99"/>
                </a:solidFill>
                <a:latin typeface="Arial"/>
              </a:rPr>
              <a:t>2. Befeh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649600" y="5334120"/>
            <a:ext cx="127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99"/>
                </a:solidFill>
                <a:latin typeface="Arial"/>
              </a:rPr>
              <a:t>3. Befeh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000099"/>
                </a:solidFill>
                <a:latin typeface="Arial"/>
              </a:rPr>
              <a:t>Definitionen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24000" y="1200240"/>
            <a:ext cx="846756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ter dem Begriff 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Pipelining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versteht man die Zerlegung einer Maschinenoperation in mehrere Phasen oder Suboperationen, die dann von hintereinander geschalteten Verarbeitungseinheiten taktsynchron bearbeitet werden, wobei jede Verarbeitungseinheit genau eine spezielle Teiloperation ausfüh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Gesamtheit dieser Verarbeitungseinheiten nennt man eine 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Pipe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 einer 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Befehlspipelin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(Instruction Pipeline) wird die Ausführung eines Maschinenbefehls in verschiedene Phasen unterteilt, aufeinanderfolgende Maschinenbefehle werden jeweils um einen Taktzyklus versetzt ausgefüh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99"/>
                </a:solidFill>
                <a:latin typeface="Arial"/>
              </a:rPr>
              <a:t>Eine einfache fünfstufige Befehlspipeline</a:t>
            </a: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404640" y="1366920"/>
            <a:ext cx="8382240" cy="41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99"/>
                </a:solidFill>
                <a:latin typeface="Arial"/>
              </a:rPr>
              <a:t>Pipeline-Stufen und Pipeline-Register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333360" y="1095480"/>
            <a:ext cx="860112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Definitionn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390600" y="1081080"/>
            <a:ext cx="826776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110880"/>
            <a:ext cx="830592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Definition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409680" y="1076400"/>
            <a:ext cx="825804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Leistungssteigerung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395280" y="1076400"/>
            <a:ext cx="829620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Leistungssteigerung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404640" y="1081080"/>
            <a:ext cx="826776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Technologie-Entwicklung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rcRect l="1844" t="0" r="5952" b="0"/>
          <a:stretch/>
        </p:blipFill>
        <p:spPr>
          <a:xfrm>
            <a:off x="372960" y="1655640"/>
            <a:ext cx="4673880" cy="38196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160960" y="2351160"/>
            <a:ext cx="377496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SI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Small Scale Integr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SI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Medium Scale Integ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LSI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Large Scale Integ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LSI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Very Large Scale Integ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ULSI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Ultra Large Scale Integ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SI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Giga Scale Integ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Grundlegendes Befehlspipelining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365040" y="1135080"/>
            <a:ext cx="8460000" cy="50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99"/>
                </a:solidFill>
                <a:latin typeface="Arial"/>
              </a:rPr>
              <a:t>Phasen der Befehlsausführung in einer </a:t>
            </a:r>
            <a:br>
              <a:rPr sz="2800"/>
            </a:br>
            <a:r>
              <a:rPr b="1" lang="de-DE" sz="2800" spc="-1" strike="noStrike">
                <a:solidFill>
                  <a:srgbClr val="000099"/>
                </a:solidFill>
                <a:latin typeface="Arial"/>
              </a:rPr>
              <a:t>fünfstufigen Pipeline (DLX-Pipeline)</a:t>
            </a:r>
            <a:r>
              <a:rPr b="0" lang="de-DE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25440" y="1081080"/>
            <a:ext cx="8666280" cy="54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4545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4545ff"/>
                </a:solidFill>
                <a:latin typeface="Arial"/>
              </a:rPr>
              <a:t>Befehlsbereitstellungs-Phase</a:t>
            </a:r>
            <a:r>
              <a:rPr b="1" lang="de-DE" sz="2000" spc="-1" strike="noStrike">
                <a:solidFill>
                  <a:srgbClr val="00ba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4545ff"/>
                </a:solidFill>
                <a:latin typeface="Arial"/>
              </a:rPr>
              <a:t>(</a:t>
            </a: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IF-Phase:</a:t>
            </a:r>
            <a:r>
              <a:rPr b="1" lang="de-DE" sz="2000" spc="-1" strike="noStrike">
                <a:solidFill>
                  <a:srgbClr val="4545ff"/>
                </a:solidFill>
                <a:latin typeface="Arial"/>
              </a:rPr>
              <a:t>Instruction Ffetch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r durch den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efehlszähle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dressierte Befehl wird aus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m Arbeitsspeicher (bzw. dem Befehlscache) in einen Befehlspuffer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laden.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r Befehlszähler wird weitergeschalt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4545ff"/>
                </a:solidFill>
                <a:latin typeface="Arial"/>
              </a:rPr>
              <a:t>Decodier-und Operandenbereitstellungsphase</a:t>
            </a:r>
            <a:r>
              <a:rPr b="1" lang="de-DE" sz="2000" spc="-1" strike="noStrike">
                <a:solidFill>
                  <a:srgbClr val="00ba00"/>
                </a:solidFill>
                <a:latin typeface="Arial"/>
              </a:rPr>
              <a:t>   </a:t>
            </a:r>
            <a:r>
              <a:rPr b="1" lang="de-DE" sz="2000" spc="-1" strike="noStrike">
                <a:solidFill>
                  <a:srgbClr val="00ba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ba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ba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ba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4545ff"/>
                </a:solidFill>
                <a:latin typeface="Arial"/>
              </a:rPr>
              <a:t>(</a:t>
            </a: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ID-Phase:</a:t>
            </a:r>
            <a:r>
              <a:rPr b="1" lang="de-DE" sz="2000" spc="-1" strike="noStrike">
                <a:solidFill>
                  <a:srgbClr val="00ba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4545ff"/>
                </a:solidFill>
                <a:latin typeface="Arial"/>
              </a:rPr>
              <a:t>Instruction Decode &amp;Register Fetch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us dem Operationscode des Maschinenbefehls werden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ozessorinterne Steuersignale erzeugt. Die Operanden werden                  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us (Universal)-Register bereit gestellt (2.Takthälfte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4545ff"/>
                </a:solidFill>
                <a:latin typeface="Arial"/>
              </a:rPr>
              <a:t>Ausführungsphase/ Berechnung der effektiven Adresse</a:t>
            </a:r>
            <a:r>
              <a:rPr b="1" lang="de-DE" sz="2000" spc="-1" strike="noStrike">
                <a:solidFill>
                  <a:srgbClr val="00ba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4545ff"/>
                </a:solidFill>
                <a:latin typeface="Arial"/>
              </a:rPr>
              <a:t>(</a:t>
            </a: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EX-Phase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4545ff"/>
                </a:solidFill>
                <a:latin typeface="Arial"/>
              </a:rPr>
              <a:t>Execution/Effective Address Calculation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Operation wird auf den Operanden ausgeführt.                  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ei Lade-und Speicherbefehlen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der Verzweigungen berechnet die ALU  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ffektive Adres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99"/>
                </a:solidFill>
                <a:latin typeface="Arial"/>
              </a:rPr>
              <a:t>Phasen der Befehlsausführung in einer </a:t>
            </a:r>
            <a:br>
              <a:rPr sz="2800"/>
            </a:br>
            <a:r>
              <a:rPr b="1" lang="de-DE" sz="2800" spc="-1" strike="noStrike">
                <a:solidFill>
                  <a:srgbClr val="000099"/>
                </a:solidFill>
                <a:latin typeface="Arial"/>
              </a:rPr>
              <a:t>fünfstufigen Pipeline (DLX-Pipeline)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66560" y="1306440"/>
            <a:ext cx="8339400" cy="35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37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300" spc="-1" strike="noStrike">
                <a:solidFill>
                  <a:srgbClr val="00ba00"/>
                </a:solidFill>
                <a:latin typeface="Arial"/>
              </a:rPr>
              <a:t> </a:t>
            </a:r>
            <a:r>
              <a:rPr b="1" lang="de-DE" sz="2300" spc="-1" strike="noStrike">
                <a:solidFill>
                  <a:srgbClr val="00ba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4545ff"/>
                </a:solidFill>
                <a:latin typeface="Arial"/>
              </a:rPr>
              <a:t>Speicherzugriffsphase (</a:t>
            </a: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MEM-Phase:</a:t>
            </a:r>
            <a:r>
              <a:rPr b="1" lang="de-DE" sz="2000" spc="-1" strike="noStrike">
                <a:solidFill>
                  <a:srgbClr val="00ba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4545ff"/>
                </a:solidFill>
                <a:latin typeface="Arial"/>
              </a:rPr>
              <a:t>memory access)</a:t>
            </a:r>
            <a:r>
              <a:rPr b="1" lang="de-DE" sz="2000" spc="-1" strike="noStrike">
                <a:solidFill>
                  <a:srgbClr val="009900"/>
                </a:solidFill>
                <a:latin typeface="Arial"/>
              </a:rPr>
              <a:t> </a:t>
            </a:r>
            <a:br>
              <a:rPr sz="2000"/>
            </a:b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r Speicherzugriff (bei Lade- und Speicherbefehlen) wird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urchgefüh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37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37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300" spc="-1" strike="noStrike">
                <a:solidFill>
                  <a:srgbClr val="4545ff"/>
                </a:solidFill>
                <a:latin typeface="Arial"/>
              </a:rPr>
              <a:t>Resultatspeicherphase (</a:t>
            </a:r>
            <a:r>
              <a:rPr b="1" lang="de-DE" sz="2300" spc="-1" strike="noStrike">
                <a:solidFill>
                  <a:srgbClr val="ff0000"/>
                </a:solidFill>
                <a:latin typeface="Arial"/>
              </a:rPr>
              <a:t>WB- Phase:</a:t>
            </a:r>
            <a:r>
              <a:rPr b="1" lang="de-DE" sz="2300" spc="-1" strike="noStrike">
                <a:solidFill>
                  <a:srgbClr val="00ba00"/>
                </a:solidFill>
                <a:latin typeface="Arial"/>
              </a:rPr>
              <a:t> </a:t>
            </a:r>
            <a:r>
              <a:rPr b="1" lang="de-DE" sz="2300" spc="-1" strike="noStrike">
                <a:solidFill>
                  <a:srgbClr val="4545ff"/>
                </a:solidFill>
                <a:latin typeface="Arial"/>
              </a:rPr>
              <a:t>write back)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300"/>
            </a:b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s Ergebnis wird in einem (Universal)-Register geschrieben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1.Takthälfte)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fehle ohne Ergebnis durchlaufen diese Phase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assiv.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300"/>
            </a:br>
            <a:br>
              <a:rPr sz="2300"/>
            </a:b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0099"/>
                </a:solidFill>
                <a:latin typeface="Arial"/>
              </a:rPr>
              <a:t>Pipeline-Konflikte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52320" y="1690560"/>
            <a:ext cx="7817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1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 einer gefüllten Pipeline wird pro Taktzyklus ein Befehl beend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1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1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1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s gibt jedoch einige Gründe, die den Durchfluss durch die Pipeline hemmen bzw. verzögern. Man spricht von  </a:t>
            </a:r>
            <a:r>
              <a:rPr b="1" lang="de-DE" sz="2400" spc="-1" strike="noStrike">
                <a:solidFill>
                  <a:srgbClr val="4545ff"/>
                </a:solidFill>
                <a:latin typeface="Arial"/>
              </a:rPr>
              <a:t>Pipeline-Hemmni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1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1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1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se Verzögerungen entstehen durch </a:t>
            </a: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Daten-, Struktur- und Steuerflussabhängigkei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Drei Arten von Pipeline- Konflikte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5440" y="1081080"/>
            <a:ext cx="866628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4545ff"/>
                </a:solidFill>
                <a:latin typeface="Arial"/>
              </a:rPr>
              <a:t>Datenkonflikte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reten auf, wenn ein Operand ist in de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ipeline (noch) nicht verfügbar.           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konflikte werden durch Daten-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bhängigkeiten im im Befehlsstrom erzeug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4545ff"/>
                </a:solidFill>
                <a:latin typeface="Arial"/>
              </a:rPr>
              <a:t>Struktur-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oder </a:t>
            </a:r>
            <a:r>
              <a:rPr b="1" lang="de-DE" sz="2000" spc="-1" strike="noStrike">
                <a:solidFill>
                  <a:srgbClr val="4545ff"/>
                </a:solidFill>
                <a:latin typeface="Arial"/>
              </a:rPr>
              <a:t>Ressourcekonflikte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reten auf, wenn zwe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ipeline-Stufen dieselbe Ressou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e benötigen, auf diese aber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ur einmal zugegriffen werden kann.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4545ff"/>
                </a:solidFill>
                <a:latin typeface="Arial"/>
              </a:rPr>
              <a:t>Steuerflusskonflikt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treten bei Programmsteuerbefehlen auf: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nn in Befehlsbereitstellungsphase die Zieladresse des al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ächstes auszuführenden Befehls noch nicht berechnet ist bzw.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nn im Falle eines bedigten Sprunges noch nicht klar ist, ob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überhaupt gesprungen wir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Datenabhängigkeit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380880" y="1057320"/>
            <a:ext cx="82868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Datenabhängigkeit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380880" y="1076400"/>
            <a:ext cx="828684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Datenabhängigkeit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399960" y="1071720"/>
            <a:ext cx="826776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Klassifizierung von Datenabhängigkeite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021040" y="1298520"/>
            <a:ext cx="6730920" cy="50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7680"/>
                <a:tab algn="l" pos="2570040"/>
                <a:tab algn="l" pos="3144960"/>
                <a:tab algn="l" pos="3616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7680"/>
                <a:tab algn="l" pos="2570040"/>
                <a:tab algn="l" pos="3144960"/>
                <a:tab algn="l" pos="3616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7680"/>
                <a:tab algn="l" pos="2570040"/>
                <a:tab algn="l" pos="3144960"/>
                <a:tab algn="l" pos="3616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sz="24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sz="2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True Depen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7680"/>
                <a:tab algn="l" pos="2570040"/>
                <a:tab algn="l" pos="3144960"/>
                <a:tab algn="l" pos="3616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7680"/>
                <a:tab algn="l" pos="2570040"/>
                <a:tab algn="l" pos="3144960"/>
                <a:tab algn="l" pos="3616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7680"/>
                <a:tab algn="l" pos="2570040"/>
                <a:tab algn="l" pos="3144960"/>
                <a:tab algn="l" pos="3616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7680"/>
                <a:tab algn="l" pos="2570040"/>
                <a:tab algn="l" pos="3144960"/>
                <a:tab algn="l" pos="3616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sz="2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sz="2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Anti Depen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7680"/>
                <a:tab algn="l" pos="2570040"/>
                <a:tab algn="l" pos="3144960"/>
                <a:tab algn="l" pos="3616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7680"/>
                <a:tab algn="l" pos="2570040"/>
                <a:tab algn="l" pos="3144960"/>
                <a:tab algn="l" pos="3616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sz="2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7680"/>
                <a:tab algn="l" pos="2570040"/>
                <a:tab algn="l" pos="3144960"/>
                <a:tab algn="l" pos="3616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7680"/>
                <a:tab algn="l" pos="2570040"/>
                <a:tab algn="l" pos="3144960"/>
                <a:tab algn="l" pos="3616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sz="2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Output Depen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7680"/>
                <a:tab algn="l" pos="2570040"/>
                <a:tab algn="l" pos="3144960"/>
                <a:tab algn="l" pos="3616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7680"/>
                <a:tab algn="l" pos="2570040"/>
                <a:tab algn="l" pos="3144960"/>
                <a:tab algn="l" pos="3616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788000" y="1766880"/>
            <a:ext cx="0" cy="1004760"/>
          </a:xfrm>
          <a:prstGeom prst="line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782960" y="3224160"/>
            <a:ext cx="0" cy="100512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84760" y="4684680"/>
            <a:ext cx="0" cy="1004760"/>
          </a:xfrm>
          <a:prstGeom prst="line">
            <a:avLst/>
          </a:prstGeom>
          <a:ln w="28440">
            <a:solidFill>
              <a:srgbClr val="00ba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202280" y="3216240"/>
            <a:ext cx="404640" cy="2503440"/>
          </a:xfrm>
          <a:custGeom>
            <a:avLst/>
            <a:gdLst/>
            <a:ahLst/>
            <a:rect l="l" t="t" r="r" b="b"/>
            <a:pathLst>
              <a:path w="601" h="1800">
                <a:moveTo>
                  <a:pt x="600" y="0"/>
                </a:moveTo>
                <a:lnTo>
                  <a:pt x="0" y="452"/>
                </a:lnTo>
                <a:lnTo>
                  <a:pt x="0" y="896"/>
                </a:lnTo>
                <a:lnTo>
                  <a:pt x="0" y="1373"/>
                </a:lnTo>
                <a:lnTo>
                  <a:pt x="601" y="1800"/>
                </a:lnTo>
              </a:path>
            </a:pathLst>
          </a:custGeom>
          <a:noFill/>
          <a:ln w="2844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22360" y="1432080"/>
            <a:ext cx="2833560" cy="19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7312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ADD 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R1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R2,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7312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ADD 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R4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R1,R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7312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MULT 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R3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R5,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7312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MULT 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R3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R6,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80880" y="306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Datenkonflikt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66560" y="1295280"/>
            <a:ext cx="793296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cc99"/>
              </a:buClr>
              <a:buSzPct val="75000"/>
              <a:buFont typeface="Monotype Sorts" charset="2"/>
              <a:buChar char=""/>
              <a:tabLst>
                <a:tab algn="l" pos="378000"/>
                <a:tab algn="l" pos="1709640"/>
                <a:tab algn="l" pos="4097160"/>
                <a:tab algn="l" pos="4670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emerku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78000"/>
                <a:tab algn="l" pos="1709640"/>
                <a:tab algn="l" pos="4097160"/>
                <a:tab algn="l" pos="4670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genabhängigkeit und Ausgabeabhängigkeiten werden häufig auch </a:t>
            </a:r>
            <a:r>
              <a:rPr b="0" lang="de-DE" sz="2400" spc="-1" strike="noStrike">
                <a:solidFill>
                  <a:srgbClr val="4545ff"/>
                </a:solidFill>
                <a:latin typeface="Arial"/>
              </a:rPr>
              <a:t>falsche Datenabhängigkeit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oder entsprechend dem englischen Begriff – “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Name Dependency“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400" spc="-1" strike="noStrike">
                <a:solidFill>
                  <a:srgbClr val="4545ff"/>
                </a:solidFill>
                <a:latin typeface="Arial"/>
              </a:rPr>
              <a:t>Namensabhängigkei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genant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78000"/>
                <a:tab algn="l" pos="1709640"/>
                <a:tab algn="l" pos="4097160"/>
                <a:tab algn="l" pos="4670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78000"/>
                <a:tab algn="l" pos="1709640"/>
                <a:tab algn="l" pos="4097160"/>
                <a:tab algn="l" pos="4670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Strukturelle Maßnahm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840" y="1173240"/>
            <a:ext cx="84168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Klassifikation von Rechnerstrukturen nach Flyn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terscheidung bezüglich der gleichzeitig bearbeiteten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fehls- und Datenströme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285840">
              <a:lnSpc>
                <a:spcPct val="100000"/>
              </a:lnSpc>
              <a:buClr>
                <a:srgbClr val="3399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9900"/>
                </a:solidFill>
                <a:latin typeface="Arial"/>
              </a:rPr>
              <a:t>SISD (Single Instruction Single Data):</a:t>
            </a:r>
            <a:r>
              <a:rPr b="0" lang="de-DE" sz="2400" spc="-1" strike="noStrike">
                <a:solidFill>
                  <a:srgbClr val="339966"/>
                </a:solidFill>
                <a:latin typeface="Arial"/>
              </a:rPr>
              <a:t>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 Datenstrom wird entsprechend einer seriellen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fehlsfolge verarbeitet (von-Neumann-Rechn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28680" y="4286160"/>
            <a:ext cx="1476360" cy="1609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Spe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191120" y="4681440"/>
            <a:ext cx="819000" cy="866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695680" y="5334120"/>
            <a:ext cx="1495440" cy="0"/>
          </a:xfrm>
          <a:prstGeom prst="line">
            <a:avLst/>
          </a:prstGeom>
          <a:ln w="28440">
            <a:solidFill>
              <a:srgbClr val="3399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704680" y="4838760"/>
            <a:ext cx="1505160" cy="0"/>
          </a:xfrm>
          <a:prstGeom prst="line">
            <a:avLst/>
          </a:prstGeom>
          <a:ln w="28440">
            <a:solidFill>
              <a:srgbClr val="0000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993400" y="502776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9900"/>
                </a:solidFill>
                <a:latin typeface="Arial"/>
              </a:rPr>
              <a:t>D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910960" y="452268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cc"/>
                </a:solidFill>
                <a:latin typeface="Arial"/>
              </a:rPr>
              <a:t>Befeh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71000" y="4562640"/>
            <a:ext cx="293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BM-PC, IBM 370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icro-VAX von D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000099"/>
                </a:solidFill>
                <a:latin typeface="Arial"/>
              </a:rPr>
              <a:t>Definitionen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24000" y="1200240"/>
            <a:ext cx="846756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Lese-nach-Schreibe-Konflikt </a:t>
            </a: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(read after write,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RAW</a:t>
            </a: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)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Wird durch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echte Abhängigkei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verursac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Schreibe-nach-Lese-Konflikt </a:t>
            </a: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(write after read,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WAR</a:t>
            </a: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)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Wird durch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Gegenabhängigkei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verursacht. Tritt dan auf, wenn in einer Pipeline die Schreibestufe der Lesestufe   vorange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Schreibe-nach-Schreibe-Konflikt </a:t>
            </a: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(write after write,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WAW</a:t>
            </a: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)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Wird durch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usgabeabhängigkei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verursacht.Tritt in Pipelines auf, die mehr als in einer Stufe schreiben, oder es erlauben, dass die Ausführung eines Befehls fortgesetzt werden darf, wenn ein vorhergehender Befehl angehalten worden 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WAR und WAW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395280" y="1104840"/>
            <a:ext cx="8286840" cy="51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Lösungen für Datenkonflikt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385920" y="1081080"/>
            <a:ext cx="829620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ehlzuweisung durch einen Datenkonflik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380880" y="1076400"/>
            <a:ext cx="829656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Lösungen für Datenkonflikt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1"/>
          <a:stretch/>
        </p:blipFill>
        <p:spPr>
          <a:xfrm>
            <a:off x="385920" y="1076400"/>
            <a:ext cx="828648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Lösungen für Datenkonflikt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271440" y="1076400"/>
            <a:ext cx="857268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Lösungen für Datenkonflikt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72" name="" descr=""/>
          <p:cNvPicPr/>
          <p:nvPr/>
        </p:nvPicPr>
        <p:blipFill>
          <a:blip r:embed="rId1"/>
          <a:stretch/>
        </p:blipFill>
        <p:spPr>
          <a:xfrm>
            <a:off x="380880" y="1081080"/>
            <a:ext cx="828684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Hardware-Lösung durch Interlocki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414360" y="1095480"/>
            <a:ext cx="826776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Hardware-Lösung durch </a:t>
            </a:r>
            <a:r>
              <a:rPr b="0" i="1" lang="de-DE" sz="3200" spc="-1" strike="noStrike">
                <a:solidFill>
                  <a:srgbClr val="000099"/>
                </a:solidFill>
                <a:latin typeface="Arial"/>
              </a:rPr>
              <a:t>Forwardi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385920" y="1085760"/>
            <a:ext cx="829620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99"/>
                </a:solidFill>
                <a:latin typeface="Arial"/>
              </a:rPr>
              <a:t>Forwarding</a:t>
            </a:r>
            <a:r>
              <a:rPr b="0" lang="de-DE" sz="3600" spc="-1" strike="noStrike">
                <a:solidFill>
                  <a:srgbClr val="000099"/>
                </a:solidFill>
                <a:latin typeface="Arial"/>
              </a:rPr>
              <a:t>-Techniken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390600" y="1085760"/>
            <a:ext cx="828684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Strukturelle Maßnahm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2960" y="1197000"/>
            <a:ext cx="828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62120" indent="-285840">
              <a:lnSpc>
                <a:spcPct val="100000"/>
              </a:lnSpc>
              <a:buClr>
                <a:srgbClr val="3399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9900"/>
                </a:solidFill>
                <a:latin typeface="Arial"/>
              </a:rPr>
              <a:t>SIMD (Single Instruction Multiple Data):</a:t>
            </a:r>
            <a:r>
              <a:rPr b="0" lang="de-DE" sz="2400" spc="-1" strike="noStrike">
                <a:solidFill>
                  <a:srgbClr val="339966"/>
                </a:solidFill>
                <a:latin typeface="Arial"/>
              </a:rPr>
              <a:t>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le Prozessoren führen gleichzeitig </a:t>
            </a: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dieselben Befehle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f </a:t>
            </a: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verschiedenen Dat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aus (Array-Prozessore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305000" y="2719440"/>
            <a:ext cx="1476360" cy="332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Spe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771640" y="5705640"/>
            <a:ext cx="1495440" cy="0"/>
          </a:xfrm>
          <a:prstGeom prst="line">
            <a:avLst/>
          </a:prstGeom>
          <a:ln w="28440">
            <a:solidFill>
              <a:srgbClr val="3399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781000" y="2800440"/>
            <a:ext cx="1971720" cy="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91680" y="53514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9900"/>
                </a:solidFill>
                <a:latin typeface="Arial"/>
              </a:rPr>
              <a:t>D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11120" y="248436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cc"/>
                </a:solidFill>
                <a:latin typeface="Arial"/>
              </a:rPr>
              <a:t>Befeh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771640" y="4400640"/>
            <a:ext cx="1495440" cy="0"/>
          </a:xfrm>
          <a:prstGeom prst="line">
            <a:avLst/>
          </a:prstGeom>
          <a:ln w="28440">
            <a:solidFill>
              <a:srgbClr val="3399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2762280" y="3390840"/>
            <a:ext cx="1495440" cy="0"/>
          </a:xfrm>
          <a:prstGeom prst="line">
            <a:avLst/>
          </a:prstGeom>
          <a:ln w="28440">
            <a:solidFill>
              <a:srgbClr val="3399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91680" y="40654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9900"/>
                </a:solidFill>
                <a:latin typeface="Arial"/>
              </a:rPr>
              <a:t>D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91680" y="305604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9900"/>
                </a:solidFill>
                <a:latin typeface="Arial"/>
              </a:rPr>
              <a:t>D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4743360" y="2809800"/>
            <a:ext cx="0" cy="247680"/>
          </a:xfrm>
          <a:prstGeom prst="line">
            <a:avLst/>
          </a:prstGeom>
          <a:ln w="28440">
            <a:solidFill>
              <a:srgbClr val="0000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4743360" y="3685680"/>
            <a:ext cx="0" cy="352440"/>
          </a:xfrm>
          <a:prstGeom prst="line">
            <a:avLst/>
          </a:prstGeom>
          <a:ln w="28440">
            <a:solidFill>
              <a:srgbClr val="0000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4734000" y="5067360"/>
            <a:ext cx="0" cy="257040"/>
          </a:xfrm>
          <a:prstGeom prst="line">
            <a:avLst/>
          </a:prstGeom>
          <a:ln w="28440">
            <a:solidFill>
              <a:srgbClr val="0000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5315040"/>
            <a:ext cx="933480" cy="7239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CPU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67080" y="3033720"/>
            <a:ext cx="933480" cy="7239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CPU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276800" y="4005360"/>
            <a:ext cx="933480" cy="7239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CPU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75480" y="3000240"/>
            <a:ext cx="327744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ildverarbeitu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jedem Prozessor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ird ein Bildausschnitt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geord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714920" y="4797360"/>
            <a:ext cx="36360" cy="367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714920" y="4892760"/>
            <a:ext cx="36360" cy="363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714920" y="4987800"/>
            <a:ext cx="36360" cy="367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0099"/>
                </a:solidFill>
                <a:latin typeface="Arial"/>
              </a:rPr>
              <a:t>Forwarding Techniken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811080" y="1488960"/>
            <a:ext cx="73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ardware – Aufw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orwarding – Logik und zusätzliche Datenpf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1"/>
          <a:stretch/>
        </p:blipFill>
        <p:spPr>
          <a:xfrm>
            <a:off x="393840" y="3162240"/>
            <a:ext cx="822960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Ressourcenkonflikt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390600" y="1104840"/>
            <a:ext cx="8286840" cy="51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80880" y="19008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Ressourcenkonflikt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1"/>
          <a:stretch/>
        </p:blipFill>
        <p:spPr>
          <a:xfrm>
            <a:off x="404640" y="1100160"/>
            <a:ext cx="827748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8508960" cy="8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Ressourcenkonflikt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98400" y="1335240"/>
            <a:ext cx="779796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ZapfDingbats"/>
                <a:ea typeface="ZapfDingbats"/>
              </a:rPr>
              <a:t></a:t>
            </a:r>
            <a:r>
              <a:rPr b="1" lang="en-US" sz="28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9933"/>
                </a:solidFill>
                <a:latin typeface="Arial"/>
              </a:rPr>
              <a:t>Lösungen (Hardware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cc"/>
                </a:solidFill>
                <a:latin typeface="Arial"/>
              </a:rPr>
              <a:t>Arbitrierung mit Interlock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bitrierungslogik hält den Befehl, der d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nflikt verursacht - Verzögerung durc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erzyk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cc"/>
                </a:solidFill>
                <a:latin typeface="Arial"/>
              </a:rPr>
              <a:t>Übertaktu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 Ressource, die den Konflikt hervorruf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neller als die übrigen Pipeline-Stufen tak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cc"/>
                </a:solidFill>
                <a:latin typeface="Arial"/>
              </a:rPr>
              <a:t>Ressourcenreplizierung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vielfachu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r Ressourc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Steurungsskonflikt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89" name="" descr=""/>
          <p:cNvPicPr/>
          <p:nvPr/>
        </p:nvPicPr>
        <p:blipFill>
          <a:blip r:embed="rId1"/>
          <a:stretch/>
        </p:blipFill>
        <p:spPr>
          <a:xfrm>
            <a:off x="395280" y="1066680"/>
            <a:ext cx="8267760" cy="51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b"/>
                </a:solidFill>
                <a:latin typeface="Tahoma"/>
              </a:rPr>
              <a:t>Steuerflusskonflikte durch Verzweig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30120" y="2247840"/>
            <a:ext cx="344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1"/>
          <a:stretch/>
        </p:blipFill>
        <p:spPr>
          <a:xfrm>
            <a:off x="390600" y="1071720"/>
            <a:ext cx="825804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b"/>
                </a:solidFill>
                <a:latin typeface="Tahoma"/>
              </a:rPr>
              <a:t>Steuerflusskonflikte durch Verzweig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1"/>
          <a:stretch/>
        </p:blipFill>
        <p:spPr>
          <a:xfrm>
            <a:off x="390600" y="1085760"/>
            <a:ext cx="826776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b"/>
                </a:solidFill>
                <a:latin typeface="Tahoma"/>
              </a:rPr>
              <a:t>Steuerflusskonflikte durch Verzweig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1"/>
          <a:stretch/>
        </p:blipFill>
        <p:spPr>
          <a:xfrm>
            <a:off x="395280" y="1095480"/>
            <a:ext cx="826776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b"/>
                </a:solidFill>
                <a:latin typeface="Tahoma"/>
              </a:rPr>
              <a:t>Steuerflusskonflikte durch Verzweig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888920" y="5029200"/>
            <a:ext cx="165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Proz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399960" y="1104840"/>
            <a:ext cx="827748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b"/>
                </a:solidFill>
                <a:latin typeface="Tahoma"/>
              </a:rPr>
              <a:t>Steuerflusskonflikte durch Verzweig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08040" y="132084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1"/>
          <a:stretch/>
        </p:blipFill>
        <p:spPr>
          <a:xfrm>
            <a:off x="395280" y="1085760"/>
            <a:ext cx="827712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Strukturelle Maßnahm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9320" y="1301760"/>
            <a:ext cx="767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62120" indent="-285840">
              <a:lnSpc>
                <a:spcPct val="100000"/>
              </a:lnSpc>
              <a:buClr>
                <a:srgbClr val="3399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9900"/>
                </a:solidFill>
                <a:latin typeface="Arial"/>
              </a:rPr>
              <a:t>MIMD (Multiple Instruction Multiple Data):</a:t>
            </a:r>
            <a:r>
              <a:rPr b="0" lang="de-DE" sz="2400" spc="-1" strike="noStrike">
                <a:solidFill>
                  <a:srgbClr val="339966"/>
                </a:solidFill>
                <a:latin typeface="Arial"/>
              </a:rPr>
              <a:t>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le Prozessoren führen gleichzeitig </a:t>
            </a: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verschiedene</a:t>
            </a:r>
            <a:br>
              <a:rPr sz="2400"/>
            </a:b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Befehl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auf </a:t>
            </a: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verschiedenen Dat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a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771640" y="5886360"/>
            <a:ext cx="1495440" cy="0"/>
          </a:xfrm>
          <a:prstGeom prst="line">
            <a:avLst/>
          </a:prstGeom>
          <a:ln w="28440">
            <a:solidFill>
              <a:srgbClr val="3399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91680" y="55324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9900"/>
                </a:solidFill>
                <a:latin typeface="Arial"/>
              </a:rPr>
              <a:t>D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2771640" y="4572000"/>
            <a:ext cx="1495440" cy="0"/>
          </a:xfrm>
          <a:prstGeom prst="line">
            <a:avLst/>
          </a:prstGeom>
          <a:ln w="28440">
            <a:solidFill>
              <a:srgbClr val="3399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762280" y="3552840"/>
            <a:ext cx="1495440" cy="0"/>
          </a:xfrm>
          <a:prstGeom prst="line">
            <a:avLst/>
          </a:prstGeom>
          <a:ln w="28440">
            <a:solidFill>
              <a:srgbClr val="3399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91680" y="42372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9900"/>
                </a:solidFill>
                <a:latin typeface="Arial"/>
              </a:rPr>
              <a:t>D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91680" y="321804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9900"/>
                </a:solidFill>
                <a:latin typeface="Arial"/>
              </a:rPr>
              <a:t>D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267080" y="5315040"/>
            <a:ext cx="933480" cy="7239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CPU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267080" y="2919240"/>
            <a:ext cx="933480" cy="7239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CPU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267080" y="3948120"/>
            <a:ext cx="933480" cy="7239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CPU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2762280" y="5495760"/>
            <a:ext cx="1495440" cy="0"/>
          </a:xfrm>
          <a:prstGeom prst="line">
            <a:avLst/>
          </a:prstGeom>
          <a:ln w="28440">
            <a:solidFill>
              <a:srgbClr val="0000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82320" y="514188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cc"/>
                </a:solidFill>
                <a:latin typeface="Arial"/>
              </a:rPr>
              <a:t>Befeh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2771640" y="4143240"/>
            <a:ext cx="1495440" cy="0"/>
          </a:xfrm>
          <a:prstGeom prst="line">
            <a:avLst/>
          </a:prstGeom>
          <a:ln w="28440">
            <a:solidFill>
              <a:srgbClr val="0000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92040" y="378936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cc"/>
                </a:solidFill>
                <a:latin typeface="Arial"/>
              </a:rPr>
              <a:t>Befeh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2762280" y="3114720"/>
            <a:ext cx="1495440" cy="0"/>
          </a:xfrm>
          <a:prstGeom prst="line">
            <a:avLst/>
          </a:prstGeom>
          <a:ln w="28440">
            <a:solidFill>
              <a:srgbClr val="0000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82320" y="276084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cc"/>
                </a:solidFill>
                <a:latin typeface="Arial"/>
              </a:rPr>
              <a:t>Befeh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305000" y="2719440"/>
            <a:ext cx="1476360" cy="332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Spe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714920" y="4797360"/>
            <a:ext cx="36360" cy="367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714920" y="4950000"/>
            <a:ext cx="36360" cy="363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14920" y="5102280"/>
            <a:ext cx="36360" cy="363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05640" y="2990880"/>
            <a:ext cx="4572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ultiprozessor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ystem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BM 3084, Cray-2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b"/>
                </a:solidFill>
                <a:latin typeface="Tahoma"/>
              </a:rPr>
              <a:t>Steuerflusskonflikte durch Verzweig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05" name="" descr=""/>
          <p:cNvPicPr/>
          <p:nvPr/>
        </p:nvPicPr>
        <p:blipFill>
          <a:blip r:embed="rId1"/>
          <a:stretch/>
        </p:blipFill>
        <p:spPr>
          <a:xfrm>
            <a:off x="390600" y="1104840"/>
            <a:ext cx="8267760" cy="51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b"/>
                </a:solidFill>
                <a:latin typeface="Tahoma"/>
              </a:rPr>
              <a:t>Steuerflusskonflikte durch Verzweig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390600" y="1104840"/>
            <a:ext cx="8296200" cy="51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b"/>
                </a:solidFill>
                <a:latin typeface="Tahoma"/>
              </a:rPr>
              <a:t>Steuerflusskonflikte durch Verzweig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09" name="" descr=""/>
          <p:cNvPicPr/>
          <p:nvPr/>
        </p:nvPicPr>
        <p:blipFill>
          <a:blip r:embed="rId1"/>
          <a:stretch/>
        </p:blipFill>
        <p:spPr>
          <a:xfrm>
            <a:off x="390600" y="1128600"/>
            <a:ext cx="827712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13920" y="152280"/>
            <a:ext cx="844884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b"/>
                </a:solidFill>
                <a:latin typeface="Tahoma"/>
              </a:rPr>
              <a:t>Steuerflusskonflikte durch Verzweig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11" name="" descr=""/>
          <p:cNvPicPr/>
          <p:nvPr/>
        </p:nvPicPr>
        <p:blipFill>
          <a:blip r:embed="rId1"/>
          <a:stretch/>
        </p:blipFill>
        <p:spPr>
          <a:xfrm>
            <a:off x="404640" y="1119240"/>
            <a:ext cx="82584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99"/>
                </a:solidFill>
                <a:latin typeface="Arial"/>
              </a:rPr>
              <a:t>ENDE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Strukturelle Maßnahm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07160" y="1301760"/>
            <a:ext cx="8681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62120" indent="-285840">
              <a:lnSpc>
                <a:spcPct val="100000"/>
              </a:lnSpc>
              <a:buClr>
                <a:srgbClr val="3399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9900"/>
                </a:solidFill>
                <a:latin typeface="Arial"/>
              </a:rPr>
              <a:t>MISD (Multiple Instruction Single Data):</a:t>
            </a:r>
            <a:r>
              <a:rPr b="0" lang="de-DE" sz="2400" spc="-1" strike="noStrike">
                <a:solidFill>
                  <a:srgbClr val="339966"/>
                </a:solidFill>
                <a:latin typeface="Arial"/>
              </a:rPr>
              <a:t>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s wird nur ein Datenstrom bearbeitet. Bestimmt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führungseinheiten übernehmen die Ausführung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stimmter Teile einer Operation (Pipeline-Verarbeitung) </a:t>
            </a:r>
            <a:br>
              <a:rPr sz="2400"/>
            </a:b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arallelität auf Befehlsebene. </a:t>
            </a:r>
            <a:br>
              <a:rPr sz="2400"/>
            </a:b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Moderne“ Prozessoren: ab Intel 8028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Wäsche-Pipelining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04720" y="1362240"/>
            <a:ext cx="837252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 Wäsche-Vorgang kann in 4 Teilvorgänge unterteilt werd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hmutzige Wäsche in die Waschmaschi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asse Wäsche in den Trock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alten, Bügeln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leider in den Schr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Wäsche-Pipelining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43360" y="1332000"/>
            <a:ext cx="11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ufträ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22080" y="17827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22080" y="21160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22080" y="24876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420200" y="1193760"/>
            <a:ext cx="69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6:00     7:00        8:00       9:00      10:00     11:00     12:00    13:00     14: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22080" y="28400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46040" y="1708200"/>
            <a:ext cx="0" cy="160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525680" y="1596960"/>
            <a:ext cx="7080120" cy="4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603840" y="1546200"/>
            <a:ext cx="0" cy="101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655640" y="1784520"/>
            <a:ext cx="1409760" cy="412560"/>
            <a:chOff x="1655640" y="1784520"/>
            <a:chExt cx="1409760" cy="412560"/>
          </a:xfrm>
        </p:grpSpPr>
        <p:grpSp>
          <p:nvGrpSpPr>
            <p:cNvPr id="123" name=""/>
            <p:cNvGrpSpPr/>
            <p:nvPr/>
          </p:nvGrpSpPr>
          <p:grpSpPr>
            <a:xfrm>
              <a:off x="1655640" y="1864800"/>
              <a:ext cx="211320" cy="252360"/>
              <a:chOff x="1655640" y="1864800"/>
              <a:chExt cx="211320" cy="252360"/>
            </a:xfrm>
          </p:grpSpPr>
          <p:sp>
            <p:nvSpPr>
              <p:cNvPr id="124" name=""/>
              <p:cNvSpPr/>
              <p:nvPr/>
            </p:nvSpPr>
            <p:spPr>
              <a:xfrm>
                <a:off x="1655640" y="1864800"/>
                <a:ext cx="211320" cy="25236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657080" y="1866960"/>
                <a:ext cx="209520" cy="2952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689840" y="1935000"/>
                <a:ext cx="153720" cy="128160"/>
              </a:xfrm>
              <a:prstGeom prst="flowChartAlternateProcess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832760" y="1873440"/>
                <a:ext cx="16920" cy="1476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802880" y="1873440"/>
                <a:ext cx="18000" cy="1476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2754000" y="1784520"/>
              <a:ext cx="311400" cy="412560"/>
              <a:chOff x="2754000" y="1784520"/>
              <a:chExt cx="311400" cy="412560"/>
            </a:xfrm>
          </p:grpSpPr>
          <p:sp>
            <p:nvSpPr>
              <p:cNvPr id="130" name=""/>
              <p:cNvSpPr/>
              <p:nvPr/>
            </p:nvSpPr>
            <p:spPr>
              <a:xfrm>
                <a:off x="2754000" y="1784520"/>
                <a:ext cx="311400" cy="412560"/>
              </a:xfrm>
              <a:prstGeom prst="rect">
                <a:avLst/>
              </a:prstGeom>
              <a:solidFill>
                <a:srgbClr val="ffcc99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770920" y="1812240"/>
                <a:ext cx="130680" cy="36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914560" y="1812240"/>
                <a:ext cx="130680" cy="36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918880" y="1977120"/>
                <a:ext cx="16920" cy="14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878560" y="1977120"/>
                <a:ext cx="16920" cy="14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2023920" y="1864800"/>
              <a:ext cx="211320" cy="252360"/>
              <a:chOff x="2023920" y="1864800"/>
              <a:chExt cx="211320" cy="252360"/>
            </a:xfrm>
          </p:grpSpPr>
          <p:sp>
            <p:nvSpPr>
              <p:cNvPr id="136" name=""/>
              <p:cNvSpPr/>
              <p:nvPr/>
            </p:nvSpPr>
            <p:spPr>
              <a:xfrm>
                <a:off x="2023920" y="1864800"/>
                <a:ext cx="211320" cy="252360"/>
              </a:xfrm>
              <a:prstGeom prst="rect">
                <a:avLst/>
              </a:prstGeom>
              <a:solidFill>
                <a:srgbClr val="ffffe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025360" y="1866960"/>
                <a:ext cx="209520" cy="29520"/>
              </a:xfrm>
              <a:prstGeom prst="rect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058120" y="1935000"/>
                <a:ext cx="153720" cy="128160"/>
              </a:xfrm>
              <a:prstGeom prst="flowChartAlternateProcess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201040" y="1873440"/>
                <a:ext cx="16920" cy="14760"/>
              </a:xfrm>
              <a:prstGeom prst="ellipse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171160" y="1873440"/>
                <a:ext cx="18000" cy="14760"/>
              </a:xfrm>
              <a:prstGeom prst="ellipse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" name=""/>
            <p:cNvSpPr/>
            <p:nvPr/>
          </p:nvSpPr>
          <p:spPr>
            <a:xfrm>
              <a:off x="2405880" y="1900080"/>
              <a:ext cx="286200" cy="180720"/>
            </a:xfrm>
            <a:prstGeom prst="flowChartMultidocument">
              <a:avLst/>
            </a:prstGeom>
            <a:solidFill>
              <a:srgbClr val="ffe0b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3244680" y="2144880"/>
            <a:ext cx="1409760" cy="412560"/>
            <a:chOff x="3244680" y="2144880"/>
            <a:chExt cx="1409760" cy="412560"/>
          </a:xfrm>
        </p:grpSpPr>
        <p:grpSp>
          <p:nvGrpSpPr>
            <p:cNvPr id="143" name=""/>
            <p:cNvGrpSpPr/>
            <p:nvPr/>
          </p:nvGrpSpPr>
          <p:grpSpPr>
            <a:xfrm>
              <a:off x="3244680" y="2225160"/>
              <a:ext cx="211320" cy="252360"/>
              <a:chOff x="3244680" y="2225160"/>
              <a:chExt cx="211320" cy="252360"/>
            </a:xfrm>
          </p:grpSpPr>
          <p:sp>
            <p:nvSpPr>
              <p:cNvPr id="144" name=""/>
              <p:cNvSpPr/>
              <p:nvPr/>
            </p:nvSpPr>
            <p:spPr>
              <a:xfrm>
                <a:off x="3244680" y="2225160"/>
                <a:ext cx="211320" cy="25236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246120" y="2227320"/>
                <a:ext cx="209520" cy="2952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78880" y="2295360"/>
                <a:ext cx="153720" cy="128160"/>
              </a:xfrm>
              <a:prstGeom prst="flowChartAlternateProcess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421800" y="2233800"/>
                <a:ext cx="16920" cy="1476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391920" y="2233800"/>
                <a:ext cx="18000" cy="1476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4343040" y="2144880"/>
              <a:ext cx="311400" cy="412560"/>
              <a:chOff x="4343040" y="2144880"/>
              <a:chExt cx="311400" cy="412560"/>
            </a:xfrm>
          </p:grpSpPr>
          <p:sp>
            <p:nvSpPr>
              <p:cNvPr id="150" name=""/>
              <p:cNvSpPr/>
              <p:nvPr/>
            </p:nvSpPr>
            <p:spPr>
              <a:xfrm>
                <a:off x="4343040" y="2144880"/>
                <a:ext cx="311400" cy="412560"/>
              </a:xfrm>
              <a:prstGeom prst="rect">
                <a:avLst/>
              </a:prstGeom>
              <a:solidFill>
                <a:srgbClr val="ffcc99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359960" y="2172600"/>
                <a:ext cx="130680" cy="36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503600" y="2172600"/>
                <a:ext cx="130680" cy="36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507920" y="2337480"/>
                <a:ext cx="16920" cy="14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467600" y="2337480"/>
                <a:ext cx="16920" cy="14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3612960" y="2225160"/>
              <a:ext cx="211320" cy="252360"/>
              <a:chOff x="3612960" y="2225160"/>
              <a:chExt cx="211320" cy="252360"/>
            </a:xfrm>
          </p:grpSpPr>
          <p:sp>
            <p:nvSpPr>
              <p:cNvPr id="156" name=""/>
              <p:cNvSpPr/>
              <p:nvPr/>
            </p:nvSpPr>
            <p:spPr>
              <a:xfrm>
                <a:off x="3612960" y="2225160"/>
                <a:ext cx="211320" cy="252360"/>
              </a:xfrm>
              <a:prstGeom prst="rect">
                <a:avLst/>
              </a:prstGeom>
              <a:solidFill>
                <a:srgbClr val="ffffe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614400" y="2227320"/>
                <a:ext cx="209520" cy="29520"/>
              </a:xfrm>
              <a:prstGeom prst="rect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647160" y="2295360"/>
                <a:ext cx="153720" cy="128160"/>
              </a:xfrm>
              <a:prstGeom prst="flowChartAlternateProcess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790080" y="2233800"/>
                <a:ext cx="16920" cy="14760"/>
              </a:xfrm>
              <a:prstGeom prst="ellipse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760200" y="2233800"/>
                <a:ext cx="18000" cy="14760"/>
              </a:xfrm>
              <a:prstGeom prst="ellipse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3994920" y="2260440"/>
              <a:ext cx="286200" cy="180720"/>
            </a:xfrm>
            <a:prstGeom prst="flowChartMultidocument">
              <a:avLst/>
            </a:prstGeom>
            <a:solidFill>
              <a:srgbClr val="ffe0b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4879800" y="2502000"/>
            <a:ext cx="1407960" cy="412560"/>
            <a:chOff x="4879800" y="2502000"/>
            <a:chExt cx="1407960" cy="412560"/>
          </a:xfrm>
        </p:grpSpPr>
        <p:grpSp>
          <p:nvGrpSpPr>
            <p:cNvPr id="163" name=""/>
            <p:cNvGrpSpPr/>
            <p:nvPr/>
          </p:nvGrpSpPr>
          <p:grpSpPr>
            <a:xfrm>
              <a:off x="4879800" y="2582280"/>
              <a:ext cx="210960" cy="252360"/>
              <a:chOff x="4879800" y="2582280"/>
              <a:chExt cx="210960" cy="25236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9800" y="2582280"/>
                <a:ext cx="210960" cy="25236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881240" y="2584440"/>
                <a:ext cx="209160" cy="2952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913640" y="2652480"/>
                <a:ext cx="153360" cy="128160"/>
              </a:xfrm>
              <a:prstGeom prst="flowChartAlternateProcess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056560" y="2590920"/>
                <a:ext cx="16920" cy="1476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026680" y="2590920"/>
                <a:ext cx="18000" cy="1476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5976720" y="2502000"/>
              <a:ext cx="311040" cy="412560"/>
              <a:chOff x="5976720" y="2502000"/>
              <a:chExt cx="311040" cy="412560"/>
            </a:xfrm>
          </p:grpSpPr>
          <p:sp>
            <p:nvSpPr>
              <p:cNvPr id="170" name=""/>
              <p:cNvSpPr/>
              <p:nvPr/>
            </p:nvSpPr>
            <p:spPr>
              <a:xfrm>
                <a:off x="5976720" y="2502000"/>
                <a:ext cx="311040" cy="412560"/>
              </a:xfrm>
              <a:prstGeom prst="rect">
                <a:avLst/>
              </a:prstGeom>
              <a:solidFill>
                <a:srgbClr val="ffcc99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993640" y="2529720"/>
                <a:ext cx="130680" cy="36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136920" y="2529720"/>
                <a:ext cx="130680" cy="36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141600" y="2694600"/>
                <a:ext cx="16920" cy="14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100920" y="2694600"/>
                <a:ext cx="16920" cy="14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5247720" y="2582280"/>
              <a:ext cx="210960" cy="252360"/>
              <a:chOff x="5247720" y="2582280"/>
              <a:chExt cx="210960" cy="252360"/>
            </a:xfrm>
          </p:grpSpPr>
          <p:sp>
            <p:nvSpPr>
              <p:cNvPr id="176" name=""/>
              <p:cNvSpPr/>
              <p:nvPr/>
            </p:nvSpPr>
            <p:spPr>
              <a:xfrm>
                <a:off x="5247720" y="2582280"/>
                <a:ext cx="210960" cy="252360"/>
              </a:xfrm>
              <a:prstGeom prst="rect">
                <a:avLst/>
              </a:prstGeom>
              <a:solidFill>
                <a:srgbClr val="ffffe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249160" y="2584440"/>
                <a:ext cx="209160" cy="29520"/>
              </a:xfrm>
              <a:prstGeom prst="rect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281560" y="2652480"/>
                <a:ext cx="153360" cy="128160"/>
              </a:xfrm>
              <a:prstGeom prst="flowChartAlternateProcess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424480" y="2590920"/>
                <a:ext cx="16920" cy="14760"/>
              </a:xfrm>
              <a:prstGeom prst="ellipse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394600" y="2590920"/>
                <a:ext cx="18000" cy="14760"/>
              </a:xfrm>
              <a:prstGeom prst="ellipse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1" name=""/>
            <p:cNvSpPr/>
            <p:nvPr/>
          </p:nvSpPr>
          <p:spPr>
            <a:xfrm>
              <a:off x="5629320" y="2617560"/>
              <a:ext cx="285840" cy="180720"/>
            </a:xfrm>
            <a:prstGeom prst="flowChartMultidocument">
              <a:avLst/>
            </a:prstGeom>
            <a:solidFill>
              <a:srgbClr val="ffe0b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531120" y="2887560"/>
            <a:ext cx="1409040" cy="412920"/>
            <a:chOff x="6531120" y="2887560"/>
            <a:chExt cx="1409040" cy="412920"/>
          </a:xfrm>
        </p:grpSpPr>
        <p:grpSp>
          <p:nvGrpSpPr>
            <p:cNvPr id="183" name=""/>
            <p:cNvGrpSpPr/>
            <p:nvPr/>
          </p:nvGrpSpPr>
          <p:grpSpPr>
            <a:xfrm>
              <a:off x="6531120" y="2967840"/>
              <a:ext cx="211320" cy="252720"/>
              <a:chOff x="6531120" y="2967840"/>
              <a:chExt cx="211320" cy="252720"/>
            </a:xfrm>
          </p:grpSpPr>
          <p:sp>
            <p:nvSpPr>
              <p:cNvPr id="184" name=""/>
              <p:cNvSpPr/>
              <p:nvPr/>
            </p:nvSpPr>
            <p:spPr>
              <a:xfrm>
                <a:off x="6531120" y="2967840"/>
                <a:ext cx="211320" cy="25272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532560" y="2970000"/>
                <a:ext cx="209520" cy="2952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565320" y="3038400"/>
                <a:ext cx="153720" cy="128520"/>
              </a:xfrm>
              <a:prstGeom prst="flowChartAlternateProcess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708240" y="2976480"/>
                <a:ext cx="16920" cy="1476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678360" y="2976480"/>
                <a:ext cx="18000" cy="1476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7629120" y="2887560"/>
              <a:ext cx="311040" cy="412920"/>
              <a:chOff x="7629120" y="2887560"/>
              <a:chExt cx="311040" cy="412920"/>
            </a:xfrm>
          </p:grpSpPr>
          <p:sp>
            <p:nvSpPr>
              <p:cNvPr id="190" name=""/>
              <p:cNvSpPr/>
              <p:nvPr/>
            </p:nvSpPr>
            <p:spPr>
              <a:xfrm>
                <a:off x="7629120" y="2887560"/>
                <a:ext cx="311040" cy="412920"/>
              </a:xfrm>
              <a:prstGeom prst="rect">
                <a:avLst/>
              </a:prstGeom>
              <a:solidFill>
                <a:srgbClr val="ffcc99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646040" y="2915280"/>
                <a:ext cx="130680" cy="36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789320" y="2915280"/>
                <a:ext cx="130680" cy="36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7794000" y="3080520"/>
                <a:ext cx="16920" cy="14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753320" y="3080520"/>
                <a:ext cx="16920" cy="14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6899400" y="2967840"/>
              <a:ext cx="211320" cy="252720"/>
              <a:chOff x="6899400" y="2967840"/>
              <a:chExt cx="211320" cy="252720"/>
            </a:xfrm>
          </p:grpSpPr>
          <p:sp>
            <p:nvSpPr>
              <p:cNvPr id="196" name=""/>
              <p:cNvSpPr/>
              <p:nvPr/>
            </p:nvSpPr>
            <p:spPr>
              <a:xfrm>
                <a:off x="6899400" y="2967840"/>
                <a:ext cx="211320" cy="252720"/>
              </a:xfrm>
              <a:prstGeom prst="rect">
                <a:avLst/>
              </a:prstGeom>
              <a:solidFill>
                <a:srgbClr val="ffffe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900840" y="2970000"/>
                <a:ext cx="209520" cy="29520"/>
              </a:xfrm>
              <a:prstGeom prst="rect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933600" y="3038400"/>
                <a:ext cx="153720" cy="128520"/>
              </a:xfrm>
              <a:prstGeom prst="flowChartAlternateProcess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076520" y="2976480"/>
                <a:ext cx="16920" cy="14760"/>
              </a:xfrm>
              <a:prstGeom prst="ellipse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046640" y="2976480"/>
                <a:ext cx="18000" cy="14760"/>
              </a:xfrm>
              <a:prstGeom prst="ellipse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7281360" y="3003120"/>
              <a:ext cx="286200" cy="181080"/>
            </a:xfrm>
            <a:prstGeom prst="flowChartMultidocument">
              <a:avLst/>
            </a:prstGeom>
            <a:solidFill>
              <a:srgbClr val="ffe0b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7710480" y="1546200"/>
            <a:ext cx="0" cy="101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57360" y="1552680"/>
            <a:ext cx="407880" cy="889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62000" y="1552680"/>
            <a:ext cx="409680" cy="8892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367000" y="1552680"/>
            <a:ext cx="409680" cy="889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771640" y="1552680"/>
            <a:ext cx="409680" cy="88920"/>
          </a:xfrm>
          <a:prstGeom prst="rect">
            <a:avLst/>
          </a:prstGeom>
          <a:solidFill>
            <a:srgbClr val="cc986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182760" y="1552680"/>
            <a:ext cx="409680" cy="889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587760" y="1552680"/>
            <a:ext cx="409680" cy="8892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992400" y="1552680"/>
            <a:ext cx="409680" cy="889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397400" y="1552680"/>
            <a:ext cx="409680" cy="88920"/>
          </a:xfrm>
          <a:prstGeom prst="rect">
            <a:avLst/>
          </a:prstGeom>
          <a:solidFill>
            <a:srgbClr val="cc986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802040" y="1552680"/>
            <a:ext cx="409680" cy="889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208480" y="1552680"/>
            <a:ext cx="408240" cy="8892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613480" y="1552680"/>
            <a:ext cx="407880" cy="889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18120" y="1552680"/>
            <a:ext cx="409680" cy="88920"/>
          </a:xfrm>
          <a:prstGeom prst="rect">
            <a:avLst/>
          </a:prstGeom>
          <a:solidFill>
            <a:srgbClr val="cc986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23120" y="1552680"/>
            <a:ext cx="409320" cy="889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827760" y="1552680"/>
            <a:ext cx="409680" cy="8892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232760" y="1552680"/>
            <a:ext cx="409320" cy="889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637400" y="1552680"/>
            <a:ext cx="409680" cy="88920"/>
          </a:xfrm>
          <a:prstGeom prst="rect">
            <a:avLst/>
          </a:prstGeom>
          <a:solidFill>
            <a:srgbClr val="cc986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420920" y="4159080"/>
            <a:ext cx="0" cy="160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1598760" y="3671640"/>
            <a:ext cx="7003800" cy="4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728720" y="4149720"/>
            <a:ext cx="1409760" cy="412920"/>
            <a:chOff x="1728720" y="4149720"/>
            <a:chExt cx="1409760" cy="412920"/>
          </a:xfrm>
        </p:grpSpPr>
        <p:grpSp>
          <p:nvGrpSpPr>
            <p:cNvPr id="222" name=""/>
            <p:cNvGrpSpPr/>
            <p:nvPr/>
          </p:nvGrpSpPr>
          <p:grpSpPr>
            <a:xfrm>
              <a:off x="1728720" y="4230000"/>
              <a:ext cx="211320" cy="252720"/>
              <a:chOff x="1728720" y="4230000"/>
              <a:chExt cx="211320" cy="252720"/>
            </a:xfrm>
          </p:grpSpPr>
          <p:sp>
            <p:nvSpPr>
              <p:cNvPr id="223" name=""/>
              <p:cNvSpPr/>
              <p:nvPr/>
            </p:nvSpPr>
            <p:spPr>
              <a:xfrm>
                <a:off x="1728720" y="4230000"/>
                <a:ext cx="211320" cy="25272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730160" y="4232160"/>
                <a:ext cx="209520" cy="2952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762920" y="4300560"/>
                <a:ext cx="153720" cy="128520"/>
              </a:xfrm>
              <a:prstGeom prst="flowChartAlternateProcess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905840" y="4238640"/>
                <a:ext cx="16920" cy="1476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875960" y="4238640"/>
                <a:ext cx="18000" cy="1476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2827080" y="4149720"/>
              <a:ext cx="311400" cy="412920"/>
              <a:chOff x="2827080" y="4149720"/>
              <a:chExt cx="311400" cy="412920"/>
            </a:xfrm>
          </p:grpSpPr>
          <p:sp>
            <p:nvSpPr>
              <p:cNvPr id="229" name=""/>
              <p:cNvSpPr/>
              <p:nvPr/>
            </p:nvSpPr>
            <p:spPr>
              <a:xfrm>
                <a:off x="2827080" y="4149720"/>
                <a:ext cx="311400" cy="412920"/>
              </a:xfrm>
              <a:prstGeom prst="rect">
                <a:avLst/>
              </a:prstGeom>
              <a:solidFill>
                <a:srgbClr val="ffcc99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844000" y="4177440"/>
                <a:ext cx="130680" cy="36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987640" y="4177440"/>
                <a:ext cx="130680" cy="36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991960" y="4342680"/>
                <a:ext cx="16920" cy="14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951640" y="4342680"/>
                <a:ext cx="16920" cy="14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097000" y="4230000"/>
              <a:ext cx="211320" cy="252720"/>
              <a:chOff x="2097000" y="4230000"/>
              <a:chExt cx="211320" cy="252720"/>
            </a:xfrm>
          </p:grpSpPr>
          <p:sp>
            <p:nvSpPr>
              <p:cNvPr id="235" name=""/>
              <p:cNvSpPr/>
              <p:nvPr/>
            </p:nvSpPr>
            <p:spPr>
              <a:xfrm>
                <a:off x="2097000" y="4230000"/>
                <a:ext cx="211320" cy="252720"/>
              </a:xfrm>
              <a:prstGeom prst="rect">
                <a:avLst/>
              </a:prstGeom>
              <a:solidFill>
                <a:srgbClr val="ffffe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098440" y="4232160"/>
                <a:ext cx="209520" cy="29520"/>
              </a:xfrm>
              <a:prstGeom prst="rect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131200" y="4300560"/>
                <a:ext cx="153720" cy="128520"/>
              </a:xfrm>
              <a:prstGeom prst="flowChartAlternateProcess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274120" y="4238640"/>
                <a:ext cx="16920" cy="14760"/>
              </a:xfrm>
              <a:prstGeom prst="ellipse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244240" y="4238640"/>
                <a:ext cx="18000" cy="14760"/>
              </a:xfrm>
              <a:prstGeom prst="ellipse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0" name=""/>
            <p:cNvSpPr/>
            <p:nvPr/>
          </p:nvSpPr>
          <p:spPr>
            <a:xfrm>
              <a:off x="2478960" y="4265280"/>
              <a:ext cx="286200" cy="181080"/>
            </a:xfrm>
            <a:prstGeom prst="flowChartMultidocument">
              <a:avLst/>
            </a:prstGeom>
            <a:solidFill>
              <a:srgbClr val="ffe0b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2157480" y="4533840"/>
            <a:ext cx="1409760" cy="411120"/>
            <a:chOff x="2157480" y="4533840"/>
            <a:chExt cx="1409760" cy="411120"/>
          </a:xfrm>
        </p:grpSpPr>
        <p:grpSp>
          <p:nvGrpSpPr>
            <p:cNvPr id="242" name=""/>
            <p:cNvGrpSpPr/>
            <p:nvPr/>
          </p:nvGrpSpPr>
          <p:grpSpPr>
            <a:xfrm>
              <a:off x="2157480" y="4613760"/>
              <a:ext cx="211320" cy="251640"/>
              <a:chOff x="2157480" y="4613760"/>
              <a:chExt cx="211320" cy="251640"/>
            </a:xfrm>
          </p:grpSpPr>
          <p:sp>
            <p:nvSpPr>
              <p:cNvPr id="243" name=""/>
              <p:cNvSpPr/>
              <p:nvPr/>
            </p:nvSpPr>
            <p:spPr>
              <a:xfrm>
                <a:off x="2157480" y="4613760"/>
                <a:ext cx="211320" cy="25164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158920" y="4615920"/>
                <a:ext cx="209520" cy="2952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191680" y="4683960"/>
                <a:ext cx="153720" cy="127800"/>
              </a:xfrm>
              <a:prstGeom prst="flowChartAlternateProcess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334600" y="4622400"/>
                <a:ext cx="16920" cy="1476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304720" y="4622400"/>
                <a:ext cx="18000" cy="1476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3255840" y="4533840"/>
              <a:ext cx="311400" cy="411120"/>
              <a:chOff x="3255840" y="4533840"/>
              <a:chExt cx="311400" cy="411120"/>
            </a:xfrm>
          </p:grpSpPr>
          <p:sp>
            <p:nvSpPr>
              <p:cNvPr id="249" name=""/>
              <p:cNvSpPr/>
              <p:nvPr/>
            </p:nvSpPr>
            <p:spPr>
              <a:xfrm>
                <a:off x="3255840" y="4533840"/>
                <a:ext cx="311400" cy="411120"/>
              </a:xfrm>
              <a:prstGeom prst="rect">
                <a:avLst/>
              </a:prstGeom>
              <a:solidFill>
                <a:srgbClr val="ffcc99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272760" y="4561560"/>
                <a:ext cx="130680" cy="368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416400" y="4561560"/>
                <a:ext cx="130680" cy="368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420720" y="4725720"/>
                <a:ext cx="16920" cy="14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380400" y="4725720"/>
                <a:ext cx="16920" cy="14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2525760" y="4613760"/>
              <a:ext cx="211320" cy="251640"/>
              <a:chOff x="2525760" y="4613760"/>
              <a:chExt cx="211320" cy="251640"/>
            </a:xfrm>
          </p:grpSpPr>
          <p:sp>
            <p:nvSpPr>
              <p:cNvPr id="255" name=""/>
              <p:cNvSpPr/>
              <p:nvPr/>
            </p:nvSpPr>
            <p:spPr>
              <a:xfrm>
                <a:off x="2525760" y="4613760"/>
                <a:ext cx="211320" cy="251640"/>
              </a:xfrm>
              <a:prstGeom prst="rect">
                <a:avLst/>
              </a:prstGeom>
              <a:solidFill>
                <a:srgbClr val="ffffe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527200" y="4615920"/>
                <a:ext cx="209520" cy="29520"/>
              </a:xfrm>
              <a:prstGeom prst="rect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559960" y="4683960"/>
                <a:ext cx="153720" cy="127800"/>
              </a:xfrm>
              <a:prstGeom prst="flowChartAlternateProcess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702880" y="4622400"/>
                <a:ext cx="16920" cy="14760"/>
              </a:xfrm>
              <a:prstGeom prst="ellipse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673000" y="4622400"/>
                <a:ext cx="18000" cy="14760"/>
              </a:xfrm>
              <a:prstGeom prst="ellipse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2907720" y="4649040"/>
              <a:ext cx="286200" cy="180360"/>
            </a:xfrm>
            <a:prstGeom prst="flowChartMultidocument">
              <a:avLst/>
            </a:prstGeom>
            <a:solidFill>
              <a:srgbClr val="ffe0b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2583000" y="4937040"/>
            <a:ext cx="1409040" cy="412920"/>
            <a:chOff x="2583000" y="4937040"/>
            <a:chExt cx="1409040" cy="412920"/>
          </a:xfrm>
        </p:grpSpPr>
        <p:grpSp>
          <p:nvGrpSpPr>
            <p:cNvPr id="262" name=""/>
            <p:cNvGrpSpPr/>
            <p:nvPr/>
          </p:nvGrpSpPr>
          <p:grpSpPr>
            <a:xfrm>
              <a:off x="2583000" y="5017320"/>
              <a:ext cx="211320" cy="252720"/>
              <a:chOff x="2583000" y="5017320"/>
              <a:chExt cx="211320" cy="252720"/>
            </a:xfrm>
          </p:grpSpPr>
          <p:sp>
            <p:nvSpPr>
              <p:cNvPr id="263" name=""/>
              <p:cNvSpPr/>
              <p:nvPr/>
            </p:nvSpPr>
            <p:spPr>
              <a:xfrm>
                <a:off x="2583000" y="5017320"/>
                <a:ext cx="211320" cy="25272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584440" y="5019480"/>
                <a:ext cx="209520" cy="2952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617200" y="5087880"/>
                <a:ext cx="153720" cy="128520"/>
              </a:xfrm>
              <a:prstGeom prst="flowChartAlternateProcess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760120" y="5025960"/>
                <a:ext cx="16920" cy="1476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730240" y="5025960"/>
                <a:ext cx="18000" cy="1476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3681000" y="4937040"/>
              <a:ext cx="311040" cy="412920"/>
              <a:chOff x="3681000" y="4937040"/>
              <a:chExt cx="311040" cy="412920"/>
            </a:xfrm>
          </p:grpSpPr>
          <p:sp>
            <p:nvSpPr>
              <p:cNvPr id="269" name=""/>
              <p:cNvSpPr/>
              <p:nvPr/>
            </p:nvSpPr>
            <p:spPr>
              <a:xfrm>
                <a:off x="3681000" y="4937040"/>
                <a:ext cx="311040" cy="412920"/>
              </a:xfrm>
              <a:prstGeom prst="rect">
                <a:avLst/>
              </a:prstGeom>
              <a:solidFill>
                <a:srgbClr val="ffcc99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697920" y="4964760"/>
                <a:ext cx="130680" cy="36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841200" y="4964760"/>
                <a:ext cx="130680" cy="36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845880" y="5130000"/>
                <a:ext cx="16920" cy="14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805200" y="5130000"/>
                <a:ext cx="16920" cy="14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2951280" y="5017320"/>
              <a:ext cx="211320" cy="252720"/>
              <a:chOff x="2951280" y="5017320"/>
              <a:chExt cx="211320" cy="252720"/>
            </a:xfrm>
          </p:grpSpPr>
          <p:sp>
            <p:nvSpPr>
              <p:cNvPr id="275" name=""/>
              <p:cNvSpPr/>
              <p:nvPr/>
            </p:nvSpPr>
            <p:spPr>
              <a:xfrm>
                <a:off x="2951280" y="5017320"/>
                <a:ext cx="211320" cy="252720"/>
              </a:xfrm>
              <a:prstGeom prst="rect">
                <a:avLst/>
              </a:prstGeom>
              <a:solidFill>
                <a:srgbClr val="ffffe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952720" y="5019480"/>
                <a:ext cx="209520" cy="29520"/>
              </a:xfrm>
              <a:prstGeom prst="rect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985480" y="5087880"/>
                <a:ext cx="153720" cy="128520"/>
              </a:xfrm>
              <a:prstGeom prst="flowChartAlternateProcess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128400" y="5025960"/>
                <a:ext cx="16920" cy="14760"/>
              </a:xfrm>
              <a:prstGeom prst="ellipse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98520" y="5025960"/>
                <a:ext cx="18000" cy="14760"/>
              </a:xfrm>
              <a:prstGeom prst="ellipse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3333240" y="5052600"/>
              <a:ext cx="286200" cy="181080"/>
            </a:xfrm>
            <a:prstGeom prst="flowChartMultidocument">
              <a:avLst/>
            </a:prstGeom>
            <a:solidFill>
              <a:srgbClr val="ffe0b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1419120" y="3360600"/>
            <a:ext cx="70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6:00      7:00        8:00       9:00      10:00     11:00      12:00    13:00     14: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2948040" y="5338800"/>
            <a:ext cx="1407960" cy="412560"/>
            <a:chOff x="2948040" y="5338800"/>
            <a:chExt cx="1407960" cy="412560"/>
          </a:xfrm>
        </p:grpSpPr>
        <p:grpSp>
          <p:nvGrpSpPr>
            <p:cNvPr id="283" name=""/>
            <p:cNvGrpSpPr/>
            <p:nvPr/>
          </p:nvGrpSpPr>
          <p:grpSpPr>
            <a:xfrm>
              <a:off x="2948040" y="5419080"/>
              <a:ext cx="210960" cy="252360"/>
              <a:chOff x="2948040" y="5419080"/>
              <a:chExt cx="210960" cy="252360"/>
            </a:xfrm>
          </p:grpSpPr>
          <p:sp>
            <p:nvSpPr>
              <p:cNvPr id="284" name=""/>
              <p:cNvSpPr/>
              <p:nvPr/>
            </p:nvSpPr>
            <p:spPr>
              <a:xfrm>
                <a:off x="2948040" y="5419080"/>
                <a:ext cx="210960" cy="25236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949480" y="5421240"/>
                <a:ext cx="209160" cy="2952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981880" y="5489280"/>
                <a:ext cx="153360" cy="128160"/>
              </a:xfrm>
              <a:prstGeom prst="flowChartAlternateProcess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124800" y="5427720"/>
                <a:ext cx="16920" cy="1476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094920" y="5427720"/>
                <a:ext cx="18000" cy="1476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4044960" y="5338800"/>
              <a:ext cx="311040" cy="412560"/>
              <a:chOff x="4044960" y="5338800"/>
              <a:chExt cx="311040" cy="412560"/>
            </a:xfrm>
          </p:grpSpPr>
          <p:sp>
            <p:nvSpPr>
              <p:cNvPr id="290" name=""/>
              <p:cNvSpPr/>
              <p:nvPr/>
            </p:nvSpPr>
            <p:spPr>
              <a:xfrm>
                <a:off x="4044960" y="5338800"/>
                <a:ext cx="311040" cy="412560"/>
              </a:xfrm>
              <a:prstGeom prst="rect">
                <a:avLst/>
              </a:prstGeom>
              <a:solidFill>
                <a:srgbClr val="ffcc99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061880" y="5366520"/>
                <a:ext cx="130680" cy="36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205160" y="5366520"/>
                <a:ext cx="130680" cy="36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209840" y="5531400"/>
                <a:ext cx="16920" cy="14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169160" y="5531400"/>
                <a:ext cx="16920" cy="14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3315960" y="5419080"/>
              <a:ext cx="210960" cy="252360"/>
              <a:chOff x="3315960" y="5419080"/>
              <a:chExt cx="210960" cy="252360"/>
            </a:xfrm>
          </p:grpSpPr>
          <p:sp>
            <p:nvSpPr>
              <p:cNvPr id="296" name=""/>
              <p:cNvSpPr/>
              <p:nvPr/>
            </p:nvSpPr>
            <p:spPr>
              <a:xfrm>
                <a:off x="3315960" y="5419080"/>
                <a:ext cx="210960" cy="252360"/>
              </a:xfrm>
              <a:prstGeom prst="rect">
                <a:avLst/>
              </a:prstGeom>
              <a:solidFill>
                <a:srgbClr val="ffffe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317400" y="5421240"/>
                <a:ext cx="209160" cy="29520"/>
              </a:xfrm>
              <a:prstGeom prst="rect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349800" y="5489280"/>
                <a:ext cx="153360" cy="128160"/>
              </a:xfrm>
              <a:prstGeom prst="flowChartAlternateProcess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492720" y="5427720"/>
                <a:ext cx="16920" cy="14760"/>
              </a:xfrm>
              <a:prstGeom prst="ellipse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462840" y="5427720"/>
                <a:ext cx="18000" cy="14760"/>
              </a:xfrm>
              <a:prstGeom prst="ellipse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3697560" y="5454360"/>
              <a:ext cx="285840" cy="180720"/>
            </a:xfrm>
            <a:prstGeom prst="flowChartMultidocument">
              <a:avLst/>
            </a:prstGeom>
            <a:solidFill>
              <a:srgbClr val="ffe0b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1630440" y="3679920"/>
            <a:ext cx="1616040" cy="810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468520" y="3836880"/>
            <a:ext cx="1590840" cy="795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832120" y="3914640"/>
            <a:ext cx="1592280" cy="81000"/>
          </a:xfrm>
          <a:prstGeom prst="rect">
            <a:avLst/>
          </a:prstGeom>
          <a:solidFill>
            <a:srgbClr val="cc986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182760" y="1558800"/>
            <a:ext cx="0" cy="157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800600" y="1558800"/>
            <a:ext cx="0" cy="157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426360" y="1566720"/>
            <a:ext cx="0" cy="157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557360" y="1558800"/>
            <a:ext cx="0" cy="157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247920" y="3646440"/>
            <a:ext cx="0" cy="157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865760" y="3646440"/>
            <a:ext cx="0" cy="157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491160" y="3654360"/>
            <a:ext cx="0" cy="157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22520" y="3646440"/>
            <a:ext cx="0" cy="157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051760" y="1558800"/>
            <a:ext cx="0" cy="157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124840" y="3624120"/>
            <a:ext cx="0" cy="157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046240" y="3757680"/>
            <a:ext cx="1592280" cy="81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22240" y="41162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22240" y="44496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22240" y="48211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22240" y="51735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99"/>
                </a:solidFill>
                <a:latin typeface="Arial"/>
              </a:rPr>
              <a:t>Pipeline-</a:t>
            </a: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Verarbeitung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36240" y="1160640"/>
            <a:ext cx="77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führung von 3 gleichartigen Verarbeitungsaufträgen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 4  Teilverarbeitungsschrit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286000" y="3146400"/>
            <a:ext cx="215280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2817720" y="3056040"/>
            <a:ext cx="0" cy="18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2278080" y="3056040"/>
            <a:ext cx="0" cy="18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3357720" y="3056040"/>
            <a:ext cx="0" cy="18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3897360" y="3056040"/>
            <a:ext cx="0" cy="18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4435560" y="2966760"/>
            <a:ext cx="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92760" y="2133720"/>
            <a:ext cx="333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erielle Verarbeitu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438800" y="3146400"/>
            <a:ext cx="2152440" cy="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4970520" y="3056040"/>
            <a:ext cx="0" cy="18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510160" y="3056040"/>
            <a:ext cx="0" cy="18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6049800" y="3056040"/>
            <a:ext cx="0" cy="18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6588000" y="2966760"/>
            <a:ext cx="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600960" y="3147840"/>
            <a:ext cx="2152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7132680" y="305712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7672320" y="305712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8211960" y="305712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8748720" y="3057480"/>
            <a:ext cx="0" cy="17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920680" y="3255840"/>
            <a:ext cx="10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Arial"/>
              </a:rPr>
              <a:t>Auftrag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892400" y="3255840"/>
            <a:ext cx="10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cc00"/>
                </a:solidFill>
                <a:latin typeface="Arial"/>
              </a:rPr>
              <a:t>Auftrag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111800" y="3255840"/>
            <a:ext cx="10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Arial"/>
              </a:rPr>
              <a:t>Auftrag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325600" y="2803680"/>
            <a:ext cx="191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659640" y="2803680"/>
            <a:ext cx="191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25920" y="2803680"/>
            <a:ext cx="191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44880" y="385776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ipeline-Verarbeitu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209680" y="4803840"/>
            <a:ext cx="215280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2741760" y="471276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2201760" y="471276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3281400" y="471276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3821040" y="471276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267000" y="5767560"/>
            <a:ext cx="2152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3798720" y="567648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4338720" y="567648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4878360" y="567648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5415120" y="5676840"/>
            <a:ext cx="0" cy="17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130040" y="4646520"/>
            <a:ext cx="10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Arial"/>
              </a:rPr>
              <a:t>Auftrag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911240" y="561816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Arial"/>
              </a:rPr>
              <a:t>Auftrag 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249640" y="4460760"/>
            <a:ext cx="191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325680" y="5423040"/>
            <a:ext cx="191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33840" y="5261040"/>
            <a:ext cx="2152440" cy="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3265560" y="516996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3805200" y="516996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4344840" y="516996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663560" y="5122800"/>
            <a:ext cx="10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cc00"/>
                </a:solidFill>
                <a:latin typeface="Arial"/>
              </a:rPr>
              <a:t>Auftrag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849760" y="4937040"/>
            <a:ext cx="191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2735280" y="516996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4888080" y="516996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4354560" y="471276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3268800" y="5675400"/>
            <a:ext cx="0" cy="18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6T11:54:09Z</dcterms:created>
  <dc:creator>Mladen Milushev</dc:creator>
  <dc:description/>
  <dc:language>en-US</dc:language>
  <cp:lastModifiedBy>Mladen Milushev</cp:lastModifiedBy>
  <cp:lastPrinted>2000-05-02T16:11:13Z</cp:lastPrinted>
  <dcterms:modified xsi:type="dcterms:W3CDTF">2005-11-15T13:21:20Z</dcterms:modified>
  <cp:revision>819</cp:revision>
  <dc:subject/>
  <dc:title>ti2-vl6</dc:title>
</cp:coreProperties>
</file>