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05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6324480"/>
            <a:ext cx="68724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stitut für Prozessrechentechnik, Automation und Roboti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f. rer.nat. U. Brinkschul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371520" y="6400800"/>
          <a:ext cx="360360" cy="360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1520" y="6400800"/>
                    <a:ext cx="3603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"/>
          <p:cNvSpPr/>
          <p:nvPr/>
        </p:nvSpPr>
        <p:spPr>
          <a:xfrm>
            <a:off x="8305920" y="64008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F63FF-B15D-4712-BAEE-FE94BA34605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990720"/>
            <a:ext cx="8305920" cy="75960"/>
          </a:xfrm>
          <a:prstGeom prst="rect">
            <a:avLst/>
          </a:prstGeom>
          <a:gradFill rotWithShape="0">
            <a:gsLst>
              <a:gs pos="0">
                <a:srgbClr val="d5ffd5"/>
              </a:gs>
              <a:gs pos="50000">
                <a:srgbClr val="336600"/>
              </a:gs>
              <a:gs pos="100000">
                <a:srgbClr val="d5ffd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248520"/>
            <a:ext cx="8305920" cy="7596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50000">
                <a:srgbClr val="d5ffd5"/>
              </a:gs>
              <a:gs pos="100000">
                <a:srgbClr val="33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Zeitverhalten der Systembussignal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4880" y="1962000"/>
            <a:ext cx="633420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ynchroner Systembus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emi-synchroner Systembus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synchroner Systemb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Semi-synchroner Systembu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01760" y="1122480"/>
            <a:ext cx="8372520" cy="48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Bus ist immer noch synchron (streng am Takt orientiert),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 Dauer eines Buszyklus ist jedoch nicht mehr fest,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sondern in Vielfachen von Taktzyklen variier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ff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sz="2400" spc="-1" strike="noStrike">
                <a:solidFill>
                  <a:srgbClr val="0000ff"/>
                </a:solidFill>
                <a:latin typeface="Arial"/>
              </a:rPr>
              <a:t>semi-synchroner System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höherer Steueraufwand als synchroner Systemb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Zeitverhalten ist auf verschieden schnelle Bausteine anpass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Sind nur ausreichend schnelle Bausteine im System,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kann READY z.B. fest auf 0 gelegt werden. Anderenfalls kann dieses Signal durch eine geeignete Verzögerungsschaltung (z.B. Monoflop) erzeugt 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560600" y="4759200"/>
            <a:ext cx="963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4791240" y="3076560"/>
            <a:ext cx="1974600" cy="279360"/>
          </a:xfrm>
          <a:custGeom>
            <a:avLst/>
            <a:gdLst/>
            <a:ahLst/>
            <a:rect l="l" t="t" r="r" b="b"/>
            <a:pathLst>
              <a:path w="1244" h="176">
                <a:moveTo>
                  <a:pt x="0" y="176"/>
                </a:moveTo>
                <a:lnTo>
                  <a:pt x="84" y="0"/>
                </a:lnTo>
                <a:lnTo>
                  <a:pt x="1244" y="2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314280" y="5798520"/>
            <a:ext cx="1541520" cy="258840"/>
          </a:xfrm>
          <a:custGeom>
            <a:avLst/>
            <a:gdLst>
              <a:gd name="textAreaLeft" fmla="*/ 237240 w 1541520"/>
              <a:gd name="textAreaRight" fmla="*/ 1304280 w 1541520"/>
              <a:gd name="textAreaTop" fmla="*/ 39600 h 258840"/>
              <a:gd name="textAreaBottom" fmla="*/ 219240 h 25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761" y="21600"/>
                </a:lnTo>
                <a:lnTo>
                  <a:pt x="2839" y="216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248440" y="5762520"/>
            <a:ext cx="1974600" cy="279360"/>
          </a:xfrm>
          <a:custGeom>
            <a:avLst/>
            <a:gdLst/>
            <a:ahLst/>
            <a:rect l="l" t="t" r="r" b="b"/>
            <a:pathLst>
              <a:path w="1244" h="176">
                <a:moveTo>
                  <a:pt x="0" y="176"/>
                </a:moveTo>
                <a:lnTo>
                  <a:pt x="84" y="0"/>
                </a:lnTo>
                <a:lnTo>
                  <a:pt x="1244" y="2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444920" y="2552760"/>
            <a:ext cx="1974960" cy="279360"/>
          </a:xfrm>
          <a:custGeom>
            <a:avLst/>
            <a:gdLst/>
            <a:ahLst/>
            <a:rect l="l" t="t" r="r" b="b"/>
            <a:pathLst>
              <a:path w="1244" h="176">
                <a:moveTo>
                  <a:pt x="0" y="176"/>
                </a:moveTo>
                <a:lnTo>
                  <a:pt x="84" y="0"/>
                </a:lnTo>
                <a:lnTo>
                  <a:pt x="1244" y="2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Asynchroner Systembu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87280" y="1927080"/>
            <a:ext cx="1476360" cy="260640"/>
          </a:xfrm>
          <a:prstGeom prst="hexagon">
            <a:avLst>
              <a:gd name="adj" fmla="val 41119"/>
              <a:gd name="vf" fmla="val 115470"/>
            </a:avLst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771560" y="1927080"/>
            <a:ext cx="3810240" cy="260640"/>
          </a:xfrm>
          <a:prstGeom prst="hexagon">
            <a:avLst>
              <a:gd name="adj" fmla="val 48729"/>
              <a:gd name="vf" fmla="val 11547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565600" y="1927080"/>
            <a:ext cx="1476720" cy="260640"/>
          </a:xfrm>
          <a:prstGeom prst="hexagon">
            <a:avLst>
              <a:gd name="adj" fmla="val 41129"/>
              <a:gd name="vf" fmla="val 115470"/>
            </a:avLst>
          </a:pr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52360" y="3902040"/>
            <a:ext cx="1476360" cy="257040"/>
          </a:xfrm>
          <a:prstGeom prst="hexagon">
            <a:avLst>
              <a:gd name="adj" fmla="val 41695"/>
              <a:gd name="vf" fmla="val 115470"/>
            </a:avLst>
          </a:prstGeom>
          <a:blipFill rotWithShape="0">
            <a:blip r:embed="rId4"/>
            <a:srcRect/>
            <a:tile tx="0" ty="0" sx="100000" sy="100000" algn="ctr"/>
          </a:blipFill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830680" y="3902040"/>
            <a:ext cx="2087280" cy="257040"/>
          </a:xfrm>
          <a:prstGeom prst="hexagon">
            <a:avLst>
              <a:gd name="adj" fmla="val 58948"/>
              <a:gd name="vf" fmla="val 115470"/>
            </a:avLst>
          </a:prstGeom>
          <a:solidFill>
            <a:srgbClr val="ffffff"/>
          </a:solidFill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722600" y="4030560"/>
            <a:ext cx="1122120" cy="0"/>
          </a:xfrm>
          <a:prstGeom prst="line">
            <a:avLst/>
          </a:prstGeom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900680" y="4030560"/>
            <a:ext cx="1527120" cy="0"/>
          </a:xfrm>
          <a:prstGeom prst="line">
            <a:avLst/>
          </a:prstGeom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16000" y="4441680"/>
            <a:ext cx="1541520" cy="260640"/>
          </a:xfrm>
          <a:custGeom>
            <a:avLst/>
            <a:gdLst>
              <a:gd name="textAreaLeft" fmla="*/ 237240 w 1541520"/>
              <a:gd name="textAreaRight" fmla="*/ 1304280 w 1541520"/>
              <a:gd name="textAreaTop" fmla="*/ 39960 h 260640"/>
              <a:gd name="textAreaBottom" fmla="*/ 220680 h 260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761" y="21600"/>
                </a:lnTo>
                <a:lnTo>
                  <a:pt x="2839" y="216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275440" y="4441680"/>
            <a:ext cx="1538280" cy="260640"/>
          </a:xfrm>
          <a:custGeom>
            <a:avLst/>
            <a:gdLst>
              <a:gd name="textAreaLeft" fmla="*/ 227880 w 1538280"/>
              <a:gd name="textAreaRight" fmla="*/ 1310400 w 1538280"/>
              <a:gd name="textAreaTop" fmla="*/ 38520 h 260640"/>
              <a:gd name="textAreaBottom" fmla="*/ 222120 h 260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984" y="21600"/>
                </a:lnTo>
                <a:lnTo>
                  <a:pt x="2616" y="2160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776240" y="4441680"/>
            <a:ext cx="3822840" cy="0"/>
          </a:xfrm>
          <a:prstGeom prst="line">
            <a:avLst/>
          </a:prstGeom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25480" y="5457960"/>
            <a:ext cx="23544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407200" y="5457960"/>
            <a:ext cx="10047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844640" y="6062760"/>
            <a:ext cx="33829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22400" y="1744560"/>
            <a:ext cx="747720" cy="441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348240" y="1766880"/>
            <a:ext cx="1079640" cy="440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508040" y="1285920"/>
            <a:ext cx="0" cy="482904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487680" y="1849320"/>
            <a:ext cx="9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dre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389400" y="3838680"/>
            <a:ext cx="8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8800" y="358452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cc99"/>
                </a:solidFill>
                <a:latin typeface="Times New Roman"/>
              </a:rPr>
              <a:t>Les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91960" y="5030640"/>
            <a:ext cx="12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Times New Roman"/>
              </a:rPr>
              <a:t>Schreib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348240" y="12668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ak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348240" y="3819600"/>
            <a:ext cx="133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,..., D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6348240" y="5753160"/>
            <a:ext cx="801360" cy="368280"/>
            <a:chOff x="6348240" y="5753160"/>
            <a:chExt cx="801360" cy="368280"/>
          </a:xfrm>
        </p:grpSpPr>
        <p:sp>
          <p:nvSpPr>
            <p:cNvPr id="298" name=""/>
            <p:cNvSpPr/>
            <p:nvPr/>
          </p:nvSpPr>
          <p:spPr>
            <a:xfrm>
              <a:off x="6348240" y="5753160"/>
              <a:ext cx="80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0000"/>
                  </a:solidFill>
                  <a:latin typeface="Times New Roman"/>
                </a:rPr>
                <a:t>R/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6668280" y="581040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6348240" y="5265720"/>
            <a:ext cx="134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,..., D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348240" y="4410000"/>
            <a:ext cx="8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cc99"/>
                </a:solidFill>
                <a:latin typeface="Times New Roman"/>
              </a:rPr>
              <a:t>R/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6678360" y="445788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756400" y="1595520"/>
            <a:ext cx="409320" cy="3240"/>
          </a:xfrm>
          <a:custGeom>
            <a:avLst/>
            <a:gdLst/>
            <a:ahLst/>
            <a:rect l="l" t="t" r="r" b="b"/>
            <a:pathLst>
              <a:path w="258" h="2">
                <a:moveTo>
                  <a:pt x="0" y="2"/>
                </a:moveTo>
                <a:lnTo>
                  <a:pt x="25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122480" y="1306440"/>
            <a:ext cx="981000" cy="292320"/>
          </a:xfrm>
          <a:custGeom>
            <a:avLst/>
            <a:gdLst/>
            <a:ahLst/>
            <a:rect l="l" t="t" r="r" b="b"/>
            <a:pathLst>
              <a:path w="769" h="184">
                <a:moveTo>
                  <a:pt x="0" y="184"/>
                </a:moveTo>
                <a:lnTo>
                  <a:pt x="321" y="182"/>
                </a:lnTo>
                <a:lnTo>
                  <a:pt x="373" y="0"/>
                </a:lnTo>
                <a:lnTo>
                  <a:pt x="675" y="0"/>
                </a:lnTo>
                <a:lnTo>
                  <a:pt x="726" y="177"/>
                </a:lnTo>
                <a:lnTo>
                  <a:pt x="769" y="177"/>
                </a:ln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02000" y="1317600"/>
            <a:ext cx="504720" cy="281160"/>
          </a:xfrm>
          <a:custGeom>
            <a:avLst/>
            <a:gdLst/>
            <a:ahLst/>
            <a:rect l="l" t="t" r="r" b="b"/>
            <a:pathLst>
              <a:path w="470" h="177">
                <a:moveTo>
                  <a:pt x="0" y="0"/>
                </a:moveTo>
                <a:lnTo>
                  <a:pt x="358" y="0"/>
                </a:lnTo>
                <a:lnTo>
                  <a:pt x="419" y="177"/>
                </a:lnTo>
                <a:lnTo>
                  <a:pt x="470" y="177"/>
                </a:ln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965320" y="1306440"/>
            <a:ext cx="981360" cy="292320"/>
          </a:xfrm>
          <a:custGeom>
            <a:avLst/>
            <a:gdLst/>
            <a:ahLst/>
            <a:rect l="l" t="t" r="r" b="b"/>
            <a:pathLst>
              <a:path w="769" h="184">
                <a:moveTo>
                  <a:pt x="0" y="184"/>
                </a:moveTo>
                <a:lnTo>
                  <a:pt x="321" y="182"/>
                </a:lnTo>
                <a:lnTo>
                  <a:pt x="373" y="0"/>
                </a:lnTo>
                <a:lnTo>
                  <a:pt x="675" y="0"/>
                </a:lnTo>
                <a:lnTo>
                  <a:pt x="726" y="177"/>
                </a:lnTo>
                <a:lnTo>
                  <a:pt x="769" y="177"/>
                </a:ln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3879720" y="1316880"/>
            <a:ext cx="505080" cy="281160"/>
          </a:xfrm>
          <a:custGeom>
            <a:avLst/>
            <a:gdLst/>
            <a:ahLst/>
            <a:rect l="l" t="t" r="r" b="b"/>
            <a:pathLst>
              <a:path w="470" h="177">
                <a:moveTo>
                  <a:pt x="0" y="0"/>
                </a:moveTo>
                <a:lnTo>
                  <a:pt x="358" y="0"/>
                </a:lnTo>
                <a:lnTo>
                  <a:pt x="419" y="177"/>
                </a:lnTo>
                <a:lnTo>
                  <a:pt x="470" y="177"/>
                </a:ln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343400" y="1317600"/>
            <a:ext cx="506520" cy="281160"/>
          </a:xfrm>
          <a:custGeom>
            <a:avLst/>
            <a:gdLst/>
            <a:ahLst/>
            <a:rect l="l" t="t" r="r" b="b"/>
            <a:pathLst>
              <a:path w="470" h="177">
                <a:moveTo>
                  <a:pt x="0" y="0"/>
                </a:moveTo>
                <a:lnTo>
                  <a:pt x="358" y="0"/>
                </a:lnTo>
                <a:lnTo>
                  <a:pt x="419" y="177"/>
                </a:lnTo>
                <a:lnTo>
                  <a:pt x="470" y="177"/>
                </a:ln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4842000" y="1316880"/>
            <a:ext cx="504720" cy="281160"/>
          </a:xfrm>
          <a:custGeom>
            <a:avLst/>
            <a:gdLst/>
            <a:ahLst/>
            <a:rect l="l" t="t" r="r" b="b"/>
            <a:pathLst>
              <a:path w="470" h="177">
                <a:moveTo>
                  <a:pt x="0" y="0"/>
                </a:moveTo>
                <a:lnTo>
                  <a:pt x="358" y="0"/>
                </a:lnTo>
                <a:lnTo>
                  <a:pt x="419" y="177"/>
                </a:lnTo>
                <a:lnTo>
                  <a:pt x="470" y="177"/>
                </a:ln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324400" y="1317600"/>
            <a:ext cx="506520" cy="281160"/>
          </a:xfrm>
          <a:custGeom>
            <a:avLst/>
            <a:gdLst/>
            <a:ahLst/>
            <a:rect l="l" t="t" r="r" b="b"/>
            <a:pathLst>
              <a:path w="470" h="177">
                <a:moveTo>
                  <a:pt x="0" y="0"/>
                </a:moveTo>
                <a:lnTo>
                  <a:pt x="358" y="0"/>
                </a:lnTo>
                <a:lnTo>
                  <a:pt x="419" y="177"/>
                </a:lnTo>
                <a:lnTo>
                  <a:pt x="470" y="177"/>
                </a:ln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927080" y="2825640"/>
            <a:ext cx="251640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23960" y="2562120"/>
            <a:ext cx="1219320" cy="276480"/>
          </a:xfrm>
          <a:custGeom>
            <a:avLst/>
            <a:gdLst/>
            <a:ahLst/>
            <a:rect l="l" t="t" r="r" b="b"/>
            <a:pathLst>
              <a:path w="792" h="174">
                <a:moveTo>
                  <a:pt x="792" y="174"/>
                </a:moveTo>
                <a:lnTo>
                  <a:pt x="700" y="6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978280" y="3359160"/>
            <a:ext cx="183024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23960" y="3086280"/>
            <a:ext cx="2251080" cy="276120"/>
          </a:xfrm>
          <a:custGeom>
            <a:avLst/>
            <a:gdLst/>
            <a:ahLst/>
            <a:rect l="l" t="t" r="r" b="b"/>
            <a:pathLst>
              <a:path w="1418" h="174">
                <a:moveTo>
                  <a:pt x="1418" y="174"/>
                </a:moveTo>
                <a:lnTo>
                  <a:pt x="1329" y="6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030400" y="5329080"/>
            <a:ext cx="3405240" cy="258840"/>
          </a:xfrm>
          <a:prstGeom prst="hexagon">
            <a:avLst>
              <a:gd name="adj" fmla="val 42391"/>
              <a:gd name="vf" fmla="val 115470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397320" y="5259240"/>
            <a:ext cx="83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357720" y="1274760"/>
            <a:ext cx="0" cy="478476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230800" y="1285920"/>
            <a:ext cx="0" cy="475308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348240" y="1876320"/>
            <a:ext cx="1617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15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,..., A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6350400" y="2390760"/>
            <a:ext cx="471960" cy="368280"/>
            <a:chOff x="6350400" y="2390760"/>
            <a:chExt cx="471960" cy="368280"/>
          </a:xfrm>
        </p:grpSpPr>
        <p:sp>
          <p:nvSpPr>
            <p:cNvPr id="321" name=""/>
            <p:cNvSpPr/>
            <p:nvPr/>
          </p:nvSpPr>
          <p:spPr>
            <a:xfrm>
              <a:off x="6350400" y="239076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ff"/>
                  </a:solidFill>
                  <a:latin typeface="Times New Roman"/>
                </a:rPr>
                <a:t>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486480" y="243828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6350400" y="2971800"/>
            <a:ext cx="966960" cy="368280"/>
            <a:chOff x="6350400" y="2971800"/>
            <a:chExt cx="966960" cy="368280"/>
          </a:xfrm>
        </p:grpSpPr>
        <p:sp>
          <p:nvSpPr>
            <p:cNvPr id="324" name=""/>
            <p:cNvSpPr/>
            <p:nvPr/>
          </p:nvSpPr>
          <p:spPr>
            <a:xfrm>
              <a:off x="6350400" y="2971800"/>
              <a:ext cx="96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ff"/>
                  </a:solidFill>
                  <a:latin typeface="Times New Roman"/>
                </a:rPr>
                <a:t>DTA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438960" y="300996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" name=""/>
          <p:cNvSpPr/>
          <p:nvPr/>
        </p:nvSpPr>
        <p:spPr>
          <a:xfrm flipV="1">
            <a:off x="2054160" y="1308240"/>
            <a:ext cx="504720" cy="280800"/>
          </a:xfrm>
          <a:custGeom>
            <a:avLst/>
            <a:gdLst/>
            <a:ahLst/>
            <a:rect l="l" t="t" r="r" b="b"/>
            <a:pathLst>
              <a:path w="470" h="177">
                <a:moveTo>
                  <a:pt x="0" y="0"/>
                </a:moveTo>
                <a:lnTo>
                  <a:pt x="358" y="0"/>
                </a:lnTo>
                <a:lnTo>
                  <a:pt x="419" y="177"/>
                </a:lnTo>
                <a:lnTo>
                  <a:pt x="470" y="177"/>
                </a:ln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2266560" y="1828800"/>
            <a:ext cx="9720" cy="43527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2418840" y="1828800"/>
            <a:ext cx="9720" cy="43527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2571840" y="1828800"/>
            <a:ext cx="9360" cy="43527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Timing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90680" y="1100160"/>
            <a:ext cx="8243640" cy="51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85840">
              <a:lnSpc>
                <a:spcPct val="100000"/>
              </a:lnSpc>
              <a:spcBef>
                <a:spcPts val="1001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swahl der Übertragungsrichtrung wieder durch R/W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285840">
              <a:lnSpc>
                <a:spcPct val="100000"/>
              </a:lnSpc>
              <a:spcBef>
                <a:spcPts val="1001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t AS = 0 zeigt die CPU an, daß sie eine gültige Adresse auf de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dressbus gelegt h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285840">
              <a:lnSpc>
                <a:spcPct val="100000"/>
              </a:lnSpc>
              <a:spcBef>
                <a:spcPts val="1001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t DTACK = 0 zeigt der Speicher (Komponente) an, daß er die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 zur Verfügung gestellt (Lesen) oder übernommen (Schreiben)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285840">
              <a:lnSpc>
                <a:spcPct val="100000"/>
              </a:lnSpc>
              <a:spcBef>
                <a:spcPts val="1001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wischen AS = 0 und DTACK = 0 kann eine beliebige Zeitspanne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ie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285840">
              <a:lnSpc>
                <a:spcPct val="100000"/>
              </a:lnSpc>
              <a:spcBef>
                <a:spcPts val="1001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rd DTACK = 0, so nimmt die CPU die Adresse wieder vom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dressbus und setzt AS wieder zu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285840">
              <a:lnSpc>
                <a:spcPct val="100000"/>
              </a:lnSpc>
              <a:spcBef>
                <a:spcPts val="1001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raufhin nimmt der Speicher (Komponente) das Datum vom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bus und setzt DTACK wieder zu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ollständig asynchroner Übertragungsablauf, Anschluß vo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mponenten mit fast beliebiger Zugriffszeit mögl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78000" y="1587600"/>
            <a:ext cx="349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097000" y="3336840"/>
            <a:ext cx="349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726240" y="1160640"/>
            <a:ext cx="254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1276200" y="2293560"/>
            <a:ext cx="81612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3417840" y="3324240"/>
            <a:ext cx="81612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1474920" y="4079880"/>
            <a:ext cx="81576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3139920" y="5121360"/>
            <a:ext cx="81612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Asynchroner Systembu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92040" y="1154160"/>
            <a:ext cx="8501040" cy="44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be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Zeitliche Abläufe werden durch Handshake-Signal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gesteu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be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Handshake-Signa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AS (Address Strobe) von 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TACK (Data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ransfer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cknowledge) vo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 S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peicher/Komponente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00be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Systemtakt spielt keine Rolle mehr für die Synchronisation der Übertragung (nur noch für die Synchronisation der Signale : synchrones Steuerwer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260360" y="2762280"/>
            <a:ext cx="349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243080" y="3252960"/>
            <a:ext cx="995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Beispiel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77720" y="1797120"/>
            <a:ext cx="8244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85840">
              <a:lnSpc>
                <a:spcPct val="100000"/>
              </a:lnSpc>
              <a:spcBef>
                <a:spcPts val="901"/>
              </a:spcBef>
              <a:buClr>
                <a:srgbClr val="00be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e für asynchronen Systembus: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torola 68000 - 680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285840">
              <a:lnSpc>
                <a:spcPct val="100000"/>
              </a:lnSpc>
              <a:spcBef>
                <a:spcPts val="901"/>
              </a:spcBef>
              <a:buClr>
                <a:srgbClr val="00be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285840">
              <a:lnSpc>
                <a:spcPct val="100000"/>
              </a:lnSpc>
              <a:spcBef>
                <a:spcPts val="901"/>
              </a:spcBef>
              <a:buClr>
                <a:srgbClr val="00be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e für semi-synchronen Systembus: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el-Prozessoren, Motorola 680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Multiplex-Bu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07960" y="1174680"/>
            <a:ext cx="8032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Nötig, falls bestimmte Gruppen von Signalen zeitlich hintereinander über dieselbe Busleitungen geschickt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werden müssen (z.B. zur Einsparung von Busleitung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Beispiel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gemeinsamer Daten- und Adreßbus (Bsp.: PCI-B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 Adresse zur Übertragung eines Datums vom bzw. in den Speicher muss während der gesamten Zugriffszeit vorlie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peichern der Adresse in Flipflops (Latch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Multiplex-Busschnittstell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348" name="1.10-11" descr=""/>
          <p:cNvPicPr/>
          <p:nvPr/>
        </p:nvPicPr>
        <p:blipFill>
          <a:blip r:embed="rId1"/>
          <a:stretch/>
        </p:blipFill>
        <p:spPr>
          <a:xfrm>
            <a:off x="1727280" y="1166760"/>
            <a:ext cx="5763960" cy="422280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965160" y="5672160"/>
            <a:ext cx="729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ultiplexer muss einen bidirektionalen Datentransfer zulas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Zeitverhalten des Multiplexbuss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351" name="1.10-12" descr=""/>
          <p:cNvPicPr/>
          <p:nvPr/>
        </p:nvPicPr>
        <p:blipFill>
          <a:blip r:embed="rId1"/>
          <a:stretch/>
        </p:blipFill>
        <p:spPr>
          <a:xfrm>
            <a:off x="1060560" y="1889280"/>
            <a:ext cx="6732360" cy="350676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635040" y="1154160"/>
            <a:ext cx="751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ten/Adressen-Multiplex-Betri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Arial"/>
              </a:rPr>
              <a:t>Ablauf bei </a:t>
            </a:r>
            <a:r>
              <a:rPr b="0" lang="de-DE" sz="2800" spc="-1" strike="noStrike">
                <a:solidFill>
                  <a:srgbClr val="000099"/>
                </a:solidFill>
                <a:latin typeface="Arial"/>
              </a:rPr>
              <a:t>Daten/Adress-Multiplex-Betrieb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19040" y="1138320"/>
            <a:ext cx="8475840" cy="49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ültige Adresse auf dem gemeinesamen Bus wird durch ei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gnal angezeigt, z.B. AS (Address Strobe) oder VMA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Valid Memory Address) oder ALE (Address Latch Enable) oder 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t der aktiven Flanke dieses Signals (im Beispiel fallende Flanke)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rd die Adresse in ein vor den Speicher geschaltetes Adress-Latch übernommen 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stabile Adresse am Speic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nach kann der Bus umgeschaltet werden und nun die Daten über die gleichen Leitungen geschickt wer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itere Multiplex-Möglichkeit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öher- und niederwertige Adressbits (z.B. bei dynamischen Speicherbaustein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öher- und niederwertige Daten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mischte Formen (z.B. niederwertige Adress- und Datenbits, 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321000" y="1514520"/>
            <a:ext cx="317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6299280" y="1487160"/>
            <a:ext cx="466560" cy="20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186080" y="1820880"/>
            <a:ext cx="4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993600" y="2630520"/>
            <a:ext cx="1837080" cy="1332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993600" y="4011480"/>
            <a:ext cx="5065920" cy="1227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186080" y="2639880"/>
            <a:ext cx="1873440" cy="1332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993600" y="1314360"/>
            <a:ext cx="1847880" cy="1251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205160" y="1314360"/>
            <a:ext cx="1855800" cy="1270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sz="4000" spc="-1" strike="noStrike">
                <a:solidFill>
                  <a:srgbClr val="000099"/>
                </a:solidFill>
                <a:latin typeface="Arial"/>
              </a:rPr>
              <a:t>Befehlsabarbeitung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993600" y="1314360"/>
            <a:ext cx="5050080" cy="3917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4524480" y="2219400"/>
            <a:ext cx="1400040" cy="283680"/>
            <a:chOff x="4524480" y="2219400"/>
            <a:chExt cx="1400040" cy="283680"/>
          </a:xfrm>
        </p:grpSpPr>
        <p:sp>
          <p:nvSpPr>
            <p:cNvPr id="366" name=""/>
            <p:cNvSpPr/>
            <p:nvPr/>
          </p:nvSpPr>
          <p:spPr>
            <a:xfrm>
              <a:off x="4618440" y="2289960"/>
              <a:ext cx="1306080" cy="213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571280" y="2254680"/>
              <a:ext cx="1306080" cy="213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524480" y="2219400"/>
              <a:ext cx="1306080" cy="213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3984480" y="1457280"/>
            <a:ext cx="524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238400" y="1379520"/>
            <a:ext cx="1011240" cy="109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rot="16200000">
            <a:off x="1812240" y="1819800"/>
            <a:ext cx="1098360" cy="214200"/>
          </a:xfrm>
          <a:custGeom>
            <a:avLst/>
            <a:gdLst>
              <a:gd name="textAreaLeft" fmla="*/ 241560 w 1098360"/>
              <a:gd name="textAreaRight" fmla="*/ 856800 w 1098360"/>
              <a:gd name="textAreaTop" fmla="*/ 47160 h 214200"/>
              <a:gd name="textAreaBottom" fmla="*/ 16704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246320" y="1503360"/>
            <a:ext cx="10126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258920" y="1641600"/>
            <a:ext cx="987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258920" y="2351160"/>
            <a:ext cx="987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516560" y="1370160"/>
            <a:ext cx="1296720" cy="630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353560" y="218268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389320" y="4898880"/>
            <a:ext cx="1296720" cy="204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272240" y="1689120"/>
            <a:ext cx="1003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gister-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at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622040" y="1403280"/>
            <a:ext cx="117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uerung,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911760" y="4641840"/>
            <a:ext cx="188640" cy="176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3078000" y="1981080"/>
            <a:ext cx="0" cy="2934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2479680" y="1981080"/>
            <a:ext cx="5904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048120" y="5090400"/>
            <a:ext cx="0" cy="638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471760" y="174312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386160" y="1752480"/>
            <a:ext cx="0" cy="3133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189400" y="2413800"/>
            <a:ext cx="0" cy="5907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189400" y="199476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3087360" y="2705040"/>
            <a:ext cx="20746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1882440" y="2705040"/>
            <a:ext cx="1204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1900080" y="268560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336680" y="3971880"/>
            <a:ext cx="1751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1380960" y="325728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346040" y="3571200"/>
            <a:ext cx="0" cy="399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122480" y="3346560"/>
            <a:ext cx="473040" cy="204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1123920" y="2770200"/>
            <a:ext cx="1505160" cy="495360"/>
            <a:chOff x="1123920" y="2770200"/>
            <a:chExt cx="1505160" cy="495360"/>
          </a:xfrm>
        </p:grpSpPr>
        <p:sp>
          <p:nvSpPr>
            <p:cNvPr id="396" name=""/>
            <p:cNvSpPr/>
            <p:nvPr/>
          </p:nvSpPr>
          <p:spPr>
            <a:xfrm flipV="1">
              <a:off x="1123920" y="2808360"/>
              <a:ext cx="1505160" cy="457200"/>
            </a:xfrm>
            <a:custGeom>
              <a:avLst/>
              <a:gdLst>
                <a:gd name="textAreaLeft" fmla="*/ 330840 w 1505160"/>
                <a:gd name="textAreaRight" fmla="*/ 1174320 w 1505160"/>
                <a:gd name="textAreaTop" fmla="*/ 100440 h 457200"/>
                <a:gd name="textAreaBottom" fmla="*/ 3567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580040" y="2770200"/>
              <a:ext cx="6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L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>
              <a:off x="1571760" y="3080520"/>
              <a:ext cx="588960" cy="181080"/>
            </a:xfrm>
            <a:custGeom>
              <a:avLst/>
              <a:gdLst>
                <a:gd name="textAreaLeft" fmla="*/ 129240 w 588960"/>
                <a:gd name="textAreaRight" fmla="*/ 459720 w 588960"/>
                <a:gd name="textAreaTop" fmla="*/ 39600 h 181080"/>
                <a:gd name="textAreaBottom" fmla="*/ 141480 h 1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1601640" y="3255480"/>
              <a:ext cx="541440" cy="324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 flipV="1">
            <a:off x="2382840" y="326664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2365200" y="383832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2135160" y="3355920"/>
            <a:ext cx="471600" cy="515880"/>
            <a:chOff x="2135160" y="3355920"/>
            <a:chExt cx="471600" cy="515880"/>
          </a:xfrm>
        </p:grpSpPr>
        <p:sp>
          <p:nvSpPr>
            <p:cNvPr id="403" name=""/>
            <p:cNvSpPr/>
            <p:nvPr/>
          </p:nvSpPr>
          <p:spPr>
            <a:xfrm>
              <a:off x="2135160" y="3355920"/>
              <a:ext cx="471600" cy="515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147760" y="3611520"/>
              <a:ext cx="4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"/>
          <p:cNvSpPr/>
          <p:nvPr/>
        </p:nvSpPr>
        <p:spPr>
          <a:xfrm flipV="1">
            <a:off x="5303880" y="3723840"/>
            <a:ext cx="0" cy="399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68760" y="2989440"/>
            <a:ext cx="1297080" cy="753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dresswe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503600" y="3886200"/>
            <a:ext cx="790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4494240" y="3876480"/>
            <a:ext cx="0" cy="5713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4556160" y="4647960"/>
            <a:ext cx="0" cy="2667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5338800" y="4352400"/>
            <a:ext cx="0" cy="5432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376440" y="2314440"/>
            <a:ext cx="1141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462040" y="3076560"/>
            <a:ext cx="9129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395520" y="3352680"/>
            <a:ext cx="1184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395520" y="4229280"/>
            <a:ext cx="1333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911760" y="4432320"/>
            <a:ext cx="1296720" cy="204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411800" y="4898880"/>
            <a:ext cx="1298520" cy="204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B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711680" y="4137120"/>
            <a:ext cx="1297080" cy="204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395520" y="4514760"/>
            <a:ext cx="516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043600" y="5099760"/>
            <a:ext cx="0" cy="638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3386160" y="4686480"/>
            <a:ext cx="40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790800" y="4686480"/>
            <a:ext cx="0" cy="1037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16360" y="5010120"/>
            <a:ext cx="604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044440" y="5351400"/>
            <a:ext cx="104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b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122440" y="5351400"/>
            <a:ext cx="11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dressb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813480" y="535140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uerb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1003320" y="1325520"/>
            <a:ext cx="7795080" cy="2637000"/>
            <a:chOff x="1003320" y="1325520"/>
            <a:chExt cx="7795080" cy="2637000"/>
          </a:xfrm>
        </p:grpSpPr>
        <p:sp>
          <p:nvSpPr>
            <p:cNvPr id="427" name=""/>
            <p:cNvSpPr/>
            <p:nvPr/>
          </p:nvSpPr>
          <p:spPr>
            <a:xfrm>
              <a:off x="6921360" y="2894040"/>
              <a:ext cx="187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ff0000"/>
                  </a:solidFill>
                  <a:latin typeface="Arial"/>
                </a:rPr>
                <a:t>Pipelin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003320" y="2620800"/>
              <a:ext cx="1836720" cy="1312920"/>
            </a:xfrm>
            <a:prstGeom prst="rect">
              <a:avLst/>
            </a:prstGeom>
            <a:noFill/>
            <a:ln w="28440">
              <a:solidFill>
                <a:srgbClr val="ff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213080" y="1325520"/>
              <a:ext cx="1827360" cy="1246320"/>
            </a:xfrm>
            <a:prstGeom prst="rect">
              <a:avLst/>
            </a:prstGeom>
            <a:noFill/>
            <a:ln w="28440">
              <a:solidFill>
                <a:srgbClr val="ff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194000" y="2620800"/>
              <a:ext cx="1846440" cy="1341720"/>
            </a:xfrm>
            <a:prstGeom prst="rect">
              <a:avLst/>
            </a:prstGeom>
            <a:noFill/>
            <a:ln w="28440">
              <a:solidFill>
                <a:srgbClr val="ff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3586320" y="1316160"/>
            <a:ext cx="688680" cy="33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Arial"/>
              </a:rPr>
              <a:t>Zeitverhalten eines synchronen Systembu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462800" y="1092240"/>
            <a:ext cx="1681200" cy="16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Takt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requenz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sz="1600" spc="-1" strike="noStrike">
                <a:solidFill>
                  <a:srgbClr val="000000"/>
                </a:solidFill>
                <a:latin typeface="Arial"/>
              </a:rPr>
              <a:t>1 Mhz (1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s)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Buszyklus: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sz="1600" spc="-1" strike="noStrike">
                <a:solidFill>
                  <a:srgbClr val="000000"/>
                </a:solidFill>
                <a:latin typeface="Arial"/>
              </a:rPr>
              <a:t>1 Taktzykl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2560" y="2162160"/>
            <a:ext cx="3014640" cy="289080"/>
          </a:xfrm>
          <a:custGeom>
            <a:avLst/>
            <a:gdLst/>
            <a:ahLst/>
            <a:rect l="l" t="t" r="r" b="b"/>
            <a:pathLst>
              <a:path w="2280" h="216">
                <a:moveTo>
                  <a:pt x="0" y="216"/>
                </a:moveTo>
                <a:lnTo>
                  <a:pt x="516" y="216"/>
                </a:lnTo>
                <a:lnTo>
                  <a:pt x="720" y="0"/>
                </a:lnTo>
                <a:lnTo>
                  <a:pt x="1908" y="0"/>
                </a:lnTo>
                <a:lnTo>
                  <a:pt x="2112" y="210"/>
                </a:lnTo>
                <a:lnTo>
                  <a:pt x="2280" y="21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481560" y="2152800"/>
            <a:ext cx="2827080" cy="290520"/>
          </a:xfrm>
          <a:custGeom>
            <a:avLst/>
            <a:gdLst/>
            <a:ahLst/>
            <a:rect l="l" t="t" r="r" b="b"/>
            <a:pathLst>
              <a:path w="2136" h="216">
                <a:moveTo>
                  <a:pt x="0" y="216"/>
                </a:moveTo>
                <a:lnTo>
                  <a:pt x="1194" y="216"/>
                </a:lnTo>
                <a:lnTo>
                  <a:pt x="1398" y="0"/>
                </a:lnTo>
                <a:lnTo>
                  <a:pt x="213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8200" y="2822400"/>
            <a:ext cx="1476360" cy="260640"/>
          </a:xfrm>
          <a:prstGeom prst="hexagon">
            <a:avLst>
              <a:gd name="adj" fmla="val 41119"/>
              <a:gd name="vf" fmla="val 115470"/>
            </a:avLst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546880" y="2822400"/>
            <a:ext cx="1476360" cy="260640"/>
          </a:xfrm>
          <a:prstGeom prst="hexagon">
            <a:avLst>
              <a:gd name="adj" fmla="val 41119"/>
              <a:gd name="vf" fmla="val 115470"/>
            </a:avLst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2360" y="3606840"/>
            <a:ext cx="1476360" cy="257040"/>
          </a:xfrm>
          <a:prstGeom prst="hexagon">
            <a:avLst>
              <a:gd name="adj" fmla="val 41695"/>
              <a:gd name="vf" fmla="val 115470"/>
            </a:avLst>
          </a:pr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11800" y="3606840"/>
            <a:ext cx="1477800" cy="257040"/>
          </a:xfrm>
          <a:prstGeom prst="hexagon">
            <a:avLst>
              <a:gd name="adj" fmla="val 41736"/>
              <a:gd name="vf" fmla="val 115470"/>
            </a:avLst>
          </a:prstGeom>
          <a:solidFill>
            <a:srgbClr val="ffffff"/>
          </a:soli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22600" y="3735360"/>
            <a:ext cx="2722320" cy="0"/>
          </a:xfrm>
          <a:prstGeom prst="line">
            <a:avLst/>
          </a:prstGeom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872320" y="3735360"/>
            <a:ext cx="555480" cy="0"/>
          </a:xfrm>
          <a:prstGeom prst="line">
            <a:avLst/>
          </a:prstGeom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4440" y="4146480"/>
            <a:ext cx="1541520" cy="260280"/>
          </a:xfrm>
          <a:custGeom>
            <a:avLst/>
            <a:gdLst>
              <a:gd name="textAreaLeft" fmla="*/ 237240 w 1541520"/>
              <a:gd name="textAreaRight" fmla="*/ 1304280 w 1541520"/>
              <a:gd name="textAreaTop" fmla="*/ 39960 h 260280"/>
              <a:gd name="textAreaBottom" fmla="*/ 220320 h 260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761" y="21600"/>
                </a:lnTo>
                <a:lnTo>
                  <a:pt x="2839" y="216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42040" y="4146480"/>
            <a:ext cx="1538280" cy="260280"/>
          </a:xfrm>
          <a:custGeom>
            <a:avLst/>
            <a:gdLst>
              <a:gd name="textAreaLeft" fmla="*/ 227880 w 1538280"/>
              <a:gd name="textAreaRight" fmla="*/ 1310400 w 1538280"/>
              <a:gd name="textAreaTop" fmla="*/ 38520 h 260280"/>
              <a:gd name="textAreaBottom" fmla="*/ 221760 h 260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984" y="21600"/>
                </a:lnTo>
                <a:lnTo>
                  <a:pt x="2616" y="216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6240" y="4146480"/>
            <a:ext cx="3822840" cy="0"/>
          </a:xfrm>
          <a:prstGeom prst="line">
            <a:avLst/>
          </a:prstGeom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1280" y="5033880"/>
            <a:ext cx="1474920" cy="258840"/>
          </a:xfrm>
          <a:prstGeom prst="hexagon">
            <a:avLst>
              <a:gd name="adj" fmla="val 41365"/>
              <a:gd name="vf" fmla="val 115470"/>
            </a:avLst>
          </a:prstGeom>
          <a:blipFill rotWithShape="0">
            <a:blip r:embed="rId6"/>
            <a:srcRect/>
            <a:tile tx="0" ty="0" sx="100000" sy="100000" algn="ctr"/>
          </a:blip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73400" y="5033880"/>
            <a:ext cx="2405160" cy="258840"/>
          </a:xfrm>
          <a:prstGeom prst="hexagon">
            <a:avLst>
              <a:gd name="adj" fmla="val 67453"/>
              <a:gd name="vf" fmla="val 115470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16200" y="5162400"/>
            <a:ext cx="13636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578560" y="5162400"/>
            <a:ext cx="8334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228600" y="5626800"/>
            <a:ext cx="1541520" cy="258840"/>
          </a:xfrm>
          <a:custGeom>
            <a:avLst/>
            <a:gdLst>
              <a:gd name="textAreaLeft" fmla="*/ 237240 w 1541520"/>
              <a:gd name="textAreaRight" fmla="*/ 1304280 w 1541520"/>
              <a:gd name="textAreaTop" fmla="*/ 39600 h 258840"/>
              <a:gd name="textAreaBottom" fmla="*/ 219240 h 25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761" y="21600"/>
                </a:lnTo>
                <a:lnTo>
                  <a:pt x="2839" y="21600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141880" y="5626800"/>
            <a:ext cx="1540080" cy="258840"/>
          </a:xfrm>
          <a:custGeom>
            <a:avLst/>
            <a:gdLst>
              <a:gd name="textAreaLeft" fmla="*/ 228240 w 1540080"/>
              <a:gd name="textAreaRight" fmla="*/ 1311840 w 1540080"/>
              <a:gd name="textAreaTop" fmla="*/ 38160 h 258840"/>
              <a:gd name="textAreaBottom" fmla="*/ 220680 h 25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984" y="21600"/>
                </a:lnTo>
                <a:lnTo>
                  <a:pt x="2616" y="21600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58960" y="5891040"/>
            <a:ext cx="33829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7440" y="2087640"/>
            <a:ext cx="385920" cy="383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348240" y="2109960"/>
            <a:ext cx="746280" cy="37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08040" y="1628640"/>
            <a:ext cx="0" cy="422928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230800" y="1628640"/>
            <a:ext cx="0" cy="423864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357720" y="1951200"/>
            <a:ext cx="0" cy="394632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97160" y="1467000"/>
            <a:ext cx="3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30560" y="1712880"/>
            <a:ext cx="4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133880" y="1712880"/>
            <a:ext cx="4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1508040" y="1870200"/>
            <a:ext cx="752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71840" y="1870200"/>
            <a:ext cx="785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357360" y="1870200"/>
            <a:ext cx="809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67240" y="1870200"/>
            <a:ext cx="763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508040" y="1655640"/>
            <a:ext cx="1689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75080" y="1655640"/>
            <a:ext cx="1755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752480" y="2744640"/>
            <a:ext cx="3810240" cy="368280"/>
            <a:chOff x="1752480" y="2744640"/>
            <a:chExt cx="3810240" cy="368280"/>
          </a:xfrm>
        </p:grpSpPr>
        <p:sp>
          <p:nvSpPr>
            <p:cNvPr id="81" name=""/>
            <p:cNvSpPr/>
            <p:nvPr/>
          </p:nvSpPr>
          <p:spPr>
            <a:xfrm>
              <a:off x="1752480" y="2822400"/>
              <a:ext cx="3810240" cy="260640"/>
            </a:xfrm>
            <a:prstGeom prst="hexagon">
              <a:avLst>
                <a:gd name="adj" fmla="val 48729"/>
                <a:gd name="vf" fmla="val 11547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468600" y="2744640"/>
              <a:ext cx="97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Adres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4522680" y="3543480"/>
            <a:ext cx="8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11760" y="4973760"/>
            <a:ext cx="83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8800" y="328932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cc66"/>
                </a:solidFill>
                <a:latin typeface="Times New Roman"/>
              </a:rPr>
              <a:t>Les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1960" y="4735440"/>
            <a:ext cx="12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Times New Roman"/>
              </a:rPr>
              <a:t>Schreib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348240" y="19908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ak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348240" y="3524400"/>
            <a:ext cx="133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,..., D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348240" y="5591160"/>
            <a:ext cx="8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Times New Roman"/>
              </a:rPr>
              <a:t>R/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687720" y="563868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348240" y="4970520"/>
            <a:ext cx="134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,..., D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48240" y="4114800"/>
            <a:ext cx="8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cc66"/>
                </a:solidFill>
                <a:latin typeface="Times New Roman"/>
              </a:rPr>
              <a:t>R/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678360" y="416232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311880" y="2743200"/>
            <a:ext cx="1617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15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,..., A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Befehlsabarbeitung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9720" y="1141560"/>
            <a:ext cx="847728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be00"/>
              </a:buClr>
              <a:buSzPct val="75000"/>
              <a:buFont typeface="Monotype Sorts" charset="2"/>
              <a:buChar char="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be00"/>
                </a:solidFill>
                <a:latin typeface="Arial"/>
              </a:rPr>
              <a:t>Holphase (Opcode fetc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be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grammzähler auf den Adressbus schal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pCode in Datenbuspuffer übertragen und d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grammzähler um 1 erhö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grammzähler auf den Adressbus schalten und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tenbuspuffer ins Befehlsregister übertr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be00"/>
              </a:buClr>
              <a:buSzPct val="75000"/>
              <a:buFont typeface="Monotype Sorts" charset="2"/>
              <a:buChar char="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be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be00"/>
                </a:solidFill>
                <a:latin typeface="Arial"/>
              </a:rPr>
              <a:t>Decodierpha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fehl dekodi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perand in Datenbuspuffer br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grammzähler um 1 erhö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Befehlsabarbeitung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53960" y="1192320"/>
            <a:ext cx="8477280" cy="48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be00"/>
              </a:buClr>
              <a:buSzPct val="75000"/>
              <a:buFont typeface="Monotype Sorts" charset="2"/>
              <a:buChar char="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be00"/>
                </a:solidFill>
                <a:latin typeface="Arial"/>
              </a:rPr>
              <a:t>Ausführungsphase</a:t>
            </a:r>
            <a:r>
              <a:rPr b="0" lang="de-DE" sz="2400" spc="-1" strike="noStrike">
                <a:solidFill>
                  <a:srgbClr val="00be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s werden keine weiteren Operanden/Adressen benötig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fehl bzw. Operation durch die ALU ausfüh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e: Befehle, wie Erhöhen eines Registerinhaltes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der Austauschen zweier Registerinhal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s werden weitere Operanden/Adressen benötig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nötige Operanden holen und evtl. Berechnung der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peranden-Adre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fehl ausfüh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55600" y="152280"/>
            <a:ext cx="8507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600" spc="-1" strike="noStrike">
                <a:solidFill>
                  <a:srgbClr val="000099"/>
                </a:solidFill>
                <a:latin typeface="Arial"/>
              </a:rPr>
              <a:t>Beispiel zur Befehlsabarbeitung (fiktiver Prozessor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33440" y="1204920"/>
            <a:ext cx="7958160" cy="40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ssembler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aschinen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igh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ADCA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 $A7,X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(6D 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A7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ddiere zum Akkumulato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en Inhalt der Speicherzelle, deren Adresse sich aus der Summe des Offsets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$A7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und des Inhalts des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Registers ergibt, berücksichtige dabei das Übertragsbit (carry fla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STA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$3F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(8D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3F)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peicher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 der Speicherzelle mit der Adress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$3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Arial"/>
              </a:rPr>
              <a:t>Speicherbelegung vor der Befehlsausführun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07800" y="1363680"/>
            <a:ext cx="304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ADCA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$A7,X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(6D  A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STA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$3F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(8D  3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990960" y="1649520"/>
            <a:ext cx="2170080" cy="3495600"/>
          </a:xfrm>
          <a:prstGeom prst="rect">
            <a:avLst/>
          </a:prstGeom>
          <a:solidFill>
            <a:srgbClr val="ffe57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rot="16200000">
            <a:off x="4695480" y="3109320"/>
            <a:ext cx="3505320" cy="574560"/>
          </a:xfrm>
          <a:custGeom>
            <a:avLst/>
            <a:gdLst>
              <a:gd name="textAreaLeft" fmla="*/ 475200 w 3505320"/>
              <a:gd name="textAreaRight" fmla="*/ 3030120 w 3505320"/>
              <a:gd name="textAreaTop" fmla="*/ 77760 h 574560"/>
              <a:gd name="textAreaBottom" fmla="*/ 496800 h 57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476" y="21600"/>
                </a:lnTo>
                <a:lnTo>
                  <a:pt x="2124" y="21600"/>
                </a:lnTo>
                <a:close/>
              </a:path>
            </a:pathLst>
          </a:custGeom>
          <a:solidFill>
            <a:srgbClr val="ffe57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990960" y="2181240"/>
            <a:ext cx="217188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990960" y="2486160"/>
            <a:ext cx="217188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8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990960" y="2790720"/>
            <a:ext cx="217188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990960" y="3095640"/>
            <a:ext cx="217188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6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990960" y="4105440"/>
            <a:ext cx="217188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990960" y="4619520"/>
            <a:ext cx="217188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462480" y="2146320"/>
            <a:ext cx="52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+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462480" y="2441520"/>
            <a:ext cx="52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+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462480" y="2746440"/>
            <a:ext cx="52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578400" y="3060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517560" y="409896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529080" y="45846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2666880" y="3581280"/>
            <a:ext cx="132408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6743520" y="3324240"/>
            <a:ext cx="1323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6743520" y="2533680"/>
            <a:ext cx="1323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302720" y="1192320"/>
            <a:ext cx="13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770160" y="3463920"/>
            <a:ext cx="16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RE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501920" y="3463920"/>
            <a:ext cx="121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852600" y="220356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uerleit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rot="16200000">
            <a:off x="5679000" y="3211200"/>
            <a:ext cx="154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dress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3035160" y="5305320"/>
            <a:ext cx="4899240" cy="885960"/>
            <a:chOff x="3035160" y="5305320"/>
            <a:chExt cx="4899240" cy="885960"/>
          </a:xfrm>
        </p:grpSpPr>
        <p:sp>
          <p:nvSpPr>
            <p:cNvPr id="463" name=""/>
            <p:cNvSpPr/>
            <p:nvPr/>
          </p:nvSpPr>
          <p:spPr>
            <a:xfrm>
              <a:off x="3035160" y="5842080"/>
              <a:ext cx="2257560" cy="182520"/>
            </a:xfrm>
            <a:custGeom>
              <a:avLst/>
              <a:gdLst/>
              <a:ahLst/>
              <a:rect l="l" t="t" r="r" b="b"/>
              <a:pathLst>
                <a:path w="2280" h="216">
                  <a:moveTo>
                    <a:pt x="0" y="216"/>
                  </a:moveTo>
                  <a:lnTo>
                    <a:pt x="516" y="216"/>
                  </a:lnTo>
                  <a:lnTo>
                    <a:pt x="720" y="0"/>
                  </a:lnTo>
                  <a:lnTo>
                    <a:pt x="1908" y="0"/>
                  </a:lnTo>
                  <a:lnTo>
                    <a:pt x="2112" y="210"/>
                  </a:lnTo>
                  <a:lnTo>
                    <a:pt x="2280" y="21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130720" y="5835600"/>
              <a:ext cx="2116080" cy="184320"/>
            </a:xfrm>
            <a:custGeom>
              <a:avLst/>
              <a:gdLst/>
              <a:ahLst/>
              <a:rect l="l" t="t" r="r" b="b"/>
              <a:pathLst>
                <a:path w="2136" h="216">
                  <a:moveTo>
                    <a:pt x="0" y="216"/>
                  </a:moveTo>
                  <a:lnTo>
                    <a:pt x="1194" y="216"/>
                  </a:lnTo>
                  <a:lnTo>
                    <a:pt x="1398" y="0"/>
                  </a:lnTo>
                  <a:lnTo>
                    <a:pt x="2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879800" y="5305320"/>
              <a:ext cx="26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137120" y="5479920"/>
              <a:ext cx="3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Times New Roman"/>
                </a:rPr>
                <a:t>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551560" y="5489640"/>
              <a:ext cx="469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Times New Roman"/>
                </a:rPr>
                <a:t>T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>
              <a:off x="3652560" y="5656320"/>
              <a:ext cx="56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449600" y="5656320"/>
              <a:ext cx="58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>
              <a:off x="5037120" y="5656320"/>
              <a:ext cx="60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869080" y="5656320"/>
              <a:ext cx="57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3652920" y="5519880"/>
              <a:ext cx="126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126040" y="5519880"/>
              <a:ext cx="1314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277040" y="5732640"/>
              <a:ext cx="65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Times New Roman"/>
                </a:rPr>
                <a:t>Tak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657600" y="5372280"/>
              <a:ext cx="0" cy="79056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038560" y="5619960"/>
              <a:ext cx="0" cy="57132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438960" y="5381640"/>
              <a:ext cx="0" cy="79056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Anmerk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12920" y="1143000"/>
            <a:ext cx="81597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Speicherformate eines zusammengesetzten Datu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Big Endian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Adresse eines zusammengesetzten Datums ist di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Adresse des “most significant” Bytes (High Byte)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(wie im Beispiel) verwendet z.B. bei Motorola 680XX,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SUN Sparc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Little Endian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Adresse eines zusammengesetzten Datums ist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 Adresse des “least significant” Bytes  (Low Byte)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verwendet z.B. bei Intel 80XXX, Pentium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856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Die Holphase</a:t>
            </a:r>
            <a:br>
              <a:rPr sz="2400"/>
            </a:br>
            <a:r>
              <a:rPr b="0" lang="de-DE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sz="2000" spc="-1" strike="noStrike">
                <a:solidFill>
                  <a:srgbClr val="000099"/>
                </a:solidFill>
                <a:latin typeface="Arial"/>
              </a:rPr>
              <a:t>(Prefetch, Befehlsregister BR noch durch vorigen Befehl belegt)</a:t>
            </a:r>
            <a:r>
              <a:rPr b="0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81" name="1.11-3" descr=""/>
          <p:cNvPicPr/>
          <p:nvPr/>
        </p:nvPicPr>
        <p:blipFill>
          <a:blip r:embed="rId1"/>
          <a:stretch/>
        </p:blipFill>
        <p:spPr>
          <a:xfrm>
            <a:off x="1322280" y="1268280"/>
            <a:ext cx="6127920" cy="4364280"/>
          </a:xfrm>
          <a:prstGeom prst="rect">
            <a:avLst/>
          </a:prstGeom>
          <a:ln w="0">
            <a:noFill/>
          </a:ln>
        </p:spPr>
      </p:pic>
      <p:grpSp>
        <p:nvGrpSpPr>
          <p:cNvPr id="482" name=""/>
          <p:cNvGrpSpPr/>
          <p:nvPr/>
        </p:nvGrpSpPr>
        <p:grpSpPr>
          <a:xfrm>
            <a:off x="2859120" y="3621240"/>
            <a:ext cx="1119240" cy="1611000"/>
            <a:chOff x="2859120" y="3621240"/>
            <a:chExt cx="1119240" cy="1611000"/>
          </a:xfrm>
        </p:grpSpPr>
        <p:sp>
          <p:nvSpPr>
            <p:cNvPr id="483" name=""/>
            <p:cNvSpPr/>
            <p:nvPr/>
          </p:nvSpPr>
          <p:spPr>
            <a:xfrm>
              <a:off x="3035160" y="3621240"/>
              <a:ext cx="744840" cy="13968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284640" y="4057560"/>
              <a:ext cx="693720" cy="17784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340080" y="3765600"/>
              <a:ext cx="158760" cy="253800"/>
            </a:xfrm>
            <a:prstGeom prst="downArrow">
              <a:avLst>
                <a:gd name="adj1" fmla="val 42000"/>
                <a:gd name="adj2" fmla="val 59949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rot="5400000">
              <a:off x="3630600" y="4935240"/>
              <a:ext cx="206280" cy="387360"/>
            </a:xfrm>
            <a:prstGeom prst="downArrow">
              <a:avLst>
                <a:gd name="adj1" fmla="val 42000"/>
                <a:gd name="adj2" fmla="val 70419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873600" y="4238640"/>
              <a:ext cx="74520" cy="933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859120" y="5054760"/>
              <a:ext cx="509400" cy="13320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5618160" y="4035600"/>
            <a:ext cx="941400" cy="1130040"/>
            <a:chOff x="5618160" y="4035600"/>
            <a:chExt cx="941400" cy="1130040"/>
          </a:xfrm>
        </p:grpSpPr>
        <p:sp>
          <p:nvSpPr>
            <p:cNvPr id="490" name=""/>
            <p:cNvSpPr/>
            <p:nvPr/>
          </p:nvSpPr>
          <p:spPr>
            <a:xfrm>
              <a:off x="6049800" y="5032440"/>
              <a:ext cx="509760" cy="133200"/>
            </a:xfrm>
            <a:prstGeom prst="rect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5797440" y="4203000"/>
              <a:ext cx="177840" cy="911160"/>
            </a:xfrm>
            <a:prstGeom prst="downArrow">
              <a:avLst>
                <a:gd name="adj1" fmla="val 46157"/>
                <a:gd name="adj2" fmla="val 82142"/>
              </a:avLst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rot="16200000">
              <a:off x="5907960" y="4994640"/>
              <a:ext cx="74520" cy="181080"/>
            </a:xfrm>
            <a:prstGeom prst="rect">
              <a:avLst/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618160" y="4035600"/>
              <a:ext cx="662040" cy="180720"/>
            </a:xfrm>
            <a:prstGeom prst="rect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4" name=""/>
          <p:cNvSpPr/>
          <p:nvPr/>
        </p:nvSpPr>
        <p:spPr>
          <a:xfrm>
            <a:off x="1521000" y="5715000"/>
            <a:ext cx="29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3333cc"/>
                </a:solidFill>
                <a:latin typeface="Arial"/>
              </a:rPr>
              <a:t>Buszyklus-Hälfte 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911840" y="5715000"/>
            <a:ext cx="292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990000"/>
                </a:solidFill>
                <a:latin typeface="Arial"/>
              </a:rPr>
              <a:t>Buszyklus-Hälfte T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Ende der Holphase, Decodierphas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97" name="1.11-4" descr=""/>
          <p:cNvPicPr/>
          <p:nvPr/>
        </p:nvPicPr>
        <p:blipFill>
          <a:blip r:embed="rId1"/>
          <a:stretch/>
        </p:blipFill>
        <p:spPr>
          <a:xfrm>
            <a:off x="1611360" y="1239840"/>
            <a:ext cx="6134040" cy="440388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1521000" y="5715000"/>
            <a:ext cx="29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3333cc"/>
                </a:solidFill>
                <a:latin typeface="Arial"/>
              </a:rPr>
              <a:t>Buszyklus-Hälfte 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911840" y="5715000"/>
            <a:ext cx="292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990000"/>
                </a:solidFill>
                <a:latin typeface="Arial"/>
              </a:rPr>
              <a:t>Buszyklus-Hälfte T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3132000" y="3651120"/>
            <a:ext cx="1111320" cy="1581120"/>
            <a:chOff x="3132000" y="3651120"/>
            <a:chExt cx="1111320" cy="1581120"/>
          </a:xfrm>
        </p:grpSpPr>
        <p:sp>
          <p:nvSpPr>
            <p:cNvPr id="501" name=""/>
            <p:cNvSpPr/>
            <p:nvPr/>
          </p:nvSpPr>
          <p:spPr>
            <a:xfrm>
              <a:off x="3308400" y="3651120"/>
              <a:ext cx="744480" cy="13356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549600" y="4057560"/>
              <a:ext cx="693720" cy="17784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616200" y="3790800"/>
              <a:ext cx="158760" cy="254160"/>
            </a:xfrm>
            <a:prstGeom prst="downArrow">
              <a:avLst>
                <a:gd name="adj1" fmla="val 42000"/>
                <a:gd name="adj2" fmla="val 60034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rot="5400000">
              <a:off x="3887640" y="4935240"/>
              <a:ext cx="206280" cy="387360"/>
            </a:xfrm>
            <a:prstGeom prst="downArrow">
              <a:avLst>
                <a:gd name="adj1" fmla="val 42000"/>
                <a:gd name="adj2" fmla="val 70419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130640" y="4238640"/>
              <a:ext cx="74520" cy="933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132000" y="4950000"/>
              <a:ext cx="493920" cy="16344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2654280" y="1887480"/>
            <a:ext cx="1681200" cy="2354400"/>
            <a:chOff x="2654280" y="1887480"/>
            <a:chExt cx="1681200" cy="2354400"/>
          </a:xfrm>
        </p:grpSpPr>
        <p:sp>
          <p:nvSpPr>
            <p:cNvPr id="508" name=""/>
            <p:cNvSpPr/>
            <p:nvPr/>
          </p:nvSpPr>
          <p:spPr>
            <a:xfrm flipV="1">
              <a:off x="2900520" y="2502000"/>
              <a:ext cx="174600" cy="1566720"/>
            </a:xfrm>
            <a:prstGeom prst="downArrow">
              <a:avLst>
                <a:gd name="adj1" fmla="val 34546"/>
                <a:gd name="adj2" fmla="val 80925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654280" y="4064040"/>
              <a:ext cx="693720" cy="17784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641760" y="2108160"/>
              <a:ext cx="693720" cy="16200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rot="5400000">
              <a:off x="3456720" y="2015280"/>
              <a:ext cx="74520" cy="10476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3908520" y="1887480"/>
              <a:ext cx="158760" cy="209520"/>
            </a:xfrm>
            <a:prstGeom prst="downArrow">
              <a:avLst>
                <a:gd name="adj1" fmla="val 36009"/>
                <a:gd name="adj2" fmla="val 60988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V="1">
              <a:off x="3930480" y="2254320"/>
              <a:ext cx="158760" cy="304560"/>
            </a:xfrm>
            <a:prstGeom prst="downArrow">
              <a:avLst>
                <a:gd name="adj1" fmla="val 44009"/>
                <a:gd name="adj2" fmla="val 71939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5815080" y="4054320"/>
            <a:ext cx="973080" cy="1009800"/>
            <a:chOff x="5815080" y="4054320"/>
            <a:chExt cx="973080" cy="1009800"/>
          </a:xfrm>
        </p:grpSpPr>
        <p:sp>
          <p:nvSpPr>
            <p:cNvPr id="515" name=""/>
            <p:cNvSpPr/>
            <p:nvPr/>
          </p:nvSpPr>
          <p:spPr>
            <a:xfrm>
              <a:off x="6284880" y="4917960"/>
              <a:ext cx="503280" cy="146160"/>
            </a:xfrm>
            <a:prstGeom prst="rect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V="1">
              <a:off x="6064200" y="4197240"/>
              <a:ext cx="146160" cy="835200"/>
            </a:xfrm>
            <a:prstGeom prst="downArrow">
              <a:avLst>
                <a:gd name="adj1" fmla="val 46157"/>
                <a:gd name="adj2" fmla="val 91614"/>
              </a:avLst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rot="16200000">
              <a:off x="6157800" y="4915800"/>
              <a:ext cx="74520" cy="160560"/>
            </a:xfrm>
            <a:prstGeom prst="rect">
              <a:avLst/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815080" y="4054320"/>
              <a:ext cx="674640" cy="162000"/>
            </a:xfrm>
            <a:prstGeom prst="rect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6791400" y="1855800"/>
            <a:ext cx="693720" cy="382680"/>
            <a:chOff x="6791400" y="1855800"/>
            <a:chExt cx="693720" cy="382680"/>
          </a:xfrm>
        </p:grpSpPr>
        <p:sp>
          <p:nvSpPr>
            <p:cNvPr id="520" name=""/>
            <p:cNvSpPr/>
            <p:nvPr/>
          </p:nvSpPr>
          <p:spPr>
            <a:xfrm flipV="1">
              <a:off x="7051680" y="1855800"/>
              <a:ext cx="158760" cy="209520"/>
            </a:xfrm>
            <a:prstGeom prst="downArrow">
              <a:avLst>
                <a:gd name="adj1" fmla="val 36009"/>
                <a:gd name="adj2" fmla="val 60988"/>
              </a:avLst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791400" y="2076480"/>
              <a:ext cx="693720" cy="162000"/>
            </a:xfrm>
            <a:prstGeom prst="rect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51920" y="66600"/>
            <a:ext cx="8610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Ausführungsphase</a:t>
            </a:r>
            <a:br>
              <a:rPr sz="3200"/>
            </a:br>
            <a:r>
              <a:rPr b="0" sz="2400" spc="-1" strike="noStrike">
                <a:solidFill>
                  <a:srgbClr val="000099"/>
                </a:solidFill>
                <a:latin typeface="Arial"/>
              </a:rPr>
              <a:t>Berechnung der Operandenadress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23" name="1.11-5" descr=""/>
          <p:cNvPicPr/>
          <p:nvPr/>
        </p:nvPicPr>
        <p:blipFill>
          <a:blip r:embed="rId1"/>
          <a:stretch/>
        </p:blipFill>
        <p:spPr>
          <a:xfrm>
            <a:off x="1195560" y="1428840"/>
            <a:ext cx="6752880" cy="4419360"/>
          </a:xfrm>
          <a:prstGeom prst="rect">
            <a:avLst/>
          </a:prstGeom>
          <a:ln w="0">
            <a:noFill/>
          </a:ln>
        </p:spPr>
      </p:pic>
      <p:grpSp>
        <p:nvGrpSpPr>
          <p:cNvPr id="524" name=""/>
          <p:cNvGrpSpPr/>
          <p:nvPr/>
        </p:nvGrpSpPr>
        <p:grpSpPr>
          <a:xfrm>
            <a:off x="2433600" y="2749320"/>
            <a:ext cx="1494000" cy="1981440"/>
            <a:chOff x="2433600" y="2749320"/>
            <a:chExt cx="1494000" cy="1981440"/>
          </a:xfrm>
        </p:grpSpPr>
        <p:sp>
          <p:nvSpPr>
            <p:cNvPr id="525" name=""/>
            <p:cNvSpPr/>
            <p:nvPr/>
          </p:nvSpPr>
          <p:spPr>
            <a:xfrm flipV="1">
              <a:off x="2639880" y="2748960"/>
              <a:ext cx="196920" cy="1785960"/>
            </a:xfrm>
            <a:prstGeom prst="downArrow">
              <a:avLst>
                <a:gd name="adj1" fmla="val 34546"/>
                <a:gd name="adj2" fmla="val 81793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rot="5400000">
              <a:off x="3269160" y="2218320"/>
              <a:ext cx="64800" cy="11430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787920" y="2759040"/>
              <a:ext cx="139680" cy="295200"/>
            </a:xfrm>
            <a:prstGeom prst="downArrow">
              <a:avLst>
                <a:gd name="adj1" fmla="val 44009"/>
                <a:gd name="adj2" fmla="val 79253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433600" y="4540320"/>
              <a:ext cx="741240" cy="1904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3462480" y="2149560"/>
            <a:ext cx="755640" cy="447480"/>
            <a:chOff x="3462480" y="2149560"/>
            <a:chExt cx="755640" cy="447480"/>
          </a:xfrm>
        </p:grpSpPr>
        <p:sp>
          <p:nvSpPr>
            <p:cNvPr id="530" name=""/>
            <p:cNvSpPr/>
            <p:nvPr/>
          </p:nvSpPr>
          <p:spPr>
            <a:xfrm flipV="1">
              <a:off x="3768840" y="2149560"/>
              <a:ext cx="139680" cy="257040"/>
            </a:xfrm>
            <a:prstGeom prst="downArrow">
              <a:avLst>
                <a:gd name="adj1" fmla="val 44009"/>
                <a:gd name="adj2" fmla="val 69008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462480" y="2422440"/>
              <a:ext cx="755640" cy="17460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956120" y="1782720"/>
            <a:ext cx="2790720" cy="2201760"/>
            <a:chOff x="4956120" y="1782720"/>
            <a:chExt cx="2790720" cy="2201760"/>
          </a:xfrm>
        </p:grpSpPr>
        <p:sp>
          <p:nvSpPr>
            <p:cNvPr id="533" name=""/>
            <p:cNvSpPr/>
            <p:nvPr/>
          </p:nvSpPr>
          <p:spPr>
            <a:xfrm>
              <a:off x="4956120" y="1782720"/>
              <a:ext cx="717480" cy="158760"/>
            </a:xfrm>
            <a:prstGeom prst="rect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rot="5400000">
              <a:off x="6076080" y="1896120"/>
              <a:ext cx="74520" cy="380880"/>
            </a:xfrm>
            <a:prstGeom prst="rect">
              <a:avLst/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234120" y="2049480"/>
              <a:ext cx="65160" cy="738000"/>
            </a:xfrm>
            <a:prstGeom prst="rect">
              <a:avLst/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rot="5400000">
              <a:off x="6725880" y="2232000"/>
              <a:ext cx="65160" cy="1052280"/>
            </a:xfrm>
            <a:prstGeom prst="rect">
              <a:avLst/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210440" y="2727360"/>
              <a:ext cx="123840" cy="272880"/>
            </a:xfrm>
            <a:prstGeom prst="downArrow">
              <a:avLst>
                <a:gd name="adj1" fmla="val 44009"/>
                <a:gd name="adj2" fmla="val 82631"/>
              </a:avLst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013520" y="3801960"/>
              <a:ext cx="733320" cy="182520"/>
            </a:xfrm>
            <a:prstGeom prst="rect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302600" y="3465360"/>
              <a:ext cx="139680" cy="317520"/>
            </a:xfrm>
            <a:prstGeom prst="downArrow">
              <a:avLst>
                <a:gd name="adj1" fmla="val 44009"/>
                <a:gd name="adj2" fmla="val 85245"/>
              </a:avLst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" name=""/>
          <p:cNvSpPr/>
          <p:nvPr/>
        </p:nvSpPr>
        <p:spPr>
          <a:xfrm flipV="1">
            <a:off x="7197840" y="2111400"/>
            <a:ext cx="139680" cy="257040"/>
          </a:xfrm>
          <a:prstGeom prst="downArrow">
            <a:avLst>
              <a:gd name="adj1" fmla="val 44009"/>
              <a:gd name="adj2" fmla="val 69008"/>
            </a:avLst>
          </a:prstGeom>
          <a:solidFill>
            <a:srgbClr val="990000"/>
          </a:solidFill>
          <a:ln w="1260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891480" y="2384280"/>
            <a:ext cx="755640" cy="174600"/>
          </a:xfrm>
          <a:prstGeom prst="rect">
            <a:avLst/>
          </a:pr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600" spc="-1" strike="noStrike">
                <a:solidFill>
                  <a:srgbClr val="000099"/>
                </a:solidFill>
                <a:latin typeface="Arial"/>
              </a:rPr>
              <a:t>Ausführungsphase, Übertragung des Operand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43" name="1.11-6" descr=""/>
          <p:cNvPicPr/>
          <p:nvPr/>
        </p:nvPicPr>
        <p:blipFill>
          <a:blip r:embed="rId1"/>
          <a:srcRect l="848" t="2412" r="704" b="4824"/>
          <a:stretch/>
        </p:blipFill>
        <p:spPr>
          <a:xfrm>
            <a:off x="1252440" y="1214280"/>
            <a:ext cx="6648480" cy="4762800"/>
          </a:xfrm>
          <a:prstGeom prst="rect">
            <a:avLst/>
          </a:prstGeom>
          <a:ln w="0">
            <a:noFill/>
          </a:ln>
        </p:spPr>
      </p:pic>
      <p:grpSp>
        <p:nvGrpSpPr>
          <p:cNvPr id="544" name=""/>
          <p:cNvGrpSpPr/>
          <p:nvPr/>
        </p:nvGrpSpPr>
        <p:grpSpPr>
          <a:xfrm>
            <a:off x="2874960" y="3639960"/>
            <a:ext cx="1436760" cy="2173320"/>
            <a:chOff x="2874960" y="3639960"/>
            <a:chExt cx="1436760" cy="2173320"/>
          </a:xfrm>
        </p:grpSpPr>
        <p:sp>
          <p:nvSpPr>
            <p:cNvPr id="545" name=""/>
            <p:cNvSpPr/>
            <p:nvPr/>
          </p:nvSpPr>
          <p:spPr>
            <a:xfrm>
              <a:off x="2874960" y="5672160"/>
              <a:ext cx="550800" cy="14112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017960" y="4548240"/>
              <a:ext cx="65160" cy="99216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565440" y="3639960"/>
              <a:ext cx="746280" cy="18900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981600" y="3827520"/>
              <a:ext cx="120600" cy="527040"/>
            </a:xfrm>
            <a:prstGeom prst="downArrow">
              <a:avLst>
                <a:gd name="adj1" fmla="val 43185"/>
                <a:gd name="adj2" fmla="val 105308"/>
              </a:avLst>
            </a:prstGeom>
            <a:solidFill>
              <a:srgbClr val="3333cc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V="1" rot="16200000">
              <a:off x="3774600" y="5292360"/>
              <a:ext cx="139680" cy="466920"/>
            </a:xfrm>
            <a:prstGeom prst="downArrow">
              <a:avLst>
                <a:gd name="adj1" fmla="val 43185"/>
                <a:gd name="adj2" fmla="val 65958"/>
              </a:avLst>
            </a:prstGeom>
            <a:solidFill>
              <a:srgbClr val="3333cc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332160" y="4340160"/>
              <a:ext cx="793800" cy="18756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 flipV="1">
            <a:off x="3755880" y="1894680"/>
            <a:ext cx="139680" cy="257400"/>
          </a:xfrm>
          <a:prstGeom prst="downArrow">
            <a:avLst>
              <a:gd name="adj1" fmla="val 44009"/>
              <a:gd name="adj2" fmla="val 69104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462480" y="2155680"/>
            <a:ext cx="742680" cy="1936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7254720" y="1882800"/>
            <a:ext cx="139680" cy="257040"/>
          </a:xfrm>
          <a:prstGeom prst="downArrow">
            <a:avLst>
              <a:gd name="adj1" fmla="val 44009"/>
              <a:gd name="adj2" fmla="val 69008"/>
            </a:avLst>
          </a:prstGeom>
          <a:solidFill>
            <a:srgbClr val="990000"/>
          </a:solidFill>
          <a:ln w="1260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961320" y="2143080"/>
            <a:ext cx="742680" cy="193680"/>
          </a:xfrm>
          <a:prstGeom prst="rect">
            <a:avLst/>
          </a:pr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6099120" y="4485960"/>
            <a:ext cx="824040" cy="1311480"/>
            <a:chOff x="6099120" y="4485960"/>
            <a:chExt cx="824040" cy="1311480"/>
          </a:xfrm>
        </p:grpSpPr>
        <p:sp>
          <p:nvSpPr>
            <p:cNvPr id="556" name=""/>
            <p:cNvSpPr/>
            <p:nvPr/>
          </p:nvSpPr>
          <p:spPr>
            <a:xfrm>
              <a:off x="6372360" y="5656320"/>
              <a:ext cx="550800" cy="141120"/>
            </a:xfrm>
            <a:prstGeom prst="rect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6099120" y="4485600"/>
              <a:ext cx="152280" cy="1260360"/>
            </a:xfrm>
            <a:prstGeom prst="downArrow">
              <a:avLst>
                <a:gd name="adj1" fmla="val 45463"/>
                <a:gd name="adj2" fmla="val 84452"/>
              </a:avLst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rot="5400000">
              <a:off x="6216480" y="5611680"/>
              <a:ext cx="74880" cy="214560"/>
            </a:xfrm>
            <a:prstGeom prst="rect">
              <a:avLst/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600" spc="-1" strike="noStrike">
                <a:solidFill>
                  <a:srgbClr val="000099"/>
                </a:solidFill>
                <a:latin typeface="Arial"/>
              </a:rPr>
              <a:t>Ausführungsphase, Berechnung des Ergebniss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60" name="1.11-7" descr=""/>
          <p:cNvPicPr/>
          <p:nvPr/>
        </p:nvPicPr>
        <p:blipFill>
          <a:blip r:embed="rId1"/>
          <a:stretch/>
        </p:blipFill>
        <p:spPr>
          <a:xfrm>
            <a:off x="1181160" y="1336680"/>
            <a:ext cx="6753240" cy="4762440"/>
          </a:xfrm>
          <a:prstGeom prst="rect">
            <a:avLst/>
          </a:prstGeom>
          <a:ln w="0">
            <a:noFill/>
          </a:ln>
        </p:spPr>
      </p:pic>
      <p:sp>
        <p:nvSpPr>
          <p:cNvPr id="561" name=""/>
          <p:cNvSpPr/>
          <p:nvPr/>
        </p:nvSpPr>
        <p:spPr>
          <a:xfrm flipV="1">
            <a:off x="3747960" y="2038320"/>
            <a:ext cx="139680" cy="257040"/>
          </a:xfrm>
          <a:prstGeom prst="downArrow">
            <a:avLst>
              <a:gd name="adj1" fmla="val 44009"/>
              <a:gd name="adj2" fmla="val 69008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454560" y="2298600"/>
            <a:ext cx="742680" cy="1936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7246800" y="2025720"/>
            <a:ext cx="139680" cy="257040"/>
          </a:xfrm>
          <a:prstGeom prst="downArrow">
            <a:avLst>
              <a:gd name="adj1" fmla="val 44009"/>
              <a:gd name="adj2" fmla="val 69008"/>
            </a:avLst>
          </a:prstGeom>
          <a:solidFill>
            <a:srgbClr val="990000"/>
          </a:solidFill>
          <a:ln w="1260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953400" y="2286000"/>
            <a:ext cx="742680" cy="193680"/>
          </a:xfrm>
          <a:prstGeom prst="rect">
            <a:avLst/>
          </a:pr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2863800" y="3941640"/>
            <a:ext cx="1251000" cy="1765440"/>
            <a:chOff x="2863800" y="3941640"/>
            <a:chExt cx="1251000" cy="1765440"/>
          </a:xfrm>
        </p:grpSpPr>
        <p:sp>
          <p:nvSpPr>
            <p:cNvPr id="566" name=""/>
            <p:cNvSpPr/>
            <p:nvPr/>
          </p:nvSpPr>
          <p:spPr>
            <a:xfrm>
              <a:off x="2863800" y="5372280"/>
              <a:ext cx="536760" cy="18720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968640" y="4643280"/>
              <a:ext cx="74880" cy="102888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089160" y="3941640"/>
              <a:ext cx="776520" cy="18900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635280" y="4122720"/>
              <a:ext cx="128520" cy="328680"/>
            </a:xfrm>
            <a:prstGeom prst="downArrow">
              <a:avLst>
                <a:gd name="adj1" fmla="val 43185"/>
                <a:gd name="adj2" fmla="val 61627"/>
              </a:avLst>
            </a:prstGeom>
            <a:solidFill>
              <a:srgbClr val="3333cc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 rot="16200000">
              <a:off x="3740400" y="5426640"/>
              <a:ext cx="131760" cy="428760"/>
            </a:xfrm>
            <a:prstGeom prst="downArrow">
              <a:avLst>
                <a:gd name="adj1" fmla="val 43185"/>
                <a:gd name="adj2" fmla="val 64208"/>
              </a:avLst>
            </a:prstGeom>
            <a:solidFill>
              <a:srgbClr val="3333cc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321000" y="4451400"/>
              <a:ext cx="793800" cy="18720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5873760" y="4467240"/>
            <a:ext cx="1038240" cy="1106640"/>
            <a:chOff x="5873760" y="4467240"/>
            <a:chExt cx="1038240" cy="1106640"/>
          </a:xfrm>
        </p:grpSpPr>
        <p:sp>
          <p:nvSpPr>
            <p:cNvPr id="573" name=""/>
            <p:cNvSpPr/>
            <p:nvPr/>
          </p:nvSpPr>
          <p:spPr>
            <a:xfrm>
              <a:off x="6361200" y="5386320"/>
              <a:ext cx="550800" cy="187560"/>
            </a:xfrm>
            <a:prstGeom prst="rect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6103800" y="4659480"/>
              <a:ext cx="122400" cy="801360"/>
            </a:xfrm>
            <a:prstGeom prst="downArrow">
              <a:avLst>
                <a:gd name="adj1" fmla="val 45463"/>
                <a:gd name="adj2" fmla="val 66804"/>
              </a:avLst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rot="5400000">
              <a:off x="6220440" y="5333040"/>
              <a:ext cx="74520" cy="184320"/>
            </a:xfrm>
            <a:prstGeom prst="rect">
              <a:avLst/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73760" y="4467240"/>
              <a:ext cx="762120" cy="189000"/>
            </a:xfrm>
            <a:prstGeom prst="rect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1530360" y="3430440"/>
            <a:ext cx="1609560" cy="1216080"/>
            <a:chOff x="1530360" y="3430440"/>
            <a:chExt cx="1609560" cy="1216080"/>
          </a:xfrm>
        </p:grpSpPr>
        <p:sp>
          <p:nvSpPr>
            <p:cNvPr id="578" name=""/>
            <p:cNvSpPr/>
            <p:nvPr/>
          </p:nvSpPr>
          <p:spPr>
            <a:xfrm>
              <a:off x="2376360" y="4459320"/>
              <a:ext cx="763560" cy="18720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2657520" y="4140360"/>
              <a:ext cx="131760" cy="304560"/>
            </a:xfrm>
            <a:prstGeom prst="downArrow">
              <a:avLst>
                <a:gd name="adj1" fmla="val 44009"/>
                <a:gd name="adj2" fmla="val 86680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1530360" y="3621960"/>
              <a:ext cx="185760" cy="555480"/>
            </a:xfrm>
            <a:prstGeom prst="downArrow">
              <a:avLst>
                <a:gd name="adj1" fmla="val 29917"/>
                <a:gd name="adj2" fmla="val 68666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rot="5400000">
              <a:off x="2151360" y="3601080"/>
              <a:ext cx="54000" cy="112860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46160" y="3430440"/>
              <a:ext cx="357480" cy="5702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535040" y="3452760"/>
              <a:ext cx="243000" cy="19692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5010120" y="2582640"/>
            <a:ext cx="1244520" cy="1586160"/>
            <a:chOff x="5010120" y="2582640"/>
            <a:chExt cx="1244520" cy="1586160"/>
          </a:xfrm>
        </p:grpSpPr>
        <p:sp>
          <p:nvSpPr>
            <p:cNvPr id="585" name=""/>
            <p:cNvSpPr/>
            <p:nvPr/>
          </p:nvSpPr>
          <p:spPr>
            <a:xfrm>
              <a:off x="6119640" y="2643120"/>
              <a:ext cx="135000" cy="1494000"/>
            </a:xfrm>
            <a:prstGeom prst="downArrow">
              <a:avLst>
                <a:gd name="adj1" fmla="val 34120"/>
                <a:gd name="adj2" fmla="val 81156"/>
              </a:avLst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rot="10800000">
              <a:off x="5535360" y="3936960"/>
              <a:ext cx="129960" cy="230400"/>
            </a:xfrm>
            <a:prstGeom prst="downArrow">
              <a:avLst>
                <a:gd name="adj1" fmla="val 31713"/>
                <a:gd name="adj2" fmla="val 58693"/>
              </a:avLst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rot="5400000">
              <a:off x="5867280" y="3832200"/>
              <a:ext cx="54000" cy="619200"/>
            </a:xfrm>
            <a:prstGeom prst="rect">
              <a:avLst/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375160" y="2635200"/>
              <a:ext cx="54000" cy="368280"/>
            </a:xfrm>
            <a:prstGeom prst="rect">
              <a:avLst/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H="1" flipV="1" rot="5400000">
              <a:off x="5726520" y="2229840"/>
              <a:ext cx="104760" cy="809640"/>
            </a:xfrm>
            <a:prstGeom prst="downArrow">
              <a:avLst>
                <a:gd name="adj1" fmla="val 54167"/>
                <a:gd name="adj2" fmla="val 118361"/>
              </a:avLst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V="1">
              <a:off x="5524560" y="3236040"/>
              <a:ext cx="117360" cy="203400"/>
            </a:xfrm>
            <a:prstGeom prst="downArrow">
              <a:avLst>
                <a:gd name="adj1" fmla="val 44009"/>
                <a:gd name="adj2" fmla="val 64992"/>
              </a:avLst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V="1">
              <a:off x="5067360" y="3243960"/>
              <a:ext cx="117360" cy="203400"/>
            </a:xfrm>
            <a:prstGeom prst="downArrow">
              <a:avLst>
                <a:gd name="adj1" fmla="val 44009"/>
                <a:gd name="adj2" fmla="val 64992"/>
              </a:avLst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421240" y="3438360"/>
              <a:ext cx="365040" cy="578160"/>
            </a:xfrm>
            <a:prstGeom prst="rect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10120" y="3460680"/>
              <a:ext cx="265320" cy="189000"/>
            </a:xfrm>
            <a:prstGeom prst="rect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Timing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1480" y="1187280"/>
            <a:ext cx="8248680" cy="50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Adresse wird zu Beginn des Buszyklus (Ta) auf den Adressbus geleg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Auswahl der Übertragungsrichtrung durch 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R/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cc66"/>
                </a:solidFill>
                <a:latin typeface="Arial"/>
              </a:rPr>
              <a:t>Lesen (R/W = 1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62120" indent="-190440">
              <a:lnSpc>
                <a:spcPct val="100000"/>
              </a:lnSpc>
              <a:spcBef>
                <a:spcPts val="876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Speicher (oder andere Systemkomponente) liefert ihre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Daten irgendwann gegen Ende des Buszyklus (T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62120" indent="-190440">
              <a:lnSpc>
                <a:spcPct val="100000"/>
              </a:lnSpc>
              <a:spcBef>
                <a:spcPts val="876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Übernahme der Daten in den Prozessor durch die steigende Flanke des Systemtak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4d4d"/>
                </a:solidFill>
                <a:latin typeface="Arial"/>
              </a:rPr>
              <a:t>Schreiben (R/W = 0):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62120" indent="-190440">
              <a:lnSpc>
                <a:spcPct val="100000"/>
              </a:lnSpc>
              <a:spcBef>
                <a:spcPts val="876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Prozessor legt die Daten zu Beginn der zweiten Takthälfte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(Tb) auf den System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62120" indent="-190440">
              <a:lnSpc>
                <a:spcPct val="100000"/>
              </a:lnSpc>
              <a:spcBef>
                <a:spcPts val="876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Übernahme der Daten in den Speicher durch die steigende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Flanke von R/W oder des Systemtak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43120" y="2365200"/>
            <a:ext cx="233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622840" y="1731960"/>
            <a:ext cx="233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38480" y="4419720"/>
            <a:ext cx="233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25800" y="5850000"/>
            <a:ext cx="233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450720" y="1733400"/>
            <a:ext cx="801864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Aufgab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ühren Sie das Beispiel mit dem Befehl </a:t>
            </a:r>
            <a:br>
              <a:rPr sz="2400"/>
            </a:b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STA  $3F (8D 3F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zu E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Synchroner Systembu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8400" y="1365120"/>
            <a:ext cx="8029800" cy="41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 sehr lange Zykluszeit von 1 ms reicht für gebräuchliche Halbleiterspeicher bei weitem aus, die Daten zu übernehmen bzw. das geforderte Datum dem Prozessor zu überge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Alle Vorgänge synchron zum Takt nach einem starren Muster ablauf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ff"/>
                </a:solidFill>
                <a:latin typeface="Arial"/>
              </a:rPr>
              <a:t>synchroner System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257040" y="5779800"/>
            <a:ext cx="6453360" cy="263880"/>
            <a:chOff x="257040" y="5779800"/>
            <a:chExt cx="6453360" cy="263880"/>
          </a:xfrm>
        </p:grpSpPr>
        <p:sp>
          <p:nvSpPr>
            <p:cNvPr id="104" name=""/>
            <p:cNvSpPr/>
            <p:nvPr/>
          </p:nvSpPr>
          <p:spPr>
            <a:xfrm flipV="1">
              <a:off x="5494320" y="5779440"/>
              <a:ext cx="1216080" cy="258840"/>
            </a:xfrm>
            <a:custGeom>
              <a:avLst/>
              <a:gdLst>
                <a:gd name="textAreaLeft" fmla="*/ 180360 w 1216080"/>
                <a:gd name="textAreaRight" fmla="*/ 1035720 w 1216080"/>
                <a:gd name="textAreaTop" fmla="*/ 38160 h 258840"/>
                <a:gd name="textAreaBottom" fmla="*/ 220680 h 25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84" y="21600"/>
                  </a:lnTo>
                  <a:lnTo>
                    <a:pt x="2616" y="2160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257040" y="5779440"/>
              <a:ext cx="4446720" cy="258840"/>
            </a:xfrm>
            <a:custGeom>
              <a:avLst/>
              <a:gdLst>
                <a:gd name="textAreaLeft" fmla="*/ 465840 w 4446720"/>
                <a:gd name="textAreaRight" fmla="*/ 3980880 w 4446720"/>
                <a:gd name="textAreaTop" fmla="*/ 27000 h 258840"/>
                <a:gd name="textAreaBottom" fmla="*/ 231840 h 25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675" y="21600"/>
                  </a:lnTo>
                  <a:lnTo>
                    <a:pt x="925" y="2160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787400" y="6043680"/>
              <a:ext cx="3783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Semi-synchroner Systembu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55640" y="3363840"/>
            <a:ext cx="2865600" cy="0"/>
          </a:xfrm>
          <a:prstGeom prst="line">
            <a:avLst/>
          </a:prstGeom>
          <a:ln w="190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49600" y="4791240"/>
            <a:ext cx="13633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680080" y="1754280"/>
            <a:ext cx="981000" cy="291960"/>
          </a:xfrm>
          <a:custGeom>
            <a:avLst/>
            <a:gdLst/>
            <a:ahLst/>
            <a:rect l="l" t="t" r="r" b="b"/>
            <a:pathLst>
              <a:path w="769" h="184">
                <a:moveTo>
                  <a:pt x="0" y="184"/>
                </a:moveTo>
                <a:lnTo>
                  <a:pt x="321" y="182"/>
                </a:lnTo>
                <a:lnTo>
                  <a:pt x="373" y="0"/>
                </a:lnTo>
                <a:lnTo>
                  <a:pt x="675" y="0"/>
                </a:lnTo>
                <a:lnTo>
                  <a:pt x="726" y="177"/>
                </a:lnTo>
                <a:lnTo>
                  <a:pt x="769" y="17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9320" y="1784520"/>
            <a:ext cx="714600" cy="280800"/>
          </a:xfrm>
          <a:custGeom>
            <a:avLst/>
            <a:gdLst/>
            <a:ahLst/>
            <a:rect l="l" t="t" r="r" b="b"/>
            <a:pathLst>
              <a:path w="470" h="177">
                <a:moveTo>
                  <a:pt x="0" y="0"/>
                </a:moveTo>
                <a:lnTo>
                  <a:pt x="358" y="0"/>
                </a:lnTo>
                <a:lnTo>
                  <a:pt x="419" y="177"/>
                </a:lnTo>
                <a:lnTo>
                  <a:pt x="470" y="17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01600" y="2451240"/>
            <a:ext cx="1476360" cy="260280"/>
          </a:xfrm>
          <a:prstGeom prst="hexagon">
            <a:avLst>
              <a:gd name="adj" fmla="val 41176"/>
              <a:gd name="vf" fmla="val 115470"/>
            </a:avLst>
          </a:pr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85880" y="2451240"/>
            <a:ext cx="3809880" cy="260280"/>
          </a:xfrm>
          <a:prstGeom prst="hexagon">
            <a:avLst>
              <a:gd name="adj" fmla="val 48792"/>
              <a:gd name="vf" fmla="val 11547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479920" y="2451240"/>
            <a:ext cx="1476360" cy="260280"/>
          </a:xfrm>
          <a:prstGeom prst="hexagon">
            <a:avLst>
              <a:gd name="adj" fmla="val 41176"/>
              <a:gd name="vf" fmla="val 115470"/>
            </a:avLst>
          </a:prstGeom>
          <a:blipFill rotWithShape="0">
            <a:blip r:embed="rId4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5760" y="3235320"/>
            <a:ext cx="1476360" cy="257040"/>
          </a:xfrm>
          <a:prstGeom prst="hexagon">
            <a:avLst>
              <a:gd name="adj" fmla="val 41695"/>
              <a:gd name="vf" fmla="val 115470"/>
            </a:avLst>
          </a:prstGeom>
          <a:blipFill rotWithShape="0">
            <a:blip r:embed="rId5"/>
            <a:srcRect/>
            <a:tile tx="0" ty="0" sx="100000" sy="100000" algn="ctr"/>
          </a:blipFill>
          <a:ln w="190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06840" y="3235320"/>
            <a:ext cx="954000" cy="257040"/>
          </a:xfrm>
          <a:prstGeom prst="hexagon">
            <a:avLst>
              <a:gd name="adj" fmla="val 40981"/>
              <a:gd name="vf" fmla="val 115470"/>
            </a:avLst>
          </a:prstGeom>
          <a:solidFill>
            <a:srgbClr val="ffffff"/>
          </a:solidFill>
          <a:ln w="190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43560" y="3363840"/>
            <a:ext cx="927000" cy="0"/>
          </a:xfrm>
          <a:prstGeom prst="line">
            <a:avLst/>
          </a:prstGeom>
          <a:ln w="190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77840" y="3774960"/>
            <a:ext cx="1541520" cy="260640"/>
          </a:xfrm>
          <a:custGeom>
            <a:avLst/>
            <a:gdLst>
              <a:gd name="textAreaLeft" fmla="*/ 237240 w 1541520"/>
              <a:gd name="textAreaRight" fmla="*/ 1304280 w 1541520"/>
              <a:gd name="textAreaTop" fmla="*/ 39960 h 260640"/>
              <a:gd name="textAreaBottom" fmla="*/ 220680 h 260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761" y="21600"/>
                </a:lnTo>
                <a:lnTo>
                  <a:pt x="2839" y="2160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90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275440" y="3774960"/>
            <a:ext cx="1538280" cy="260640"/>
          </a:xfrm>
          <a:custGeom>
            <a:avLst/>
            <a:gdLst>
              <a:gd name="textAreaLeft" fmla="*/ 227880 w 1538280"/>
              <a:gd name="textAreaRight" fmla="*/ 1310400 w 1538280"/>
              <a:gd name="textAreaTop" fmla="*/ 38520 h 260640"/>
              <a:gd name="textAreaBottom" fmla="*/ 222120 h 260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984" y="21600"/>
                </a:lnTo>
                <a:lnTo>
                  <a:pt x="2616" y="21600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190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09640" y="3774960"/>
            <a:ext cx="3822840" cy="0"/>
          </a:xfrm>
          <a:prstGeom prst="line">
            <a:avLst/>
          </a:prstGeom>
          <a:ln w="190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74680" y="4662360"/>
            <a:ext cx="1474920" cy="258840"/>
          </a:xfrm>
          <a:prstGeom prst="hexagon">
            <a:avLst>
              <a:gd name="adj" fmla="val 41365"/>
              <a:gd name="vf" fmla="val 115470"/>
            </a:avLst>
          </a:prstGeom>
          <a:blipFill rotWithShape="0">
            <a:blip r:embed="rId8"/>
            <a:srcRect/>
            <a:tile tx="0" ty="0" sx="100000" sy="100000" algn="ctr"/>
          </a:blip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16240" y="4662360"/>
            <a:ext cx="3195720" cy="258840"/>
          </a:xfrm>
          <a:prstGeom prst="hexagon">
            <a:avLst>
              <a:gd name="adj" fmla="val 56416"/>
              <a:gd name="vf" fmla="val 115470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511960" y="4791240"/>
            <a:ext cx="8334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62000" y="5256360"/>
            <a:ext cx="1541520" cy="258480"/>
          </a:xfrm>
          <a:custGeom>
            <a:avLst/>
            <a:gdLst>
              <a:gd name="textAreaLeft" fmla="*/ 237240 w 1541520"/>
              <a:gd name="textAreaRight" fmla="*/ 1304280 w 1541520"/>
              <a:gd name="textAreaTop" fmla="*/ 39600 h 258480"/>
              <a:gd name="textAreaBottom" fmla="*/ 218880 h 25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761" y="21600"/>
                </a:lnTo>
                <a:lnTo>
                  <a:pt x="2839" y="21600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075280" y="5256360"/>
            <a:ext cx="1539720" cy="258480"/>
          </a:xfrm>
          <a:custGeom>
            <a:avLst/>
            <a:gdLst>
              <a:gd name="textAreaLeft" fmla="*/ 228240 w 1539720"/>
              <a:gd name="textAreaRight" fmla="*/ 1311480 w 1539720"/>
              <a:gd name="textAreaTop" fmla="*/ 38160 h 258480"/>
              <a:gd name="textAreaBottom" fmla="*/ 220320 h 25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984" y="21600"/>
                </a:lnTo>
                <a:lnTo>
                  <a:pt x="2616" y="21600"/>
                </a:lnTo>
                <a:close/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92360" y="5519880"/>
            <a:ext cx="33829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0840" y="1716120"/>
            <a:ext cx="385560" cy="43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281640" y="1652760"/>
            <a:ext cx="746280" cy="441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41440" y="1257480"/>
            <a:ext cx="0" cy="477180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54480" y="1257480"/>
            <a:ext cx="0" cy="475272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90760" y="1579680"/>
            <a:ext cx="0" cy="445140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130560" y="1095480"/>
            <a:ext cx="3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163600" y="1341360"/>
            <a:ext cx="4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67280" y="1341360"/>
            <a:ext cx="4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1441440" y="1498680"/>
            <a:ext cx="752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05240" y="1498680"/>
            <a:ext cx="785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3290400" y="1498680"/>
            <a:ext cx="809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00640" y="1498680"/>
            <a:ext cx="763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1441440" y="1284120"/>
            <a:ext cx="1689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08480" y="1284120"/>
            <a:ext cx="1755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402000" y="2373480"/>
            <a:ext cx="9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dre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0560" y="3162240"/>
            <a:ext cx="8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44800" y="4602240"/>
            <a:ext cx="83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2200" y="291780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cc66"/>
                </a:solidFill>
                <a:latin typeface="Times New Roman"/>
              </a:rPr>
              <a:t>Les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5360" y="4363920"/>
            <a:ext cx="12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Times New Roman"/>
              </a:rPr>
              <a:t>Schreib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281640" y="1619280"/>
            <a:ext cx="6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ak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281640" y="3152880"/>
            <a:ext cx="13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,..., D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281640" y="5219640"/>
            <a:ext cx="8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Times New Roman"/>
              </a:rPr>
              <a:t>R/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6621120" y="526716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281640" y="4599000"/>
            <a:ext cx="134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,..., D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81640" y="3743280"/>
            <a:ext cx="8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cc66"/>
                </a:solidFill>
                <a:latin typeface="Times New Roman"/>
              </a:rPr>
              <a:t>R/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6611760" y="3790800"/>
            <a:ext cx="19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235560" y="2362320"/>
            <a:ext cx="1617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15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,..., A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925560" y="1763640"/>
            <a:ext cx="3847320" cy="301680"/>
            <a:chOff x="925560" y="1763640"/>
            <a:chExt cx="3847320" cy="301680"/>
          </a:xfrm>
        </p:grpSpPr>
        <p:grpSp>
          <p:nvGrpSpPr>
            <p:cNvPr id="155" name=""/>
            <p:cNvGrpSpPr/>
            <p:nvPr/>
          </p:nvGrpSpPr>
          <p:grpSpPr>
            <a:xfrm>
              <a:off x="925560" y="1772640"/>
              <a:ext cx="2004840" cy="292680"/>
              <a:chOff x="925560" y="1772640"/>
              <a:chExt cx="2004840" cy="292680"/>
            </a:xfrm>
          </p:grpSpPr>
          <p:sp>
            <p:nvSpPr>
              <p:cNvPr id="156" name=""/>
              <p:cNvSpPr/>
              <p:nvPr/>
            </p:nvSpPr>
            <p:spPr>
              <a:xfrm>
                <a:off x="1046520" y="1773000"/>
                <a:ext cx="980640" cy="292320"/>
              </a:xfrm>
              <a:custGeom>
                <a:avLst/>
                <a:gdLst/>
                <a:ahLst/>
                <a:rect l="l" t="t" r="r" b="b"/>
                <a:pathLst>
                  <a:path w="769" h="184">
                    <a:moveTo>
                      <a:pt x="0" y="184"/>
                    </a:moveTo>
                    <a:lnTo>
                      <a:pt x="321" y="182"/>
                    </a:lnTo>
                    <a:lnTo>
                      <a:pt x="373" y="0"/>
                    </a:lnTo>
                    <a:lnTo>
                      <a:pt x="675" y="0"/>
                    </a:lnTo>
                    <a:lnTo>
                      <a:pt x="726" y="177"/>
                    </a:lnTo>
                    <a:lnTo>
                      <a:pt x="769" y="177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V="1">
                <a:off x="1960920" y="1772280"/>
                <a:ext cx="505080" cy="281160"/>
              </a:xfrm>
              <a:custGeom>
                <a:avLst/>
                <a:gdLst/>
                <a:ahLst/>
                <a:rect l="l" t="t" r="r" b="b"/>
                <a:pathLst>
                  <a:path w="470" h="177">
                    <a:moveTo>
                      <a:pt x="0" y="0"/>
                    </a:moveTo>
                    <a:lnTo>
                      <a:pt x="358" y="0"/>
                    </a:lnTo>
                    <a:lnTo>
                      <a:pt x="419" y="177"/>
                    </a:lnTo>
                    <a:lnTo>
                      <a:pt x="470" y="177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425320" y="1773000"/>
                <a:ext cx="505080" cy="281160"/>
              </a:xfrm>
              <a:custGeom>
                <a:avLst/>
                <a:gdLst/>
                <a:ahLst/>
                <a:rect l="l" t="t" r="r" b="b"/>
                <a:pathLst>
                  <a:path w="470" h="177">
                    <a:moveTo>
                      <a:pt x="0" y="0"/>
                    </a:moveTo>
                    <a:lnTo>
                      <a:pt x="358" y="0"/>
                    </a:lnTo>
                    <a:lnTo>
                      <a:pt x="419" y="177"/>
                    </a:lnTo>
                    <a:lnTo>
                      <a:pt x="470" y="177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925560" y="1782720"/>
                <a:ext cx="504720" cy="280800"/>
              </a:xfrm>
              <a:custGeom>
                <a:avLst/>
                <a:gdLst/>
                <a:ahLst/>
                <a:rect l="l" t="t" r="r" b="b"/>
                <a:pathLst>
                  <a:path w="470" h="177">
                    <a:moveTo>
                      <a:pt x="0" y="0"/>
                    </a:moveTo>
                    <a:lnTo>
                      <a:pt x="358" y="0"/>
                    </a:lnTo>
                    <a:lnTo>
                      <a:pt x="419" y="177"/>
                    </a:lnTo>
                    <a:lnTo>
                      <a:pt x="470" y="177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2889000" y="1763640"/>
              <a:ext cx="1883880" cy="291960"/>
              <a:chOff x="2889000" y="1763640"/>
              <a:chExt cx="1883880" cy="291960"/>
            </a:xfrm>
          </p:grpSpPr>
          <p:sp>
            <p:nvSpPr>
              <p:cNvPr id="161" name=""/>
              <p:cNvSpPr/>
              <p:nvPr/>
            </p:nvSpPr>
            <p:spPr>
              <a:xfrm>
                <a:off x="2889000" y="1763640"/>
                <a:ext cx="981360" cy="291960"/>
              </a:xfrm>
              <a:custGeom>
                <a:avLst/>
                <a:gdLst/>
                <a:ahLst/>
                <a:rect l="l" t="t" r="r" b="b"/>
                <a:pathLst>
                  <a:path w="769" h="184">
                    <a:moveTo>
                      <a:pt x="0" y="184"/>
                    </a:moveTo>
                    <a:lnTo>
                      <a:pt x="321" y="182"/>
                    </a:lnTo>
                    <a:lnTo>
                      <a:pt x="373" y="0"/>
                    </a:lnTo>
                    <a:lnTo>
                      <a:pt x="675" y="0"/>
                    </a:lnTo>
                    <a:lnTo>
                      <a:pt x="726" y="177"/>
                    </a:lnTo>
                    <a:lnTo>
                      <a:pt x="769" y="177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V="1">
                <a:off x="3803760" y="1763640"/>
                <a:ext cx="504000" cy="280800"/>
              </a:xfrm>
              <a:custGeom>
                <a:avLst/>
                <a:gdLst/>
                <a:ahLst/>
                <a:rect l="l" t="t" r="r" b="b"/>
                <a:pathLst>
                  <a:path w="470" h="177">
                    <a:moveTo>
                      <a:pt x="0" y="0"/>
                    </a:moveTo>
                    <a:lnTo>
                      <a:pt x="358" y="0"/>
                    </a:lnTo>
                    <a:lnTo>
                      <a:pt x="419" y="177"/>
                    </a:lnTo>
                    <a:lnTo>
                      <a:pt x="470" y="177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267440" y="1763640"/>
                <a:ext cx="505440" cy="280800"/>
              </a:xfrm>
              <a:custGeom>
                <a:avLst/>
                <a:gdLst/>
                <a:ahLst/>
                <a:rect l="l" t="t" r="r" b="b"/>
                <a:pathLst>
                  <a:path w="470" h="177">
                    <a:moveTo>
                      <a:pt x="0" y="0"/>
                    </a:moveTo>
                    <a:lnTo>
                      <a:pt x="358" y="0"/>
                    </a:lnTo>
                    <a:lnTo>
                      <a:pt x="419" y="177"/>
                    </a:lnTo>
                    <a:lnTo>
                      <a:pt x="470" y="177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4" name=""/>
          <p:cNvSpPr/>
          <p:nvPr/>
        </p:nvSpPr>
        <p:spPr>
          <a:xfrm flipV="1">
            <a:off x="4756320" y="1762920"/>
            <a:ext cx="504720" cy="281160"/>
          </a:xfrm>
          <a:custGeom>
            <a:avLst/>
            <a:gdLst/>
            <a:ahLst/>
            <a:rect l="l" t="t" r="r" b="b"/>
            <a:pathLst>
              <a:path w="470" h="177">
                <a:moveTo>
                  <a:pt x="0" y="0"/>
                </a:moveTo>
                <a:lnTo>
                  <a:pt x="358" y="0"/>
                </a:lnTo>
                <a:lnTo>
                  <a:pt x="419" y="177"/>
                </a:lnTo>
                <a:lnTo>
                  <a:pt x="470" y="17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248440" y="1763640"/>
            <a:ext cx="506160" cy="281160"/>
          </a:xfrm>
          <a:custGeom>
            <a:avLst/>
            <a:gdLst/>
            <a:ahLst/>
            <a:rect l="l" t="t" r="r" b="b"/>
            <a:pathLst>
              <a:path w="470" h="177">
                <a:moveTo>
                  <a:pt x="0" y="0"/>
                </a:moveTo>
                <a:lnTo>
                  <a:pt x="358" y="0"/>
                </a:lnTo>
                <a:lnTo>
                  <a:pt x="419" y="177"/>
                </a:lnTo>
                <a:lnTo>
                  <a:pt x="470" y="17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367320" y="5743440"/>
            <a:ext cx="1249560" cy="368280"/>
            <a:chOff x="6367320" y="5743440"/>
            <a:chExt cx="1249560" cy="368280"/>
          </a:xfrm>
        </p:grpSpPr>
        <p:sp>
          <p:nvSpPr>
            <p:cNvPr id="167" name=""/>
            <p:cNvSpPr/>
            <p:nvPr/>
          </p:nvSpPr>
          <p:spPr>
            <a:xfrm>
              <a:off x="6367320" y="5743440"/>
              <a:ext cx="124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ff"/>
                  </a:solidFill>
                  <a:latin typeface="Times New Roman"/>
                </a:rPr>
                <a:t>READ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6478200" y="5791320"/>
              <a:ext cx="72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7578720" y="1133640"/>
            <a:ext cx="144144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Taktzyklus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1600"/>
            </a:br>
            <a:r>
              <a:rPr b="0" sz="1600" spc="-1" strike="noStrike">
                <a:solidFill>
                  <a:srgbClr val="000000"/>
                </a:solidFill>
                <a:latin typeface="Arial"/>
              </a:rPr>
              <a:t>40 Mhz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sz="1600" spc="-1" strike="noStrike">
                <a:solidFill>
                  <a:srgbClr val="000000"/>
                </a:solidFill>
                <a:latin typeface="Arial"/>
              </a:rPr>
              <a:t>(25 ns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Buszyklus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:  </a:t>
            </a:r>
            <a:br>
              <a:rPr sz="1600"/>
            </a:br>
            <a:r>
              <a:rPr b="0" sz="1600" spc="-1" strike="noStrike">
                <a:solidFill>
                  <a:srgbClr val="000000"/>
                </a:solidFill>
                <a:latin typeface="Arial"/>
              </a:rPr>
              <a:t>4 Taktzykl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 (100 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Timi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87440" y="1365120"/>
            <a:ext cx="8381880" cy="4805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cc66"/>
                </a:solidFill>
                <a:latin typeface="Arial"/>
              </a:rPr>
              <a:t>Lesen (R/W = 1)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0440">
              <a:lnSpc>
                <a:spcPct val="100000"/>
              </a:lnSpc>
              <a:spcBef>
                <a:spcPts val="876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inreichend schneller Speicher liefert seine Date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rgendwann im letzten Taktzyklus von (T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0440">
              <a:lnSpc>
                <a:spcPct val="100000"/>
              </a:lnSpc>
              <a:spcBef>
                <a:spcPts val="1001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Übernahme der Daten in den Prozessor durch die steigende Taktflanke des nächsten Buszykl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0440">
              <a:lnSpc>
                <a:spcPct val="100000"/>
              </a:lnSpc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4d4d"/>
                </a:solidFill>
                <a:latin typeface="Arial"/>
              </a:rPr>
              <a:t>Schreiben (R/W = 0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0440">
              <a:lnSpc>
                <a:spcPct val="100000"/>
              </a:lnSpc>
              <a:spcBef>
                <a:spcPts val="876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zessor legt die Daten zu Beginn der zweiten Takthälfte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on (Ta) auf den System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0440">
              <a:lnSpc>
                <a:spcPct val="100000"/>
              </a:lnSpc>
              <a:spcBef>
                <a:spcPts val="1001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Übernahme der Daten in den Speicher durch die steigende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lanke von R/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0440">
              <a:lnSpc>
                <a:spcPct val="100000"/>
              </a:lnSpc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m Timing-Diagramm: Speicherzugriffzeit von ca. 75 ns erforderl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752480" y="1363680"/>
            <a:ext cx="23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25520" y="3400560"/>
            <a:ext cx="23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832120" y="4871880"/>
            <a:ext cx="233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Semi-synchroner Systembu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47560" y="1138320"/>
            <a:ext cx="8358480" cy="49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Moderne Prozessoren besitzen höhere Taktfrequenz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Schreibe-  bzw. Lesezyklus benötigt mehrere Taktzyk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Steuereingang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(READY)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zur Anforderung von Wartezyklen 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(wait st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095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unterschiedlich schnelle Speicher und Gerät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können individuell bedient 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095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Timing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09520">
              <a:lnSpc>
                <a:spcPct val="100000"/>
              </a:lnSpc>
              <a:spcBef>
                <a:spcPts val="901"/>
              </a:spcBef>
              <a:buClr>
                <a:srgbClr val="339966"/>
              </a:buClr>
              <a:buSzPct val="75000"/>
              <a:buFont typeface="Monotype Sorts" charset="2"/>
              <a:buChar char="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resse wird zu Beginn des Buszyklus (Ta) auf de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Adressbus gele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09520">
              <a:lnSpc>
                <a:spcPct val="100000"/>
              </a:lnSpc>
              <a:spcBef>
                <a:spcPts val="1049"/>
              </a:spcBef>
              <a:buClr>
                <a:srgbClr val="339966"/>
              </a:buClr>
              <a:buSzPct val="75000"/>
              <a:buFont typeface="Monotype Sorts" charset="2"/>
              <a:buChar char="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wahl der Übertragungsrichtrung wieder durch R/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415360" y="5646600"/>
            <a:ext cx="31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 flipV="1">
            <a:off x="7142040" y="5884200"/>
            <a:ext cx="997200" cy="258840"/>
          </a:xfrm>
          <a:custGeom>
            <a:avLst/>
            <a:gdLst>
              <a:gd name="textAreaLeft" fmla="*/ 184680 w 997200"/>
              <a:gd name="textAreaRight" fmla="*/ 812520 w 997200"/>
              <a:gd name="textAreaTop" fmla="*/ 47880 h 258840"/>
              <a:gd name="textAreaBottom" fmla="*/ 210960 h 25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542" y="21600"/>
                </a:lnTo>
                <a:lnTo>
                  <a:pt x="4058" y="216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95200" y="5884200"/>
            <a:ext cx="779400" cy="258840"/>
          </a:xfrm>
          <a:custGeom>
            <a:avLst/>
            <a:gdLst>
              <a:gd name="textAreaLeft" fmla="*/ 158400 w 779400"/>
              <a:gd name="textAreaRight" fmla="*/ 621000 w 779400"/>
              <a:gd name="textAreaTop" fmla="*/ 52560 h 258840"/>
              <a:gd name="textAreaBottom" fmla="*/ 206280 h 25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849" y="21600"/>
                </a:lnTo>
                <a:lnTo>
                  <a:pt x="4751" y="216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96840" y="6148440"/>
            <a:ext cx="65880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47720" y="5896080"/>
            <a:ext cx="2476440" cy="247680"/>
          </a:xfrm>
          <a:prstGeom prst="parallelogram">
            <a:avLst>
              <a:gd name="adj" fmla="val 80127"/>
            </a:avLst>
          </a:pr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24160" y="5886360"/>
            <a:ext cx="3229200" cy="257400"/>
          </a:xfrm>
          <a:custGeom>
            <a:avLst/>
            <a:gdLst/>
            <a:ahLst/>
            <a:rect l="l" t="t" r="r" b="b"/>
            <a:pathLst>
              <a:path w="2034" h="162">
                <a:moveTo>
                  <a:pt x="0" y="0"/>
                </a:moveTo>
                <a:lnTo>
                  <a:pt x="1164" y="6"/>
                </a:lnTo>
                <a:lnTo>
                  <a:pt x="1266" y="162"/>
                </a:lnTo>
                <a:lnTo>
                  <a:pt x="2034" y="162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92160" y="5326920"/>
            <a:ext cx="1541520" cy="260280"/>
          </a:xfrm>
          <a:custGeom>
            <a:avLst/>
            <a:gdLst>
              <a:gd name="textAreaLeft" fmla="*/ 237240 w 1541520"/>
              <a:gd name="textAreaRight" fmla="*/ 1304280 w 1541520"/>
              <a:gd name="textAreaTop" fmla="*/ 39960 h 260280"/>
              <a:gd name="textAreaBottom" fmla="*/ 220320 h 260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761" y="21600"/>
                </a:lnTo>
                <a:lnTo>
                  <a:pt x="2839" y="216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6827760" y="5326920"/>
            <a:ext cx="1119240" cy="260280"/>
          </a:xfrm>
          <a:custGeom>
            <a:avLst/>
            <a:gdLst>
              <a:gd name="textAreaLeft" fmla="*/ 197280 w 1119240"/>
              <a:gd name="textAreaRight" fmla="*/ 921960 w 1119240"/>
              <a:gd name="textAreaTop" fmla="*/ 45720 h 260280"/>
              <a:gd name="textAreaBottom" fmla="*/ 214560 h 260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893" y="21600"/>
                </a:lnTo>
                <a:lnTo>
                  <a:pt x="3707" y="216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623960" y="5587920"/>
            <a:ext cx="54705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7180200" y="4064760"/>
            <a:ext cx="996840" cy="258840"/>
          </a:xfrm>
          <a:custGeom>
            <a:avLst/>
            <a:gdLst>
              <a:gd name="textAreaLeft" fmla="*/ 184680 w 996840"/>
              <a:gd name="textAreaRight" fmla="*/ 812160 w 996840"/>
              <a:gd name="textAreaTop" fmla="*/ 47880 h 258840"/>
              <a:gd name="textAreaBottom" fmla="*/ 210960 h 25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542" y="21600"/>
                </a:lnTo>
                <a:lnTo>
                  <a:pt x="4058" y="2160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333360" y="4064760"/>
            <a:ext cx="779400" cy="258840"/>
          </a:xfrm>
          <a:custGeom>
            <a:avLst/>
            <a:gdLst>
              <a:gd name="textAreaLeft" fmla="*/ 158400 w 779400"/>
              <a:gd name="textAreaRight" fmla="*/ 621000 w 779400"/>
              <a:gd name="textAreaTop" fmla="*/ 52560 h 258840"/>
              <a:gd name="textAreaBottom" fmla="*/ 206280 h 25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849" y="21600"/>
                </a:lnTo>
                <a:lnTo>
                  <a:pt x="4751" y="21600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Einfügen eines Wartezyklu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560600" y="3230640"/>
            <a:ext cx="4751280" cy="0"/>
          </a:xfrm>
          <a:prstGeom prst="line">
            <a:avLst/>
          </a:prstGeom>
          <a:ln w="190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54120" y="4896000"/>
            <a:ext cx="2363760" cy="19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584680" y="1811160"/>
            <a:ext cx="981360" cy="292320"/>
          </a:xfrm>
          <a:custGeom>
            <a:avLst/>
            <a:gdLst/>
            <a:ahLst/>
            <a:rect l="l" t="t" r="r" b="b"/>
            <a:pathLst>
              <a:path w="769" h="184">
                <a:moveTo>
                  <a:pt x="0" y="184"/>
                </a:moveTo>
                <a:lnTo>
                  <a:pt x="321" y="182"/>
                </a:lnTo>
                <a:lnTo>
                  <a:pt x="373" y="0"/>
                </a:lnTo>
                <a:lnTo>
                  <a:pt x="675" y="0"/>
                </a:lnTo>
                <a:lnTo>
                  <a:pt x="726" y="177"/>
                </a:lnTo>
                <a:lnTo>
                  <a:pt x="769" y="17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135000" y="1841400"/>
            <a:ext cx="714240" cy="281160"/>
          </a:xfrm>
          <a:custGeom>
            <a:avLst/>
            <a:gdLst/>
            <a:ahLst/>
            <a:rect l="l" t="t" r="r" b="b"/>
            <a:pathLst>
              <a:path w="470" h="177">
                <a:moveTo>
                  <a:pt x="0" y="0"/>
                </a:moveTo>
                <a:lnTo>
                  <a:pt x="358" y="0"/>
                </a:lnTo>
                <a:lnTo>
                  <a:pt x="419" y="177"/>
                </a:lnTo>
                <a:lnTo>
                  <a:pt x="470" y="17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06200" y="2508120"/>
            <a:ext cx="1476360" cy="260640"/>
          </a:xfrm>
          <a:prstGeom prst="hexagon">
            <a:avLst>
              <a:gd name="adj" fmla="val 41119"/>
              <a:gd name="vf" fmla="val 115470"/>
            </a:avLst>
          </a:prstGeom>
          <a:blipFill rotWithShape="0">
            <a:blip r:embed="rId8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90840" y="2508120"/>
            <a:ext cx="5628960" cy="260640"/>
          </a:xfrm>
          <a:prstGeom prst="hexagon">
            <a:avLst>
              <a:gd name="adj" fmla="val 49892"/>
              <a:gd name="vf" fmla="val 11547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213680" y="2498760"/>
            <a:ext cx="657000" cy="270000"/>
          </a:xfrm>
          <a:prstGeom prst="hexagon">
            <a:avLst>
              <a:gd name="adj" fmla="val 49376"/>
              <a:gd name="vf" fmla="val 115470"/>
            </a:avLst>
          </a:prstGeom>
          <a:blipFill rotWithShape="0">
            <a:blip r:embed="rId9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0360" y="3102120"/>
            <a:ext cx="1476360" cy="257040"/>
          </a:xfrm>
          <a:prstGeom prst="hexagon">
            <a:avLst>
              <a:gd name="adj" fmla="val 41695"/>
              <a:gd name="vf" fmla="val 115470"/>
            </a:avLst>
          </a:prstGeom>
          <a:blipFill rotWithShape="0">
            <a:blip r:embed="rId10"/>
            <a:srcRect/>
            <a:tile tx="0" ty="0" sx="100000" sy="100000" algn="ctr"/>
          </a:blipFill>
          <a:ln w="190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297480" y="3102120"/>
            <a:ext cx="954360" cy="257040"/>
          </a:xfrm>
          <a:prstGeom prst="hexagon">
            <a:avLst>
              <a:gd name="adj" fmla="val 40996"/>
              <a:gd name="vf" fmla="val 115470"/>
            </a:avLst>
          </a:prstGeom>
          <a:solidFill>
            <a:srgbClr val="ffffff"/>
          </a:solidFill>
          <a:ln w="190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253280" y="3230640"/>
            <a:ext cx="460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3360" y="3632040"/>
            <a:ext cx="1503360" cy="260640"/>
          </a:xfrm>
          <a:custGeom>
            <a:avLst/>
            <a:gdLst>
              <a:gd name="textAreaLeft" fmla="*/ 231480 w 1503360"/>
              <a:gd name="textAreaRight" fmla="*/ 1271880 w 1503360"/>
              <a:gd name="textAreaTop" fmla="*/ 39960 h 260640"/>
              <a:gd name="textAreaBottom" fmla="*/ 220680 h 260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761" y="21600"/>
                </a:lnTo>
                <a:lnTo>
                  <a:pt x="2839" y="21600"/>
                </a:lnTo>
                <a:close/>
              </a:path>
            </a:pathLst>
          </a:custGeom>
          <a:blipFill rotWithShape="0">
            <a:blip r:embed="rId11"/>
            <a:srcRect/>
            <a:tile tx="0" ty="0" sx="100000" sy="100000" algn="ctr"/>
          </a:blipFill>
          <a:ln w="190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066080" y="3632040"/>
            <a:ext cx="1119240" cy="260640"/>
          </a:xfrm>
          <a:custGeom>
            <a:avLst/>
            <a:gdLst>
              <a:gd name="textAreaLeft" fmla="*/ 197280 w 1119240"/>
              <a:gd name="textAreaRight" fmla="*/ 921960 w 1119240"/>
              <a:gd name="textAreaTop" fmla="*/ 45720 h 260640"/>
              <a:gd name="textAreaBottom" fmla="*/ 214920 h 260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893" y="21600"/>
                </a:lnTo>
                <a:lnTo>
                  <a:pt x="3707" y="21600"/>
                </a:lnTo>
                <a:close/>
              </a:path>
            </a:pathLst>
          </a:custGeom>
          <a:blipFill rotWithShape="0">
            <a:blip r:embed="rId12"/>
            <a:srcRect/>
            <a:tile tx="0" ty="0" sx="100000" sy="100000" algn="ctr"/>
          </a:blipFill>
          <a:ln w="190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595520" y="3632040"/>
            <a:ext cx="5470560" cy="0"/>
          </a:xfrm>
          <a:prstGeom prst="line">
            <a:avLst/>
          </a:prstGeom>
          <a:ln w="190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20840" y="4786200"/>
            <a:ext cx="4977000" cy="258840"/>
          </a:xfrm>
          <a:prstGeom prst="hexagon">
            <a:avLst>
              <a:gd name="adj" fmla="val 47892"/>
              <a:gd name="vf" fmla="val 115470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178760" y="4915080"/>
            <a:ext cx="7286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000" y="1763640"/>
            <a:ext cx="595440" cy="445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462800" y="1652760"/>
            <a:ext cx="746280" cy="452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346040" y="1314360"/>
            <a:ext cx="0" cy="477216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059440" y="1504800"/>
            <a:ext cx="0" cy="456264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95720" y="1636560"/>
            <a:ext cx="0" cy="445140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797280" y="1104840"/>
            <a:ext cx="3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068560" y="1379520"/>
            <a:ext cx="4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33720" y="1379520"/>
            <a:ext cx="4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1345680" y="1555920"/>
            <a:ext cx="752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409840" y="1555920"/>
            <a:ext cx="785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3195360" y="1555920"/>
            <a:ext cx="809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305240" y="1555920"/>
            <a:ext cx="763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1346040" y="1341360"/>
            <a:ext cx="2517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218120" y="1341360"/>
            <a:ext cx="2689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306600" y="2430360"/>
            <a:ext cx="9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dre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61200" y="3029040"/>
            <a:ext cx="8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49760" y="4726080"/>
            <a:ext cx="83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7160" y="2784600"/>
            <a:ext cx="97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cc66"/>
                </a:solidFill>
                <a:latin typeface="Times New Roman"/>
              </a:rPr>
              <a:t>Les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30320" y="4545000"/>
            <a:ext cx="12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Times New Roman"/>
              </a:rPr>
              <a:t>Schreib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830160" y="1820880"/>
            <a:ext cx="3847320" cy="301680"/>
            <a:chOff x="830160" y="1820880"/>
            <a:chExt cx="3847320" cy="301680"/>
          </a:xfrm>
        </p:grpSpPr>
        <p:grpSp>
          <p:nvGrpSpPr>
            <p:cNvPr id="224" name=""/>
            <p:cNvGrpSpPr/>
            <p:nvPr/>
          </p:nvGrpSpPr>
          <p:grpSpPr>
            <a:xfrm>
              <a:off x="830160" y="1829880"/>
              <a:ext cx="2004840" cy="292680"/>
              <a:chOff x="830160" y="1829880"/>
              <a:chExt cx="2004840" cy="292680"/>
            </a:xfrm>
          </p:grpSpPr>
          <p:sp>
            <p:nvSpPr>
              <p:cNvPr id="225" name=""/>
              <p:cNvSpPr/>
              <p:nvPr/>
            </p:nvSpPr>
            <p:spPr>
              <a:xfrm>
                <a:off x="951120" y="1830240"/>
                <a:ext cx="980640" cy="292320"/>
              </a:xfrm>
              <a:custGeom>
                <a:avLst/>
                <a:gdLst/>
                <a:ahLst/>
                <a:rect l="l" t="t" r="r" b="b"/>
                <a:pathLst>
                  <a:path w="769" h="184">
                    <a:moveTo>
                      <a:pt x="0" y="184"/>
                    </a:moveTo>
                    <a:lnTo>
                      <a:pt x="321" y="182"/>
                    </a:lnTo>
                    <a:lnTo>
                      <a:pt x="373" y="0"/>
                    </a:lnTo>
                    <a:lnTo>
                      <a:pt x="675" y="0"/>
                    </a:lnTo>
                    <a:lnTo>
                      <a:pt x="726" y="177"/>
                    </a:lnTo>
                    <a:lnTo>
                      <a:pt x="769" y="177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V="1">
                <a:off x="1865520" y="1829520"/>
                <a:ext cx="505080" cy="281160"/>
              </a:xfrm>
              <a:custGeom>
                <a:avLst/>
                <a:gdLst/>
                <a:ahLst/>
                <a:rect l="l" t="t" r="r" b="b"/>
                <a:pathLst>
                  <a:path w="470" h="177">
                    <a:moveTo>
                      <a:pt x="0" y="0"/>
                    </a:moveTo>
                    <a:lnTo>
                      <a:pt x="358" y="0"/>
                    </a:lnTo>
                    <a:lnTo>
                      <a:pt x="419" y="177"/>
                    </a:lnTo>
                    <a:lnTo>
                      <a:pt x="470" y="177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329920" y="1830240"/>
                <a:ext cx="505080" cy="281160"/>
              </a:xfrm>
              <a:custGeom>
                <a:avLst/>
                <a:gdLst/>
                <a:ahLst/>
                <a:rect l="l" t="t" r="r" b="b"/>
                <a:pathLst>
                  <a:path w="470" h="177">
                    <a:moveTo>
                      <a:pt x="0" y="0"/>
                    </a:moveTo>
                    <a:lnTo>
                      <a:pt x="358" y="0"/>
                    </a:lnTo>
                    <a:lnTo>
                      <a:pt x="419" y="177"/>
                    </a:lnTo>
                    <a:lnTo>
                      <a:pt x="470" y="177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 flipV="1">
                <a:off x="830160" y="1839960"/>
                <a:ext cx="504720" cy="280800"/>
              </a:xfrm>
              <a:custGeom>
                <a:avLst/>
                <a:gdLst/>
                <a:ahLst/>
                <a:rect l="l" t="t" r="r" b="b"/>
                <a:pathLst>
                  <a:path w="470" h="177">
                    <a:moveTo>
                      <a:pt x="0" y="0"/>
                    </a:moveTo>
                    <a:lnTo>
                      <a:pt x="358" y="0"/>
                    </a:lnTo>
                    <a:lnTo>
                      <a:pt x="419" y="177"/>
                    </a:lnTo>
                    <a:lnTo>
                      <a:pt x="470" y="177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2793600" y="1820880"/>
              <a:ext cx="1883880" cy="291960"/>
              <a:chOff x="2793600" y="1820880"/>
              <a:chExt cx="1883880" cy="291960"/>
            </a:xfrm>
          </p:grpSpPr>
          <p:sp>
            <p:nvSpPr>
              <p:cNvPr id="230" name=""/>
              <p:cNvSpPr/>
              <p:nvPr/>
            </p:nvSpPr>
            <p:spPr>
              <a:xfrm>
                <a:off x="2793600" y="1820880"/>
                <a:ext cx="981360" cy="291960"/>
              </a:xfrm>
              <a:custGeom>
                <a:avLst/>
                <a:gdLst/>
                <a:ahLst/>
                <a:rect l="l" t="t" r="r" b="b"/>
                <a:pathLst>
                  <a:path w="769" h="184">
                    <a:moveTo>
                      <a:pt x="0" y="184"/>
                    </a:moveTo>
                    <a:lnTo>
                      <a:pt x="321" y="182"/>
                    </a:lnTo>
                    <a:lnTo>
                      <a:pt x="373" y="0"/>
                    </a:lnTo>
                    <a:lnTo>
                      <a:pt x="675" y="0"/>
                    </a:lnTo>
                    <a:lnTo>
                      <a:pt x="726" y="177"/>
                    </a:lnTo>
                    <a:lnTo>
                      <a:pt x="769" y="177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V="1">
                <a:off x="3708360" y="1820880"/>
                <a:ext cx="504000" cy="280800"/>
              </a:xfrm>
              <a:custGeom>
                <a:avLst/>
                <a:gdLst/>
                <a:ahLst/>
                <a:rect l="l" t="t" r="r" b="b"/>
                <a:pathLst>
                  <a:path w="470" h="177">
                    <a:moveTo>
                      <a:pt x="0" y="0"/>
                    </a:moveTo>
                    <a:lnTo>
                      <a:pt x="358" y="0"/>
                    </a:lnTo>
                    <a:lnTo>
                      <a:pt x="419" y="177"/>
                    </a:lnTo>
                    <a:lnTo>
                      <a:pt x="470" y="177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172040" y="1820880"/>
                <a:ext cx="505440" cy="280800"/>
              </a:xfrm>
              <a:custGeom>
                <a:avLst/>
                <a:gdLst/>
                <a:ahLst/>
                <a:rect l="l" t="t" r="r" b="b"/>
                <a:pathLst>
                  <a:path w="470" h="177">
                    <a:moveTo>
                      <a:pt x="0" y="0"/>
                    </a:moveTo>
                    <a:lnTo>
                      <a:pt x="358" y="0"/>
                    </a:lnTo>
                    <a:lnTo>
                      <a:pt x="419" y="177"/>
                    </a:lnTo>
                    <a:lnTo>
                      <a:pt x="470" y="177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3" name=""/>
          <p:cNvSpPr/>
          <p:nvPr/>
        </p:nvSpPr>
        <p:spPr>
          <a:xfrm flipV="1">
            <a:off x="4660920" y="1820880"/>
            <a:ext cx="504720" cy="280800"/>
          </a:xfrm>
          <a:custGeom>
            <a:avLst/>
            <a:gdLst/>
            <a:ahLst/>
            <a:rect l="l" t="t" r="r" b="b"/>
            <a:pathLst>
              <a:path w="470" h="177">
                <a:moveTo>
                  <a:pt x="0" y="0"/>
                </a:moveTo>
                <a:lnTo>
                  <a:pt x="358" y="0"/>
                </a:lnTo>
                <a:lnTo>
                  <a:pt x="419" y="177"/>
                </a:lnTo>
                <a:lnTo>
                  <a:pt x="470" y="17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153040" y="1820880"/>
            <a:ext cx="506520" cy="280800"/>
          </a:xfrm>
          <a:custGeom>
            <a:avLst/>
            <a:gdLst/>
            <a:ahLst/>
            <a:rect l="l" t="t" r="r" b="b"/>
            <a:pathLst>
              <a:path w="470" h="177">
                <a:moveTo>
                  <a:pt x="0" y="0"/>
                </a:moveTo>
                <a:lnTo>
                  <a:pt x="358" y="0"/>
                </a:lnTo>
                <a:lnTo>
                  <a:pt x="419" y="177"/>
                </a:lnTo>
                <a:lnTo>
                  <a:pt x="470" y="17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534440" y="1724040"/>
            <a:ext cx="6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ak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534440" y="3019320"/>
            <a:ext cx="13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,..., D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7581960" y="5229360"/>
            <a:ext cx="801720" cy="368280"/>
            <a:chOff x="7581960" y="5229360"/>
            <a:chExt cx="801720" cy="368280"/>
          </a:xfrm>
        </p:grpSpPr>
        <p:sp>
          <p:nvSpPr>
            <p:cNvPr id="238" name=""/>
            <p:cNvSpPr/>
            <p:nvPr/>
          </p:nvSpPr>
          <p:spPr>
            <a:xfrm>
              <a:off x="7581960" y="5229360"/>
              <a:ext cx="80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0000"/>
                  </a:solidFill>
                  <a:latin typeface="Times New Roman"/>
                </a:rPr>
                <a:t>R/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7921440" y="527688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7581960" y="4713120"/>
            <a:ext cx="134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,..., D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7534440" y="3543480"/>
            <a:ext cx="801360" cy="368280"/>
            <a:chOff x="7534440" y="3543480"/>
            <a:chExt cx="801360" cy="368280"/>
          </a:xfrm>
        </p:grpSpPr>
        <p:sp>
          <p:nvSpPr>
            <p:cNvPr id="242" name=""/>
            <p:cNvSpPr/>
            <p:nvPr/>
          </p:nvSpPr>
          <p:spPr>
            <a:xfrm>
              <a:off x="7534440" y="3543480"/>
              <a:ext cx="80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cc66"/>
                  </a:solidFill>
                  <a:latin typeface="Times New Roman"/>
                </a:rPr>
                <a:t>R/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7864200" y="3591000"/>
              <a:ext cx="190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7629480" y="2362320"/>
            <a:ext cx="1617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15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,..., A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7581960" y="5810400"/>
            <a:ext cx="1249200" cy="368280"/>
            <a:chOff x="7581960" y="5810400"/>
            <a:chExt cx="1249200" cy="368280"/>
          </a:xfrm>
        </p:grpSpPr>
        <p:sp>
          <p:nvSpPr>
            <p:cNvPr id="246" name=""/>
            <p:cNvSpPr/>
            <p:nvPr/>
          </p:nvSpPr>
          <p:spPr>
            <a:xfrm>
              <a:off x="7581960" y="5810400"/>
              <a:ext cx="124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ff"/>
                  </a:solidFill>
                  <a:latin typeface="Times New Roman"/>
                </a:rPr>
                <a:t>READ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7692840" y="5857920"/>
              <a:ext cx="723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6527880" y="1801800"/>
            <a:ext cx="981000" cy="291960"/>
          </a:xfrm>
          <a:custGeom>
            <a:avLst/>
            <a:gdLst/>
            <a:ahLst/>
            <a:rect l="l" t="t" r="r" b="b"/>
            <a:pathLst>
              <a:path w="769" h="184">
                <a:moveTo>
                  <a:pt x="0" y="184"/>
                </a:moveTo>
                <a:lnTo>
                  <a:pt x="321" y="182"/>
                </a:lnTo>
                <a:lnTo>
                  <a:pt x="373" y="0"/>
                </a:lnTo>
                <a:lnTo>
                  <a:pt x="675" y="0"/>
                </a:lnTo>
                <a:lnTo>
                  <a:pt x="726" y="177"/>
                </a:lnTo>
                <a:lnTo>
                  <a:pt x="769" y="17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945480" y="1314360"/>
            <a:ext cx="0" cy="475308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772240" y="1379520"/>
            <a:ext cx="5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5062320" y="1565280"/>
            <a:ext cx="809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172200" y="1565280"/>
            <a:ext cx="763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7534440" y="4019400"/>
            <a:ext cx="1249200" cy="368280"/>
            <a:chOff x="7534440" y="4019400"/>
            <a:chExt cx="1249200" cy="368280"/>
          </a:xfrm>
        </p:grpSpPr>
        <p:sp>
          <p:nvSpPr>
            <p:cNvPr id="254" name=""/>
            <p:cNvSpPr/>
            <p:nvPr/>
          </p:nvSpPr>
          <p:spPr>
            <a:xfrm>
              <a:off x="7534440" y="4019400"/>
              <a:ext cx="124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ff"/>
                  </a:solidFill>
                  <a:latin typeface="Times New Roman"/>
                </a:rPr>
                <a:t>READ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7645320" y="4066920"/>
              <a:ext cx="723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1035000" y="4329000"/>
            <a:ext cx="65880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685880" y="4076640"/>
            <a:ext cx="2476440" cy="247680"/>
          </a:xfrm>
          <a:prstGeom prst="parallelogram">
            <a:avLst>
              <a:gd name="adj" fmla="val 80127"/>
            </a:avLst>
          </a:prstGeom>
          <a:blipFill rotWithShape="0">
            <a:blip r:embed="rId13"/>
            <a:srcRect/>
            <a:tile tx="0" ty="0" sx="100000" sy="100000" algn="ctr"/>
          </a:blip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162320" y="4067280"/>
            <a:ext cx="3229200" cy="257040"/>
          </a:xfrm>
          <a:custGeom>
            <a:avLst/>
            <a:gdLst/>
            <a:ahLst/>
            <a:rect l="l" t="t" r="r" b="b"/>
            <a:pathLst>
              <a:path w="2034" h="162">
                <a:moveTo>
                  <a:pt x="0" y="0"/>
                </a:moveTo>
                <a:lnTo>
                  <a:pt x="1164" y="6"/>
                </a:lnTo>
                <a:lnTo>
                  <a:pt x="1266" y="162"/>
                </a:lnTo>
                <a:lnTo>
                  <a:pt x="2034" y="162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47920" y="1150920"/>
            <a:ext cx="12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 = 150 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Semi-synchroner Systembu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6280" y="1200240"/>
            <a:ext cx="8381880" cy="39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m auch langsamere Speicher benutzen zu könne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cc"/>
                </a:solidFill>
                <a:latin typeface="Arial"/>
              </a:rPr>
              <a:t>Steuereingang  REA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cc"/>
                </a:solidFill>
                <a:latin typeface="Arial"/>
              </a:rPr>
              <a:t>Buszyklus wird nur abgeschlossen, wenn rechtzeitig vor Ende von der Takthälfte (Tb)  READY = 0 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Ist READY am Ende des Buszyklus nicht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Es werden solange 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Wartezyklen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(Tw, Dauer z.B. halbe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Buszykluslänge) eingefügt, bis READY = 0 wi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957400" y="1833480"/>
            <a:ext cx="825480" cy="0"/>
          </a:xfrm>
          <a:prstGeom prst="line">
            <a:avLst/>
          </a:prstGeom>
          <a:ln w="28440">
            <a:solidFill>
              <a:srgbClr val="000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259080" y="2835360"/>
            <a:ext cx="825480" cy="0"/>
          </a:xfrm>
          <a:prstGeom prst="line">
            <a:avLst/>
          </a:prstGeom>
          <a:ln w="19080">
            <a:solidFill>
              <a:srgbClr val="000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944640" y="3770280"/>
            <a:ext cx="825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834080" y="4759200"/>
            <a:ext cx="825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28760" y="5345280"/>
            <a:ext cx="8277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m Beispiel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1 Wartezyklus   </a:t>
            </a:r>
            <a:r>
              <a:rPr b="0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 Speicher mit 150 ns Zugriffszeit verwendb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6T11:54:09Z</dcterms:created>
  <dc:creator>Mladen Milushev</dc:creator>
  <dc:description/>
  <dc:language>en-US</dc:language>
  <cp:lastModifiedBy>Mladen Milushev</cp:lastModifiedBy>
  <cp:lastPrinted>2000-05-02T16:11:13Z</cp:lastPrinted>
  <dcterms:modified xsi:type="dcterms:W3CDTF">2003-10-28T15:05:16Z</dcterms:modified>
  <cp:revision>577</cp:revision>
  <dc:subject/>
  <dc:title>TI2-Vl5</dc:title>
</cp:coreProperties>
</file>