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19B1-BAE4-412C-9221-EBB69DC79B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99"/>
                </a:solidFill>
                <a:latin typeface="Arial"/>
              </a:rPr>
              <a:t>2. Üb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41240" y="2529000"/>
            <a:ext cx="3143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IMA-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Mima-Architektur</a:t>
            </a:r>
            <a:br>
              <a:rPr sz="36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4120" y="1243080"/>
            <a:ext cx="84693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Prinzip der Mikroprogrammierung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25560" y="1600200"/>
            <a:ext cx="729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Mima-Architektur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17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5120" y="3021120"/>
            <a:ext cx="380052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Beispiel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43360" y="1706400"/>
            <a:ext cx="3678480" cy="1665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73000" y="4146480"/>
            <a:ext cx="7850160" cy="84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20560" y="1065240"/>
            <a:ext cx="3986280" cy="3065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895320" y="4941720"/>
            <a:ext cx="695952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Befehlsformate, ALU-Operatio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0840" y="1285920"/>
            <a:ext cx="5037120" cy="46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95920" y="1436760"/>
            <a:ext cx="37684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2960" y="447840"/>
            <a:ext cx="722124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716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66840" y="140004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7-11-08T09:30:34Z</dcterms:modified>
  <cp:revision>925</cp:revision>
  <dc:subject/>
  <dc:title>TI-2</dc:title>
</cp:coreProperties>
</file>