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F7E-50C1-48CF-B456-EA0ED280C7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7840" y="1066680"/>
            <a:ext cx="83246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reversible Festwertspeicher:</a:t>
            </a:r>
            <a:r>
              <a:rPr b="1" lang="de-DE" sz="2200" spc="-1" strike="noStrike">
                <a:solidFill>
                  <a:srgbClr val="00b6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der Informationen kann wieder rückgängi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UV-löschbaren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Löschen durch UV-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Elektrisch lösch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lectrical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EPRO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im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-System selbst elektrisch gelöscht werd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Vorgang ist jedoch sehr langsam und nur begrenz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Flash-ROM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genauso wie EEPROMs elektrisch programmiert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Die Daten werden nicht byteweise sondern blockwei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elesen und geschrieb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8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8120" y="1305000"/>
            <a:ext cx="84488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 jeder Zeit lesbar und schreib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flüch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volatil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d.h. er geht bei Abschalten der Versorgungsspannung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tatische Schreib/Lese-Speicher (SRAM)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grated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680" y="1190520"/>
            <a:ext cx="8448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i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pflops. Flipflops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stabil, solange Versorgungsspann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vorha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Bipolar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chneller, aber groß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MOS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ngsamer, aber kleiner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9680" y="1190520"/>
            <a:ext cx="8448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wird als elektrische Ladung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ensator gespeich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Lesen bewirkt meist Entlad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estructiv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a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m Lesen muss w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eschri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adung geht nach einiger Zeit auch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ckströme verlor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iodische Auffrisch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rforderli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re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sdochte höher als S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1184400"/>
            <a:ext cx="8213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br>
              <a:rPr sz="2400"/>
            </a:b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 Speicher, welche die Schaltung fü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Wiederauffrischen mit auf dem Chip haben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ehen nach außen wie statische 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, sind jedoch im inneren 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Nicht-flüchtige RAM's (NVRA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non volatile RAM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" y="1409760"/>
            <a:ext cx="82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Festwertspeicher und Schreib/Le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auf einem 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doppelt ausgelegt, einmal al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tatische RAM-Zel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mal als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EEPROM-Ze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Normalbetrieb werden die RAM-Zellen benutz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Monotype Sorts"/>
                <a:ea typeface="Monotype Sorts"/>
              </a:rPr>
              <a:t>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pezielle Steuersch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laubt jedoch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pieren des RAM-Inhalts in das EEPRO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llgemeine Struktu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960" y="1184400"/>
            <a:ext cx="821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6680" y="1062000"/>
            <a:ext cx="878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1104840"/>
            <a:ext cx="823932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elemen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1 Bit Spei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zelle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(-platz, -stelle)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este Anzahl von Speicherelementen, die durch eine einzige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dresse ausgewählt werden,  z.B. 8, 16, 32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wor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Anzahl von Speicherelementen, die in einem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Buszyklus zwischen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P und Speicher übertragen werden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können  </a:t>
            </a:r>
            <a:r>
              <a:rPr b="0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peicherwortbreite = Datenbusbr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wahlfreier Zugriff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jede Speicherzelle kann direkt angesprochen werd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(ohne vorher andere Zellen ansprechen zu müsse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Selektion erfolgt über einen Adressdekoder.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dresse wird in einen 1-aus-n Code umgefor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8120" y="1104840"/>
            <a:ext cx="82393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Organisation: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Organisation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eines Speicherbausteins bzw. eines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s wird durch 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einer Speicherzellen und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r Speicherelemente / Zelle defini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ngabe in der Form:   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 x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4k x 8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 enthält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409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zellen je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bau aus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acht 4k x 1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zwei 4k x 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16-MBit-DRAM gibt es wahlweise mit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von 4Mx4, 2Mx8 oder 1Mx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8120" y="1104840"/>
            <a:ext cx="823932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Kapazitä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 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Informationsmenge (in Anzahl Bit), die im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untergebracht werden kann:  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de-DE" sz="22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Größen zur Charakterisierung der Arbeitsgeschwindigkeit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eines Speicherbausteins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ugriff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access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Zeitdauer, die vom Anlegen einer Adresse a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en Speicher bis zur Ausgabe der gewünschten Dat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yklu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cycle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: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inimale Zeitdauer, die zwischen zwei hintereinand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olgenden Aufschaltungen von Adressen an den Speicher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en mu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0" y="3606840"/>
            <a:ext cx="3383280" cy="304920"/>
          </a:xfrm>
          <a:prstGeom prst="hexagon">
            <a:avLst>
              <a:gd name="adj" fmla="val 36985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2400" y="2647800"/>
            <a:ext cx="6594480" cy="304920"/>
            <a:chOff x="1292400" y="2647800"/>
            <a:chExt cx="6594480" cy="304920"/>
          </a:xfrm>
        </p:grpSpPr>
        <p:sp>
          <p:nvSpPr>
            <p:cNvPr id="189" name=""/>
            <p:cNvSpPr/>
            <p:nvPr/>
          </p:nvSpPr>
          <p:spPr>
            <a:xfrm>
              <a:off x="1292400" y="2647800"/>
              <a:ext cx="1311120" cy="304920"/>
            </a:xfrm>
            <a:prstGeom prst="hexagon">
              <a:avLst>
                <a:gd name="adj" fmla="val 31214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75400" y="2647800"/>
              <a:ext cx="1311480" cy="304920"/>
            </a:xfrm>
            <a:prstGeom prst="hexagon">
              <a:avLst>
                <a:gd name="adj" fmla="val 31223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84440" y="2647800"/>
              <a:ext cx="3992760" cy="304560"/>
              <a:chOff x="2584440" y="2647800"/>
              <a:chExt cx="3992760" cy="30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3194280" y="2647800"/>
                <a:ext cx="3382920" cy="304560"/>
              </a:xfrm>
              <a:prstGeom prst="hexagon">
                <a:avLst>
                  <a:gd name="adj" fmla="val 3702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4440" y="2647800"/>
                <a:ext cx="3141720" cy="304560"/>
              </a:xfrm>
              <a:prstGeom prst="hexagon">
                <a:avLst>
                  <a:gd name="adj" fmla="val 34385"/>
                  <a:gd name="vf" fmla="val 11547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413240" y="3606840"/>
            <a:ext cx="3992400" cy="304920"/>
            <a:chOff x="4413240" y="3606840"/>
            <a:chExt cx="3992400" cy="304920"/>
          </a:xfrm>
        </p:grpSpPr>
        <p:sp>
          <p:nvSpPr>
            <p:cNvPr id="195" name=""/>
            <p:cNvSpPr/>
            <p:nvPr/>
          </p:nvSpPr>
          <p:spPr>
            <a:xfrm>
              <a:off x="5022720" y="3606840"/>
              <a:ext cx="3382920" cy="304920"/>
            </a:xfrm>
            <a:prstGeom prst="hexagon">
              <a:avLst>
                <a:gd name="adj" fmla="val 36981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3240" y="3606840"/>
              <a:ext cx="1300320" cy="304920"/>
            </a:xfrm>
            <a:prstGeom prst="hexagon">
              <a:avLst>
                <a:gd name="adj" fmla="val 3488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21240" y="1644480"/>
            <a:ext cx="0" cy="279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2440" y="16444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80160" y="1644480"/>
            <a:ext cx="0" cy="317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6560" y="2031840"/>
            <a:ext cx="113040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40760" y="2070000"/>
            <a:ext cx="113004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680" y="24922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80" y="346068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0" y="3844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695320" y="4680000"/>
            <a:ext cx="130500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3040" y="4680000"/>
            <a:ext cx="151452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5480" y="4330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3333cc"/>
                </a:solidFill>
                <a:latin typeface="Arial"/>
              </a:rPr>
              <a:t>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85960" y="420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203720"/>
            <a:ext cx="366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1305000"/>
            <a:ext cx="803916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ykluszeit kann erheblich länger als die Zugriffsz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 muß sich nach einem Zugriff “erhol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igen Speicherarten wird die Information dur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uslesen zerstört und muß erst wie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eschrieben werden (refresh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dealfa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=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alitä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ykluszeit  &gt; 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217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228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238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243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251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254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57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60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63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69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300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308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316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9680" y="1076400"/>
            <a:ext cx="83916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logik &amp; Bausteinauswah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CS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select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 oder C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austeinauswah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meist durch Adressdekoder aus den höchstwertigs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its erzeu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R/W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read/writ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uswahl Lesen oder Schreiben, nur bei RAMs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t die Richtung der Schreib/Leseverstärker und die Art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O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output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ktiviert die Ausgangstreiber an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busschnittstelle (schaltet den Speicherbaustein als Quell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den Datenbus, Tristate Tre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PGM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program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euprogrammieren des Bausteins, nur EPROMs,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EPROMs, NVRAMs, über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uß dann die Programmierspannun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12..21V) zugefüh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280" y="16858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8720" y="40100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143680"/>
            <a:ext cx="486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6400" y="28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8120" y="1095480"/>
            <a:ext cx="84200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teigt die Anzahl der Speicherzellen pro Auswahl-leitung einen bestimmten Wert 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lektrische Probleme (Kapazitä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fteilen der Matrix in Unter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ederwertige Adressbits bilden über Interfacetreiber (Treiberleistung, Pegelanpassung, Adresslatch) und einen1 aus n Decoder die Zeilenauswahl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wählen eine Zeile der Speichermatrix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9680" y="1057320"/>
            <a:ext cx="829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Auswahl einer ganzen Zeile in einer möglichst quadratischen Matrix werden i.A. erheblich mehr Speicherzellen angesprochen als aktuell ausgelesen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anzusprechenden bzw. auszulesen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 durch einen Spaltenauswahl-Sch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wird über Treiber und Decoder vo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herwertigen Adressbits gesteu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70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86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91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92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97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402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407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412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417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422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431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432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437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442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447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67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Prozessor-Speicher-Performance-Untrschi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496360" cy="384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160" y="5011560"/>
            <a:ext cx="831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mer größer werden dir Lücke zwischen Verarbeitungs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Prozessoren und Zugriffsgeschwindigkeit der DRAM Speichers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-Technologie-Tren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960" y="1085760"/>
            <a:ext cx="8277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295280"/>
            <a:ext cx="7896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Arten von Speicher in einem Rech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Hauptspeicher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und Peripherie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näher betrach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dächtni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des Rech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werden dort Programme und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“jeder Zeit sofort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erfügung steh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1270080"/>
            <a:ext cx="8299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 unterscheidet 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permanent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wertspeicher (ROM), nicht flüchti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Betriebssystemkern, System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vorübergehend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Kurz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/Lesespeicher (RAM), flüchti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Anwender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1276200"/>
            <a:ext cx="763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Arbeitsspeicher wird verwend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schließlich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, klein, zuverlässig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isgünstig (&lt; 1 DM /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ngkernspeicher (Magnetspeicher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öhren,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, groß, 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¼ Mbyte Speichererweiterung ein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BM / 360-75 kostete 1967 1 Million 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680" y="1104840"/>
            <a:ext cx="832464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während des Normalbetriebs nur lesbar. Inhalt 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cht flüchtig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on volatile),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.h. er geht bei Abschaltung der Versorgungsspannung nicht verl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irreversible Festwertspeicher:</a:t>
            </a:r>
            <a:r>
              <a:rPr b="0" lang="de-DE" sz="2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einer Information kann nicht wie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gängig 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maskenprogrammierten Festwertspeicher (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ung bei der Herstellung, nur bei großer Stück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programmier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maliges Programmieren durch den Anwender 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gerät (Durchbrennen von Verbindungen,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sable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02-02T09:13:21Z</dcterms:modified>
  <cp:revision>904</cp:revision>
  <dc:subject/>
  <dc:title>TI-2</dc:title>
</cp:coreProperties>
</file>