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964F-979B-44A9-8871-AA2FBE0D4B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Anmeldung zu den Tutori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1800" y="1247760"/>
            <a:ext cx="85060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, die gestern Bewertungen für Tutorien abgegeben haben, sollten diese heute nochmals überprüf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urch Lastprobleme kann es passiert sein, dass Eingaben inkonsistent s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abeschluss wird von 18:00 Uhr auf 19:00 Uhr verläng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2 Definitionen und Erklär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6280" y="1152360"/>
            <a:ext cx="8172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Arial"/>
              </a:rPr>
              <a:t>(central processing unit, CPU, Prozes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arbeitet Daten gemäß eines Programms, besteht aus Leitwerk und Rechenwe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Lei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Arial"/>
              </a:rPr>
              <a:t>(Steuerwerk, control unit,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olt die Befehle eines Programms aus dem Speicher, entschlüsselt sie und steuert ihre Ausführung in der verlangten Reihenfolge durch Steuer- und Synchronisier-Sig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2 Definitionen und Erklär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760" y="1200240"/>
            <a:ext cx="8172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Arial"/>
              </a:rPr>
              <a:t>(Operationswerk, Ausführungseinheit, A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Führt arithmetisch/logische Operationen aus, wird durch Steuersignale des Leitwerks beeinflußt und liefert seinerseits Meldesignale an das Leitwerk zurü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Speicher</a:t>
            </a:r>
            <a:r>
              <a:rPr b="0" sz="2400" spc="-1" strike="noStrike">
                <a:solidFill>
                  <a:srgbClr val="0000b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ort werden Programme und Daten aufbewah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von-Neumann-Konze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ternativ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arvard-Architektu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t getrenntem Programm- und Datenspeic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2 Definitionen und Erklär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6560" y="1143000"/>
            <a:ext cx="81727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läßt sich unterteilen in Peripherie- und Arbeits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9c00"/>
                </a:solidFill>
                <a:latin typeface="Arial"/>
              </a:rPr>
              <a:t>Peripheriespeicher (Massenspeic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zur permanenten Aufbewahrung und Archivierung großer Datenmengen, langsamer Datenzugr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9c00"/>
                </a:solidFill>
                <a:latin typeface="Arial"/>
              </a:rPr>
              <a:t>Arbeitsspeicher (Hauptspeicher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inear geordnete Liste von Speicherzellen zur Aufnahme von Befehlen und Operanden, schneller Datenzugriff, Inhalt nach Abschaltung des Rechners flüch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2 Definitionen und Erklär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640" y="1200240"/>
            <a:ext cx="79725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 Speicherzelle ist eindeutig durch ihre Nummer (Adresse) identifizierb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närcodierte Information zur eindeutigen Auswahl (Adressierung) eines bestimmten Speicherwortes, Registers oder einer Schnittstelle als Quelle oder Ziel eines Datentransportes (memory mapp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n einzelnen Speicherzellen ist nicht anzusehen, welchen Typ von Information sie enthält (beim von-Neumann-Konzep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ternativ: Typenkennung, tagged archite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2 Definitionen und Erklär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1266840"/>
            <a:ext cx="796284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Arial"/>
              </a:rPr>
              <a:t>Adreß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jenigen Leitungen, auf denen die Adreß-information transportiert wird (un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Arial"/>
              </a:rPr>
              <a:t>Daten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Transportieren Daten und Befehle von/zum Prozessor (b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Arial"/>
              </a:rPr>
              <a:t>Steuer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ben Steuerinformationen von/zum Prozessor (uni- oder b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2 Definitionen und Erklär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040" y="1266840"/>
            <a:ext cx="79628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Arial"/>
              </a:rPr>
              <a:t>Bus (Sammelschi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bindung mehrere Komponenten eines Rechners über dieselben Leitungen; dabei darf zu einem Zeitpunkt immer nur eine Komponente Informationen auf die Leitungen le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dc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dc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ßbus, Datenbus, Steuerbu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s Gesamtheit:  </a:t>
            </a:r>
            <a:r>
              <a:rPr b="1" sz="2400" spc="-1" strike="noStrike">
                <a:solidFill>
                  <a:srgbClr val="0000dc"/>
                </a:solidFill>
                <a:latin typeface="Arial"/>
              </a:rPr>
              <a:t>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1.2 Definitionen und Erklär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1190520"/>
            <a:ext cx="796284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dc"/>
                </a:solidFill>
                <a:latin typeface="Arial"/>
              </a:rPr>
              <a:t>Ein-/Ausgabe-Einheiten</a:t>
            </a:r>
            <a:r>
              <a:rPr b="0" sz="2400" spc="-1" strike="noStrike">
                <a:solidFill>
                  <a:srgbClr val="0000dc"/>
                </a:solidFill>
                <a:latin typeface="Arial"/>
              </a:rPr>
              <a:t> (Peripheriegerä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äte zur Eingabe von Daten und Programmen und zur Ausgabe der verarbeiteten Daten.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Bildschirme, Drucker, Terminals, ..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Geräte sind über Ein-/Ausgabe-Schnittstellen mit dem Rechner verbun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Verbindung der Schnittstellen mit dem Prozessor (und zu den Peripheriegeräten) geschieht durch Adreß-, Daten- und Steuerleit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Definition eines Mikrorechner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760" y="1123920"/>
            <a:ext cx="834372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dc"/>
                </a:solidFill>
                <a:latin typeface="Arial"/>
              </a:rPr>
              <a:t>Mikroprozessor (</a:t>
            </a:r>
            <a:r>
              <a:rPr b="1" sz="2400" spc="-1" strike="noStrike">
                <a:solidFill>
                  <a:srgbClr val="0000d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dc"/>
                </a:solidFill>
                <a:latin typeface="Arial"/>
              </a:rPr>
              <a:t>P):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Zentraleinheit eines Digitalrechner, die auf einem oder wenigen Chips untergebracht 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steht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tion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ittstell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zusätzl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n-Chip-Cache-Speicher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s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Definition eines Mikrorechner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760" y="1152360"/>
            <a:ext cx="812484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90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Mikroprogrammierter </a:t>
            </a:r>
            <a:r>
              <a:rPr b="1" sz="2400" spc="-1" strike="noStrike">
                <a:solidFill>
                  <a:srgbClr val="009000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P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ein Mikroprogramm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gramme sind vom Hersteller in einem Festwertspeicher untergebracht und vom Benutzer nicht änder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80x86, Pentium, 680x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90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Mikroprogrammierbarer</a:t>
            </a:r>
            <a:r>
              <a:rPr b="0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9000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P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gramme sind vom Benutzer änder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it-Slice-Prozessoren (heute sel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Definition eines Mikrorechner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760" y="1343160"/>
            <a:ext cx="77054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90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Mikroprogrammierter </a:t>
            </a:r>
            <a:r>
              <a:rPr b="1" sz="2400" spc="-1" strike="noStrike">
                <a:solidFill>
                  <a:srgbClr val="009000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P mit festverdrahtetem  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Schaltwe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ISC-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90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9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n-bit-</a:t>
            </a:r>
            <a:r>
              <a:rPr b="1" sz="2400" spc="-1" strike="noStrike">
                <a:solidFill>
                  <a:srgbClr val="009000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P</a:t>
            </a:r>
            <a:r>
              <a:rPr b="1" sz="2400" spc="-1" strike="noStrike">
                <a:solidFill>
                  <a:srgbClr val="009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9000"/>
                </a:solidFill>
                <a:latin typeface="Arial"/>
              </a:rPr>
              <a:t>(n=8, 16, 32, 64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 ist Breite des Datenbusses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reite der allgemeinen Register (die Breite der Information, die in einem Schritt von der ALU des Operationswerks verarbeitet werden ka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Kapitel 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5360" y="2136600"/>
            <a:ext cx="754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Prinzipieller Aufbau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eines Prozessors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Arial"/>
              </a:rPr>
              <a:t>Mikroprozessoren für spezielle Anwendung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2600" y="1590840"/>
            <a:ext cx="77724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eben Universal-Mikroprozessoren (Standard-Mikroprozessoren) existieren auch Mikroprozessoren für spezielle Anwend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ign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o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Definition eines Mikrorechner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2880" y="1438200"/>
            <a:ext cx="803916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Mikroprozessor-System</a:t>
            </a:r>
            <a:r>
              <a:rPr b="0" sz="2400" spc="-1" strike="noStrike">
                <a:solidFill>
                  <a:srgbClr val="0000be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gitales System, das einen Mikroprozessor als zentrale Steuer- und/oder Recheneinheit besi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Mikrorechner (Mikrocomput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einen Mikroprozessor, der über den Systembus mit Speicher, Cotrollern und Schnittstellen für Peripherie-Geräte verbun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Definition eines Mikrorechnersyste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1040" y="1160640"/>
            <a:ext cx="8077320" cy="49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Speziallfälle von Mikrorechn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-Chip-Mikro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Komponenten des Mikrocomputers befind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ich auf einem einzigen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-Platinen-Mikro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Komponenten des Mikrocomputers sind auf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r Platine auf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c0000"/>
                </a:solidFill>
                <a:latin typeface="Arial"/>
              </a:rPr>
              <a:t>Mikrorechner-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0000"/>
                </a:solidFill>
                <a:latin typeface="Arial"/>
              </a:rPr>
              <a:t>Mikrorechner mit angeschlossenen Peripheriegerä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Bestandteile eines Mikrorechner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8" name="1.2-1" descr=""/>
          <p:cNvPicPr/>
          <p:nvPr/>
        </p:nvPicPr>
        <p:blipFill>
          <a:blip r:embed="rId1"/>
          <a:stretch/>
        </p:blipFill>
        <p:spPr>
          <a:xfrm>
            <a:off x="1649520" y="1120680"/>
            <a:ext cx="54831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3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280" y="1320840"/>
            <a:ext cx="8585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1642: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Pas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rste funktionierende Rechenmaschine (Addition und Subtrak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in mechanisch, Betrieben mit einer Handkur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1672: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G. W. Leibn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4 Grundrech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echanik nicht voll funktionsfäh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1722-74:  M. H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echanische Problem weitgehend gelö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3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8280" y="1320840"/>
            <a:ext cx="85852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Charles Babbage (1792-18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8000"/>
                </a:solidFill>
                <a:latin typeface="Arial"/>
              </a:rPr>
              <a:t>Difference Engi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dition und Subtrak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nte der Berechnung von Zahlentabellen für di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chiff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ührte nur 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n einzigen Algorithmus (Methode der finit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fferenzen mit Hilfe von Polynom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rgebnisse wurden auf einer Kupferplatte gestanz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3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8280" y="1197000"/>
            <a:ext cx="84805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Charles Babbage (1792-18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8000"/>
                </a:solidFill>
                <a:latin typeface="Arial"/>
              </a:rPr>
              <a:t>Analytical Engi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rster Rechenautomat aus Speicher (Säulen), Recheneinheit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Mühle), Eingabeeinheit (Kartenleser) und 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rstmals Programmsteuerung über Lochkar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öglichkeit im Programm zu spr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rgebnisse wurden auf einer Kupferplatte gestan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hält bereits die meitsen Funktionsbaugruppen modern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chenautom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oftware: einfache Assembler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3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8280" y="1197000"/>
            <a:ext cx="8585280" cy="47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1936:  Konrad Z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aute Eine Reihe von programmgesteuerte Rechenmaschinen mittels elektromagnetischer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, Eingabewerk, Rechenwerk, Plansteuerwerk und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gabewe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wendung des Dualsystems und der halblogarithm.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ahlendarstellung (Gleitkommadarstellung) sowie des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sagenkakü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baute Maschinen (Z1, Z2, Z3 und Z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Maschinen wurden 1944 zerstört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Nachbau der Z3 steht im Deutschen Museum in Mün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8" name="Z1" descr=""/>
          <p:cNvPicPr/>
          <p:nvPr/>
        </p:nvPicPr>
        <p:blipFill>
          <a:blip r:embed="rId1"/>
          <a:stretch/>
        </p:blipFill>
        <p:spPr>
          <a:xfrm>
            <a:off x="1547640" y="1087560"/>
            <a:ext cx="5443560" cy="5089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8080" y="27511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abef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0560" y="3152880"/>
            <a:ext cx="828720" cy="2476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47760" y="1733400"/>
            <a:ext cx="90504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120" y="14558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076720" y="1333440"/>
            <a:ext cx="22003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9800" y="1103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tä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0560" y="3143160"/>
            <a:ext cx="1800360" cy="1162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47760" y="1752480"/>
            <a:ext cx="2305080" cy="809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333680" y="1343160"/>
            <a:ext cx="2933640" cy="1285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000" y="187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seger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33800" y="206676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95760" y="2085840"/>
            <a:ext cx="1905120" cy="619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23440" y="4170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981480" y="3466800"/>
            <a:ext cx="771480" cy="780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191280" y="4295880"/>
            <a:ext cx="1504800" cy="9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562720" y="3124080"/>
            <a:ext cx="2133360" cy="1162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771880" y="3619440"/>
            <a:ext cx="1895400" cy="666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05640" y="5448240"/>
            <a:ext cx="141912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12600" y="524664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ichen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762360" y="4076640"/>
            <a:ext cx="3324240" cy="13622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0" name="Z3" descr=""/>
          <p:cNvPicPr/>
          <p:nvPr/>
        </p:nvPicPr>
        <p:blipFill>
          <a:blip r:embed="rId1"/>
          <a:stretch/>
        </p:blipFill>
        <p:spPr>
          <a:xfrm>
            <a:off x="1952640" y="1109520"/>
            <a:ext cx="4830840" cy="502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09560" y="1828800"/>
            <a:ext cx="2019600" cy="847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8520" y="15890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171840" y="3076560"/>
            <a:ext cx="97164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9480" y="274176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is d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henwe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3247920"/>
            <a:ext cx="1133640" cy="447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440" y="275112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chstreifen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920" y="15228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1.1 Aufbau eines Digitalrechner (von-Neumann-Rechner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3080" y="1171440"/>
            <a:ext cx="854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Digitalrechner (Rechner, Computer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rei Hauptkompone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8000"/>
                </a:solidFill>
                <a:latin typeface="Arial"/>
              </a:rPr>
              <a:t>Hardware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mechanischen und elektronischen Bauel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8000"/>
                </a:solidFill>
                <a:latin typeface="Arial"/>
              </a:rPr>
              <a:t>Soft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Programme, die auf dem Rechner abl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8000"/>
                </a:solidFill>
                <a:latin typeface="Arial"/>
              </a:rPr>
              <a:t>Firm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gramme in ROMs, Mittelstellung zwisch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ardware u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3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8280" y="1197000"/>
            <a:ext cx="83469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1938:  Howard A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rster programmgesteuerter Rechenautomat der USA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Havard Mark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zimales Zählrad-Prin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ehr große Mas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lativ schn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dition von 23-stelligen Dezimalzahlen in 0,3 sec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ultiplikation in 65 sec und Division in 115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r Ein- und Ausgabe wurden gelochte Paperbänder benu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ark II: Aikens Nachfolger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3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8280" y="1225440"/>
            <a:ext cx="83469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1943-1949:  P. Eckert, J.W. Mauc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 des Rechenautomaten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ENIAC (Electronic Numerical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Integrator And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rstmals Anwendung elektronischer Schalt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7468 Elektronenröhren, 1500 Re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wicht: 30 T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, Leistungsverbrauch: 174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dition von 10-stelligen Zahlen in 0,2 msec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ultiplikation in 2,8 ms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rogrammierung durch Verschalten von Schalttafel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Sehr umständlich und fehleranfäll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3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8280" y="1225440"/>
            <a:ext cx="834696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1944-1946:  Von Neumann, A.W. Burcks, H.H. Gold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 des Rechenautomaten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EDVAC (Electronic Discrete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Variable Automatic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rster Anwendung elektronischer Schalt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rogramm mit Befehlen und Adressen wurde erstmals inter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peichert und in der gleichen Art kodiert und gespeich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en und Befehle konnten von der Maschine selbst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erände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grund bedingter Befehle war die Maschine in der Lage, d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rogrammablauf in Abhängigkeit von Zwischenergebnissen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on Neumann, A.W. Burcks, H.H. Goldstine: EDVAC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4" name="EDVAC_C" descr=""/>
          <p:cNvPicPr/>
          <p:nvPr/>
        </p:nvPicPr>
        <p:blipFill>
          <a:blip r:embed="rId1"/>
          <a:stretch/>
        </p:blipFill>
        <p:spPr>
          <a:xfrm>
            <a:off x="1204920" y="1082520"/>
            <a:ext cx="60055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AS_C" descr=""/>
          <p:cNvPicPr/>
          <p:nvPr/>
        </p:nvPicPr>
        <p:blipFill>
          <a:blip r:embed="rId1"/>
          <a:srcRect l="2357" t="5350" r="2488" b="2502"/>
          <a:stretch/>
        </p:blipFill>
        <p:spPr>
          <a:xfrm>
            <a:off x="1879560" y="1122480"/>
            <a:ext cx="5235480" cy="50529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on Neumanns Version der EDVAC: IAS-Maschin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Prinzipielle Struk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" name="gliederung_C" descr=""/>
          <p:cNvPicPr/>
          <p:nvPr/>
        </p:nvPicPr>
        <p:blipFill>
          <a:blip r:embed="rId1"/>
          <a:srcRect l="0" t="0" r="0" b="5003"/>
          <a:stretch/>
        </p:blipFill>
        <p:spPr>
          <a:xfrm>
            <a:off x="716040" y="3184560"/>
            <a:ext cx="7439040" cy="3030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017000" y="1152360"/>
            <a:ext cx="6800760" cy="1847520"/>
            <a:chOff x="1017000" y="1152360"/>
            <a:chExt cx="6800760" cy="1847520"/>
          </a:xfrm>
        </p:grpSpPr>
        <p:sp>
          <p:nvSpPr>
            <p:cNvPr id="53" name=""/>
            <p:cNvSpPr/>
            <p:nvPr/>
          </p:nvSpPr>
          <p:spPr>
            <a:xfrm>
              <a:off x="3390840" y="1152360"/>
              <a:ext cx="1800000" cy="18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90840" y="1152360"/>
              <a:ext cx="1800000" cy="7617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96040" y="130464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37360" y="2066760"/>
              <a:ext cx="150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Frim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04720" y="2118960"/>
              <a:ext cx="10954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19640" y="2118960"/>
              <a:ext cx="109512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7000" y="183960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Einga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36080" y="1811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usga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Gliederung der Steuerungsebenen im Rechner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2" name="steuerungsebenen_C" descr=""/>
          <p:cNvPicPr/>
          <p:nvPr/>
        </p:nvPicPr>
        <p:blipFill>
          <a:blip r:embed="rId1"/>
          <a:srcRect l="0" t="5618" r="4652" b="1923"/>
          <a:stretch/>
        </p:blipFill>
        <p:spPr>
          <a:xfrm>
            <a:off x="395280" y="1305000"/>
            <a:ext cx="82328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1.1 Aufbau eines Digitalrechn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1520" y="1362240"/>
            <a:ext cx="84297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r Vorlesung TI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or allem Rechner-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ftware-Aspekte nur auf der niedrigsten Eben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Befehlssätze, maschinennahe Programmierung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1.1 Aufbau eines Digitalrechn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360" y="1276200"/>
            <a:ext cx="807732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chner aus Hardware-Sicht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gitales, elektronisches System, in dem Daten als binärcodierte Information eingegeben, dort gespeichert und verarbeitet werd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Verarbeitung der Daten erfolgt nach einem vorgegebenen Programm aus Maschinenbefehlen, welche die jeweils nächste Operation und die benötigten Operanden bestim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Das von-Neumann-Konnzep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280" y="1120680"/>
            <a:ext cx="7991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on-Neumann-Konzep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ist die Grundlage der in dieser Vorlesung vorgestellten Hardware-Architektur eines Digitalrech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besteht aus den Kompone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528080" y="3129120"/>
            <a:ext cx="4132440" cy="3082680"/>
            <a:chOff x="4528080" y="3129120"/>
            <a:chExt cx="4132440" cy="3082680"/>
          </a:xfrm>
        </p:grpSpPr>
        <p:pic>
          <p:nvPicPr>
            <p:cNvPr id="70" name="T-von-neumann-jpg" descr=""/>
            <p:cNvPicPr/>
            <p:nvPr/>
          </p:nvPicPr>
          <p:blipFill>
            <a:blip r:embed="rId1"/>
            <a:srcRect l="1875" t="0" r="7562" b="15587"/>
            <a:stretch/>
          </p:blipFill>
          <p:spPr>
            <a:xfrm>
              <a:off x="4552920" y="3129120"/>
              <a:ext cx="393876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28080" y="5843520"/>
              <a:ext cx="41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Ursprüngliche von-Neumann-Mas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09680" y="3357720"/>
            <a:ext cx="457200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-/Ausgabe-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73480" y="1165320"/>
            <a:ext cx="213372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20880" y="1166760"/>
            <a:ext cx="213336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83040" y="2227320"/>
            <a:ext cx="2438640" cy="723960"/>
          </a:xfrm>
          <a:prstGeom prst="rect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640" y="2227320"/>
            <a:ext cx="2438280" cy="723960"/>
          </a:xfrm>
          <a:prstGeom prst="rect">
            <a:avLst/>
          </a:prstGeom>
          <a:solidFill>
            <a:srgbClr val="33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igitalrechner nach dem von-Neumann Konzep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22680" y="120024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iebssystem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er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8360" y="2298600"/>
            <a:ext cx="236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Programme und Da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43320" y="2298600"/>
            <a:ext cx="191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-/Ausgabe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8840" y="1198440"/>
            <a:ext cx="22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ipheriegerä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, Bildschrim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7320" y="4141800"/>
            <a:ext cx="6553440" cy="19908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4920" y="4465800"/>
            <a:ext cx="243864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5080" y="4467240"/>
            <a:ext cx="243828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3480" y="4483080"/>
            <a:ext cx="1721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t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04760" y="4483080"/>
            <a:ext cx="2518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s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371400" y="471492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390480" y="522936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71560" y="2952720"/>
            <a:ext cx="0" cy="150516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1440" y="2933640"/>
            <a:ext cx="0" cy="1514520"/>
          </a:xfrm>
          <a:prstGeom prst="line">
            <a:avLst/>
          </a:prstGeom>
          <a:ln w="5724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3560" y="1819440"/>
            <a:ext cx="0" cy="4093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143000" y="3476520"/>
            <a:ext cx="407664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914560"/>
            <a:ext cx="0" cy="552600"/>
          </a:xfrm>
          <a:prstGeom prst="line">
            <a:avLst/>
          </a:prstGeom>
          <a:ln w="381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71200" y="3610080"/>
            <a:ext cx="38768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48400" y="2933640"/>
            <a:ext cx="0" cy="67644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3860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819160" y="3772080"/>
            <a:ext cx="405756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67440" y="1809720"/>
            <a:ext cx="0" cy="4190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61440" y="5457960"/>
            <a:ext cx="3724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entraleinheit  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34480" y="1841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280" y="382284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66"/>
                </a:solidFill>
                <a:latin typeface="Arial"/>
              </a:rPr>
              <a:t>Adre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0600" y="382284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67800" y="3822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68840" y="299880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 und 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5868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98640" y="44132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15560" y="4889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2104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8120" y="4865760"/>
            <a:ext cx="159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SS: Status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MS: Melde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07:00Z</dcterms:modified>
  <cp:revision>366</cp:revision>
  <dc:subject/>
  <dc:title>TI-2</dc:title>
</cp:coreProperties>
</file>