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camera.wav" ContentType="audio/x-wav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8053-BA89-418B-BE88-1BFFD259AF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Direkter Speicherzugriff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3120" y="1157400"/>
            <a:ext cx="82944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isher wurde der Datentransfer zwischen Prozessor u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 bzw. Prozessor und Peripherie betrachte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ft ist es jedoch auch nötig, Daten zu transportier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zwisc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 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Periph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eripherie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Periph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älteren und kleineren Systemen wird dieser Datentransfer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 ebenfalls über den Prozessor abgewickel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DMA-Controll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6040" y="1116000"/>
            <a:ext cx="8512200" cy="50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600"/>
                </a:solidFill>
                <a:latin typeface="Arial"/>
              </a:rPr>
              <a:t>Operationswerk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führt den Datentransfer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Besteht im wesentlichen aus 3 Zählern, die vom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 zu Beginn eines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transfers geladen wer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Datenzähler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nzahl der zu übertragenden Daten, wird bis 0  dekrementiert,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informiert dann das Steuerwerk über das Ende des Datentrans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Adresszähler1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Quelladresse des Datentransfers. Wird bei Transfers aus dem Speicher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ahlweise inkrementiert oder dekrementiert. Bei Transfers von der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eripherie bleibt die Adresse unveränd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Adresszähler2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ieladresse des Datentransfers, Verhalten wie Adresszähl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Basisregister für die drei Zähler speichern jeweils die Anfangswe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DMA-Übertragungsar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1000" y="1230480"/>
            <a:ext cx="84488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der Regel kann man bei einem DMA-Baustein unt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schiedenen Übertragungsarten wählen, die sich durch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Belegung des Systembusses unterschei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c600"/>
                </a:solidFill>
                <a:latin typeface="Arial"/>
              </a:rPr>
              <a:t>Einzeltransfer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 (</a:t>
            </a:r>
            <a:r>
              <a:rPr b="0" i="1" sz="2400" spc="-1" strike="noStrike">
                <a:solidFill>
                  <a:srgbClr val="00c600"/>
                </a:solidFill>
                <a:latin typeface="Arial"/>
              </a:rPr>
              <a:t>single transfer  mode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c6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c600"/>
                </a:solidFill>
                <a:latin typeface="Arial"/>
              </a:rPr>
              <a:t>Block-Transfer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 (</a:t>
            </a:r>
            <a:r>
              <a:rPr b="0" i="1" sz="2400" spc="-1" strike="noStrike">
                <a:solidFill>
                  <a:srgbClr val="00c600"/>
                </a:solidFill>
                <a:latin typeface="Arial"/>
              </a:rPr>
              <a:t>block transfer mode, burst mode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c6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c600"/>
                </a:solidFill>
                <a:latin typeface="Arial"/>
              </a:rPr>
              <a:t>Transfer auf Anforderung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 (</a:t>
            </a:r>
            <a:r>
              <a:rPr b="0" i="1" sz="2400" spc="-1" strike="noStrike">
                <a:solidFill>
                  <a:srgbClr val="00c600"/>
                </a:solidFill>
                <a:latin typeface="Arial"/>
              </a:rPr>
              <a:t>demand transfer mode</a:t>
            </a:r>
            <a:r>
              <a:rPr b="0" sz="2400" spc="-1" strike="noStrike">
                <a:solidFill>
                  <a:srgbClr val="00c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Einzeltransfer (</a:t>
            </a:r>
            <a:r>
              <a:rPr b="0" i="1" sz="3200" spc="-1" strike="noStrike">
                <a:solidFill>
                  <a:srgbClr val="000099"/>
                </a:solidFill>
                <a:latin typeface="Arial"/>
              </a:rPr>
              <a:t>single transfer  mode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8120" y="105732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Hierbei wird jeweils genau ein Datum übertragen, danach der Systembus wieder für den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 freigegeben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cycle stealing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dem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 werden einzelne Buszyklen entzog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520" y="5273640"/>
            <a:ext cx="551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EQ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Anforderung eines Requesters zum Datentrans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HOLD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Busanforderung durch den DMA-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HOLDA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Busgewährung durch den </a:t>
            </a:r>
            <a:r>
              <a:rPr b="0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EAD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beendet die Übertragung des Datums, wenn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2109960"/>
            <a:ext cx="653436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65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Block-Transfer (</a:t>
            </a:r>
            <a:r>
              <a:rPr b="0" i="1" sz="2800" spc="-1" strike="noStrike">
                <a:solidFill>
                  <a:srgbClr val="000099"/>
                </a:solidFill>
                <a:latin typeface="Arial"/>
              </a:rPr>
              <a:t>block transfer mode, burst mode</a:t>
            </a:r>
            <a:r>
              <a:rPr b="0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0440" y="1157400"/>
            <a:ext cx="82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 DMA-Controller überträgt hierbei alle Daten des Blocks ohne zwischenzeitliche Busfreigabe, sobald er den Systembus  erhalten 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09640" y="2171880"/>
            <a:ext cx="741060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Transfer auf Anforderung (</a:t>
            </a:r>
            <a:r>
              <a:rPr b="0" i="1" sz="2800" spc="-1" strike="noStrike">
                <a:solidFill>
                  <a:srgbClr val="000099"/>
                </a:solidFill>
                <a:latin typeface="Arial"/>
              </a:rPr>
              <a:t>demand transfer mode</a:t>
            </a:r>
            <a:r>
              <a:rPr b="0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1160" y="1211400"/>
            <a:ext cx="77716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Mittelstellung zwischen Einzeltransfer und Block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übertragung wird solange ohne Unterbrechung durchgeführt,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olange das REQ-Signal aktiv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transfer in Schüben, häufig von Peripheriegerät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     benutzt (echter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Burst-Mod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699" t="5258" r="918" b="2779"/>
          <a:stretch/>
        </p:blipFill>
        <p:spPr>
          <a:xfrm>
            <a:off x="824040" y="3171960"/>
            <a:ext cx="70866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DMA-Übertragungsar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4360" y="1182600"/>
            <a:ext cx="79020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onders zu beachten bei DMA-Transfers s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iedliche Datenbreite von Quelle und Ziel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Übertragungen von einem 8-Bit breiten Peripheri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rät (Drucker, Terminal, ...) in den 32-Bit breit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up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tragung von non-aligned Daten, d.h. mehrer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zugriffe zum Lesen oder Schreiben eine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ums sind notwendig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MA-Controller sind durch verschieden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an diese Anforderungen angepaßt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z.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DMA-Übertragungsar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9760" y="1182600"/>
            <a:ext cx="8409600" cy="49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hlweise Inkrementierung der Adresszähler u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 2 od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rlegung bzw. Sammeln von Daten vor de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transport in internen Registern bei unterschiedl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eite von Quelle und Z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sche Erkennung von non-aligned Zugriffen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rlegung dieser Zugriffe in mehrere Speicherzyk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rne DMA-Controller enthalten 2 - 8 DMA-Kanäle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r Kanal besitzt eigene Leitungen REQ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ACK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END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kann so unabhängig von den anderen eine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quester zugeordne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Register des Steuerwerks eines DMA-Controll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1400" y="1135080"/>
            <a:ext cx="69184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rientiert am Intel 82380 DMA-Control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4 unabhängige DMA-Kanäle auf dem Bau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Register des Steuerwer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2060" t="3886" r="0" b="0"/>
          <a:stretch/>
        </p:blipFill>
        <p:spPr>
          <a:xfrm>
            <a:off x="990720" y="3462480"/>
            <a:ext cx="72388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09160" y="152280"/>
            <a:ext cx="8744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</a:rPr>
              <a:t>Register des Steuerwerks eines DMA-Controll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080" y="1317600"/>
            <a:ext cx="857484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Statusregist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Bitpaare pro Kanal zur Anzeige folgender Informatio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Übertragungsanforderung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 für Kanal i liegt 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übertragung auf Kanal i beendet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terminal coun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Befehlsregis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Bits zur Bestimmung der Arbeitsweise der einzelnen Kanä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Freigabe des Kanals i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enabl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rioritätensteuerung zwischen den Kanä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R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oftware-Request (als Alternative zur REQ-Leitung)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Interrupt Enable für Kanal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Steuerregister (eines pro Kanal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8880" y="1440000"/>
            <a:ext cx="816624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Steuerregis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estimmt die Betriebsart des Ka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yp der Übertragung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verify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I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tomatische Initialisierung (automatisches Nachlad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 Zähler aus den Basisregistern nach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Übertragungsen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odus der Übertragung (Einzeltransfer, Blocktransfer,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ransfer auf Anforderu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ransferzyklen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two-cycle transfe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fly-by transfe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ispie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6280" y="1143000"/>
            <a:ext cx="83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tenübetragung zwischen Speicher und Peripherie mittels 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51160" y="1994040"/>
            <a:ext cx="90972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51160" y="2930400"/>
            <a:ext cx="909720" cy="51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51160" y="4037040"/>
            <a:ext cx="90972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51160" y="5019840"/>
            <a:ext cx="90972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30800" y="1994040"/>
            <a:ext cx="107964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30800" y="2930400"/>
            <a:ext cx="1079640" cy="51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30800" y="4037040"/>
            <a:ext cx="107964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30800" y="5019840"/>
            <a:ext cx="107964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12200" y="1994040"/>
            <a:ext cx="107604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/A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Speich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12200" y="2930400"/>
            <a:ext cx="1076040" cy="51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/A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Speich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12200" y="4037040"/>
            <a:ext cx="107604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/A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Speich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12200" y="5019840"/>
            <a:ext cx="107604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/A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Speich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419640" y="5541840"/>
            <a:ext cx="4983120" cy="672480"/>
            <a:chOff x="3419640" y="5541840"/>
            <a:chExt cx="4983120" cy="672480"/>
          </a:xfrm>
        </p:grpSpPr>
        <p:sp>
          <p:nvSpPr>
            <p:cNvPr id="61" name=""/>
            <p:cNvSpPr/>
            <p:nvPr/>
          </p:nvSpPr>
          <p:spPr>
            <a:xfrm>
              <a:off x="3419640" y="5541840"/>
              <a:ext cx="4983120" cy="385920"/>
            </a:xfrm>
            <a:custGeom>
              <a:avLst/>
              <a:gdLst/>
              <a:ahLst/>
              <a:rect l="l" t="t" r="r" b="b"/>
              <a:pathLst>
                <a:path w="3304" h="256">
                  <a:moveTo>
                    <a:pt x="0" y="0"/>
                  </a:moveTo>
                  <a:lnTo>
                    <a:pt x="0" y="256"/>
                  </a:lnTo>
                  <a:lnTo>
                    <a:pt x="3304" y="256"/>
                  </a:lnTo>
                  <a:lnTo>
                    <a:pt x="3304" y="0"/>
                  </a:lnTo>
                </a:path>
              </a:pathLst>
            </a:custGeom>
            <a:noFill/>
            <a:ln w="1260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3480" y="587700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700440" y="2854440"/>
            <a:ext cx="2087640" cy="883440"/>
            <a:chOff x="3700440" y="2854440"/>
            <a:chExt cx="2087640" cy="883440"/>
          </a:xfrm>
        </p:grpSpPr>
        <p:grpSp>
          <p:nvGrpSpPr>
            <p:cNvPr id="64" name=""/>
            <p:cNvGrpSpPr/>
            <p:nvPr/>
          </p:nvGrpSpPr>
          <p:grpSpPr>
            <a:xfrm>
              <a:off x="4172040" y="2854440"/>
              <a:ext cx="1055520" cy="337320"/>
              <a:chOff x="4172040" y="2854440"/>
              <a:chExt cx="1055520" cy="337320"/>
            </a:xfrm>
          </p:grpSpPr>
          <p:sp>
            <p:nvSpPr>
              <p:cNvPr id="65" name=""/>
              <p:cNvSpPr/>
              <p:nvPr/>
            </p:nvSpPr>
            <p:spPr>
              <a:xfrm>
                <a:off x="4172040" y="3160800"/>
                <a:ext cx="1055520" cy="0"/>
              </a:xfrm>
              <a:prstGeom prst="line">
                <a:avLst/>
              </a:prstGeom>
              <a:ln w="12600">
                <a:solidFill>
                  <a:srgbClr val="3333cc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211640" y="2854440"/>
                <a:ext cx="98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3333cc"/>
                    </a:solidFill>
                    <a:latin typeface="Arial"/>
                  </a:rPr>
                  <a:t>Adres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3700440" y="3400560"/>
              <a:ext cx="2087640" cy="337320"/>
              <a:chOff x="3700440" y="3400560"/>
              <a:chExt cx="2087640" cy="337320"/>
            </a:xfrm>
          </p:grpSpPr>
          <p:sp>
            <p:nvSpPr>
              <p:cNvPr id="68" name=""/>
              <p:cNvSpPr/>
              <p:nvPr/>
            </p:nvSpPr>
            <p:spPr>
              <a:xfrm>
                <a:off x="3700440" y="3452760"/>
                <a:ext cx="2087640" cy="247680"/>
              </a:xfrm>
              <a:custGeom>
                <a:avLst/>
                <a:gdLst/>
                <a:ahLst/>
                <a:rect l="l" t="t" r="r" b="b"/>
                <a:pathLst>
                  <a:path w="1488" h="176">
                    <a:moveTo>
                      <a:pt x="1488" y="0"/>
                    </a:moveTo>
                    <a:lnTo>
                      <a:pt x="1488" y="176"/>
                    </a:lnTo>
                    <a:lnTo>
                      <a:pt x="0" y="17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cc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95520" y="3400560"/>
                <a:ext cx="81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cc99"/>
                    </a:solidFill>
                    <a:latin typeface="Arial"/>
                  </a:rPr>
                  <a:t>Datu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3700440" y="3959280"/>
            <a:ext cx="2087640" cy="896040"/>
            <a:chOff x="3700440" y="3959280"/>
            <a:chExt cx="2087640" cy="896040"/>
          </a:xfrm>
        </p:grpSpPr>
        <p:sp>
          <p:nvSpPr>
            <p:cNvPr id="71" name=""/>
            <p:cNvSpPr/>
            <p:nvPr/>
          </p:nvSpPr>
          <p:spPr>
            <a:xfrm>
              <a:off x="4172040" y="4249800"/>
              <a:ext cx="1055520" cy="0"/>
            </a:xfrm>
            <a:prstGeom prst="line">
              <a:avLst/>
            </a:prstGeom>
            <a:ln w="1260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00440" y="4552920"/>
              <a:ext cx="2087640" cy="246240"/>
            </a:xfrm>
            <a:custGeom>
              <a:avLst/>
              <a:gdLst/>
              <a:ahLst/>
              <a:rect l="l" t="t" r="r" b="b"/>
              <a:pathLst>
                <a:path w="1488" h="176">
                  <a:moveTo>
                    <a:pt x="1488" y="0"/>
                  </a:moveTo>
                  <a:lnTo>
                    <a:pt x="1488" y="176"/>
                  </a:ln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186080" y="395928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37320" y="4518000"/>
              <a:ext cx="161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cc99"/>
                  </a:solidFill>
                  <a:latin typeface="Arial"/>
                </a:rPr>
                <a:t>Schreib-Befeh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710160" y="5445000"/>
            <a:ext cx="4319280" cy="337320"/>
            <a:chOff x="3710160" y="5445000"/>
            <a:chExt cx="4319280" cy="337320"/>
          </a:xfrm>
        </p:grpSpPr>
        <p:sp>
          <p:nvSpPr>
            <p:cNvPr id="76" name=""/>
            <p:cNvSpPr/>
            <p:nvPr/>
          </p:nvSpPr>
          <p:spPr>
            <a:xfrm>
              <a:off x="3710160" y="5541840"/>
              <a:ext cx="4319280" cy="217440"/>
            </a:xfrm>
            <a:custGeom>
              <a:avLst/>
              <a:gdLst/>
              <a:ahLst/>
              <a:rect l="l" t="t" r="r" b="b"/>
              <a:pathLst>
                <a:path w="2864" h="144">
                  <a:moveTo>
                    <a:pt x="0" y="0"/>
                  </a:moveTo>
                  <a:lnTo>
                    <a:pt x="0" y="144"/>
                  </a:lnTo>
                  <a:lnTo>
                    <a:pt x="2864" y="144"/>
                  </a:lnTo>
                  <a:lnTo>
                    <a:pt x="2864" y="8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20720" y="544500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cc99"/>
                  </a:solidFill>
                  <a:latin typeface="Arial"/>
                </a:rPr>
                <a:t>Dat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172040" y="1940040"/>
            <a:ext cx="1055520" cy="337320"/>
            <a:chOff x="4172040" y="1940040"/>
            <a:chExt cx="1055520" cy="337320"/>
          </a:xfrm>
        </p:grpSpPr>
        <p:sp>
          <p:nvSpPr>
            <p:cNvPr id="79" name=""/>
            <p:cNvSpPr/>
            <p:nvPr/>
          </p:nvSpPr>
          <p:spPr>
            <a:xfrm>
              <a:off x="4172040" y="2251080"/>
              <a:ext cx="1055520" cy="0"/>
            </a:xfrm>
            <a:prstGeom prst="line">
              <a:avLst/>
            </a:prstGeom>
            <a:ln w="1260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94004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6160" y="2219400"/>
            <a:ext cx="5619600" cy="591120"/>
            <a:chOff x="146160" y="2219400"/>
            <a:chExt cx="5619600" cy="591120"/>
          </a:xfrm>
        </p:grpSpPr>
        <p:grpSp>
          <p:nvGrpSpPr>
            <p:cNvPr id="82" name=""/>
            <p:cNvGrpSpPr/>
            <p:nvPr/>
          </p:nvGrpSpPr>
          <p:grpSpPr>
            <a:xfrm>
              <a:off x="3678120" y="2473200"/>
              <a:ext cx="2087640" cy="337320"/>
              <a:chOff x="3678120" y="2473200"/>
              <a:chExt cx="2087640" cy="337320"/>
            </a:xfrm>
          </p:grpSpPr>
          <p:sp>
            <p:nvSpPr>
              <p:cNvPr id="83" name=""/>
              <p:cNvSpPr/>
              <p:nvPr/>
            </p:nvSpPr>
            <p:spPr>
              <a:xfrm>
                <a:off x="3678120" y="2509920"/>
                <a:ext cx="2087640" cy="247680"/>
              </a:xfrm>
              <a:custGeom>
                <a:avLst/>
                <a:gdLst/>
                <a:ahLst/>
                <a:rect l="l" t="t" r="r" b="b"/>
                <a:pathLst>
                  <a:path w="1488" h="176">
                    <a:moveTo>
                      <a:pt x="1488" y="0"/>
                    </a:moveTo>
                    <a:lnTo>
                      <a:pt x="1488" y="176"/>
                    </a:lnTo>
                    <a:lnTo>
                      <a:pt x="0" y="17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cc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021560" y="2473200"/>
                <a:ext cx="1338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cc99"/>
                    </a:solidFill>
                    <a:latin typeface="Arial"/>
                  </a:rPr>
                  <a:t>Lade-Befeh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146160" y="2219400"/>
              <a:ext cx="283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OP:    LDA   Dat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948960" y="2540160"/>
            <a:ext cx="1950120" cy="1946880"/>
            <a:chOff x="948960" y="2540160"/>
            <a:chExt cx="1950120" cy="1946880"/>
          </a:xfrm>
        </p:grpSpPr>
        <p:sp>
          <p:nvSpPr>
            <p:cNvPr id="87" name=""/>
            <p:cNvSpPr/>
            <p:nvPr/>
          </p:nvSpPr>
          <p:spPr>
            <a:xfrm>
              <a:off x="1663560" y="2540160"/>
              <a:ext cx="0" cy="157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48960" y="4149720"/>
              <a:ext cx="195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TA   EA/Spei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676520" y="449568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4520" y="554688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C  Zäh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20560" y="2590920"/>
            <a:ext cx="1794960" cy="3610800"/>
            <a:chOff x="520560" y="2590920"/>
            <a:chExt cx="1794960" cy="3610800"/>
          </a:xfrm>
        </p:grpSpPr>
        <p:sp>
          <p:nvSpPr>
            <p:cNvPr id="92" name=""/>
            <p:cNvSpPr/>
            <p:nvPr/>
          </p:nvSpPr>
          <p:spPr>
            <a:xfrm>
              <a:off x="1043640" y="5864400"/>
              <a:ext cx="127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PL  LO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0560" y="2590920"/>
              <a:ext cx="482760" cy="3441600"/>
            </a:xfrm>
            <a:custGeom>
              <a:avLst/>
              <a:gdLst/>
              <a:ahLst/>
              <a:rect l="l" t="t" r="r" b="b"/>
              <a:pathLst>
                <a:path w="504" h="2232">
                  <a:moveTo>
                    <a:pt x="504" y="2232"/>
                  </a:moveTo>
                  <a:lnTo>
                    <a:pt x="0" y="223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Steuerregister (eines pro Kanal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6120" y="1428840"/>
            <a:ext cx="816624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T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yp der Komponente für Target und Reque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RT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Arbeitsspeicher / Peripher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TA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ktion des Adresszählers für Target und Reque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RA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Inkrement, Dekrement, Ho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TB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TB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usbreite für Target und Requester (8, 16, 32 B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RB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ispie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4600" y="1135080"/>
            <a:ext cx="8143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Nachteil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indestens 4 Speicherzugriffe / Datum nötig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ggf. sogar mind. 6 Speicherzugriffe durch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leifenbefeh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angsamer Datentransfer, Prozessor belas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4600" y="3449520"/>
            <a:ext cx="806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bhilf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Arial"/>
              </a:rPr>
              <a:t>Direkter Speicherzugriff (</a:t>
            </a:r>
            <a:r>
              <a:rPr b="1" i="1" sz="2400" spc="-1" strike="noStrike">
                <a:solidFill>
                  <a:srgbClr val="3333cc"/>
                </a:solidFill>
                <a:latin typeface="Arial"/>
              </a:rPr>
              <a:t>direct memory access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, D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erbei erfolgt der Datentransfer ohne Beteiligung des Mikroprozessors direkt zwischen den beteiligt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pon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Direkter Speicherzugriff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4800" y="1179360"/>
            <a:ext cx="81705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spezieller Baustein,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DMA-Controll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genannt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koordiniert den Daten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zugriffe für das Holen der Lade-, Speicher-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Schleifenbefehle entfallen, da die Datenübertragung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ardwaremäßig (ohne Programm) ausgeführt wird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ur 2 (ggf. sogar nur 1) Speicherzugriff / Datum nö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Prozessor wird entlastet und kann derweil ander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nge tun (sofern diese nicht den Systembus benöti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Prinzip des direkten Speicherzugriff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949400" y="1152360"/>
            <a:ext cx="1055520" cy="337320"/>
            <a:chOff x="1949400" y="1152360"/>
            <a:chExt cx="1055520" cy="337320"/>
          </a:xfrm>
        </p:grpSpPr>
        <p:sp>
          <p:nvSpPr>
            <p:cNvPr id="101" name=""/>
            <p:cNvSpPr/>
            <p:nvPr/>
          </p:nvSpPr>
          <p:spPr>
            <a:xfrm>
              <a:off x="1949400" y="1476360"/>
              <a:ext cx="1055520" cy="0"/>
            </a:xfrm>
            <a:prstGeom prst="line">
              <a:avLst/>
            </a:prstGeom>
            <a:ln w="1260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98360" y="115236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028880" y="1219320"/>
            <a:ext cx="90936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86200" y="1219320"/>
            <a:ext cx="107964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89760" y="1219320"/>
            <a:ext cx="107640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/A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Speich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08160" y="1219320"/>
            <a:ext cx="91440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366200" y="1698480"/>
            <a:ext cx="2129760" cy="337320"/>
            <a:chOff x="1366200" y="1698480"/>
            <a:chExt cx="2129760" cy="337320"/>
          </a:xfrm>
        </p:grpSpPr>
        <p:sp>
          <p:nvSpPr>
            <p:cNvPr id="108" name=""/>
            <p:cNvSpPr/>
            <p:nvPr/>
          </p:nvSpPr>
          <p:spPr>
            <a:xfrm>
              <a:off x="1395360" y="1722600"/>
              <a:ext cx="2086920" cy="247320"/>
            </a:xfrm>
            <a:custGeom>
              <a:avLst/>
              <a:gdLst/>
              <a:ahLst/>
              <a:rect l="l" t="t" r="r" b="b"/>
              <a:pathLst>
                <a:path w="1488" h="176">
                  <a:moveTo>
                    <a:pt x="1488" y="0"/>
                  </a:moveTo>
                  <a:lnTo>
                    <a:pt x="1488" y="176"/>
                  </a:ln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66200" y="1698480"/>
              <a:ext cx="212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cc99"/>
                  </a:solidFill>
                  <a:latin typeface="Arial"/>
                </a:rPr>
                <a:t>Startadresse, Zäh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65320" y="2498760"/>
            <a:ext cx="981000" cy="337320"/>
            <a:chOff x="3865320" y="2498760"/>
            <a:chExt cx="981000" cy="337320"/>
          </a:xfrm>
        </p:grpSpPr>
        <p:sp>
          <p:nvSpPr>
            <p:cNvPr id="111" name=""/>
            <p:cNvSpPr/>
            <p:nvPr/>
          </p:nvSpPr>
          <p:spPr>
            <a:xfrm>
              <a:off x="3917880" y="2822400"/>
              <a:ext cx="874440" cy="0"/>
            </a:xfrm>
            <a:prstGeom prst="line">
              <a:avLst/>
            </a:prstGeom>
            <a:ln w="1260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65320" y="249876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389400" y="2955960"/>
            <a:ext cx="2087640" cy="337320"/>
            <a:chOff x="3389400" y="2955960"/>
            <a:chExt cx="2087640" cy="337320"/>
          </a:xfrm>
        </p:grpSpPr>
        <p:sp>
          <p:nvSpPr>
            <p:cNvPr id="114" name=""/>
            <p:cNvSpPr/>
            <p:nvPr/>
          </p:nvSpPr>
          <p:spPr>
            <a:xfrm>
              <a:off x="3389400" y="2979720"/>
              <a:ext cx="2087640" cy="247680"/>
            </a:xfrm>
            <a:custGeom>
              <a:avLst/>
              <a:gdLst/>
              <a:ahLst/>
              <a:rect l="l" t="t" r="r" b="b"/>
              <a:pathLst>
                <a:path w="1488" h="176">
                  <a:moveTo>
                    <a:pt x="1488" y="0"/>
                  </a:moveTo>
                  <a:lnTo>
                    <a:pt x="1488" y="176"/>
                  </a:ln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66840" y="29559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cc99"/>
                  </a:solidFill>
                  <a:latin typeface="Arial"/>
                </a:rPr>
                <a:t>Dat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606840" y="4140360"/>
            <a:ext cx="3682800" cy="371880"/>
            <a:chOff x="3606840" y="4140360"/>
            <a:chExt cx="3682800" cy="371880"/>
          </a:xfrm>
        </p:grpSpPr>
        <p:sp>
          <p:nvSpPr>
            <p:cNvPr id="117" name=""/>
            <p:cNvSpPr/>
            <p:nvPr/>
          </p:nvSpPr>
          <p:spPr>
            <a:xfrm>
              <a:off x="3606840" y="4140360"/>
              <a:ext cx="3682800" cy="342360"/>
            </a:xfrm>
            <a:custGeom>
              <a:avLst/>
              <a:gdLst/>
              <a:ahLst/>
              <a:rect l="l" t="t" r="r" b="b"/>
              <a:pathLst>
                <a:path w="2320" h="216">
                  <a:moveTo>
                    <a:pt x="0" y="0"/>
                  </a:moveTo>
                  <a:lnTo>
                    <a:pt x="0" y="216"/>
                  </a:lnTo>
                  <a:lnTo>
                    <a:pt x="2320" y="216"/>
                  </a:lnTo>
                  <a:lnTo>
                    <a:pt x="2320" y="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41280" y="41749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cc99"/>
                  </a:solidFill>
                  <a:latin typeface="Arial"/>
                </a:rPr>
                <a:t>Dat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213000" y="4152960"/>
            <a:ext cx="4647960" cy="715320"/>
            <a:chOff x="3213000" y="4152960"/>
            <a:chExt cx="4647960" cy="715320"/>
          </a:xfrm>
        </p:grpSpPr>
        <p:sp>
          <p:nvSpPr>
            <p:cNvPr id="120" name=""/>
            <p:cNvSpPr/>
            <p:nvPr/>
          </p:nvSpPr>
          <p:spPr>
            <a:xfrm>
              <a:off x="3213000" y="4152960"/>
              <a:ext cx="4647960" cy="685800"/>
            </a:xfrm>
            <a:custGeom>
              <a:avLst/>
              <a:gdLst/>
              <a:ahLst/>
              <a:rect l="l" t="t" r="r" b="b"/>
              <a:pathLst>
                <a:path w="2320" h="216">
                  <a:moveTo>
                    <a:pt x="0" y="0"/>
                  </a:moveTo>
                  <a:lnTo>
                    <a:pt x="0" y="216"/>
                  </a:lnTo>
                  <a:lnTo>
                    <a:pt x="2320" y="216"/>
                  </a:lnTo>
                  <a:lnTo>
                    <a:pt x="2320" y="0"/>
                  </a:lnTo>
                </a:path>
              </a:pathLst>
            </a:custGeom>
            <a:noFill/>
            <a:ln w="1260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58440" y="4530960"/>
              <a:ext cx="25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Auswahlsignal (Adres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878280" y="5203800"/>
            <a:ext cx="981000" cy="337320"/>
            <a:chOff x="3878280" y="5203800"/>
            <a:chExt cx="981000" cy="337320"/>
          </a:xfrm>
        </p:grpSpPr>
        <p:sp>
          <p:nvSpPr>
            <p:cNvPr id="123" name=""/>
            <p:cNvSpPr/>
            <p:nvPr/>
          </p:nvSpPr>
          <p:spPr>
            <a:xfrm>
              <a:off x="3918240" y="5527800"/>
              <a:ext cx="874440" cy="0"/>
            </a:xfrm>
            <a:prstGeom prst="line">
              <a:avLst/>
            </a:prstGeom>
            <a:ln w="1260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78280" y="520380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72280" y="5597640"/>
            <a:ext cx="1930320" cy="337320"/>
            <a:chOff x="5372280" y="5597640"/>
            <a:chExt cx="1930320" cy="337320"/>
          </a:xfrm>
        </p:grpSpPr>
        <p:sp>
          <p:nvSpPr>
            <p:cNvPr id="126" name=""/>
            <p:cNvSpPr/>
            <p:nvPr/>
          </p:nvSpPr>
          <p:spPr>
            <a:xfrm>
              <a:off x="5372280" y="5651640"/>
              <a:ext cx="1930320" cy="253800"/>
            </a:xfrm>
            <a:custGeom>
              <a:avLst/>
              <a:gdLst/>
              <a:ahLst/>
              <a:rect l="l" t="t" r="r" b="b"/>
              <a:pathLst>
                <a:path w="1216" h="160">
                  <a:moveTo>
                    <a:pt x="0" y="0"/>
                  </a:moveTo>
                  <a:lnTo>
                    <a:pt x="0" y="160"/>
                  </a:lnTo>
                  <a:lnTo>
                    <a:pt x="1216" y="160"/>
                  </a:lnTo>
                  <a:lnTo>
                    <a:pt x="1216" y="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99040" y="559764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cc99"/>
                  </a:solidFill>
                  <a:latin typeface="Arial"/>
                </a:rPr>
                <a:t>Dat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149640" y="5664240"/>
            <a:ext cx="4648320" cy="435600"/>
            <a:chOff x="3149640" y="5664240"/>
            <a:chExt cx="4648320" cy="435600"/>
          </a:xfrm>
        </p:grpSpPr>
        <p:sp>
          <p:nvSpPr>
            <p:cNvPr id="129" name=""/>
            <p:cNvSpPr/>
            <p:nvPr/>
          </p:nvSpPr>
          <p:spPr>
            <a:xfrm>
              <a:off x="3149640" y="5664240"/>
              <a:ext cx="4648320" cy="393840"/>
            </a:xfrm>
            <a:custGeom>
              <a:avLst/>
              <a:gdLst/>
              <a:ahLst/>
              <a:rect l="l" t="t" r="r" b="b"/>
              <a:pathLst>
                <a:path w="2320" h="216">
                  <a:moveTo>
                    <a:pt x="0" y="0"/>
                  </a:moveTo>
                  <a:lnTo>
                    <a:pt x="0" y="216"/>
                  </a:lnTo>
                  <a:lnTo>
                    <a:pt x="2320" y="216"/>
                  </a:lnTo>
                  <a:lnTo>
                    <a:pt x="2320" y="0"/>
                  </a:lnTo>
                </a:path>
              </a:pathLst>
            </a:custGeom>
            <a:noFill/>
            <a:ln w="12600">
              <a:solidFill>
                <a:srgbClr val="0000cc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60440" y="576252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cc"/>
                  </a:solidFill>
                  <a:latin typeface="Arial"/>
                </a:rPr>
                <a:t>Auswahlsign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7640" y="1230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640" y="2476440"/>
            <a:ext cx="8048520" cy="515880"/>
            <a:chOff x="17640" y="2476440"/>
            <a:chExt cx="8048520" cy="515880"/>
          </a:xfrm>
        </p:grpSpPr>
        <p:sp>
          <p:nvSpPr>
            <p:cNvPr id="133" name=""/>
            <p:cNvSpPr/>
            <p:nvPr/>
          </p:nvSpPr>
          <p:spPr>
            <a:xfrm>
              <a:off x="1028880" y="2476440"/>
              <a:ext cx="90972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86560" y="2476440"/>
              <a:ext cx="107928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89760" y="2476440"/>
              <a:ext cx="10764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/A</a:t>
              </a:r>
              <a:br>
                <a:rPr sz="1400"/>
              </a:b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Speich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08520" y="2476440"/>
              <a:ext cx="9144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40" y="25002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4120" y="3619440"/>
            <a:ext cx="8042040" cy="515880"/>
            <a:chOff x="24120" y="3619440"/>
            <a:chExt cx="8042040" cy="515880"/>
          </a:xfrm>
        </p:grpSpPr>
        <p:sp>
          <p:nvSpPr>
            <p:cNvPr id="139" name=""/>
            <p:cNvSpPr/>
            <p:nvPr/>
          </p:nvSpPr>
          <p:spPr>
            <a:xfrm>
              <a:off x="1028880" y="3619440"/>
              <a:ext cx="90972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6560" y="3619440"/>
              <a:ext cx="107928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89760" y="3619440"/>
              <a:ext cx="10764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/A</a:t>
              </a:r>
              <a:br>
                <a:rPr sz="1400"/>
              </a:b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Speich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08520" y="3619440"/>
              <a:ext cx="9144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br>
                <a:rPr sz="16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C/IN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120" y="37317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7640" y="5130720"/>
            <a:ext cx="8048520" cy="515880"/>
            <a:chOff x="17640" y="5130720"/>
            <a:chExt cx="8048520" cy="515880"/>
          </a:xfrm>
        </p:grpSpPr>
        <p:sp>
          <p:nvSpPr>
            <p:cNvPr id="145" name=""/>
            <p:cNvSpPr/>
            <p:nvPr/>
          </p:nvSpPr>
          <p:spPr>
            <a:xfrm>
              <a:off x="1028880" y="5130720"/>
              <a:ext cx="90972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86560" y="5130720"/>
              <a:ext cx="107928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89760" y="5130720"/>
              <a:ext cx="10764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/A</a:t>
              </a:r>
              <a:br>
                <a:rPr sz="1400"/>
              </a:b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Speich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08520" y="5130720"/>
              <a:ext cx="914400" cy="5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br>
                <a:rPr sz="16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C/IN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640" y="52052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8204040" y="2362320"/>
            <a:ext cx="815040" cy="2006640"/>
            <a:chOff x="8204040" y="2362320"/>
            <a:chExt cx="815040" cy="2006640"/>
          </a:xfrm>
        </p:grpSpPr>
        <p:sp>
          <p:nvSpPr>
            <p:cNvPr id="151" name=""/>
            <p:cNvSpPr/>
            <p:nvPr/>
          </p:nvSpPr>
          <p:spPr>
            <a:xfrm rot="16200000">
              <a:off x="7968600" y="2925360"/>
              <a:ext cx="139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sz="2000" spc="-1" strike="noStrike">
                  <a:solidFill>
                    <a:srgbClr val="ff0000"/>
                  </a:solidFill>
                  <a:latin typeface="Arial"/>
                </a:rPr>
                <a:t>two cycle </a:t>
              </a:r>
              <a:br>
                <a:rPr sz="2000"/>
              </a:br>
              <a:r>
                <a:rPr b="1" i="1" sz="2000" spc="-1" strike="noStrike">
                  <a:solidFill>
                    <a:srgbClr val="ff0000"/>
                  </a:solidFill>
                  <a:latin typeface="Arial"/>
                </a:rPr>
                <a:t>transf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04040" y="2362320"/>
              <a:ext cx="190800" cy="2006640"/>
            </a:xfrm>
            <a:custGeom>
              <a:avLst/>
              <a:gdLst>
                <a:gd name="textAreaLeft" fmla="*/ 0 w 190800"/>
                <a:gd name="textAreaRight" fmla="*/ 68760 w 190800"/>
                <a:gd name="textAreaTop" fmla="*/ 52200 h 2006640"/>
                <a:gd name="textAreaBottom" fmla="*/ 1954440 h 20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191440" y="4828320"/>
            <a:ext cx="840240" cy="1316880"/>
            <a:chOff x="8191440" y="4828320"/>
            <a:chExt cx="840240" cy="1316880"/>
          </a:xfrm>
        </p:grpSpPr>
        <p:sp>
          <p:nvSpPr>
            <p:cNvPr id="154" name=""/>
            <p:cNvSpPr/>
            <p:nvPr/>
          </p:nvSpPr>
          <p:spPr>
            <a:xfrm rot="16200000">
              <a:off x="8114760" y="5041440"/>
              <a:ext cx="113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000" spc="-1" strike="noStrike">
                  <a:solidFill>
                    <a:srgbClr val="ff0000"/>
                  </a:solidFill>
                  <a:latin typeface="Arial"/>
                </a:rPr>
                <a:t>fly-by </a:t>
              </a:r>
              <a:br>
                <a:rPr sz="2000"/>
              </a:br>
              <a:r>
                <a:rPr b="1" i="1" lang="de-DE" sz="2000" spc="-1" strike="noStrike">
                  <a:solidFill>
                    <a:srgbClr val="ff0000"/>
                  </a:solidFill>
                  <a:latin typeface="Arial"/>
                </a:rPr>
                <a:t>transf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91440" y="4929120"/>
              <a:ext cx="190440" cy="1216080"/>
            </a:xfrm>
            <a:custGeom>
              <a:avLst/>
              <a:gdLst>
                <a:gd name="textAreaLeft" fmla="*/ 0 w 190440"/>
                <a:gd name="textAreaRight" fmla="*/ 68760 w 190440"/>
                <a:gd name="textAreaTop" fmla="*/ 31680 h 1216080"/>
                <a:gd name="textAreaBottom" fmla="*/ 1184400 h 12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Prinzip des direkten Speicherzugriff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280" y="1144440"/>
            <a:ext cx="8272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ikroprozesor überträgt zu Beginn die Startadresse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Zieladresse, Anzahl der zu übertragenden Bytes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Übertragungsrichtung und Steuerinform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anach läuft der Transfer automatis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sz="2400" spc="-1" strike="noStrike">
                <a:solidFill>
                  <a:srgbClr val="00c600"/>
                </a:solidFill>
                <a:latin typeface="Arial"/>
              </a:rPr>
              <a:t>“</a:t>
            </a:r>
            <a:r>
              <a:rPr b="1" i="1" sz="2400" spc="-1" strike="noStrike">
                <a:solidFill>
                  <a:srgbClr val="00c600"/>
                </a:solidFill>
                <a:latin typeface="Arial"/>
              </a:rPr>
              <a:t>two cycle transfer” </a:t>
            </a:r>
            <a:r>
              <a:rPr b="1" sz="2400" spc="-1" strike="noStrike">
                <a:solidFill>
                  <a:srgbClr val="00c600"/>
                </a:solidFill>
                <a:latin typeface="Arial"/>
              </a:rPr>
              <a:t>- Übertragungsverfahren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tum wird in einem Register des DMA-Controller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wischengespeichert (Fälle: a-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sz="2400" spc="-1" strike="noStrike">
                <a:solidFill>
                  <a:srgbClr val="00c600"/>
                </a:solidFill>
                <a:latin typeface="Arial"/>
              </a:rPr>
              <a:t>“</a:t>
            </a:r>
            <a:r>
              <a:rPr b="1" i="1" sz="2400" spc="-1" strike="noStrike">
                <a:solidFill>
                  <a:srgbClr val="00c600"/>
                </a:solidFill>
                <a:latin typeface="Arial"/>
              </a:rPr>
              <a:t>fly by transfer”</a:t>
            </a:r>
            <a:r>
              <a:rPr b="1" sz="2400" spc="-1" strike="noStrike">
                <a:solidFill>
                  <a:srgbClr val="00c600"/>
                </a:solidFill>
                <a:latin typeface="Arial"/>
              </a:rPr>
              <a:t> - Übertragungsverfah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atum wird ohne Zwischenspeicherung direkt übertrag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geht jedoch nicht für Speicher-Speicher Transfer) (Fall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1520" r="0" b="1013"/>
          <a:stretch/>
        </p:blipFill>
        <p:spPr>
          <a:xfrm>
            <a:off x="2116080" y="9360"/>
            <a:ext cx="7026480" cy="6848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216240" y="2587680"/>
            <a:ext cx="5800680" cy="3457440"/>
          </a:xfrm>
          <a:prstGeom prst="rect">
            <a:avLst/>
          </a:prstGeom>
          <a:noFill/>
          <a:ln w="57240">
            <a:solidFill>
              <a:srgbClr val="00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62240" y="768240"/>
            <a:ext cx="5791320" cy="1629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732040"/>
            <a:ext cx="318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ufbau eines </a:t>
            </a:r>
            <a:br>
              <a:rPr sz="3200"/>
            </a:br>
            <a:r>
              <a:rPr b="0" sz="3200" spc="-1" strike="noStrike">
                <a:solidFill>
                  <a:srgbClr val="000099"/>
                </a:solidFill>
                <a:latin typeface="Arial"/>
              </a:rPr>
              <a:t>DMA-Controll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DMA-Controll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0840" y="1190520"/>
            <a:ext cx="8213760" cy="48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600"/>
                </a:solidFill>
                <a:latin typeface="Arial"/>
              </a:rPr>
              <a:t>Steuerwerk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teuert den Daten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signale DMA-Controller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Mikro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akteingang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ystemta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RESET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austein in definierten Anfangszustand rückset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CS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elektion des Bausteins zur Programmierung durch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- A</a:t>
            </a:r>
            <a:r>
              <a:rPr b="0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niederwertige Adressleitungen zur Auswahl eines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 internen Register des Bauste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READY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ufforderung an den Baustein zum Einfügen vo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artezyklen (von der Peripher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HOLD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nforderung des Systembusses vom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 durch d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au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HOLDA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ewährung des Systembusses durch den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1480" y="3105000"/>
            <a:ext cx="36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DMA-Controll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2280" y="1185840"/>
            <a:ext cx="841860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teuersignale DMA-Controller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Periph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REQ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DMA reques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eripherie stellt Anforderung zum Daten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CK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DMA acknowledge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austein akzeptiert Anforderung zum Daten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ND, EOP: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end of process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eripherie oder Prozessor wird vom Baustein über das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nde des Datentransfers informiert.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anchmal bidirektionale Leitung, durch die der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 ein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atentransfer abbrechen k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3 Steuerregister zur Kontrolle und Programmierung durch den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30T19:51:59Z</cp:lastPrinted>
  <dcterms:modified xsi:type="dcterms:W3CDTF">2005-12-13T13:43:45Z</dcterms:modified>
  <cp:revision>1583</cp:revision>
  <dc:subject/>
  <dc:title>TI-2</dc:title>
</cp:coreProperties>
</file>