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77A-F055-489E-86AA-00319C63C4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1596960" y="1087560"/>
            <a:ext cx="63216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080" y="1143000"/>
            <a:ext cx="83372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Das Steuerwerk ist mikro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2511360"/>
            <a:ext cx="80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42840" y="4583160"/>
            <a:ext cx="6951960" cy="59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1520" y="5261040"/>
            <a:ext cx="875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 eines Mikrobefehls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krooperationen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uswahl- und Freigabesignale für die benötigt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-1142" t="5558" r="0" b="0"/>
          <a:stretch/>
        </p:blipFill>
        <p:spPr>
          <a:xfrm>
            <a:off x="6275520" y="1089000"/>
            <a:ext cx="2868480" cy="2127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1520" y="1457280"/>
            <a:ext cx="5067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 Festwertspeicher liegt fü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n Befehl ein Mikro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2320" y="39304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s Mikrobefehls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3257640"/>
            <a:ext cx="87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programm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Folge von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1800" y="1104840"/>
            <a:ext cx="8344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greif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ystembuszuteilung (Bus Arbitration) ist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anfo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(bus request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HOLD, BR oder BREQ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)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1141560"/>
            <a:ext cx="8344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Tahoma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ilt der Prozessor mit, dass 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übernahme-Bestätigung </a:t>
            </a:r>
            <a:r>
              <a:rPr b="0" i="1" sz="2000" spc="-1" strike="noStrike">
                <a:solidFill>
                  <a:srgbClr val="00a500"/>
                </a:solidFill>
                <a:latin typeface="Tahoma"/>
              </a:rPr>
              <a:t>(Bus grant 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acknowledge </a:t>
            </a:r>
            <a:r>
              <a:rPr b="1" sz="2000" spc="-1" strike="noStrike">
                <a:solidFill>
                  <a:srgbClr val="00a500"/>
                </a:solidFill>
                <a:latin typeface="Tahoma"/>
              </a:rPr>
              <a:t>BGA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 )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, dass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1800" y="1266840"/>
            <a:ext cx="862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104840"/>
            <a:ext cx="8086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ehlermeldung </a:t>
            </a:r>
            <a:r>
              <a:rPr b="1" lang="de-DE" sz="2000" spc="-1" strike="noStrike">
                <a:solidFill>
                  <a:srgbClr val="00a5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a500"/>
                </a:solidFill>
                <a:latin typeface="Tahoma"/>
              </a:rPr>
              <a:t> (Bus error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ann vo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stemkomponenten erzeugt werden, die gerade den Systembus benu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eigt dem Prozessor an, das bei der auf dem Systembus gerade laufenden Aktion ein Fehler aufgetreten ist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ausbleibendes Quittungssig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Zugriff auf einen geschützten Speicherbere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Datenübertragungsfehler auf dem Bus, ...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BERR löst in der Regel eine Unterbrechungs-behandl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04840"/>
            <a:ext cx="83408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kann der Prozessor angeschlossenen Komponenten seinen Zustand und den Typ der gerade ausgeführten Operation mitteilen, z.B. Benutzerprogramm/Systemprogramm; Halt-Zustand;  Zugriff auf Arbeitsspeicher oder Peripherie, … 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960" y="1171440"/>
            <a:ext cx="832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200" y="1152360"/>
            <a:ext cx="81057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720" y="1181160"/>
            <a:ext cx="78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teuerwerk: Zusammenfass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960" y="1305000"/>
            <a:ext cx="8258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 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 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1422360"/>
            <a:ext cx="4749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ührt die vom Steuer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langten logischen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schen Operationen a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Status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iert 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uerwerk über den Ablau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 Ergebnisses (z. B. Car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flow, Zero, Sign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um Zwischenspeicher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nden und Ergebni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lf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Akkumulatore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h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00800" y="2098800"/>
            <a:ext cx="32036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360" y="1422360"/>
            <a:ext cx="84456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 Eingangsbusse ( 2 Operanden) und 1 Ausgangs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rgebnis). Sie entsprechen in der Breite dem inter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zessor-Bus und sind mit diesem verbu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ALU selbst ist ein reines Schalt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 die ALU sind Hilfsregister zur Zwischenspeich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n Operanden geschal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Ergebnisse werden entweder in Prozessor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n gespeichert, auf die Eingangsregister 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U zurückgeführt oder über den externen Daten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ndere Systemkomponent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ngänge zur Steuerung der ALU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560" y="1409760"/>
            <a:ext cx="7950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de-Aus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 für den Status der abgelauf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(Carry, Overflow, Zero, Sign, ...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8 Bit Mikroprozessoren war das einzig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, das direkt Ergebnisse der ALU aufnehm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1960" y="11145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lf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Akkumulators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nter 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200" y="262908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U-Oper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Veränderung des Akkumulator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38308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Haupsächlich in älteren 8-Bit- Prozessoren, bei denen auch die Adressberechnung in der ALU des Rechenwerkes durchgefüh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59480" y="1550880"/>
            <a:ext cx="39272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280" y="1152360"/>
            <a:ext cx="801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B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Akkumulators.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kumulator wird in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istersatz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800" y="3187800"/>
            <a:ext cx="53625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Registersatzes können Akkumulator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neh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7280" y="572148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le modernen 16/32-Bit-Prozessoren nutzen dieses Konz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72160" y="1644480"/>
            <a:ext cx="3905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.2 Aufbau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0240" y="2184480"/>
            <a:ext cx="428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ist zweigeteilt, beste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 dem eigent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-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 einem nachgeschalt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fs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38600" y="1424160"/>
            <a:ext cx="4505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1 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1409760"/>
            <a:ext cx="4089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t die System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Befehl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hält den ge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geführten Befe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ko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ikroprogrammi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d von den Statussign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flußt und erzeugt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aktgenerat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t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 externen Qu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stgelegten 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30720" y="1808280"/>
            <a:ext cx="3363840" cy="29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18240" y="1870200"/>
            <a:ext cx="3380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Zeitverhalten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2520" y="1203480"/>
            <a:ext cx="8238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chiebe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800" y="560232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54640" y="1438200"/>
            <a:ext cx="4689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Rotations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284640" cy="504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atusregister (Zustandsregister, Condition Code Register CC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1800" y="1152360"/>
            <a:ext cx="8782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5757840" y="3890880"/>
            <a:ext cx="2611440" cy="220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3120" y="4251240"/>
            <a:ext cx="181008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57840" y="2952720"/>
            <a:ext cx="1288800" cy="13557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360" y="1209600"/>
            <a:ext cx="86486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Carry Flag(CF)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aus dem höchstwertigste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it bei Addition oder Subtraktion (Borrow)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sequentielle Addition und Subtraktion mit größerer Wortbreite is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Aux Carry (AF):</a:t>
            </a:r>
            <a:r>
              <a:rPr b="0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von Bit 3 in Bit 4 des Ergebnisses (BCD-Arithmet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Zero Flag (Z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der letzten Operation   gleich 0 war. (bedingte Programmverzweigungen, Zählschle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gn Flag (S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Zeigt an, dass das Ergebnis negativ ist (Most Significant Bit = 1). Spiegelt das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e Bit eines Operanden  wieder (bedingte Programmverzweig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verflow Flag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ereichsüberschreitung im Zweierko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en Flag (EV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eine gerade Zahl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Parity Flag (P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ignalisiert ungerade Parität des Ergebn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Tahoma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Tahoma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Prozessorstatuswort (PSW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Taktgener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960" y="1133640"/>
            <a:ext cx="8182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ynchrones Schal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liegt ein sog.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dynamisches Schaltwerk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v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. h. die Zustandsinformation ist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i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lipflops, sonder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densatoren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ndesttaktfrequenz ist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halb dieser Taktfrequenz gehen die Inhalte durch. Leckströme bereits vor dem nächsten Taktzyklus verl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Taktgenerat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i modernen Mikroprozessoren on Chip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it externem Quarz verbund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-1142" t="7115" r="0" b="0"/>
          <a:stretch/>
        </p:blipFill>
        <p:spPr>
          <a:xfrm>
            <a:off x="5808600" y="1160640"/>
            <a:ext cx="3335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1658880"/>
            <a:ext cx="2601720" cy="3667680"/>
            <a:chOff x="304920" y="1658880"/>
            <a:chExt cx="2601720" cy="36676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39600" y="492768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81400" y="1660680"/>
            <a:ext cx="2601720" cy="3665880"/>
            <a:chOff x="3281400" y="1660680"/>
            <a:chExt cx="2601720" cy="36658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577320" y="49276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326280" y="1628640"/>
            <a:ext cx="2618280" cy="3697920"/>
            <a:chOff x="6326280" y="1628640"/>
            <a:chExt cx="2618280" cy="3697920"/>
          </a:xfrm>
        </p:grpSpPr>
        <p:pic>
          <p:nvPicPr>
            <p:cNvPr id="70" name="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360480" y="49276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8120" y="1162080"/>
            <a:ext cx="81154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Tahoma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09-27T12:30:05Z</dcterms:modified>
  <cp:revision>422</cp:revision>
  <dc:subject/>
  <dc:title>TI-2</dc:title>
</cp:coreProperties>
</file>