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camera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C57-4797-458F-B183-412689A625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irekter Speicherzugriff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1157400"/>
            <a:ext cx="82944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sher wurde der Datentransfer zwischen Prozessor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bzw. Prozessor und Peripherie betrachte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ist es jedoch auch nötig, Daten zu transportier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ripherie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älteren und kleineren Systemen wird dieser Datentransf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 ebenfalls über den Prozessor abgewickel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6040" y="1116000"/>
            <a:ext cx="85122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600"/>
                </a:solidFill>
                <a:latin typeface="Arial"/>
              </a:rPr>
              <a:t>Operationswerk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führt den Datentransfer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eht im wesentlichen aus 3 Zählern, die vo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zu Beginn eine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s gela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Datenzähler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zahl der zu übertragenden Daten, wird bis 0  dekrementiert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formiert dann das Steuerwerk über das Ende des Daten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dresszähler1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adresse des Datentransfers. Wird bei Transfers aus dem Speich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ahlweise inkrementiert oder dekrementiert. Bei Transfers von d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bleibt die Adresse unveränd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dresszähler2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ieladresse des Datentransfers, Verhalten wie Adresszähl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Basisregister für die drei Zähler speichern jeweils die Anfangs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7320" y="1230480"/>
            <a:ext cx="84488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r Regel kann man bei einem DMA-Baustein un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denen Übertragungsarten wählen, die sich dur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elegung des Systembusses untersch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Arial"/>
              <a:buChar char="►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Einzeltransfer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single transfer 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Arial"/>
              <a:buChar char="►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Block-Transfer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block transfer mode, burst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Arial"/>
              <a:buChar char="►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Transfer auf Anforderung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demand transfer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inzeltransfer (</a:t>
            </a:r>
            <a:r>
              <a:rPr b="0" i="1" sz="3200" spc="-1" strike="noStrike">
                <a:solidFill>
                  <a:srgbClr val="000099"/>
                </a:solidFill>
                <a:latin typeface="Arial"/>
              </a:rPr>
              <a:t>single transfer  mode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120" y="10573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Hierbei wird jeweils genau ein Datum übertragen, danach der Systembus wieder für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freigegeben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cycle stealing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de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werden einzelne Buszyklen entzo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520" y="5273640"/>
            <a:ext cx="551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Q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forderung eines Requesters zum Daten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OLD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usanforderung durch den DMA-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OLDA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usgewährung durch den </a:t>
            </a:r>
            <a:r>
              <a:rPr b="0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AD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eendet die Übertragung des Datums, wenn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2109960"/>
            <a:ext cx="65343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5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Block-Transfer (</a:t>
            </a:r>
            <a:r>
              <a:rPr b="0" i="1" sz="2800" spc="-1" strike="noStrike">
                <a:solidFill>
                  <a:srgbClr val="000099"/>
                </a:solidFill>
                <a:latin typeface="Arial"/>
              </a:rPr>
              <a:t>block transfer mode, burst mode</a:t>
            </a:r>
            <a:r>
              <a:rPr b="0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440" y="115740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DMA-Controller überträgt hierbei alle Daten des Blocks ohne zwischenzeitliche Busfreigabe, sobald er den Systembus  erhalten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09640" y="2171880"/>
            <a:ext cx="741060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Transfer auf Anforderung (</a:t>
            </a:r>
            <a:r>
              <a:rPr b="0" i="1" sz="2800" spc="-1" strike="noStrike">
                <a:solidFill>
                  <a:srgbClr val="000099"/>
                </a:solidFill>
                <a:latin typeface="Arial"/>
              </a:rPr>
              <a:t>demand transfer mode</a:t>
            </a:r>
            <a:r>
              <a:rPr b="0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1160" y="1211400"/>
            <a:ext cx="77716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ittelstellung zwischen Einzeltransfer und Block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übertragung wird solange ohne Unterbrechung durchgeführt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olange das REQ-Signal aktiv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 in Schüben, häufig von Peripheriegerä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  benutzt (echter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urst-Mod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699" t="5258" r="918" b="2779"/>
          <a:stretch/>
        </p:blipFill>
        <p:spPr>
          <a:xfrm>
            <a:off x="824040" y="3171960"/>
            <a:ext cx="7086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4360" y="1182600"/>
            <a:ext cx="7902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onders zu beachten bei DMA-Transfers s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Arial"/>
              <a:buChar char="►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iedliche Datenbreite von Quelle und Ziel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Übertragungen von einem 8-Bit breiten Peripheri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ät (Drucker, Terminal, ...) in den 32-Bit brei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Arial"/>
              <a:buChar char="►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tragung von non-aligned Daten, d.h. mehre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ugriffe zum Lesen oder Schreiben ein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ums sind notwendig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MA-Controller sind durch verschiede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an diese Anforderungen angepaß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z.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760" y="1182600"/>
            <a:ext cx="840960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hlweise Inkrementierung der Adresszähler u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 2 od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rlegung bzw. Sammeln von Daten vor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transport in internen Registern bei unterschiedl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von Quelle und Z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che Erkennung von non-aligned Zugriff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rlegung dieser Zugriffe in mehrere Speicher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rne DMA-Controller enthalten 2 - 8 DMA-Kanäl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anal besitzt eigene Leitungen REQ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C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EN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kann so unabhängig von den anderen ein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quester zugeordn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Register des Steuerwerks eines DMA-Controll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1400" y="1135080"/>
            <a:ext cx="6918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ientiert am Intel 82380 DMA-Contro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4 unabhängige DMA-Kanäle auf dem Bau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ister des Steuerwe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060" t="3886" r="0" b="0"/>
          <a:stretch/>
        </p:blipFill>
        <p:spPr>
          <a:xfrm>
            <a:off x="990720" y="3462480"/>
            <a:ext cx="7238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9160" y="15228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Register des Steuerwerks eines DMA-Controll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080" y="1317600"/>
            <a:ext cx="857484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atusregist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itpaare pro Kanal zur Anzeige folgender Inform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tragungsanforderung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 für Kanal i liegt 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übertragung auf Kanal i beende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terminal coun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Befehlsregi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its zur Bestimmung der Arbeitsweise der einzelnen Kanä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eigabe des Kanals i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rioritätensteuerung zwischen den Kanä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oftware-Request (als Alternative zur REQ-Leitung)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terrupt Enable für Kanal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teuerregister (eines pro Kanal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8880" y="1440000"/>
            <a:ext cx="81662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euerregi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immt die Betriebsart des Ka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yp der Übertragung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I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Initialisierung (automatisches Nachla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Zähler aus den Basisregistern nach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tragungsen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der Übertragung (Einzeltransfer, Blocktransfer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ransfer auf Anforder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ransferzyklen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two-cycle transf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fly-by transf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6280" y="114300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übetragung zwischen Speicher und Peripherie mittels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51160" y="19940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51160" y="2930400"/>
            <a:ext cx="90972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51160" y="40370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51160" y="50198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30800" y="19940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30800" y="2930400"/>
            <a:ext cx="107964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0800" y="40370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30800" y="50198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12200" y="19940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2200" y="2930400"/>
            <a:ext cx="107604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12200" y="40370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2200" y="50198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419640" y="5541840"/>
            <a:ext cx="4983120" cy="672480"/>
            <a:chOff x="3419640" y="5541840"/>
            <a:chExt cx="4983120" cy="672480"/>
          </a:xfrm>
        </p:grpSpPr>
        <p:sp>
          <p:nvSpPr>
            <p:cNvPr id="61" name=""/>
            <p:cNvSpPr/>
            <p:nvPr/>
          </p:nvSpPr>
          <p:spPr>
            <a:xfrm>
              <a:off x="3419640" y="5541840"/>
              <a:ext cx="4983120" cy="385920"/>
            </a:xfrm>
            <a:custGeom>
              <a:avLst/>
              <a:gdLst/>
              <a:ahLst/>
              <a:rect l="l" t="t" r="r" b="b"/>
              <a:pathLst>
                <a:path w="3304" h="256">
                  <a:moveTo>
                    <a:pt x="0" y="0"/>
                  </a:moveTo>
                  <a:lnTo>
                    <a:pt x="0" y="256"/>
                  </a:lnTo>
                  <a:lnTo>
                    <a:pt x="3304" y="256"/>
                  </a:lnTo>
                  <a:lnTo>
                    <a:pt x="3304" y="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3480" y="58770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700440" y="2854440"/>
            <a:ext cx="2087640" cy="883440"/>
            <a:chOff x="3700440" y="2854440"/>
            <a:chExt cx="2087640" cy="883440"/>
          </a:xfrm>
        </p:grpSpPr>
        <p:grpSp>
          <p:nvGrpSpPr>
            <p:cNvPr id="64" name=""/>
            <p:cNvGrpSpPr/>
            <p:nvPr/>
          </p:nvGrpSpPr>
          <p:grpSpPr>
            <a:xfrm>
              <a:off x="4172040" y="2854440"/>
              <a:ext cx="1055520" cy="337320"/>
              <a:chOff x="4172040" y="2854440"/>
              <a:chExt cx="1055520" cy="337320"/>
            </a:xfrm>
          </p:grpSpPr>
          <p:sp>
            <p:nvSpPr>
              <p:cNvPr id="65" name=""/>
              <p:cNvSpPr/>
              <p:nvPr/>
            </p:nvSpPr>
            <p:spPr>
              <a:xfrm>
                <a:off x="4172040" y="3160800"/>
                <a:ext cx="105552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1640" y="285444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3333cc"/>
                    </a:solidFill>
                    <a:latin typeface="Arial"/>
                  </a:rPr>
                  <a:t>Adres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700440" y="3400560"/>
              <a:ext cx="2087640" cy="337320"/>
              <a:chOff x="3700440" y="3400560"/>
              <a:chExt cx="2087640" cy="337320"/>
            </a:xfrm>
          </p:grpSpPr>
          <p:sp>
            <p:nvSpPr>
              <p:cNvPr id="68" name=""/>
              <p:cNvSpPr/>
              <p:nvPr/>
            </p:nvSpPr>
            <p:spPr>
              <a:xfrm>
                <a:off x="3700440" y="3452760"/>
                <a:ext cx="2087640" cy="247680"/>
              </a:xfrm>
              <a:custGeom>
                <a:avLst/>
                <a:gdLst/>
                <a:ahLst/>
                <a:rect l="l" t="t" r="r" b="b"/>
                <a:pathLst>
                  <a:path w="1488" h="176">
                    <a:moveTo>
                      <a:pt x="1488" y="0"/>
                    </a:moveTo>
                    <a:lnTo>
                      <a:pt x="1488" y="176"/>
                    </a:ln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95520" y="3400560"/>
                <a:ext cx="81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cc99"/>
                    </a:solidFill>
                    <a:latin typeface="Arial"/>
                  </a:rPr>
                  <a:t>Dat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700440" y="3959280"/>
            <a:ext cx="2087640" cy="896040"/>
            <a:chOff x="3700440" y="3959280"/>
            <a:chExt cx="2087640" cy="896040"/>
          </a:xfrm>
        </p:grpSpPr>
        <p:sp>
          <p:nvSpPr>
            <p:cNvPr id="71" name=""/>
            <p:cNvSpPr/>
            <p:nvPr/>
          </p:nvSpPr>
          <p:spPr>
            <a:xfrm>
              <a:off x="4172040" y="424980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00440" y="4552920"/>
              <a:ext cx="2087640" cy="24624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86080" y="39592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37320" y="451800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Schreib-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710160" y="5445000"/>
            <a:ext cx="4319280" cy="337320"/>
            <a:chOff x="3710160" y="5445000"/>
            <a:chExt cx="4319280" cy="337320"/>
          </a:xfrm>
        </p:grpSpPr>
        <p:sp>
          <p:nvSpPr>
            <p:cNvPr id="76" name=""/>
            <p:cNvSpPr/>
            <p:nvPr/>
          </p:nvSpPr>
          <p:spPr>
            <a:xfrm>
              <a:off x="3710160" y="5541840"/>
              <a:ext cx="4319280" cy="217440"/>
            </a:xfrm>
            <a:custGeom>
              <a:avLst/>
              <a:gdLst/>
              <a:ahLst/>
              <a:rect l="l" t="t" r="r" b="b"/>
              <a:pathLst>
                <a:path w="2864" h="144">
                  <a:moveTo>
                    <a:pt x="0" y="0"/>
                  </a:moveTo>
                  <a:lnTo>
                    <a:pt x="0" y="144"/>
                  </a:lnTo>
                  <a:lnTo>
                    <a:pt x="2864" y="144"/>
                  </a:lnTo>
                  <a:lnTo>
                    <a:pt x="2864" y="8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20720" y="54450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172040" y="1940040"/>
            <a:ext cx="1055520" cy="337320"/>
            <a:chOff x="4172040" y="1940040"/>
            <a:chExt cx="1055520" cy="337320"/>
          </a:xfrm>
        </p:grpSpPr>
        <p:sp>
          <p:nvSpPr>
            <p:cNvPr id="79" name=""/>
            <p:cNvSpPr/>
            <p:nvPr/>
          </p:nvSpPr>
          <p:spPr>
            <a:xfrm>
              <a:off x="4172040" y="225108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94004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160" y="2219400"/>
            <a:ext cx="5619600" cy="591120"/>
            <a:chOff x="146160" y="2219400"/>
            <a:chExt cx="5619600" cy="591120"/>
          </a:xfrm>
        </p:grpSpPr>
        <p:grpSp>
          <p:nvGrpSpPr>
            <p:cNvPr id="82" name=""/>
            <p:cNvGrpSpPr/>
            <p:nvPr/>
          </p:nvGrpSpPr>
          <p:grpSpPr>
            <a:xfrm>
              <a:off x="3678120" y="2473200"/>
              <a:ext cx="2087640" cy="337320"/>
              <a:chOff x="3678120" y="2473200"/>
              <a:chExt cx="2087640" cy="337320"/>
            </a:xfrm>
          </p:grpSpPr>
          <p:sp>
            <p:nvSpPr>
              <p:cNvPr id="83" name=""/>
              <p:cNvSpPr/>
              <p:nvPr/>
            </p:nvSpPr>
            <p:spPr>
              <a:xfrm>
                <a:off x="3678120" y="2509920"/>
                <a:ext cx="2087640" cy="247680"/>
              </a:xfrm>
              <a:custGeom>
                <a:avLst/>
                <a:gdLst/>
                <a:ahLst/>
                <a:rect l="l" t="t" r="r" b="b"/>
                <a:pathLst>
                  <a:path w="1488" h="176">
                    <a:moveTo>
                      <a:pt x="1488" y="0"/>
                    </a:moveTo>
                    <a:lnTo>
                      <a:pt x="1488" y="176"/>
                    </a:ln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21560" y="2473200"/>
                <a:ext cx="1338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cc99"/>
                    </a:solidFill>
                    <a:latin typeface="Arial"/>
                  </a:rPr>
                  <a:t>Lade-Befeh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46160" y="2219400"/>
              <a:ext cx="28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OP:    LDA   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48960" y="2540160"/>
            <a:ext cx="1950120" cy="1946880"/>
            <a:chOff x="948960" y="2540160"/>
            <a:chExt cx="1950120" cy="1946880"/>
          </a:xfrm>
        </p:grpSpPr>
        <p:sp>
          <p:nvSpPr>
            <p:cNvPr id="87" name=""/>
            <p:cNvSpPr/>
            <p:nvPr/>
          </p:nvSpPr>
          <p:spPr>
            <a:xfrm>
              <a:off x="1663560" y="254016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48960" y="414972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TA   EA/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676520" y="4495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4520" y="554688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  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20560" y="2590920"/>
            <a:ext cx="1794960" cy="3610800"/>
            <a:chOff x="520560" y="2590920"/>
            <a:chExt cx="1794960" cy="3610800"/>
          </a:xfrm>
        </p:grpSpPr>
        <p:sp>
          <p:nvSpPr>
            <p:cNvPr id="92" name=""/>
            <p:cNvSpPr/>
            <p:nvPr/>
          </p:nvSpPr>
          <p:spPr>
            <a:xfrm>
              <a:off x="1043640" y="586440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PL 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560" y="2590920"/>
              <a:ext cx="482760" cy="3441600"/>
            </a:xfrm>
            <a:custGeom>
              <a:avLst/>
              <a:gdLst/>
              <a:ahLst/>
              <a:rect l="l" t="t" r="r" b="b"/>
              <a:pathLst>
                <a:path w="504" h="2232">
                  <a:moveTo>
                    <a:pt x="504" y="2232"/>
                  </a:moveTo>
                  <a:lnTo>
                    <a:pt x="0" y="22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teuerregister (eines pro Kanal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6120" y="1428840"/>
            <a:ext cx="81662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yp der Komponente für Target und Reque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Arbeitsspeicher / Periphe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ktion des Adresszählers für Target und Requ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R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krement, Dekrement, 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breite für Target und Requester (8, 16, 32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R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4600" y="1135080"/>
            <a:ext cx="8143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ndestens 4 Speicherzugriffe / Datum nötig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gf. sogar mind. 6 Speicherzugriffe dur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leifenbefeh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er Datentransfer, Prozessor belas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4600" y="344952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bhil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Direkter Speicherzugriff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direct memory access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, 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bei erfolgt der Datentransfer ohne Beteiligung des Mikroprozessors direkt zwischen den beteilig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irekter Speicherzugriff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4800" y="1179360"/>
            <a:ext cx="8170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pezieller Baustein,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DMA-Controll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nann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ordiniert den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ugriffe für das Holen der Lade-, Speicher-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chleifenbefehle entfallen, da die Datenübertrag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ardwaremäßig (ohne Programm) ausgeführt wird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2 (ggf. sogar nur 1) Speicherzugriff / Datum nö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zessor wird entlastet und kann derweil ander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nge tun (sofern diese nicht den Systembus benöti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Prinzip des direkten Speicherzugriff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49400" y="1152360"/>
            <a:ext cx="1055520" cy="337320"/>
            <a:chOff x="1949400" y="1152360"/>
            <a:chExt cx="1055520" cy="337320"/>
          </a:xfrm>
        </p:grpSpPr>
        <p:sp>
          <p:nvSpPr>
            <p:cNvPr id="101" name=""/>
            <p:cNvSpPr/>
            <p:nvPr/>
          </p:nvSpPr>
          <p:spPr>
            <a:xfrm>
              <a:off x="1949400" y="147636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98360" y="11523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028880" y="1219320"/>
            <a:ext cx="9093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86200" y="121932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89760" y="1219320"/>
            <a:ext cx="107640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8160" y="1219320"/>
            <a:ext cx="91440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66200" y="1698480"/>
            <a:ext cx="2129760" cy="337320"/>
            <a:chOff x="1366200" y="1698480"/>
            <a:chExt cx="2129760" cy="337320"/>
          </a:xfrm>
        </p:grpSpPr>
        <p:sp>
          <p:nvSpPr>
            <p:cNvPr id="108" name=""/>
            <p:cNvSpPr/>
            <p:nvPr/>
          </p:nvSpPr>
          <p:spPr>
            <a:xfrm>
              <a:off x="1395360" y="1722600"/>
              <a:ext cx="2086920" cy="24732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66200" y="1698480"/>
              <a:ext cx="212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Startadresse, Zäh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65320" y="2498760"/>
            <a:ext cx="981000" cy="337320"/>
            <a:chOff x="3865320" y="2498760"/>
            <a:chExt cx="981000" cy="337320"/>
          </a:xfrm>
        </p:grpSpPr>
        <p:sp>
          <p:nvSpPr>
            <p:cNvPr id="111" name=""/>
            <p:cNvSpPr/>
            <p:nvPr/>
          </p:nvSpPr>
          <p:spPr>
            <a:xfrm>
              <a:off x="3917880" y="2822400"/>
              <a:ext cx="87444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65320" y="2498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89400" y="2955960"/>
            <a:ext cx="2087640" cy="337320"/>
            <a:chOff x="3389400" y="2955960"/>
            <a:chExt cx="2087640" cy="337320"/>
          </a:xfrm>
        </p:grpSpPr>
        <p:sp>
          <p:nvSpPr>
            <p:cNvPr id="114" name=""/>
            <p:cNvSpPr/>
            <p:nvPr/>
          </p:nvSpPr>
          <p:spPr>
            <a:xfrm>
              <a:off x="3389400" y="2979720"/>
              <a:ext cx="2087640" cy="24768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6840" y="29559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06840" y="4140360"/>
            <a:ext cx="3682800" cy="371880"/>
            <a:chOff x="3606840" y="4140360"/>
            <a:chExt cx="3682800" cy="371880"/>
          </a:xfrm>
        </p:grpSpPr>
        <p:sp>
          <p:nvSpPr>
            <p:cNvPr id="117" name=""/>
            <p:cNvSpPr/>
            <p:nvPr/>
          </p:nvSpPr>
          <p:spPr>
            <a:xfrm>
              <a:off x="3606840" y="4140360"/>
              <a:ext cx="3682800" cy="34236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1280" y="4174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213000" y="4152960"/>
            <a:ext cx="4647960" cy="715320"/>
            <a:chOff x="3213000" y="4152960"/>
            <a:chExt cx="4647960" cy="715320"/>
          </a:xfrm>
        </p:grpSpPr>
        <p:sp>
          <p:nvSpPr>
            <p:cNvPr id="120" name=""/>
            <p:cNvSpPr/>
            <p:nvPr/>
          </p:nvSpPr>
          <p:spPr>
            <a:xfrm>
              <a:off x="3213000" y="4152960"/>
              <a:ext cx="4647960" cy="68580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8440" y="4530960"/>
              <a:ext cx="25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uswahlsignal (Adres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78280" y="5203800"/>
            <a:ext cx="981000" cy="337320"/>
            <a:chOff x="3878280" y="5203800"/>
            <a:chExt cx="981000" cy="337320"/>
          </a:xfrm>
        </p:grpSpPr>
        <p:sp>
          <p:nvSpPr>
            <p:cNvPr id="123" name=""/>
            <p:cNvSpPr/>
            <p:nvPr/>
          </p:nvSpPr>
          <p:spPr>
            <a:xfrm>
              <a:off x="3918240" y="5527800"/>
              <a:ext cx="87444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8280" y="52038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72280" y="5597640"/>
            <a:ext cx="1930320" cy="337320"/>
            <a:chOff x="5372280" y="5597640"/>
            <a:chExt cx="1930320" cy="337320"/>
          </a:xfrm>
        </p:grpSpPr>
        <p:sp>
          <p:nvSpPr>
            <p:cNvPr id="126" name=""/>
            <p:cNvSpPr/>
            <p:nvPr/>
          </p:nvSpPr>
          <p:spPr>
            <a:xfrm>
              <a:off x="5372280" y="5651640"/>
              <a:ext cx="1930320" cy="253800"/>
            </a:xfrm>
            <a:custGeom>
              <a:avLst/>
              <a:gdLst/>
              <a:ahLst/>
              <a:rect l="l" t="t" r="r" b="b"/>
              <a:pathLst>
                <a:path w="1216" h="160">
                  <a:moveTo>
                    <a:pt x="0" y="0"/>
                  </a:moveTo>
                  <a:lnTo>
                    <a:pt x="0" y="160"/>
                  </a:lnTo>
                  <a:lnTo>
                    <a:pt x="1216" y="160"/>
                  </a:lnTo>
                  <a:lnTo>
                    <a:pt x="1216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9040" y="559764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149640" y="5664240"/>
            <a:ext cx="4648320" cy="435600"/>
            <a:chOff x="3149640" y="5664240"/>
            <a:chExt cx="4648320" cy="435600"/>
          </a:xfrm>
        </p:grpSpPr>
        <p:sp>
          <p:nvSpPr>
            <p:cNvPr id="129" name=""/>
            <p:cNvSpPr/>
            <p:nvPr/>
          </p:nvSpPr>
          <p:spPr>
            <a:xfrm>
              <a:off x="3149640" y="5664240"/>
              <a:ext cx="4648320" cy="39384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0000cc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60440" y="576252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cc"/>
                  </a:solidFill>
                  <a:latin typeface="Arial"/>
                </a:rPr>
                <a:t>Auswahlsign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7640" y="1230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640" y="2476440"/>
            <a:ext cx="8048520" cy="515880"/>
            <a:chOff x="17640" y="2476440"/>
            <a:chExt cx="8048520" cy="515880"/>
          </a:xfrm>
        </p:grpSpPr>
        <p:sp>
          <p:nvSpPr>
            <p:cNvPr id="133" name=""/>
            <p:cNvSpPr/>
            <p:nvPr/>
          </p:nvSpPr>
          <p:spPr>
            <a:xfrm>
              <a:off x="1028880" y="247644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86560" y="247644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89760" y="247644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8520" y="247644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40" y="2500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120" y="3619440"/>
            <a:ext cx="8042040" cy="515880"/>
            <a:chOff x="24120" y="3619440"/>
            <a:chExt cx="8042040" cy="515880"/>
          </a:xfrm>
        </p:grpSpPr>
        <p:sp>
          <p:nvSpPr>
            <p:cNvPr id="139" name=""/>
            <p:cNvSpPr/>
            <p:nvPr/>
          </p:nvSpPr>
          <p:spPr>
            <a:xfrm>
              <a:off x="1028880" y="361944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6560" y="361944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9760" y="361944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08520" y="361944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6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C/I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120" y="37317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7640" y="5130720"/>
            <a:ext cx="8048520" cy="515880"/>
            <a:chOff x="17640" y="5130720"/>
            <a:chExt cx="8048520" cy="515880"/>
          </a:xfrm>
        </p:grpSpPr>
        <p:sp>
          <p:nvSpPr>
            <p:cNvPr id="145" name=""/>
            <p:cNvSpPr/>
            <p:nvPr/>
          </p:nvSpPr>
          <p:spPr>
            <a:xfrm>
              <a:off x="1028880" y="513072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6560" y="513072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89760" y="513072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08520" y="513072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6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C/I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40" y="5205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204040" y="2362320"/>
            <a:ext cx="815040" cy="2006640"/>
            <a:chOff x="8204040" y="2362320"/>
            <a:chExt cx="815040" cy="2006640"/>
          </a:xfrm>
        </p:grpSpPr>
        <p:sp>
          <p:nvSpPr>
            <p:cNvPr id="151" name=""/>
            <p:cNvSpPr/>
            <p:nvPr/>
          </p:nvSpPr>
          <p:spPr>
            <a:xfrm rot="16200000">
              <a:off x="7968600" y="2925360"/>
              <a:ext cx="139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2000" spc="-1" strike="noStrike">
                  <a:solidFill>
                    <a:srgbClr val="ff0000"/>
                  </a:solidFill>
                  <a:latin typeface="Arial"/>
                </a:rPr>
                <a:t>two cycle </a:t>
              </a:r>
              <a:br>
                <a:rPr sz="2000"/>
              </a:br>
              <a:r>
                <a:rPr b="1" i="1" sz="2000" spc="-1" strike="noStrike">
                  <a:solidFill>
                    <a:srgbClr val="ff0000"/>
                  </a:solidFill>
                  <a:latin typeface="Arial"/>
                </a:rPr>
                <a:t>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04040" y="2362320"/>
              <a:ext cx="190800" cy="2006640"/>
            </a:xfrm>
            <a:custGeom>
              <a:avLst/>
              <a:gdLst>
                <a:gd name="textAreaLeft" fmla="*/ 0 w 190800"/>
                <a:gd name="textAreaRight" fmla="*/ 68760 w 190800"/>
                <a:gd name="textAreaTop" fmla="*/ 52200 h 2006640"/>
                <a:gd name="textAreaBottom" fmla="*/ 1954440 h 20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191440" y="4828320"/>
            <a:ext cx="840240" cy="1316880"/>
            <a:chOff x="8191440" y="4828320"/>
            <a:chExt cx="840240" cy="1316880"/>
          </a:xfrm>
        </p:grpSpPr>
        <p:sp>
          <p:nvSpPr>
            <p:cNvPr id="154" name=""/>
            <p:cNvSpPr/>
            <p:nvPr/>
          </p:nvSpPr>
          <p:spPr>
            <a:xfrm rot="16200000">
              <a:off x="8114760" y="504144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ff0000"/>
                  </a:solidFill>
                  <a:latin typeface="Arial"/>
                </a:rPr>
                <a:t>fly-by </a:t>
              </a:r>
              <a:br>
                <a:rPr sz="2000"/>
              </a:br>
              <a:r>
                <a:rPr b="1" i="1" lang="de-DE" sz="2000" spc="-1" strike="noStrike">
                  <a:solidFill>
                    <a:srgbClr val="ff0000"/>
                  </a:solidFill>
                  <a:latin typeface="Arial"/>
                </a:rPr>
                <a:t>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91440" y="4929120"/>
              <a:ext cx="190440" cy="1216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31680 h 1216080"/>
                <a:gd name="textAreaBottom" fmla="*/ 1184400 h 12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Prinzip des direkten Speicherzugriff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1144440"/>
            <a:ext cx="8272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zesor überträgt zu Beginn die Startadresse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ieladresse, Anzahl der zu übertragenden Bytes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tragungsrichtung und Steuerinfor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ach läuft der Transfer automatis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“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two cycle transfer” 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- Übertragungsverfahren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um wird in einem Register des DMA-Controller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gespeichert (Fälle: a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“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fly by transfer”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 - Übertragungs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um wird ohne Zwischenspeicherung direkt übertra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eht jedoch nicht für Speicher-Speicher Transfer) (Fall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1520" r="0" b="1013"/>
          <a:stretch/>
        </p:blipFill>
        <p:spPr>
          <a:xfrm>
            <a:off x="2116080" y="9360"/>
            <a:ext cx="7026480" cy="6848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16240" y="2587680"/>
            <a:ext cx="5800680" cy="3457440"/>
          </a:xfrm>
          <a:prstGeom prst="rect">
            <a:avLst/>
          </a:prstGeom>
          <a:noFill/>
          <a:ln w="57240">
            <a:solidFill>
              <a:srgbClr val="00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2240" y="768240"/>
            <a:ext cx="5791320" cy="1629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732040"/>
            <a:ext cx="318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fbau eines </a:t>
            </a:r>
            <a:br>
              <a:rPr sz="3200"/>
            </a:br>
            <a:r>
              <a:rPr b="0" sz="3200" spc="-1" strike="noStrike">
                <a:solidFill>
                  <a:srgbClr val="000099"/>
                </a:solidFill>
                <a:latin typeface="Arial"/>
              </a:rPr>
              <a:t>DMA-Contro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0840" y="1190520"/>
            <a:ext cx="8213760" cy="48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600"/>
                </a:solidFill>
                <a:latin typeface="Arial"/>
              </a:rPr>
              <a:t>Steuerwerk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teuert den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signale DMA-Controll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akteingang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SE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 in definierten Anfangszustand rückse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CS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ktion des Bausteins zur Programmierung durch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iederwertige Adressleitungen zur Auswahl eine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internen Register des Baus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ADY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forderung an den Baustein zum Einfügen vo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artezyklen (von der Periphe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OLD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forderung des Systembusses vo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durch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OLDA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währung des Systembusses durch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480" y="310500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2280" y="1185840"/>
            <a:ext cx="841860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signale DMA-Controll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Q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DMA reque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stellt Anforderung zum Daten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CK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DMA acknowledg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 akzeptiert Anforderung zum Daten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D, EOP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end of proces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oder Prozessor wird vom Baustein über da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de des Datentransfers informiert.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anchmal bidirektionale Leitung, durch die der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ein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 abbrech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3 Steuerregister zur Kontrolle und Programmierung durch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6-12-19T13:36:34Z</dcterms:modified>
  <cp:revision>1586</cp:revision>
  <dc:subject/>
  <dc:title>TI-2</dc:title>
</cp:coreProperties>
</file>