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3E44-6FDD-4A5B-ADCA-2D90B5F938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035" r="29831" b="1572"/>
          <a:stretch/>
        </p:blipFill>
        <p:spPr>
          <a:xfrm>
            <a:off x="1596960" y="1087560"/>
            <a:ext cx="63216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1143000"/>
            <a:ext cx="83372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jeden Befehl liegt ein Mikroprogramm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wertspeicher des Steuerwerks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kroprogramme können vom Benutzer nicht veränder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8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Das Steuerwerk ist mikroprogram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Andere Var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8584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 als festverdrahtetes Schaltwerk (RISC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4120" y="2511360"/>
            <a:ext cx="80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42840" y="4583160"/>
            <a:ext cx="6951960" cy="59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1520" y="5261040"/>
            <a:ext cx="875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 eines Mikrobefehls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krooperationen </a:t>
            </a:r>
            <a:r>
              <a:rPr b="1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uswahl- und Freigabesignale für die benötigt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-1142" t="5558" r="0" b="0"/>
          <a:stretch/>
        </p:blipFill>
        <p:spPr>
          <a:xfrm>
            <a:off x="6275520" y="1089000"/>
            <a:ext cx="2868480" cy="2127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1520" y="1457280"/>
            <a:ext cx="5067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 Festwertspeicher liegt fü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n Befehl ein Mikro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320" y="39304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s Mikrobefehls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1520" y="3257640"/>
            <a:ext cx="87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programm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Folge von</a:t>
            </a:r>
            <a:r>
              <a:rPr b="1" lang="de-DE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ff"/>
                </a:solidFill>
                <a:latin typeface="Tahoma"/>
              </a:rPr>
              <a:t>Mikro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1800" y="1104840"/>
            <a:ext cx="834408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1. Systembus-Zuteilu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müssen mehrer Komponenten ein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zessor-Systems aktiv auf den Systembu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greif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ystembuszuteilung (Bus Arbitration) ist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Quittierungsbetrieb mit 3-Leitungs-Handshak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anford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(bus request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HOLD, BR oder BREQ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)</a:t>
            </a:r>
            <a:r>
              <a:rPr b="0" i="1" sz="2400" spc="-1" strike="noStrike">
                <a:solidFill>
                  <a:srgbClr val="00a5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s Signal teilt dem Prozessor mit, dass eine ander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komponente den Systembus belege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1800" y="1141560"/>
            <a:ext cx="8344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Busfreigabe </a:t>
            </a:r>
            <a:r>
              <a:rPr b="0" i="1" lang="de-DE" sz="2400" spc="-1" strike="noStrike">
                <a:solidFill>
                  <a:srgbClr val="00a500"/>
                </a:solidFill>
                <a:latin typeface="Tahoma"/>
              </a:rPr>
              <a:t>(bus gra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a500"/>
                </a:solidFill>
                <a:latin typeface="Tahoma"/>
              </a:rPr>
              <a:t>HOLDA</a:t>
            </a:r>
            <a:r>
              <a:rPr b="0" lang="de-DE" sz="2400" spc="-1" strike="noStrike">
                <a:solidFill>
                  <a:srgbClr val="00a500"/>
                </a:solidFill>
                <a:latin typeface="Tahoma"/>
              </a:rPr>
              <a:t> (Hold acknowledge), BG oder BGRT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diesem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ilt der Prozessor mit, dass 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bus nun zur Verfügung steht. Alle Prozessor-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gänge werden vorher auf hochohmi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Busübernahme-Bestätigung </a:t>
            </a:r>
            <a:r>
              <a:rPr b="0" i="1" sz="2000" spc="-1" strike="noStrike">
                <a:solidFill>
                  <a:srgbClr val="00a500"/>
                </a:solidFill>
                <a:latin typeface="Tahoma"/>
              </a:rPr>
              <a:t>(Bus grant 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acknowledge </a:t>
            </a:r>
            <a:r>
              <a:rPr b="1" sz="2000" spc="-1" strike="noStrike">
                <a:solidFill>
                  <a:srgbClr val="00a500"/>
                </a:solidFill>
                <a:latin typeface="Tahoma"/>
              </a:rPr>
              <a:t>BGA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 )</a:t>
            </a:r>
            <a:r>
              <a:rPr b="0" sz="20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diesem Signal bestätigt eine Komponente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, dass sie nun den Bus übernommen hat (neu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-Ma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werben sich mehrer Komponenten gleichzeitig um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us, so muß der Bus-Arbiter eine hiervon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800" y="1266840"/>
            <a:ext cx="862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2. Unterbrechungsanforderungen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brechungen (Interrupts) sind erforderlich, um auf besondere äußere Ereignisse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laufende Programm wird unterbrochen, eine Unterbrechungsbehandlungsroutine (Interrupt Service Routine) angestoßen und nach deren Abarbeitung zum laufenden Programm zurückgekehrt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040" y="126684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15236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-Ein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IRQ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Interrupt request), INT oder INT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maskierbare Unterbrechungsbehandlung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NMI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 (Non maskable interrup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öst eine nicht maskierbare Unterbrechungsbehandl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a00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a500"/>
                </a:solidFill>
                <a:latin typeface="Tahoma"/>
              </a:rPr>
              <a:t>HALT</a:t>
            </a:r>
            <a:r>
              <a:rPr b="0" sz="2400" spc="-1" strike="noStrike">
                <a:solidFill>
                  <a:srgbClr val="00a500"/>
                </a:solidFill>
                <a:latin typeface="Tahoma"/>
              </a:rPr>
              <a:t>-Lei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fforderung zum Stoppen des Prozessors, durch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rupt oder RESET wieder aufweckbar, meist bei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weren Systemfehlern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104840"/>
            <a:ext cx="8086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3. Fehlermeldung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ehlermeldung </a:t>
            </a:r>
            <a:r>
              <a:rPr b="1" lang="de-DE" sz="2000" spc="-1" strike="noStrike">
                <a:solidFill>
                  <a:srgbClr val="00a5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a500"/>
                </a:solidFill>
                <a:latin typeface="Tahoma"/>
              </a:rPr>
              <a:t> (Bus error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ann vo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stemkomponenten erzeugt werden, die gerade den Systembus benu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Font typeface="Wingdings" charset="2"/>
              <a:buChar char="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R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eigt dem Prozessor an, das bei der auf dem Systembus gerade laufenden Aktion ein Fehler aufgetreten ist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ausbleibendes Quittungssig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Zugriff auf einen geschützten Speicherbere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 Datenübertragungsfehler auf dem Bus, ...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Signal BERR löst in der Regel eine Unterbrechungs-behandlung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104840"/>
            <a:ext cx="83408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8"/>
                </a:solidFill>
                <a:latin typeface="Tahoma"/>
              </a:rPr>
              <a:t>4. Statusinformationen: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rch eine Reihe Statussignale, 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FCi,...,FC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Function code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i,...,ST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at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Tahoma"/>
              </a:rPr>
              <a:t>kann der Prozessor angeschlossenen Komponenten seinen Zustand und den Typ der gerade ausgeführten Operation mitteilen, z.B. Benutzerprogramm/Systemprogramm; Halt-Zustand;  Zugriff auf Arbeitsspeicher oder Peripherie, … 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Ein-/Ausgabesignale des Steuer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171440"/>
            <a:ext cx="832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5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Kommunikation mit Coprozessor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Reihe von Signalen ist hierfür vorgesehen (spä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6.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Systembus-Steuersignale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im 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und Richtung des Datentransport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lesen/schreiben, Byte/Word/Double-Word-Zugriff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476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r selektierten Komponen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Arbeitsspeicher/Periph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200" y="1152360"/>
            <a:ext cx="810576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Steuerregister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kan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s beeinfluß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edeutung der Bits des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 hängen vom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weiligen Prozessor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spiele für die Bedeutung von Bits d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Interrupt enabl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, ob auf eine Unterbrechungs-Anforderung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m INT-Eingang reagier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27560" y="1144440"/>
            <a:ext cx="3773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 Interner Aufbau eines einfach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Steuerregis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720" y="1181160"/>
            <a:ext cx="78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User/System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t ob der Prozessor im User-Modus (nu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chränkter Teil des Befehlsvorrats nutzbar) o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Systemmodus (alle Befehle verfügbar, i.A. für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ystem reserviert) arbe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rac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laubt Befehlsabarbeitung im Einzelschritt (Singl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p Mode), d.h. nach jeder Befehlsausführung wir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 Unterbrechungsroutine gestarte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Decimal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scheidet, ob Dual oder BCD gerechnet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teuerwerk: Zusammenfass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960" y="1305000"/>
            <a:ext cx="8258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werk interpretiert die Maschinenbefehle und setzt sie unter Berücksichtigung der Statusinformation in Steuerkommandos für andere Komponenten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enthält die Speicheradresse des als nächstes auszuführenden Maschinenbefehls, sofern der vergangene Befehl kein Sprungbefehl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b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teuerregister beeinfluss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aktuelle Arbeitsweise des Steuer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 Interner Aufbau eines einfachen</a:t>
            </a:r>
            <a:r>
              <a:rPr b="1" lang="en-US" sz="2400" spc="-1" strike="noStrike">
                <a:solidFill>
                  <a:srgbClr val="00339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5920" y="1244520"/>
            <a:ext cx="6147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teuer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Register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ress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ystembus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Interne B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 Interner Aufbau eines einfachen </a:t>
            </a:r>
            <a:r>
              <a:rPr b="1" lang="en-US" sz="2400" spc="-1" strike="noStrike">
                <a:solidFill>
                  <a:srgbClr val="00339b"/>
                </a:solidFill>
                <a:latin typeface="Tahoma;Symbol"/>
              </a:rPr>
              <a:t>µ</a:t>
            </a: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50840" y="1114560"/>
            <a:ext cx="7478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640" y="1422360"/>
            <a:ext cx="4749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ührt die vom Steuer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langten logischen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schen Operationen a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Status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iert 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uerwerk über den Ablau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 Ergebnisses (z. B. Car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flow, Zero, Sign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um Zwischenspeicher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nden und Ergebni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lfregist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Akkumulatore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h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00800" y="2098800"/>
            <a:ext cx="32036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360" y="1422360"/>
            <a:ext cx="84456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 Eingangsbusse ( 2 Operanden) und 1 Ausgangs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rgebnis). Sie entsprechen in der Breite dem inter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zessor-Bus und sind mit diesem verbu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ALU selbst ist ein reines Schalt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r die ALU sind Hilfsregister zur Zwischenspeich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n Operanden geschal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e Ergebnisse werden entweder in Prozessor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n gespeichert, auf die Eingangsregister 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U zurückgeführt oder über den externen Daten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ndere Systemkomponent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ngänge zur Steuerung der ALU-Operatio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2 Rechen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0560" y="1409760"/>
            <a:ext cx="7950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de-Aus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ge für den Status der abgelauf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(Carry, Overflow, Zero, Sign, ...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wird im Status-Register zwischen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 (spezielles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8 Bit Mikroprozessoren war das einzig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, das direkt Ergebnisse der ALU aufnehm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 ALU Ergebnisse werden dort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 “sammelt” die Ergebnisse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atusregister (Zustandsregister, Condition Code Register CC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1800" y="1152360"/>
            <a:ext cx="8782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zelne Bits, die das Ergebnis einer arithmetisch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 wiederspiegeln werden im Statusregister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Statusregister enthält meist folgende Bits (Flag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tragsbit (Carry Flag 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ilfsübertragsbit (Auxiliary Carry 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ullbit (Zero Flag Z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bit (Sign Flag 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Überlaufbit (Overflow Flag 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ven Flag 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itätsbi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Parity Flag 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09880" y="2247840"/>
            <a:ext cx="4343400" cy="61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472" t="2761" r="9882" b="2761"/>
          <a:stretch/>
        </p:blipFill>
        <p:spPr>
          <a:xfrm>
            <a:off x="5757840" y="3890880"/>
            <a:ext cx="2611440" cy="220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83120" y="4251240"/>
            <a:ext cx="181008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857840" y="2952720"/>
            <a:ext cx="1288800" cy="13557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deutung der Statusflag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1209600"/>
            <a:ext cx="86486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Carry Flag(CF)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aus dem höchstwertigste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it bei Addition oder Subtraktion (Borrow)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sequentielle Addition und Subtraktion mit größerer Wortbreite ist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Aux Carry (AF):</a:t>
            </a:r>
            <a:r>
              <a:rPr b="0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Übertrag von Bit 3 in Bit 4 des Ergebnisses (BCD-Arithmet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a0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Zero Flag (Z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der letzten Operation   gleich 0 war. (bedingte Programmverzweigungen, Zählschle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gn Flag (S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Zeigt an, dass das Ergebnis negativ ist (Most Significant Bit = 1). Spiegelt das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e Bit eines Operanden  wieder (bedingte Programmverzweig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verflow Flag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ereichsüberschreitung im Zweierko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en Flag (EV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eigt an, ob das Ergebnis eine gerade Zahl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Parity Flag (PF):</a:t>
            </a:r>
            <a:r>
              <a:rPr b="1" sz="20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ignalisiert ungerade Parität des Ergebn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tatusregister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(Zustandsregister, Condition Code Register CC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7840" y="1300320"/>
            <a:ext cx="81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te von Statusbits können direkt Einfluß auf die Ausführung des Mikroprogramms h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dingte Programmverzwe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b000"/>
                </a:solidFill>
                <a:latin typeface="Tahoma"/>
              </a:rPr>
              <a:t>Status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ff0000"/>
                </a:solidFill>
                <a:latin typeface="Tahoma"/>
              </a:rPr>
              <a:t>Steuerregist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werden häufig zur Erleichterung der Adressierung zusammengefaßt betrachten und manipuliert, und me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8"/>
                </a:solidFill>
                <a:latin typeface="Tahoma"/>
              </a:rPr>
              <a:t>Prozessorstatuswort (PSW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n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5.1 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1409760"/>
            <a:ext cx="40892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t die System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Befehls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hält den ge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geführten Befe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ko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ikroprogrammi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altw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d von den Statussign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flußt und erzeugt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uer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aktgenerat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t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 externen Qu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stgelegten 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30720" y="1808280"/>
            <a:ext cx="3363840" cy="29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18240" y="1870200"/>
            <a:ext cx="338040" cy="38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68640" y="5060880"/>
            <a:ext cx="389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3399"/>
                </a:solidFill>
                <a:latin typeface="Tahoma"/>
              </a:rPr>
              <a:t>Steuerregister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beeinflu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 aktuelle Arbeitsweise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teuerwe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11145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A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lfs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Akkumulators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inter die ALU 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200" y="262908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U-Oper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Veränderung des Akkumulator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38308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Haupsächlich in älteren 8-Bit- Prozessoren, bei denen auch die Adressberechnung in der ALU des Rechenwerkes durchgefüh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9480" y="1550880"/>
            <a:ext cx="39272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-95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6280" y="1152360"/>
            <a:ext cx="801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8"/>
                </a:solidFill>
                <a:latin typeface="Tahoma"/>
              </a:rPr>
              <a:t>Variante B:</a:t>
            </a:r>
            <a:r>
              <a:rPr b="0" sz="2400" spc="-1" strike="noStrike">
                <a:solidFill>
                  <a:srgbClr val="0000c8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hne Akkumulators.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kumulator wird in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istersatz des Proz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9800" y="3187800"/>
            <a:ext cx="53625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Tahoma"/>
              </a:rPr>
              <a:t>Vorteil: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 Registersatzes können Akkumulator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nehm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hrere Akkumu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800" y="142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5.2 Rechenwerksvariant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7280" y="572148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le modernen 16/32-Bit-Prozessoren nutzen dieses Konz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72160" y="1644480"/>
            <a:ext cx="3905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b"/>
                </a:solidFill>
                <a:latin typeface="Tahoma"/>
              </a:rPr>
              <a:t>1.5.2 Aufbau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" y="2184480"/>
            <a:ext cx="4280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k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ist zweigeteilt, beste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 dem eigent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kumulator-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 einem nachgeschalt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fsregis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38600" y="1424160"/>
            <a:ext cx="4505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Zeitverhalten des Rechenwe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2520" y="1203480"/>
            <a:ext cx="8238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7840" y="1143000"/>
            <a:ext cx="81532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ithmetische 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ubtrahieren ohne/mit Übert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krementieren/Dekre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zieren ohne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vidieren ohen/mit Vo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Komplemntieren (Zweierk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ogische bitweise Verknüp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tival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Operationsvorrat der AL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7840" y="1143000"/>
            <a:ext cx="8153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iebe- und Rotations-Operation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Ver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ink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ohne Übertrags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ts-Rotieren durchs Übertrags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-Oper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c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Transfer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chiebe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1305000"/>
            <a:ext cx="4305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Links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Multiplikatio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mi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 logischen Rechtschieb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spricht die Divisio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urc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 gilt jedoch nur für positiv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.  Bei negativen Zahl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m Zweierkomplement muß zu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orzeichenerhaltung da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chstwertigste Bit in sich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ückgefüh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800" y="560232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schied logisches/arithmetisches Rechtssch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54640" y="1438200"/>
            <a:ext cx="4689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Rotationsoperatio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1440" y="1081080"/>
            <a:ext cx="3284640" cy="504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0400" y="1685880"/>
            <a:ext cx="38386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gsiter wird al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schlossene Bitket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rry-Flag kan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ahlweise mitbenutz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als zusätzliche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t einbe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6520" y="274788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Taktgener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5960" y="1143000"/>
            <a:ext cx="798192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Aufgaben des Takt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Taktfrequenz h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zeugung eines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ozessortakt synchronisier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ücksetz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m Rücksetzen durchläuft das Steuerwerk eine Initialisierungs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wird bei vielen Mikroprozessoren ausgeführt, während das Rücksetzsignal aktiv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shalb m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das Rücksetzsignal genauen zeitlichen Spezifikationen genü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298" t="3848" r="0" b="0"/>
          <a:stretch/>
        </p:blipFill>
        <p:spPr>
          <a:xfrm>
            <a:off x="5770440" y="1065240"/>
            <a:ext cx="3373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Rücksetzen eines 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10000"/>
          </a:blip>
          <a:srcRect l="3709" t="13671" r="1520" b="979"/>
          <a:stretch/>
        </p:blipFill>
        <p:spPr>
          <a:xfrm>
            <a:off x="760320" y="2517840"/>
            <a:ext cx="7818480" cy="364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360" y="1225440"/>
            <a:ext cx="79754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nuelles Rücksetzen über T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tomatisches Rücksetzen nach Einschalten der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6960" y="3822840"/>
            <a:ext cx="4827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960" y="1133640"/>
            <a:ext cx="8182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Synchrones Schal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ist liegt ein sog.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dynamisches Schaltwerk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v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. h. die Zustandsinformation ist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i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Flipflops, sonder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densatoren gespeic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ndesttaktfrequenz ist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terhalb dieser Taktfrequenz gehen die Inhalte durch. Leckströme bereits vor dem nächsten Taktzyklus verl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Taktgenerat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i modernen Mikroprozessoren on Chip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it externem Quarz verbund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-1142" t="7115" r="0" b="0"/>
          <a:stretch/>
        </p:blipFill>
        <p:spPr>
          <a:xfrm>
            <a:off x="5808600" y="1160640"/>
            <a:ext cx="3335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1658880"/>
            <a:ext cx="2601720" cy="3667680"/>
            <a:chOff x="304920" y="1658880"/>
            <a:chExt cx="2601720" cy="36676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0" t="0" r="0" b="26787"/>
            <a:stretch/>
          </p:blipFill>
          <p:spPr>
            <a:xfrm>
              <a:off x="304920" y="1658880"/>
              <a:ext cx="2601720" cy="31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39600" y="492768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Hol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81400" y="1660680"/>
            <a:ext cx="2601720" cy="3665880"/>
            <a:chOff x="3281400" y="1660680"/>
            <a:chExt cx="2601720" cy="366588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0" r="0" b="26261"/>
            <a:stretch/>
          </p:blipFill>
          <p:spPr>
            <a:xfrm>
              <a:off x="3281400" y="1660680"/>
              <a:ext cx="26017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577320" y="49276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ecodi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6280" y="1628640"/>
            <a:ext cx="2618280" cy="3697920"/>
            <a:chOff x="6326280" y="1628640"/>
            <a:chExt cx="2618280" cy="369792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0" t="0" r="0" b="26153"/>
            <a:stretch/>
          </p:blipFill>
          <p:spPr>
            <a:xfrm>
              <a:off x="6326280" y="1628640"/>
              <a:ext cx="260172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360480" y="49276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Ausführungs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Phasen der Befehlsausführ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62080"/>
            <a:ext cx="81154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H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nächste Befehl in das Befehlsregister 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Decodier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Befehlsdecoder ermittelt die Startadresse des Mikroprogramms, welches den Befehl ausfü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e1"/>
                </a:solidFill>
                <a:latin typeface="Tahoma"/>
              </a:rPr>
              <a:t>Ausführungspha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 Mikroprogramm steuert die Befehlsausführung, indem es entsprechende Signalfolgen an die anderen Prozessorkomponenten übermittelt und Meldesignale aus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0600" y="1733400"/>
            <a:ext cx="8343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unterschiedlich lange Befehlsformate: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Befehle sind unterschiedlich la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-Wort-Befehle, 2-Wort-Befehle, 3-Wort-Befehl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38088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Vorabladen von Befehlen (</a:t>
            </a:r>
            <a:r>
              <a:rPr b="0" i="1" lang="de-DE" sz="2400" spc="-1" strike="noStrike">
                <a:solidFill>
                  <a:srgbClr val="0000ff"/>
                </a:solidFill>
                <a:latin typeface="Tahoma"/>
              </a:rPr>
              <a:t>Opcode-Prefetching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)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Steigerung der Verarbeitungsgeschwindigke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den bereits mehrere folgende Befehle in das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register geladen, während der aktuelle Befeh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ade dekodiert wird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pcode prefetch queu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Warteschlange,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1108080"/>
            <a:ext cx="8191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Befehlsregister besteht aus mehreren Register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ü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0-03T12:42:07Z</dcterms:modified>
  <cp:revision>426</cp:revision>
  <dc:subject/>
  <dc:title>TI-2</dc:title>
</cp:coreProperties>
</file>