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7503C2C-6EE8-4B67-B304-EC121AD7862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QS-Signal dient dem Chipsatz und dem Speicher als Referenz, um korrespondierende Daten zu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D164-30A2-4AB0-8B4B-60F55DD84F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1133640"/>
            <a:ext cx="804852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Integrationsdichte aller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tweise organisiert, getrennter Dateneingang 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Datenaus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adressen gemultiplext (spart Anschlüß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eil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R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ow Address S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Spalt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C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olumn Address S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3840" y="41241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8640" y="32097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360" y="115236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es Bytes, Worts oder Doppelworts in einem Speicher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00320" y="2090880"/>
            <a:ext cx="6257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3800" y="1165320"/>
            <a:ext cx="80488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s Wort: 32-Bit Wort,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Startbyte 0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leres Wort: 16-Bit Wort, un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Wortbreite 16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es Wort: 32-Bit Wort, unaligned (2 Speicherzugriffe nöti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Modularer Speicheraufba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680" y="1133640"/>
            <a:ext cx="80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wird oft auf mehrere Steckkarten verteil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über eine Grundplatine mit dem Systembus verbun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280" y="5335560"/>
            <a:ext cx="81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telle einer zentralen Adressauswahllogik ist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zentrale Adressauswahllogik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5320" y="2443320"/>
            <a:ext cx="564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Typischer Aufbau einer Steckkar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76200" y="1155600"/>
            <a:ext cx="83152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52440" y="1117440"/>
            <a:ext cx="8350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7840" y="1093680"/>
            <a:ext cx="866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Pin Package (SIPP): Veralte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Memory Module (SIMM): PS/2-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00160" y="1790640"/>
            <a:ext cx="4770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373480" y="4046400"/>
            <a:ext cx="4371840" cy="762120"/>
            <a:chOff x="2373480" y="4046400"/>
            <a:chExt cx="4371840" cy="762120"/>
          </a:xfrm>
        </p:grpSpPr>
        <p:sp>
          <p:nvSpPr>
            <p:cNvPr id="213" name=""/>
            <p:cNvSpPr/>
            <p:nvPr/>
          </p:nvSpPr>
          <p:spPr>
            <a:xfrm>
              <a:off x="2373480" y="4046400"/>
              <a:ext cx="4371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373480" y="4046400"/>
              <a:ext cx="4037040" cy="762120"/>
              <a:chOff x="2373480" y="4046400"/>
              <a:chExt cx="4037040" cy="762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373480" y="4046400"/>
                <a:ext cx="403704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373480" y="4046400"/>
                <a:ext cx="4037040" cy="762120"/>
                <a:chOff x="2373480" y="4046400"/>
                <a:chExt cx="4037040" cy="7621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373480" y="4046400"/>
                  <a:ext cx="31291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2373480" y="4046400"/>
                  <a:ext cx="4037040" cy="762120"/>
                  <a:chOff x="2373480" y="4046400"/>
                  <a:chExt cx="4037040" cy="7621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373480" y="4046400"/>
                    <a:ext cx="214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373480" y="4046400"/>
                    <a:ext cx="4037040" cy="762120"/>
                    <a:chOff x="2373480" y="4046400"/>
                    <a:chExt cx="4037040" cy="76212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2373480" y="4046400"/>
                      <a:ext cx="214308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2373480" y="4046400"/>
                      <a:ext cx="4037040" cy="762120"/>
                      <a:chOff x="2373480" y="4046400"/>
                      <a:chExt cx="4037040" cy="76212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2373480" y="404640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2373480" y="4046400"/>
                        <a:ext cx="4037040" cy="76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25" name=""/>
          <p:cNvSpPr/>
          <p:nvPr/>
        </p:nvSpPr>
        <p:spPr>
          <a:xfrm>
            <a:off x="6067440" y="1940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PP-Modul mit seinen 30 pin-förmigen Anschlüssen und einer Datenbreite von 8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63520" y="4287960"/>
            <a:ext cx="3919680" cy="1758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800680" y="451008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MM-Module in der 30- und 72-poligen Ausführung mit Datenbreiten von 8 und 32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7480" y="1093680"/>
            <a:ext cx="648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ual Inline Memory Module (DIM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Rambus Inline Memory Modul (RI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82640" y="1827360"/>
            <a:ext cx="5583240" cy="1311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610320" y="185256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168-poligen DIMMs besitzen eine Datenbusbreite von 64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34920" y="4384800"/>
            <a:ext cx="5451480" cy="1390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613560" y="441792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peichertechnologie von Intel.  400 bis 800 MHz sind möglich. Metallabdeckung  zur Kühlung der Rambus-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0320" y="1306440"/>
            <a:ext cx="797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32 Bit breites Speichermodul, Speicher in 4 Banks zu j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cht n x 1 dynamischen Speicherbausteinen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RAM-Controller übernimmt Byte- und Bausteinauswahl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d/Write-Steuerung, Refresh sowie ggf. Wartezyk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READY-Sig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440" y="1233360"/>
            <a:ext cx="87620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sspeicher von modernen Computer werden sch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ange nicht mehr wie zu Urzeiten der ersten IBM-PCs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zelnen DRAM-ICs bestückt. Seit längerem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on die Zusammenfassung der einzelnen ICs au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eichermodulen durchgese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or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Realisierung von großen Datenbreit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pazitäten durch Zusammenschaltung der einzelnen 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ät beim Handling des Speichers durch einfach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rüsten, Wechseln oder Weiterverwenden der Mod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43080" y="2951280"/>
            <a:ext cx="33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Times New Roman"/>
              </a:rPr>
              <a:t>DRAM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`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1160" y="1104840"/>
            <a:ext cx="6680160" cy="5004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39880" y="434340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46040" y="4520880"/>
            <a:ext cx="2463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97080" y="3632040"/>
            <a:ext cx="1612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18880" y="3784680"/>
            <a:ext cx="17924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2385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8772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8840" y="23623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8840" y="26161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1040" y="1689120"/>
            <a:ext cx="4597200" cy="144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1040" y="1473120"/>
            <a:ext cx="4597200" cy="180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2000" y="12891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517920"/>
            <a:ext cx="800280" cy="1028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lt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3479760"/>
            <a:ext cx="800280" cy="11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16600" y="212076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88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30520" y="387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22640" y="4915080"/>
            <a:ext cx="133344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k 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88240" y="20430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se/ Schreib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30840" y="222264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9400" y="1287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560" y="5637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34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48240" y="1285920"/>
            <a:ext cx="2095560" cy="2025360"/>
            <a:chOff x="5448240" y="1285920"/>
            <a:chExt cx="2095560" cy="2025360"/>
          </a:xfrm>
        </p:grpSpPr>
        <p:sp>
          <p:nvSpPr>
            <p:cNvPr id="91" name=""/>
            <p:cNvSpPr/>
            <p:nvPr/>
          </p:nvSpPr>
          <p:spPr>
            <a:xfrm>
              <a:off x="5448240" y="128592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0088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55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65960" y="13046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240" y="1469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240" y="1685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240" y="29559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240" y="315900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530680" y="1400040"/>
              <a:ext cx="317160" cy="342720"/>
              <a:chOff x="5530680" y="1400040"/>
              <a:chExt cx="317160" cy="34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553068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3068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2112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112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530680" y="2873160"/>
              <a:ext cx="317160" cy="342720"/>
              <a:chOff x="5530680" y="2873160"/>
              <a:chExt cx="317160" cy="34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553068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3068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2112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2112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112160" y="1400040"/>
              <a:ext cx="317160" cy="342720"/>
              <a:chOff x="7112160" y="1400040"/>
              <a:chExt cx="317160" cy="342720"/>
            </a:xfrm>
          </p:grpSpPr>
          <p:sp>
            <p:nvSpPr>
              <p:cNvPr id="111" name=""/>
              <p:cNvSpPr/>
              <p:nvPr/>
            </p:nvSpPr>
            <p:spPr>
              <a:xfrm>
                <a:off x="711216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1216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0260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0260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112160" y="2873160"/>
              <a:ext cx="317160" cy="342720"/>
              <a:chOff x="7112160" y="2873160"/>
              <a:chExt cx="317160" cy="342720"/>
            </a:xfrm>
          </p:grpSpPr>
          <p:sp>
            <p:nvSpPr>
              <p:cNvPr id="116" name=""/>
              <p:cNvSpPr/>
              <p:nvPr/>
            </p:nvSpPr>
            <p:spPr>
              <a:xfrm>
                <a:off x="711216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216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0260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0260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448240" y="232704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48240" y="218736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800" y="1503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22400" y="295920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635000" y="316224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019240" y="1689120"/>
            <a:ext cx="0" cy="21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1472760"/>
            <a:ext cx="0" cy="21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71880" y="143496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1650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752480" y="23619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71600" y="261612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0840" y="2577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1720" y="23241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1560" y="3867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7560" y="3619440"/>
            <a:ext cx="7747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3809880"/>
            <a:ext cx="7747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22760" y="436896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10160" y="422928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18040" y="4699080"/>
            <a:ext cx="990720" cy="825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509256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82920" y="509220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40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384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8200" y="44704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0040" y="4889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03840" y="525780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9600" y="5257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92560" y="51814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960" y="5181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9960" y="56386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51688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26360" y="51688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41800" y="560088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4800600"/>
            <a:ext cx="508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4830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00880" y="474984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00880" y="444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80240" y="474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4546440"/>
            <a:ext cx="129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57680" y="47242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2880" y="5283360"/>
            <a:ext cx="139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0" y="2997360"/>
            <a:ext cx="0" cy="17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973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9440" y="473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4944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3480" y="500364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863960" y="32382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3251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640" y="2176560"/>
            <a:ext cx="76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120" y="243036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20" y="4608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920" y="50785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3040" y="4635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511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1080" y="4995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e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5960" y="583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6920" y="57895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4680" y="57992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9960" y="5886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6560" y="1228680"/>
            <a:ext cx="8258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ieht zeilenweise, jede Zeile muss ca. alle 2 - 4 m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fris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die Zeilenadresse wird an den Baustein angelegt,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= 0 und CAS konstant au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5840" y="3452760"/>
            <a:ext cx="6772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echniken zur Zugriffbeschleun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0600" y="1076400"/>
            <a:ext cx="85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zugriff bei D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39840" y="1117440"/>
            <a:ext cx="81468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52480" y="3807000"/>
            <a:ext cx="500040" cy="614160"/>
          </a:xfrm>
          <a:custGeom>
            <a:avLst/>
            <a:gdLst/>
            <a:ahLst/>
            <a:rect l="l" t="t" r="r" b="b"/>
            <a:pathLst>
              <a:path w="315" h="387">
                <a:moveTo>
                  <a:pt x="5" y="386"/>
                </a:moveTo>
                <a:lnTo>
                  <a:pt x="148" y="387"/>
                </a:lnTo>
                <a:lnTo>
                  <a:pt x="315" y="0"/>
                </a:lnTo>
                <a:lnTo>
                  <a:pt x="0" y="2"/>
                </a:lnTo>
                <a:lnTo>
                  <a:pt x="5" y="38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000680" y="198900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527800" y="1379520"/>
            <a:ext cx="0" cy="33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9160" y="228240"/>
            <a:ext cx="875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  <a:ea typeface="Arial"/>
              </a:rPr>
              <a:t>DRAM Timing-Parame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0880" y="3036960"/>
            <a:ext cx="6865920" cy="544320"/>
          </a:xfrm>
          <a:custGeom>
            <a:avLst/>
            <a:gdLst/>
            <a:ahLst/>
            <a:rect l="l" t="t" r="r" b="b"/>
            <a:pathLst>
              <a:path w="4325" h="343">
                <a:moveTo>
                  <a:pt x="0" y="0"/>
                </a:moveTo>
                <a:lnTo>
                  <a:pt x="233" y="0"/>
                </a:lnTo>
                <a:lnTo>
                  <a:pt x="437" y="343"/>
                </a:lnTo>
                <a:lnTo>
                  <a:pt x="1589" y="343"/>
                </a:lnTo>
                <a:lnTo>
                  <a:pt x="1753" y="0"/>
                </a:lnTo>
                <a:lnTo>
                  <a:pt x="2300" y="0"/>
                </a:lnTo>
                <a:lnTo>
                  <a:pt x="2460" y="340"/>
                </a:lnTo>
                <a:lnTo>
                  <a:pt x="3701" y="343"/>
                </a:lnTo>
                <a:lnTo>
                  <a:pt x="3845" y="7"/>
                </a:lnTo>
                <a:lnTo>
                  <a:pt x="4325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3809880"/>
            <a:ext cx="6934320" cy="614520"/>
          </a:xfrm>
          <a:custGeom>
            <a:avLst/>
            <a:gdLst/>
            <a:ahLst/>
            <a:rect l="l" t="t" r="r" b="b"/>
            <a:pathLst>
              <a:path w="4368" h="387">
                <a:moveTo>
                  <a:pt x="0" y="384"/>
                </a:moveTo>
                <a:lnTo>
                  <a:pt x="149" y="387"/>
                </a:lnTo>
                <a:lnTo>
                  <a:pt x="163" y="360"/>
                </a:lnTo>
                <a:lnTo>
                  <a:pt x="309" y="0"/>
                </a:lnTo>
                <a:lnTo>
                  <a:pt x="909" y="0"/>
                </a:lnTo>
                <a:lnTo>
                  <a:pt x="1056" y="384"/>
                </a:lnTo>
                <a:lnTo>
                  <a:pt x="1920" y="384"/>
                </a:lnTo>
                <a:lnTo>
                  <a:pt x="2064" y="48"/>
                </a:lnTo>
                <a:lnTo>
                  <a:pt x="2976" y="48"/>
                </a:lnTo>
                <a:lnTo>
                  <a:pt x="3120" y="384"/>
                </a:lnTo>
                <a:lnTo>
                  <a:pt x="4032" y="384"/>
                </a:lnTo>
                <a:lnTo>
                  <a:pt x="4176" y="48"/>
                </a:lnTo>
                <a:lnTo>
                  <a:pt x="4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4676760"/>
            <a:ext cx="60948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33840" y="4676760"/>
            <a:ext cx="39348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14720" y="467676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22720" y="4676760"/>
            <a:ext cx="1287360" cy="539640"/>
          </a:xfrm>
          <a:prstGeom prst="hexagon">
            <a:avLst>
              <a:gd name="adj" fmla="val 19913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7720" y="4676760"/>
            <a:ext cx="55872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08760" y="4676760"/>
            <a:ext cx="36972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83160" y="4676760"/>
            <a:ext cx="1008360" cy="539640"/>
          </a:xfrm>
          <a:prstGeom prst="hexagon">
            <a:avLst>
              <a:gd name="adj" fmla="val 1559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04120" y="4676760"/>
            <a:ext cx="1282680" cy="539640"/>
          </a:xfrm>
          <a:prstGeom prst="hexagon">
            <a:avLst>
              <a:gd name="adj" fmla="val 19841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66880" y="57466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3440" y="5495760"/>
            <a:ext cx="1008000" cy="540000"/>
          </a:xfrm>
          <a:prstGeom prst="hexagon">
            <a:avLst>
              <a:gd name="adj" fmla="val 1558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43840" y="548964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265480" y="1440000"/>
            <a:ext cx="0" cy="32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274920" y="2301480"/>
            <a:ext cx="0" cy="17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538520" y="19681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1650960"/>
            <a:ext cx="3249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0680" y="2066760"/>
            <a:ext cx="17146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40320" y="2071800"/>
            <a:ext cx="9730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2590920"/>
            <a:ext cx="99540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258444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960" y="30272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7960" y="3941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00" y="4714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832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20040" y="4753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09120" y="47577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8720" y="4756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61720" y="4773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64840" y="55227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01880" y="554832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1760" y="31320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89240" y="39736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33720" y="55436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13320" y="3135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57960" y="311940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48920" y="127476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6552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51960" y="220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17760" y="21924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80080" y="1700280"/>
            <a:ext cx="45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52680" y="4676760"/>
            <a:ext cx="58896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7960" y="4613400"/>
            <a:ext cx="34956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65640" y="1155600"/>
            <a:ext cx="3032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yklu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C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CAS-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Precharg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04920" y="3259080"/>
            <a:ext cx="287280" cy="141912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68640" y="407844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7000" y="3211560"/>
            <a:ext cx="287640" cy="149220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53280" y="407196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2920" y="30686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8120" y="39718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ast Page Mode DRAM (FPM-DRAM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6200" y="1335240"/>
            <a:ext cx="86076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t liegen aufeinander folgende Speicherzugriffe in der gleichen Zeile des DRAMs. Das wird bei FPM-DRAMs ausgenutz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itialisieren des ersten Lesezugriffs läuft wie bei normalem DR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ch dem ersten Lesezyklus lässt die Speichersteuerung das RAS-Signal einfach auf aktiv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Zeile (page) bleibt ak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i den folgenden Lesezugriffen übergibt die Speichersteuerung nur noch jeweils eine neue Spaltenadresse an das DRA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AS-Precharge-Zeit 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und die RAS-CAS-Delay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fallen bei den Folgezugriffen weg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H="1">
            <a:off x="2785680" y="440064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g-Diagramm eines 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89744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reduziert sich erheblich.  Erst wenn der Speicherzugriff des Prozessors auf eine andere Zeile erfolgt, muss der Chipsatz einen normalen Lesevorgang initialis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51120" y="1389240"/>
            <a:ext cx="3875040" cy="21888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84600" y="2448000"/>
            <a:ext cx="3819240" cy="26172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22680" y="3490920"/>
            <a:ext cx="411120" cy="2858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909960" y="243828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1944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2280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875200" y="243936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581200" y="244728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1176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908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9576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75520" y="3502080"/>
            <a:ext cx="457200" cy="270000"/>
          </a:xfrm>
          <a:prstGeom prst="hexagon">
            <a:avLst>
              <a:gd name="adj" fmla="val 29398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44920" y="4276800"/>
            <a:ext cx="380880" cy="269640"/>
          </a:xfrm>
          <a:prstGeom prst="hexagon">
            <a:avLst>
              <a:gd name="adj" fmla="val 2452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5780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27480" y="4267080"/>
            <a:ext cx="381240" cy="270000"/>
          </a:xfrm>
          <a:prstGeom prst="hexagon">
            <a:avLst>
              <a:gd name="adj" fmla="val 24514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24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22560" y="15922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8360" y="1295280"/>
            <a:ext cx="255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73440" y="12366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89280" y="23288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89280" y="34052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89280" y="4192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803680" y="45482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820600" y="377820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788920" y="27003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795760" y="16016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85120" y="1303200"/>
            <a:ext cx="25524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35160" y="195408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27240" y="1552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50760" y="347328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32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5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9240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72160" y="3463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73360" y="1803240"/>
            <a:ext cx="0" cy="257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38440" y="425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484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0840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8312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43560" y="1268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43560" y="2389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39800" y="3425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0960" y="4157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28880" y="130644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33560" y="2432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91280" y="197172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9800" y="1192320"/>
            <a:ext cx="838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DO-RAM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(Extended Data Output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ausgabe wird beim Lesen vom CAS-Sig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els interner Pufferung entkopp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 stehen länger am Ausgang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Verschachtelungsmöglichkeiten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esezugri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Der Prozessor kann Daten auslesen, während die Speichersteuerung eine neue Spaltenadresse an das DRAM übergib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3600" y="1093680"/>
            <a:ext cx="86072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der FPM-DRAMs. Durch eine einfache Modifikation der Steuerung wird eine Geschwindigkeitssteigerung erre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DO-DRAMs sind um einen Latch-Speicher am Ausgang erweit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lesenen Daten bleiben bis zum nächsten Aktivieren des CAS-Signal gül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Prozessor kann Daten auslesen, während die Speichersteuerung eine neue Spaltenadresse an das DRAM übergib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ses „Pipelining“ verkürzt sich die Wartezeit zwischen zwei aufeinander folgenden CAS-Impuls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öherer Datendurch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zugriffe bleiben wie bei FPM-Speicher unbeschleunigt und entsprechen von der Performance her den normalen Standard-D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 flipH="1">
            <a:off x="2385720" y="44877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972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8136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8480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EDO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720" y="523548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neuer Lesevorgang kann beginnen, bevor der alte abgeschloss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51160" y="1465200"/>
            <a:ext cx="3875040" cy="21924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84280" y="2523960"/>
            <a:ext cx="3819600" cy="26208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22360" y="3567240"/>
            <a:ext cx="411480" cy="28548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510000" y="251460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11948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72284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475240" y="251604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181240" y="252396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3204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11440" y="357660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9912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9580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75200" y="3578400"/>
            <a:ext cx="457200" cy="269640"/>
          </a:xfrm>
          <a:prstGeom prst="hexagon">
            <a:avLst>
              <a:gd name="adj" fmla="val 2943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808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22600" y="16686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8400" y="137160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73480" y="13129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89320" y="24051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89320" y="34815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89320" y="426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403000" y="46245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420640" y="385452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388960" y="277668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395080" y="16779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84800" y="137952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35200" y="203040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162864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0440" y="35496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2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05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9244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71840" y="3540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73400" y="187956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35400" y="4335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561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257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1160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3600" y="1344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3600" y="2465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39840" y="350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31000" y="423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8920" y="13827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33600" y="250812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usammenfassung: FPM, ED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0120" y="1201680"/>
            <a:ext cx="8217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3600" y="1131840"/>
            <a:ext cx="86072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arbeiten asynchron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Datenübertragung ist ein Handshaking-Verfahren notwendig. Ein Lesevorgang läuft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signalisiert der Speichersteuerung (ADS-Signal), dass eine Adresse an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die Daten am Ausgang des DRAMs bereitliegen, teilt die Speichersteuerung dem Prozessor dies mit (BRDY-Signal). Erst dann liest der Prozessor die Daten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zwischen ist die CPU im Leerlauf und führt Wartezyklen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nten von EDO-DRAM (BEDO-DRAM) können die Daten ohne Wartezyklen liefern, aber nur bis zu einem Bustakt von 66 MH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0840" y="1173240"/>
            <a:ext cx="82216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3600" y="1093680"/>
            <a:ext cx="8607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-Technologie hat sich (durch intensive Unterstützung von Intel) schnell durchgesetzt und beherrscht heute den Speich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in- und Ausgangssignale sind synchron zum Systemta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, Chipsatz und Speicher kommunizieren über ein Bussystem, das synchron mit der gleichen Frequenz getakte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 sind SDRAMs aus zwei unabhängigen Speicherbänken aufgebaut (auch bis zu 4 Speicherbän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dem Anlegen der Zeilen- und Spaltenadresse, generiert die Speichersteuerung die nachfolgenden Adressen und führt einen alternierenden und überlappenden Zugriff auf die beiden Speicherbänke selbstständig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9800" y="1116000"/>
            <a:ext cx="8359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DRAMs (Synchrone Dynamische RAM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SDRAM-Technik können gleichzeitig zwei Speicherseiten geöffn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auf die Flankensteuerung verzichtet. Der Speicherverwalter übermittelt die Steuerbefehle als 4 Bit-Muster, die in einer 4-stufigen Pipeline (Warteschlange) verarbei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können die immer aktueller werdenden Busgeschwindigkeiten von bis zu 100 MHz be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sind synchron mit dem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S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7694" t="0" r="0" b="3979"/>
          <a:stretch/>
        </p:blipFill>
        <p:spPr>
          <a:xfrm>
            <a:off x="154080" y="1152360"/>
            <a:ext cx="6168960" cy="4832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811840" y="1617840"/>
            <a:ext cx="3332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0 MHz-SDRAM können alle 10 ns Daten lief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transferrat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0 Mbyte/sec (66 MH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00 M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00-Mo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06 G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33-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axis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 % Leistungssteigerung bei gleichem Prozessortakt und 100 MHz statt 6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600" y="1093680"/>
            <a:ext cx="86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3600" y="1093680"/>
            <a:ext cx="8607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ächste Stufe der SDRAM-Entwicklung (SDRAM 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en intern aus vier unabhängigen Speicherbänken, die parallel „Instruktionen“ bearbeit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rinzip der DDR-DRAM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ung der Bandbreite durch Nutzung beider Taktflanken. Daten werden bei steigender und fallender Taktflanke übertrag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pelter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zeitverzögerungen sind sehr kritisch, deshalb wird zur Synchronisation nicht nur der Systemtakt, sondern auch ein bidirektionales Strobe-Signal (DQS) benu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5480" y="1182600"/>
            <a:ext cx="80740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DR-SDRAM (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ouble-Data-Rate-S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DR-SDRAMs entsprechen in Bauform und Funktionsweise den "normalen" SDRAM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n, jedoch werden im Gegensatz zu diesen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 zweimal pro Takt ausgelesen bzw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rieben. Dadurch erreichen die DDR-SDRA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 den doppelten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LDRA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ync Link R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der SDRAM Technologie, die höhere Busfrequenzen erlaubt und damit eine höhere Leistung ermög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RDRAM/ Concurrent - RDRAM / Direct RDRA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4680" y="1487520"/>
            <a:ext cx="808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DRAM/ Concurrent - RDRAM / Direct RDRAM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DRAM- Technologie gibt es seit 1995 und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vielen Workstations und Spielekonsolen bewäh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zielle Bus (Rambus Channel) setzt jedoch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echendes Design der Hauptplatine vor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ariant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urrent RDR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 RDR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 sich hinsichtlich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imalen Taktrate und der eingesetzten Protok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RAM-Speichertechnologi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99960" y="1081080"/>
            <a:ext cx="83822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872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Haupt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360" y="1362240"/>
            <a:ext cx="8315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are Liste von Speicher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baut aus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hängt allein von der Art der verwende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austeine 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reite des Arbeitsspeichers entspricht i.A.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des Datenbus (8, 16, 32, 64 Bit). Di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icht der maximalen Informationsmeng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in einem Buszyklus zugegriffen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rbeits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680" y="1106640"/>
            <a:ext cx="82468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rozessoren mit einer Datenbusbreite &gt; 8 Bit kann meist immer noch auf einzelne Bytes 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kapazität wird auch bei breite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sformen in Bytes an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ximale Kapazität des Hauptspeichers ist durch die Breite des Adressbusses 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maximale Speicherkapazitä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-Bit Prozessoren mit 16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-Bit Prozessoren mit 24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 Prozessoren mit 32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G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1520" y="1127160"/>
            <a:ext cx="77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ibt an, welche Speicherbausteine für welche Bereiche des Arbeitsspeichers verwendet w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5071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280" y="1123920"/>
            <a:ext cx="843912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 Adress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M, z.B. für nicht-flüchtige Teile 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s (Bootstrap, B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-Bereich (Prozessor mit memory-mapped 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st dynamische RAM-Bausteine, da dies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apazität besitzen und billig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Sie sind auch lang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diesem Grund werden manchmal in klei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bereichen auch statische RAM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setzt, auf die ohne Wartezyklen zugegriff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" y="119376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peicherbreite kann über den Speicherberei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yte- und Breiten-Auswahl eines Speicherzugriff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lgt in der Regel über die niederwertigsten Adressbit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z.B.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32 Bit Speicherbreite) sowie spezieller Wortbreite-Signale vom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belegungspläne werden häufiger noch feiner untergliedert, indem z.B. die genaue Lage von Betriebsystemtabellen im ROM-Bereich oder vo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äten im IO-Bereich angegeben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680" y="1257480"/>
            <a:ext cx="8277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öherwertige Teil der Adresse dient über 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auswahllogik zur Speicherbaustein-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-Signale der Speicherbaus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i.A. auch die Zugriffsrichtung, Speicher- bzw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O-Zugriffe sowie eventuelle Wartezyklen ermitt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ittlere Teil der Adresse geht direkt a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ingänge der 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niederwertige Teil der Adresse dient zusamm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tbreiten-Signalen zur Wortauswahl innerhalb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81160" y="2219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4-11-25T06:25:34Z</dcterms:modified>
  <cp:revision>897</cp:revision>
  <dc:subject/>
  <dc:title>TI-2</dc:title>
</cp:coreProperties>
</file>