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CC6C-6E8A-4254-A238-6204DB7D90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o sind wir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8400" y="1171440"/>
            <a:ext cx="7348680" cy="201600"/>
          </a:xfrm>
          <a:custGeom>
            <a:avLst/>
            <a:gdLst/>
            <a:ahLst/>
            <a:rect l="l" t="t" r="r" b="b"/>
            <a:pathLst>
              <a:path w="4629" h="127">
                <a:moveTo>
                  <a:pt x="4629" y="127"/>
                </a:moveTo>
                <a:lnTo>
                  <a:pt x="127" y="127"/>
                </a:lnTo>
                <a:lnTo>
                  <a:pt x="0" y="0"/>
                </a:lnTo>
                <a:lnTo>
                  <a:pt x="4502" y="0"/>
                </a:lnTo>
                <a:lnTo>
                  <a:pt x="4629" y="127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70000" y="1373040"/>
            <a:ext cx="7147080" cy="4735800"/>
          </a:xfrm>
          <a:custGeom>
            <a:avLst/>
            <a:gdLst/>
            <a:ahLst/>
            <a:rect l="l" t="t" r="r" b="b"/>
            <a:pathLst>
              <a:path w="4502" h="2983">
                <a:moveTo>
                  <a:pt x="0" y="0"/>
                </a:moveTo>
                <a:lnTo>
                  <a:pt x="0" y="2983"/>
                </a:lnTo>
                <a:lnTo>
                  <a:pt x="4502" y="2983"/>
                </a:lnTo>
                <a:lnTo>
                  <a:pt x="450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0000" y="6093000"/>
            <a:ext cx="7130880" cy="144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00880" y="1372680"/>
            <a:ext cx="1800" cy="4719960"/>
          </a:xfrm>
          <a:prstGeom prst="line">
            <a:avLst/>
          </a:prstGeom>
          <a:ln w="15840">
            <a:solidFill>
              <a:srgbClr val="c3c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170000" y="1373040"/>
            <a:ext cx="7130880" cy="180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5720" y="375588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8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65720" y="3755880"/>
            <a:ext cx="1687680" cy="201600"/>
          </a:xfrm>
          <a:custGeom>
            <a:avLst/>
            <a:gdLst/>
            <a:ahLst/>
            <a:rect l="l" t="t" r="r" b="b"/>
            <a:pathLst>
              <a:path w="1063" h="127">
                <a:moveTo>
                  <a:pt x="1063" y="127"/>
                </a:moveTo>
                <a:lnTo>
                  <a:pt x="127" y="127"/>
                </a:lnTo>
                <a:lnTo>
                  <a:pt x="0" y="0"/>
                </a:lnTo>
                <a:lnTo>
                  <a:pt x="936" y="0"/>
                </a:lnTo>
                <a:lnTo>
                  <a:pt x="1063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7320" y="3957480"/>
            <a:ext cx="1486080" cy="1392480"/>
          </a:xfrm>
          <a:custGeom>
            <a:avLst/>
            <a:gdLst/>
            <a:ahLst/>
            <a:rect l="l" t="t" r="r" b="b"/>
            <a:pathLst>
              <a:path w="936" h="877">
                <a:moveTo>
                  <a:pt x="0" y="0"/>
                </a:moveTo>
                <a:lnTo>
                  <a:pt x="0" y="877"/>
                </a:lnTo>
                <a:lnTo>
                  <a:pt x="936" y="877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67320" y="3941640"/>
            <a:ext cx="1800" cy="139392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67320" y="5335560"/>
            <a:ext cx="14860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853400" y="3941640"/>
            <a:ext cx="1440" cy="139392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67320" y="3941640"/>
            <a:ext cx="14860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4800" y="44989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13600" y="1744560"/>
            <a:ext cx="199800" cy="1594080"/>
          </a:xfrm>
          <a:custGeom>
            <a:avLst/>
            <a:gdLst/>
            <a:ahLst/>
            <a:rect l="l" t="t" r="r" b="b"/>
            <a:pathLst>
              <a:path w="126" h="1004">
                <a:moveTo>
                  <a:pt x="126" y="126"/>
                </a:moveTo>
                <a:lnTo>
                  <a:pt x="126" y="1004"/>
                </a:lnTo>
                <a:lnTo>
                  <a:pt x="0" y="877"/>
                </a:lnTo>
                <a:lnTo>
                  <a:pt x="0" y="0"/>
                </a:lnTo>
                <a:lnTo>
                  <a:pt x="126" y="126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3600" y="1744560"/>
            <a:ext cx="1685880" cy="200160"/>
          </a:xfrm>
          <a:custGeom>
            <a:avLst/>
            <a:gdLst/>
            <a:ahLst/>
            <a:rect l="l" t="t" r="r" b="b"/>
            <a:pathLst>
              <a:path w="1062" h="126">
                <a:moveTo>
                  <a:pt x="1062" y="126"/>
                </a:moveTo>
                <a:lnTo>
                  <a:pt x="126" y="126"/>
                </a:lnTo>
                <a:lnTo>
                  <a:pt x="0" y="0"/>
                </a:lnTo>
                <a:lnTo>
                  <a:pt x="935" y="0"/>
                </a:lnTo>
                <a:lnTo>
                  <a:pt x="1062" y="126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3400" y="1944720"/>
            <a:ext cx="1486080" cy="1393920"/>
          </a:xfrm>
          <a:custGeom>
            <a:avLst/>
            <a:gdLst/>
            <a:ahLst/>
            <a:rect l="l" t="t" r="r" b="b"/>
            <a:pathLst>
              <a:path w="936" h="878">
                <a:moveTo>
                  <a:pt x="0" y="0"/>
                </a:moveTo>
                <a:lnTo>
                  <a:pt x="0" y="878"/>
                </a:lnTo>
                <a:lnTo>
                  <a:pt x="936" y="878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9360" y="193032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99360" y="3322800"/>
            <a:ext cx="14842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83640" y="193032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99000" y="1930320"/>
            <a:ext cx="14842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5440" y="248760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2440080"/>
            <a:ext cx="77760" cy="233280"/>
          </a:xfrm>
          <a:custGeom>
            <a:avLst/>
            <a:gdLst/>
            <a:ahLst/>
            <a:rect l="l" t="t" r="r" b="b"/>
            <a:pathLst>
              <a:path w="49" h="147">
                <a:moveTo>
                  <a:pt x="49" y="49"/>
                </a:moveTo>
                <a:lnTo>
                  <a:pt x="49" y="147"/>
                </a:lnTo>
                <a:lnTo>
                  <a:pt x="0" y="108"/>
                </a:lnTo>
                <a:lnTo>
                  <a:pt x="0" y="0"/>
                </a:lnTo>
                <a:lnTo>
                  <a:pt x="49" y="4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560" y="2440080"/>
            <a:ext cx="772920" cy="77760"/>
          </a:xfrm>
          <a:custGeom>
            <a:avLst/>
            <a:gdLst/>
            <a:ahLst/>
            <a:rect l="l" t="t" r="r" b="b"/>
            <a:pathLst>
              <a:path w="487" h="49">
                <a:moveTo>
                  <a:pt x="487" y="49"/>
                </a:moveTo>
                <a:lnTo>
                  <a:pt x="49" y="49"/>
                </a:lnTo>
                <a:lnTo>
                  <a:pt x="0" y="0"/>
                </a:lnTo>
                <a:lnTo>
                  <a:pt x="448" y="0"/>
                </a:lnTo>
                <a:lnTo>
                  <a:pt x="487" y="4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56320" y="2517840"/>
            <a:ext cx="695160" cy="155520"/>
          </a:xfrm>
          <a:custGeom>
            <a:avLst/>
            <a:gdLst/>
            <a:ahLst/>
            <a:rect l="l" t="t" r="r" b="b"/>
            <a:pathLst>
              <a:path w="438" h="98">
                <a:moveTo>
                  <a:pt x="0" y="0"/>
                </a:moveTo>
                <a:lnTo>
                  <a:pt x="0" y="98"/>
                </a:lnTo>
                <a:lnTo>
                  <a:pt x="438" y="98"/>
                </a:lnTo>
                <a:lnTo>
                  <a:pt x="4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480" y="2502000"/>
            <a:ext cx="1440" cy="1713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40480" y="267336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51480" y="2502000"/>
            <a:ext cx="1800" cy="1713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40120" y="250200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4452840"/>
            <a:ext cx="61920" cy="24768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1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32480" y="4452840"/>
            <a:ext cx="772920" cy="61920"/>
          </a:xfrm>
          <a:custGeom>
            <a:avLst/>
            <a:gdLst/>
            <a:ahLst/>
            <a:rect l="l" t="t" r="r" b="b"/>
            <a:pathLst>
              <a:path w="487" h="39">
                <a:moveTo>
                  <a:pt x="487" y="39"/>
                </a:moveTo>
                <a:lnTo>
                  <a:pt x="39" y="39"/>
                </a:lnTo>
                <a:lnTo>
                  <a:pt x="0" y="0"/>
                </a:lnTo>
                <a:lnTo>
                  <a:pt x="448" y="0"/>
                </a:lnTo>
                <a:lnTo>
                  <a:pt x="487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94400" y="4514760"/>
            <a:ext cx="711000" cy="185760"/>
          </a:xfrm>
          <a:custGeom>
            <a:avLst/>
            <a:gdLst/>
            <a:ahLst/>
            <a:rect l="l" t="t" r="r" b="b"/>
            <a:pathLst>
              <a:path w="448" h="117">
                <a:moveTo>
                  <a:pt x="0" y="0"/>
                </a:moveTo>
                <a:lnTo>
                  <a:pt x="0" y="117"/>
                </a:lnTo>
                <a:lnTo>
                  <a:pt x="448" y="117"/>
                </a:lnTo>
                <a:lnTo>
                  <a:pt x="4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4400" y="4514760"/>
            <a:ext cx="1440" cy="1857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94400" y="470052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89560" y="4514760"/>
            <a:ext cx="1800" cy="1857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94040" y="451476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92680" y="1728720"/>
            <a:ext cx="201600" cy="3637080"/>
          </a:xfrm>
          <a:custGeom>
            <a:avLst/>
            <a:gdLst/>
            <a:ahLst/>
            <a:rect l="l" t="t" r="r" b="b"/>
            <a:pathLst>
              <a:path w="127" h="2291">
                <a:moveTo>
                  <a:pt x="127" y="127"/>
                </a:moveTo>
                <a:lnTo>
                  <a:pt x="127" y="2291"/>
                </a:lnTo>
                <a:lnTo>
                  <a:pt x="0" y="2164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5ee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2680" y="1728720"/>
            <a:ext cx="1825560" cy="201600"/>
          </a:xfrm>
          <a:custGeom>
            <a:avLst/>
            <a:gdLst/>
            <a:ahLst/>
            <a:rect l="l" t="t" r="r" b="b"/>
            <a:pathLst>
              <a:path w="1150" h="127">
                <a:moveTo>
                  <a:pt x="1150" y="127"/>
                </a:moveTo>
                <a:lnTo>
                  <a:pt x="127" y="127"/>
                </a:lnTo>
                <a:lnTo>
                  <a:pt x="0" y="0"/>
                </a:lnTo>
                <a:lnTo>
                  <a:pt x="1033" y="0"/>
                </a:lnTo>
                <a:lnTo>
                  <a:pt x="1150" y="127"/>
                </a:lnTo>
                <a:close/>
              </a:path>
            </a:pathLst>
          </a:custGeom>
          <a:solidFill>
            <a:srgbClr val="3f9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4280" y="1930320"/>
            <a:ext cx="1623960" cy="3435480"/>
          </a:xfrm>
          <a:custGeom>
            <a:avLst/>
            <a:gdLst/>
            <a:ahLst/>
            <a:rect l="l" t="t" r="r" b="b"/>
            <a:pathLst>
              <a:path w="1023" h="2164">
                <a:moveTo>
                  <a:pt x="0" y="0"/>
                </a:moveTo>
                <a:lnTo>
                  <a:pt x="0" y="2164"/>
                </a:lnTo>
                <a:lnTo>
                  <a:pt x="1023" y="2164"/>
                </a:lnTo>
                <a:lnTo>
                  <a:pt x="10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1c3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8440" y="1930320"/>
            <a:ext cx="1440" cy="3419640"/>
          </a:xfrm>
          <a:prstGeom prst="line">
            <a:avLst/>
          </a:prstGeom>
          <a:ln w="15840">
            <a:solidFill>
              <a:srgbClr val="62e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8440" y="5349960"/>
            <a:ext cx="1639800" cy="144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18240" y="1929960"/>
            <a:ext cx="1440" cy="3419640"/>
          </a:xfrm>
          <a:prstGeom prst="line">
            <a:avLst/>
          </a:prstGeom>
          <a:ln w="15840">
            <a:solidFill>
              <a:srgbClr val="59d5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078080" y="1930320"/>
            <a:ext cx="1639800" cy="180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70400" y="34624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51400" y="3446640"/>
            <a:ext cx="61920" cy="24732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0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51400" y="3446640"/>
            <a:ext cx="480960" cy="61560"/>
          </a:xfrm>
          <a:custGeom>
            <a:avLst/>
            <a:gdLst/>
            <a:ahLst/>
            <a:rect l="l" t="t" r="r" b="b"/>
            <a:pathLst>
              <a:path w="303" h="39">
                <a:moveTo>
                  <a:pt x="303" y="39"/>
                </a:moveTo>
                <a:lnTo>
                  <a:pt x="39" y="39"/>
                </a:lnTo>
                <a:lnTo>
                  <a:pt x="0" y="0"/>
                </a:lnTo>
                <a:lnTo>
                  <a:pt x="264" y="0"/>
                </a:lnTo>
                <a:lnTo>
                  <a:pt x="303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3320" y="3508200"/>
            <a:ext cx="419040" cy="185760"/>
          </a:xfrm>
          <a:custGeom>
            <a:avLst/>
            <a:gdLst/>
            <a:ahLst/>
            <a:rect l="l" t="t" r="r" b="b"/>
            <a:pathLst>
              <a:path w="264" h="117">
                <a:moveTo>
                  <a:pt x="0" y="0"/>
                </a:moveTo>
                <a:lnTo>
                  <a:pt x="0" y="117"/>
                </a:lnTo>
                <a:lnTo>
                  <a:pt x="264" y="117"/>
                </a:lnTo>
                <a:lnTo>
                  <a:pt x="2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3320" y="3508200"/>
            <a:ext cx="1440" cy="16992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3320" y="367812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16520" y="3508200"/>
            <a:ext cx="1440" cy="16992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613320" y="350820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bf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8400" y="1171440"/>
            <a:ext cx="2614680" cy="201600"/>
          </a:xfrm>
          <a:custGeom>
            <a:avLst/>
            <a:gdLst/>
            <a:ahLst/>
            <a:rect l="l" t="t" r="r" b="b"/>
            <a:pathLst>
              <a:path w="1647" h="127">
                <a:moveTo>
                  <a:pt x="1647" y="127"/>
                </a:moveTo>
                <a:lnTo>
                  <a:pt x="127" y="127"/>
                </a:lnTo>
                <a:lnTo>
                  <a:pt x="0" y="0"/>
                </a:lnTo>
                <a:lnTo>
                  <a:pt x="1520" y="0"/>
                </a:lnTo>
                <a:lnTo>
                  <a:pt x="1647" y="127"/>
                </a:lnTo>
                <a:close/>
              </a:path>
            </a:pathLst>
          </a:custGeom>
          <a:solidFill>
            <a:srgbClr val="819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0000" y="1373040"/>
            <a:ext cx="2413080" cy="4735800"/>
          </a:xfrm>
          <a:custGeom>
            <a:avLst/>
            <a:gdLst/>
            <a:ahLst/>
            <a:rect l="l" t="t" r="r" b="b"/>
            <a:pathLst>
              <a:path w="1520" h="2983">
                <a:moveTo>
                  <a:pt x="0" y="0"/>
                </a:moveTo>
                <a:lnTo>
                  <a:pt x="0" y="2983"/>
                </a:lnTo>
                <a:lnTo>
                  <a:pt x="1520" y="2983"/>
                </a:lnTo>
                <a:lnTo>
                  <a:pt x="152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6c3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c7e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0000" y="6093000"/>
            <a:ext cx="2397240" cy="144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67240" y="1372680"/>
            <a:ext cx="1440" cy="4719960"/>
          </a:xfrm>
          <a:prstGeom prst="line">
            <a:avLst/>
          </a:prstGeom>
          <a:ln w="15840">
            <a:solidFill>
              <a:srgbClr val="b6d5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69640" y="1373040"/>
            <a:ext cx="2397240" cy="180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1840" y="172872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1840" y="1728720"/>
            <a:ext cx="1903320" cy="201600"/>
          </a:xfrm>
          <a:custGeom>
            <a:avLst/>
            <a:gdLst/>
            <a:ahLst/>
            <a:rect l="l" t="t" r="r" b="b"/>
            <a:pathLst>
              <a:path w="1199" h="127">
                <a:moveTo>
                  <a:pt x="1199" y="127"/>
                </a:moveTo>
                <a:lnTo>
                  <a:pt x="127" y="127"/>
                </a:lnTo>
                <a:lnTo>
                  <a:pt x="0" y="0"/>
                </a:lnTo>
                <a:lnTo>
                  <a:pt x="1082" y="0"/>
                </a:lnTo>
                <a:lnTo>
                  <a:pt x="1199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440" y="1930320"/>
            <a:ext cx="1701720" cy="1392480"/>
          </a:xfrm>
          <a:custGeom>
            <a:avLst/>
            <a:gdLst/>
            <a:ahLst/>
            <a:rect l="l" t="t" r="r" b="b"/>
            <a:pathLst>
              <a:path w="1072" h="877">
                <a:moveTo>
                  <a:pt x="0" y="0"/>
                </a:moveTo>
                <a:lnTo>
                  <a:pt x="0" y="877"/>
                </a:lnTo>
                <a:lnTo>
                  <a:pt x="1072" y="877"/>
                </a:lnTo>
                <a:lnTo>
                  <a:pt x="107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1930320"/>
            <a:ext cx="1440" cy="13762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0" y="330660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05160" y="1929960"/>
            <a:ext cx="1440" cy="13762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87240" y="193032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640" y="2487600"/>
            <a:ext cx="13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32080" y="3772080"/>
            <a:ext cx="201600" cy="159372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2080" y="3772080"/>
            <a:ext cx="1873080" cy="201600"/>
          </a:xfrm>
          <a:custGeom>
            <a:avLst/>
            <a:gdLst/>
            <a:ahLst/>
            <a:rect l="l" t="t" r="r" b="b"/>
            <a:pathLst>
              <a:path w="1180" h="127">
                <a:moveTo>
                  <a:pt x="1180" y="127"/>
                </a:moveTo>
                <a:lnTo>
                  <a:pt x="127" y="127"/>
                </a:lnTo>
                <a:lnTo>
                  <a:pt x="0" y="0"/>
                </a:lnTo>
                <a:lnTo>
                  <a:pt x="1063" y="0"/>
                </a:lnTo>
                <a:lnTo>
                  <a:pt x="1180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33680" y="3973680"/>
            <a:ext cx="1671480" cy="1392120"/>
          </a:xfrm>
          <a:custGeom>
            <a:avLst/>
            <a:gdLst/>
            <a:ahLst/>
            <a:rect l="l" t="t" r="r" b="b"/>
            <a:pathLst>
              <a:path w="1053" h="877">
                <a:moveTo>
                  <a:pt x="0" y="0"/>
                </a:moveTo>
                <a:lnTo>
                  <a:pt x="0" y="877"/>
                </a:lnTo>
                <a:lnTo>
                  <a:pt x="1053" y="877"/>
                </a:lnTo>
                <a:lnTo>
                  <a:pt x="10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3680" y="395748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3680" y="5349960"/>
            <a:ext cx="16714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05160" y="395748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33320" y="3957480"/>
            <a:ext cx="16714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5320" y="451476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9920" y="5505480"/>
            <a:ext cx="1785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7840" y="1066680"/>
            <a:ext cx="832464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reversible Festwertspeicher:</a:t>
            </a:r>
            <a:r>
              <a:rPr b="1" lang="de-DE" sz="2200" spc="-1" strike="noStrike">
                <a:solidFill>
                  <a:srgbClr val="00b6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der Informationen kann wieder rückgängig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UV-löschbaren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rasable and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- EP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Löschen durch UV-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Elektrisch löschbare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lectrical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rasable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and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- EEPRO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önnen im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-System selbst elektrisch gelöscht werd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r Vorgang ist jedoch sehr langsam und nur begrenz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t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Flash-ROM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genauso wie EEPROMs elektrisch programmiert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Die Daten werden nicht byteweise sondern blockwei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gelesen und geschrieb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98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8120" y="1305000"/>
            <a:ext cx="844884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 jeder Zeit lesbar und schreib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flüchti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volatile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, d.h. er geht bei Abschalten der Versorgungsspannung verl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tatische Schreib/Lese-Speicher (SRAM)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ynamische Schreib/Lese-Speicher (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ntegrated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9680" y="1190520"/>
            <a:ext cx="8448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atische Schreib/Lese-Speicher (SRAM) </a:t>
            </a:r>
            <a:br>
              <a:rPr sz="2400"/>
            </a:b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in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ipflops. Flipflops al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stabil, solange Versorgungsspann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vorhan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Bipolar-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chneller, aber großer Flächenbeda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MOS-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langsamer, aber kleinerer Flächenbeda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9680" y="1190520"/>
            <a:ext cx="84484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Dynamische Schreib/Lese-Speicher (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wird als elektrische Ladung in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densator gespeich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Lesen bewirkt meist Entlad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estructiv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a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ch dem Lesen muss wie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eschrieb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adung geht nach einiger Zeit auch dur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ckströme verlor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eriodische Auffrisch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erforderli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refre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ationsdochte höher als S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960" y="1184400"/>
            <a:ext cx="82137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integrated RAM)</a:t>
            </a:r>
            <a:br>
              <a:rPr sz="2400"/>
            </a:b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66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che Speicher, welche die Schaltung fü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Wiederauffrischen mit auf dem Chip haben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cc66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sehen nach außen wie statische 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, sind jedoch im inneren dynam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084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Nicht-flüchtige RAM's (NVRA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non volatile RAM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" y="1409760"/>
            <a:ext cx="82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Monotype Sorts"/>
                <a:ea typeface="Monotype Sorts"/>
              </a:rPr>
              <a:t>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 Festwertspeicher und Schreib/Le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auf einem Baustei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Monotype Sorts"/>
                <a:ea typeface="Monotype Sorts"/>
              </a:rPr>
              <a:t>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 Speicherzelle ist doppelt ausgelegt, einmal al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statische RAM-Zell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nd einmal als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EEPROM-Zell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Monotype Sorts"/>
                <a:ea typeface="Monotype Sorts"/>
              </a:rPr>
              <a:t>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Normalbetrieb werden die RAM-Zellen benutz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Monotype Sorts"/>
                <a:ea typeface="Monotype Sorts"/>
              </a:rPr>
              <a:t>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spezielle Steuersch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laubt jedoch da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pieren des RAM-Inhalts in das EEPRO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Allgemeine Struktu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960" y="1184400"/>
            <a:ext cx="8213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6680" y="1062000"/>
            <a:ext cx="878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8120" y="1104840"/>
            <a:ext cx="823932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elemen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1 Bit Spei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zelle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(-platz, -stelle)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este Anzahl von Speicherelementen, die durch eine einzige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dresse ausgewählt werden,  z.B. 8, 16, 32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wor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Anzahl von Speicherelementen, die in einem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Buszyklus zwischen </a:t>
            </a:r>
            <a:r>
              <a:rPr b="0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P und Speicher übertragen werden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können  </a:t>
            </a:r>
            <a:r>
              <a:rPr b="0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peicherwortbreite = Datenbusbre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wahlfreier Zugriff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jede Speicherzelle kann direkt angesprochen werd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(ohne vorher andere Zellen ansprechen zu müsse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Selektion erfolgt über einen Adressdekoder.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dresse wird in einen 1-aus-n Code umgefor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8120" y="1104840"/>
            <a:ext cx="8239320" cy="50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Organisation: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Organisation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eines Speicherbausteins bzw. eines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s wird durch 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einer Speicherzellen und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r Speicherelemente / Zelle defini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ngabe in der Form:   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 x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0000"/>
                </a:solidFill>
                <a:latin typeface="Arial"/>
              </a:rPr>
              <a:t>4k x 8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 enthält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4096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zellen je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8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bau aus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acht 4k x 1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zwei 4k x 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16-MBit-DRAM gibt es wahlweise mit ein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 von 4Mx4, 2Mx8 oder 1Mx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8120" y="1104840"/>
            <a:ext cx="8239320" cy="52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Kapazitä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 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Informationsmenge (in Anzahl Bit), die im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untergebracht werden kann:  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n </a:t>
            </a:r>
            <a:r>
              <a:rPr b="0" lang="de-DE" sz="22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Größen zur Charakterisierung der Arbeitsgeschwindigkeit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eines Speicherbausteins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ugriff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access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Zeitdauer, die vom Anlegen einer Adresse a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en Speicher bis zur Ausgabe der gewünschten Dat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yklu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cycle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: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inimale Zeitdauer, die zwischen zwei hintereinand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olgenden Aufschaltungen von Adressen an den Speicher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en mu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6120" y="1181160"/>
            <a:ext cx="7101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Aufbau und Organisation </a:t>
            </a:r>
            <a:br>
              <a:rPr sz="2400"/>
            </a:b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irect Memory Acsses (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7600" y="3606840"/>
            <a:ext cx="3383280" cy="304920"/>
          </a:xfrm>
          <a:prstGeom prst="hexagon">
            <a:avLst>
              <a:gd name="adj" fmla="val 36985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2400" y="2647800"/>
            <a:ext cx="6594480" cy="304920"/>
            <a:chOff x="1292400" y="2647800"/>
            <a:chExt cx="6594480" cy="304920"/>
          </a:xfrm>
        </p:grpSpPr>
        <p:sp>
          <p:nvSpPr>
            <p:cNvPr id="189" name=""/>
            <p:cNvSpPr/>
            <p:nvPr/>
          </p:nvSpPr>
          <p:spPr>
            <a:xfrm>
              <a:off x="1292400" y="2647800"/>
              <a:ext cx="1311120" cy="304920"/>
            </a:xfrm>
            <a:prstGeom prst="hexagon">
              <a:avLst>
                <a:gd name="adj" fmla="val 31214"/>
                <a:gd name="vf" fmla="val 11547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75400" y="2647800"/>
              <a:ext cx="1311480" cy="304920"/>
            </a:xfrm>
            <a:prstGeom prst="hexagon">
              <a:avLst>
                <a:gd name="adj" fmla="val 31223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584440" y="2647800"/>
              <a:ext cx="3992760" cy="304560"/>
              <a:chOff x="2584440" y="2647800"/>
              <a:chExt cx="3992760" cy="304560"/>
            </a:xfrm>
          </p:grpSpPr>
          <p:sp>
            <p:nvSpPr>
              <p:cNvPr id="192" name=""/>
              <p:cNvSpPr/>
              <p:nvPr/>
            </p:nvSpPr>
            <p:spPr>
              <a:xfrm>
                <a:off x="3194280" y="2647800"/>
                <a:ext cx="3382920" cy="304560"/>
              </a:xfrm>
              <a:prstGeom prst="hexagon">
                <a:avLst>
                  <a:gd name="adj" fmla="val 37025"/>
                  <a:gd name="vf" fmla="val 11547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84440" y="2647800"/>
                <a:ext cx="3141720" cy="304560"/>
              </a:xfrm>
              <a:prstGeom prst="hexagon">
                <a:avLst>
                  <a:gd name="adj" fmla="val 34385"/>
                  <a:gd name="vf" fmla="val 11547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4413240" y="3606840"/>
            <a:ext cx="3992400" cy="304920"/>
            <a:chOff x="4413240" y="3606840"/>
            <a:chExt cx="3992400" cy="304920"/>
          </a:xfrm>
        </p:grpSpPr>
        <p:sp>
          <p:nvSpPr>
            <p:cNvPr id="195" name=""/>
            <p:cNvSpPr/>
            <p:nvPr/>
          </p:nvSpPr>
          <p:spPr>
            <a:xfrm>
              <a:off x="5022720" y="3606840"/>
              <a:ext cx="3382920" cy="304920"/>
            </a:xfrm>
            <a:prstGeom prst="hexagon">
              <a:avLst>
                <a:gd name="adj" fmla="val 36981"/>
                <a:gd name="vf" fmla="val 115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13240" y="3606840"/>
              <a:ext cx="1300320" cy="304920"/>
            </a:xfrm>
            <a:prstGeom prst="hexagon">
              <a:avLst>
                <a:gd name="adj" fmla="val 34886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21240" y="1644480"/>
            <a:ext cx="0" cy="279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92440" y="164448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80160" y="1644480"/>
            <a:ext cx="0" cy="3175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6560" y="2031840"/>
            <a:ext cx="113040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40760" y="2070000"/>
            <a:ext cx="113004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3680" y="249228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3480" y="3460680"/>
            <a:ext cx="12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60800" y="3844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Zugr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695320" y="4680000"/>
            <a:ext cx="130500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53040" y="4680000"/>
            <a:ext cx="151452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65480" y="4330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3333cc"/>
                </a:solidFill>
                <a:latin typeface="Arial"/>
              </a:rPr>
              <a:t>Zy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685960" y="420372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203720"/>
            <a:ext cx="366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6560" y="1305000"/>
            <a:ext cx="803916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Zykluszeit kann erheblich länger als die Zugriffsze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 muß sich nach einem Zugriff “erhol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igen Speicherarten wird die Information durch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uslesen zerstört und muß erst wie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eschrieben werden (refresh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Idealfal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ykluszeit = Zugriff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alität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Zykluszeit  &gt;  Zugriff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68560" y="1104840"/>
            <a:ext cx="6680160" cy="5004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74640" y="12603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22560" y="126684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448240" y="1257480"/>
            <a:ext cx="2082960" cy="2145960"/>
            <a:chOff x="5448240" y="1257480"/>
            <a:chExt cx="2082960" cy="2145960"/>
          </a:xfrm>
        </p:grpSpPr>
        <p:sp>
          <p:nvSpPr>
            <p:cNvPr id="217" name=""/>
            <p:cNvSpPr/>
            <p:nvPr/>
          </p:nvSpPr>
          <p:spPr>
            <a:xfrm>
              <a:off x="5448240" y="1257480"/>
              <a:ext cx="2082960" cy="2145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8240" y="125748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0088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755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65960" y="12762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8240" y="1441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48240" y="1657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48240" y="29271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48240" y="31305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530680" y="1371600"/>
              <a:ext cx="317160" cy="342000"/>
              <a:chOff x="5530680" y="1371600"/>
              <a:chExt cx="317160" cy="342000"/>
            </a:xfrm>
          </p:grpSpPr>
          <p:sp>
            <p:nvSpPr>
              <p:cNvPr id="228" name=""/>
              <p:cNvSpPr/>
              <p:nvPr/>
            </p:nvSpPr>
            <p:spPr>
              <a:xfrm>
                <a:off x="553068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3068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2112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2112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530680" y="2844720"/>
              <a:ext cx="317160" cy="342720"/>
              <a:chOff x="5530680" y="2844720"/>
              <a:chExt cx="317160" cy="342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53068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3068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2112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112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112160" y="1371600"/>
              <a:ext cx="317160" cy="342000"/>
              <a:chOff x="7112160" y="1371600"/>
              <a:chExt cx="317160" cy="342000"/>
            </a:xfrm>
          </p:grpSpPr>
          <p:sp>
            <p:nvSpPr>
              <p:cNvPr id="238" name=""/>
              <p:cNvSpPr/>
              <p:nvPr/>
            </p:nvSpPr>
            <p:spPr>
              <a:xfrm>
                <a:off x="711216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1216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30260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0260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112160" y="2844720"/>
              <a:ext cx="317160" cy="342720"/>
              <a:chOff x="7112160" y="2844720"/>
              <a:chExt cx="317160" cy="342720"/>
            </a:xfrm>
          </p:grpSpPr>
          <p:sp>
            <p:nvSpPr>
              <p:cNvPr id="243" name=""/>
              <p:cNvSpPr/>
              <p:nvPr/>
            </p:nvSpPr>
            <p:spPr>
              <a:xfrm>
                <a:off x="711216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1216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0260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0260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829840" y="1896840"/>
              <a:ext cx="134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peicher-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574640" y="3479760"/>
            <a:ext cx="800280" cy="102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09960" y="3429000"/>
            <a:ext cx="79992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51040" y="1295280"/>
            <a:ext cx="2171520" cy="190440"/>
            <a:chOff x="851040" y="1295280"/>
            <a:chExt cx="2171520" cy="190440"/>
          </a:xfrm>
        </p:grpSpPr>
        <p:sp>
          <p:nvSpPr>
            <p:cNvPr id="251" name=""/>
            <p:cNvSpPr/>
            <p:nvPr/>
          </p:nvSpPr>
          <p:spPr>
            <a:xfrm>
              <a:off x="851040" y="13842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815840" y="13078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851040" y="1486080"/>
            <a:ext cx="2171520" cy="190440"/>
            <a:chOff x="851040" y="1486080"/>
            <a:chExt cx="2171520" cy="190440"/>
          </a:xfrm>
        </p:grpSpPr>
        <p:sp>
          <p:nvSpPr>
            <p:cNvPr id="254" name=""/>
            <p:cNvSpPr/>
            <p:nvPr/>
          </p:nvSpPr>
          <p:spPr>
            <a:xfrm>
              <a:off x="851040" y="15750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1815840" y="14986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51040" y="2768760"/>
            <a:ext cx="2171520" cy="190440"/>
            <a:chOff x="851040" y="2768760"/>
            <a:chExt cx="2171520" cy="190440"/>
          </a:xfrm>
        </p:grpSpPr>
        <p:sp>
          <p:nvSpPr>
            <p:cNvPr id="257" name=""/>
            <p:cNvSpPr/>
            <p:nvPr/>
          </p:nvSpPr>
          <p:spPr>
            <a:xfrm>
              <a:off x="851040" y="28576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1815840" y="27813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851040" y="2959200"/>
            <a:ext cx="2171520" cy="190440"/>
            <a:chOff x="851040" y="2959200"/>
            <a:chExt cx="2171520" cy="190440"/>
          </a:xfrm>
        </p:grpSpPr>
        <p:sp>
          <p:nvSpPr>
            <p:cNvPr id="260" name=""/>
            <p:cNvSpPr/>
            <p:nvPr/>
          </p:nvSpPr>
          <p:spPr>
            <a:xfrm>
              <a:off x="851040" y="304812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1815840" y="297180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838080" y="3683160"/>
            <a:ext cx="2171520" cy="190440"/>
            <a:chOff x="838080" y="3683160"/>
            <a:chExt cx="2171520" cy="190440"/>
          </a:xfrm>
        </p:grpSpPr>
        <p:sp>
          <p:nvSpPr>
            <p:cNvPr id="263" name=""/>
            <p:cNvSpPr/>
            <p:nvPr/>
          </p:nvSpPr>
          <p:spPr>
            <a:xfrm>
              <a:off x="838080" y="37720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1802880" y="36957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38080" y="3492360"/>
            <a:ext cx="2171520" cy="190440"/>
            <a:chOff x="838080" y="3492360"/>
            <a:chExt cx="2171520" cy="190440"/>
          </a:xfrm>
        </p:grpSpPr>
        <p:sp>
          <p:nvSpPr>
            <p:cNvPr id="266" name=""/>
            <p:cNvSpPr/>
            <p:nvPr/>
          </p:nvSpPr>
          <p:spPr>
            <a:xfrm>
              <a:off x="838080" y="3581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1802880" y="3504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838080" y="4140360"/>
            <a:ext cx="2171520" cy="190440"/>
            <a:chOff x="838080" y="4140360"/>
            <a:chExt cx="2171520" cy="190440"/>
          </a:xfrm>
        </p:grpSpPr>
        <p:sp>
          <p:nvSpPr>
            <p:cNvPr id="269" name=""/>
            <p:cNvSpPr/>
            <p:nvPr/>
          </p:nvSpPr>
          <p:spPr>
            <a:xfrm>
              <a:off x="838080" y="4229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1802880" y="4152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 flipH="1">
            <a:off x="3835080" y="1447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835080" y="16635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35080" y="2933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35080" y="31370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9756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5428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332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0504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4788000"/>
            <a:ext cx="133380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ogik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4952880"/>
            <a:ext cx="2120760" cy="673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406760"/>
            <a:ext cx="21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1803240" y="4330800"/>
            <a:ext cx="190800" cy="164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3556080"/>
            <a:ext cx="158760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3733920"/>
            <a:ext cx="157500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4432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4216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158920" y="4508640"/>
            <a:ext cx="15264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374560" y="3276720"/>
            <a:ext cx="444600" cy="151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543480" y="3390840"/>
            <a:ext cx="1892160" cy="1409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543480" y="4483080"/>
            <a:ext cx="1841400" cy="49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43480" y="5334120"/>
            <a:ext cx="1841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626080" y="4483080"/>
            <a:ext cx="329760" cy="1752480"/>
            <a:chOff x="5626080" y="4483080"/>
            <a:chExt cx="329760" cy="1752480"/>
          </a:xfrm>
        </p:grpSpPr>
        <p:sp>
          <p:nvSpPr>
            <p:cNvPr id="300" name=""/>
            <p:cNvSpPr/>
            <p:nvPr/>
          </p:nvSpPr>
          <p:spPr>
            <a:xfrm>
              <a:off x="571500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608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800000">
              <a:off x="576540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1500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5468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4208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981760" y="4483080"/>
            <a:ext cx="329760" cy="1752480"/>
            <a:chOff x="5981760" y="4483080"/>
            <a:chExt cx="329760" cy="1752480"/>
          </a:xfrm>
        </p:grpSpPr>
        <p:sp>
          <p:nvSpPr>
            <p:cNvPr id="308" name=""/>
            <p:cNvSpPr/>
            <p:nvPr/>
          </p:nvSpPr>
          <p:spPr>
            <a:xfrm>
              <a:off x="60706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817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800000">
              <a:off x="61210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706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706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103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977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112160" y="4483080"/>
            <a:ext cx="329760" cy="1752480"/>
            <a:chOff x="7112160" y="4483080"/>
            <a:chExt cx="329760" cy="1752480"/>
          </a:xfrm>
        </p:grpSpPr>
        <p:sp>
          <p:nvSpPr>
            <p:cNvPr id="316" name=""/>
            <p:cNvSpPr/>
            <p:nvPr/>
          </p:nvSpPr>
          <p:spPr>
            <a:xfrm>
              <a:off x="72010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121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72514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10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407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281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788240" y="31352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e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eib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00840" y="1395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530840" y="331488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429320" y="1422360"/>
            <a:ext cx="431640" cy="1396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51160" y="5924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4168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492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87692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520704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554976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2680" y="1185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2680" y="1401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640" y="2671920"/>
            <a:ext cx="43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9840" y="2862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7320" y="338292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7320" y="357336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" y="401796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9440" y="422100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17920" y="1103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84800" y="314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2360" y="4697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5014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9520" y="535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2560" y="566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" y="4743360"/>
            <a:ext cx="26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1640" y="5067360"/>
            <a:ext cx="2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040" y="539100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9680" y="1076400"/>
            <a:ext cx="839160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logik &amp; Bausteinauswah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CS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chip select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 oder CE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chip enabl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austeinauswahl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meist durch Adressdekoder aus den höchstwertigst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its erzeug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R/W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read/writ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uswahl Lesen oder Schreiben, nur bei RAMs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t die Richtung der Schreib/Leseverstärker und die Art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ellenan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OE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output enabl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ktiviert die Ausgangstreiber an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busschnittstelle (schaltet den Speicherbaustein als Quell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den Datenbus, Tristate Trei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PGM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program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euprogrammieren des Bausteins, nur EPROMs,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EPROMs, NVRAMs, über U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muß dann die Programmierspannung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12..21V) zugefüh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280" y="168588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8720" y="401004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5143680"/>
            <a:ext cx="4860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76400" y="28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8120" y="1095480"/>
            <a:ext cx="84200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steigt die Anzahl der Speicherzellen pro Auswahl-leitung einen bestimmten Wert  </a:t>
            </a: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elektrische Probleme (Kapazitä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Fall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ufteilen der Matrix in Untermatri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ederwertige Adressbits bilden über Interfacetreiber (Treiberleistung, Pegelanpassung, Adresslatch) und einen1 aus n Decoder die Zeilenauswahl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wählen eine Zeile der Speichermatrix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9680" y="1057320"/>
            <a:ext cx="829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die Auswahl einer ganzen Zeile in einer möglichst quadratischen Matrix werden i.A. erheblich mehr Speicherzellen angesprochen als aktuell ausgelesen werden mü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anzusprechenden bzw. auszulesen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lten durch einen Spaltenauswahl-Scha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wird über Treiber und Decoder vo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öherwertigen Adressbits gesteu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ispiel: Selektieren einer Speicherzelle aufgrund </a:t>
            </a:r>
            <a:br>
              <a:rPr sz="2400"/>
            </a:b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er gegebenen Speicher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87720" y="5276880"/>
            <a:ext cx="210168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8520" y="36655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 Wor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n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93720" y="2446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er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z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070520" y="4352760"/>
            <a:ext cx="2476440" cy="752400"/>
            <a:chOff x="4070520" y="4352760"/>
            <a:chExt cx="2476440" cy="752400"/>
          </a:xfrm>
        </p:grpSpPr>
        <p:grpSp>
          <p:nvGrpSpPr>
            <p:cNvPr id="370" name=""/>
            <p:cNvGrpSpPr/>
            <p:nvPr/>
          </p:nvGrpSpPr>
          <p:grpSpPr>
            <a:xfrm>
              <a:off x="4070520" y="4352760"/>
              <a:ext cx="619200" cy="752400"/>
              <a:chOff x="4070520" y="4352760"/>
              <a:chExt cx="619200" cy="752400"/>
            </a:xfrm>
          </p:grpSpPr>
          <p:sp>
            <p:nvSpPr>
              <p:cNvPr id="371" name=""/>
              <p:cNvSpPr/>
              <p:nvPr/>
            </p:nvSpPr>
            <p:spPr>
              <a:xfrm>
                <a:off x="40705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516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229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658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689720" y="4352760"/>
              <a:ext cx="619200" cy="752400"/>
              <a:chOff x="4689720" y="4352760"/>
              <a:chExt cx="619200" cy="752400"/>
            </a:xfrm>
          </p:grpSpPr>
          <p:sp>
            <p:nvSpPr>
              <p:cNvPr id="376" name=""/>
              <p:cNvSpPr/>
              <p:nvPr/>
            </p:nvSpPr>
            <p:spPr>
              <a:xfrm>
                <a:off x="46897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08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421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850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308920" y="4352760"/>
              <a:ext cx="619200" cy="752400"/>
              <a:chOff x="5308920" y="4352760"/>
              <a:chExt cx="619200" cy="752400"/>
            </a:xfrm>
          </p:grpSpPr>
          <p:sp>
            <p:nvSpPr>
              <p:cNvPr id="381" name=""/>
              <p:cNvSpPr/>
              <p:nvPr/>
            </p:nvSpPr>
            <p:spPr>
              <a:xfrm>
                <a:off x="53089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900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613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042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928120" y="4352760"/>
              <a:ext cx="618840" cy="752400"/>
              <a:chOff x="5928120" y="4352760"/>
              <a:chExt cx="618840" cy="752400"/>
            </a:xfrm>
          </p:grpSpPr>
          <p:sp>
            <p:nvSpPr>
              <p:cNvPr id="386" name=""/>
              <p:cNvSpPr/>
              <p:nvPr/>
            </p:nvSpPr>
            <p:spPr>
              <a:xfrm>
                <a:off x="5928120" y="43527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08840" y="45622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8020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23120" y="46670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4070520" y="3600360"/>
            <a:ext cx="2476440" cy="752400"/>
            <a:chOff x="4070520" y="3600360"/>
            <a:chExt cx="2476440" cy="752400"/>
          </a:xfrm>
        </p:grpSpPr>
        <p:grpSp>
          <p:nvGrpSpPr>
            <p:cNvPr id="391" name=""/>
            <p:cNvGrpSpPr/>
            <p:nvPr/>
          </p:nvGrpSpPr>
          <p:grpSpPr>
            <a:xfrm>
              <a:off x="4070520" y="3600360"/>
              <a:ext cx="619200" cy="752400"/>
              <a:chOff x="4070520" y="3600360"/>
              <a:chExt cx="619200" cy="752400"/>
            </a:xfrm>
          </p:grpSpPr>
          <p:sp>
            <p:nvSpPr>
              <p:cNvPr id="392" name=""/>
              <p:cNvSpPr/>
              <p:nvPr/>
            </p:nvSpPr>
            <p:spPr>
              <a:xfrm>
                <a:off x="40705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516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229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658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689720" y="3600360"/>
              <a:ext cx="619200" cy="752400"/>
              <a:chOff x="4689720" y="3600360"/>
              <a:chExt cx="619200" cy="752400"/>
            </a:xfrm>
          </p:grpSpPr>
          <p:sp>
            <p:nvSpPr>
              <p:cNvPr id="397" name=""/>
              <p:cNvSpPr/>
              <p:nvPr/>
            </p:nvSpPr>
            <p:spPr>
              <a:xfrm>
                <a:off x="46897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08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421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850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308920" y="3600360"/>
              <a:ext cx="619200" cy="752400"/>
              <a:chOff x="5308920" y="3600360"/>
              <a:chExt cx="619200" cy="752400"/>
            </a:xfrm>
          </p:grpSpPr>
          <p:sp>
            <p:nvSpPr>
              <p:cNvPr id="402" name=""/>
              <p:cNvSpPr/>
              <p:nvPr/>
            </p:nvSpPr>
            <p:spPr>
              <a:xfrm>
                <a:off x="53089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900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613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042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928120" y="3600360"/>
              <a:ext cx="618840" cy="752400"/>
              <a:chOff x="5928120" y="3600360"/>
              <a:chExt cx="618840" cy="752400"/>
            </a:xfrm>
          </p:grpSpPr>
          <p:sp>
            <p:nvSpPr>
              <p:cNvPr id="407" name=""/>
              <p:cNvSpPr/>
              <p:nvPr/>
            </p:nvSpPr>
            <p:spPr>
              <a:xfrm>
                <a:off x="5928120" y="36003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08840" y="38098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8020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23120" y="39146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4070520" y="2847960"/>
            <a:ext cx="618840" cy="752400"/>
            <a:chOff x="4070520" y="2847960"/>
            <a:chExt cx="618840" cy="752400"/>
          </a:xfrm>
        </p:grpSpPr>
        <p:sp>
          <p:nvSpPr>
            <p:cNvPr id="412" name=""/>
            <p:cNvSpPr/>
            <p:nvPr/>
          </p:nvSpPr>
          <p:spPr>
            <a:xfrm>
              <a:off x="4070520" y="2847960"/>
              <a:ext cx="61884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51240" y="3057480"/>
              <a:ext cx="31392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226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5520" y="3162240"/>
              <a:ext cx="12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689360" y="2847960"/>
            <a:ext cx="619200" cy="752400"/>
            <a:chOff x="4689360" y="2847960"/>
            <a:chExt cx="619200" cy="752400"/>
          </a:xfrm>
        </p:grpSpPr>
        <p:sp>
          <p:nvSpPr>
            <p:cNvPr id="417" name=""/>
            <p:cNvSpPr/>
            <p:nvPr/>
          </p:nvSpPr>
          <p:spPr>
            <a:xfrm>
              <a:off x="46893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704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418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847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308560" y="2847960"/>
            <a:ext cx="619200" cy="752400"/>
            <a:chOff x="5308560" y="2847960"/>
            <a:chExt cx="619200" cy="752400"/>
          </a:xfrm>
        </p:grpSpPr>
        <p:sp>
          <p:nvSpPr>
            <p:cNvPr id="422" name=""/>
            <p:cNvSpPr/>
            <p:nvPr/>
          </p:nvSpPr>
          <p:spPr>
            <a:xfrm>
              <a:off x="53085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96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610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039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927760" y="2847960"/>
            <a:ext cx="6192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08840" y="3057480"/>
            <a:ext cx="314280" cy="2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80200" y="2847960"/>
            <a:ext cx="0" cy="20952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23120" y="3162240"/>
            <a:ext cx="1238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070520" y="2095560"/>
            <a:ext cx="2476440" cy="752400"/>
            <a:chOff x="4070520" y="2095560"/>
            <a:chExt cx="2476440" cy="752400"/>
          </a:xfrm>
        </p:grpSpPr>
        <p:grpSp>
          <p:nvGrpSpPr>
            <p:cNvPr id="431" name=""/>
            <p:cNvGrpSpPr/>
            <p:nvPr/>
          </p:nvGrpSpPr>
          <p:grpSpPr>
            <a:xfrm>
              <a:off x="4070520" y="2095560"/>
              <a:ext cx="619200" cy="752400"/>
              <a:chOff x="4070520" y="2095560"/>
              <a:chExt cx="619200" cy="752400"/>
            </a:xfrm>
          </p:grpSpPr>
          <p:sp>
            <p:nvSpPr>
              <p:cNvPr id="432" name=""/>
              <p:cNvSpPr/>
              <p:nvPr/>
            </p:nvSpPr>
            <p:spPr>
              <a:xfrm>
                <a:off x="40705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2516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229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658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689720" y="2095560"/>
              <a:ext cx="619200" cy="752400"/>
              <a:chOff x="4689720" y="2095560"/>
              <a:chExt cx="619200" cy="752400"/>
            </a:xfrm>
          </p:grpSpPr>
          <p:sp>
            <p:nvSpPr>
              <p:cNvPr id="437" name=""/>
              <p:cNvSpPr/>
              <p:nvPr/>
            </p:nvSpPr>
            <p:spPr>
              <a:xfrm>
                <a:off x="46897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708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421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850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308920" y="2095560"/>
              <a:ext cx="619200" cy="752400"/>
              <a:chOff x="5308920" y="2095560"/>
              <a:chExt cx="619200" cy="752400"/>
            </a:xfrm>
          </p:grpSpPr>
          <p:sp>
            <p:nvSpPr>
              <p:cNvPr id="442" name=""/>
              <p:cNvSpPr/>
              <p:nvPr/>
            </p:nvSpPr>
            <p:spPr>
              <a:xfrm>
                <a:off x="53089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900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613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042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928120" y="2095560"/>
              <a:ext cx="618840" cy="752400"/>
              <a:chOff x="5928120" y="2095560"/>
              <a:chExt cx="618840" cy="752400"/>
            </a:xfrm>
          </p:grpSpPr>
          <p:sp>
            <p:nvSpPr>
              <p:cNvPr id="447" name=""/>
              <p:cNvSpPr/>
              <p:nvPr/>
            </p:nvSpPr>
            <p:spPr>
              <a:xfrm>
                <a:off x="5928120" y="20955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08840" y="23050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8020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423120" y="24098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6242040" y="3114720"/>
            <a:ext cx="7128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0200" y="1905120"/>
            <a:ext cx="0" cy="3200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070520" y="2838600"/>
            <a:ext cx="2628720" cy="9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89400" y="5105520"/>
            <a:ext cx="2524320" cy="657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2269800" y="2952720"/>
            <a:ext cx="2943360" cy="657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94120" y="5100480"/>
            <a:ext cx="3906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70520" y="4753080"/>
            <a:ext cx="0" cy="390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19760" y="181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10040" y="255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19760" y="330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19760" y="4060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38600" y="481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480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05440" y="479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96200" y="4775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898640" y="5495760"/>
            <a:ext cx="1162080" cy="371520"/>
            <a:chOff x="1898640" y="5495760"/>
            <a:chExt cx="1162080" cy="371520"/>
          </a:xfrm>
        </p:grpSpPr>
        <p:sp>
          <p:nvSpPr>
            <p:cNvPr id="467" name=""/>
            <p:cNvSpPr/>
            <p:nvPr/>
          </p:nvSpPr>
          <p:spPr>
            <a:xfrm>
              <a:off x="189864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968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 flipV="1">
            <a:off x="2762280" y="3355560"/>
            <a:ext cx="0" cy="212724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62280" y="3352680"/>
            <a:ext cx="650880" cy="0"/>
          </a:xfrm>
          <a:prstGeom prst="line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87720" y="5276880"/>
            <a:ext cx="0" cy="2188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45680" y="4923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62920" y="31035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6480" y="130320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Bi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m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327720" y="2724120"/>
            <a:ext cx="8096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37240" y="3600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27880" y="4362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927760" y="195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3085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6893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66840" y="140004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Prozessor-Speicher-Performance-Untrschi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5840" y="1066680"/>
            <a:ext cx="8496360" cy="3848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1160" y="5011560"/>
            <a:ext cx="831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mer größer werden dir Lücke zwischen Verarbeitungs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Prozessoren und Zugriffsgeschwindigkeit der DRAM Speichers 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pei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-Technologie-Tren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960" y="1085760"/>
            <a:ext cx="82774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3800" y="1295280"/>
            <a:ext cx="78962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Arten von Speicher in einem Rechn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Hauptspeicher (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und Peripherie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soll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näher betrach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dächtnis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des Rech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werden dort Programme und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“jeder Zeit sofort”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Verfügung stehen mü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280" y="1270080"/>
            <a:ext cx="8299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n unterscheidet zwis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permanenter Ablage von Daten </a:t>
            </a: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Lang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estwertspeicher (ROM), nicht flüchti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Betriebssystemkern, System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vorübergehender Ablage von Daten </a:t>
            </a: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Kurz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/Lesespeicher (RAM), flüchti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Anwender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00" y="1276200"/>
            <a:ext cx="7639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s Arbeitsspeicher wird verwend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schließlich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, klein, zuverlässig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isgünstig (&lt; 1 DM /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ingkernspeicher (Magnetspeicher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öhren,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gsam, groß, te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¼ Mbyte Speichererweiterung einer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BM / 360-75 kostete 1967 1 Million D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Klassifizierung von Halbleiterspeiche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50680" y="1743120"/>
            <a:ext cx="106380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43120"/>
            <a:ext cx="121932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47400" y="2781360"/>
            <a:ext cx="577800" cy="45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7480" y="2790720"/>
            <a:ext cx="46044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90960" y="2774880"/>
            <a:ext cx="4539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02400" y="2765520"/>
            <a:ext cx="45108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2080" y="3772080"/>
            <a:ext cx="384120" cy="61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1440" y="3768840"/>
            <a:ext cx="32688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78280" y="3809880"/>
            <a:ext cx="44136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8960" y="3800520"/>
            <a:ext cx="470160" cy="55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740040"/>
            <a:ext cx="787320" cy="62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365600" y="3746520"/>
            <a:ext cx="69228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05240" y="4873680"/>
            <a:ext cx="959040" cy="60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43640" y="3708360"/>
            <a:ext cx="403200" cy="179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4600" y="1241280"/>
            <a:ext cx="32511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2600" y="2246400"/>
            <a:ext cx="3695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chreib-/Les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4080" y="2246400"/>
            <a:ext cx="32511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estwer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243240"/>
            <a:ext cx="1704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ir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81160" y="3262320"/>
            <a:ext cx="1447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68720" y="3244680"/>
            <a:ext cx="193356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Stat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8600" y="3240000"/>
            <a:ext cx="20988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Dynam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75280" y="4321080"/>
            <a:ext cx="233676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quasi-statisches</a:t>
            </a:r>
            <a:br>
              <a:rPr sz="1800"/>
            </a:b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4280" y="4371840"/>
            <a:ext cx="727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20840" y="4371840"/>
            <a:ext cx="853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59120" y="4371840"/>
            <a:ext cx="11430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23960" y="4371840"/>
            <a:ext cx="10573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4200" y="5429160"/>
            <a:ext cx="26096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cccc"/>
                </a:solidFill>
                <a:latin typeface="Arial"/>
              </a:rPr>
              <a:t>Nichtflüchtig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9680" y="1104840"/>
            <a:ext cx="832464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halt ist während des Normalbetriebs nur lesbar. Inhalt i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icht flüchtig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on volatile),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.h. er geht bei Abschaltung der Versorgungsspannung nicht verl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irreversible Festwertspeicher:</a:t>
            </a:r>
            <a:r>
              <a:rPr b="0" lang="de-DE" sz="2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einer Information kann nicht wieder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gängig 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maskenprogrammierten Festwertspeicher (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ung bei der Herstellung, nur bei großer Stück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programmierbare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P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maliges Programmieren durch den Anwender 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gerät (Durchbrennen von Verbindungen,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sable 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5-11-15T13:38:01Z</dcterms:modified>
  <cp:revision>906</cp:revision>
  <dc:subject/>
  <dc:title>TI-2</dc:title>
</cp:coreProperties>
</file>