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8F8-FB09-4C0A-AD16-521472CC65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1596960" y="1087560"/>
            <a:ext cx="63216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0600" y="1733400"/>
            <a:ext cx="8343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unterschiedlich lange Befehlsformate: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iedene Befehle sind unterschiedlich la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-Wort-Befehle, 2-Wort-Befehle, 3-Wort-Befehle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Vorabladen von Befehlen (</a:t>
            </a:r>
            <a:r>
              <a:rPr b="0" i="1" lang="de-DE" sz="2400" spc="-1" strike="noStrike">
                <a:solidFill>
                  <a:srgbClr val="0000ff"/>
                </a:solidFill>
                <a:latin typeface="Tahoma"/>
              </a:rPr>
              <a:t>Opcode-Prefetching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Steigerung der Verarbeitungsgeschwindigke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bereits mehrere folgende Befehle in das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register geladen, während der aktuelle Befehl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ade dekodiert wird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Opcode prefetch queu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Warteschlange,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6280" y="1108080"/>
            <a:ext cx="8191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besteht aus mehreren Register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3080" y="1143000"/>
            <a:ext cx="833724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jeden Befehl liegt ein Mikroprogramm i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stwertspeicher des Steuerwerks v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kroprogramme können vom Benutzer nicht veränder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8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Das Steuerwerk ist mikroprogramm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Andere Vari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 als festverdrahtetes Schaltwerk (RISC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800" y="1104840"/>
            <a:ext cx="834408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1. Systembus-Zuteilu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müssen mehrer Komponenten ein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zessor-Systems aktiv auf den Systembu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greif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Systembuszuteilung (Bus Arbitration) ist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Quittierungsbetrieb mit 3-Leitungs-Handshak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anford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(bus request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HOLD, BR oder BREQ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)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s Signal teilt dem Prozessor mit, dass eine ander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stemkomponente den Systembus belege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1141560"/>
            <a:ext cx="8344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Busfreigabe </a:t>
            </a:r>
            <a:r>
              <a:rPr b="0" i="1" lang="de-DE" sz="2400" spc="-1" strike="noStrike">
                <a:solidFill>
                  <a:srgbClr val="00a500"/>
                </a:solidFill>
                <a:latin typeface="Tahoma"/>
              </a:rPr>
              <a:t>(bus gra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HOLDA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(Hold acknowledge), BG oder BGRT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diesem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eilt der Prozessor mit, dass 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bus nun zur Verfügung steht. Alle Prozessor-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gänge werden vorher auf hochohmi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übernahme-Bestätigung </a:t>
            </a:r>
            <a:r>
              <a:rPr b="0" i="1" sz="2000" spc="-1" strike="noStrike">
                <a:solidFill>
                  <a:srgbClr val="00a500"/>
                </a:solidFill>
                <a:latin typeface="Tahoma"/>
              </a:rPr>
              <a:t>(Bus grant 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acknowledge </a:t>
            </a:r>
            <a:r>
              <a:rPr b="1" sz="2000" spc="-1" strike="noStrike">
                <a:solidFill>
                  <a:srgbClr val="00a500"/>
                </a:solidFill>
                <a:latin typeface="Tahoma"/>
              </a:rPr>
              <a:t>BGA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 )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diesem Signal bestätigt eine Komponente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, dass sie nun den Bus übernommen hat (neu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-Mas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werben sich mehrer Komponenten gleichzeitig um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, so muß der Bus-Arbiter eine hiervon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1266840"/>
            <a:ext cx="862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2. Unterbrechungsanforderungen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brechungen (Interrupts) sind erforderlich, um auf besondere äußere Ereignisse reag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laufende Programm wird unterbrochen, eine Unterbrechungsbehandlungsroutine (Interrupt Service Routine) angestoßen und nach deren Abarbeitung zum laufenden Programm zurückgekehrt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9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040" y="126684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152360"/>
            <a:ext cx="8458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-Eingä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IRQ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Interrupt request), INT oder INT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maskierbare Unterbrechungsbehandlung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NMI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Non maskable interrup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nicht maskierbare Unterbrechungsbehandl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HALT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-L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fforderung zum Stoppen des Prozessors, durch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rupt oder RESET wieder aufweckbar, meist bei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weren Systemfehlern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04840"/>
            <a:ext cx="808668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3. Fehlermeldung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ehlermeldung </a:t>
            </a:r>
            <a:r>
              <a:rPr b="1" lang="de-DE" sz="2000" spc="-1" strike="noStrike">
                <a:solidFill>
                  <a:srgbClr val="00a5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a500"/>
                </a:solidFill>
                <a:latin typeface="Tahoma"/>
              </a:rPr>
              <a:t> (Bus error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ann vo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stemkomponenten erzeugt werden, die gerade den Systembus benu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eigt dem Prozessor an, das bei der auf dem Systembus gerade laufenden Aktion ein Fehler aufgetreten ist, z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ausbleibendes Quittungssig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Zugriff auf einen geschützten Speicherberei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Datenübertragungsfehler auf dem Bus, ...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BERR löst in der Regel eine Unterbrechungs-behandl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104840"/>
            <a:ext cx="83408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4. Statusinformation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rch eine Reihe Statussignale, 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FCi,...,FC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Function code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i,...,ST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at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kann der Prozessor angeschlossenen Komponenten seinen Zustand und den Typ der gerade ausgeführten Operation mitteilen, z.B. Benutzerprogramm/Systemprogramm; Halt-Zustand;  Zugriff auf Arbeitsspeicher oder Peripherie, … u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960" y="1171440"/>
            <a:ext cx="8325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5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Kommunikation mit Coprozessor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Reihe von Signalen ist hierfür vorgesehen (spä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6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Systembus-Steuersignale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im 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und Richtung des Datentransport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lesen/schreiben, Byte/Word/Double-Word-Zugriff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r selektierten Komponen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Arbeitsspeicher/Periphe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5200" y="1152360"/>
            <a:ext cx="810576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euerregister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kan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s beeinfluß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edeutung der Bits des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 hängen vom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weiligen Prozessor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spiele für die Bedeutung von Bits d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 enabl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, ob auf eine Unterbrechungs-Anforder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m INT-Eingang reagier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27560" y="1144440"/>
            <a:ext cx="3773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4720" y="1181160"/>
            <a:ext cx="780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User/System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 ob der Prozessor im User-Modus (nu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chränkter Teil des Befehlsvorrats nutzbar) o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Systemmodus (alle Befehle verfügbar, i.A. für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ystem reserviert) arbe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Trac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laubt Befehlsabarbeitung im Einzelschritt (Singl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p Mode), d.h. nach jeder Befehlsausführung wir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Unterbrechungsroutine gestarte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Decimal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scheidet, ob Dual oder BCD gerechne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euerwerk: Zusammenfass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305000"/>
            <a:ext cx="8258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werk interpretiert die Maschinenbefehle und setzt sie unter Berücksichtigung der Statusinformation in Steuerkommandos für andere Komponenten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enthält die Speicheradresse des als nächstes auszuführenden Maschinenbefehls, sofern der vergangene Befehl kein Sprungbefehl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register beeinfluss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Steuer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640" y="1422360"/>
            <a:ext cx="4749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ührt die vom Steuer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langten logischen 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ithmetischen Operationen a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Status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iert 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uerwerk über den Ablau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 Ergebnisses (z. B. Carr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flow, Zero, Sign,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um Zwischenspeichern v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nden und Ergebni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lf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Akkumulatore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h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00800" y="2098800"/>
            <a:ext cx="32036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360" y="1422360"/>
            <a:ext cx="84456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 Eingangsbusse ( 2 Operanden) und 1 Ausgangs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rgebnis). Sie entsprechen in der Breite dem inter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zessor-Bus und sind mit diesem verbu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ALU selbst ist ein reines Schalt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 die ALU sind Hilfsregister zur Zwischenspeich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n Operanden geschal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Ergebnisse werden entweder in Prozessor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n gespeichert, auf die Eingangsregister 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U zurückgeführt oder über den externen Daten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ndere Systemkomponenten übert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ngänge zur Steuerung der ALU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0560" y="1409760"/>
            <a:ext cx="7950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de-Aus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ge für den Status der abgelauf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(Carry, Overflow, Zero, Sign, ..., us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wird im Status-Register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 (spezielles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8 Bit Mikroprozessoren war das einzig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, das direkt Ergebnisse der ALU aufnehm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 ALU Ergebnisse werden dort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 “sammelt” die Ergebnisse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Rechenwerksvarian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878" r="0" b="0"/>
          <a:stretch/>
        </p:blipFill>
        <p:spPr>
          <a:xfrm>
            <a:off x="5734080" y="1819440"/>
            <a:ext cx="3152880" cy="29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1960" y="11145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A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lf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Akkumulators w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nter die ALU 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200" y="2629080"/>
            <a:ext cx="47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LU-Oper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Veränderung des Akkumulators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38308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Haupsächlich in älteren 8-Bit- Prozessoren, bei denen auch die Adressberechnung in der ALU des Rechenwerkes durchgeführ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-95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115236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B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Akkumulators.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kkumulator wird in 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istersatz des Proz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800" y="2921040"/>
            <a:ext cx="53625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Registersatzes können Akkumulator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nehm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81760" y="1093680"/>
            <a:ext cx="3238200" cy="4459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3800" y="142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Rechenwerksvarian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280" y="572148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le modernen 16/32-Bit-Prozessoren nutzen dieses Konz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Aufbau des Rechenwer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0240" y="2184480"/>
            <a:ext cx="42800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ist zweigeteilt, besteh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 dem eigentl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-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 einem nachgeschalt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fs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38600" y="1424160"/>
            <a:ext cx="4505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1480" y="1409760"/>
            <a:ext cx="408924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t die Systemkompo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Befehl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hält den ge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geführten Befe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kod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ikroprogrammi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altw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d von den Statussign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flußt und erzeugt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sig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Taktgenerat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zeugt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 externen Qua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stgelegten 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30720" y="1808280"/>
            <a:ext cx="3363840" cy="29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18240" y="1870200"/>
            <a:ext cx="3380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eitverhalten des Rechenwer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7840" y="1324080"/>
            <a:ext cx="8733960" cy="4260240"/>
            <a:chOff x="177840" y="1324080"/>
            <a:chExt cx="8733960" cy="42602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838240" y="1324080"/>
              <a:ext cx="6073560" cy="42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177840" y="1861200"/>
              <a:ext cx="2617200" cy="29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4800600" y="2409840"/>
            <a:ext cx="847800" cy="1219320"/>
            <a:chOff x="4800600" y="2409840"/>
            <a:chExt cx="847800" cy="1219320"/>
          </a:xfrm>
        </p:grpSpPr>
        <p:sp>
          <p:nvSpPr>
            <p:cNvPr id="133" name=""/>
            <p:cNvSpPr/>
            <p:nvPr/>
          </p:nvSpPr>
          <p:spPr>
            <a:xfrm>
              <a:off x="4857840" y="2409840"/>
              <a:ext cx="790560" cy="39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0600" y="3228840"/>
              <a:ext cx="838080" cy="40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972480" y="2371680"/>
            <a:ext cx="466560" cy="7621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28640" y="320976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20040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47960" y="268596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57680" y="3505320"/>
            <a:ext cx="24732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38600" y="2247840"/>
            <a:ext cx="24768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4143240"/>
            <a:ext cx="24768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05000" y="3648240"/>
            <a:ext cx="247680" cy="22860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7960" y="3124080"/>
            <a:ext cx="247680" cy="22860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762520" y="2819520"/>
            <a:ext cx="685800" cy="838080"/>
            <a:chOff x="5762520" y="2819520"/>
            <a:chExt cx="685800" cy="838080"/>
          </a:xfrm>
        </p:grpSpPr>
        <p:sp>
          <p:nvSpPr>
            <p:cNvPr id="145" name=""/>
            <p:cNvSpPr/>
            <p:nvPr/>
          </p:nvSpPr>
          <p:spPr>
            <a:xfrm>
              <a:off x="5762520" y="281952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81600" y="365760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7840" y="1143000"/>
            <a:ext cx="81532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ithmetische 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ubtrah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krementieren/Dekre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zieren ohne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vidieren ohen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Komplemntieren (Zweierk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ogische bitweise Verknüpf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tival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7840" y="1143000"/>
            <a:ext cx="8153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iebe- und Rotations-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-Opera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Transfer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Schiebeoperatio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1305000"/>
            <a:ext cx="4305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Links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Multiplikatio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mi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Recht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Divisio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urc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 gilt jedoch nur für positiv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.  Bei negativen Zahl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m Zweierkomplement muß zu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erhaltung da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ste Bit in sich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ückgefüh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800" y="5602320"/>
            <a:ext cx="82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schied logisches/arithmetisches Rechts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54640" y="1438200"/>
            <a:ext cx="4689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Rotationsoperatio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1440" y="1081080"/>
            <a:ext cx="3284640" cy="5048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90400" y="1685880"/>
            <a:ext cx="38386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siter wird al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schlossene Bitket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ach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rry-Flag kan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ahlweise mitbenutz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als zusätzlich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t einbezo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1800" y="1152360"/>
            <a:ext cx="8782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, die das Ergebnis einer arithmetisch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 wiederspiegeln werden im Statusregister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Statusregister enthält meist folgende Bits (Flag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tragsbit (Carry Flag 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ilfsübertragsbit (Auxiliary Carry A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ullbit (Zero Flag Z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bit (Sign Flag 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laufbit (Overflow Flag 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ven Flag 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itätsbi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Parity Flag 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09880" y="2247840"/>
            <a:ext cx="4343400" cy="61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3472" t="2761" r="9882" b="2761"/>
          <a:stretch/>
        </p:blipFill>
        <p:spPr>
          <a:xfrm>
            <a:off x="5757840" y="3890880"/>
            <a:ext cx="2611440" cy="220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883120" y="4251240"/>
            <a:ext cx="1810080" cy="3812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857840" y="2952720"/>
            <a:ext cx="1288800" cy="13557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Bedeutung der Statusfla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360" y="1209600"/>
            <a:ext cx="86486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Carry Flag(CF)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aus dem höchstwertigste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it bei Addition oder Subtraktion (Borrow)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sequentielle Addition und Subtraktion mit größerer Wortbreite is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Aux Carry (AF):</a:t>
            </a:r>
            <a:r>
              <a:rPr b="0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von Bit 3 in Bit 4 des Ergebnisses (BCD-Arithmet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Zero Flag (Z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der letzten Operation   gleich 0 war. (bedingte Programmverzweigungen, Zählschlei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gn Flag (S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Zeigt an, dass das Ergebnis negativ ist (Most Significant Bit = 1). Spiegelt das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e Bit eines Operanden  wieder (bedingte Programmverzweig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verflow Flag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ereichsüberschreitung im Zweierko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en Flag (EV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eine gerade Zahl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Parity Flag (P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ignalisiert ungerade Parität des Ergebni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840" y="1300320"/>
            <a:ext cx="81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te von Statusbits können direkt Einfluß auf die Ausführung des Mikroprogramms h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dingte Programmverzwe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b000"/>
                </a:solidFill>
                <a:latin typeface="Tahoma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ff0000"/>
                </a:solidFill>
                <a:latin typeface="Tahoma"/>
              </a:rPr>
              <a:t>Steuer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werden häufig zur Erleichterung der Adressierung zusammengefaßt betrachten und manipuliert, und me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Prozessorstatuswort (PSW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n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960" y="1133640"/>
            <a:ext cx="818208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ynchrones Schal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liegt ein sog.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dynamisches Schaltwerk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v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. h. die Zustandsinformation ist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i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Flipflops, sonder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ndensatoren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ndesttaktfrequenz ist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halb dieser Taktfrequenz gehen die Inhalte durch. Leckströme bereits vor dem nächsten Taktzyklus verl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Taktgenerato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ei modernen Mikroprozessoren on Chip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mit externem Quarz verbund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-1142" t="7115" r="0" b="0"/>
          <a:stretch/>
        </p:blipFill>
        <p:spPr>
          <a:xfrm>
            <a:off x="5808600" y="1160640"/>
            <a:ext cx="33354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2560" y="1963800"/>
            <a:ext cx="5027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weiterung des Rechenwe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önnen dort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nellerer Zugriff als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92640" y="1362240"/>
            <a:ext cx="34336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2200" y="1074600"/>
            <a:ext cx="8411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b33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rennte Ein-/Ausgänge   Dual Port Speicher, zw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eiben eines Registers und gleichzeitiges 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mehrere allgemeine Register schreiben und 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b33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 dynamische Speicherzell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b33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mit Zusatzfunk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krementieren/Dekrementieren/auf Null setzen/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6360" y="1251000"/>
            <a:ext cx="883764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Daten- und Adressregist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4880" y="1214280"/>
            <a:ext cx="765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en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modernen Prozessoren sind mehr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ess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ichern von Adressen (oder Teile davon) e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b"/>
                </a:solidFill>
                <a:latin typeface="Tahoma"/>
              </a:rPr>
              <a:t>Spezialregister (special purpose register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0520" y="1316160"/>
            <a:ext cx="809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zur speziellen Verwend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z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uer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für den Start von Interrupt-Behand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regis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Tahoma"/>
              </a:rPr>
              <a:t>Taktgenerat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5960" y="1143000"/>
            <a:ext cx="798192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Aufgaben des Takt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aktfrequenz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zeugung eines mit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takt synchronisier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ücksetz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m Rücksetzen durchläuft das Steuerwerk eine Initialisierungs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wird bei vielen Mikroprozessoren ausgeführt, während das Rücksetzsignal aktiv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halb m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ß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as Rücksetzsignal genauen zeitlichen Spezifikationen genü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2298" t="3848" r="0" b="0"/>
          <a:stretch/>
        </p:blipFill>
        <p:spPr>
          <a:xfrm>
            <a:off x="5770440" y="1065240"/>
            <a:ext cx="3373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Tahoma"/>
              </a:rPr>
              <a:t>Rücksetzen eines Prozess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10000"/>
          </a:blip>
          <a:srcRect l="3709" t="13671" r="1520" b="979"/>
          <a:stretch/>
        </p:blipFill>
        <p:spPr>
          <a:xfrm>
            <a:off x="760320" y="2517840"/>
            <a:ext cx="7818480" cy="3646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360" y="1225440"/>
            <a:ext cx="79754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nuelles Rücksetzen über T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tomatisches Rücksetzen nach Einschalten der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06960" y="3822840"/>
            <a:ext cx="4827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Tahoma"/>
              </a:rPr>
              <a:t>Rücksetzen eines Prozess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343160"/>
            <a:ext cx="8506080" cy="57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Nach dem Einschalten der Versorungsspannung wird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er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Kondensator C langsam über den Widerstand R aufgela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Zeitkonstante: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(10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* 20K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200 m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Nach Überschreiten von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sz="23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am Reset-Eingang beginnt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ie Programmausführung mit dem Laden des ersten Befeh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urch Druck auf die Taste kann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über einen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Strombegrenzungs-Widerstand wieder entladen wer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62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manueller Re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ie Diode dient zum schnellen Entladen von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nach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Abschaltung der Versorgungsspann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4920" y="1658880"/>
            <a:ext cx="2601720" cy="3667680"/>
            <a:chOff x="304920" y="1658880"/>
            <a:chExt cx="2601720" cy="3667680"/>
          </a:xfrm>
        </p:grpSpPr>
        <p:pic>
          <p:nvPicPr>
            <p:cNvPr id="66" name="" descr=""/>
            <p:cNvPicPr/>
            <p:nvPr/>
          </p:nvPicPr>
          <p:blipFill>
            <a:blip r:embed="rId1"/>
            <a:srcRect l="0" t="0" r="0" b="26787"/>
            <a:stretch/>
          </p:blipFill>
          <p:spPr>
            <a:xfrm>
              <a:off x="304920" y="1658880"/>
              <a:ext cx="2601720" cy="31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39600" y="4927680"/>
              <a:ext cx="13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Hol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281400" y="1660680"/>
            <a:ext cx="2601720" cy="3665880"/>
            <a:chOff x="3281400" y="1660680"/>
            <a:chExt cx="2601720" cy="36658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rcRect l="0" t="0" r="0" b="26261"/>
            <a:stretch/>
          </p:blipFill>
          <p:spPr>
            <a:xfrm>
              <a:off x="3281400" y="1660680"/>
              <a:ext cx="260172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577320" y="49276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Decodi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326280" y="1628640"/>
            <a:ext cx="2618280" cy="3697920"/>
            <a:chOff x="6326280" y="1628640"/>
            <a:chExt cx="2618280" cy="3697920"/>
          </a:xfrm>
        </p:grpSpPr>
        <p:pic>
          <p:nvPicPr>
            <p:cNvPr id="72" name="" descr=""/>
            <p:cNvPicPr/>
            <p:nvPr/>
          </p:nvPicPr>
          <p:blipFill>
            <a:blip r:embed="rId3"/>
            <a:srcRect l="0" t="0" r="0" b="26153"/>
            <a:stretch/>
          </p:blipFill>
          <p:spPr>
            <a:xfrm>
              <a:off x="6326280" y="1628640"/>
              <a:ext cx="2601720" cy="31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60480" y="49276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Ausführungs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8120" y="1162080"/>
            <a:ext cx="81154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Ho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nächste Befehl in das Befehlsregister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Decodier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Befehlsdecoder ermittelt die Startadresse des Mikroprogramms, welches den Befehl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Ausführungsphas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Mikroprogramm steuert die Befehlsausführung, indem es entsprechende Signalfolgen an die anderen Prozessorkomponenten übermittelt und Meldesignale auswer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4-10-07T05:00:25Z</dcterms:modified>
  <cp:revision>410</cp:revision>
  <dc:subject/>
  <dc:title>TI-2</dc:title>
</cp:coreProperties>
</file>