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4CBE-65B0-4DD5-BA38-19149384A2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1.6 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prozessor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8120" y="1162080"/>
            <a:ext cx="81154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Tahoma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80" y="1143000"/>
            <a:ext cx="83372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Das Steuerwerk ist mikro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1104840"/>
            <a:ext cx="8344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greif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ystembuszuteilung (Bus Arbitration) ist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anfo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(bus request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HOLD, BR oder BREQ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)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1800" y="1141560"/>
            <a:ext cx="8344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Tahoma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ilt der Prozessor mit, dass 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übernahme-Bestätigung </a:t>
            </a:r>
            <a:r>
              <a:rPr b="0" i="1" sz="2000" spc="-1" strike="noStrike">
                <a:solidFill>
                  <a:srgbClr val="00a500"/>
                </a:solidFill>
                <a:latin typeface="Tahoma"/>
              </a:rPr>
              <a:t>(Bus grant 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acknowledge </a:t>
            </a:r>
            <a:r>
              <a:rPr b="1" sz="2000" spc="-1" strike="noStrike">
                <a:solidFill>
                  <a:srgbClr val="00a500"/>
                </a:solidFill>
                <a:latin typeface="Tahoma"/>
              </a:rPr>
              <a:t>BGA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 )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, dass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1800" y="1266840"/>
            <a:ext cx="862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04840"/>
            <a:ext cx="8086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ehlermeldung </a:t>
            </a:r>
            <a:r>
              <a:rPr b="1" lang="de-DE" sz="2000" spc="-1" strike="noStrike">
                <a:solidFill>
                  <a:srgbClr val="00a5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a500"/>
                </a:solidFill>
                <a:latin typeface="Tahoma"/>
              </a:rPr>
              <a:t> (Bus error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ann vo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stemkomponenten erzeugt werden, die gerade den Systembus benu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eigt dem Prozessor an, das bei der auf dem Systembus gerade laufenden Aktion ein Fehler aufgetreten ist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ausbleibendes Quittungssig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Zugriff auf einen geschützten Speicherbere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Datenübertragungsfehler auf dem Bus, ...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BERR löst in der Regel eine Unterbrechungs-behandl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04840"/>
            <a:ext cx="83408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kann der Prozessor angeschlossenen Komponenten seinen Zustand und den Typ der gerade ausgeführten Operation mitteilen, z.B. Benutzerprogramm/Systemprogramm; Halt-Zustand;  Zugriff auf Arbeitsspeicher oder Peripherie, … 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960" y="1171440"/>
            <a:ext cx="832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152360"/>
            <a:ext cx="81057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Steuerwerk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4720" y="1181160"/>
            <a:ext cx="78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1.5-4" descr=""/>
          <p:cNvPicPr/>
          <p:nvPr/>
        </p:nvPicPr>
        <p:blipFill>
          <a:blip r:embed="rId1">
            <a:lum contrast="10000"/>
          </a:blip>
          <a:srcRect l="353" t="815" r="565" b="371"/>
          <a:stretch/>
        </p:blipFill>
        <p:spPr>
          <a:xfrm>
            <a:off x="1994040" y="1173240"/>
            <a:ext cx="504972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5120" y="3686040"/>
            <a:ext cx="3057480" cy="723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3019320"/>
            <a:ext cx="847800" cy="4478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2981160"/>
            <a:ext cx="666720" cy="324000"/>
          </a:xfrm>
          <a:prstGeom prst="rect">
            <a:avLst/>
          </a:prstGeom>
          <a:noFill/>
          <a:ln w="38160">
            <a:solidFill>
              <a:srgbClr val="f8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34080" y="2095560"/>
            <a:ext cx="885960" cy="54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3440" y="2448000"/>
            <a:ext cx="876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09960" y="2114640"/>
            <a:ext cx="2390760" cy="5619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6960" y="1562040"/>
            <a:ext cx="800280" cy="31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104840"/>
            <a:ext cx="821052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Befehlsregister-Block: Prefetch-Queu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IFO-Speicher mit 32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efetch Steuerung sorgt für weitestmögliche Fü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üllung kann meist aus dem on-chip Cache über ein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128 Bit breiten Datenpfad erf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uß die Füllung jedoch aus dem Arbeitsspeich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folgen (Cache Miss), haben diese Zugriffe höchst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ior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ventuelle gleichzeitig auf den Bus auszugebende Dat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 in Schreibpuffern (write buffers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1152360"/>
            <a:ext cx="78868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Befehls-Vordeco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 der Prefetch-Queue gelangen die Befehl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 den Befehls-Vor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orbearbeitung der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rekt im Befehl angegebene Operande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unmittelbare Daten) sowie Adressdistanz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ffsets) werden abgezweigt und sepera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peich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19320"/>
            <a:ext cx="826776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Befehls-FIF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ordekodierte Befehle gelangen in 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fehls-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latz für 3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Befehls-Decoder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nimmt den obersten vordecodierten Befehl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 dem Befehls-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mittelt die Startadresse des zugehörig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680" y="1247760"/>
            <a:ext cx="80578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Mikrobefehls-Steuerung, Mikrobefehls-Spei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nchrones mikroprogrammiertes Schaltwerk, erzeugt die Steuersignale,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pretiert die Meldesig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Zeit-Steuerung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nchronisiert die erzeugten Steuersignale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euerwerk: Zusammenfass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960" y="1305000"/>
            <a:ext cx="8258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1409760"/>
            <a:ext cx="4089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t die System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Befehl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hält den ge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geführten Befe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ko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ikroprogrammi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d von den Statussign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flußt und erzeugt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aktgenerat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t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 externen Qu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stgelegten 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30720" y="1808280"/>
            <a:ext cx="3363840" cy="29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18240" y="1870200"/>
            <a:ext cx="3380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640" y="1422360"/>
            <a:ext cx="4749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ührt die vom Steuer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langten logischen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schen Operationen a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Status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iert 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uerwerk über den Ablau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 Ergebnisses (z. B. Car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flow, Zero, Sign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um Zwischenspeicher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nden und Ergebni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lf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Akkumulatore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h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00800" y="2098800"/>
            <a:ext cx="32036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360" y="1422360"/>
            <a:ext cx="84456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 Eingangsbusse ( 2 Operanden) und 1 Ausgangs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rgebnis). Sie entsprechen in der Breite dem inter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zessor-Bus und sind mit diesem verbu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ALU selbst ist ein reines Schalt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 die ALU sind Hilfsregister zur Zwischenspeich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n Operanden geschal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Ergebnisse werden entweder in Prozessor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n gespeichert, auf die Eingangsregister 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U zurückgeführt oder über den externen Daten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ndere Systemkomponent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ngänge zur Steuerung der ALU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0560" y="1409760"/>
            <a:ext cx="7950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de-Aus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 für den Status der abgelauf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(Carry, Overflow, Zero, Sign, ...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8 Bit Mikroprozessoren war das einzig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, das direkt Ergebnisse der ALU aufnehm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1.6-4" descr=""/>
          <p:cNvPicPr/>
          <p:nvPr/>
        </p:nvPicPr>
        <p:blipFill>
          <a:blip r:embed="rId1"/>
          <a:srcRect l="0" t="878" r="0" b="0"/>
          <a:stretch/>
        </p:blipFill>
        <p:spPr>
          <a:xfrm>
            <a:off x="5734080" y="1819440"/>
            <a:ext cx="3152880" cy="29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1960" y="11145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lf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Akkumulators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nter 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1200" y="262908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U-Oper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Veränderung des Akkumulator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38308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Haupsächlich in älteren 8-Bit- Prozessoren, bei denen auch die Adressberechnung in der ALU des Rechenwerkes durchgefüh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280" y="115236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B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Akkumulators.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kumulator wird in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istersatz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2921040"/>
            <a:ext cx="53625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Registersatzes können Akkumulator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neh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.6-5" descr=""/>
          <p:cNvPicPr/>
          <p:nvPr/>
        </p:nvPicPr>
        <p:blipFill>
          <a:blip r:embed="rId1"/>
          <a:stretch/>
        </p:blipFill>
        <p:spPr>
          <a:xfrm>
            <a:off x="5081760" y="1093680"/>
            <a:ext cx="3238200" cy="4459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280" y="572148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le modernen 16/32-Bit-Prozessoren nutzen dieses Konz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Aufbau des Rechenwer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0240" y="2184480"/>
            <a:ext cx="428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ist zweigeteilt, beste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 dem eigent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-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 einem nachgeschalt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fs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38600" y="1424160"/>
            <a:ext cx="4505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eitverhalten des Rechenwer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7840" y="1324080"/>
            <a:ext cx="8733960" cy="4260240"/>
            <a:chOff x="177840" y="1324080"/>
            <a:chExt cx="8733960" cy="4260240"/>
          </a:xfrm>
        </p:grpSpPr>
        <p:pic>
          <p:nvPicPr>
            <p:cNvPr id="155" name="1.6-3" descr=""/>
            <p:cNvPicPr/>
            <p:nvPr/>
          </p:nvPicPr>
          <p:blipFill>
            <a:blip r:embed="rId1"/>
            <a:stretch/>
          </p:blipFill>
          <p:spPr>
            <a:xfrm>
              <a:off x="2838240" y="1324080"/>
              <a:ext cx="6073560" cy="42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1.6-2" descr=""/>
            <p:cNvPicPr/>
            <p:nvPr/>
          </p:nvPicPr>
          <p:blipFill>
            <a:blip r:embed="rId2"/>
            <a:stretch/>
          </p:blipFill>
          <p:spPr>
            <a:xfrm>
              <a:off x="177840" y="1861200"/>
              <a:ext cx="2617200" cy="29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4800600" y="2409840"/>
            <a:ext cx="847800" cy="1219320"/>
            <a:chOff x="4800600" y="2409840"/>
            <a:chExt cx="847800" cy="1219320"/>
          </a:xfrm>
        </p:grpSpPr>
        <p:sp>
          <p:nvSpPr>
            <p:cNvPr id="158" name=""/>
            <p:cNvSpPr/>
            <p:nvPr/>
          </p:nvSpPr>
          <p:spPr>
            <a:xfrm>
              <a:off x="4857840" y="2409840"/>
              <a:ext cx="790560" cy="39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3228840"/>
              <a:ext cx="838080" cy="40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72480" y="2371680"/>
            <a:ext cx="46656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28640" y="32097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20040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47960" y="26859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7680" y="3505320"/>
            <a:ext cx="24732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8600" y="22478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2560" y="41432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05000" y="364824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7960" y="312408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62520" y="2819520"/>
            <a:ext cx="685800" cy="838080"/>
            <a:chOff x="5762520" y="2819520"/>
            <a:chExt cx="685800" cy="838080"/>
          </a:xfrm>
        </p:grpSpPr>
        <p:sp>
          <p:nvSpPr>
            <p:cNvPr id="170" name=""/>
            <p:cNvSpPr/>
            <p:nvPr/>
          </p:nvSpPr>
          <p:spPr>
            <a:xfrm>
              <a:off x="5762520" y="281952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81600" y="365760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Zeitverhalten des Rechenwer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28880"/>
            <a:ext cx="798840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ährend der positiven Takthälfte vo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egen auf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Ope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se werden mit der negativen Taktflanke in die Hilf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no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ach stehen diese auf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bil zur Verfüg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ALU berechnet in einer Ausführungszei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ahoma"/>
              </a:rPr>
              <a:t>AL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 Ergeb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ses Ergebnis wird mit der positiven Taktflanke in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kkumulator überno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ne Hilfsregister würden sich die während der ALU-Rechen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5480" y="4768920"/>
            <a:ext cx="7542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gebenden Schwankungen am Ausgang (Hasards, Wettläu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ort wieder auf den ALU-Eingang auswirk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in asynch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 mit allen bekannten Problemen und Fehl-Ergebn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ürde entst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960" y="1133640"/>
            <a:ext cx="8182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ynchrones Schal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liegt ein sog.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dynamisches Schaltwerk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v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. h. die Zustandsinformation ist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i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lipflops, sonder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densatoren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ndesttaktfrequenz ist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halb dieser Taktfrequenz gehen die Inhalte durch. Leckströme bereits vor dem nächsten Taktzyklus verl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Taktgenerat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i modernen Mikroprozessoren on Chip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it externem Quarz verbund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euerwerk" descr=""/>
          <p:cNvPicPr/>
          <p:nvPr/>
        </p:nvPicPr>
        <p:blipFill>
          <a:blip r:embed="rId1"/>
          <a:srcRect l="-1142" t="7115" r="0" b="0"/>
          <a:stretch/>
        </p:blipFill>
        <p:spPr>
          <a:xfrm>
            <a:off x="5808600" y="1160640"/>
            <a:ext cx="3335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Schiebe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2800" y="560232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1.6-8" descr=""/>
          <p:cNvPicPr/>
          <p:nvPr/>
        </p:nvPicPr>
        <p:blipFill>
          <a:blip r:embed="rId1"/>
          <a:stretch/>
        </p:blipFill>
        <p:spPr>
          <a:xfrm>
            <a:off x="4454640" y="1438200"/>
            <a:ext cx="4689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Rotations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1.6-9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284640" cy="50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1800" y="1152360"/>
            <a:ext cx="8782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1.6-6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89" name="Rechenwerk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5757840" y="3890880"/>
            <a:ext cx="2611440" cy="2205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883120" y="4251240"/>
            <a:ext cx="181008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857840" y="2952720"/>
            <a:ext cx="1288800" cy="13557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1209600"/>
            <a:ext cx="86486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Carry Flag(CF)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aus dem höchstwertigste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it bei Addition oder Subtraktion (Borrow)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sequentielle Addition und Subtraktion mit größerer Wortbreite is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Aux Carry (AF):</a:t>
            </a:r>
            <a:r>
              <a:rPr b="0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von Bit 3 in Bit 4 des Ergebnisses (BCD-Arithmet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Zero Flag (Z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der letzten Operation   gleich 0 war. (bedingte Programmverzweigungen, Zählschle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gn Flag (S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Zeigt an, dass das Ergebnis negativ ist (Most Significant Bit = 1). Spiegelt das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e Bit eines Operanden  wieder (bedingte Programmverzweig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verflow Flag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ereichsüberschreitung im Zweierko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en Flag (EV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eine gerade Zahl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Parity Flag (P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ignalisiert ungerade Parität des Ergebn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Tahoma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Tahoma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Prozessorstatuswort (PSW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9" name="prozessor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2560" y="1963800"/>
            <a:ext cx="5027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weiterung des Rechenwe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önnen dort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rer Zugriff als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92640" y="1362240"/>
            <a:ext cx="34336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2200" y="1074600"/>
            <a:ext cx="8411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rennte Ein-/Ausgänge   Dual Port Speicher, 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eiben eines Registers und gleichzeitiges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mehrere allgemeine Register schreiben und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 dynamische Speicherzell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b33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mit Zusatzfunk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krementieren/Dekrementieren/auf Null setzen/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6360" y="1251000"/>
            <a:ext cx="883764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Taktgenera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teuerwerk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Daten- und Adressregis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4880" y="1214280"/>
            <a:ext cx="76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en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modernen Prozessoren sind mehr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ess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ichern von Adressen (oder Teile davon) 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d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b"/>
                </a:solidFill>
                <a:latin typeface="Tahoma"/>
              </a:rPr>
              <a:t>Spezialregister (special purpose register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520" y="1316160"/>
            <a:ext cx="809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zur speziellen Verwend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z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uer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b33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für den Start von Interrupt-Behand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9b33"/>
                </a:solidFill>
                <a:latin typeface="Monotype Sorts"/>
                <a:ea typeface="Monotype Sorts"/>
              </a:rPr>
              <a:t></a:t>
            </a:r>
            <a:r>
              <a:rPr b="0" lang="en-US" sz="2400" spc="-1" strike="noStrike">
                <a:solidFill>
                  <a:srgbClr val="339b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regis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1.5-1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343160"/>
            <a:ext cx="8506080" cy="57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Nach dem Einschalten der Versorungsspannung wird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er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Kondensator C langsam über den Widerstand R aufgela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Zeitkonstante: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(10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* 20K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200 m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Nach Überschreiten vo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sz="23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am Reset-Eingang beginnt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ie Programmausführung mit dem Laden des ersten Befeh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urch Druck auf die Taste kan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über einen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Strombegrenzungs-Widerstand wieder entladen wer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62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manueller Re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Die Diode dient zum schnellen Entladen von </a:t>
            </a:r>
            <a:r>
              <a:rPr b="1" sz="2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 nach 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Tahoma"/>
              </a:rPr>
              <a:t>Abschaltung der Versorgungsspann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4120" y="2511360"/>
            <a:ext cx="80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.5-2" descr=""/>
          <p:cNvPicPr/>
          <p:nvPr/>
        </p:nvPicPr>
        <p:blipFill>
          <a:blip r:embed="rId1"/>
          <a:stretch/>
        </p:blipFill>
        <p:spPr>
          <a:xfrm>
            <a:off x="942840" y="4583160"/>
            <a:ext cx="6951960" cy="598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1520" y="5261040"/>
            <a:ext cx="875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 eines Mikrobefehls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krooperationen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uswahl- und Freigabesignale für die benötigt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teuerwerk" descr=""/>
          <p:cNvPicPr/>
          <p:nvPr/>
        </p:nvPicPr>
        <p:blipFill>
          <a:blip r:embed="rId2"/>
          <a:srcRect l="-1142" t="5558" r="0" b="0"/>
          <a:stretch/>
        </p:blipFill>
        <p:spPr>
          <a:xfrm>
            <a:off x="6275520" y="1089000"/>
            <a:ext cx="2868480" cy="212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1520" y="1457280"/>
            <a:ext cx="5067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 Festwertspeicher liegt fü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n Befehl ein Mikro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2320" y="39304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s Mikrobefehls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520" y="3257640"/>
            <a:ext cx="87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programm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Folge von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1658880"/>
            <a:ext cx="2601720" cy="3667680"/>
            <a:chOff x="304920" y="1658880"/>
            <a:chExt cx="2601720" cy="3667680"/>
          </a:xfrm>
        </p:grpSpPr>
        <p:pic>
          <p:nvPicPr>
            <p:cNvPr id="74" name="p0-1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939600" y="492768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281400" y="1660680"/>
            <a:ext cx="2601720" cy="3665880"/>
            <a:chOff x="3281400" y="1660680"/>
            <a:chExt cx="2601720" cy="3665880"/>
          </a:xfrm>
        </p:grpSpPr>
        <p:pic>
          <p:nvPicPr>
            <p:cNvPr id="77" name="p0-2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577320" y="49276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326280" y="1628640"/>
            <a:ext cx="2618280" cy="3697920"/>
            <a:chOff x="6326280" y="1628640"/>
            <a:chExt cx="2618280" cy="3697920"/>
          </a:xfrm>
        </p:grpSpPr>
        <p:pic>
          <p:nvPicPr>
            <p:cNvPr id="80" name="p0-4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360480" y="49276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InFeRnO</cp:lastModifiedBy>
  <cp:lastPrinted>2000-05-02T16:11:13Z</cp:lastPrinted>
  <dcterms:modified xsi:type="dcterms:W3CDTF">2003-10-19T11:34:15Z</dcterms:modified>
  <cp:revision>406</cp:revision>
  <dc:subject/>
  <dc:title>TI-2</dc:title>
</cp:coreProperties>
</file>