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DCD1-AEA0-4DE0-BB4B-7440D832AA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120" y="1181160"/>
            <a:ext cx="71010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Halb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leiter</a:t>
            </a:r>
            <a:r>
              <a:rPr b="1" sz="2400" spc="-1" strike="noStrike">
                <a:solidFill>
                  <a:srgbClr val="808080"/>
                </a:solidFill>
                <a:latin typeface="Arial"/>
              </a:rPr>
              <a:t>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cc66"/>
                </a:solidFill>
                <a:latin typeface="Arial"/>
              </a:rPr>
              <a:t>Aufbau und Organisation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echniken zur Zugriffsbeschleun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pei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Cach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irect Memory Acsses (D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Modularer Speicheraufba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680" y="1133640"/>
            <a:ext cx="80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wird oft auf mehrere Steckkarten verteil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über eine Grundplatine mit dem Systembus verbun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ind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rweiterbar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2280" y="5335560"/>
            <a:ext cx="81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stelle einer zentralen Adressauswahllogik ist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zentrale Adressauswahllogik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5320" y="2443320"/>
            <a:ext cx="5648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 eines Speichermodul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2440" y="1117440"/>
            <a:ext cx="83502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Typischer Aufbau einer Steckkar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76200" y="1155600"/>
            <a:ext cx="83152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-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7840" y="1093680"/>
            <a:ext cx="866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ingle Inline Pin Package (SIPP): Veralte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ingle Inline Memory Module (SIMM): PS/2-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00160" y="1790640"/>
            <a:ext cx="4770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2373480" y="4046400"/>
            <a:ext cx="4371840" cy="762120"/>
            <a:chOff x="2373480" y="4046400"/>
            <a:chExt cx="4371840" cy="762120"/>
          </a:xfrm>
        </p:grpSpPr>
        <p:sp>
          <p:nvSpPr>
            <p:cNvPr id="78" name=""/>
            <p:cNvSpPr/>
            <p:nvPr/>
          </p:nvSpPr>
          <p:spPr>
            <a:xfrm>
              <a:off x="2373480" y="4046400"/>
              <a:ext cx="4371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373480" y="4046400"/>
              <a:ext cx="4037040" cy="762120"/>
              <a:chOff x="2373480" y="4046400"/>
              <a:chExt cx="4037040" cy="762120"/>
            </a:xfrm>
          </p:grpSpPr>
          <p:sp>
            <p:nvSpPr>
              <p:cNvPr id="80" name=""/>
              <p:cNvSpPr/>
              <p:nvPr/>
            </p:nvSpPr>
            <p:spPr>
              <a:xfrm>
                <a:off x="2373480" y="4046400"/>
                <a:ext cx="4037040" cy="21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2373480" y="4046400"/>
                <a:ext cx="4037040" cy="762120"/>
                <a:chOff x="2373480" y="4046400"/>
                <a:chExt cx="4037040" cy="7621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2373480" y="4046400"/>
                  <a:ext cx="31291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" name=""/>
                <p:cNvGrpSpPr/>
                <p:nvPr/>
              </p:nvGrpSpPr>
              <p:grpSpPr>
                <a:xfrm>
                  <a:off x="2373480" y="4046400"/>
                  <a:ext cx="4037040" cy="762120"/>
                  <a:chOff x="2373480" y="4046400"/>
                  <a:chExt cx="4037040" cy="7621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2373480" y="4046400"/>
                    <a:ext cx="21430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2373480" y="4046400"/>
                    <a:ext cx="4037040" cy="762120"/>
                    <a:chOff x="2373480" y="4046400"/>
                    <a:chExt cx="4037040" cy="76212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2373480" y="4046400"/>
                      <a:ext cx="214308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2373480" y="4046400"/>
                      <a:ext cx="4037040" cy="762120"/>
                      <a:chOff x="2373480" y="4046400"/>
                      <a:chExt cx="4037040" cy="762120"/>
                    </a:xfrm>
                  </p:grpSpPr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2373480" y="4046400"/>
                        <a:ext cx="360" cy="3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2373480" y="4046400"/>
                        <a:ext cx="4037040" cy="762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90" name=""/>
          <p:cNvSpPr/>
          <p:nvPr/>
        </p:nvSpPr>
        <p:spPr>
          <a:xfrm>
            <a:off x="6067440" y="1940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IPP-Modul mit seinen 30 pin-förmigen Anschlüssen und einer Datenbreite von 8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63520" y="4287960"/>
            <a:ext cx="3919680" cy="1758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800680" y="4510080"/>
            <a:ext cx="29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IMM-Module in der 30- und 72-poligen Ausführung mit Datenbreiten von 8 und 32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-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7480" y="1093680"/>
            <a:ext cx="648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Dual Inline Memory Module (DIMM)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Rambus Inline Memory Modul (RI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82640" y="1827360"/>
            <a:ext cx="5583240" cy="1311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10320" y="185256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168-poligen DIMMs besitzen eine Datenbusbreite von 64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34920" y="4384800"/>
            <a:ext cx="5451480" cy="1390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613560" y="4417920"/>
            <a:ext cx="253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peichertechnologie von Intel.  400 bis 800 MHz sind möglich. Metallabdeckung  zur Kühlung der Rambus-D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440" y="1233360"/>
            <a:ext cx="87620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rbeitsspeicher von modernen Computer werden scho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lange nicht mehr wie zu Urzeiten der ersten IBM-PCs mi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zelnen DRAM-ICs bestückt. Seit längerem hat si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on die Zusammenfassung der einzelnen ICs au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eichermodulen durchgesetz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ortei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fache Realisierung von großen Datenbreiten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pazitäten durch Zusammenschaltung der einzelnen 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ät beim Handling des Speichers durch einfach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rüsten, Wechseln oder Weiterverwenden der Modu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3080" y="2951280"/>
            <a:ext cx="33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cc"/>
                </a:solidFill>
                <a:latin typeface="Arial"/>
              </a:rPr>
              <a:t>E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8880" y="152280"/>
            <a:ext cx="872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Organisation des 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Haupt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360" y="1362240"/>
            <a:ext cx="8315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uptspeich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eare Liste von Speicherwo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ebaut aus Speicherbaust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 hängt allein von der Art der verwende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bausteine 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reite des Arbeitsspeichers entspricht i.A.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eite des Datenbus (8, 16, 32, 64 Bit). Di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pricht der maximalen Informationsmeng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ie in einem Buszyklus zugegriffen wer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Organisation des 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rbeits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9680" y="1106640"/>
            <a:ext cx="824688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Prozessoren mit einer Datenbusbreite &gt; 8 Bit kann meist immer noch auf einzelne Bytes zugegriff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kapazität wird auch bei breiter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sformen in Bytes an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maximale Kapazität des Hauptspeichers ist durch die Breite des Adressbusses 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sche maximale Speicherkapazitä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8-Bit Prozessoren mit 16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4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-Bit Prozessoren mit 24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-Bit Prozessoren mit 32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 GBy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1520" y="1127160"/>
            <a:ext cx="77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ibt an, welche Speicherbausteine für welche Bereiche des Arbeitsspeichers verwendet w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1963800"/>
            <a:ext cx="85071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6280" y="1123920"/>
            <a:ext cx="843912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Beisp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ere Adress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M, z.B. für nicht-flüchtige Teile 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iebsystems (Bootstrap, B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O-Bereich (Prozessor mit memory-mapped 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ist dynamische RAM-Bausteine, da dies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ße Kapazität besitzen und billig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Sie sind auch lang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diesem Grund werden manchmal in klein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bereichen auch statische RAM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setzt, auf die ohne Wartezyklen zugegriff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k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" y="1193760"/>
            <a:ext cx="80931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peicherbreite kann über den Speicherberei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i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yte- und Breiten-Auswahl eines Speicherzugriff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lgt in der Regel über die niederwertigsten Adressbit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z.B. A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i 32 Bit Speicherbreite) sowie spezieller Wortbreite-Signale vom Mikr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belegungspläne werden häufiger noch feiner untergliedert, indem z.B. die genaue Lage von Betriebsystemtabellen im ROM-Bereich oder vo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äten im IO-Bereich angegeben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9680" y="1257480"/>
            <a:ext cx="8277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höherwertige Teil der Adresse dient über ei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auswahllogik zur Speicherbaustein-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S-Signale der Speicherbaust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wird i.A. auch die Zugriffsrichtung, Speicher- bzw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O-Zugriffe sowie eventuelle Wartezyklen ermitt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mittlere Teil der Adresse geht direkt an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ingänge der 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niederwertige Teil der Adresse dient zusammen mi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tbreiten-Signalen zur Wortauswahl innerhalb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br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81160" y="2219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115236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es Bytes, Worts oder Doppelworts in einem Speicherw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00320" y="2090880"/>
            <a:ext cx="6257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3800" y="1165320"/>
            <a:ext cx="80488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eres Wort: 32-Bit Wort, 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0 [Startbyte 0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0 [Wortbreite 32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leres Wort: 16-Bit Wort, un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Startbyte 1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Wortbreite 16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es Wort: 32-Bit Wort, unaligned (2 Speicherzugriffe nöti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Startbyte 1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00 [Wortbreite 32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7-11-14T08:27:03Z</dcterms:modified>
  <cp:revision>906</cp:revision>
  <dc:subject/>
  <dc:title>TI-2</dc:title>
</cp:coreProperties>
</file>