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6AE2-BB77-4B94-AA60-FDD75F688D2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99"/>
                </a:solidFill>
                <a:latin typeface="Arial"/>
              </a:rPr>
              <a:t>Pipeline-Konflikte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52320" y="1690560"/>
            <a:ext cx="781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einer gefüllten Pipeline wird pro Taktzyklus ein Befehl beend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gibt jedoch einige Gründe, die den Durchfluss durch die Pipeline hemmen bzw. verzögern. Man spricht von  </a:t>
            </a:r>
            <a:r>
              <a:rPr b="1" lang="de-DE" sz="2400" spc="-1" strike="noStrike">
                <a:solidFill>
                  <a:srgbClr val="4545ff"/>
                </a:solidFill>
                <a:latin typeface="Arial"/>
              </a:rPr>
              <a:t>Pipeline-Hemmni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se Verzögerungen entstehen durch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Daten-, Struktur- und Steuerflussabhängigk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WAR und WAW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95280" y="1104840"/>
            <a:ext cx="828684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atenkonflikte in einer Befehlfs-</a:t>
            </a: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Pipelin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5920" y="1147680"/>
            <a:ext cx="828648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ehlzuweisung durch einen Datenkonflik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880" y="1076400"/>
            <a:ext cx="829656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Lösungen für Datenkonflikt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85920" y="1081080"/>
            <a:ext cx="82962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Lösungen für Datenkonflikt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85920" y="1076400"/>
            <a:ext cx="828648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Lösungen für Datenkonflikt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71440" y="1076400"/>
            <a:ext cx="857268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Lösungen für Datenkonflikt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80880" y="1081080"/>
            <a:ext cx="82868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Hardware-Lösung durch Interlock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14360" y="1095480"/>
            <a:ext cx="826776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Hardware-Lösung durch </a:t>
            </a:r>
            <a:r>
              <a:rPr b="0" i="1" lang="de-DE" sz="3200" spc="-1" strike="noStrike">
                <a:solidFill>
                  <a:srgbClr val="000099"/>
                </a:solidFill>
                <a:latin typeface="Arial"/>
              </a:rPr>
              <a:t>Forward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85920" y="1085760"/>
            <a:ext cx="82962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Nicht alle Konflikte sind alleine durch </a:t>
            </a:r>
            <a:br>
              <a:rPr sz="2800"/>
            </a:b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Forwarding behebbar!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090440"/>
            <a:ext cx="82965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Drei Arten von Pipeline- Konflikt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5440" y="1081080"/>
            <a:ext cx="866628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Datenkonflikte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eten auf, wenn ein Operand ist in d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ipeline (noch) nicht verfügbar.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konflikte werden durch Daten-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hängigkeiten im im Befehlsstrom erzeug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Struktur-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Ressourcekonflikte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eten auf, wenn zwe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ipeline-Stufen dieselbe Ressou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e benötigen, auf diese aber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ur einmal zugegriffen werden kann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Steuerflusskonflik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treten bei Programmsteuerbefehlen auf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nn in Befehlsbereitstellungsphase die Zieladresse des al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ächstes auszuführenden Befehls noch nicht berechnet ist bzw.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nn im Falle eines bedigten Sprunges noch nicht klar ist, ob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haupt gesprungen wi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99"/>
                </a:solidFill>
                <a:latin typeface="Arial"/>
              </a:rPr>
              <a:t>Forwarding</a:t>
            </a: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-Techniken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0600" y="1085760"/>
            <a:ext cx="82868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99"/>
                </a:solidFill>
                <a:latin typeface="Arial"/>
              </a:rPr>
              <a:t>Forwarding Techniken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11080" y="1488960"/>
            <a:ext cx="73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rdware – Aufw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warding – Logik und zusätzliche Datenpf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3840" y="3162240"/>
            <a:ext cx="82296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99"/>
                </a:solidFill>
                <a:latin typeface="Arial"/>
              </a:rPr>
              <a:t>ENDE - 7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99"/>
                </a:solidFill>
                <a:latin typeface="Arial"/>
              </a:rPr>
              <a:t>Pipeline-Hemmnisse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9280" y="1252440"/>
            <a:ext cx="8231040" cy="48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58880"/>
                <a:tab algn="l" pos="1224000"/>
                <a:tab algn="l" pos="2448000"/>
                <a:tab algn="l" pos="3672000"/>
                <a:tab algn="l" pos="4896000"/>
                <a:tab algn="l" pos="6119640"/>
                <a:tab algn="l" pos="7343640"/>
                <a:tab algn="l" pos="8567640"/>
                <a:tab algn="l" pos="97916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infachstes Beispi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758880"/>
                <a:tab algn="l" pos="1224000"/>
                <a:tab algn="l" pos="2448000"/>
                <a:tab algn="l" pos="3672000"/>
                <a:tab algn="l" pos="4896000"/>
                <a:tab algn="l" pos="6119640"/>
                <a:tab algn="l" pos="7343640"/>
                <a:tab algn="l" pos="8567640"/>
                <a:tab algn="l" pos="97916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rbeitsspeicher ist in der Regel viel langsamer als der Prozess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758880"/>
                <a:tab algn="l" pos="1224000"/>
                <a:tab algn="l" pos="2448000"/>
                <a:tab algn="l" pos="3672000"/>
                <a:tab algn="l" pos="4896000"/>
                <a:tab algn="l" pos="6119640"/>
                <a:tab algn="l" pos="7343640"/>
                <a:tab algn="l" pos="8567640"/>
                <a:tab algn="l" pos="9791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58880"/>
                <a:tab algn="l" pos="1224000"/>
                <a:tab algn="l" pos="2448000"/>
                <a:tab algn="l" pos="3672000"/>
                <a:tab algn="l" pos="4896000"/>
                <a:tab algn="l" pos="6119640"/>
                <a:tab algn="l" pos="7343640"/>
                <a:tab algn="l" pos="8567640"/>
                <a:tab algn="l" pos="97916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ht ein für einen LOAD-Befehl benötigtes Datum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im Cache, sondern muss aus dem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beitsspeicher geholt werden, werden mehrer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aktzyklen für den Speicherzugriff benöti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58880"/>
                <a:tab algn="l" pos="1224000"/>
                <a:tab algn="l" pos="2448000"/>
                <a:tab algn="l" pos="3672000"/>
                <a:tab algn="l" pos="4896000"/>
                <a:tab algn="l" pos="6119640"/>
                <a:tab algn="l" pos="7343640"/>
                <a:tab algn="l" pos="8567640"/>
                <a:tab algn="l" pos="97916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 Datum steht zur Ausführphase nicht zu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fü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758880"/>
                <a:tab algn="l" pos="1224000"/>
                <a:tab algn="l" pos="2448000"/>
                <a:tab algn="l" pos="3672000"/>
                <a:tab algn="l" pos="4896000"/>
                <a:tab algn="l" pos="6119640"/>
                <a:tab algn="l" pos="7343640"/>
                <a:tab algn="l" pos="8567640"/>
                <a:tab algn="l" pos="9791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8880"/>
                <a:tab algn="l" pos="1224000"/>
                <a:tab algn="l" pos="2448000"/>
                <a:tab algn="l" pos="3672000"/>
                <a:tab algn="l" pos="4896000"/>
                <a:tab algn="l" pos="6119640"/>
                <a:tab algn="l" pos="7343640"/>
                <a:tab algn="l" pos="8567640"/>
                <a:tab algn="l" pos="97916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ösung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758880"/>
                <a:tab algn="l" pos="1224000"/>
                <a:tab algn="l" pos="2448000"/>
                <a:tab algn="l" pos="3672000"/>
                <a:tab algn="l" pos="4896000"/>
                <a:tab algn="l" pos="6119640"/>
                <a:tab algn="l" pos="7343640"/>
                <a:tab algn="l" pos="8567640"/>
                <a:tab algn="l" pos="97916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halten der Pipeline (Hardware-Interlocking), bis die  Daten verfügbar s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Beispiel: vierstufige Befehlspipelin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7120" y="120960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ardware Interlo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825560" y="1822320"/>
            <a:ext cx="5070600" cy="463680"/>
            <a:chOff x="1825560" y="1822320"/>
            <a:chExt cx="5070600" cy="463680"/>
          </a:xfrm>
        </p:grpSpPr>
        <p:sp>
          <p:nvSpPr>
            <p:cNvPr id="122" name=""/>
            <p:cNvSpPr/>
            <p:nvPr/>
          </p:nvSpPr>
          <p:spPr>
            <a:xfrm>
              <a:off x="1825560" y="1822320"/>
              <a:ext cx="1257480" cy="4636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39040" y="1822320"/>
              <a:ext cx="1257120" cy="4636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97440" y="1822320"/>
              <a:ext cx="1257120" cy="46368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67160" y="1822320"/>
              <a:ext cx="1258920" cy="46368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835280" y="2443320"/>
            <a:ext cx="6400080" cy="3382920"/>
            <a:chOff x="1835280" y="2443320"/>
            <a:chExt cx="6400080" cy="3382920"/>
          </a:xfrm>
        </p:grpSpPr>
        <p:grpSp>
          <p:nvGrpSpPr>
            <p:cNvPr id="127" name=""/>
            <p:cNvGrpSpPr/>
            <p:nvPr/>
          </p:nvGrpSpPr>
          <p:grpSpPr>
            <a:xfrm>
              <a:off x="1835280" y="2443320"/>
              <a:ext cx="5070240" cy="367920"/>
              <a:chOff x="1835280" y="2443320"/>
              <a:chExt cx="5070240" cy="367920"/>
            </a:xfrm>
          </p:grpSpPr>
          <p:sp>
            <p:nvSpPr>
              <p:cNvPr id="128" name=""/>
              <p:cNvSpPr/>
              <p:nvPr/>
            </p:nvSpPr>
            <p:spPr>
              <a:xfrm>
                <a:off x="1835280" y="2443320"/>
                <a:ext cx="1257120" cy="36792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LOAD</a:t>
                </a: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	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648400" y="2443320"/>
                <a:ext cx="1257120" cy="36792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106800" y="2443320"/>
                <a:ext cx="1257120" cy="36792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376520" y="2443320"/>
                <a:ext cx="1258920" cy="367920"/>
              </a:xfrm>
              <a:prstGeom prst="rect">
                <a:avLst/>
              </a:prstGeom>
              <a:solidFill>
                <a:srgbClr val="99cc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1835280" y="2865600"/>
              <a:ext cx="5069880" cy="369360"/>
              <a:chOff x="1835280" y="2865600"/>
              <a:chExt cx="5069880" cy="369360"/>
            </a:xfrm>
          </p:grpSpPr>
          <p:sp>
            <p:nvSpPr>
              <p:cNvPr id="133" name=""/>
              <p:cNvSpPr/>
              <p:nvPr/>
            </p:nvSpPr>
            <p:spPr>
              <a:xfrm>
                <a:off x="1835280" y="2865600"/>
                <a:ext cx="1256760" cy="36936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Befehl 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648040" y="2865600"/>
                <a:ext cx="1257120" cy="36936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106440" y="2865600"/>
                <a:ext cx="1257120" cy="36936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LOA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376520" y="2865600"/>
                <a:ext cx="1258560" cy="369360"/>
              </a:xfrm>
              <a:prstGeom prst="rect">
                <a:avLst/>
              </a:prstGeom>
              <a:solidFill>
                <a:srgbClr val="99cc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1835280" y="3288960"/>
              <a:ext cx="5069880" cy="368280"/>
              <a:chOff x="1835280" y="3288960"/>
              <a:chExt cx="5069880" cy="368280"/>
            </a:xfrm>
          </p:grpSpPr>
          <p:sp>
            <p:nvSpPr>
              <p:cNvPr id="138" name=""/>
              <p:cNvSpPr/>
              <p:nvPr/>
            </p:nvSpPr>
            <p:spPr>
              <a:xfrm>
                <a:off x="1835280" y="3288960"/>
                <a:ext cx="1256760" cy="36828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    </a:t>
                </a: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xx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648040" y="3288960"/>
                <a:ext cx="1257120" cy="36828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106440" y="3288960"/>
                <a:ext cx="1257120" cy="36828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Befehl 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76520" y="3288960"/>
                <a:ext cx="1258560" cy="368280"/>
              </a:xfrm>
              <a:prstGeom prst="rect">
                <a:avLst/>
              </a:prstGeom>
              <a:solidFill>
                <a:srgbClr val="99cc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LOA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1835280" y="3720600"/>
              <a:ext cx="5069880" cy="369360"/>
              <a:chOff x="1835280" y="3720600"/>
              <a:chExt cx="5069880" cy="369360"/>
            </a:xfrm>
          </p:grpSpPr>
          <p:sp>
            <p:nvSpPr>
              <p:cNvPr id="143" name=""/>
              <p:cNvSpPr/>
              <p:nvPr/>
            </p:nvSpPr>
            <p:spPr>
              <a:xfrm>
                <a:off x="1835280" y="3720600"/>
                <a:ext cx="1257120" cy="36936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    </a:t>
                </a: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xx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648400" y="3720600"/>
                <a:ext cx="1256760" cy="36936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106800" y="3720600"/>
                <a:ext cx="1256760" cy="36936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Befehl 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376520" y="3720600"/>
                <a:ext cx="1258560" cy="369360"/>
              </a:xfrm>
              <a:prstGeom prst="rect">
                <a:avLst/>
              </a:prstGeom>
              <a:solidFill>
                <a:srgbClr val="99cc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LOA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1835280" y="4150080"/>
              <a:ext cx="5070240" cy="369360"/>
              <a:chOff x="1835280" y="4150080"/>
              <a:chExt cx="5070240" cy="369360"/>
            </a:xfrm>
          </p:grpSpPr>
          <p:sp>
            <p:nvSpPr>
              <p:cNvPr id="148" name=""/>
              <p:cNvSpPr/>
              <p:nvPr/>
            </p:nvSpPr>
            <p:spPr>
              <a:xfrm>
                <a:off x="1835280" y="4150080"/>
                <a:ext cx="1257120" cy="36936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    </a:t>
                </a: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xx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648400" y="4150080"/>
                <a:ext cx="1257120" cy="36936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106800" y="4150080"/>
                <a:ext cx="1257120" cy="36936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Befehl 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376880" y="4150080"/>
                <a:ext cx="1258920" cy="369360"/>
              </a:xfrm>
              <a:prstGeom prst="rect">
                <a:avLst/>
              </a:prstGeom>
              <a:solidFill>
                <a:srgbClr val="99cc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LOA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1835280" y="4580280"/>
              <a:ext cx="1257120" cy="3682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Befeh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48400" y="4580280"/>
              <a:ext cx="1257120" cy="3682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 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-- -- -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06800" y="4580280"/>
              <a:ext cx="1257120" cy="36828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Befeh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76880" y="4580280"/>
              <a:ext cx="1258920" cy="36828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-- -- -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35280" y="5019120"/>
              <a:ext cx="1257120" cy="3679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Befehl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48400" y="5019120"/>
              <a:ext cx="1257120" cy="3679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 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-- -- -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06800" y="5019120"/>
              <a:ext cx="1257120" cy="36792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Befeh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376880" y="5019120"/>
              <a:ext cx="1258920" cy="36792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Befeh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210440" y="3906720"/>
              <a:ext cx="10249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0000"/>
                  </a:solidFill>
                  <a:latin typeface="Arial"/>
                </a:rPr>
                <a:t>Pipeline</a:t>
              </a:r>
              <a:br>
                <a:rPr sz="1600"/>
              </a:br>
              <a:r>
                <a:rPr b="1" lang="de-DE" sz="1600" spc="-1" strike="noStrike">
                  <a:solidFill>
                    <a:srgbClr val="ff0000"/>
                  </a:solidFill>
                  <a:latin typeface="Arial"/>
                </a:rPr>
                <a:t>blockie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1835280" y="5457960"/>
              <a:ext cx="5070240" cy="368280"/>
              <a:chOff x="1835280" y="5457960"/>
              <a:chExt cx="5070240" cy="368280"/>
            </a:xfrm>
          </p:grpSpPr>
          <p:sp>
            <p:nvSpPr>
              <p:cNvPr id="162" name=""/>
              <p:cNvSpPr/>
              <p:nvPr/>
            </p:nvSpPr>
            <p:spPr>
              <a:xfrm>
                <a:off x="1835280" y="5457960"/>
                <a:ext cx="1257120" cy="36828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Befehl 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648400" y="5457960"/>
                <a:ext cx="1257120" cy="36828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 </a:t>
                </a: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Befehl 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106800" y="5457960"/>
                <a:ext cx="1257120" cy="36828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Befehl 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376880" y="5457960"/>
                <a:ext cx="1258920" cy="368280"/>
              </a:xfrm>
              <a:prstGeom prst="rect">
                <a:avLst/>
              </a:prstGeom>
              <a:solidFill>
                <a:srgbClr val="99cc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  </a:t>
                </a: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Befehl 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943680" y="3717720"/>
              <a:ext cx="228600" cy="8017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0880 h 801720"/>
                <a:gd name="textAreaBottom" fmla="*/ 780840 h 80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592"/>
                  </a:lnTo>
                  <a:cubicBezTo>
                    <a:pt x="10800" y="9492"/>
                    <a:pt x="16200" y="10392"/>
                    <a:pt x="21600" y="10392"/>
                  </a:cubicBezTo>
                  <a:cubicBezTo>
                    <a:pt x="16200" y="10392"/>
                    <a:pt x="10800" y="11292"/>
                    <a:pt x="10800" y="12192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306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Pipline-Hemmnisse durch Datenkonflikt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6560" y="1295280"/>
            <a:ext cx="7932960" cy="45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SzPct val="75000"/>
              <a:buFont typeface="Monotype Sorts" charset="2"/>
              <a:buChar char=""/>
              <a:tabLst>
                <a:tab algn="l" pos="378000"/>
                <a:tab algn="l" pos="1709640"/>
                <a:tab algn="l" pos="4097160"/>
                <a:tab algn="l" pos="467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ch einem Ladebefehl kann der geladene Wert nich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den direkt darauffolgenden Befehl im nächst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akt zur Verfügung stehen (voriges Beispiel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SzPct val="75000"/>
              <a:buFont typeface="Monotype Sorts" charset="2"/>
              <a:buChar char=""/>
              <a:tabLst>
                <a:tab algn="l" pos="378000"/>
                <a:tab algn="l" pos="1709640"/>
                <a:tab algn="l" pos="4097160"/>
                <a:tab algn="l" pos="467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lls ein Befehl das Resultat des direkt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gängerbefehls benötigt, muss gewarte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378000"/>
                <a:tab algn="l" pos="1709640"/>
                <a:tab algn="l" pos="4097160"/>
                <a:tab algn="l" pos="467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78000"/>
                <a:tab algn="l" pos="1709640"/>
                <a:tab algn="l" pos="4097160"/>
                <a:tab algn="l" pos="467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ispiel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78000"/>
                <a:tab algn="l" pos="1709640"/>
                <a:tab algn="l" pos="4097160"/>
                <a:tab algn="l" pos="467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ADD R1,R2,</a:t>
            </a:r>
            <a:r>
              <a:rPr b="1" lang="de-DE" sz="2400" spc="-1" strike="noStrike">
                <a:solidFill>
                  <a:srgbClr val="0000cc"/>
                </a:solidFill>
                <a:latin typeface="Courier New"/>
              </a:rPr>
              <a:t>R1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cc"/>
                </a:solidFill>
                <a:latin typeface="Courier New"/>
              </a:rPr>
              <a:t>R1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:=R1+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378000"/>
                <a:tab algn="l" pos="1709640"/>
                <a:tab algn="l" pos="4097160"/>
                <a:tab algn="l" pos="467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ADD R3,</a:t>
            </a:r>
            <a:r>
              <a:rPr b="1" lang="de-DE" sz="2400" spc="-1" strike="noStrike">
                <a:solidFill>
                  <a:srgbClr val="0000cc"/>
                </a:solidFill>
                <a:latin typeface="Courier New"/>
              </a:rPr>
              <a:t>R1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,R3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R3:=R3+</a:t>
            </a:r>
            <a:r>
              <a:rPr b="1" lang="de-DE" sz="2400" spc="-1" strike="noStrike">
                <a:solidFill>
                  <a:srgbClr val="0000cc"/>
                </a:solidFill>
                <a:latin typeface="Courier New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Datenabhängigkeit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80" y="1057320"/>
            <a:ext cx="8286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Datenabhängigkeit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880" y="1076400"/>
            <a:ext cx="82868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Datenabhängigkeit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9960" y="1071720"/>
            <a:ext cx="826776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Klassifizierung von Datenabhängigkeit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21040" y="1298520"/>
            <a:ext cx="6730920" cy="50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True 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Anti 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Output 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88000" y="1766880"/>
            <a:ext cx="0" cy="100476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82960" y="3224160"/>
            <a:ext cx="0" cy="100512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84760" y="4684680"/>
            <a:ext cx="0" cy="1004760"/>
          </a:xfrm>
          <a:prstGeom prst="line">
            <a:avLst/>
          </a:prstGeom>
          <a:ln w="28440">
            <a:solidFill>
              <a:srgbClr val="00ba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02280" y="3216240"/>
            <a:ext cx="404640" cy="2503440"/>
          </a:xfrm>
          <a:custGeom>
            <a:avLst/>
            <a:gdLst/>
            <a:ahLst/>
            <a:rect l="l" t="t" r="r" b="b"/>
            <a:pathLst>
              <a:path w="601" h="1800">
                <a:moveTo>
                  <a:pt x="600" y="0"/>
                </a:moveTo>
                <a:lnTo>
                  <a:pt x="0" y="452"/>
                </a:lnTo>
                <a:lnTo>
                  <a:pt x="0" y="896"/>
                </a:lnTo>
                <a:lnTo>
                  <a:pt x="0" y="1373"/>
                </a:lnTo>
                <a:lnTo>
                  <a:pt x="601" y="1800"/>
                </a:lnTo>
              </a:path>
            </a:pathLst>
          </a:custGeom>
          <a:noFill/>
          <a:ln w="2844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2360" y="1432080"/>
            <a:ext cx="2833560" cy="19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312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ADD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R2,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312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ADD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R4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R1,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312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MULT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R3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R5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312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MULT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R3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R6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306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Datenkonflikt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6560" y="1295280"/>
            <a:ext cx="79329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SzPct val="75000"/>
              <a:buFont typeface="Monotype Sorts" charset="2"/>
              <a:buChar char=""/>
              <a:tabLst>
                <a:tab algn="l" pos="378000"/>
                <a:tab algn="l" pos="1709640"/>
                <a:tab algn="l" pos="4097160"/>
                <a:tab algn="l" pos="467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merk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78000"/>
                <a:tab algn="l" pos="1709640"/>
                <a:tab algn="l" pos="4097160"/>
                <a:tab algn="l" pos="467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genabhängigkeit und Ausgabeabhängigkeiten werden häufig auch </a:t>
            </a:r>
            <a:r>
              <a:rPr b="0" lang="de-DE" sz="2400" spc="-1" strike="noStrike">
                <a:solidFill>
                  <a:srgbClr val="4545ff"/>
                </a:solidFill>
                <a:latin typeface="Arial"/>
              </a:rPr>
              <a:t>falsche Datenabhängigkeit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oder entsprechend dem englischen Begriff – “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Name Dependency“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4545ff"/>
                </a:solidFill>
                <a:latin typeface="Arial"/>
              </a:rPr>
              <a:t>Namensabhängigkei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enant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78000"/>
                <a:tab algn="l" pos="1709640"/>
                <a:tab algn="l" pos="4097160"/>
                <a:tab algn="l" pos="467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78000"/>
                <a:tab algn="l" pos="1709640"/>
                <a:tab algn="l" pos="4097160"/>
                <a:tab algn="l" pos="467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99"/>
                </a:solidFill>
                <a:latin typeface="Arial"/>
              </a:rPr>
              <a:t>Definitionen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1200240"/>
            <a:ext cx="846756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Lese-nach-Schreibe-Konflikt 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(read after write,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RAW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Wird durch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chte Abhängigkei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verursac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Schreibe-nach-Lese-Konflikt 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(write after read,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WAR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Wird durch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Gegenabhängigkei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verursacht. Tritt dan auf, wenn in einer Pipeline die Schreibestufe der Lesestufe   vorange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Schreibe-nach-Schreibe-Konflikt 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(write after write,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WAW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Wird durch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usgabeabhängigkei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verursacht.Tritt in Pipelines auf, die mehr als in einer Stufe schreiben, oder es erlauben, dass die Ausführung eines Befehls fortgesetzt werden darf, wenn ein vorhergehender Befehl angehalten worden 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Lese-nach-Schreibe-Konflikt (True Dependence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4880" y="4224240"/>
            <a:ext cx="85312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Orientiert man sich an den Phasen der Befehlsausführung einer fünfstufigen Befehlspipeline, so erkennt man, dass die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Operanden-Holphase des zweiten Befehls zeitlich vor der Operanden-Speicherungsphase des ersten Befehls lieg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ine Pipeline-Verzögerung ist erforderli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17480" y="1859040"/>
            <a:ext cx="5352840" cy="430200"/>
            <a:chOff x="717480" y="1859040"/>
            <a:chExt cx="5352840" cy="430200"/>
          </a:xfrm>
        </p:grpSpPr>
        <p:sp>
          <p:nvSpPr>
            <p:cNvPr id="68" name=""/>
            <p:cNvSpPr/>
            <p:nvPr/>
          </p:nvSpPr>
          <p:spPr>
            <a:xfrm>
              <a:off x="717480" y="1859040"/>
              <a:ext cx="1061280" cy="430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36240" y="1859040"/>
              <a:ext cx="1061280" cy="430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09040" y="1859040"/>
              <a:ext cx="1061280" cy="430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perand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90280" y="1859040"/>
              <a:ext cx="1061280" cy="430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863080" y="1859040"/>
              <a:ext cx="1061280" cy="430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perand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763560" y="1525680"/>
            <a:ext cx="101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. Befe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79480" y="2633760"/>
            <a:ext cx="1062000" cy="43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fehl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52640" y="2633760"/>
            <a:ext cx="1060560" cy="43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fehl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kodier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145120" y="2633760"/>
            <a:ext cx="3206520" cy="430200"/>
            <a:chOff x="5145120" y="2633760"/>
            <a:chExt cx="3206520" cy="430200"/>
          </a:xfrm>
        </p:grpSpPr>
        <p:sp>
          <p:nvSpPr>
            <p:cNvPr id="77" name=""/>
            <p:cNvSpPr/>
            <p:nvPr/>
          </p:nvSpPr>
          <p:spPr>
            <a:xfrm>
              <a:off x="6217920" y="2633760"/>
              <a:ext cx="1061280" cy="430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290360" y="2633760"/>
              <a:ext cx="1061280" cy="430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perand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45120" y="2633760"/>
              <a:ext cx="1061280" cy="430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perand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1704960" y="233856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. Befe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07080" y="1241280"/>
            <a:ext cx="1462320" cy="4194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92600" y="1657440"/>
            <a:ext cx="2754360" cy="1226880"/>
          </a:xfrm>
          <a:custGeom>
            <a:avLst/>
            <a:gdLst/>
            <a:ahLst/>
            <a:rect l="l" t="t" r="r" b="b"/>
            <a:pathLst>
              <a:path w="1735" h="773">
                <a:moveTo>
                  <a:pt x="1676" y="0"/>
                </a:moveTo>
                <a:cubicBezTo>
                  <a:pt x="1646" y="74"/>
                  <a:pt x="1735" y="358"/>
                  <a:pt x="1496" y="444"/>
                </a:cubicBezTo>
                <a:cubicBezTo>
                  <a:pt x="1257" y="530"/>
                  <a:pt x="484" y="480"/>
                  <a:pt x="242" y="516"/>
                </a:cubicBezTo>
                <a:cubicBezTo>
                  <a:pt x="0" y="552"/>
                  <a:pt x="65" y="620"/>
                  <a:pt x="44" y="660"/>
                </a:cubicBezTo>
                <a:cubicBezTo>
                  <a:pt x="23" y="700"/>
                  <a:pt x="77" y="739"/>
                  <a:pt x="116" y="756"/>
                </a:cubicBezTo>
                <a:cubicBezTo>
                  <a:pt x="155" y="773"/>
                  <a:pt x="244" y="759"/>
                  <a:pt x="278" y="760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0680" y="1415880"/>
            <a:ext cx="539640" cy="677880"/>
          </a:xfrm>
          <a:custGeom>
            <a:avLst/>
            <a:gdLst/>
            <a:ahLst/>
            <a:rect l="l" t="t" r="r" b="b"/>
            <a:pathLst>
              <a:path w="340" h="427">
                <a:moveTo>
                  <a:pt x="0" y="411"/>
                </a:moveTo>
                <a:cubicBezTo>
                  <a:pt x="25" y="404"/>
                  <a:pt x="120" y="427"/>
                  <a:pt x="148" y="368"/>
                </a:cubicBezTo>
                <a:cubicBezTo>
                  <a:pt x="176" y="309"/>
                  <a:pt x="134" y="112"/>
                  <a:pt x="166" y="56"/>
                </a:cubicBezTo>
                <a:cubicBezTo>
                  <a:pt x="198" y="0"/>
                  <a:pt x="304" y="37"/>
                  <a:pt x="340" y="32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9800" y="3303720"/>
            <a:ext cx="7994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02040" y="3216240"/>
            <a:ext cx="0" cy="23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56280" y="3206880"/>
            <a:ext cx="0" cy="23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11480" y="3411360"/>
            <a:ext cx="7794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178240" y="3411360"/>
            <a:ext cx="7794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62480" y="3521160"/>
            <a:ext cx="28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Pipeline - Verzöge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19920" y="330372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laden Milushev</cp:lastModifiedBy>
  <cp:lastPrinted>2000-05-02T16:11:13Z</cp:lastPrinted>
  <dcterms:modified xsi:type="dcterms:W3CDTF">2004-11-04T06:29:12Z</dcterms:modified>
  <cp:revision>810</cp:revision>
  <dc:subject/>
  <dc:title>TI-2</dc:title>
</cp:coreProperties>
</file>