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2D9F-7E20-4B0D-8A09-50921C6937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8120" y="1133640"/>
            <a:ext cx="79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ei Techniken zur Implementierung von Befe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 Rech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kt durch Hardwar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ufwendi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haltnetz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 Schaltwerke bei größ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zahl v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ehlen (200-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roprogramme als Befehlsinterpret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kroprogrammspeic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 Steuerwerk, 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 geladen werden kan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rschied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ehlssätze können implementier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880" y="271440"/>
            <a:ext cx="88851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: Complete Instruction Set Compu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000" y="1236600"/>
            <a:ext cx="85899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Grenzen der Weiterentwicklungsmöglichkeiten bei CISC-Rechner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437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nellere Speich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usnutzung nur eines Teils des Maschinen-Befehlssatz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rsetzung komplexer Maschinenbefehle durch mehrere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infache Maschinenbefeh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Verlängerte Entwurfszei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ehr komplexe Steuerwerke (&gt; 50% der Chipfläch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ehr umfangreiche Mikroprogram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rößere Fehlerhäufigkeit auf der Mikroprogrammebe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spcBef>
                <a:spcPts val="115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wieriger Compilerba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: Complete Instruction Set Compu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276200"/>
            <a:ext cx="839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Enstehungsgründe für umfangreiche Maschinenbefehlssätz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windigkeitsunterschied zwischen CPU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höherer Programmierspr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wärtskompati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800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RISC (reduced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9680" y="1065240"/>
            <a:ext cx="8001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prinzip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 benutzte einfache Befehle so schnell wie mög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en (Ausführung möglichst in einer Taktphase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Mikroprogrammie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, Befehls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größte Teil der Arbeit soll durch optimierend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iler zur Übersetzungszeit erledig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nden werden nach Möglichkeit in groß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ätzen gehalt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neller Zugriff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Ver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 Befehlsforma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Decod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ing anwenden, so gut es g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17520"/>
            <a:ext cx="833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c"/>
                </a:solidFill>
                <a:latin typeface="Arial"/>
              </a:rPr>
              <a:t>RISC (reduced instruction set compu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9960" y="1219320"/>
            <a:ext cx="828684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urfsz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4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jedes Befehls in einem Taktzyk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Befehl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isheriger Mikrobefehl bei CISC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Befehle gleich la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odierschaltung wird einf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e länger, aber Ausführungszeit kür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Load-Store und Register-Register-Befeh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er Adressierungsarten 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prozessorarchitektur für komplexe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Zielvorstellungen für RISC-Rechne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4040" y="1162080"/>
            <a:ext cx="74484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-Zyklus-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Befehls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e Maschinen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ad/Store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Regist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zicht auf 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-Bit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-gerechter Maschinenbefehlssatz (glei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ausführzei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Unterstützung für Betriebssystem u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tkomma-Arithme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Forderungen an RISC-System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0520" y="1241280"/>
            <a:ext cx="802296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ndestens 75% aller Befehle sind Ein-Zyklus-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 Länge aller Befehle entsprechend d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usbr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128 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4 Befehlsfor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als 4 Adressierungs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ad/Store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verdrahtete Steuereinheit, kei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ndestens 32 allgemein verwendbare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305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: Complete Instruction Set Compu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276200"/>
            <a:ext cx="83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7680" y="1305000"/>
            <a:ext cx="81342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RISC-Rechner aus heutiger Sich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440" y="1406520"/>
            <a:ext cx="767232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blieben ist von der RISC-Idee 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sentli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Befehls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Load/Store-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großer Registersatz: 32 allgemeine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 Gleitpunkt-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einheitliches Befehlsformat von 32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erwendung weniger Adressierungs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1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Verzicht auf Mikroprogram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2743" t="5897" r="6217" b="1326"/>
          <a:stretch/>
        </p:blipFill>
        <p:spPr>
          <a:xfrm>
            <a:off x="3460680" y="0"/>
            <a:ext cx="5683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6760" y="2290680"/>
            <a:ext cx="32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RISC-Prozess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0201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Aufbau eines RISC-Prozess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8200" y="1444680"/>
            <a:ext cx="816768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busschnittstell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hält Registerblocks sowohl für Daten als auch für Adressen (gleichzeitiges Lesen eines Datums und Zwischenspeichern eines Ergebni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Programmzähler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st manchmal als Hardware-Stack ausgebildet (beschleunigt Unterprogrammaufru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0560" y="1243080"/>
            <a:ext cx="8088480" cy="43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von-Neumman-Konnze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e und Daten liegen im selben Arbeitsspeich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is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4545ff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nur ein Arbeitsspeicher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(niedrigere Kos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nur ein Bus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vard Architek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trennter Programm- und Datenspeicher, deshalb zwei Adress- und Datenbu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aralleles Holen von Operanden und Instru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1000" y="291600"/>
            <a:ext cx="87346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Aufbau eines RISC-Prozess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960" y="1073160"/>
            <a:ext cx="840924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euer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verdrah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Befehlsregister als Warteschlange (FIFO) realis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jede Pipeline-Stufe ist dort ein Register vorha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OpCodes jeder Stufe können vom Schaltnetz d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werks ausgewerte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gistersat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einer großen Zahl von Regis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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laubt gleichzeitige Auswahl von 3 bis 4 Regist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z.B. 4 Port Registersatz, gleichzeitiges Schreib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0, E1) und Lesen (A0, A1) von jeweils 2 Registe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2840" y="291960"/>
            <a:ext cx="88203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Unterschiede zwischen RISC- und CISC-Prozessor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840" y="1330200"/>
            <a:ext cx="854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6200" y="1171440"/>
            <a:ext cx="837720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chen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tzt eine Load/Store-Architektur. Die Operanden werden über 2 Operandenbusse aus dem Registersatz herbeigeführt, das Ergebnis (noch im selben Taktzyklus) über den Ergebnisbus in den Registersatz geschri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rmalerweise gibt es keine direkte Verbindung zwischen ALU und Systemdatenbus, Datentransfer läuft über die Register (Load/Store-Architekt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nahm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-Bypasses zur Vermeidung v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-Hemmnissen (forwarding techniq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ypass-Technik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3440" y="2876400"/>
            <a:ext cx="3646440" cy="2462400"/>
          </a:xfrm>
          <a:prstGeom prst="rect">
            <a:avLst/>
          </a:prstGeom>
          <a:solidFill>
            <a:srgbClr val="d1ff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2424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173560" y="4035600"/>
            <a:ext cx="1702080" cy="2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89680" y="257004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4960" y="1217520"/>
            <a:ext cx="2197080" cy="2397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44960" y="1689120"/>
            <a:ext cx="2197080" cy="1890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4960" y="18511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44960" y="2025720"/>
            <a:ext cx="2197080" cy="187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4960" y="2201760"/>
            <a:ext cx="2197080" cy="18756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44960" y="2389320"/>
            <a:ext cx="2197080" cy="18864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2424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89680" y="3151080"/>
            <a:ext cx="160200" cy="497160"/>
          </a:xfrm>
          <a:prstGeom prst="downArrow">
            <a:avLst>
              <a:gd name="adj1" fmla="val 50000"/>
              <a:gd name="adj2" fmla="val 7758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79760" y="307656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5600" y="3076560"/>
            <a:ext cx="15937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ndenregis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51160" y="4152960"/>
            <a:ext cx="160560" cy="498240"/>
          </a:xfrm>
          <a:prstGeom prst="downArrow">
            <a:avLst>
              <a:gd name="adj1" fmla="val 50000"/>
              <a:gd name="adj2" fmla="val 77578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51160" y="4991040"/>
            <a:ext cx="152640" cy="571680"/>
          </a:xfrm>
          <a:prstGeom prst="downArrow">
            <a:avLst>
              <a:gd name="adj1" fmla="val 50000"/>
              <a:gd name="adj2" fmla="val 93632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21040" y="3632040"/>
            <a:ext cx="2627280" cy="744840"/>
          </a:xfrm>
          <a:custGeom>
            <a:avLst/>
            <a:gdLst>
              <a:gd name="textAreaLeft" fmla="*/ 577800 w 2627280"/>
              <a:gd name="textAreaRight" fmla="*/ 2049480 w 2627280"/>
              <a:gd name="textAreaTop" fmla="*/ 163800 h 744840"/>
              <a:gd name="textAreaBottom" fmla="*/ 581040 h 7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545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22680" y="3632040"/>
            <a:ext cx="1257120" cy="297000"/>
          </a:xfrm>
          <a:custGeom>
            <a:avLst/>
            <a:gdLst>
              <a:gd name="textAreaLeft" fmla="*/ 276480 w 1257120"/>
              <a:gd name="textAreaRight" fmla="*/ 980640 w 1257120"/>
              <a:gd name="textAreaTop" fmla="*/ 65160 h 297000"/>
              <a:gd name="textAreaBottom" fmla="*/ 23184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1ff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9960" y="3627360"/>
            <a:ext cx="1222560" cy="4680"/>
          </a:xfrm>
          <a:prstGeom prst="line">
            <a:avLst/>
          </a:prstGeom>
          <a:ln w="28440">
            <a:solidFill>
              <a:srgbClr val="d1ff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9280" y="397044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41600" y="4654440"/>
            <a:ext cx="1595520" cy="33984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regi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2513520" y="1580040"/>
            <a:ext cx="204840" cy="1054080"/>
          </a:xfrm>
          <a:prstGeom prst="downArrow">
            <a:avLst>
              <a:gd name="adj1" fmla="val 43315"/>
              <a:gd name="adj2" fmla="val 4469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76480" y="2089080"/>
            <a:ext cx="76320" cy="314964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44960" y="1447920"/>
            <a:ext cx="2197080" cy="241200"/>
          </a:xfrm>
          <a:prstGeom prst="rect">
            <a:avLst/>
          </a:prstGeom>
          <a:solidFill>
            <a:srgbClr val="ffe5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3132720" y="4114080"/>
            <a:ext cx="90360" cy="215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088640" y="364752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r 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94360" y="3745080"/>
            <a:ext cx="164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euerleitunge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m Steuer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rot="16200000">
            <a:off x="2669760" y="2117520"/>
            <a:ext cx="155880" cy="1231920"/>
          </a:xfrm>
          <a:prstGeom prst="downArrow">
            <a:avLst>
              <a:gd name="adj1" fmla="val 43315"/>
              <a:gd name="adj2" fmla="val 68639"/>
            </a:avLst>
          </a:prstGeom>
          <a:solidFill>
            <a:srgbClr val="00cc00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12560" y="23940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Bypass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1793880"/>
            <a:ext cx="95040" cy="40734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1681200"/>
            <a:ext cx="154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istersa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5749200" y="1313640"/>
            <a:ext cx="223920" cy="1054080"/>
          </a:xfrm>
          <a:prstGeom prst="downArrow">
            <a:avLst>
              <a:gd name="adj1" fmla="val 43315"/>
              <a:gd name="adj2" fmla="val 40885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736600" y="2136600"/>
            <a:ext cx="174960" cy="1212840"/>
          </a:xfrm>
          <a:prstGeom prst="downArrow">
            <a:avLst>
              <a:gd name="adj1" fmla="val 43315"/>
              <a:gd name="adj2" fmla="val 60206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24840" y="2398680"/>
            <a:ext cx="27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Bypass 2      (Load forward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42040" y="5832360"/>
            <a:ext cx="291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m Cache- oder Hauptspe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800" y="239400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Result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00"/>
                </a:solidFill>
                <a:latin typeface="Arial"/>
              </a:rPr>
              <a:t>forwa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44800" y="2654280"/>
            <a:ext cx="164880" cy="1652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2666880"/>
            <a:ext cx="165240" cy="165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ressierungsarten bei RISC-Prozessoren</a:t>
            </a:r>
            <a:br>
              <a:rPr sz="36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0920" y="1195560"/>
            <a:ext cx="8417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r Adressierungsar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plizite Register-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Operand st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inem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rekte 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Operand ist eine K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Befehlsw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sis-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Operand ist im Speicher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Adresse, die sich durch die Addition e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halts und einer Konstanten im Befehl ergib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mzähler-relative Adressier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 sich aus dem Wert des Programmzählers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r Konstanten im Befeh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Befehlsverarbeitung in RISC-Prozessor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157400"/>
            <a:ext cx="8613720" cy="50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r Befehlssatz von RISC-Prozes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schinenprogramme sind länger als bei CISC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zessor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komplexe Befehle und Adressierungsarten müssen aus 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fachen RISC-Befehlen zusammengesetzt werden)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otzdem arbeitet ein RISC-Prozessor meist schneller al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ISC-Prozessor. Der Grund liegt in der nahez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ollständigen Parallelarbeit aller Komponen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SC-Prozessors (extreme Pipeline-Verarbeitu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wird mit großer Wahrscheinlichkeit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in jedem Taktzyklus ein Befeh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be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Arial"/>
              </a:rPr>
              <a:t>RISC - superskalar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117440"/>
            <a:ext cx="8991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SC-Prozessoren, die das Entwurfsziel von durchschnittlich einer Befehlsausführung pro Takt (CPI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cles per instruc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der IPC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 per cyc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von eins) erreichen, werden als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kalare RISC-Prozesso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zeich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 Superskalar-Technik ermöglicht es heute, pro Takt bis zu vier Befehle den Ausfürungseinheiten zuzuordnen und eine gleiche Anzahl von Befehlsausführungen pro Takt zu been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che Prozessoren werden als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uperskalare (RISC)-Prozessor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zeichnet, da die oben definierten RISC-Charakteristika auch heute noch weitgehend beibehalten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cc66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utige Mikroprozessoren nutzen Befehlsebenenparallelität durch die Pipelining- und Superskalartechn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eispiele von Mikroprozessoren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81440" y="1289160"/>
            <a:ext cx="4870440" cy="4660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07960" y="1523880"/>
            <a:ext cx="31752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Po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4 Mio Transis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 m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8 µ in Kupf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ei unabhängige 64-Bit Kerne mit eig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1-Caches (32 K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ktion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KByte Dat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Hyper-Pipeline beim Pentium 4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9200" y="1670040"/>
            <a:ext cx="7966080" cy="573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2880" y="2801880"/>
            <a:ext cx="76644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 St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 zu 126 Instruktion werden gleichzeitig bearbeitet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von 48 Load- und 24 Store-Operation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ze Stuf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eniger Transistoren müss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altet werd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n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" y="1243080"/>
            <a:ext cx="80884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 architektonischen Gesichtspunkten unterscheidet man die folgenden </a:t>
            </a:r>
            <a:r>
              <a:rPr b="1" lang="de-DE" sz="2400" spc="-1" strike="noStrike">
                <a:solidFill>
                  <a:srgbClr val="000000"/>
                </a:solidFill>
                <a:latin typeface="WP Greek Helve"/>
                <a:ea typeface="WP Greek Helve"/>
              </a:rPr>
              <a:t>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-Klass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4545ff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Universelle Mikroprozesso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ind Prozessoren ohne spezielle Schnittstellen oder Komponenten. Mit geeigneten Programmen und externen Erweiterungs-bausteinen sind sie für alle allgemeinen Anwendungen einsetrzb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CISC-Prozessor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mikroprogrammierte universelle Mikroprozessoren. Sie sind (meist) nach dem von-Neumann-Prinzip aufgeba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CISC &amp; RISC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0560" y="1128600"/>
            <a:ext cx="808848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RISC-Prozessor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meist nicht mikroprogrammierte universelle Mikroprozessoren. Sie besitzen meist eine sog. Harvard-Architek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Hybride CISC/RISC-Prozessor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llen eine Mischform  mit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ISC- und RISC- Eigenschaften dar. Die Mehrzahl der eingesetzten Hochleistungs- </a:t>
            </a:r>
            <a:r>
              <a:rPr b="0" lang="de-DE" sz="2400" spc="-1" strike="noStrike">
                <a:solidFill>
                  <a:srgbClr val="000000"/>
                </a:solidFill>
                <a:latin typeface="WP Greek Helve"/>
                <a:ea typeface="WP Greek Helve"/>
              </a:rPr>
              <a:t>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s gehört heutr dieser Klasse an. Insbesondere in den Personsl Computern sind sie millionenfach vertreten (als Pentium oder dazu „kompatible“ Prozessor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 einem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Standard-Mikroprozesso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llen wir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n mikroprogrammierten, universellen CISC-Prozessor verst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8120" y="1179360"/>
            <a:ext cx="8277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fü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komplizierter Befehle ist immer no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 als die Ausführung von Programmen gleich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 begünstigt komplizierte Befeh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izierte Befehle führen zu kurzen Progr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fang des Befehlssatzes wird oft als Werbeargumen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höherer Programmiersprachen dur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izierte Befehle  (Direkte Abbildung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rachkonstrukt </a:t>
            </a: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fe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640" y="1219320"/>
            <a:ext cx="8439120" cy="45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fü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von Compilern durch entsprechend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spezieller Einsatzgebi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Fazi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Entwicklung von Hardwa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grammiersprachen und Einsatzgebieten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begünstigt „komplizierte“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Befe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1170000"/>
            <a:ext cx="817236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ünde dage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e Hauptspeicher und die Verwendung v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-Speichern beschleunigen di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ausfüh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60000"/>
              </a:lnSpc>
              <a:spcBef>
                <a:spcPts val="1049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e wurden immer komplizierter (imm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ingere Unterschiede zwischen Programmie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Mikroprogrammieru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7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relativ kleine Teile des großen Befehlssatz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häufig benu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Limitationen der CISC Architektu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17680"/>
            <a:ext cx="843912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fehlsausnutzung (80/20 Rege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mächtige Befehle, komplexes Befehlsformat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kroprogrammierung, nur 20 % der Befehle wer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wiegend benutz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ritisches Problem: Anzahl der Zyklen pr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struktion (C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allen heutigen CISC Architekturen ist CPI &gt;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>
              <a:lnSpc>
                <a:spcPct val="120000"/>
              </a:lnSpc>
              <a:tabLst>
                <a:tab algn="l" pos="0"/>
                <a:tab algn="l" pos="19044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C 68030: CPI = 4-6, Intel 80386 CPI = 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CISC (complex instruction set computer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24080"/>
            <a:ext cx="83343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programme in XPL auf IBM/36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0 % aller ausgeführten Befehle: 10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5 % aller ausgeführten Befehle: 21 verschiedene Befeh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9 % aller ausgeführten Befehle: 30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BOL-Programme auf IBM/37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0,28 % aller ausgeführten Befehle: 26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9,08 % aller ausgeführten Befehle: 48 verschiedene Befeh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nur 84 verschiedene Befehle wurden überhaupt benutz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02T16:11:13Z</cp:lastPrinted>
  <dcterms:modified xsi:type="dcterms:W3CDTF">2005-11-29T16:01:53Z</dcterms:modified>
  <cp:revision>832</cp:revision>
  <dc:subject/>
  <dc:title>TI-2</dc:title>
</cp:coreProperties>
</file>