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5629-7024-48BD-BBB8-0A21B7293B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echnologie-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technogloie_C" descr=""/>
          <p:cNvPicPr/>
          <p:nvPr/>
        </p:nvPicPr>
        <p:blipFill>
          <a:blip r:embed="rId1"/>
          <a:srcRect l="1844" t="0" r="5952" b="0"/>
          <a:stretch/>
        </p:blipFill>
        <p:spPr>
          <a:xfrm>
            <a:off x="372960" y="1655640"/>
            <a:ext cx="4673880" cy="3819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60960" y="2351160"/>
            <a:ext cx="37749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mall Scale Integ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edium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y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ltra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iga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360" y="1332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2080" y="178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080" y="2116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2080" y="248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0200" y="1193760"/>
            <a:ext cx="69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7:00        8:00       9:00      10:00     11:00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080" y="2840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46040" y="1708200"/>
            <a:ext cx="0" cy="160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5680" y="1596960"/>
            <a:ext cx="708012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384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55640" y="1784520"/>
            <a:ext cx="1409760" cy="412560"/>
            <a:chOff x="1655640" y="1784520"/>
            <a:chExt cx="1409760" cy="412560"/>
          </a:xfrm>
        </p:grpSpPr>
        <p:grpSp>
          <p:nvGrpSpPr>
            <p:cNvPr id="168" name=""/>
            <p:cNvGrpSpPr/>
            <p:nvPr/>
          </p:nvGrpSpPr>
          <p:grpSpPr>
            <a:xfrm>
              <a:off x="1655640" y="1864800"/>
              <a:ext cx="211320" cy="252360"/>
              <a:chOff x="1655640" y="1864800"/>
              <a:chExt cx="211320" cy="252360"/>
            </a:xfrm>
          </p:grpSpPr>
          <p:sp>
            <p:nvSpPr>
              <p:cNvPr id="169" name=""/>
              <p:cNvSpPr/>
              <p:nvPr/>
            </p:nvSpPr>
            <p:spPr>
              <a:xfrm>
                <a:off x="1655640" y="186480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57080" y="18669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89840" y="193500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32760" y="18734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02880" y="18734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754000" y="1784520"/>
              <a:ext cx="311400" cy="412560"/>
              <a:chOff x="2754000" y="1784520"/>
              <a:chExt cx="311400" cy="412560"/>
            </a:xfrm>
          </p:grpSpPr>
          <p:sp>
            <p:nvSpPr>
              <p:cNvPr id="175" name=""/>
              <p:cNvSpPr/>
              <p:nvPr/>
            </p:nvSpPr>
            <p:spPr>
              <a:xfrm>
                <a:off x="2754000" y="178452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7092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1456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1888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856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23920" y="1864800"/>
              <a:ext cx="211320" cy="252360"/>
              <a:chOff x="2023920" y="1864800"/>
              <a:chExt cx="211320" cy="25236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3920" y="186480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25360" y="18669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58120" y="193500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01040" y="18734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71160" y="18734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405880" y="190008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44680" y="2144880"/>
            <a:ext cx="1409760" cy="412560"/>
            <a:chOff x="3244680" y="2144880"/>
            <a:chExt cx="1409760" cy="412560"/>
          </a:xfrm>
        </p:grpSpPr>
        <p:grpSp>
          <p:nvGrpSpPr>
            <p:cNvPr id="188" name=""/>
            <p:cNvGrpSpPr/>
            <p:nvPr/>
          </p:nvGrpSpPr>
          <p:grpSpPr>
            <a:xfrm>
              <a:off x="3244680" y="2225160"/>
              <a:ext cx="211320" cy="252360"/>
              <a:chOff x="3244680" y="2225160"/>
              <a:chExt cx="211320" cy="252360"/>
            </a:xfrm>
          </p:grpSpPr>
          <p:sp>
            <p:nvSpPr>
              <p:cNvPr id="189" name=""/>
              <p:cNvSpPr/>
              <p:nvPr/>
            </p:nvSpPr>
            <p:spPr>
              <a:xfrm>
                <a:off x="3244680" y="222516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46120" y="22273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78880" y="229536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21800" y="22338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91920" y="22338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343040" y="2144880"/>
              <a:ext cx="311400" cy="412560"/>
              <a:chOff x="4343040" y="2144880"/>
              <a:chExt cx="311400" cy="412560"/>
            </a:xfrm>
          </p:grpSpPr>
          <p:sp>
            <p:nvSpPr>
              <p:cNvPr id="195" name=""/>
              <p:cNvSpPr/>
              <p:nvPr/>
            </p:nvSpPr>
            <p:spPr>
              <a:xfrm>
                <a:off x="4343040" y="214488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996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0360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0792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6760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612960" y="2225160"/>
              <a:ext cx="211320" cy="252360"/>
              <a:chOff x="3612960" y="2225160"/>
              <a:chExt cx="211320" cy="252360"/>
            </a:xfrm>
          </p:grpSpPr>
          <p:sp>
            <p:nvSpPr>
              <p:cNvPr id="201" name=""/>
              <p:cNvSpPr/>
              <p:nvPr/>
            </p:nvSpPr>
            <p:spPr>
              <a:xfrm>
                <a:off x="3612960" y="222516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14400" y="22273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47160" y="229536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90080" y="22338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60200" y="22338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994920" y="226044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879800" y="2502000"/>
            <a:ext cx="1407960" cy="412560"/>
            <a:chOff x="4879800" y="2502000"/>
            <a:chExt cx="1407960" cy="412560"/>
          </a:xfrm>
        </p:grpSpPr>
        <p:grpSp>
          <p:nvGrpSpPr>
            <p:cNvPr id="208" name=""/>
            <p:cNvGrpSpPr/>
            <p:nvPr/>
          </p:nvGrpSpPr>
          <p:grpSpPr>
            <a:xfrm>
              <a:off x="4879800" y="2582280"/>
              <a:ext cx="210960" cy="252360"/>
              <a:chOff x="4879800" y="2582280"/>
              <a:chExt cx="210960" cy="252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879800" y="25822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81240" y="25844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13640" y="26524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56560" y="25909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26680" y="25909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976720" y="2502000"/>
              <a:ext cx="311040" cy="412560"/>
              <a:chOff x="5976720" y="2502000"/>
              <a:chExt cx="311040" cy="412560"/>
            </a:xfrm>
          </p:grpSpPr>
          <p:sp>
            <p:nvSpPr>
              <p:cNvPr id="215" name=""/>
              <p:cNvSpPr/>
              <p:nvPr/>
            </p:nvSpPr>
            <p:spPr>
              <a:xfrm>
                <a:off x="5976720" y="25020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9364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13692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4160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0092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247720" y="2582280"/>
              <a:ext cx="210960" cy="252360"/>
              <a:chOff x="5247720" y="2582280"/>
              <a:chExt cx="210960" cy="252360"/>
            </a:xfrm>
          </p:grpSpPr>
          <p:sp>
            <p:nvSpPr>
              <p:cNvPr id="221" name=""/>
              <p:cNvSpPr/>
              <p:nvPr/>
            </p:nvSpPr>
            <p:spPr>
              <a:xfrm>
                <a:off x="5247720" y="25822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49160" y="25844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81560" y="26524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424480" y="25909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94600" y="25909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629320" y="26175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531120" y="2887560"/>
            <a:ext cx="1409040" cy="412920"/>
            <a:chOff x="6531120" y="2887560"/>
            <a:chExt cx="1409040" cy="412920"/>
          </a:xfrm>
        </p:grpSpPr>
        <p:grpSp>
          <p:nvGrpSpPr>
            <p:cNvPr id="228" name=""/>
            <p:cNvGrpSpPr/>
            <p:nvPr/>
          </p:nvGrpSpPr>
          <p:grpSpPr>
            <a:xfrm>
              <a:off x="6531120" y="2967840"/>
              <a:ext cx="211320" cy="252720"/>
              <a:chOff x="6531120" y="2967840"/>
              <a:chExt cx="211320" cy="252720"/>
            </a:xfrm>
          </p:grpSpPr>
          <p:sp>
            <p:nvSpPr>
              <p:cNvPr id="229" name=""/>
              <p:cNvSpPr/>
              <p:nvPr/>
            </p:nvSpPr>
            <p:spPr>
              <a:xfrm>
                <a:off x="6531120" y="296784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32560" y="297000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65320" y="303840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08240" y="297648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78360" y="297648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9120" y="2887560"/>
              <a:ext cx="311040" cy="412920"/>
              <a:chOff x="7629120" y="2887560"/>
              <a:chExt cx="311040" cy="41292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9120" y="288756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4604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8932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9400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5332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899400" y="2967840"/>
              <a:ext cx="211320" cy="252720"/>
              <a:chOff x="6899400" y="2967840"/>
              <a:chExt cx="211320" cy="252720"/>
            </a:xfrm>
          </p:grpSpPr>
          <p:sp>
            <p:nvSpPr>
              <p:cNvPr id="241" name=""/>
              <p:cNvSpPr/>
              <p:nvPr/>
            </p:nvSpPr>
            <p:spPr>
              <a:xfrm>
                <a:off x="6899400" y="296784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900840" y="297000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33600" y="303840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76520" y="297648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46640" y="297648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7281360" y="300312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71048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57360" y="1552680"/>
            <a:ext cx="4078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6200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670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8276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924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9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204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08480" y="1552680"/>
            <a:ext cx="40824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3480" y="1552680"/>
            <a:ext cx="4078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812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3120" y="1552680"/>
            <a:ext cx="40932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2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32760" y="1552680"/>
            <a:ext cx="40932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20920" y="4159080"/>
            <a:ext cx="0" cy="160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598760" y="3671640"/>
            <a:ext cx="700380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28720" y="4149720"/>
            <a:ext cx="1409760" cy="412920"/>
            <a:chOff x="1728720" y="4149720"/>
            <a:chExt cx="1409760" cy="412920"/>
          </a:xfrm>
        </p:grpSpPr>
        <p:grpSp>
          <p:nvGrpSpPr>
            <p:cNvPr id="267" name=""/>
            <p:cNvGrpSpPr/>
            <p:nvPr/>
          </p:nvGrpSpPr>
          <p:grpSpPr>
            <a:xfrm>
              <a:off x="1728720" y="4230000"/>
              <a:ext cx="211320" cy="252720"/>
              <a:chOff x="1728720" y="4230000"/>
              <a:chExt cx="211320" cy="252720"/>
            </a:xfrm>
          </p:grpSpPr>
          <p:sp>
            <p:nvSpPr>
              <p:cNvPr id="268" name=""/>
              <p:cNvSpPr/>
              <p:nvPr/>
            </p:nvSpPr>
            <p:spPr>
              <a:xfrm>
                <a:off x="1728720" y="423000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30160" y="42321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62920" y="430056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5840" y="42386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75960" y="42386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27080" y="4149720"/>
              <a:ext cx="311400" cy="412920"/>
              <a:chOff x="2827080" y="4149720"/>
              <a:chExt cx="311400" cy="412920"/>
            </a:xfrm>
          </p:grpSpPr>
          <p:sp>
            <p:nvSpPr>
              <p:cNvPr id="274" name=""/>
              <p:cNvSpPr/>
              <p:nvPr/>
            </p:nvSpPr>
            <p:spPr>
              <a:xfrm>
                <a:off x="2827080" y="4149720"/>
                <a:ext cx="31140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4400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8764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9196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5164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097000" y="4230000"/>
              <a:ext cx="211320" cy="252720"/>
              <a:chOff x="2097000" y="4230000"/>
              <a:chExt cx="211320" cy="252720"/>
            </a:xfrm>
          </p:grpSpPr>
          <p:sp>
            <p:nvSpPr>
              <p:cNvPr id="280" name=""/>
              <p:cNvSpPr/>
              <p:nvPr/>
            </p:nvSpPr>
            <p:spPr>
              <a:xfrm>
                <a:off x="2097000" y="423000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098440" y="42321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1200" y="430056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74120" y="42386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44240" y="42386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478960" y="426528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157480" y="4533840"/>
            <a:ext cx="1409760" cy="411120"/>
            <a:chOff x="2157480" y="4533840"/>
            <a:chExt cx="1409760" cy="411120"/>
          </a:xfrm>
        </p:grpSpPr>
        <p:grpSp>
          <p:nvGrpSpPr>
            <p:cNvPr id="287" name=""/>
            <p:cNvGrpSpPr/>
            <p:nvPr/>
          </p:nvGrpSpPr>
          <p:grpSpPr>
            <a:xfrm>
              <a:off x="2157480" y="4613760"/>
              <a:ext cx="211320" cy="251640"/>
              <a:chOff x="2157480" y="4613760"/>
              <a:chExt cx="211320" cy="251640"/>
            </a:xfrm>
          </p:grpSpPr>
          <p:sp>
            <p:nvSpPr>
              <p:cNvPr id="288" name=""/>
              <p:cNvSpPr/>
              <p:nvPr/>
            </p:nvSpPr>
            <p:spPr>
              <a:xfrm>
                <a:off x="2157480" y="4613760"/>
                <a:ext cx="211320" cy="251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58920" y="46159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91680" y="4683960"/>
                <a:ext cx="153720" cy="12780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34600" y="46224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04720" y="46224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3255840" y="4533840"/>
              <a:ext cx="311400" cy="411120"/>
              <a:chOff x="3255840" y="4533840"/>
              <a:chExt cx="311400" cy="411120"/>
            </a:xfrm>
          </p:grpSpPr>
          <p:sp>
            <p:nvSpPr>
              <p:cNvPr id="294" name=""/>
              <p:cNvSpPr/>
              <p:nvPr/>
            </p:nvSpPr>
            <p:spPr>
              <a:xfrm>
                <a:off x="3255840" y="4533840"/>
                <a:ext cx="311400" cy="411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276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640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072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8040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525760" y="4613760"/>
              <a:ext cx="211320" cy="251640"/>
              <a:chOff x="2525760" y="4613760"/>
              <a:chExt cx="211320" cy="251640"/>
            </a:xfrm>
          </p:grpSpPr>
          <p:sp>
            <p:nvSpPr>
              <p:cNvPr id="300" name=""/>
              <p:cNvSpPr/>
              <p:nvPr/>
            </p:nvSpPr>
            <p:spPr>
              <a:xfrm>
                <a:off x="2525760" y="4613760"/>
                <a:ext cx="211320" cy="25164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27200" y="46159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59960" y="4683960"/>
                <a:ext cx="153720" cy="12780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02880" y="46224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673000" y="46224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2907720" y="4649040"/>
              <a:ext cx="286200" cy="18036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583000" y="4937040"/>
            <a:ext cx="1409040" cy="412920"/>
            <a:chOff x="2583000" y="4937040"/>
            <a:chExt cx="1409040" cy="412920"/>
          </a:xfrm>
        </p:grpSpPr>
        <p:grpSp>
          <p:nvGrpSpPr>
            <p:cNvPr id="307" name=""/>
            <p:cNvGrpSpPr/>
            <p:nvPr/>
          </p:nvGrpSpPr>
          <p:grpSpPr>
            <a:xfrm>
              <a:off x="2583000" y="5017320"/>
              <a:ext cx="211320" cy="252720"/>
              <a:chOff x="2583000" y="5017320"/>
              <a:chExt cx="211320" cy="252720"/>
            </a:xfrm>
          </p:grpSpPr>
          <p:sp>
            <p:nvSpPr>
              <p:cNvPr id="308" name=""/>
              <p:cNvSpPr/>
              <p:nvPr/>
            </p:nvSpPr>
            <p:spPr>
              <a:xfrm>
                <a:off x="2583000" y="501732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584440" y="501948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617200" y="508788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60120" y="502596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30240" y="502596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681000" y="4937040"/>
              <a:ext cx="311040" cy="412920"/>
              <a:chOff x="3681000" y="4937040"/>
              <a:chExt cx="311040" cy="412920"/>
            </a:xfrm>
          </p:grpSpPr>
          <p:sp>
            <p:nvSpPr>
              <p:cNvPr id="314" name=""/>
              <p:cNvSpPr/>
              <p:nvPr/>
            </p:nvSpPr>
            <p:spPr>
              <a:xfrm>
                <a:off x="3681000" y="493704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9792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4120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84588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80520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951280" y="5017320"/>
              <a:ext cx="211320" cy="252720"/>
              <a:chOff x="2951280" y="5017320"/>
              <a:chExt cx="211320" cy="252720"/>
            </a:xfrm>
          </p:grpSpPr>
          <p:sp>
            <p:nvSpPr>
              <p:cNvPr id="320" name=""/>
              <p:cNvSpPr/>
              <p:nvPr/>
            </p:nvSpPr>
            <p:spPr>
              <a:xfrm>
                <a:off x="2951280" y="501732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52720" y="501948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985480" y="508788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28400" y="502596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98520" y="502596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333240" y="505260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419120" y="3360600"/>
            <a:ext cx="70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 7:00        8:00       9:00      10:00     11:00 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948040" y="5338800"/>
            <a:ext cx="1407960" cy="412560"/>
            <a:chOff x="2948040" y="5338800"/>
            <a:chExt cx="1407960" cy="412560"/>
          </a:xfrm>
        </p:grpSpPr>
        <p:grpSp>
          <p:nvGrpSpPr>
            <p:cNvPr id="328" name=""/>
            <p:cNvGrpSpPr/>
            <p:nvPr/>
          </p:nvGrpSpPr>
          <p:grpSpPr>
            <a:xfrm>
              <a:off x="2948040" y="5419080"/>
              <a:ext cx="210960" cy="252360"/>
              <a:chOff x="2948040" y="5419080"/>
              <a:chExt cx="210960" cy="252360"/>
            </a:xfrm>
          </p:grpSpPr>
          <p:sp>
            <p:nvSpPr>
              <p:cNvPr id="329" name=""/>
              <p:cNvSpPr/>
              <p:nvPr/>
            </p:nvSpPr>
            <p:spPr>
              <a:xfrm>
                <a:off x="2948040" y="54190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9480" y="54212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81880" y="54892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24800" y="54277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094920" y="54277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044960" y="5338800"/>
              <a:ext cx="311040" cy="412560"/>
              <a:chOff x="4044960" y="5338800"/>
              <a:chExt cx="311040" cy="412560"/>
            </a:xfrm>
          </p:grpSpPr>
          <p:sp>
            <p:nvSpPr>
              <p:cNvPr id="335" name=""/>
              <p:cNvSpPr/>
              <p:nvPr/>
            </p:nvSpPr>
            <p:spPr>
              <a:xfrm>
                <a:off x="4044960" y="53388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6188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0516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0984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6916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315960" y="5419080"/>
              <a:ext cx="210960" cy="252360"/>
              <a:chOff x="3315960" y="5419080"/>
              <a:chExt cx="210960" cy="252360"/>
            </a:xfrm>
          </p:grpSpPr>
          <p:sp>
            <p:nvSpPr>
              <p:cNvPr id="341" name=""/>
              <p:cNvSpPr/>
              <p:nvPr/>
            </p:nvSpPr>
            <p:spPr>
              <a:xfrm>
                <a:off x="3315960" y="54190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17400" y="54212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49800" y="54892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492720" y="54277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62840" y="54277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697560" y="54543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630440" y="3679920"/>
            <a:ext cx="1616040" cy="81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68520" y="3836880"/>
            <a:ext cx="1590840" cy="79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32120" y="3914640"/>
            <a:ext cx="1592280" cy="8100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82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26360" y="15667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573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479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576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65436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225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51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24840" y="36241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46240" y="3757680"/>
            <a:ext cx="1592280" cy="81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22240" y="41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2240" y="4449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2240" y="482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2240" y="517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-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" y="1163520"/>
            <a:ext cx="82692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ablaufende Operationen werden in eine Folge von Teilprozessen zerlegt. Für jeden Teilprozeß wird ein spezieller Prozessor vorgese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ypischer Fall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verarbeitung wird aufgeteil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interpretieren (decodie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(en)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Ablauf der Verarbeitung in einer 5-stufigen Pipelin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8" name="pipeline1_C" descr=""/>
          <p:cNvPicPr/>
          <p:nvPr/>
        </p:nvPicPr>
        <p:blipFill>
          <a:blip r:embed="rId1"/>
          <a:stretch/>
        </p:blipFill>
        <p:spPr>
          <a:xfrm>
            <a:off x="514440" y="1290600"/>
            <a:ext cx="830556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ineare Pipeline mit k Stuf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0" name="pipeline-linear" descr=""/>
          <p:cNvPicPr/>
          <p:nvPr/>
        </p:nvPicPr>
        <p:blipFill>
          <a:blip r:embed="rId1"/>
          <a:srcRect l="1432" t="5325" r="6389" b="2805"/>
          <a:stretch/>
        </p:blipFill>
        <p:spPr>
          <a:xfrm>
            <a:off x="1514520" y="1136520"/>
            <a:ext cx="5241960" cy="2055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99960" y="3305160"/>
            <a:ext cx="7810560" cy="29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nahmen für die Pipeline-Verarbei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Opera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ann in Suboperatio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erle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arbeitung der einzelnen Suboperatio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nötigt etw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leiche 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der Verarbeitung verschiedener Operationen könn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lappungen auftre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usführungszeit einer Suboperation ist lang gegenüber d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ister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 dem Begriff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steht man die Zerlegung einer Maschinenoperation in mehrere Phasen oder Suboperationen, die dann von hintereinander geschalteten Verarbeitungseinheiten taktsynchron bearbeitet werden, wobei jede Verarbeitungseinheit genau eine spezielle Teiloperation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Gesamtheit dieser Verarbeitungseinheiten nennt man ein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efehlspipel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Instruction Pipeline) wird die Ausführung eines Maschinenbefehls in verschiedene Phasen unterteilt, aufeinanderfolgende Maschinenbefehle werden jeweils um einen Taktzyklus versetzt ausge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99"/>
                </a:solidFill>
                <a:latin typeface="Arial"/>
              </a:rPr>
              <a:t>Eine einfache fünfstufige Befehlspipeline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-2381400" y="12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2. Befe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47840" y="1657440"/>
            <a:ext cx="8343000" cy="3771720"/>
            <a:chOff x="447840" y="1657440"/>
            <a:chExt cx="8343000" cy="3771720"/>
          </a:xfrm>
        </p:grpSpPr>
        <p:sp>
          <p:nvSpPr>
            <p:cNvPr id="377" name=""/>
            <p:cNvSpPr/>
            <p:nvPr/>
          </p:nvSpPr>
          <p:spPr>
            <a:xfrm>
              <a:off x="447840" y="4794480"/>
              <a:ext cx="1328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4800" y="4794480"/>
              <a:ext cx="1328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30200" y="4794480"/>
              <a:ext cx="1328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12200" y="4794480"/>
              <a:ext cx="1328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71200" y="4794480"/>
              <a:ext cx="1328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53560" y="4794480"/>
              <a:ext cx="1328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6600" y="1657440"/>
              <a:ext cx="127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99"/>
                  </a:solidFill>
                  <a:latin typeface="Arial"/>
                </a:rPr>
                <a:t>1. Befeh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85240" y="4959360"/>
              <a:ext cx="70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Ze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72200" y="5060880"/>
              <a:ext cx="1369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Zyklusze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74800" y="4956120"/>
              <a:ext cx="106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807840" y="1946520"/>
              <a:ext cx="4974480" cy="527040"/>
              <a:chOff x="807840" y="1946520"/>
              <a:chExt cx="4974480" cy="527040"/>
            </a:xfrm>
          </p:grpSpPr>
          <p:sp>
            <p:nvSpPr>
              <p:cNvPr id="388" name=""/>
              <p:cNvSpPr/>
              <p:nvPr/>
            </p:nvSpPr>
            <p:spPr>
              <a:xfrm>
                <a:off x="807840" y="1946520"/>
                <a:ext cx="986400" cy="52704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98720" y="1946520"/>
                <a:ext cx="986400" cy="52704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Operation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usführ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95920" y="1946520"/>
                <a:ext cx="986400" cy="527040"/>
              </a:xfrm>
              <a:prstGeom prst="rect">
                <a:avLst/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gebnis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speiche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4680" y="1946520"/>
                <a:ext cx="986400" cy="52704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dekodier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01880" y="1946520"/>
                <a:ext cx="986400" cy="52704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Operanden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803240" y="2880000"/>
              <a:ext cx="4974480" cy="527040"/>
              <a:chOff x="1803240" y="2880000"/>
              <a:chExt cx="4974480" cy="527040"/>
            </a:xfrm>
          </p:grpSpPr>
          <p:sp>
            <p:nvSpPr>
              <p:cNvPr id="394" name=""/>
              <p:cNvSpPr/>
              <p:nvPr/>
            </p:nvSpPr>
            <p:spPr>
              <a:xfrm>
                <a:off x="1803240" y="2880000"/>
                <a:ext cx="986400" cy="52704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94120" y="2880000"/>
                <a:ext cx="986400" cy="52704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Operation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usführ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91320" y="2880000"/>
                <a:ext cx="986400" cy="527040"/>
              </a:xfrm>
              <a:prstGeom prst="rect">
                <a:avLst/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gebnis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speiche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800080" y="2880000"/>
                <a:ext cx="986400" cy="52704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dekodier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97280" y="2880000"/>
                <a:ext cx="986400" cy="52704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Operanden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800080" y="3841920"/>
              <a:ext cx="4974480" cy="527040"/>
              <a:chOff x="2800080" y="3841920"/>
              <a:chExt cx="4974480" cy="527040"/>
            </a:xfrm>
          </p:grpSpPr>
          <p:sp>
            <p:nvSpPr>
              <p:cNvPr id="400" name=""/>
              <p:cNvSpPr/>
              <p:nvPr/>
            </p:nvSpPr>
            <p:spPr>
              <a:xfrm>
                <a:off x="2800080" y="3841920"/>
                <a:ext cx="986400" cy="52704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90960" y="3841920"/>
                <a:ext cx="986400" cy="52704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Operation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usführ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88160" y="3841920"/>
                <a:ext cx="986400" cy="527040"/>
              </a:xfrm>
              <a:prstGeom prst="rect">
                <a:avLst/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gebnis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speiche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96920" y="3841920"/>
                <a:ext cx="986400" cy="52704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dekodier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94120" y="3841920"/>
                <a:ext cx="986400" cy="52704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Operanden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739520" y="2600280"/>
              <a:ext cx="127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99"/>
                  </a:solidFill>
                  <a:latin typeface="Arial"/>
                </a:rPr>
                <a:t>2. Befeh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45360" y="3552840"/>
              <a:ext cx="127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99"/>
                  </a:solidFill>
                  <a:latin typeface="Arial"/>
                </a:rPr>
                <a:t>3. Befeh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8280" y="4675320"/>
              <a:ext cx="0" cy="237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03240" y="4675320"/>
              <a:ext cx="0" cy="237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08720" y="4675320"/>
              <a:ext cx="0" cy="237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93680" y="4675320"/>
              <a:ext cx="0" cy="237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99520" y="4675320"/>
              <a:ext cx="0" cy="237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26600" y="4675320"/>
              <a:ext cx="0" cy="237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11200" y="4675320"/>
              <a:ext cx="0" cy="237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85720" y="4675320"/>
              <a:ext cx="0" cy="237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16" name="p0-1" descr=""/>
          <p:cNvPicPr/>
          <p:nvPr/>
        </p:nvPicPr>
        <p:blipFill>
          <a:blip r:embed="rId1"/>
          <a:stretch/>
        </p:blipFill>
        <p:spPr>
          <a:xfrm>
            <a:off x="203040" y="2593800"/>
            <a:ext cx="1519560" cy="2522880"/>
          </a:xfrm>
          <a:prstGeom prst="rect">
            <a:avLst/>
          </a:prstGeom>
          <a:ln w="0">
            <a:noFill/>
          </a:ln>
        </p:spPr>
      </p:pic>
      <p:pic>
        <p:nvPicPr>
          <p:cNvPr id="417" name="p0-2" descr=""/>
          <p:cNvPicPr/>
          <p:nvPr/>
        </p:nvPicPr>
        <p:blipFill>
          <a:blip r:embed="rId2"/>
          <a:stretch/>
        </p:blipFill>
        <p:spPr>
          <a:xfrm>
            <a:off x="2087640" y="2600280"/>
            <a:ext cx="1519200" cy="2511360"/>
          </a:xfrm>
          <a:prstGeom prst="rect">
            <a:avLst/>
          </a:prstGeom>
          <a:ln w="0">
            <a:noFill/>
          </a:ln>
        </p:spPr>
      </p:pic>
      <p:pic>
        <p:nvPicPr>
          <p:cNvPr id="418" name="p0-3" descr=""/>
          <p:cNvPicPr/>
          <p:nvPr/>
        </p:nvPicPr>
        <p:blipFill>
          <a:blip r:embed="rId3"/>
          <a:stretch/>
        </p:blipFill>
        <p:spPr>
          <a:xfrm>
            <a:off x="3870360" y="2622600"/>
            <a:ext cx="1519200" cy="2449440"/>
          </a:xfrm>
          <a:prstGeom prst="rect">
            <a:avLst/>
          </a:prstGeom>
          <a:ln w="0">
            <a:noFill/>
          </a:ln>
        </p:spPr>
      </p:pic>
      <p:pic>
        <p:nvPicPr>
          <p:cNvPr id="419" name="p0-4" descr=""/>
          <p:cNvPicPr/>
          <p:nvPr/>
        </p:nvPicPr>
        <p:blipFill>
          <a:blip r:embed="rId4"/>
          <a:stretch/>
        </p:blipFill>
        <p:spPr>
          <a:xfrm>
            <a:off x="5594400" y="2608200"/>
            <a:ext cx="1519200" cy="2495520"/>
          </a:xfrm>
          <a:prstGeom prst="rect">
            <a:avLst/>
          </a:prstGeom>
          <a:ln w="0">
            <a:noFill/>
          </a:ln>
        </p:spPr>
      </p:pic>
      <p:pic>
        <p:nvPicPr>
          <p:cNvPr id="420" name="p0-5" descr=""/>
          <p:cNvPicPr/>
          <p:nvPr/>
        </p:nvPicPr>
        <p:blipFill>
          <a:blip r:embed="rId5"/>
          <a:stretch/>
        </p:blipFill>
        <p:spPr>
          <a:xfrm>
            <a:off x="7318440" y="2608200"/>
            <a:ext cx="1519200" cy="2494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62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48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dekod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2896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nde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53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tio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ausf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77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Ergebnis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0680" y="1201680"/>
            <a:ext cx="73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usführung eines Maschinenbefehls besteht a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n Teil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28" name="p2" descr=""/>
          <p:cNvPicPr/>
          <p:nvPr/>
        </p:nvPicPr>
        <p:blipFill>
          <a:blip r:embed="rId1"/>
          <a:stretch/>
        </p:blipFill>
        <p:spPr>
          <a:xfrm>
            <a:off x="700200" y="1185840"/>
            <a:ext cx="76356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52480" y="19717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74800" y="2246400"/>
            <a:ext cx="4974840" cy="527040"/>
            <a:chOff x="874800" y="2246400"/>
            <a:chExt cx="4974840" cy="527040"/>
          </a:xfrm>
        </p:grpSpPr>
        <p:sp>
          <p:nvSpPr>
            <p:cNvPr id="432" name=""/>
            <p:cNvSpPr/>
            <p:nvPr/>
          </p:nvSpPr>
          <p:spPr>
            <a:xfrm>
              <a:off x="874800" y="22464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66040" y="22464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63240" y="22464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72000" y="22464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68840" y="22464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918040" y="2246400"/>
            <a:ext cx="987480" cy="527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15240" y="2246400"/>
            <a:ext cx="987480" cy="527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kod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12080" y="2246400"/>
            <a:ext cx="987480" cy="5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771560" y="4137120"/>
            <a:ext cx="4974840" cy="527040"/>
            <a:chOff x="1771560" y="4137120"/>
            <a:chExt cx="4974840" cy="527040"/>
          </a:xfrm>
        </p:grpSpPr>
        <p:sp>
          <p:nvSpPr>
            <p:cNvPr id="441" name=""/>
            <p:cNvSpPr/>
            <p:nvPr/>
          </p:nvSpPr>
          <p:spPr>
            <a:xfrm>
              <a:off x="1771560" y="413712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62800" y="413712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60000" y="413712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68760" y="413712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5600" y="413712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5854680" y="195264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3560" y="421020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4520" y="14000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quentielle Ausfüh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6160" y="2143080"/>
            <a:ext cx="27648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4520" y="338148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772080" y="5203800"/>
            <a:ext cx="4974840" cy="527040"/>
            <a:chOff x="3772080" y="5203800"/>
            <a:chExt cx="4974840" cy="527040"/>
          </a:xfrm>
        </p:grpSpPr>
        <p:sp>
          <p:nvSpPr>
            <p:cNvPr id="452" name=""/>
            <p:cNvSpPr/>
            <p:nvPr/>
          </p:nvSpPr>
          <p:spPr>
            <a:xfrm>
              <a:off x="3772080" y="52038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3320" y="52038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60520" y="52038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69280" y="52038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6120" y="52038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771640" y="4670280"/>
            <a:ext cx="4974840" cy="527040"/>
            <a:chOff x="2771640" y="4670280"/>
            <a:chExt cx="4974840" cy="527040"/>
          </a:xfrm>
        </p:grpSpPr>
        <p:sp>
          <p:nvSpPr>
            <p:cNvPr id="458" name=""/>
            <p:cNvSpPr/>
            <p:nvPr/>
          </p:nvSpPr>
          <p:spPr>
            <a:xfrm>
              <a:off x="2771640" y="467028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62880" y="467028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60080" y="467028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68840" y="467028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65680" y="467028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1697040" y="475308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49600" y="53341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3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Mehrfädige Programmausfüh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6" name="p4" descr=""/>
          <p:cNvPicPr/>
          <p:nvPr/>
        </p:nvPicPr>
        <p:blipFill>
          <a:blip r:embed="rId1"/>
          <a:stretch/>
        </p:blipFill>
        <p:spPr>
          <a:xfrm>
            <a:off x="351000" y="1652760"/>
            <a:ext cx="85708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eistungssteigerung in Rechner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8320" y="1541520"/>
            <a:ext cx="799020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lche Möglichkeiten hat man prinzipiell zur Leistungssteigerung in Rechnersystemen?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Technologische Maßnahm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schnellerer Technologien, Redesign is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ö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rukturelle Maßna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Zahl der Transistoren erhöh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rallelarb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bau einer fünfstufigen Pipel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1081080"/>
            <a:ext cx="866628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Befehls-Holphase (instruction fetch) :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er Befehl wird aus dem Arbeitsspeicher (bzw. dem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efehlscache) ins Befehlsregister geladen.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Der Befehlszähler wird weitergeschalte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Decodierphase (instruction decode):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Aus dem Operationscode des Maschinenbefehls werden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prozessorinterne Steuersignale erzeugt.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Operanden-Holphase (Operand fetch):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as Steuerwerk schaltet die Operanden auf die Busse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um Rechenwerk. Diese Operanden stehen im Registersatz.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Bei Lade-/Speicherbefehlen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der Verzweigungen wird die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ffektive Adresse durch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as Adresswerk berechn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Befehlspipelines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6560" y="1306440"/>
            <a:ext cx="83394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Ausführungsphase (execution phase, ALU Operation):</a:t>
            </a:r>
            <a:r>
              <a:rPr b="0" lang="de-DE" sz="23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ie verlangte Operation wird vom Rechenwerk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usgeführ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Abspeicherphase (result write back phase):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as Ergebnis wird in einem Register oder im Speicher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bgelegt. Befehle ohne Ergebnis durchlaufen diese Phase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passiv. </a:t>
            </a:r>
            <a:br>
              <a:rPr sz="2300"/>
            </a:b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ei Lade-/Speicherbefehlen wird die Adresse auf den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dressbus gelegt und das Datum zwischen Registersatz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nd Arbeitsspeicher übertrag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Pipeline-Hemmnisse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2320" y="1690560"/>
            <a:ext cx="781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gefüllten Pipeline wird pro Taktzyklus ein Befehl be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jedoch einige Gründe, die den Durchfluss durch die Pipeline hemmen bzw. verzögern. Man spricht von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e-Hemm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Verzögerungen entstehen durch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- und Kontrollabhäng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Pipeline-Hemmnisse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9280" y="1252440"/>
            <a:ext cx="8231040" cy="48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stes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peicher ist in der Regel viel langsamer als der Prozess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ht ein für einen LOAD-Befehl benötigtes Datu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m Cache, sondern muss aus d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 geholt werden, werden mehrer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ktzyklen für den Speicherzugriff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atum steht zur Ausführphase nicht zu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ösung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58880"/>
                <a:tab algn="l" pos="1224000"/>
                <a:tab algn="l" pos="2448000"/>
                <a:tab algn="l" pos="3672000"/>
                <a:tab algn="l" pos="4896000"/>
                <a:tab algn="l" pos="6119640"/>
                <a:tab algn="l" pos="7343640"/>
                <a:tab algn="l" pos="8567640"/>
                <a:tab algn="l" pos="97916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halten der Pipeline (Hardware-Interlocking), bis die  Daten verfügbar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ispiel: vierstufige Befehlspipel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7120" y="12096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rdware Inter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825560" y="1822320"/>
            <a:ext cx="5070600" cy="463680"/>
            <a:chOff x="1825560" y="1822320"/>
            <a:chExt cx="5070600" cy="463680"/>
          </a:xfrm>
        </p:grpSpPr>
        <p:sp>
          <p:nvSpPr>
            <p:cNvPr id="478" name=""/>
            <p:cNvSpPr/>
            <p:nvPr/>
          </p:nvSpPr>
          <p:spPr>
            <a:xfrm>
              <a:off x="1825560" y="1822320"/>
              <a:ext cx="1257480" cy="463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39040" y="1822320"/>
              <a:ext cx="1257120" cy="463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97440" y="1822320"/>
              <a:ext cx="1257120" cy="4636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67160" y="1822320"/>
              <a:ext cx="1258920" cy="4636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835280" y="2443320"/>
            <a:ext cx="6400080" cy="3382920"/>
            <a:chOff x="1835280" y="2443320"/>
            <a:chExt cx="6400080" cy="3382920"/>
          </a:xfrm>
        </p:grpSpPr>
        <p:grpSp>
          <p:nvGrpSpPr>
            <p:cNvPr id="483" name=""/>
            <p:cNvGrpSpPr/>
            <p:nvPr/>
          </p:nvGrpSpPr>
          <p:grpSpPr>
            <a:xfrm>
              <a:off x="1835280" y="2443320"/>
              <a:ext cx="5070240" cy="367920"/>
              <a:chOff x="1835280" y="2443320"/>
              <a:chExt cx="5070240" cy="367920"/>
            </a:xfrm>
          </p:grpSpPr>
          <p:sp>
            <p:nvSpPr>
              <p:cNvPr id="484" name=""/>
              <p:cNvSpPr/>
              <p:nvPr/>
            </p:nvSpPr>
            <p:spPr>
              <a:xfrm>
                <a:off x="1835280" y="2443320"/>
                <a:ext cx="1257120" cy="3679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648400" y="2443320"/>
                <a:ext cx="1257120" cy="3679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06800" y="2443320"/>
                <a:ext cx="1257120" cy="36792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76520" y="2443320"/>
                <a:ext cx="1258920" cy="36792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835280" y="2865600"/>
              <a:ext cx="5069880" cy="369360"/>
              <a:chOff x="1835280" y="2865600"/>
              <a:chExt cx="5069880" cy="369360"/>
            </a:xfrm>
          </p:grpSpPr>
          <p:sp>
            <p:nvSpPr>
              <p:cNvPr id="489" name=""/>
              <p:cNvSpPr/>
              <p:nvPr/>
            </p:nvSpPr>
            <p:spPr>
              <a:xfrm>
                <a:off x="1835280" y="2865600"/>
                <a:ext cx="1256760" cy="3693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48040" y="2865600"/>
                <a:ext cx="1257120" cy="36936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06440" y="2865600"/>
                <a:ext cx="1257120" cy="369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376520" y="2865600"/>
                <a:ext cx="1258560" cy="369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835280" y="3288960"/>
              <a:ext cx="5069880" cy="368280"/>
              <a:chOff x="1835280" y="3288960"/>
              <a:chExt cx="5069880" cy="368280"/>
            </a:xfrm>
          </p:grpSpPr>
          <p:sp>
            <p:nvSpPr>
              <p:cNvPr id="494" name=""/>
              <p:cNvSpPr/>
              <p:nvPr/>
            </p:nvSpPr>
            <p:spPr>
              <a:xfrm>
                <a:off x="1835280" y="3288960"/>
                <a:ext cx="1256760" cy="3682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48040" y="3288960"/>
                <a:ext cx="1257120" cy="36828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06440" y="3288960"/>
                <a:ext cx="1257120" cy="368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76520" y="3288960"/>
                <a:ext cx="1258560" cy="36828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1835280" y="3720600"/>
              <a:ext cx="5069880" cy="369360"/>
              <a:chOff x="1835280" y="3720600"/>
              <a:chExt cx="5069880" cy="369360"/>
            </a:xfrm>
          </p:grpSpPr>
          <p:sp>
            <p:nvSpPr>
              <p:cNvPr id="499" name=""/>
              <p:cNvSpPr/>
              <p:nvPr/>
            </p:nvSpPr>
            <p:spPr>
              <a:xfrm>
                <a:off x="1835280" y="3720600"/>
                <a:ext cx="1257120" cy="3693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648400" y="3720600"/>
                <a:ext cx="1256760" cy="36936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06800" y="3720600"/>
                <a:ext cx="1256760" cy="369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76520" y="3720600"/>
                <a:ext cx="1258560" cy="369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835280" y="4150080"/>
              <a:ext cx="5070240" cy="369360"/>
              <a:chOff x="1835280" y="4150080"/>
              <a:chExt cx="5070240" cy="369360"/>
            </a:xfrm>
          </p:grpSpPr>
          <p:sp>
            <p:nvSpPr>
              <p:cNvPr id="504" name=""/>
              <p:cNvSpPr/>
              <p:nvPr/>
            </p:nvSpPr>
            <p:spPr>
              <a:xfrm>
                <a:off x="1835280" y="4150080"/>
                <a:ext cx="1257120" cy="3693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48400" y="4150080"/>
                <a:ext cx="1257120" cy="36936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06800" y="4150080"/>
                <a:ext cx="1257120" cy="369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76880" y="4150080"/>
                <a:ext cx="1258920" cy="36936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1835280" y="4580280"/>
              <a:ext cx="1257120" cy="3682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48400" y="4580280"/>
              <a:ext cx="1257120" cy="368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06800" y="4580280"/>
              <a:ext cx="1257120" cy="368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76880" y="4580280"/>
              <a:ext cx="1258920" cy="3682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35280" y="5019120"/>
              <a:ext cx="1257120" cy="367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48400" y="5019120"/>
              <a:ext cx="1257120" cy="367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06800" y="5019120"/>
              <a:ext cx="1257120" cy="36792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76880" y="5019120"/>
              <a:ext cx="1258920" cy="3679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10440" y="3906720"/>
              <a:ext cx="10249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Pipeline</a:t>
              </a:r>
              <a:br>
                <a:rPr sz="1600"/>
              </a:b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blocki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1835280" y="5457960"/>
              <a:ext cx="5070240" cy="368280"/>
              <a:chOff x="1835280" y="5457960"/>
              <a:chExt cx="5070240" cy="368280"/>
            </a:xfrm>
          </p:grpSpPr>
          <p:sp>
            <p:nvSpPr>
              <p:cNvPr id="518" name=""/>
              <p:cNvSpPr/>
              <p:nvPr/>
            </p:nvSpPr>
            <p:spPr>
              <a:xfrm>
                <a:off x="1835280" y="5457960"/>
                <a:ext cx="1257120" cy="3682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648400" y="5457960"/>
                <a:ext cx="1257120" cy="36828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06800" y="5457960"/>
                <a:ext cx="1257120" cy="368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376880" y="5457960"/>
                <a:ext cx="1258920" cy="368280"/>
              </a:xfrm>
              <a:prstGeom prst="rect">
                <a:avLst/>
              </a:prstGeom>
              <a:solidFill>
                <a:srgbClr val="99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  </a:t>
                </a:r>
                <a:r>
                  <a:rPr b="1" lang="de-DE" sz="1600" spc="-1" strike="noStrike">
                    <a:solidFill>
                      <a:srgbClr val="003399"/>
                    </a:solidFill>
                    <a:latin typeface="Arial"/>
                  </a:rPr>
                  <a:t>Befehl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6943680" y="3717720"/>
              <a:ext cx="228600" cy="801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0880 h 801720"/>
                <a:gd name="textAreaBottom" fmla="*/ 78084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592"/>
                  </a:lnTo>
                  <a:cubicBezTo>
                    <a:pt x="10800" y="9492"/>
                    <a:pt x="16200" y="10392"/>
                    <a:pt x="21600" y="10392"/>
                  </a:cubicBezTo>
                  <a:cubicBezTo>
                    <a:pt x="16200" y="10392"/>
                    <a:pt x="10800" y="11292"/>
                    <a:pt x="10800" y="1219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line-Hemmnisse durch Datenabhängikeit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6560" y="1295280"/>
            <a:ext cx="793296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einem Ladebefehl kann der geladene Wert ni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direkt darauffolgenden Befehl im nächs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kt zur Verfügung stehen (voriges Beispiel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ein Befehl das Resultat des direk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gängerbefehls benötigt, muss gewar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 R1,R2,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:=R1+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 R3,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3:=R3+</a:t>
            </a:r>
            <a:r>
              <a:rPr b="1" lang="de-DE" sz="2400" spc="-1" strike="noStrike">
                <a:solidFill>
                  <a:srgbClr val="0000cc"/>
                </a:solidFill>
                <a:latin typeface="Courier New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Bestimmung von Datenabhängigkeit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600" y="1095480"/>
            <a:ext cx="83739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 betrachte zwei Befehle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i=1,2), wob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ei die Menge der Variablen, auf die in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reibend zugegriffen wi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ie Menge der Variablen, auf die in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send zugegriffen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hinreichende Bedingung für eine parallele Ausführung von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da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Bedingung drückt eine völlige Datenunabhängigkeit zwischen den beiden Anweisungen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7000" y="4505400"/>
            <a:ext cx="772560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(DEF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Symbol"/>
                <a:ea typeface="Symbol"/>
              </a:rPr>
              <a:t>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USE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) </a:t>
            </a:r>
            <a:r>
              <a:rPr b="1" lang="de-DE" sz="2400" spc="-1" strike="noStrike">
                <a:solidFill>
                  <a:srgbClr val="0000cc"/>
                </a:solidFill>
                <a:latin typeface="Symbol"/>
                <a:ea typeface="Symbol"/>
              </a:rPr>
              <a:t>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(USE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Symbol"/>
                <a:ea typeface="Symbol"/>
              </a:rPr>
              <a:t>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DEF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) </a:t>
            </a:r>
            <a:r>
              <a:rPr b="1" lang="de-DE" sz="2400" spc="-1" strike="noStrike">
                <a:solidFill>
                  <a:srgbClr val="0000cc"/>
                </a:solidFill>
                <a:latin typeface="Symbol"/>
                <a:ea typeface="Symbol"/>
              </a:rPr>
              <a:t>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(DEF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Symbol"/>
                <a:ea typeface="Symbol"/>
              </a:rPr>
              <a:t>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DEF</a:t>
            </a:r>
            <a:r>
              <a:rPr b="1" lang="de-DE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) = </a:t>
            </a:r>
            <a:r>
              <a:rPr b="1" lang="de-DE" sz="2400" spc="-1" strike="noStrike">
                <a:solidFill>
                  <a:srgbClr val="0000cc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lassifizierung von Daten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6120" y="1254240"/>
            <a:ext cx="8188200" cy="52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besteht eine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chte Abhängigkeit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true Dependence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ch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       S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falls eine Variab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S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ist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iest eine Variabl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ie in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schrieben wur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de-DE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schreibt in ein Register, das von S</a:t>
            </a:r>
            <a:r>
              <a:rPr b="0" lang="de-DE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gelesen wird </a:t>
            </a:r>
            <a:br>
              <a:rPr sz="2400"/>
            </a:b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S</a:t>
            </a:r>
            <a:r>
              <a:rPr b="0" lang="de-DE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würde einen veralteten Registerwert les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besteht eine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Gegenabhängigkeit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ti Dependence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ch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         S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falls eine Vari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ist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S</a:t>
            </a:r>
            <a:r>
              <a:rPr b="0" lang="de-DE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liest eine Variable </a:t>
            </a:r>
            <a:r>
              <a:rPr b="0" lang="de-DE" sz="24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, die in S</a:t>
            </a:r>
            <a:r>
              <a:rPr b="0" lang="de-DE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geschrieben wur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91000" y="187632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03600" y="154152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i="1" lang="de-DE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505320" y="490536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457056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i="1" lang="de-DE" sz="2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lassifizierung von Daten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3280" y="1301760"/>
            <a:ext cx="87598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besteht eine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usgabeabhänigkeit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put Dependence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ch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        S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falls eine Variabl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ist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S</a:t>
            </a:r>
            <a:r>
              <a:rPr b="0" lang="de-DE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und S</a:t>
            </a:r>
            <a:r>
              <a:rPr b="0" lang="de-DE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greifen beide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schreibend auf die Variable </a:t>
            </a:r>
            <a:r>
              <a:rPr b="0" lang="de-DE" sz="24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z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71960" y="195264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86000" y="16178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i="1" lang="de-DE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lassifizierung von Daten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22440" y="1606680"/>
            <a:ext cx="801036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4560"/>
                <a:tab algn="l" pos="1527120"/>
                <a:tab algn="l" pos="2570040"/>
                <a:tab algn="l" pos="3144960"/>
                <a:tab algn="l" pos="4383000"/>
                <a:tab algn="l" pos="514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1527120"/>
                <a:tab algn="l" pos="2570040"/>
                <a:tab algn="l" pos="3144960"/>
                <a:tab algn="l" pos="4383000"/>
                <a:tab algn="l" pos="514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4560"/>
                <a:tab algn="l" pos="1527120"/>
                <a:tab algn="l" pos="2570040"/>
                <a:tab algn="l" pos="3144960"/>
                <a:tab algn="l" pos="4383000"/>
                <a:tab algn="l" pos="514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R2,2,R1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R1 := R2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4560"/>
                <a:tab algn="l" pos="1527120"/>
                <a:tab algn="l" pos="2570040"/>
                <a:tab algn="l" pos="3144960"/>
                <a:tab algn="l" pos="4383000"/>
                <a:tab algn="l" pos="514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R1,R3,R4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R4 := R1 +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4560"/>
                <a:tab algn="l" pos="1527120"/>
                <a:tab algn="l" pos="2570040"/>
                <a:tab algn="l" pos="3144960"/>
                <a:tab algn="l" pos="4383000"/>
                <a:tab algn="l" pos="514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R5,3,R3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R3 := R5 *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4560"/>
                <a:tab algn="l" pos="1527120"/>
                <a:tab algn="l" pos="2570040"/>
                <a:tab algn="l" pos="3144960"/>
                <a:tab algn="l" pos="4383000"/>
                <a:tab algn="l" pos="514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R6,3,R3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R3 := R6 *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1173240"/>
            <a:ext cx="841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lassifikation von Rechnerstrukturen nach Fly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 bezüglich der gleichzeitig bearbeite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- und Datenström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SD (Sing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Datenstrom wird entsprechend einer seri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folge verarbeitet (von-Neumann-Rech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8680" y="4286160"/>
            <a:ext cx="1476360" cy="1609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681440"/>
            <a:ext cx="819000" cy="86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95680" y="533412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04680" y="4838760"/>
            <a:ext cx="150516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3400" y="5027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10960" y="4522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71000" y="4562640"/>
            <a:ext cx="29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-PC, IBM 37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cro-VAX von 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lassifizierung von Daten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21040" y="1298520"/>
            <a:ext cx="673092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ue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nti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Output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1766880"/>
            <a:ext cx="0" cy="1004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82960" y="3224160"/>
            <a:ext cx="0" cy="10051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84760" y="4684680"/>
            <a:ext cx="0" cy="1004760"/>
          </a:xfrm>
          <a:prstGeom prst="line">
            <a:avLst/>
          </a:prstGeom>
          <a:ln w="2844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02280" y="3216240"/>
            <a:ext cx="404640" cy="2503440"/>
          </a:xfrm>
          <a:custGeom>
            <a:avLst/>
            <a:gdLst/>
            <a:ahLst/>
            <a:rect l="l" t="t" r="r" b="b"/>
            <a:pathLst>
              <a:path w="601" h="1800">
                <a:moveTo>
                  <a:pt x="600" y="0"/>
                </a:moveTo>
                <a:lnTo>
                  <a:pt x="0" y="452"/>
                </a:lnTo>
                <a:lnTo>
                  <a:pt x="0" y="896"/>
                </a:lnTo>
                <a:lnTo>
                  <a:pt x="0" y="1373"/>
                </a:lnTo>
                <a:lnTo>
                  <a:pt x="601" y="1800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22360" y="1432080"/>
            <a:ext cx="283356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2,2,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,R3,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5,3,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6,3,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Lese-nach-Schreibe-Konflikt (True Dependenc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4880" y="4224240"/>
            <a:ext cx="85312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ientiert man sich an den Phasen der Befehlsausführung einer fünfstufigen Befehlspipeline, so erkennt man, dass di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peranden-Holphase des zweiten Befehls zeitlich vor der Operanden-Speicherungsphase des ersten Befehls lieg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e Pipeline-Verzögerung ist erforder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17480" y="1859040"/>
            <a:ext cx="5352840" cy="430200"/>
            <a:chOff x="717480" y="1859040"/>
            <a:chExt cx="5352840" cy="430200"/>
          </a:xfrm>
        </p:grpSpPr>
        <p:sp>
          <p:nvSpPr>
            <p:cNvPr id="550" name=""/>
            <p:cNvSpPr/>
            <p:nvPr/>
          </p:nvSpPr>
          <p:spPr>
            <a:xfrm>
              <a:off x="71748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3624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0904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9028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63080" y="185904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763560" y="1525680"/>
            <a:ext cx="101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79480" y="2633760"/>
            <a:ext cx="1062000" cy="43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52640" y="2633760"/>
            <a:ext cx="1060560" cy="43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kod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145120" y="2633760"/>
            <a:ext cx="3206520" cy="430200"/>
            <a:chOff x="5145120" y="2633760"/>
            <a:chExt cx="3206520" cy="430200"/>
          </a:xfrm>
        </p:grpSpPr>
        <p:sp>
          <p:nvSpPr>
            <p:cNvPr id="559" name=""/>
            <p:cNvSpPr/>
            <p:nvPr/>
          </p:nvSpPr>
          <p:spPr>
            <a:xfrm>
              <a:off x="6217920" y="263376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90360" y="263376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45120" y="2633760"/>
              <a:ext cx="1061280" cy="43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per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704960" y="233856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07080" y="1241280"/>
            <a:ext cx="1462320" cy="419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92600" y="1657440"/>
            <a:ext cx="2754360" cy="1226880"/>
          </a:xfrm>
          <a:custGeom>
            <a:avLst/>
            <a:gdLst/>
            <a:ahLst/>
            <a:rect l="l" t="t" r="r" b="b"/>
            <a:pathLst>
              <a:path w="1735" h="773">
                <a:moveTo>
                  <a:pt x="1676" y="0"/>
                </a:moveTo>
                <a:cubicBezTo>
                  <a:pt x="1646" y="74"/>
                  <a:pt x="1735" y="358"/>
                  <a:pt x="1496" y="444"/>
                </a:cubicBezTo>
                <a:cubicBezTo>
                  <a:pt x="1257" y="530"/>
                  <a:pt x="484" y="480"/>
                  <a:pt x="242" y="516"/>
                </a:cubicBezTo>
                <a:cubicBezTo>
                  <a:pt x="0" y="552"/>
                  <a:pt x="65" y="620"/>
                  <a:pt x="44" y="660"/>
                </a:cubicBezTo>
                <a:cubicBezTo>
                  <a:pt x="23" y="700"/>
                  <a:pt x="77" y="739"/>
                  <a:pt x="116" y="756"/>
                </a:cubicBezTo>
                <a:cubicBezTo>
                  <a:pt x="155" y="773"/>
                  <a:pt x="244" y="759"/>
                  <a:pt x="278" y="76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070680" y="1415880"/>
            <a:ext cx="539640" cy="677880"/>
          </a:xfrm>
          <a:custGeom>
            <a:avLst/>
            <a:gdLst/>
            <a:ahLst/>
            <a:rect l="l" t="t" r="r" b="b"/>
            <a:pathLst>
              <a:path w="340" h="427">
                <a:moveTo>
                  <a:pt x="0" y="411"/>
                </a:moveTo>
                <a:cubicBezTo>
                  <a:pt x="25" y="404"/>
                  <a:pt x="120" y="427"/>
                  <a:pt x="148" y="368"/>
                </a:cubicBezTo>
                <a:cubicBezTo>
                  <a:pt x="176" y="309"/>
                  <a:pt x="134" y="112"/>
                  <a:pt x="166" y="56"/>
                </a:cubicBezTo>
                <a:cubicBezTo>
                  <a:pt x="198" y="0"/>
                  <a:pt x="304" y="37"/>
                  <a:pt x="340" y="32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9800" y="3303720"/>
            <a:ext cx="799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02040" y="3216240"/>
            <a:ext cx="0" cy="23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56280" y="3206880"/>
            <a:ext cx="0" cy="23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11480" y="3411360"/>
            <a:ext cx="779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178240" y="3411360"/>
            <a:ext cx="779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62480" y="352116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Pipeline - Verzög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819920" y="3303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ös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4520" y="1384200"/>
            <a:ext cx="789444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rdware-Lös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ögerung  der Pipeline an geeigneter Stel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lauf der Pipeline (Pipeline Stalling, Hardwar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loc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ypass-Techniken (load forwarding, resu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Bypass-Technik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3440" y="2876400"/>
            <a:ext cx="3646440" cy="2462400"/>
          </a:xfrm>
          <a:prstGeom prst="rect">
            <a:avLst/>
          </a:prstGeom>
          <a:solidFill>
            <a:srgbClr val="d1ff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2424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173560" y="4035600"/>
            <a:ext cx="1702080" cy="2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8968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44960" y="1217520"/>
            <a:ext cx="2197080" cy="2397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44960" y="1689120"/>
            <a:ext cx="2197080" cy="1890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44960" y="18511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44960" y="2025720"/>
            <a:ext cx="2197080" cy="187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44960" y="2201760"/>
            <a:ext cx="2197080" cy="1875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44960" y="23893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2424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8968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379760" y="307656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95600" y="3076560"/>
            <a:ext cx="15937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51160" y="4152960"/>
            <a:ext cx="160560" cy="498240"/>
          </a:xfrm>
          <a:prstGeom prst="downArrow">
            <a:avLst>
              <a:gd name="adj1" fmla="val 50000"/>
              <a:gd name="adj2" fmla="val 77578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51160" y="4991040"/>
            <a:ext cx="152640" cy="571680"/>
          </a:xfrm>
          <a:prstGeom prst="downArrow">
            <a:avLst>
              <a:gd name="adj1" fmla="val 50000"/>
              <a:gd name="adj2" fmla="val 93632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21040" y="3632040"/>
            <a:ext cx="2627280" cy="744840"/>
          </a:xfrm>
          <a:custGeom>
            <a:avLst/>
            <a:gdLst>
              <a:gd name="textAreaLeft" fmla="*/ 577800 w 2627280"/>
              <a:gd name="textAreaRight" fmla="*/ 2049480 w 2627280"/>
              <a:gd name="textAreaTop" fmla="*/ 163800 h 744840"/>
              <a:gd name="textAreaBottom" fmla="*/ 581040 h 7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54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22680" y="3632040"/>
            <a:ext cx="1257120" cy="297000"/>
          </a:xfrm>
          <a:custGeom>
            <a:avLst/>
            <a:gdLst>
              <a:gd name="textAreaLeft" fmla="*/ 276480 w 1257120"/>
              <a:gd name="textAreaRight" fmla="*/ 980640 w 125712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1ff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39960" y="3627360"/>
            <a:ext cx="1222560" cy="4680"/>
          </a:xfrm>
          <a:prstGeom prst="line">
            <a:avLst/>
          </a:prstGeom>
          <a:ln w="28440">
            <a:solidFill>
              <a:srgbClr val="d1ff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59280" y="397044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41600" y="465444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rot="16200000">
            <a:off x="2500920" y="1580040"/>
            <a:ext cx="204840" cy="1054080"/>
          </a:xfrm>
          <a:prstGeom prst="downArrow">
            <a:avLst>
              <a:gd name="adj1" fmla="val 43315"/>
              <a:gd name="adj2" fmla="val 4469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76480" y="2089080"/>
            <a:ext cx="76320" cy="314964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44960" y="1447920"/>
            <a:ext cx="2197080" cy="241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5400000">
            <a:off x="3132720" y="4114080"/>
            <a:ext cx="90360" cy="215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00000">
            <a:off x="1088640" y="364752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94360" y="3745080"/>
            <a:ext cx="164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rot="16200000">
            <a:off x="2669760" y="2117520"/>
            <a:ext cx="155880" cy="1231920"/>
          </a:xfrm>
          <a:prstGeom prst="downArrow">
            <a:avLst>
              <a:gd name="adj1" fmla="val 43315"/>
              <a:gd name="adj2" fmla="val 68639"/>
            </a:avLst>
          </a:prstGeom>
          <a:solidFill>
            <a:srgbClr val="00cc00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12560" y="23940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Bypass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372360" y="1793880"/>
            <a:ext cx="95040" cy="40734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419640" y="1681200"/>
            <a:ext cx="154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5749200" y="1313640"/>
            <a:ext cx="223920" cy="1054080"/>
          </a:xfrm>
          <a:prstGeom prst="downArrow">
            <a:avLst>
              <a:gd name="adj1" fmla="val 43315"/>
              <a:gd name="adj2" fmla="val 40885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5736600" y="2136600"/>
            <a:ext cx="174960" cy="1212840"/>
          </a:xfrm>
          <a:prstGeom prst="downArrow">
            <a:avLst>
              <a:gd name="adj1" fmla="val 43315"/>
              <a:gd name="adj2" fmla="val 60206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24840" y="2398680"/>
            <a:ext cx="27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Bypass 2      (Load forward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42040" y="5832360"/>
            <a:ext cx="29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m Cache- oder Hauptspe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3800" y="239400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Result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forwa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Beispiel (result forwarding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8000" y="1171440"/>
            <a:ext cx="662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dresse&gt;, R1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1 := (&lt;Adresse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1, R2, 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3 := R1 +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4, R5, R6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6 := R4 - 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843520" y="3268800"/>
            <a:ext cx="3186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Ausführungsphase des Befehls ADD wird der neue Wert von R1 gerade ins Register geschrieben und steht deshalb nur über den Bypass direkt zur Verfü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58720" y="2374920"/>
            <a:ext cx="5070600" cy="463680"/>
            <a:chOff x="558720" y="2374920"/>
            <a:chExt cx="5070600" cy="463680"/>
          </a:xfrm>
        </p:grpSpPr>
        <p:sp>
          <p:nvSpPr>
            <p:cNvPr id="616" name=""/>
            <p:cNvSpPr/>
            <p:nvPr/>
          </p:nvSpPr>
          <p:spPr>
            <a:xfrm>
              <a:off x="558720" y="2374920"/>
              <a:ext cx="1257480" cy="463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72200" y="2374920"/>
              <a:ext cx="1257120" cy="463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30600" y="2374920"/>
              <a:ext cx="1257120" cy="4636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00320" y="2374920"/>
              <a:ext cx="1258920" cy="4636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568440" y="321480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81560" y="3214800"/>
            <a:ext cx="12571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39960" y="3214800"/>
            <a:ext cx="125712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0040" y="3214800"/>
            <a:ext cx="125892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8440" y="3637080"/>
            <a:ext cx="1257120" cy="3697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381560" y="3637080"/>
            <a:ext cx="1257120" cy="36972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9960" y="3637080"/>
            <a:ext cx="1257120" cy="36972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10040" y="3637080"/>
            <a:ext cx="1258920" cy="369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8440" y="406080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1560" y="4060800"/>
            <a:ext cx="12571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839960" y="4060800"/>
            <a:ext cx="125712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10040" y="4060800"/>
            <a:ext cx="125892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8440" y="449280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Befeh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81560" y="4492800"/>
            <a:ext cx="12571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-- -- 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39960" y="4492800"/>
            <a:ext cx="125712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0040" y="4492800"/>
            <a:ext cx="125892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68440" y="4921200"/>
            <a:ext cx="1257120" cy="3700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81560" y="4921200"/>
            <a:ext cx="1257120" cy="3700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39960" y="4921200"/>
            <a:ext cx="1257120" cy="3700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Befeh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10040" y="4921200"/>
            <a:ext cx="1258920" cy="3700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68440" y="535140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81560" y="5351400"/>
            <a:ext cx="12571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39960" y="5351400"/>
            <a:ext cx="125712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10040" y="5351400"/>
            <a:ext cx="125892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Befeh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52800" y="4178160"/>
            <a:ext cx="0" cy="571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18760" y="4262400"/>
            <a:ext cx="1055520" cy="3405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Byp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ös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2440" y="1198440"/>
            <a:ext cx="832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ware-Lös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gen von NOP-Befehlen durch den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400560" y="2441520"/>
            <a:ext cx="5069880" cy="463680"/>
            <a:chOff x="3400560" y="2441520"/>
            <a:chExt cx="5069880" cy="463680"/>
          </a:xfrm>
        </p:grpSpPr>
        <p:sp>
          <p:nvSpPr>
            <p:cNvPr id="649" name=""/>
            <p:cNvSpPr/>
            <p:nvPr/>
          </p:nvSpPr>
          <p:spPr>
            <a:xfrm>
              <a:off x="3400560" y="2441520"/>
              <a:ext cx="1257120" cy="463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13680" y="2441520"/>
              <a:ext cx="1256760" cy="463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72080" y="2441520"/>
              <a:ext cx="1256760" cy="4636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41800" y="2441520"/>
              <a:ext cx="1258560" cy="4636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409920" y="3154320"/>
            <a:ext cx="5070600" cy="368280"/>
            <a:chOff x="3409920" y="3154320"/>
            <a:chExt cx="5070600" cy="368280"/>
          </a:xfrm>
        </p:grpSpPr>
        <p:sp>
          <p:nvSpPr>
            <p:cNvPr id="654" name=""/>
            <p:cNvSpPr/>
            <p:nvPr/>
          </p:nvSpPr>
          <p:spPr>
            <a:xfrm>
              <a:off x="3409920" y="3154320"/>
              <a:ext cx="12574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23040" y="3154320"/>
              <a:ext cx="12574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81440" y="3154320"/>
              <a:ext cx="1257480" cy="3682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3154320"/>
              <a:ext cx="1258920" cy="368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409920" y="3576600"/>
            <a:ext cx="5070600" cy="370080"/>
            <a:chOff x="3409920" y="3576600"/>
            <a:chExt cx="5070600" cy="370080"/>
          </a:xfrm>
        </p:grpSpPr>
        <p:sp>
          <p:nvSpPr>
            <p:cNvPr id="659" name=""/>
            <p:cNvSpPr/>
            <p:nvPr/>
          </p:nvSpPr>
          <p:spPr>
            <a:xfrm>
              <a:off x="3409920" y="3576600"/>
              <a:ext cx="1257480" cy="370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3300"/>
                  </a:solidFill>
                  <a:latin typeface="Arial"/>
                </a:rPr>
                <a:t>N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23040" y="3576600"/>
              <a:ext cx="1257480" cy="370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81440" y="3576600"/>
              <a:ext cx="1257480" cy="3700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3576600"/>
              <a:ext cx="1258920" cy="370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409920" y="4000680"/>
            <a:ext cx="5070600" cy="368280"/>
            <a:chOff x="3409920" y="4000680"/>
            <a:chExt cx="5070600" cy="368280"/>
          </a:xfrm>
        </p:grpSpPr>
        <p:sp>
          <p:nvSpPr>
            <p:cNvPr id="664" name=""/>
            <p:cNvSpPr/>
            <p:nvPr/>
          </p:nvSpPr>
          <p:spPr>
            <a:xfrm>
              <a:off x="3409920" y="4000680"/>
              <a:ext cx="12574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3040" y="4000680"/>
              <a:ext cx="12574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81440" y="4000680"/>
              <a:ext cx="1257480" cy="3682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3300"/>
                  </a:solidFill>
                  <a:latin typeface="Arial"/>
                </a:rPr>
                <a:t>N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000680"/>
              <a:ext cx="1258920" cy="368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409920" y="4861080"/>
            <a:ext cx="5070600" cy="369720"/>
            <a:chOff x="3409920" y="4861080"/>
            <a:chExt cx="5070600" cy="369720"/>
          </a:xfrm>
        </p:grpSpPr>
        <p:sp>
          <p:nvSpPr>
            <p:cNvPr id="669" name=""/>
            <p:cNvSpPr/>
            <p:nvPr/>
          </p:nvSpPr>
          <p:spPr>
            <a:xfrm>
              <a:off x="3409920" y="4861080"/>
              <a:ext cx="1257480" cy="3697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223040" y="4861080"/>
              <a:ext cx="1257480" cy="369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3300"/>
                  </a:solidFill>
                  <a:latin typeface="Arial"/>
                </a:rPr>
                <a:t>N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81440" y="4861080"/>
              <a:ext cx="1257480" cy="3697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51520" y="4861080"/>
              <a:ext cx="1258920" cy="3697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409920" y="5722920"/>
            <a:ext cx="5070600" cy="368280"/>
            <a:chOff x="3409920" y="5722920"/>
            <a:chExt cx="5070600" cy="368280"/>
          </a:xfrm>
        </p:grpSpPr>
        <p:sp>
          <p:nvSpPr>
            <p:cNvPr id="674" name=""/>
            <p:cNvSpPr/>
            <p:nvPr/>
          </p:nvSpPr>
          <p:spPr>
            <a:xfrm>
              <a:off x="3409920" y="5722920"/>
              <a:ext cx="12574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23040" y="5722920"/>
              <a:ext cx="12574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81440" y="5722920"/>
              <a:ext cx="1257480" cy="3682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51520" y="5722920"/>
              <a:ext cx="1258920" cy="368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3409920" y="4432320"/>
            <a:ext cx="5070600" cy="368280"/>
            <a:chOff x="3409920" y="4432320"/>
            <a:chExt cx="5070600" cy="368280"/>
          </a:xfrm>
        </p:grpSpPr>
        <p:sp>
          <p:nvSpPr>
            <p:cNvPr id="679" name=""/>
            <p:cNvSpPr/>
            <p:nvPr/>
          </p:nvSpPr>
          <p:spPr>
            <a:xfrm>
              <a:off x="3409920" y="4432320"/>
              <a:ext cx="12574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23040" y="4432320"/>
              <a:ext cx="12574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81440" y="4432320"/>
              <a:ext cx="1257480" cy="3682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51520" y="4432320"/>
              <a:ext cx="1258920" cy="368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3300"/>
                  </a:solidFill>
                  <a:latin typeface="Arial"/>
                </a:rPr>
                <a:t>N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 flipH="1">
            <a:off x="5355720" y="4254480"/>
            <a:ext cx="714600" cy="36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3409920" y="5292720"/>
            <a:ext cx="5070600" cy="369720"/>
            <a:chOff x="3409920" y="5292720"/>
            <a:chExt cx="5070600" cy="369720"/>
          </a:xfrm>
        </p:grpSpPr>
        <p:sp>
          <p:nvSpPr>
            <p:cNvPr id="685" name=""/>
            <p:cNvSpPr/>
            <p:nvPr/>
          </p:nvSpPr>
          <p:spPr>
            <a:xfrm>
              <a:off x="3409920" y="5292720"/>
              <a:ext cx="1257480" cy="3697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3040" y="5292720"/>
              <a:ext cx="1257480" cy="369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81440" y="5292720"/>
              <a:ext cx="1257480" cy="3697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51520" y="5292720"/>
              <a:ext cx="1258920" cy="3697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457200" y="2705040"/>
            <a:ext cx="2374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adr&gt;, R1</a:t>
            </a:r>
            <a:br>
              <a:rPr sz="1600"/>
            </a:br>
            <a:r>
              <a:rPr b="1" lang="de-DE" sz="1800" spc="-1" strike="noStrike">
                <a:solidFill>
                  <a:srgbClr val="ff3300"/>
                </a:solidFill>
                <a:latin typeface="Courier New"/>
              </a:rPr>
              <a:t>NOP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1, R2, R3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4, R5, 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ös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04640" y="1447920"/>
            <a:ext cx="8428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2040" y="1278000"/>
            <a:ext cx="8310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ware-Lös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plazieren von Befehlen durch den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181320" y="3370320"/>
            <a:ext cx="5070600" cy="368280"/>
            <a:chOff x="3181320" y="3370320"/>
            <a:chExt cx="5070600" cy="368280"/>
          </a:xfrm>
        </p:grpSpPr>
        <p:sp>
          <p:nvSpPr>
            <p:cNvPr id="694" name=""/>
            <p:cNvSpPr/>
            <p:nvPr/>
          </p:nvSpPr>
          <p:spPr>
            <a:xfrm>
              <a:off x="3181320" y="3370320"/>
              <a:ext cx="12574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94440" y="3370320"/>
              <a:ext cx="12574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52840" y="3370320"/>
              <a:ext cx="1257480" cy="3682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22920" y="3370320"/>
              <a:ext cx="1258920" cy="368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181320" y="3792600"/>
            <a:ext cx="5070600" cy="369720"/>
            <a:chOff x="3181320" y="3792600"/>
            <a:chExt cx="5070600" cy="369720"/>
          </a:xfrm>
        </p:grpSpPr>
        <p:sp>
          <p:nvSpPr>
            <p:cNvPr id="699" name=""/>
            <p:cNvSpPr/>
            <p:nvPr/>
          </p:nvSpPr>
          <p:spPr>
            <a:xfrm>
              <a:off x="3181320" y="3792600"/>
              <a:ext cx="1257480" cy="3697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94440" y="3792600"/>
              <a:ext cx="1257480" cy="369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52840" y="3792600"/>
              <a:ext cx="1257480" cy="3697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22920" y="3792600"/>
              <a:ext cx="1258920" cy="3697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3181320" y="4216320"/>
            <a:ext cx="5070600" cy="368280"/>
            <a:chOff x="3181320" y="4216320"/>
            <a:chExt cx="5070600" cy="368280"/>
          </a:xfrm>
        </p:grpSpPr>
        <p:sp>
          <p:nvSpPr>
            <p:cNvPr id="704" name=""/>
            <p:cNvSpPr/>
            <p:nvPr/>
          </p:nvSpPr>
          <p:spPr>
            <a:xfrm>
              <a:off x="3181320" y="4216320"/>
              <a:ext cx="12574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94440" y="4216320"/>
              <a:ext cx="12574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2840" y="4216320"/>
              <a:ext cx="1257480" cy="3682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22920" y="4216320"/>
              <a:ext cx="1258920" cy="368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3181320" y="4645080"/>
            <a:ext cx="5070600" cy="369720"/>
            <a:chOff x="3181320" y="4645080"/>
            <a:chExt cx="5070600" cy="369720"/>
          </a:xfrm>
        </p:grpSpPr>
        <p:sp>
          <p:nvSpPr>
            <p:cNvPr id="709" name=""/>
            <p:cNvSpPr/>
            <p:nvPr/>
          </p:nvSpPr>
          <p:spPr>
            <a:xfrm>
              <a:off x="3181320" y="4645080"/>
              <a:ext cx="1257480" cy="3697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94440" y="4645080"/>
              <a:ext cx="1257480" cy="369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-- -- 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52840" y="4645080"/>
              <a:ext cx="1257480" cy="3697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22920" y="4645080"/>
              <a:ext cx="1258920" cy="3697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181320" y="5506920"/>
            <a:ext cx="5070600" cy="368280"/>
            <a:chOff x="3181320" y="5506920"/>
            <a:chExt cx="5070600" cy="368280"/>
          </a:xfrm>
        </p:grpSpPr>
        <p:sp>
          <p:nvSpPr>
            <p:cNvPr id="714" name=""/>
            <p:cNvSpPr/>
            <p:nvPr/>
          </p:nvSpPr>
          <p:spPr>
            <a:xfrm>
              <a:off x="3181320" y="5506920"/>
              <a:ext cx="12574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94440" y="5506920"/>
              <a:ext cx="12574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52840" y="5506920"/>
              <a:ext cx="1257480" cy="3682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22920" y="5506920"/>
              <a:ext cx="1258920" cy="368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 flipH="1">
            <a:off x="5102280" y="4495680"/>
            <a:ext cx="714240" cy="362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181320" y="5076720"/>
            <a:ext cx="5070600" cy="369720"/>
            <a:chOff x="3181320" y="5076720"/>
            <a:chExt cx="5070600" cy="369720"/>
          </a:xfrm>
        </p:grpSpPr>
        <p:sp>
          <p:nvSpPr>
            <p:cNvPr id="720" name=""/>
            <p:cNvSpPr/>
            <p:nvPr/>
          </p:nvSpPr>
          <p:spPr>
            <a:xfrm>
              <a:off x="3181320" y="5076720"/>
              <a:ext cx="1257480" cy="3697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94440" y="5076720"/>
              <a:ext cx="1257480" cy="369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52840" y="5076720"/>
              <a:ext cx="1257480" cy="3697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Befeh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22920" y="5076720"/>
              <a:ext cx="1258920" cy="3697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3399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171960" y="2657520"/>
            <a:ext cx="5069880" cy="463680"/>
            <a:chOff x="3171960" y="2657520"/>
            <a:chExt cx="5069880" cy="463680"/>
          </a:xfrm>
        </p:grpSpPr>
        <p:sp>
          <p:nvSpPr>
            <p:cNvPr id="725" name=""/>
            <p:cNvSpPr/>
            <p:nvPr/>
          </p:nvSpPr>
          <p:spPr>
            <a:xfrm>
              <a:off x="3171960" y="2657520"/>
              <a:ext cx="1257120" cy="463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85080" y="2657520"/>
              <a:ext cx="1256760" cy="463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43480" y="2657520"/>
              <a:ext cx="1256760" cy="4636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13200" y="2657520"/>
              <a:ext cx="1258560" cy="4636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393840" y="2857680"/>
            <a:ext cx="24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adr&gt;, R1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4, R5, R6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1, R2, 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20772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emmnisse durch Kontroll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6560" y="1644480"/>
            <a:ext cx="828864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(bedingten) Sprungbefehlen oder Verzweigungen ist der Programmfluß unterbrochen, die Programmausführung wird u.U. an anderer Stelle fort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ein Sprungbefehl in die Pipeline eintritt, dann wird er in der Dekodierphase als solcher 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Zeitpunkt der Erkennung der Verzweigung wur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fehle, die im Programm direkt hinter d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rungbefehl stehen, in die Pipeline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316080" y="1351080"/>
            <a:ext cx="86691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378000"/>
                <a:tab algn="l" pos="1238400"/>
                <a:tab algn="l" pos="16178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MP   R1,R2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R1 = R2 ?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DC   R4,R5,R4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R4:= R4+ R5 + C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EQ   Label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PC := &lt;Label Adresse&gt;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DD   R1,R2,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R3:= R1 +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378000"/>
                <a:tab algn="l" pos="1238400"/>
                <a:tab algn="l" pos="16178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Label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UB   R4,R5,R6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R6:= R4 - R5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LL   R0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R0 nach links 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4080" y="208080"/>
            <a:ext cx="87850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720" y="152280"/>
            <a:ext cx="889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55680" y="5435640"/>
            <a:ext cx="823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falsche Befehl ADD gelangt in die Pipeline und somit zur Ausführung, bevor der Sprung erkannt wi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3514680" y="1565280"/>
            <a:ext cx="5070600" cy="463680"/>
            <a:chOff x="3514680" y="1565280"/>
            <a:chExt cx="5070600" cy="463680"/>
          </a:xfrm>
        </p:grpSpPr>
        <p:sp>
          <p:nvSpPr>
            <p:cNvPr id="738" name=""/>
            <p:cNvSpPr/>
            <p:nvPr/>
          </p:nvSpPr>
          <p:spPr>
            <a:xfrm>
              <a:off x="3514680" y="1565280"/>
              <a:ext cx="1257480" cy="463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28160" y="1565280"/>
              <a:ext cx="1257120" cy="463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86560" y="1565280"/>
              <a:ext cx="1257120" cy="4636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056280" y="1565280"/>
              <a:ext cx="1258920" cy="4636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3524400" y="227808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37520" y="2278080"/>
            <a:ext cx="12571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95920" y="2278080"/>
            <a:ext cx="125712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66000" y="2278080"/>
            <a:ext cx="125856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24400" y="2700360"/>
            <a:ext cx="1257120" cy="3697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B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37520" y="2700360"/>
            <a:ext cx="1257120" cy="36972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95920" y="2700360"/>
            <a:ext cx="1257120" cy="36972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66000" y="2700360"/>
            <a:ext cx="1258560" cy="369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24400" y="312408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337520" y="3124080"/>
            <a:ext cx="12571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795920" y="3124080"/>
            <a:ext cx="125712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B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66000" y="3124080"/>
            <a:ext cx="125856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24400" y="3984480"/>
            <a:ext cx="1257120" cy="3700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337520" y="3984480"/>
            <a:ext cx="1257120" cy="3700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-- -- 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795920" y="3984480"/>
            <a:ext cx="1257120" cy="3700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66000" y="3984480"/>
            <a:ext cx="1258560" cy="3700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24400" y="484668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37520" y="4846680"/>
            <a:ext cx="12571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795920" y="4846680"/>
            <a:ext cx="125712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66000" y="4846680"/>
            <a:ext cx="125856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24400" y="355608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37520" y="3556080"/>
            <a:ext cx="12571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95920" y="3556080"/>
            <a:ext cx="125712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66000" y="3556080"/>
            <a:ext cx="125856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-- -- 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200120" y="3365640"/>
            <a:ext cx="714600" cy="36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524400" y="4416480"/>
            <a:ext cx="1257120" cy="3697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337520" y="4416480"/>
            <a:ext cx="1257120" cy="36972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95920" y="4416480"/>
            <a:ext cx="1257120" cy="36972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66000" y="4416480"/>
            <a:ext cx="1258560" cy="369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16000" y="2514600"/>
            <a:ext cx="29080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MP   R1,R2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DC   R4,R5,R4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EQ   Label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DD   R1,R2,R3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UB   R4,R5,R6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LL  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2960" y="11970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MD (Sing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ieselben Befeh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 (Array-Prozessor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71640" y="5705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81000" y="2800440"/>
            <a:ext cx="1971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91680" y="5351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11120" y="2484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771640" y="4400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762280" y="3390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1680" y="4065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91680" y="3056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43360" y="2809800"/>
            <a:ext cx="0" cy="2476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43360" y="3685680"/>
            <a:ext cx="0" cy="3524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734000" y="5067360"/>
            <a:ext cx="0" cy="2570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30337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6800" y="400536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75480" y="3000240"/>
            <a:ext cx="3277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ld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o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ein Bildausschnit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14920" y="489276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4920" y="498780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ös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28680" y="1527120"/>
            <a:ext cx="8467560" cy="40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rdware-Lös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ipeline-Flush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or Einlagerung des angesprunge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 in die Pipeline wird diese gelös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ulative-Bran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bei bedingten Sprüngen wird da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 der Bedingung geschätzt und entsprechend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 bereits geladen. Bei Fehlschätzung: Pipeline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u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bei modernen Prozessoren gängiges Verfah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ös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2360" y="1550880"/>
            <a:ext cx="80899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ware-Lös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gen von NOP-Befehlen durch den Compiler na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Verzwe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plazieren von Befehlen durch den Compi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telle von NOP's werden Befehle nach den Sp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ziert, die sowieso ausgeführt werden müssen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Auswirkung auf die Sprungentscheidung h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ös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15800" y="1295280"/>
            <a:ext cx="78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860400"/>
                <a:tab algn="l" pos="17096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 (Befehl 2 und 3 vertausch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3080" y="2079720"/>
            <a:ext cx="849600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CMP   R1,R2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; R1 = R2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Courier New"/>
              </a:rPr>
              <a:t>BEQ   Label</a:t>
            </a:r>
            <a:r>
              <a:rPr b="1" lang="de-DE" sz="2200" spc="-1" strike="noStrike">
                <a:solidFill>
                  <a:srgbClr val="0000cc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Courier New"/>
              </a:rPr>
              <a:t>; PC := &lt;Label Adress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cc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Courier New"/>
              </a:rPr>
              <a:t>ADC   R4,R5,R4</a:t>
            </a:r>
            <a:r>
              <a:rPr b="1" lang="de-DE" sz="2200" spc="-1" strike="noStrike">
                <a:solidFill>
                  <a:srgbClr val="0000cc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Courier New"/>
              </a:rPr>
              <a:t>; R4:= R4+ R5 +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ADD   R1,R2,R3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; R3:= R1 + R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Lab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SUB   R4,R5,R6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; R6:= R4 - R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SLL   R0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; R0 nach links verschie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ös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34800" y="1265400"/>
            <a:ext cx="78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860400"/>
                <a:tab algn="l" pos="17096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 (Befehl 2 und 3 vertausch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38360" y="2149560"/>
            <a:ext cx="5070600" cy="463320"/>
            <a:chOff x="3438360" y="2149560"/>
            <a:chExt cx="5070600" cy="463320"/>
          </a:xfrm>
        </p:grpSpPr>
        <p:sp>
          <p:nvSpPr>
            <p:cNvPr id="782" name=""/>
            <p:cNvSpPr/>
            <p:nvPr/>
          </p:nvSpPr>
          <p:spPr>
            <a:xfrm>
              <a:off x="3438360" y="2149560"/>
              <a:ext cx="1257480" cy="463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51840" y="2149560"/>
              <a:ext cx="1257120" cy="463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10240" y="2149560"/>
              <a:ext cx="1257120" cy="46332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979960" y="2149560"/>
              <a:ext cx="1258920" cy="4633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3448080" y="286236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61200" y="2862360"/>
            <a:ext cx="125748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719600" y="2862360"/>
            <a:ext cx="125748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989680" y="2862360"/>
            <a:ext cx="125892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61200" y="3284640"/>
            <a:ext cx="1257480" cy="36972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19600" y="3284640"/>
            <a:ext cx="1257480" cy="36972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89680" y="3284640"/>
            <a:ext cx="1258920" cy="369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460680" y="3708360"/>
            <a:ext cx="125748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61200" y="3708360"/>
            <a:ext cx="125748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19600" y="3708360"/>
            <a:ext cx="125748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B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89680" y="3708360"/>
            <a:ext cx="125892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48080" y="4568760"/>
            <a:ext cx="1257120" cy="3700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261200" y="4568760"/>
            <a:ext cx="1257480" cy="3700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-- -- 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19600" y="4568760"/>
            <a:ext cx="1257480" cy="3700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989680" y="4568760"/>
            <a:ext cx="1258920" cy="3700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48080" y="543096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261200" y="5430960"/>
            <a:ext cx="125748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19600" y="5430960"/>
            <a:ext cx="125748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989680" y="5430960"/>
            <a:ext cx="125892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448080" y="4140360"/>
            <a:ext cx="125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261200" y="4140360"/>
            <a:ext cx="125748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19600" y="4140360"/>
            <a:ext cx="1257480" cy="368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89680" y="4140360"/>
            <a:ext cx="125892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-- -- 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444640" y="3886200"/>
            <a:ext cx="638280" cy="1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448080" y="5000760"/>
            <a:ext cx="1257120" cy="3697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261200" y="5000760"/>
            <a:ext cx="1257480" cy="36972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719600" y="5000760"/>
            <a:ext cx="1257480" cy="36972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89680" y="5000760"/>
            <a:ext cx="1258920" cy="369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6000" y="2514600"/>
            <a:ext cx="29080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MP   R1,R2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EQ   Label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DC   R4,R5,R4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DD   R1,R2,R3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UB   R4,R5,R6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LL  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48080" y="3284640"/>
            <a:ext cx="1257120" cy="3697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B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: Complete Instruction Set Compu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0880" y="1276200"/>
            <a:ext cx="839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nstehungsgründe für umfangreiche Maschinenbefehlssätz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windigkeitsunterschied zwischen CPU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höherer Programmierspr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wärtskompati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37880" y="271440"/>
            <a:ext cx="88851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: Complete Instruction Set Compu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51000" y="1236600"/>
            <a:ext cx="85899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Grenzen der Weiterentwicklungsmöglichkeiten bei CISC-Rechner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437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nellere Speich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usnutzung nur eines Teils des Maschinen-Befehlssatz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rsetzung komplexer Maschinenbefehle durch mehrere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infache Maschinenbefeh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Verlängerte Entwurfsze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ehr komplexe Steuerwerke (&gt; 50% der Chipfläch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ehr umfangreiche Mikroprogram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rößere Fehlerhäufigkeit auf der Mikroprogrammebe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wieriger Compilerba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38120" y="1179360"/>
            <a:ext cx="8277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komplizierter Befehle ist immer no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als die Ausführung von Programmen glei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 begünstigt komplizierte 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te Befehle führen zu kurzen Progr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fang des Befehlssatzes wird oft als Werbeargumen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höherer Programmiersprachen dur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zierte Befehle  (Direkte Abbildung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rachkonstrukt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fe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5640" y="1219320"/>
            <a:ext cx="843912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von Compilern durch entsprech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spezieller Einsatzgeb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 von Hardware, Programmiersprach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Einsatzgebieten begünstigt „komplizierte“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76280" y="1170000"/>
            <a:ext cx="817236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ge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e Hauptspeicher und die Verwendung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Speichern beschleunige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6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e wurden immer komplizierter (imm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ingere Unterschiede zwischen 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Mikroprogrammieru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relativ kleine Teile des großen Befehlssatz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häufig benu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57200" y="1324080"/>
            <a:ext cx="83343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programme in XPL auf IBM/36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 % aller ausgeführten Befehle: 1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5 % aller ausgeführten Befehle: 21 verschiedene Befeh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 % aller ausgeführten Befehle: 3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BOL-Programme auf IBM/37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,28 % aller ausgeführten Befehle: 26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,08 % aller ausgeführten Befehle: 48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ur 84 verschiedene Befehle wurden überhaupt benutz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9320" y="1301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MD (Multip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Befeh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71640" y="588636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1680" y="5532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771640" y="457200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62280" y="3552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1680" y="4237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1680" y="3218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192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9481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62280" y="549576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82320" y="5141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71640" y="414324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9204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62280" y="311472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82320" y="2760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495000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4920" y="510228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05640" y="29908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prozessor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 3084, Cray-2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imitationen der CISC Architektu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80880" y="1417680"/>
            <a:ext cx="843912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fehlsausnutzung (80/20 Rege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mächtige Befehle, komplexes Befehlsforma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, nur 20 % der Befehle wer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wiegend benu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ritisches Problem: Anzahl der Zyklen pr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ruktion (C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allen heutigen CISC Architekturen ist CPI &gt;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0000"/>
              </a:lnSpc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C 68030: CPI = 4-6, Intel 80386 CPI = 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RISC (reduced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09680" y="1065240"/>
            <a:ext cx="8001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prinzip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 benutzte einfache Befehle so schnell wie mög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en (Ausführung möglichst in einer Taktphase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Mikro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, Befehls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größte Teil der Arbeit soll durch optimier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er zur Übersetzungszeit erledig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 werden nach Möglichkeit in groß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ätzen gehalt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 Zugriff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 Befehlsforma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Decod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ing anwenden, so gut es g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7160" y="1301760"/>
            <a:ext cx="868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SD (Multip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nur ein Datenstrom bearbeitet. Bestimm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seinheiten übernehmen die Ausführ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er Teile einer Operation (Pipeline-Verarbeitung)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tät auf Befehlsebene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Moderne“ Prozessoren: ab Intel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800" y="1138320"/>
            <a:ext cx="84204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Mehrprozessorsystem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ehrere Prozessoren m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abhängigen Programmen arbeiten mit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n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Feldrechn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ehrere Prozessoren arbeiten a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en Programm, aber mit verschiedenen  Da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Bsp: Bildverarbei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mit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funktionsspezialisier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zessoren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 Spezialprozessoren arbeiten unter einer CP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mit eine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Fliessbandverarbeitung (Pipeline-Struktur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tte von Prozessoren übernimmt jeder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bestimmter Teile einer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Pipeline-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6240" y="1160640"/>
            <a:ext cx="77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von 3 gleichartigen Verarbeitungsaufträ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4  Teilverarbeitungs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14640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1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7808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5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973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3556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760" y="21337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lle 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38800" y="314640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9705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101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04980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8800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00960" y="3147840"/>
            <a:ext cx="2152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13268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67232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21196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748720" y="3057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2068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924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118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2560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2592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4880" y="385776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e-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80384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0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28140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82104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67000" y="5767560"/>
            <a:ext cx="2152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79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3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7836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15120" y="567684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30040" y="46465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11240" y="5618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49640" y="446076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25680" y="5423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33840" y="526104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26556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0520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34484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63560" y="5122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49760" y="4937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7352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880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545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68800" y="567540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4720" y="1362240"/>
            <a:ext cx="8372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Wäsche-Vorgang kann in 4 Teilvorgänge unterteilt werd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mutzige Wäsche in die Waschmas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sse Wäsche in den Trock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en, Bügel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der in den Sch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01:50Z</dcterms:modified>
  <cp:revision>784</cp:revision>
  <dc:subject/>
  <dc:title>TI-2</dc:title>
</cp:coreProperties>
</file>