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BDFC-1898-4F72-B026-92978DF6A4E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Klausur am 17. September 2001, 14:</a:t>
            </a:r>
            <a:r>
              <a:rPr b="1" lang="de-DE" sz="2800" spc="-1" strike="noStrike" baseline="30000">
                <a:solidFill>
                  <a:srgbClr val="003399"/>
                </a:solidFill>
                <a:latin typeface="Arial"/>
              </a:rPr>
              <a:t>00</a:t>
            </a: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 Uh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8640" y="1449360"/>
            <a:ext cx="8272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Anmeldung zur TI-Klausur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wurf der Zulassungsbescheinigung in den Briefkasten i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geschoß des Informatikgebäudes am Fasanengart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s spätestens 10. Sept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lfsmittel sind nicht erlau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Dauer der Klausur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k: 120 Minuten (14.00-16.00 Uhr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swirtschaft: 60 Miunten (14.00-15.00 Uhr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udentenausweise unbedingt in die Klausur mitbr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rsaal-Verteil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rechtzeitig bekanntgegeben (TI-Homep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egment-Deskriptor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6720" y="1214280"/>
            <a:ext cx="828684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Jeder Segment-Deskriptor beschreibt das zugehörige Segment durch folgende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79720">
              <a:lnSpc>
                <a:spcPct val="100000"/>
              </a:lnSpc>
              <a:spcBef>
                <a:spcPts val="11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gment-Basisadresse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base addres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79720">
              <a:lnSpc>
                <a:spcPct val="90000"/>
              </a:lnSpc>
              <a:spcBef>
                <a:spcPts val="751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egment-Größe in Bytes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limi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79720">
              <a:lnSpc>
                <a:spcPct val="90000"/>
              </a:lnSpc>
              <a:spcBef>
                <a:spcPts val="751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ugriffsrechte auf das Segment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access right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r Realisierung von Schutzmechanis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nmerk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4400" y="1297080"/>
            <a:ext cx="785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owohl bei segmentorientierter wie bei seitenorientiert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verwaltung gi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findet sich eine Seite oder ein Segment nicht i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Hauptspeicher, so löst der Prozessor ein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brechung aus, um die Seite oder das Segmen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 das Betriebssystem zu la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Seiten- oder Segmentfehler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nmerk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7600" y="1181160"/>
            <a:ext cx="7742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rkennung eines Segmentfehl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it im Segment-Deskriptor zeigt an, ob da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gment im Hauptspeicher ist oder nic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rkennung eines Seitenfehl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der Seitentabell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findet sich nich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uptspeich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Seitenfehler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ezielles Kennungbit im Seitentabellen-Verzeich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(Seitentabellenfeh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4. 8 Segmentierung mit Seitenwechse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7960" y="1128600"/>
            <a:ext cx="111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fang der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ab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5600" y="1238400"/>
            <a:ext cx="4869000" cy="328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43160" y="1795320"/>
            <a:ext cx="341280" cy="301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12720" y="14605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84440" y="1562040"/>
            <a:ext cx="1595160" cy="384120"/>
          </a:xfrm>
          <a:custGeom>
            <a:avLst/>
            <a:gdLst/>
            <a:ahLst/>
            <a:rect l="l" t="t" r="r" b="b"/>
            <a:pathLst>
              <a:path w="784" h="528">
                <a:moveTo>
                  <a:pt x="784" y="0"/>
                </a:moveTo>
                <a:lnTo>
                  <a:pt x="784" y="520"/>
                </a:lnTo>
                <a:lnTo>
                  <a:pt x="0" y="52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1000" y="2124000"/>
            <a:ext cx="637920" cy="1648080"/>
          </a:xfrm>
          <a:custGeom>
            <a:avLst/>
            <a:gdLst/>
            <a:ahLst/>
            <a:rect l="l" t="t" r="r" b="b"/>
            <a:pathLst>
              <a:path w="402" h="1038">
                <a:moveTo>
                  <a:pt x="1" y="0"/>
                </a:moveTo>
                <a:lnTo>
                  <a:pt x="0" y="1038"/>
                </a:lnTo>
                <a:lnTo>
                  <a:pt x="402" y="103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46440" y="2865600"/>
            <a:ext cx="293400" cy="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24000" y="2768760"/>
            <a:ext cx="2344680" cy="1536480"/>
          </a:xfrm>
          <a:prstGeom prst="rect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03840" y="2936880"/>
            <a:ext cx="1889280" cy="138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80000" y="1562040"/>
            <a:ext cx="357120" cy="2070000"/>
          </a:xfrm>
          <a:custGeom>
            <a:avLst/>
            <a:gdLst/>
            <a:ahLst/>
            <a:rect l="l" t="t" r="r" b="b"/>
            <a:pathLst>
              <a:path w="176" h="1224">
                <a:moveTo>
                  <a:pt x="0" y="0"/>
                </a:moveTo>
                <a:lnTo>
                  <a:pt x="0" y="488"/>
                </a:lnTo>
                <a:lnTo>
                  <a:pt x="176" y="488"/>
                </a:lnTo>
                <a:lnTo>
                  <a:pt x="176" y="12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84840" y="3625920"/>
            <a:ext cx="341280" cy="303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83080" y="3784680"/>
            <a:ext cx="393840" cy="12600"/>
          </a:xfrm>
          <a:custGeom>
            <a:avLst/>
            <a:gdLst/>
            <a:ahLst/>
            <a:rect l="l" t="t" r="r" b="b"/>
            <a:pathLst>
              <a:path w="248" h="8">
                <a:moveTo>
                  <a:pt x="0" y="8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2640" y="5683320"/>
            <a:ext cx="4865400" cy="330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22640" y="5018040"/>
            <a:ext cx="1854000" cy="274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10160" y="1547640"/>
            <a:ext cx="2766960" cy="4102200"/>
          </a:xfrm>
          <a:custGeom>
            <a:avLst/>
            <a:gdLst/>
            <a:ahLst/>
            <a:rect l="l" t="t" r="r" b="b"/>
            <a:pathLst>
              <a:path w="1360" h="2392">
                <a:moveTo>
                  <a:pt x="371" y="0"/>
                </a:moveTo>
                <a:lnTo>
                  <a:pt x="371" y="400"/>
                </a:lnTo>
                <a:lnTo>
                  <a:pt x="1360" y="400"/>
                </a:lnTo>
                <a:lnTo>
                  <a:pt x="1360" y="2264"/>
                </a:lnTo>
                <a:lnTo>
                  <a:pt x="0" y="2264"/>
                </a:lnTo>
                <a:lnTo>
                  <a:pt x="8" y="23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13280" y="123048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123048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24440" y="567684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12207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g.-Nr. (</a:t>
            </a: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59440" y="1220760"/>
            <a:ext cx="14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iten-Nr. (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68000" y="1220760"/>
            <a:ext cx="135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yte-Nr.  (</a:t>
            </a:r>
            <a:r>
              <a:rPr b="1" lang="de-DE" sz="1600" spc="-1" strike="noStrike">
                <a:solidFill>
                  <a:srgbClr val="00cc66"/>
                </a:solidFill>
                <a:latin typeface="Arial"/>
              </a:rPr>
              <a:t>r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91040" y="5667480"/>
            <a:ext cx="25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ahmen-(Seiten)-Nr.  (</a:t>
            </a:r>
            <a:r>
              <a:rPr b="1" lang="de-DE" sz="1600" spc="-1" strike="noStrike">
                <a:solidFill>
                  <a:srgbClr val="cc9900"/>
                </a:solidFill>
                <a:latin typeface="Arial"/>
              </a:rPr>
              <a:t>n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2680" y="5667480"/>
            <a:ext cx="129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yte-Nr.  (</a:t>
            </a:r>
            <a:r>
              <a:rPr b="1" lang="de-DE" sz="1600" spc="-1" strike="noStrike">
                <a:solidFill>
                  <a:srgbClr val="00cc00"/>
                </a:solidFill>
                <a:latin typeface="Arial"/>
              </a:rPr>
              <a:t>r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63760" y="529272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13320" y="3046320"/>
            <a:ext cx="290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03840" y="2936880"/>
            <a:ext cx="1889280" cy="165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03840" y="3102120"/>
            <a:ext cx="1889280" cy="16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03840" y="4157640"/>
            <a:ext cx="1889280" cy="165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24000" y="2768760"/>
            <a:ext cx="2344680" cy="206280"/>
          </a:xfrm>
          <a:prstGeom prst="rect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24000" y="2975040"/>
            <a:ext cx="2344680" cy="204840"/>
          </a:xfrm>
          <a:prstGeom prst="rect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24000" y="4098960"/>
            <a:ext cx="2344680" cy="206280"/>
          </a:xfrm>
          <a:prstGeom prst="rect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48200" y="496080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76640" y="3882960"/>
            <a:ext cx="3861000" cy="1273320"/>
          </a:xfrm>
          <a:custGeom>
            <a:avLst/>
            <a:gdLst/>
            <a:ahLst/>
            <a:rect l="l" t="t" r="r" b="b"/>
            <a:pathLst>
              <a:path w="2432" h="802">
                <a:moveTo>
                  <a:pt x="2205" y="0"/>
                </a:moveTo>
                <a:lnTo>
                  <a:pt x="2431" y="0"/>
                </a:lnTo>
                <a:lnTo>
                  <a:pt x="2432" y="802"/>
                </a:lnTo>
                <a:lnTo>
                  <a:pt x="0" y="80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22480" y="2755800"/>
            <a:ext cx="0" cy="15350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21320" y="293688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47840" y="110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15720" y="246204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g.-N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60280" y="2306520"/>
            <a:ext cx="137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nfangadre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itentabe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09680" y="431784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</a:rPr>
              <a:t>Segmenttab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3920" y="4327560"/>
            <a:ext cx="168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eitentabelle des </a:t>
            </a:r>
            <a:br>
              <a:rPr sz="1400"/>
            </a:b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egments Nr.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49360" y="2724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49360" y="2916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19480" y="361944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84360" y="3619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4000" y="3687840"/>
            <a:ext cx="2344680" cy="206280"/>
          </a:xfrm>
          <a:prstGeom prst="rect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92480" y="38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59520" y="3906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cc99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03840" y="3800520"/>
            <a:ext cx="1889280" cy="164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20680" y="268272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iten-N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99800" y="2665440"/>
            <a:ext cx="10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ahmen-N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5680" y="2646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45480" y="282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34040" y="3776760"/>
            <a:ext cx="471600" cy="285480"/>
          </a:xfrm>
          <a:custGeom>
            <a:avLst/>
            <a:gdLst/>
            <a:ahLst/>
            <a:rect l="l" t="t" r="r" b="b"/>
            <a:pathLst>
              <a:path w="297" h="192">
                <a:moveTo>
                  <a:pt x="0" y="0"/>
                </a:moveTo>
                <a:lnTo>
                  <a:pt x="78" y="0"/>
                </a:lnTo>
                <a:lnTo>
                  <a:pt x="78" y="189"/>
                </a:lnTo>
                <a:lnTo>
                  <a:pt x="297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4.9 Schutzmechanismen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5800" y="1258920"/>
            <a:ext cx="83534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rne Mikroprozessoren bieten Schutzmechanismen an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  während der Laufzeit von Programmen unerlaubte Speicherzugriffe zu verhindern. Dies geschieht im wesentlichen durch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ennung der Systemsoftware, z.B. des Betriebsystems, insbesondere des Ein-/Ausgabe-Subsystem (BIOS, basic I/O system), von den Anwendungsprozes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ennung der Anwendungsprozessen voneinander. Ist dies gewährleistet, könnte ein fehlerhaftes Anwenderprogramm andere, fehlerfreie Programme beeinflussen (Schutzebenen und Zugriffsrech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03200" y="1131840"/>
            <a:ext cx="855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Rechnersystem enthalte eine MMU zur Umsetzung von virtuellen in physikalische Segmentadressen (siehe Bil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Aufgab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8320" y="3193920"/>
            <a:ext cx="2749680" cy="189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5400000">
            <a:off x="358920" y="3920400"/>
            <a:ext cx="1904760" cy="446040"/>
          </a:xfrm>
          <a:custGeom>
            <a:avLst/>
            <a:gdLst>
              <a:gd name="textAreaLeft" fmla="*/ 239040 w 1904760"/>
              <a:gd name="textAreaRight" fmla="*/ 1665720 w 1904760"/>
              <a:gd name="textAreaTop" fmla="*/ 55800 h 446040"/>
              <a:gd name="textAreaBottom" fmla="*/ 390240 h 44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69" y="21600"/>
                </a:lnTo>
                <a:lnTo>
                  <a:pt x="1731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98800" y="5811840"/>
            <a:ext cx="3243240" cy="28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98800" y="2238480"/>
            <a:ext cx="3243240" cy="28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19680" y="223848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45160" y="5589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30720" y="558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60360" y="2517840"/>
            <a:ext cx="3073680" cy="780840"/>
          </a:xfrm>
          <a:custGeom>
            <a:avLst/>
            <a:gdLst/>
            <a:ahLst/>
            <a:rect l="l" t="t" r="r" b="b"/>
            <a:pathLst>
              <a:path w="2088" h="588">
                <a:moveTo>
                  <a:pt x="2088" y="0"/>
                </a:moveTo>
                <a:lnTo>
                  <a:pt x="2088" y="240"/>
                </a:lnTo>
                <a:lnTo>
                  <a:pt x="0" y="240"/>
                </a:lnTo>
                <a:lnTo>
                  <a:pt x="0" y="58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94040" y="3201840"/>
            <a:ext cx="0" cy="189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60400" y="3193920"/>
            <a:ext cx="2748240" cy="20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68320" y="3394080"/>
            <a:ext cx="2749680" cy="2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68320" y="3592440"/>
            <a:ext cx="2749680" cy="20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68320" y="4883040"/>
            <a:ext cx="2749680" cy="2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5680" y="330660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5680" y="349740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35040" y="370512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35040" y="497844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03920" y="3195720"/>
            <a:ext cx="2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27160" y="48243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264200" y="2678040"/>
            <a:ext cx="141120" cy="8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38440" y="5218200"/>
            <a:ext cx="123840" cy="10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38360" y="2593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85680" y="3929040"/>
            <a:ext cx="95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-Bi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änge in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öc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15280" y="4105440"/>
            <a:ext cx="137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gmantbasis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60760" y="22017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83480" y="578484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47040" y="221292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g.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08920" y="2897280"/>
            <a:ext cx="159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tab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17440" y="1971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31120" y="1971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04440" y="197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8720" y="223848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4880" y="581508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21600" y="5815080"/>
            <a:ext cx="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19640" y="558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18640" y="197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95040" y="22129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yte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67360" y="2533680"/>
            <a:ext cx="0" cy="328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25280" y="58341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yte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35640" y="5127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32840" y="5505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51400" y="5286240"/>
            <a:ext cx="271440" cy="2318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10080" y="5081760"/>
            <a:ext cx="1747800" cy="318960"/>
          </a:xfrm>
          <a:custGeom>
            <a:avLst/>
            <a:gdLst/>
            <a:ahLst/>
            <a:rect l="l" t="t" r="r" b="b"/>
            <a:pathLst>
              <a:path w="1188" h="240">
                <a:moveTo>
                  <a:pt x="0" y="0"/>
                </a:moveTo>
                <a:lnTo>
                  <a:pt x="0" y="240"/>
                </a:lnTo>
                <a:lnTo>
                  <a:pt x="1188" y="2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622840" y="2525760"/>
            <a:ext cx="371520" cy="2874960"/>
          </a:xfrm>
          <a:custGeom>
            <a:avLst/>
            <a:gdLst/>
            <a:ahLst/>
            <a:rect l="l" t="t" r="r" b="b"/>
            <a:pathLst>
              <a:path w="252" h="1980">
                <a:moveTo>
                  <a:pt x="252" y="0"/>
                </a:moveTo>
                <a:lnTo>
                  <a:pt x="252" y="1980"/>
                </a:lnTo>
                <a:lnTo>
                  <a:pt x="0" y="198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1720" y="551988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932440" y="2670120"/>
            <a:ext cx="12384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419800" y="5567400"/>
            <a:ext cx="123840" cy="1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6680" y="2592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56000" y="221292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41680" y="5262480"/>
            <a:ext cx="2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794640" y="2657520"/>
            <a:ext cx="141120" cy="8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67360" y="2573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Aufgab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0120" y="3083040"/>
            <a:ext cx="8496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ben Sie die Ladeadresse des Segmente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unter der Bedingung, dass der Hauptspeicher lückenlos gefüllt werden soll a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n welcher Position im Registerspeicher der MMU muss die physikalische Blocknummer als Abbildungsinformation abgelegt werden und welchen Wert hat si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lchen Wert hat die für die Überprüfung von  Segmentüberschreitungen einzutragende Blockanzah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0120" y="1085760"/>
            <a:ext cx="85345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Hauptspeicher sei bereits beginnend ab Adresse 0 mit </a:t>
            </a:r>
            <a:br>
              <a:rPr sz="2400"/>
            </a:b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64 Blöck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je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256 Byt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belegt. Im Anschluß an diesen Bereich soll ein Segment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t der virtuellen Anfangsadresse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02000000</a:t>
            </a:r>
            <a:r>
              <a:rPr b="1" lang="de-DE" sz="2400" spc="-1" strike="noStrike" baseline="-25000">
                <a:solidFill>
                  <a:srgbClr val="0000cc"/>
                </a:solidFill>
                <a:latin typeface="Arial"/>
              </a:rPr>
              <a:t>16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der virtuellen Endadresse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02001811</a:t>
            </a:r>
            <a:r>
              <a:rPr b="1" lang="de-DE" sz="2400" spc="-1" strike="noStrike" baseline="-25000">
                <a:solidFill>
                  <a:srgbClr val="0000cc"/>
                </a:solidFill>
                <a:latin typeface="Arial"/>
              </a:rPr>
              <a:t>16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eladen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5.</a:t>
            </a:r>
            <a:r>
              <a:rPr b="0" sz="4000" spc="-1" strike="noStrike">
                <a:solidFill>
                  <a:srgbClr val="000099"/>
                </a:solidFill>
                <a:latin typeface="Arial"/>
              </a:rPr>
              <a:t> Direkter Speicherzugriff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3120" y="1157400"/>
            <a:ext cx="82944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isher wurde der Datentransfer zwischen Prozessor u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 bzw. Prozessor und Peripherie betrachte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ft ist es jedoch auch nötig, Daten zu transportier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zwisc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 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Periph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eripherie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Periph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älteren und kleineren Systemen wird dieser Datentransfer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 ebenfalls über den Prozessor abgewickel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ispie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6280" y="1143000"/>
            <a:ext cx="83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tenübetragung zwischen Speicher und Peripherie mittels 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51160" y="1994040"/>
            <a:ext cx="90972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51160" y="2930400"/>
            <a:ext cx="909720" cy="51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51160" y="4037040"/>
            <a:ext cx="90972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51160" y="5019840"/>
            <a:ext cx="90972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30800" y="1994040"/>
            <a:ext cx="107964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30800" y="2930400"/>
            <a:ext cx="1079640" cy="51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30800" y="4037040"/>
            <a:ext cx="107964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230800" y="5019840"/>
            <a:ext cx="107964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12200" y="1994040"/>
            <a:ext cx="107604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/A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Speich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12200" y="2930400"/>
            <a:ext cx="1076040" cy="51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/A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Speich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12200" y="4037040"/>
            <a:ext cx="107604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/A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Speich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12200" y="5019840"/>
            <a:ext cx="107604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/A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Speich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419640" y="5541840"/>
            <a:ext cx="4983120" cy="672480"/>
            <a:chOff x="3419640" y="5541840"/>
            <a:chExt cx="4983120" cy="672480"/>
          </a:xfrm>
        </p:grpSpPr>
        <p:sp>
          <p:nvSpPr>
            <p:cNvPr id="318" name=""/>
            <p:cNvSpPr/>
            <p:nvPr/>
          </p:nvSpPr>
          <p:spPr>
            <a:xfrm>
              <a:off x="3419640" y="5541840"/>
              <a:ext cx="4983120" cy="385920"/>
            </a:xfrm>
            <a:custGeom>
              <a:avLst/>
              <a:gdLst/>
              <a:ahLst/>
              <a:rect l="l" t="t" r="r" b="b"/>
              <a:pathLst>
                <a:path w="3304" h="256">
                  <a:moveTo>
                    <a:pt x="0" y="0"/>
                  </a:moveTo>
                  <a:lnTo>
                    <a:pt x="0" y="256"/>
                  </a:lnTo>
                  <a:lnTo>
                    <a:pt x="3304" y="256"/>
                  </a:lnTo>
                  <a:lnTo>
                    <a:pt x="3304" y="0"/>
                  </a:lnTo>
                </a:path>
              </a:pathLst>
            </a:custGeom>
            <a:noFill/>
            <a:ln w="1260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73480" y="587700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700440" y="2854440"/>
            <a:ext cx="2087640" cy="883440"/>
            <a:chOff x="3700440" y="2854440"/>
            <a:chExt cx="2087640" cy="883440"/>
          </a:xfrm>
        </p:grpSpPr>
        <p:grpSp>
          <p:nvGrpSpPr>
            <p:cNvPr id="321" name=""/>
            <p:cNvGrpSpPr/>
            <p:nvPr/>
          </p:nvGrpSpPr>
          <p:grpSpPr>
            <a:xfrm>
              <a:off x="4172040" y="2854440"/>
              <a:ext cx="1055520" cy="337320"/>
              <a:chOff x="4172040" y="2854440"/>
              <a:chExt cx="1055520" cy="337320"/>
            </a:xfrm>
          </p:grpSpPr>
          <p:sp>
            <p:nvSpPr>
              <p:cNvPr id="322" name=""/>
              <p:cNvSpPr/>
              <p:nvPr/>
            </p:nvSpPr>
            <p:spPr>
              <a:xfrm>
                <a:off x="4172040" y="3160800"/>
                <a:ext cx="1055520" cy="0"/>
              </a:xfrm>
              <a:prstGeom prst="line">
                <a:avLst/>
              </a:prstGeom>
              <a:ln w="12600">
                <a:solidFill>
                  <a:srgbClr val="3333cc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211640" y="2854440"/>
                <a:ext cx="98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3333cc"/>
                    </a:solidFill>
                    <a:latin typeface="Arial"/>
                  </a:rPr>
                  <a:t>Adres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700440" y="3400560"/>
              <a:ext cx="2087640" cy="337320"/>
              <a:chOff x="3700440" y="3400560"/>
              <a:chExt cx="2087640" cy="337320"/>
            </a:xfrm>
          </p:grpSpPr>
          <p:sp>
            <p:nvSpPr>
              <p:cNvPr id="325" name=""/>
              <p:cNvSpPr/>
              <p:nvPr/>
            </p:nvSpPr>
            <p:spPr>
              <a:xfrm>
                <a:off x="3700440" y="3452760"/>
                <a:ext cx="2087640" cy="247680"/>
              </a:xfrm>
              <a:custGeom>
                <a:avLst/>
                <a:gdLst/>
                <a:ahLst/>
                <a:rect l="l" t="t" r="r" b="b"/>
                <a:pathLst>
                  <a:path w="1488" h="176">
                    <a:moveTo>
                      <a:pt x="1488" y="0"/>
                    </a:moveTo>
                    <a:lnTo>
                      <a:pt x="1488" y="176"/>
                    </a:lnTo>
                    <a:lnTo>
                      <a:pt x="0" y="17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cc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295520" y="3400560"/>
                <a:ext cx="81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cc99"/>
                    </a:solidFill>
                    <a:latin typeface="Arial"/>
                  </a:rPr>
                  <a:t>Datu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7" name=""/>
          <p:cNvGrpSpPr/>
          <p:nvPr/>
        </p:nvGrpSpPr>
        <p:grpSpPr>
          <a:xfrm>
            <a:off x="3700440" y="3959280"/>
            <a:ext cx="2087640" cy="896040"/>
            <a:chOff x="3700440" y="3959280"/>
            <a:chExt cx="2087640" cy="896040"/>
          </a:xfrm>
        </p:grpSpPr>
        <p:sp>
          <p:nvSpPr>
            <p:cNvPr id="328" name=""/>
            <p:cNvSpPr/>
            <p:nvPr/>
          </p:nvSpPr>
          <p:spPr>
            <a:xfrm>
              <a:off x="4172040" y="4249800"/>
              <a:ext cx="1055520" cy="0"/>
            </a:xfrm>
            <a:prstGeom prst="line">
              <a:avLst/>
            </a:prstGeom>
            <a:ln w="1260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00440" y="4552920"/>
              <a:ext cx="2087640" cy="246240"/>
            </a:xfrm>
            <a:custGeom>
              <a:avLst/>
              <a:gdLst/>
              <a:ahLst/>
              <a:rect l="l" t="t" r="r" b="b"/>
              <a:pathLst>
                <a:path w="1488" h="176">
                  <a:moveTo>
                    <a:pt x="1488" y="0"/>
                  </a:moveTo>
                  <a:lnTo>
                    <a:pt x="1488" y="176"/>
                  </a:lnTo>
                  <a:lnTo>
                    <a:pt x="0" y="17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86080" y="395928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37320" y="4518000"/>
              <a:ext cx="161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cc99"/>
                  </a:solidFill>
                  <a:latin typeface="Arial"/>
                </a:rPr>
                <a:t>Schreib-Befeh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710160" y="5445000"/>
            <a:ext cx="4319280" cy="337320"/>
            <a:chOff x="3710160" y="5445000"/>
            <a:chExt cx="4319280" cy="337320"/>
          </a:xfrm>
        </p:grpSpPr>
        <p:sp>
          <p:nvSpPr>
            <p:cNvPr id="333" name=""/>
            <p:cNvSpPr/>
            <p:nvPr/>
          </p:nvSpPr>
          <p:spPr>
            <a:xfrm>
              <a:off x="3710160" y="5541840"/>
              <a:ext cx="4319280" cy="217440"/>
            </a:xfrm>
            <a:custGeom>
              <a:avLst/>
              <a:gdLst/>
              <a:ahLst/>
              <a:rect l="l" t="t" r="r" b="b"/>
              <a:pathLst>
                <a:path w="2864" h="144">
                  <a:moveTo>
                    <a:pt x="0" y="0"/>
                  </a:moveTo>
                  <a:lnTo>
                    <a:pt x="0" y="144"/>
                  </a:lnTo>
                  <a:lnTo>
                    <a:pt x="2864" y="144"/>
                  </a:lnTo>
                  <a:lnTo>
                    <a:pt x="2864" y="8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20720" y="544500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cc99"/>
                  </a:solidFill>
                  <a:latin typeface="Arial"/>
                </a:rPr>
                <a:t>Dat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172040" y="1940040"/>
            <a:ext cx="1055520" cy="337320"/>
            <a:chOff x="4172040" y="1940040"/>
            <a:chExt cx="1055520" cy="337320"/>
          </a:xfrm>
        </p:grpSpPr>
        <p:sp>
          <p:nvSpPr>
            <p:cNvPr id="336" name=""/>
            <p:cNvSpPr/>
            <p:nvPr/>
          </p:nvSpPr>
          <p:spPr>
            <a:xfrm>
              <a:off x="4172040" y="2251080"/>
              <a:ext cx="1055520" cy="0"/>
            </a:xfrm>
            <a:prstGeom prst="line">
              <a:avLst/>
            </a:prstGeom>
            <a:ln w="1260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11640" y="194004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46160" y="2219400"/>
            <a:ext cx="5619600" cy="591120"/>
            <a:chOff x="146160" y="2219400"/>
            <a:chExt cx="5619600" cy="591120"/>
          </a:xfrm>
        </p:grpSpPr>
        <p:grpSp>
          <p:nvGrpSpPr>
            <p:cNvPr id="339" name=""/>
            <p:cNvGrpSpPr/>
            <p:nvPr/>
          </p:nvGrpSpPr>
          <p:grpSpPr>
            <a:xfrm>
              <a:off x="3678120" y="2473200"/>
              <a:ext cx="2087640" cy="337320"/>
              <a:chOff x="3678120" y="2473200"/>
              <a:chExt cx="2087640" cy="337320"/>
            </a:xfrm>
          </p:grpSpPr>
          <p:sp>
            <p:nvSpPr>
              <p:cNvPr id="340" name=""/>
              <p:cNvSpPr/>
              <p:nvPr/>
            </p:nvSpPr>
            <p:spPr>
              <a:xfrm>
                <a:off x="3678120" y="2509920"/>
                <a:ext cx="2087640" cy="247680"/>
              </a:xfrm>
              <a:custGeom>
                <a:avLst/>
                <a:gdLst/>
                <a:ahLst/>
                <a:rect l="l" t="t" r="r" b="b"/>
                <a:pathLst>
                  <a:path w="1488" h="176">
                    <a:moveTo>
                      <a:pt x="1488" y="0"/>
                    </a:moveTo>
                    <a:lnTo>
                      <a:pt x="1488" y="176"/>
                    </a:lnTo>
                    <a:lnTo>
                      <a:pt x="0" y="17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cc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021560" y="2473200"/>
                <a:ext cx="1338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cc99"/>
                    </a:solidFill>
                    <a:latin typeface="Arial"/>
                  </a:rPr>
                  <a:t>Lade-Befeh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146160" y="2219400"/>
              <a:ext cx="283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OP:    LDA   Dat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48960" y="2540160"/>
            <a:ext cx="1950120" cy="1946880"/>
            <a:chOff x="948960" y="2540160"/>
            <a:chExt cx="1950120" cy="1946880"/>
          </a:xfrm>
        </p:grpSpPr>
        <p:sp>
          <p:nvSpPr>
            <p:cNvPr id="344" name=""/>
            <p:cNvSpPr/>
            <p:nvPr/>
          </p:nvSpPr>
          <p:spPr>
            <a:xfrm>
              <a:off x="1663560" y="2540160"/>
              <a:ext cx="0" cy="157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48960" y="4149720"/>
              <a:ext cx="195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TA   EA/Spei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1676520" y="449568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64520" y="554688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C  Zäh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20560" y="2590920"/>
            <a:ext cx="1794960" cy="3610800"/>
            <a:chOff x="520560" y="2590920"/>
            <a:chExt cx="1794960" cy="3610800"/>
          </a:xfrm>
        </p:grpSpPr>
        <p:sp>
          <p:nvSpPr>
            <p:cNvPr id="349" name=""/>
            <p:cNvSpPr/>
            <p:nvPr/>
          </p:nvSpPr>
          <p:spPr>
            <a:xfrm>
              <a:off x="1043640" y="5864400"/>
              <a:ext cx="127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PL  LO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0560" y="2590920"/>
              <a:ext cx="482760" cy="3441600"/>
            </a:xfrm>
            <a:custGeom>
              <a:avLst/>
              <a:gdLst/>
              <a:ahLst/>
              <a:rect l="l" t="t" r="r" b="b"/>
              <a:pathLst>
                <a:path w="504" h="2232">
                  <a:moveTo>
                    <a:pt x="504" y="2232"/>
                  </a:moveTo>
                  <a:lnTo>
                    <a:pt x="0" y="223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Wiederholung: Speicherhierarchi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903400"/>
            <a:ext cx="1608120" cy="10368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5480" y="3208320"/>
            <a:ext cx="8193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51000" y="3095640"/>
            <a:ext cx="1143000" cy="5270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1-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5440" y="2975040"/>
            <a:ext cx="1143000" cy="768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2-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30920" y="2527200"/>
            <a:ext cx="1141560" cy="1663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aupt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3352680"/>
            <a:ext cx="787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27480" y="3378240"/>
            <a:ext cx="787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97680" y="3365640"/>
            <a:ext cx="635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45200" y="3352680"/>
            <a:ext cx="584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1400" y="3513240"/>
            <a:ext cx="4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4040" y="434808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zelzugriff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5800" y="434808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lockzugrif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4040" y="43480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nzugrif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940280" y="3365280"/>
            <a:ext cx="609480" cy="965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708360" y="3403080"/>
            <a:ext cx="457200" cy="90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315200" y="340308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447920" y="3352320"/>
            <a:ext cx="304560" cy="978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07160" y="2387520"/>
            <a:ext cx="1359000" cy="1930320"/>
          </a:xfrm>
          <a:prstGeom prst="can">
            <a:avLst>
              <a:gd name="adj" fmla="val 25000"/>
            </a:avLst>
          </a:prstGeom>
          <a:solidFill>
            <a:srgbClr val="cc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02200" y="3568680"/>
            <a:ext cx="1143000" cy="7632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29480" y="3911760"/>
            <a:ext cx="1143000" cy="759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46320" y="3479760"/>
            <a:ext cx="1143000" cy="7632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81240" y="3083040"/>
            <a:ext cx="140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intergrund-</a:t>
            </a:r>
            <a:br>
              <a:rPr sz="1600"/>
            </a:b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720" y="1179360"/>
            <a:ext cx="85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 werden nur zwischen aufeinanderfolgenden Ebenen der Speicherhierarchie kopi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735440"/>
            <a:ext cx="2577960" cy="70380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, Compiler (1-8 By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65640" y="4735440"/>
            <a:ext cx="2336760" cy="70380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che-Steuer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8-128 By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1720" y="4735440"/>
            <a:ext cx="2692440" cy="70380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triebsyste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12 Bytes – 4K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ispie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4600" y="1135080"/>
            <a:ext cx="8143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Nachteil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indestens 4 Speicherzugriffe / Datum nötig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ggf. sogar mind. 6 Speicherzugriffe durch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leifenbefeh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angsamer Datentransfer, Prozessor belas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4600" y="3449520"/>
            <a:ext cx="8064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bhilf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Arial"/>
              </a:rPr>
              <a:t>Direkter Speicherzugriff (</a:t>
            </a:r>
            <a:r>
              <a:rPr b="1" i="1" sz="2400" spc="-1" strike="noStrike">
                <a:solidFill>
                  <a:srgbClr val="3333cc"/>
                </a:solidFill>
                <a:latin typeface="Arial"/>
              </a:rPr>
              <a:t>direct memory access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, D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erbei erfolgt der Datentransfer ohne Beteiligung des Mikroprozessors direkt zwischen den beteiligt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pon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Direkter Speicherzugriff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24800" y="1179360"/>
            <a:ext cx="81705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spezieller Baustein,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DMA-Controll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genannt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koordiniert den Daten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zugriffe für das Holen der Lade-, Speicher-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Schleifenbefehle entfallen, da die Datenübertragung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ardwaremäßig (ohne Programm) ausgeführt wird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ur 2 (ggf. sogar nur 1) Speicherzugriff / Datum nö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Prozessor wird entlastet und kann derweil ander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nge tun (sofern diese nicht den Systembus benöti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Prinzip des direkten Speicherzugriff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949400" y="1152360"/>
            <a:ext cx="1055520" cy="337320"/>
            <a:chOff x="1949400" y="1152360"/>
            <a:chExt cx="1055520" cy="337320"/>
          </a:xfrm>
        </p:grpSpPr>
        <p:sp>
          <p:nvSpPr>
            <p:cNvPr id="358" name=""/>
            <p:cNvSpPr/>
            <p:nvPr/>
          </p:nvSpPr>
          <p:spPr>
            <a:xfrm>
              <a:off x="1949400" y="1476360"/>
              <a:ext cx="1055520" cy="0"/>
            </a:xfrm>
            <a:prstGeom prst="line">
              <a:avLst/>
            </a:prstGeom>
            <a:ln w="1260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98360" y="115236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028880" y="1219320"/>
            <a:ext cx="90936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86200" y="1219320"/>
            <a:ext cx="107964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89760" y="1219320"/>
            <a:ext cx="107640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/A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Speich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08160" y="1219320"/>
            <a:ext cx="91440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366200" y="1698480"/>
            <a:ext cx="2129760" cy="337320"/>
            <a:chOff x="1366200" y="1698480"/>
            <a:chExt cx="2129760" cy="337320"/>
          </a:xfrm>
        </p:grpSpPr>
        <p:sp>
          <p:nvSpPr>
            <p:cNvPr id="365" name=""/>
            <p:cNvSpPr/>
            <p:nvPr/>
          </p:nvSpPr>
          <p:spPr>
            <a:xfrm>
              <a:off x="1395360" y="1722600"/>
              <a:ext cx="2086920" cy="247320"/>
            </a:xfrm>
            <a:custGeom>
              <a:avLst/>
              <a:gdLst/>
              <a:ahLst/>
              <a:rect l="l" t="t" r="r" b="b"/>
              <a:pathLst>
                <a:path w="1488" h="176">
                  <a:moveTo>
                    <a:pt x="1488" y="0"/>
                  </a:moveTo>
                  <a:lnTo>
                    <a:pt x="1488" y="176"/>
                  </a:lnTo>
                  <a:lnTo>
                    <a:pt x="0" y="17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66200" y="1698480"/>
              <a:ext cx="212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cc99"/>
                  </a:solidFill>
                  <a:latin typeface="Arial"/>
                </a:rPr>
                <a:t>Startadresse, Zäh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865320" y="2498760"/>
            <a:ext cx="981000" cy="337320"/>
            <a:chOff x="3865320" y="2498760"/>
            <a:chExt cx="981000" cy="337320"/>
          </a:xfrm>
        </p:grpSpPr>
        <p:sp>
          <p:nvSpPr>
            <p:cNvPr id="368" name=""/>
            <p:cNvSpPr/>
            <p:nvPr/>
          </p:nvSpPr>
          <p:spPr>
            <a:xfrm>
              <a:off x="3917880" y="2822400"/>
              <a:ext cx="874440" cy="0"/>
            </a:xfrm>
            <a:prstGeom prst="line">
              <a:avLst/>
            </a:prstGeom>
            <a:ln w="1260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65320" y="249876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389400" y="2955960"/>
            <a:ext cx="2087640" cy="337320"/>
            <a:chOff x="3389400" y="2955960"/>
            <a:chExt cx="2087640" cy="337320"/>
          </a:xfrm>
        </p:grpSpPr>
        <p:sp>
          <p:nvSpPr>
            <p:cNvPr id="371" name=""/>
            <p:cNvSpPr/>
            <p:nvPr/>
          </p:nvSpPr>
          <p:spPr>
            <a:xfrm>
              <a:off x="3389400" y="2979720"/>
              <a:ext cx="2087640" cy="247680"/>
            </a:xfrm>
            <a:custGeom>
              <a:avLst/>
              <a:gdLst/>
              <a:ahLst/>
              <a:rect l="l" t="t" r="r" b="b"/>
              <a:pathLst>
                <a:path w="1488" h="176">
                  <a:moveTo>
                    <a:pt x="1488" y="0"/>
                  </a:moveTo>
                  <a:lnTo>
                    <a:pt x="1488" y="176"/>
                  </a:lnTo>
                  <a:lnTo>
                    <a:pt x="0" y="17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66840" y="29559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cc99"/>
                  </a:solidFill>
                  <a:latin typeface="Arial"/>
                </a:rPr>
                <a:t>Dat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606840" y="4140360"/>
            <a:ext cx="3682800" cy="371880"/>
            <a:chOff x="3606840" y="4140360"/>
            <a:chExt cx="3682800" cy="371880"/>
          </a:xfrm>
        </p:grpSpPr>
        <p:sp>
          <p:nvSpPr>
            <p:cNvPr id="374" name=""/>
            <p:cNvSpPr/>
            <p:nvPr/>
          </p:nvSpPr>
          <p:spPr>
            <a:xfrm>
              <a:off x="3606840" y="4140360"/>
              <a:ext cx="3682800" cy="342360"/>
            </a:xfrm>
            <a:custGeom>
              <a:avLst/>
              <a:gdLst/>
              <a:ahLst/>
              <a:rect l="l" t="t" r="r" b="b"/>
              <a:pathLst>
                <a:path w="2320" h="216">
                  <a:moveTo>
                    <a:pt x="0" y="0"/>
                  </a:moveTo>
                  <a:lnTo>
                    <a:pt x="0" y="216"/>
                  </a:lnTo>
                  <a:lnTo>
                    <a:pt x="2320" y="216"/>
                  </a:lnTo>
                  <a:lnTo>
                    <a:pt x="2320" y="0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41280" y="41749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cc99"/>
                  </a:solidFill>
                  <a:latin typeface="Arial"/>
                </a:rPr>
                <a:t>Dat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213000" y="4152960"/>
            <a:ext cx="4647960" cy="715320"/>
            <a:chOff x="3213000" y="4152960"/>
            <a:chExt cx="4647960" cy="715320"/>
          </a:xfrm>
        </p:grpSpPr>
        <p:sp>
          <p:nvSpPr>
            <p:cNvPr id="377" name=""/>
            <p:cNvSpPr/>
            <p:nvPr/>
          </p:nvSpPr>
          <p:spPr>
            <a:xfrm>
              <a:off x="3213000" y="4152960"/>
              <a:ext cx="4647960" cy="685800"/>
            </a:xfrm>
            <a:custGeom>
              <a:avLst/>
              <a:gdLst/>
              <a:ahLst/>
              <a:rect l="l" t="t" r="r" b="b"/>
              <a:pathLst>
                <a:path w="2320" h="216">
                  <a:moveTo>
                    <a:pt x="0" y="0"/>
                  </a:moveTo>
                  <a:lnTo>
                    <a:pt x="0" y="216"/>
                  </a:lnTo>
                  <a:lnTo>
                    <a:pt x="2320" y="216"/>
                  </a:lnTo>
                  <a:lnTo>
                    <a:pt x="2320" y="0"/>
                  </a:lnTo>
                </a:path>
              </a:pathLst>
            </a:custGeom>
            <a:noFill/>
            <a:ln w="1260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58440" y="4530960"/>
              <a:ext cx="25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"/>
                </a:rPr>
                <a:t>Auswahlsignal (Adres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878280" y="5203800"/>
            <a:ext cx="981000" cy="337320"/>
            <a:chOff x="3878280" y="5203800"/>
            <a:chExt cx="981000" cy="337320"/>
          </a:xfrm>
        </p:grpSpPr>
        <p:sp>
          <p:nvSpPr>
            <p:cNvPr id="380" name=""/>
            <p:cNvSpPr/>
            <p:nvPr/>
          </p:nvSpPr>
          <p:spPr>
            <a:xfrm>
              <a:off x="3918240" y="5527800"/>
              <a:ext cx="874440" cy="0"/>
            </a:xfrm>
            <a:prstGeom prst="line">
              <a:avLst/>
            </a:prstGeom>
            <a:ln w="1260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78280" y="520380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372280" y="5597640"/>
            <a:ext cx="1930320" cy="337320"/>
            <a:chOff x="5372280" y="5597640"/>
            <a:chExt cx="1930320" cy="337320"/>
          </a:xfrm>
        </p:grpSpPr>
        <p:sp>
          <p:nvSpPr>
            <p:cNvPr id="383" name=""/>
            <p:cNvSpPr/>
            <p:nvPr/>
          </p:nvSpPr>
          <p:spPr>
            <a:xfrm>
              <a:off x="5372280" y="5651640"/>
              <a:ext cx="1930320" cy="253800"/>
            </a:xfrm>
            <a:custGeom>
              <a:avLst/>
              <a:gdLst/>
              <a:ahLst/>
              <a:rect l="l" t="t" r="r" b="b"/>
              <a:pathLst>
                <a:path w="1216" h="160">
                  <a:moveTo>
                    <a:pt x="0" y="0"/>
                  </a:moveTo>
                  <a:lnTo>
                    <a:pt x="0" y="160"/>
                  </a:lnTo>
                  <a:lnTo>
                    <a:pt x="1216" y="160"/>
                  </a:lnTo>
                  <a:lnTo>
                    <a:pt x="1216" y="0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99040" y="559764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cc99"/>
                  </a:solidFill>
                  <a:latin typeface="Arial"/>
                </a:rPr>
                <a:t>Dat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3149640" y="5664240"/>
            <a:ext cx="4648320" cy="435600"/>
            <a:chOff x="3149640" y="5664240"/>
            <a:chExt cx="4648320" cy="435600"/>
          </a:xfrm>
        </p:grpSpPr>
        <p:sp>
          <p:nvSpPr>
            <p:cNvPr id="386" name=""/>
            <p:cNvSpPr/>
            <p:nvPr/>
          </p:nvSpPr>
          <p:spPr>
            <a:xfrm>
              <a:off x="3149640" y="5664240"/>
              <a:ext cx="4648320" cy="393840"/>
            </a:xfrm>
            <a:custGeom>
              <a:avLst/>
              <a:gdLst/>
              <a:ahLst/>
              <a:rect l="l" t="t" r="r" b="b"/>
              <a:pathLst>
                <a:path w="2320" h="216">
                  <a:moveTo>
                    <a:pt x="0" y="0"/>
                  </a:moveTo>
                  <a:lnTo>
                    <a:pt x="0" y="216"/>
                  </a:lnTo>
                  <a:lnTo>
                    <a:pt x="2320" y="216"/>
                  </a:lnTo>
                  <a:lnTo>
                    <a:pt x="2320" y="0"/>
                  </a:lnTo>
                </a:path>
              </a:pathLst>
            </a:custGeom>
            <a:noFill/>
            <a:ln w="12600">
              <a:solidFill>
                <a:srgbClr val="0000cc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60440" y="576252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cc"/>
                  </a:solidFill>
                  <a:latin typeface="Arial"/>
                </a:rPr>
                <a:t>Auswahlsign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17640" y="1230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7640" y="2476440"/>
            <a:ext cx="8048520" cy="515880"/>
            <a:chOff x="17640" y="2476440"/>
            <a:chExt cx="8048520" cy="515880"/>
          </a:xfrm>
        </p:grpSpPr>
        <p:sp>
          <p:nvSpPr>
            <p:cNvPr id="390" name=""/>
            <p:cNvSpPr/>
            <p:nvPr/>
          </p:nvSpPr>
          <p:spPr>
            <a:xfrm>
              <a:off x="1028880" y="2476440"/>
              <a:ext cx="90972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86560" y="2476440"/>
              <a:ext cx="107928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89760" y="2476440"/>
              <a:ext cx="10764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/A</a:t>
              </a:r>
              <a:br>
                <a:rPr sz="1400"/>
              </a:b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Speich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08520" y="2476440"/>
              <a:ext cx="9144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640" y="25002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4120" y="3619440"/>
            <a:ext cx="8042040" cy="515880"/>
            <a:chOff x="24120" y="3619440"/>
            <a:chExt cx="8042040" cy="515880"/>
          </a:xfrm>
        </p:grpSpPr>
        <p:sp>
          <p:nvSpPr>
            <p:cNvPr id="396" name=""/>
            <p:cNvSpPr/>
            <p:nvPr/>
          </p:nvSpPr>
          <p:spPr>
            <a:xfrm>
              <a:off x="1028880" y="3619440"/>
              <a:ext cx="90972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86560" y="3619440"/>
              <a:ext cx="107928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989760" y="3619440"/>
              <a:ext cx="10764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/A</a:t>
              </a:r>
              <a:br>
                <a:rPr sz="1400"/>
              </a:b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Speich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08520" y="3619440"/>
              <a:ext cx="9144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MA</a:t>
              </a:r>
              <a:br>
                <a:rPr sz="16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C/IN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120" y="37317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17640" y="5130720"/>
            <a:ext cx="8048520" cy="515880"/>
            <a:chOff x="17640" y="5130720"/>
            <a:chExt cx="8048520" cy="515880"/>
          </a:xfrm>
        </p:grpSpPr>
        <p:sp>
          <p:nvSpPr>
            <p:cNvPr id="402" name=""/>
            <p:cNvSpPr/>
            <p:nvPr/>
          </p:nvSpPr>
          <p:spPr>
            <a:xfrm>
              <a:off x="1028880" y="5130720"/>
              <a:ext cx="90972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86560" y="5130720"/>
              <a:ext cx="107928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89760" y="5130720"/>
              <a:ext cx="10764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/A</a:t>
              </a:r>
              <a:br>
                <a:rPr sz="1400"/>
              </a:b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Speich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08520" y="5130720"/>
              <a:ext cx="9144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MA</a:t>
              </a:r>
              <a:br>
                <a:rPr sz="16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C/IN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640" y="52052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8204040" y="2362320"/>
            <a:ext cx="815040" cy="2006640"/>
            <a:chOff x="8204040" y="2362320"/>
            <a:chExt cx="815040" cy="2006640"/>
          </a:xfrm>
        </p:grpSpPr>
        <p:sp>
          <p:nvSpPr>
            <p:cNvPr id="408" name=""/>
            <p:cNvSpPr/>
            <p:nvPr/>
          </p:nvSpPr>
          <p:spPr>
            <a:xfrm rot="16200000">
              <a:off x="7968600" y="2925360"/>
              <a:ext cx="139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sz="2000" spc="-1" strike="noStrike">
                  <a:solidFill>
                    <a:srgbClr val="ff0000"/>
                  </a:solidFill>
                  <a:latin typeface="Arial"/>
                </a:rPr>
                <a:t>two cycle </a:t>
              </a:r>
              <a:br>
                <a:rPr sz="2000"/>
              </a:br>
              <a:r>
                <a:rPr b="1" i="1" sz="2000" spc="-1" strike="noStrike">
                  <a:solidFill>
                    <a:srgbClr val="ff0000"/>
                  </a:solidFill>
                  <a:latin typeface="Arial"/>
                </a:rPr>
                <a:t>transf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204040" y="2362320"/>
              <a:ext cx="190800" cy="2006640"/>
            </a:xfrm>
            <a:custGeom>
              <a:avLst/>
              <a:gdLst>
                <a:gd name="textAreaLeft" fmla="*/ 0 w 190800"/>
                <a:gd name="textAreaRight" fmla="*/ 68760 w 190800"/>
                <a:gd name="textAreaTop" fmla="*/ 52200 h 2006640"/>
                <a:gd name="textAreaBottom" fmla="*/ 1954440 h 20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191440" y="4828320"/>
            <a:ext cx="840240" cy="1316880"/>
            <a:chOff x="8191440" y="4828320"/>
            <a:chExt cx="840240" cy="1316880"/>
          </a:xfrm>
        </p:grpSpPr>
        <p:sp>
          <p:nvSpPr>
            <p:cNvPr id="411" name=""/>
            <p:cNvSpPr/>
            <p:nvPr/>
          </p:nvSpPr>
          <p:spPr>
            <a:xfrm rot="16200000">
              <a:off x="8114760" y="5041440"/>
              <a:ext cx="113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000" spc="-1" strike="noStrike">
                  <a:solidFill>
                    <a:srgbClr val="ff0000"/>
                  </a:solidFill>
                  <a:latin typeface="Arial"/>
                </a:rPr>
                <a:t>fly-by </a:t>
              </a:r>
              <a:br>
                <a:rPr sz="2000"/>
              </a:br>
              <a:r>
                <a:rPr b="1" i="1" lang="de-DE" sz="2000" spc="-1" strike="noStrike">
                  <a:solidFill>
                    <a:srgbClr val="ff0000"/>
                  </a:solidFill>
                  <a:latin typeface="Arial"/>
                </a:rPr>
                <a:t>transf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191440" y="4929120"/>
              <a:ext cx="190440" cy="1216080"/>
            </a:xfrm>
            <a:custGeom>
              <a:avLst/>
              <a:gdLst>
                <a:gd name="textAreaLeft" fmla="*/ 0 w 190440"/>
                <a:gd name="textAreaRight" fmla="*/ 68760 w 190440"/>
                <a:gd name="textAreaTop" fmla="*/ 31680 h 1216080"/>
                <a:gd name="textAreaBottom" fmla="*/ 1184400 h 12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Prinzip des direkten Speicherzugriff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49280" y="1144440"/>
            <a:ext cx="8272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ikroprozesor überträgt zu Beginn die Startadresse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Zieladresse, Anzahl der zu übertragenden Bytes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Übertragungsrichtung und Steuerinform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anach läuft der Transfer automatis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sz="2400" spc="-1" strike="noStrike">
                <a:solidFill>
                  <a:srgbClr val="00c600"/>
                </a:solidFill>
                <a:latin typeface="Arial"/>
              </a:rPr>
              <a:t>“</a:t>
            </a:r>
            <a:r>
              <a:rPr b="1" i="1" sz="2400" spc="-1" strike="noStrike">
                <a:solidFill>
                  <a:srgbClr val="00c600"/>
                </a:solidFill>
                <a:latin typeface="Arial"/>
              </a:rPr>
              <a:t>two cycle transfer” </a:t>
            </a:r>
            <a:r>
              <a:rPr b="1" sz="2400" spc="-1" strike="noStrike">
                <a:solidFill>
                  <a:srgbClr val="00c600"/>
                </a:solidFill>
                <a:latin typeface="Arial"/>
              </a:rPr>
              <a:t>- Übertragungsverfahren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tum wird in einem Register des DMA-Controller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wischengespeichert (Fälle: a-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sz="2400" spc="-1" strike="noStrike">
                <a:solidFill>
                  <a:srgbClr val="00c600"/>
                </a:solidFill>
                <a:latin typeface="Arial"/>
              </a:rPr>
              <a:t>“</a:t>
            </a:r>
            <a:r>
              <a:rPr b="1" i="1" sz="2400" spc="-1" strike="noStrike">
                <a:solidFill>
                  <a:srgbClr val="00c600"/>
                </a:solidFill>
                <a:latin typeface="Arial"/>
              </a:rPr>
              <a:t>fly by transfer”</a:t>
            </a:r>
            <a:r>
              <a:rPr b="1" sz="2400" spc="-1" strike="noStrike">
                <a:solidFill>
                  <a:srgbClr val="00c600"/>
                </a:solidFill>
                <a:latin typeface="Arial"/>
              </a:rPr>
              <a:t> - Übertragungsverfah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tum wird ohne Zwischenspeicherung direkt übertrag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geht jedoch nicht für Speicher-Speicher Transfer) (Fall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16" name="3.7-3" descr=""/>
          <p:cNvPicPr/>
          <p:nvPr/>
        </p:nvPicPr>
        <p:blipFill>
          <a:blip r:embed="rId1"/>
          <a:srcRect l="0" t="1520" r="0" b="1013"/>
          <a:stretch/>
        </p:blipFill>
        <p:spPr>
          <a:xfrm>
            <a:off x="2116080" y="9360"/>
            <a:ext cx="7026480" cy="68486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216240" y="2587680"/>
            <a:ext cx="5800680" cy="3457440"/>
          </a:xfrm>
          <a:prstGeom prst="rect">
            <a:avLst/>
          </a:prstGeom>
          <a:noFill/>
          <a:ln w="57240">
            <a:solidFill>
              <a:srgbClr val="00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62240" y="768240"/>
            <a:ext cx="5791320" cy="1629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2732040"/>
            <a:ext cx="318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ufbau eines </a:t>
            </a:r>
            <a:br>
              <a:rPr sz="3200"/>
            </a:br>
            <a:r>
              <a:rPr b="0" sz="3200" spc="-1" strike="noStrike">
                <a:solidFill>
                  <a:srgbClr val="000099"/>
                </a:solidFill>
                <a:latin typeface="Arial"/>
              </a:rPr>
              <a:t>DMA-Controll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DMA-Controll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0840" y="1190520"/>
            <a:ext cx="8213760" cy="48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600"/>
                </a:solidFill>
                <a:latin typeface="Arial"/>
              </a:rPr>
              <a:t>Steuerwerk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teuert den Daten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signale DMA-Controller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Mikro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akteingang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ystemta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RESET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austein in definierten Anfangszustand rückset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CS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elektion des Bausteins zur Programmierung durch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- A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niederwertige Adressleitungen zur Auswahl eines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er internen Register des Bauste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READY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fforderung an den Baustein zum Einfügen vo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Wartezyklen (von der Peripher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HOLD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nforderung des Systembusses vom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 durch d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au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HOLDA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ewährung des Systembusses durch den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71480" y="3105000"/>
            <a:ext cx="36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DMA-Controll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2280" y="1185840"/>
            <a:ext cx="841860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signale DMA-Controller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Periph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REQ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DMA reques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eripherie stellt Anforderung zum Daten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CK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DMA acknowledge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austein akzeptiert Anforderung zum Daten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ND, EOP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end of process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eripherie oder Prozessor wird vom Baustein über das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nde des Datentransfers informiert.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anchmal bidirektionale Leitung, durch die der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 ein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transfer abbrechen ka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3 Steuerregister zur Kontrolle und Programmierung durch den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DMA-Controll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46040" y="1116000"/>
            <a:ext cx="8512200" cy="50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600"/>
                </a:solidFill>
                <a:latin typeface="Arial"/>
              </a:rPr>
              <a:t>Operationswerk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führt den Datentransfer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Besteht im wesentlichen aus 3 Zählern, die vom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 zu Beginn eines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transfers geladen wer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Datenzähler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nzahl der zu übertragenden Daten, wird bis 0  dekrementiert,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informiert dann das Steuerwerk über das Ende des Datentrans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Adresszähler1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Quelladresse des Datentransfers. Wird bei Transfers aus dem Speicher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wahlweise inkrementiert oder dekrementiert. Bei Transfers von der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eripherie bleibt die Adresse unveränd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Adresszähler2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ieladresse des Datentransfers, Verhalten wie Adresszähl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Basisregister für die drei Zähler speichern jeweils die Anfangswe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DMA-Übertragungsar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61000" y="1230480"/>
            <a:ext cx="84488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der Regel kann man bei einem DMA-Baustein unt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schiedenen Übertragungsarten wählen, die sich durch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Belegung des Systembusses unterschei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c600"/>
                </a:solidFill>
                <a:latin typeface="Arial"/>
              </a:rPr>
              <a:t>Einzeltransfer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 (</a:t>
            </a:r>
            <a:r>
              <a:rPr b="0" i="1" sz="2400" spc="-1" strike="noStrike">
                <a:solidFill>
                  <a:srgbClr val="00c600"/>
                </a:solidFill>
                <a:latin typeface="Arial"/>
              </a:rPr>
              <a:t>single transfer  mode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c6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c600"/>
                </a:solidFill>
                <a:latin typeface="Arial"/>
              </a:rPr>
              <a:t>Block-Transfer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 (</a:t>
            </a:r>
            <a:r>
              <a:rPr b="0" i="1" sz="2400" spc="-1" strike="noStrike">
                <a:solidFill>
                  <a:srgbClr val="00c600"/>
                </a:solidFill>
                <a:latin typeface="Arial"/>
              </a:rPr>
              <a:t>block transfer mode, burst mode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c6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c600"/>
                </a:solidFill>
                <a:latin typeface="Arial"/>
              </a:rPr>
              <a:t>Transfer auf Anforderung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 (</a:t>
            </a:r>
            <a:r>
              <a:rPr b="0" i="1" sz="2400" spc="-1" strike="noStrike">
                <a:solidFill>
                  <a:srgbClr val="00c600"/>
                </a:solidFill>
                <a:latin typeface="Arial"/>
              </a:rPr>
              <a:t>demand transfer mode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Einzeltransfer (</a:t>
            </a:r>
            <a:r>
              <a:rPr b="0" i="1" sz="3200" spc="-1" strike="noStrike">
                <a:solidFill>
                  <a:srgbClr val="000099"/>
                </a:solidFill>
                <a:latin typeface="Arial"/>
              </a:rPr>
              <a:t>single transfer  mode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38120" y="105732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Hierbei wird jeweils genau ein Datum übertragen, danach der Systembus wieder für den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 freigegeben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cycle stealing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dem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 werden einzelne Buszyklen entzog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1520" y="5273640"/>
            <a:ext cx="551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EQ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Anforderung eines Requesters zum Datentrans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HOLD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Busanforderung durch den DMA-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HOLDA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Busgewährung durch den </a:t>
            </a:r>
            <a:r>
              <a:rPr b="0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EAD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beendet die Übertragung des Datums, wenn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3.7-4" descr=""/>
          <p:cNvPicPr/>
          <p:nvPr/>
        </p:nvPicPr>
        <p:blipFill>
          <a:blip r:embed="rId1"/>
          <a:stretch/>
        </p:blipFill>
        <p:spPr>
          <a:xfrm>
            <a:off x="1066680" y="2109960"/>
            <a:ext cx="653436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Wiederholung: Speicherverwal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3360" y="1243080"/>
            <a:ext cx="85406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Betriebsyste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ührt Buch über die freien Speicher-bereiche und lagert bei nicht ausreichendem Freiplatz im Hauptspeicher diejenigen Speicherinhalte auf den Hintergrundspeicher aus, die gegenüber ihrem Orginalen auf dem Hintergrundspeicher verändert worden si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eindeutige Abbildung des großen virtuellen Speichers auf die effektive Hauptspeicherkapazität wird von der Hardware durch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Speicherverwaltungseinhei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terstütz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memory management units, MM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erforderliche Abbildungsinformation stellt das Betriebssystem in Form einer oder mehrerern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Übersetzungstabell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r Verfüg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65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Block-Transfer (</a:t>
            </a:r>
            <a:r>
              <a:rPr b="0" i="1" sz="2800" spc="-1" strike="noStrike">
                <a:solidFill>
                  <a:srgbClr val="000099"/>
                </a:solidFill>
                <a:latin typeface="Arial"/>
              </a:rPr>
              <a:t>block transfer mode, burst mode</a:t>
            </a:r>
            <a:r>
              <a:rPr b="0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60440" y="1157400"/>
            <a:ext cx="82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er DMA-Controller überträgt hierbei alle Daten des Blocks ohne zwischenzeitliche Busfreigabe, sobald er den Systembus  erhalten 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3.7-5" descr=""/>
          <p:cNvPicPr/>
          <p:nvPr/>
        </p:nvPicPr>
        <p:blipFill>
          <a:blip r:embed="rId1"/>
          <a:stretch/>
        </p:blipFill>
        <p:spPr>
          <a:xfrm>
            <a:off x="809640" y="2171880"/>
            <a:ext cx="741060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Transfer auf Anforderung (</a:t>
            </a:r>
            <a:r>
              <a:rPr b="0" i="1" sz="2800" spc="-1" strike="noStrike">
                <a:solidFill>
                  <a:srgbClr val="000099"/>
                </a:solidFill>
                <a:latin typeface="Arial"/>
              </a:rPr>
              <a:t>demand transfer mode</a:t>
            </a:r>
            <a:r>
              <a:rPr b="0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71160" y="1211400"/>
            <a:ext cx="77716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Mittelstellung zwischen Einzeltransfer und Block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übertragung wird solange ohne Unterbrechung durchgeführt,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olange das REQ-Signal aktiv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transfer in Schüben, häufig von Peripheriegerät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     benutzt (echter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Burst-Mod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3.7-6" descr=""/>
          <p:cNvPicPr/>
          <p:nvPr/>
        </p:nvPicPr>
        <p:blipFill>
          <a:blip r:embed="rId1"/>
          <a:srcRect l="1699" t="5258" r="918" b="2779"/>
          <a:stretch/>
        </p:blipFill>
        <p:spPr>
          <a:xfrm>
            <a:off x="824040" y="3171960"/>
            <a:ext cx="70866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DMA-Übertragungsar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04360" y="1182600"/>
            <a:ext cx="79020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onders zu beachten bei DMA-Transfers s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iedliche Datenbreite von Quelle und Ziel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Übertragungen von einem 8-Bit breiten Peripheri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rät (Drucker, Terminal, ...) in den 32-Bit breit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up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tragung von non-aligned Daten, d.h. mehrer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zugriffe zum Lesen oder Schreiben eine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ums sind notwendig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MA-Controller sind durch verschieden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an diese Anforderungen angepaßt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z.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DMA-Übertragungsar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19760" y="1182600"/>
            <a:ext cx="8409600" cy="49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hlweise Inkrementierung der Adresszähler u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 2 od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erlegung bzw. Sammeln von Daten vor de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transport in internen Registern bei unterschiedl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eite von Quelle und Z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sche Erkennung von non-aligned Zugriffen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erlegung dieser Zugriffe in mehrere Speicherzyk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rne DMA-Controller enthalten 2 - 8 DMA-Kanäle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r Kanal besitzt eigene Leitungen REQ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ACK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END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kann so unabhängig von den anderen eine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quester zugeordne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Register des Steuerwerks eines DMA-Controll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01400" y="1135080"/>
            <a:ext cx="69184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rientiert am Intel 82380 DMA-Control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4 unabhängige DMA-Kanäle auf dem Bau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Register des Steuerwer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3.7-7" descr=""/>
          <p:cNvPicPr/>
          <p:nvPr/>
        </p:nvPicPr>
        <p:blipFill>
          <a:blip r:embed="rId1"/>
          <a:srcRect l="2060" t="3886" r="0" b="0"/>
          <a:stretch/>
        </p:blipFill>
        <p:spPr>
          <a:xfrm>
            <a:off x="990720" y="3462480"/>
            <a:ext cx="72388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09160" y="152280"/>
            <a:ext cx="8744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Register des Steuerwerks eines DMA-Controll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8080" y="1317600"/>
            <a:ext cx="857484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Statusregist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Bitpaare pro Kanal zur Anzeige folgender Informatio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Übertragungsanforderung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 für Kanal i liegt 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C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übertragung auf Kanal i beendet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terminal coun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Befehlsregis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Bits zur Bestimmung der Arbeitsweise der einzelnen Kanä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Freigabe des Kanals i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enabl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rioritätensteuerung zwischen den Kanä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R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oftware-Request (als Alternative zur REQ-Leitung)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Interrupt Enable für Kanal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Steuerregister (eines pro Kanal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8880" y="1440000"/>
            <a:ext cx="816624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Steuerregis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estimmt die Betriebsart des Ka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yp der Übertragung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verify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I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tomatische Initialisierung (automatisches Nachlad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er Zähler aus den Basisregistern nach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Übertragungsen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odus der Übertragung (Einzeltransfer, Blocktransfer,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ransfer auf Anforderu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ransferzyklen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two-cycle transfer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fly-by transfer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Steuerregister (eines pro Kanal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46120" y="1428840"/>
            <a:ext cx="816624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T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yp der Komponente für Target und Reque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RT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Arbeitsspeicher / Peripher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TA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ktion des Adresszählers für Target und Reque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RA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Inkrement, Dekrement, Ho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TB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TB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usbreite für Target und Requester (8, 16, 32 B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RB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Wiederholung: Speicherverwal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3360" y="1116000"/>
            <a:ext cx="8540640" cy="50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Lokalitätseigenschaften von Programmen und Dat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rogramme greifen in einem kleinen Zeitintervall auf einen relative kleinen Teil des Adreßra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Lokalitätseigenschaften gewährleisten eine hohe Wahrscheinlichkeit, dass die Daten, welche die CPU anfordert, im physikalischen Hauptspeicher zu finden s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ei Arten der Lokalitä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1375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cc"/>
                </a:solidFill>
                <a:latin typeface="Arial"/>
              </a:rPr>
              <a:t>Zeitliche Lokalität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Falls ein Datum oder ein Befehl referenziert wird, so werden sie bald wieder referenzier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1375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cc"/>
                </a:solidFill>
                <a:latin typeface="Arial"/>
              </a:rPr>
              <a:t>Örtliche Lokalität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Falls ein Datum oder ein Befehl referenziert wird, werden bald Daten oder Befehle mit benachbarten Adressen referenzier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Wiederholung: Speicherverwal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3360" y="1116000"/>
            <a:ext cx="8540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375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Um den Umfang der Übersetzungstabellen gering zu halten, bezieht man die Abbildungsinformation nicht auf einzelne Adressen, sondern auf zusammenhängende Adreßbereic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375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s gibt zwei Möglichkeite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8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egmentieru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8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eitenwechsel-Verfah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267080" y="5029200"/>
            <a:ext cx="482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4. 7  Zweistufiges Seitenwechsel-Verfahr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81800" y="1222200"/>
            <a:ext cx="1276560" cy="439740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81800" y="2114640"/>
            <a:ext cx="1162080" cy="1317600"/>
          </a:xfrm>
          <a:prstGeom prst="rect">
            <a:avLst/>
          </a:prstGeom>
          <a:solidFill>
            <a:srgbClr val="85ffd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81800" y="24354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54080" y="1676520"/>
            <a:ext cx="169056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631880" y="4438440"/>
            <a:ext cx="0" cy="110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13080" y="1676520"/>
            <a:ext cx="147456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040" y="5397480"/>
            <a:ext cx="507960" cy="26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760" y="504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60920" y="1955880"/>
            <a:ext cx="1422360" cy="761760"/>
          </a:xfrm>
          <a:custGeom>
            <a:avLst/>
            <a:gdLst/>
            <a:ahLst/>
            <a:rect l="l" t="t" r="r" b="b"/>
            <a:pathLst>
              <a:path w="816" h="792">
                <a:moveTo>
                  <a:pt x="0" y="0"/>
                </a:moveTo>
                <a:lnTo>
                  <a:pt x="0" y="783"/>
                </a:lnTo>
                <a:lnTo>
                  <a:pt x="816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81000" y="1995480"/>
            <a:ext cx="45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576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51840" y="5597640"/>
            <a:ext cx="16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Physikalischer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Adressra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74120" y="2435400"/>
            <a:ext cx="28548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66080" y="24354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58040" y="24354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6760" y="27907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4-Kbyte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1676520"/>
            <a:ext cx="148752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7000" y="5397480"/>
            <a:ext cx="343080" cy="26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489040"/>
            <a:ext cx="419400" cy="44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27880" y="2717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40120" y="3432240"/>
            <a:ext cx="1263960" cy="218736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40120" y="475920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32440" y="475920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24400" y="475920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16720" y="4759200"/>
            <a:ext cx="2854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118120" y="3708360"/>
            <a:ext cx="1993680" cy="393840"/>
          </a:xfrm>
          <a:custGeom>
            <a:avLst/>
            <a:gdLst/>
            <a:ahLst/>
            <a:rect l="l" t="t" r="r" b="b"/>
            <a:pathLst>
              <a:path w="816" h="792">
                <a:moveTo>
                  <a:pt x="0" y="0"/>
                </a:moveTo>
                <a:lnTo>
                  <a:pt x="0" y="783"/>
                </a:lnTo>
                <a:lnTo>
                  <a:pt x="816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00680" y="4800600"/>
            <a:ext cx="419040" cy="44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11480" y="2019240"/>
            <a:ext cx="1130400" cy="2768760"/>
          </a:xfrm>
          <a:custGeom>
            <a:avLst/>
            <a:gdLst/>
            <a:ahLst/>
            <a:rect l="l" t="t" r="r" b="b"/>
            <a:pathLst>
              <a:path w="480" h="1744">
                <a:moveTo>
                  <a:pt x="0" y="0"/>
                </a:moveTo>
                <a:lnTo>
                  <a:pt x="0" y="568"/>
                </a:lnTo>
                <a:lnTo>
                  <a:pt x="480" y="568"/>
                </a:lnTo>
                <a:lnTo>
                  <a:pt x="480" y="17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76640" y="3432240"/>
            <a:ext cx="1263600" cy="218736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76640" y="3984480"/>
            <a:ext cx="2854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68600" y="398448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60560" y="398448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52880" y="3984480"/>
            <a:ext cx="2854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97160" y="4013280"/>
            <a:ext cx="419040" cy="44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16200" y="4241880"/>
            <a:ext cx="482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20960" y="5016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20960" y="4127400"/>
            <a:ext cx="1054080" cy="1473480"/>
          </a:xfrm>
          <a:custGeom>
            <a:avLst/>
            <a:gdLst/>
            <a:ahLst/>
            <a:rect l="l" t="t" r="r" b="b"/>
            <a:pathLst>
              <a:path w="816" h="792">
                <a:moveTo>
                  <a:pt x="0" y="0"/>
                </a:moveTo>
                <a:lnTo>
                  <a:pt x="0" y="783"/>
                </a:lnTo>
                <a:lnTo>
                  <a:pt x="816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4140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36640" y="5524560"/>
            <a:ext cx="143676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19280" y="202500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97800" y="5597640"/>
            <a:ext cx="17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eitentabellen-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Verzeich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22040" y="559764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eiten-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10520" y="12826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Linear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94760" y="205416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99"/>
                </a:solidFill>
                <a:latin typeface="Arial"/>
              </a:rPr>
              <a:t>Konkat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Zweistufiges Seitenwechsel-Verfahr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6280" y="1217520"/>
            <a:ext cx="84391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eitentabellenverzeichnis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Seitentabell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S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eitentabellenverzeichnis, Seitentabellen und Seiten sind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jeweils 4 KByt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ß und jeder Tabellen-Eintrag umfasst 4 B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e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eitentabellen und -verzeichni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nd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jeweils 1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träg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nt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neare Adresse wird in drei Teilen zerlegt. Die höchstwertigen 10 Bits selektieren einen Eintrag im Seitentabellen-Verzeichnis, dessen Basisadresse in einem speziellen Systemregister (CR3) abgelegt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nächsten 10 Bits der linearen Adresse selektieren einen der 1024 Einträge aus der Seitentabelle. In diesem Eintrag steht die Basisadresse einer Se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niedrigstwertigen 12 Bits werden als Offset zur Seitenadresse addiert, um die endgültige, physikalische Adresse zu er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flipV="1">
            <a:off x="1463760" y="2425680"/>
            <a:ext cx="1730160" cy="3168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99"/>
                </a:solidFill>
                <a:latin typeface="Arial"/>
              </a:rPr>
              <a:t>Beschleunigung der Adressberechnung durch einen Ca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073240"/>
            <a:ext cx="1447920" cy="93996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ranslation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ookasid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ffer (TL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67360" y="2300400"/>
            <a:ext cx="171720" cy="20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22640" y="1495440"/>
            <a:ext cx="3968640" cy="942840"/>
          </a:xfrm>
          <a:custGeom>
            <a:avLst/>
            <a:gdLst/>
            <a:ahLst/>
            <a:rect l="l" t="t" r="r" b="b"/>
            <a:pathLst>
              <a:path w="2500" h="594">
                <a:moveTo>
                  <a:pt x="0" y="122"/>
                </a:moveTo>
                <a:lnTo>
                  <a:pt x="2" y="0"/>
                </a:lnTo>
                <a:lnTo>
                  <a:pt x="2500" y="8"/>
                </a:lnTo>
                <a:lnTo>
                  <a:pt x="2500" y="59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54040" y="2073240"/>
            <a:ext cx="2571840" cy="3181320"/>
          </a:xfrm>
          <a:custGeom>
            <a:avLst/>
            <a:gdLst/>
            <a:ahLst/>
            <a:rect l="l" t="t" r="r" b="b"/>
            <a:pathLst>
              <a:path w="1620" h="2004">
                <a:moveTo>
                  <a:pt x="0" y="0"/>
                </a:moveTo>
                <a:lnTo>
                  <a:pt x="4" y="990"/>
                </a:lnTo>
                <a:lnTo>
                  <a:pt x="1620" y="974"/>
                </a:lnTo>
                <a:lnTo>
                  <a:pt x="1620" y="2004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8400" y="2660760"/>
            <a:ext cx="2473560" cy="1584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29160" y="2666880"/>
            <a:ext cx="762120" cy="2702160"/>
          </a:xfrm>
          <a:custGeom>
            <a:avLst/>
            <a:gdLst/>
            <a:ahLst/>
            <a:rect l="l" t="t" r="r" b="b"/>
            <a:pathLst>
              <a:path w="240" h="1470">
                <a:moveTo>
                  <a:pt x="0" y="1470"/>
                </a:moveTo>
                <a:lnTo>
                  <a:pt x="240" y="1464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84800" y="3267000"/>
            <a:ext cx="59688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2527200"/>
            <a:ext cx="45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629240" y="2514240"/>
            <a:ext cx="1400040" cy="1908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35760" y="2394000"/>
            <a:ext cx="287280" cy="287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440" y="1265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are 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16920" y="1116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61200" y="16365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 G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33920" y="2144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effer (h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95640" y="313524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Treffer (mi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37960" y="1658880"/>
            <a:ext cx="2546280" cy="664920"/>
            <a:chOff x="237960" y="1658880"/>
            <a:chExt cx="2546280" cy="664920"/>
          </a:xfrm>
        </p:grpSpPr>
        <p:sp>
          <p:nvSpPr>
            <p:cNvPr id="144" name=""/>
            <p:cNvSpPr/>
            <p:nvPr/>
          </p:nvSpPr>
          <p:spPr>
            <a:xfrm>
              <a:off x="396000" y="1658880"/>
              <a:ext cx="720720" cy="39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28080" y="1658880"/>
              <a:ext cx="720720" cy="39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17080" y="1658880"/>
              <a:ext cx="720360" cy="39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7960" y="2016720"/>
              <a:ext cx="25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31            21           11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30720" y="23716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10480" y="1692360"/>
            <a:ext cx="1276200" cy="439740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10480" y="2254320"/>
            <a:ext cx="1162080" cy="1050840"/>
          </a:xfrm>
          <a:prstGeom prst="rect">
            <a:avLst/>
          </a:prstGeom>
          <a:solidFill>
            <a:srgbClr val="85ffd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10480" y="2409840"/>
            <a:ext cx="2854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02440" y="240984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4400" y="240984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86720" y="240984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95080" y="27147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4-Kbyte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27400" y="5494320"/>
            <a:ext cx="482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00440" y="3897360"/>
            <a:ext cx="1263960" cy="218736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00440" y="522432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92760" y="522432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4720" y="522432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77040" y="5224320"/>
            <a:ext cx="2854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60640" y="5265720"/>
            <a:ext cx="419400" cy="44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36600" y="3897360"/>
            <a:ext cx="1263960" cy="218736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6600" y="44118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28920" y="44118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20880" y="44118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13200" y="4411800"/>
            <a:ext cx="28548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5481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4567320"/>
            <a:ext cx="1054080" cy="1498680"/>
          </a:xfrm>
          <a:custGeom>
            <a:avLst/>
            <a:gdLst/>
            <a:ahLst/>
            <a:rect l="l" t="t" r="r" b="b"/>
            <a:pathLst>
              <a:path w="816" h="792">
                <a:moveTo>
                  <a:pt x="0" y="0"/>
                </a:moveTo>
                <a:lnTo>
                  <a:pt x="0" y="783"/>
                </a:lnTo>
                <a:lnTo>
                  <a:pt x="816" y="792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89320" y="4554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631880" y="483192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9040" y="5892840"/>
            <a:ext cx="507960" cy="26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5526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27000" y="5892840"/>
            <a:ext cx="343080" cy="26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97160" y="4406760"/>
            <a:ext cx="419040" cy="44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6200" y="463536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836640" y="6033960"/>
            <a:ext cx="127152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8400" y="2057400"/>
            <a:ext cx="914400" cy="2362320"/>
          </a:xfrm>
          <a:custGeom>
            <a:avLst/>
            <a:gdLst/>
            <a:ahLst/>
            <a:rect l="l" t="t" r="r" b="b"/>
            <a:pathLst>
              <a:path w="576" h="1488">
                <a:moveTo>
                  <a:pt x="0" y="0"/>
                </a:moveTo>
                <a:lnTo>
                  <a:pt x="0" y="1280"/>
                </a:lnTo>
                <a:lnTo>
                  <a:pt x="576" y="1280"/>
                </a:lnTo>
                <a:lnTo>
                  <a:pt x="576" y="1488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99"/>
                </a:solidFill>
                <a:latin typeface="Arial"/>
              </a:rPr>
              <a:t>Beschleunigung der Adressberechnung durch einen Cach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8880" y="1278000"/>
            <a:ext cx="811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schneller voll-assoziativer Cache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Translation </a:t>
            </a:r>
            <a:br>
              <a:rPr sz="2400"/>
            </a:b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Lookaside Buff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, TBL) speichert automatisch die 32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zuletzt benutzen Einträge aus Seitentabellenverzeichni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Seitentab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Trefferfall (Trefferquote ca. 90 %) m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nich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 die im Hauptspeicher liegenden Tabell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gegriffen wer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itarbeiter-Dillmann</cp:lastModifiedBy>
  <cp:lastPrinted>2000-05-30T19:51:59Z</cp:lastPrinted>
  <dcterms:modified xsi:type="dcterms:W3CDTF">2002-03-07T12:09:51Z</dcterms:modified>
  <cp:revision>1582</cp:revision>
  <dc:subject/>
  <dc:title>TI-2</dc:title>
</cp:coreProperties>
</file>