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342F-C38C-471C-93F0-5DC6E0A071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o sind wir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8400" y="1171440"/>
            <a:ext cx="7348680" cy="201600"/>
          </a:xfrm>
          <a:custGeom>
            <a:avLst/>
            <a:gdLst/>
            <a:ahLst/>
            <a:rect l="l" t="t" r="r" b="b"/>
            <a:pathLst>
              <a:path w="4629" h="127">
                <a:moveTo>
                  <a:pt x="4629" y="127"/>
                </a:moveTo>
                <a:lnTo>
                  <a:pt x="127" y="127"/>
                </a:lnTo>
                <a:lnTo>
                  <a:pt x="0" y="0"/>
                </a:lnTo>
                <a:lnTo>
                  <a:pt x="4502" y="0"/>
                </a:lnTo>
                <a:lnTo>
                  <a:pt x="4629" y="127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70000" y="1373040"/>
            <a:ext cx="7147080" cy="4735800"/>
          </a:xfrm>
          <a:custGeom>
            <a:avLst/>
            <a:gdLst/>
            <a:ahLst/>
            <a:rect l="l" t="t" r="r" b="b"/>
            <a:pathLst>
              <a:path w="4502" h="2983">
                <a:moveTo>
                  <a:pt x="0" y="0"/>
                </a:moveTo>
                <a:lnTo>
                  <a:pt x="0" y="2983"/>
                </a:lnTo>
                <a:lnTo>
                  <a:pt x="4502" y="2983"/>
                </a:lnTo>
                <a:lnTo>
                  <a:pt x="450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0000" y="6093000"/>
            <a:ext cx="7130880" cy="144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00880" y="1372680"/>
            <a:ext cx="1800" cy="4719960"/>
          </a:xfrm>
          <a:prstGeom prst="line">
            <a:avLst/>
          </a:prstGeom>
          <a:ln w="15840">
            <a:solidFill>
              <a:srgbClr val="c3c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170000" y="1373040"/>
            <a:ext cx="7130880" cy="180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5720" y="375588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8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65720" y="3755880"/>
            <a:ext cx="1687680" cy="201600"/>
          </a:xfrm>
          <a:custGeom>
            <a:avLst/>
            <a:gdLst/>
            <a:ahLst/>
            <a:rect l="l" t="t" r="r" b="b"/>
            <a:pathLst>
              <a:path w="1063" h="127">
                <a:moveTo>
                  <a:pt x="1063" y="127"/>
                </a:moveTo>
                <a:lnTo>
                  <a:pt x="127" y="127"/>
                </a:lnTo>
                <a:lnTo>
                  <a:pt x="0" y="0"/>
                </a:lnTo>
                <a:lnTo>
                  <a:pt x="936" y="0"/>
                </a:lnTo>
                <a:lnTo>
                  <a:pt x="1063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7320" y="3957480"/>
            <a:ext cx="1486080" cy="1392480"/>
          </a:xfrm>
          <a:custGeom>
            <a:avLst/>
            <a:gdLst/>
            <a:ahLst/>
            <a:rect l="l" t="t" r="r" b="b"/>
            <a:pathLst>
              <a:path w="936" h="877">
                <a:moveTo>
                  <a:pt x="0" y="0"/>
                </a:moveTo>
                <a:lnTo>
                  <a:pt x="0" y="877"/>
                </a:lnTo>
                <a:lnTo>
                  <a:pt x="936" y="877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67320" y="3941640"/>
            <a:ext cx="1800" cy="139392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67320" y="5335560"/>
            <a:ext cx="14860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853400" y="3941640"/>
            <a:ext cx="1440" cy="139392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67320" y="3941640"/>
            <a:ext cx="14860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4800" y="44989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13600" y="1744560"/>
            <a:ext cx="199800" cy="1594080"/>
          </a:xfrm>
          <a:custGeom>
            <a:avLst/>
            <a:gdLst/>
            <a:ahLst/>
            <a:rect l="l" t="t" r="r" b="b"/>
            <a:pathLst>
              <a:path w="126" h="1004">
                <a:moveTo>
                  <a:pt x="126" y="126"/>
                </a:moveTo>
                <a:lnTo>
                  <a:pt x="126" y="1004"/>
                </a:lnTo>
                <a:lnTo>
                  <a:pt x="0" y="877"/>
                </a:lnTo>
                <a:lnTo>
                  <a:pt x="0" y="0"/>
                </a:lnTo>
                <a:lnTo>
                  <a:pt x="126" y="126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3600" y="1744560"/>
            <a:ext cx="1685880" cy="200160"/>
          </a:xfrm>
          <a:custGeom>
            <a:avLst/>
            <a:gdLst/>
            <a:ahLst/>
            <a:rect l="l" t="t" r="r" b="b"/>
            <a:pathLst>
              <a:path w="1062" h="126">
                <a:moveTo>
                  <a:pt x="1062" y="126"/>
                </a:moveTo>
                <a:lnTo>
                  <a:pt x="126" y="126"/>
                </a:lnTo>
                <a:lnTo>
                  <a:pt x="0" y="0"/>
                </a:lnTo>
                <a:lnTo>
                  <a:pt x="935" y="0"/>
                </a:lnTo>
                <a:lnTo>
                  <a:pt x="1062" y="126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3400" y="1944720"/>
            <a:ext cx="1486080" cy="1393920"/>
          </a:xfrm>
          <a:custGeom>
            <a:avLst/>
            <a:gdLst/>
            <a:ahLst/>
            <a:rect l="l" t="t" r="r" b="b"/>
            <a:pathLst>
              <a:path w="936" h="878">
                <a:moveTo>
                  <a:pt x="0" y="0"/>
                </a:moveTo>
                <a:lnTo>
                  <a:pt x="0" y="878"/>
                </a:lnTo>
                <a:lnTo>
                  <a:pt x="936" y="878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9360" y="193032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99360" y="3322800"/>
            <a:ext cx="14842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83640" y="193032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99000" y="1930320"/>
            <a:ext cx="14842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5440" y="248760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2440080"/>
            <a:ext cx="77760" cy="233280"/>
          </a:xfrm>
          <a:custGeom>
            <a:avLst/>
            <a:gdLst/>
            <a:ahLst/>
            <a:rect l="l" t="t" r="r" b="b"/>
            <a:pathLst>
              <a:path w="49" h="147">
                <a:moveTo>
                  <a:pt x="49" y="49"/>
                </a:moveTo>
                <a:lnTo>
                  <a:pt x="49" y="147"/>
                </a:lnTo>
                <a:lnTo>
                  <a:pt x="0" y="108"/>
                </a:lnTo>
                <a:lnTo>
                  <a:pt x="0" y="0"/>
                </a:lnTo>
                <a:lnTo>
                  <a:pt x="49" y="4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560" y="2440080"/>
            <a:ext cx="772920" cy="77760"/>
          </a:xfrm>
          <a:custGeom>
            <a:avLst/>
            <a:gdLst/>
            <a:ahLst/>
            <a:rect l="l" t="t" r="r" b="b"/>
            <a:pathLst>
              <a:path w="487" h="49">
                <a:moveTo>
                  <a:pt x="487" y="49"/>
                </a:moveTo>
                <a:lnTo>
                  <a:pt x="49" y="49"/>
                </a:lnTo>
                <a:lnTo>
                  <a:pt x="0" y="0"/>
                </a:lnTo>
                <a:lnTo>
                  <a:pt x="448" y="0"/>
                </a:lnTo>
                <a:lnTo>
                  <a:pt x="487" y="4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56320" y="2517840"/>
            <a:ext cx="695160" cy="155520"/>
          </a:xfrm>
          <a:custGeom>
            <a:avLst/>
            <a:gdLst/>
            <a:ahLst/>
            <a:rect l="l" t="t" r="r" b="b"/>
            <a:pathLst>
              <a:path w="438" h="98">
                <a:moveTo>
                  <a:pt x="0" y="0"/>
                </a:moveTo>
                <a:lnTo>
                  <a:pt x="0" y="98"/>
                </a:lnTo>
                <a:lnTo>
                  <a:pt x="438" y="98"/>
                </a:lnTo>
                <a:lnTo>
                  <a:pt x="4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480" y="2502000"/>
            <a:ext cx="1440" cy="1713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40480" y="267336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51480" y="2502000"/>
            <a:ext cx="1800" cy="1713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40120" y="250200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4452840"/>
            <a:ext cx="61920" cy="24768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1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32480" y="4452840"/>
            <a:ext cx="772920" cy="61920"/>
          </a:xfrm>
          <a:custGeom>
            <a:avLst/>
            <a:gdLst/>
            <a:ahLst/>
            <a:rect l="l" t="t" r="r" b="b"/>
            <a:pathLst>
              <a:path w="487" h="39">
                <a:moveTo>
                  <a:pt x="487" y="39"/>
                </a:moveTo>
                <a:lnTo>
                  <a:pt x="39" y="39"/>
                </a:lnTo>
                <a:lnTo>
                  <a:pt x="0" y="0"/>
                </a:lnTo>
                <a:lnTo>
                  <a:pt x="448" y="0"/>
                </a:lnTo>
                <a:lnTo>
                  <a:pt x="487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94400" y="4514760"/>
            <a:ext cx="711000" cy="185760"/>
          </a:xfrm>
          <a:custGeom>
            <a:avLst/>
            <a:gdLst/>
            <a:ahLst/>
            <a:rect l="l" t="t" r="r" b="b"/>
            <a:pathLst>
              <a:path w="448" h="117">
                <a:moveTo>
                  <a:pt x="0" y="0"/>
                </a:moveTo>
                <a:lnTo>
                  <a:pt x="0" y="117"/>
                </a:lnTo>
                <a:lnTo>
                  <a:pt x="448" y="117"/>
                </a:lnTo>
                <a:lnTo>
                  <a:pt x="4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4400" y="4514760"/>
            <a:ext cx="1440" cy="1857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94400" y="470052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89560" y="4514760"/>
            <a:ext cx="1800" cy="1857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94040" y="451476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92680" y="1728720"/>
            <a:ext cx="201600" cy="3637080"/>
          </a:xfrm>
          <a:custGeom>
            <a:avLst/>
            <a:gdLst/>
            <a:ahLst/>
            <a:rect l="l" t="t" r="r" b="b"/>
            <a:pathLst>
              <a:path w="127" h="2291">
                <a:moveTo>
                  <a:pt x="127" y="127"/>
                </a:moveTo>
                <a:lnTo>
                  <a:pt x="127" y="2291"/>
                </a:lnTo>
                <a:lnTo>
                  <a:pt x="0" y="2164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5ee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2680" y="1728720"/>
            <a:ext cx="1825560" cy="201600"/>
          </a:xfrm>
          <a:custGeom>
            <a:avLst/>
            <a:gdLst/>
            <a:ahLst/>
            <a:rect l="l" t="t" r="r" b="b"/>
            <a:pathLst>
              <a:path w="1150" h="127">
                <a:moveTo>
                  <a:pt x="1150" y="127"/>
                </a:moveTo>
                <a:lnTo>
                  <a:pt x="127" y="127"/>
                </a:lnTo>
                <a:lnTo>
                  <a:pt x="0" y="0"/>
                </a:lnTo>
                <a:lnTo>
                  <a:pt x="1033" y="0"/>
                </a:lnTo>
                <a:lnTo>
                  <a:pt x="1150" y="127"/>
                </a:lnTo>
                <a:close/>
              </a:path>
            </a:pathLst>
          </a:custGeom>
          <a:solidFill>
            <a:srgbClr val="3f9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4280" y="1930320"/>
            <a:ext cx="1623960" cy="3435480"/>
          </a:xfrm>
          <a:custGeom>
            <a:avLst/>
            <a:gdLst/>
            <a:ahLst/>
            <a:rect l="l" t="t" r="r" b="b"/>
            <a:pathLst>
              <a:path w="1023" h="2164">
                <a:moveTo>
                  <a:pt x="0" y="0"/>
                </a:moveTo>
                <a:lnTo>
                  <a:pt x="0" y="2164"/>
                </a:lnTo>
                <a:lnTo>
                  <a:pt x="1023" y="2164"/>
                </a:lnTo>
                <a:lnTo>
                  <a:pt x="10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1c3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8440" y="1930320"/>
            <a:ext cx="1440" cy="3419640"/>
          </a:xfrm>
          <a:prstGeom prst="line">
            <a:avLst/>
          </a:prstGeom>
          <a:ln w="15840">
            <a:solidFill>
              <a:srgbClr val="62e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8440" y="5349960"/>
            <a:ext cx="1639800" cy="144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18240" y="1929960"/>
            <a:ext cx="1440" cy="3419640"/>
          </a:xfrm>
          <a:prstGeom prst="line">
            <a:avLst/>
          </a:prstGeom>
          <a:ln w="15840">
            <a:solidFill>
              <a:srgbClr val="59d5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078080" y="1930320"/>
            <a:ext cx="1639800" cy="180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70400" y="34624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51400" y="3446640"/>
            <a:ext cx="61920" cy="24732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0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51400" y="3446640"/>
            <a:ext cx="480960" cy="61560"/>
          </a:xfrm>
          <a:custGeom>
            <a:avLst/>
            <a:gdLst/>
            <a:ahLst/>
            <a:rect l="l" t="t" r="r" b="b"/>
            <a:pathLst>
              <a:path w="303" h="39">
                <a:moveTo>
                  <a:pt x="303" y="39"/>
                </a:moveTo>
                <a:lnTo>
                  <a:pt x="39" y="39"/>
                </a:lnTo>
                <a:lnTo>
                  <a:pt x="0" y="0"/>
                </a:lnTo>
                <a:lnTo>
                  <a:pt x="264" y="0"/>
                </a:lnTo>
                <a:lnTo>
                  <a:pt x="303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3320" y="3508200"/>
            <a:ext cx="419040" cy="185760"/>
          </a:xfrm>
          <a:custGeom>
            <a:avLst/>
            <a:gdLst/>
            <a:ahLst/>
            <a:rect l="l" t="t" r="r" b="b"/>
            <a:pathLst>
              <a:path w="264" h="117">
                <a:moveTo>
                  <a:pt x="0" y="0"/>
                </a:moveTo>
                <a:lnTo>
                  <a:pt x="0" y="117"/>
                </a:lnTo>
                <a:lnTo>
                  <a:pt x="264" y="117"/>
                </a:lnTo>
                <a:lnTo>
                  <a:pt x="2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3320" y="3508200"/>
            <a:ext cx="1440" cy="16992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3320" y="367812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16520" y="3508200"/>
            <a:ext cx="1440" cy="16992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613320" y="350820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bf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8400" y="1171440"/>
            <a:ext cx="2614680" cy="201600"/>
          </a:xfrm>
          <a:custGeom>
            <a:avLst/>
            <a:gdLst/>
            <a:ahLst/>
            <a:rect l="l" t="t" r="r" b="b"/>
            <a:pathLst>
              <a:path w="1647" h="127">
                <a:moveTo>
                  <a:pt x="1647" y="127"/>
                </a:moveTo>
                <a:lnTo>
                  <a:pt x="127" y="127"/>
                </a:lnTo>
                <a:lnTo>
                  <a:pt x="0" y="0"/>
                </a:lnTo>
                <a:lnTo>
                  <a:pt x="1520" y="0"/>
                </a:lnTo>
                <a:lnTo>
                  <a:pt x="1647" y="127"/>
                </a:lnTo>
                <a:close/>
              </a:path>
            </a:pathLst>
          </a:custGeom>
          <a:solidFill>
            <a:srgbClr val="819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0000" y="1373040"/>
            <a:ext cx="2413080" cy="4735800"/>
          </a:xfrm>
          <a:custGeom>
            <a:avLst/>
            <a:gdLst/>
            <a:ahLst/>
            <a:rect l="l" t="t" r="r" b="b"/>
            <a:pathLst>
              <a:path w="1520" h="2983">
                <a:moveTo>
                  <a:pt x="0" y="0"/>
                </a:moveTo>
                <a:lnTo>
                  <a:pt x="0" y="2983"/>
                </a:lnTo>
                <a:lnTo>
                  <a:pt x="1520" y="2983"/>
                </a:lnTo>
                <a:lnTo>
                  <a:pt x="152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6c3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c7e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0000" y="6093000"/>
            <a:ext cx="2397240" cy="144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67240" y="1372680"/>
            <a:ext cx="1440" cy="4719960"/>
          </a:xfrm>
          <a:prstGeom prst="line">
            <a:avLst/>
          </a:prstGeom>
          <a:ln w="15840">
            <a:solidFill>
              <a:srgbClr val="b6d5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69640" y="1373040"/>
            <a:ext cx="2397240" cy="180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1840" y="172872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1840" y="1728720"/>
            <a:ext cx="1903320" cy="201600"/>
          </a:xfrm>
          <a:custGeom>
            <a:avLst/>
            <a:gdLst/>
            <a:ahLst/>
            <a:rect l="l" t="t" r="r" b="b"/>
            <a:pathLst>
              <a:path w="1199" h="127">
                <a:moveTo>
                  <a:pt x="1199" y="127"/>
                </a:moveTo>
                <a:lnTo>
                  <a:pt x="127" y="127"/>
                </a:lnTo>
                <a:lnTo>
                  <a:pt x="0" y="0"/>
                </a:lnTo>
                <a:lnTo>
                  <a:pt x="1082" y="0"/>
                </a:lnTo>
                <a:lnTo>
                  <a:pt x="1199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440" y="1930320"/>
            <a:ext cx="1701720" cy="1392480"/>
          </a:xfrm>
          <a:custGeom>
            <a:avLst/>
            <a:gdLst/>
            <a:ahLst/>
            <a:rect l="l" t="t" r="r" b="b"/>
            <a:pathLst>
              <a:path w="1072" h="877">
                <a:moveTo>
                  <a:pt x="0" y="0"/>
                </a:moveTo>
                <a:lnTo>
                  <a:pt x="0" y="877"/>
                </a:lnTo>
                <a:lnTo>
                  <a:pt x="1072" y="877"/>
                </a:lnTo>
                <a:lnTo>
                  <a:pt x="107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1930320"/>
            <a:ext cx="1440" cy="13762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0" y="330660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05160" y="1929960"/>
            <a:ext cx="1440" cy="13762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87240" y="193032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640" y="2487600"/>
            <a:ext cx="13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32080" y="3772080"/>
            <a:ext cx="201600" cy="159372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2080" y="3772080"/>
            <a:ext cx="1873080" cy="201600"/>
          </a:xfrm>
          <a:custGeom>
            <a:avLst/>
            <a:gdLst/>
            <a:ahLst/>
            <a:rect l="l" t="t" r="r" b="b"/>
            <a:pathLst>
              <a:path w="1180" h="127">
                <a:moveTo>
                  <a:pt x="1180" y="127"/>
                </a:moveTo>
                <a:lnTo>
                  <a:pt x="127" y="127"/>
                </a:lnTo>
                <a:lnTo>
                  <a:pt x="0" y="0"/>
                </a:lnTo>
                <a:lnTo>
                  <a:pt x="1063" y="0"/>
                </a:lnTo>
                <a:lnTo>
                  <a:pt x="1180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33680" y="3973680"/>
            <a:ext cx="1671480" cy="1392120"/>
          </a:xfrm>
          <a:custGeom>
            <a:avLst/>
            <a:gdLst/>
            <a:ahLst/>
            <a:rect l="l" t="t" r="r" b="b"/>
            <a:pathLst>
              <a:path w="1053" h="877">
                <a:moveTo>
                  <a:pt x="0" y="0"/>
                </a:moveTo>
                <a:lnTo>
                  <a:pt x="0" y="877"/>
                </a:lnTo>
                <a:lnTo>
                  <a:pt x="1053" y="877"/>
                </a:lnTo>
                <a:lnTo>
                  <a:pt x="10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3680" y="395748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3680" y="5349960"/>
            <a:ext cx="16714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05160" y="395748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33320" y="3957480"/>
            <a:ext cx="16714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5320" y="451476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9920" y="5505480"/>
            <a:ext cx="1785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1520" y="1127160"/>
            <a:ext cx="77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ibt an, welche Speicherbausteine für welche Bereiche des Arbeitsspeichers verwendet w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304920" y="1963800"/>
            <a:ext cx="85071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6280" y="1123920"/>
            <a:ext cx="843912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 Adress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M, z.B. für nicht-flüchtige Teile 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ystems (Bootstrap, B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O-Bereich (Prozessor mit memory-mapped 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ist dynamische RAM-Bausteine, da dies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e Kapazität besitzen und billig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Sie sind auch lang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diesem Grund werden manchmal in klein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bereichen auch statische RAM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setzt, auf die ohne Wartezyklen zugegriff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6400" y="1193760"/>
            <a:ext cx="80931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peicherbreite kann über den Speicherberei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yte- und Breiten-Auswahl eines Speicherzugriff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lgt in der Regel über die niederwertigsten Adressbit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z.B.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i 32 Bit Speicherbreite) sowie spezieller Wortbreite-Signale vom 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belegungspläne werden häufiger noch feiner untergliedert, indem z.B. die genaue Lage von Betriebsystemtabellen im ROM-Bereich oder vo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äten im IO-Bereich angegeben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9680" y="1257480"/>
            <a:ext cx="8277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höherwertige Teil der Adresse dient über 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auswahllogik zur Speicherbaustein-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-Signale der Speicherbaust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wird i.A. auch die Zugriffsrichtung, Speicher- bzw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O-Zugriffe sowie eventuelle Wartezyklen ermitt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mittlere Teil der Adresse geht direkt a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ingänge der 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niederwertige Teil der Adresse dient zusammen m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tbreiten-Signalen zur Wortauswahl innerhalb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81160" y="2219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5360" y="115236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es Bytes, Worts oder Doppelworts in einem Speicher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300320" y="2090880"/>
            <a:ext cx="6257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23800" y="1165320"/>
            <a:ext cx="80488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s Wort: 32-Bit Wort, 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Startbyte 0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leres Wort: 16-Bit Wort, un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Wortbreite 16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es Wort: 32-Bit Wort, unaligned (2 Speicherzugriffe nöti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Modularer Speicheraufba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680" y="1133640"/>
            <a:ext cx="80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wird oft auf mehrere Steckkarten verteil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über eine Grundplatine mit dem Systembus verbun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weiter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2280" y="5335560"/>
            <a:ext cx="81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telle einer zentralen Adressauswahllogik ist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zentrale Adressauswahllogik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795320" y="2443320"/>
            <a:ext cx="5648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 eines Speichermodul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52440" y="1117440"/>
            <a:ext cx="83502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Typischer Aufbau einer Steckkar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76200" y="1155600"/>
            <a:ext cx="83152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47840" y="1093680"/>
            <a:ext cx="866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Pin Package (SIPP): Veralte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Memory Module (SIMM): PS/2-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100160" y="1790640"/>
            <a:ext cx="4770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2373480" y="4046400"/>
            <a:ext cx="4371840" cy="762120"/>
            <a:chOff x="2373480" y="4046400"/>
            <a:chExt cx="4371840" cy="762120"/>
          </a:xfrm>
        </p:grpSpPr>
        <p:sp>
          <p:nvSpPr>
            <p:cNvPr id="446" name=""/>
            <p:cNvSpPr/>
            <p:nvPr/>
          </p:nvSpPr>
          <p:spPr>
            <a:xfrm>
              <a:off x="2373480" y="4046400"/>
              <a:ext cx="4371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2373480" y="4046400"/>
              <a:ext cx="4037040" cy="762120"/>
              <a:chOff x="2373480" y="4046400"/>
              <a:chExt cx="4037040" cy="762120"/>
            </a:xfrm>
          </p:grpSpPr>
          <p:sp>
            <p:nvSpPr>
              <p:cNvPr id="448" name=""/>
              <p:cNvSpPr/>
              <p:nvPr/>
            </p:nvSpPr>
            <p:spPr>
              <a:xfrm>
                <a:off x="2373480" y="4046400"/>
                <a:ext cx="4037040" cy="21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2373480" y="4046400"/>
                <a:ext cx="4037040" cy="762120"/>
                <a:chOff x="2373480" y="4046400"/>
                <a:chExt cx="4037040" cy="7621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373480" y="4046400"/>
                  <a:ext cx="31291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2373480" y="4046400"/>
                  <a:ext cx="4037040" cy="762120"/>
                  <a:chOff x="2373480" y="4046400"/>
                  <a:chExt cx="4037040" cy="7621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2373480" y="4046400"/>
                    <a:ext cx="2143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373480" y="4046400"/>
                    <a:ext cx="4037040" cy="762120"/>
                    <a:chOff x="2373480" y="4046400"/>
                    <a:chExt cx="4037040" cy="7621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373480" y="4046400"/>
                      <a:ext cx="214308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5" name=""/>
                    <p:cNvGrpSpPr/>
                    <p:nvPr/>
                  </p:nvGrpSpPr>
                  <p:grpSpPr>
                    <a:xfrm>
                      <a:off x="2373480" y="4046400"/>
                      <a:ext cx="4037040" cy="762120"/>
                      <a:chOff x="2373480" y="4046400"/>
                      <a:chExt cx="4037040" cy="762120"/>
                    </a:xfrm>
                  </p:grpSpPr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2373480" y="4046400"/>
                        <a:ext cx="360" cy="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2373480" y="4046400"/>
                        <a:ext cx="4037040" cy="762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58" name=""/>
          <p:cNvSpPr/>
          <p:nvPr/>
        </p:nvSpPr>
        <p:spPr>
          <a:xfrm>
            <a:off x="6067440" y="1940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PP-Modul mit seinen 30 pin-förmigen Anschlüssen und einer Datenbreite von 8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1163520" y="4287960"/>
            <a:ext cx="3919680" cy="17589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5800680" y="4510080"/>
            <a:ext cx="29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MM-Module in der 30- und 72-poligen Ausführung mit Datenbreiten von 8 und 32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1080" y="1066680"/>
            <a:ext cx="879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7480" y="1093680"/>
            <a:ext cx="648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Dual Inline Memory Module (DIMM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Rambus Inline Memory Modul (RI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782640" y="1827360"/>
            <a:ext cx="5583240" cy="1311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610320" y="185256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168-poligen DIMMs besitzen eine Datenbusbreite von 64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934920" y="4384800"/>
            <a:ext cx="5451480" cy="13906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613560" y="4417920"/>
            <a:ext cx="253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peichertechnologie von Intel.  400 bis 800 MHz sind möglich. Metallabdeckung  zur Kühlung der Rambus-D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9440" y="1233360"/>
            <a:ext cx="87620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rbeitsspeicher von modernen Computer werden sch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lange nicht mehr wie zu Urzeiten der ersten IBM-PCs mi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zelnen DRAM-ICs bestückt. Seit längerem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on die Zusammenfassung der einzelnen ICs au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eichermodulen durchgese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or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fache Realisierung von großen Datenbreiten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pazitäten durch Zusammenschaltung der einzelnen 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ät beim Handling des Speichers durch einfach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rüsten, Wechseln oder Weiterverwenden der Modu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43080" y="2951280"/>
            <a:ext cx="33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Arial"/>
              </a:rPr>
              <a:t>E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9760" y="1481040"/>
            <a:ext cx="8124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6120" y="1181160"/>
            <a:ext cx="7101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cc66"/>
                </a:solidFill>
                <a:latin typeface="Arial"/>
              </a:rPr>
              <a:t>Aufbau und Organisation </a:t>
            </a:r>
            <a:br>
              <a:rPr sz="2400"/>
            </a:b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Klassifizierung von Halbleiterspeiche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650680" y="1743120"/>
            <a:ext cx="106380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743120"/>
            <a:ext cx="121932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47400" y="2781360"/>
            <a:ext cx="577800" cy="45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7480" y="2790720"/>
            <a:ext cx="46044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790960" y="2774880"/>
            <a:ext cx="4539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02400" y="2765520"/>
            <a:ext cx="45108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22080" y="3772080"/>
            <a:ext cx="384120" cy="61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1440" y="3768840"/>
            <a:ext cx="32688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978280" y="3809880"/>
            <a:ext cx="44136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8960" y="3800520"/>
            <a:ext cx="470160" cy="55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3740040"/>
            <a:ext cx="787320" cy="62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65600" y="3746520"/>
            <a:ext cx="69228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05240" y="4873680"/>
            <a:ext cx="959040" cy="60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543640" y="3708360"/>
            <a:ext cx="403200" cy="179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84600" y="1241280"/>
            <a:ext cx="32511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62600" y="2246400"/>
            <a:ext cx="3695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chreib-/Les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54080" y="2246400"/>
            <a:ext cx="32511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estwer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243240"/>
            <a:ext cx="1704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ir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1160" y="3262320"/>
            <a:ext cx="1447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68720" y="3244680"/>
            <a:ext cx="193356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Stat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8600" y="3240000"/>
            <a:ext cx="20988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Dynam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5280" y="4321080"/>
            <a:ext cx="233676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quasi-statisches</a:t>
            </a:r>
            <a:br>
              <a:rPr sz="1800"/>
            </a:b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4280" y="4371840"/>
            <a:ext cx="727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0840" y="4371840"/>
            <a:ext cx="853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59120" y="4371840"/>
            <a:ext cx="11430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23960" y="4371840"/>
            <a:ext cx="10573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4200" y="5429160"/>
            <a:ext cx="26096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cccc"/>
                </a:solidFill>
                <a:latin typeface="Arial"/>
              </a:rPr>
              <a:t>Nichtflüchtig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68560" y="1104840"/>
            <a:ext cx="6680160" cy="5004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74640" y="12603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22560" y="126684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448240" y="1257480"/>
            <a:ext cx="2082960" cy="2145960"/>
            <a:chOff x="5448240" y="1257480"/>
            <a:chExt cx="2082960" cy="2145960"/>
          </a:xfrm>
        </p:grpSpPr>
        <p:sp>
          <p:nvSpPr>
            <p:cNvPr id="161" name=""/>
            <p:cNvSpPr/>
            <p:nvPr/>
          </p:nvSpPr>
          <p:spPr>
            <a:xfrm>
              <a:off x="5448240" y="1257480"/>
              <a:ext cx="2082960" cy="2145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48240" y="125748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0088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913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755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65960" y="12762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48240" y="1441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8240" y="1657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8240" y="29271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8240" y="31305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530680" y="1371600"/>
              <a:ext cx="317160" cy="342000"/>
              <a:chOff x="5530680" y="1371600"/>
              <a:chExt cx="317160" cy="342000"/>
            </a:xfrm>
          </p:grpSpPr>
          <p:sp>
            <p:nvSpPr>
              <p:cNvPr id="172" name=""/>
              <p:cNvSpPr/>
              <p:nvPr/>
            </p:nvSpPr>
            <p:spPr>
              <a:xfrm>
                <a:off x="553068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3068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2112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2112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530680" y="2844720"/>
              <a:ext cx="317160" cy="342720"/>
              <a:chOff x="5530680" y="2844720"/>
              <a:chExt cx="317160" cy="342720"/>
            </a:xfrm>
          </p:grpSpPr>
          <p:sp>
            <p:nvSpPr>
              <p:cNvPr id="177" name=""/>
              <p:cNvSpPr/>
              <p:nvPr/>
            </p:nvSpPr>
            <p:spPr>
              <a:xfrm>
                <a:off x="553068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3068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2112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2112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112160" y="1371600"/>
              <a:ext cx="317160" cy="342000"/>
              <a:chOff x="7112160" y="1371600"/>
              <a:chExt cx="317160" cy="342000"/>
            </a:xfrm>
          </p:grpSpPr>
          <p:sp>
            <p:nvSpPr>
              <p:cNvPr id="182" name=""/>
              <p:cNvSpPr/>
              <p:nvPr/>
            </p:nvSpPr>
            <p:spPr>
              <a:xfrm>
                <a:off x="711216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216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0260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260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112160" y="2844720"/>
              <a:ext cx="317160" cy="342720"/>
              <a:chOff x="7112160" y="2844720"/>
              <a:chExt cx="317160" cy="342720"/>
            </a:xfrm>
          </p:grpSpPr>
          <p:sp>
            <p:nvSpPr>
              <p:cNvPr id="187" name=""/>
              <p:cNvSpPr/>
              <p:nvPr/>
            </p:nvSpPr>
            <p:spPr>
              <a:xfrm>
                <a:off x="711216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1216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0260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0260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829840" y="1896840"/>
              <a:ext cx="134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peicher-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574640" y="3479760"/>
            <a:ext cx="800280" cy="102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09960" y="3429000"/>
            <a:ext cx="79992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51040" y="1295280"/>
            <a:ext cx="2171520" cy="190440"/>
            <a:chOff x="851040" y="1295280"/>
            <a:chExt cx="2171520" cy="190440"/>
          </a:xfrm>
        </p:grpSpPr>
        <p:sp>
          <p:nvSpPr>
            <p:cNvPr id="195" name=""/>
            <p:cNvSpPr/>
            <p:nvPr/>
          </p:nvSpPr>
          <p:spPr>
            <a:xfrm>
              <a:off x="851040" y="13842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1815840" y="13078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51040" y="1486080"/>
            <a:ext cx="2171520" cy="190440"/>
            <a:chOff x="851040" y="1486080"/>
            <a:chExt cx="2171520" cy="190440"/>
          </a:xfrm>
        </p:grpSpPr>
        <p:sp>
          <p:nvSpPr>
            <p:cNvPr id="198" name=""/>
            <p:cNvSpPr/>
            <p:nvPr/>
          </p:nvSpPr>
          <p:spPr>
            <a:xfrm>
              <a:off x="851040" y="15750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1815840" y="14986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51040" y="2768760"/>
            <a:ext cx="2171520" cy="190440"/>
            <a:chOff x="851040" y="2768760"/>
            <a:chExt cx="2171520" cy="190440"/>
          </a:xfrm>
        </p:grpSpPr>
        <p:sp>
          <p:nvSpPr>
            <p:cNvPr id="201" name=""/>
            <p:cNvSpPr/>
            <p:nvPr/>
          </p:nvSpPr>
          <p:spPr>
            <a:xfrm>
              <a:off x="851040" y="28576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1815840" y="27813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51040" y="2959200"/>
            <a:ext cx="2171520" cy="190440"/>
            <a:chOff x="851040" y="2959200"/>
            <a:chExt cx="2171520" cy="190440"/>
          </a:xfrm>
        </p:grpSpPr>
        <p:sp>
          <p:nvSpPr>
            <p:cNvPr id="204" name=""/>
            <p:cNvSpPr/>
            <p:nvPr/>
          </p:nvSpPr>
          <p:spPr>
            <a:xfrm>
              <a:off x="851040" y="304812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1815840" y="297180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38080" y="3683160"/>
            <a:ext cx="2171520" cy="190440"/>
            <a:chOff x="838080" y="3683160"/>
            <a:chExt cx="2171520" cy="190440"/>
          </a:xfrm>
        </p:grpSpPr>
        <p:sp>
          <p:nvSpPr>
            <p:cNvPr id="207" name=""/>
            <p:cNvSpPr/>
            <p:nvPr/>
          </p:nvSpPr>
          <p:spPr>
            <a:xfrm>
              <a:off x="838080" y="37720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1802880" y="36957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838080" y="3492360"/>
            <a:ext cx="2171520" cy="190440"/>
            <a:chOff x="838080" y="3492360"/>
            <a:chExt cx="2171520" cy="190440"/>
          </a:xfrm>
        </p:grpSpPr>
        <p:sp>
          <p:nvSpPr>
            <p:cNvPr id="210" name=""/>
            <p:cNvSpPr/>
            <p:nvPr/>
          </p:nvSpPr>
          <p:spPr>
            <a:xfrm>
              <a:off x="838080" y="3581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1802880" y="3504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38080" y="4140360"/>
            <a:ext cx="2171520" cy="190440"/>
            <a:chOff x="838080" y="4140360"/>
            <a:chExt cx="2171520" cy="190440"/>
          </a:xfrm>
        </p:grpSpPr>
        <p:sp>
          <p:nvSpPr>
            <p:cNvPr id="213" name=""/>
            <p:cNvSpPr/>
            <p:nvPr/>
          </p:nvSpPr>
          <p:spPr>
            <a:xfrm>
              <a:off x="838080" y="4229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802880" y="4152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3835080" y="1447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835080" y="16635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835080" y="2933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835080" y="31370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9756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5428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0332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0504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4788000"/>
            <a:ext cx="133380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ogik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952880"/>
            <a:ext cx="2120760" cy="673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4406760"/>
            <a:ext cx="21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1803240" y="4330800"/>
            <a:ext cx="190800" cy="164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3556080"/>
            <a:ext cx="158760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733920"/>
            <a:ext cx="157500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4432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4216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2158920" y="4508640"/>
            <a:ext cx="15264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374560" y="3276720"/>
            <a:ext cx="444600" cy="151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543480" y="3390840"/>
            <a:ext cx="1892160" cy="1409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43480" y="4483080"/>
            <a:ext cx="1841400" cy="49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43480" y="5334120"/>
            <a:ext cx="1841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626080" y="4483080"/>
            <a:ext cx="329760" cy="1752480"/>
            <a:chOff x="5626080" y="4483080"/>
            <a:chExt cx="329760" cy="1752480"/>
          </a:xfrm>
        </p:grpSpPr>
        <p:sp>
          <p:nvSpPr>
            <p:cNvPr id="244" name=""/>
            <p:cNvSpPr/>
            <p:nvPr/>
          </p:nvSpPr>
          <p:spPr>
            <a:xfrm>
              <a:off x="571500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2608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0800000">
              <a:off x="576540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00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1500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5468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4208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981760" y="4483080"/>
            <a:ext cx="329760" cy="1752480"/>
            <a:chOff x="5981760" y="4483080"/>
            <a:chExt cx="329760" cy="1752480"/>
          </a:xfrm>
        </p:grpSpPr>
        <p:sp>
          <p:nvSpPr>
            <p:cNvPr id="252" name=""/>
            <p:cNvSpPr/>
            <p:nvPr/>
          </p:nvSpPr>
          <p:spPr>
            <a:xfrm>
              <a:off x="60706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17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61210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706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706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103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977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112160" y="4483080"/>
            <a:ext cx="329760" cy="1752480"/>
            <a:chOff x="7112160" y="4483080"/>
            <a:chExt cx="329760" cy="1752480"/>
          </a:xfrm>
        </p:grpSpPr>
        <p:sp>
          <p:nvSpPr>
            <p:cNvPr id="260" name=""/>
            <p:cNvSpPr/>
            <p:nvPr/>
          </p:nvSpPr>
          <p:spPr>
            <a:xfrm>
              <a:off x="72010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121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800000">
              <a:off x="72514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010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010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407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81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788240" y="31352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e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eib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00840" y="1395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530840" y="331488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429320" y="1422360"/>
            <a:ext cx="431640" cy="1396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51160" y="5924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4168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7492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487692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520704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554976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2680" y="1185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2680" y="1401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640" y="2671920"/>
            <a:ext cx="43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840" y="2862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320" y="338292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7320" y="357336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" y="401796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9440" y="422100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7920" y="1103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4800" y="314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2360" y="4697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5720" y="5014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9520" y="535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2560" y="566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680" y="4743360"/>
            <a:ext cx="26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1640" y="5067360"/>
            <a:ext cx="2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1040" y="539100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ispiel: Selektieren einer Speicherzelle aufgrund </a:t>
            </a:r>
            <a:br>
              <a:rPr sz="2400"/>
            </a:b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er gegebenen Speicher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87720" y="5276880"/>
            <a:ext cx="210168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08520" y="36655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 Wor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n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93720" y="2446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er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z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70520" y="4352760"/>
            <a:ext cx="2476440" cy="752400"/>
            <a:chOff x="4070520" y="4352760"/>
            <a:chExt cx="2476440" cy="752400"/>
          </a:xfrm>
        </p:grpSpPr>
        <p:grpSp>
          <p:nvGrpSpPr>
            <p:cNvPr id="304" name=""/>
            <p:cNvGrpSpPr/>
            <p:nvPr/>
          </p:nvGrpSpPr>
          <p:grpSpPr>
            <a:xfrm>
              <a:off x="4070520" y="4352760"/>
              <a:ext cx="619200" cy="752400"/>
              <a:chOff x="4070520" y="4352760"/>
              <a:chExt cx="619200" cy="752400"/>
            </a:xfrm>
          </p:grpSpPr>
          <p:sp>
            <p:nvSpPr>
              <p:cNvPr id="305" name=""/>
              <p:cNvSpPr/>
              <p:nvPr/>
            </p:nvSpPr>
            <p:spPr>
              <a:xfrm>
                <a:off x="40705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516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229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658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689720" y="4352760"/>
              <a:ext cx="619200" cy="752400"/>
              <a:chOff x="4689720" y="4352760"/>
              <a:chExt cx="619200" cy="752400"/>
            </a:xfrm>
          </p:grpSpPr>
          <p:sp>
            <p:nvSpPr>
              <p:cNvPr id="310" name=""/>
              <p:cNvSpPr/>
              <p:nvPr/>
            </p:nvSpPr>
            <p:spPr>
              <a:xfrm>
                <a:off x="46897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708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421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850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308920" y="4352760"/>
              <a:ext cx="619200" cy="752400"/>
              <a:chOff x="5308920" y="4352760"/>
              <a:chExt cx="619200" cy="752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3089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900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613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042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928120" y="4352760"/>
              <a:ext cx="618840" cy="752400"/>
              <a:chOff x="5928120" y="4352760"/>
              <a:chExt cx="618840" cy="752400"/>
            </a:xfrm>
          </p:grpSpPr>
          <p:sp>
            <p:nvSpPr>
              <p:cNvPr id="320" name=""/>
              <p:cNvSpPr/>
              <p:nvPr/>
            </p:nvSpPr>
            <p:spPr>
              <a:xfrm>
                <a:off x="5928120" y="43527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08840" y="45622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8020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23120" y="46670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070520" y="3600360"/>
            <a:ext cx="2476440" cy="752400"/>
            <a:chOff x="4070520" y="3600360"/>
            <a:chExt cx="2476440" cy="752400"/>
          </a:xfrm>
        </p:grpSpPr>
        <p:grpSp>
          <p:nvGrpSpPr>
            <p:cNvPr id="325" name=""/>
            <p:cNvGrpSpPr/>
            <p:nvPr/>
          </p:nvGrpSpPr>
          <p:grpSpPr>
            <a:xfrm>
              <a:off x="4070520" y="3600360"/>
              <a:ext cx="619200" cy="752400"/>
              <a:chOff x="4070520" y="3600360"/>
              <a:chExt cx="619200" cy="752400"/>
            </a:xfrm>
          </p:grpSpPr>
          <p:sp>
            <p:nvSpPr>
              <p:cNvPr id="326" name=""/>
              <p:cNvSpPr/>
              <p:nvPr/>
            </p:nvSpPr>
            <p:spPr>
              <a:xfrm>
                <a:off x="40705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2516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229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658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689720" y="3600360"/>
              <a:ext cx="619200" cy="752400"/>
              <a:chOff x="4689720" y="3600360"/>
              <a:chExt cx="619200" cy="752400"/>
            </a:xfrm>
          </p:grpSpPr>
          <p:sp>
            <p:nvSpPr>
              <p:cNvPr id="331" name=""/>
              <p:cNvSpPr/>
              <p:nvPr/>
            </p:nvSpPr>
            <p:spPr>
              <a:xfrm>
                <a:off x="46897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708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421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850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308920" y="3600360"/>
              <a:ext cx="619200" cy="752400"/>
              <a:chOff x="5308920" y="3600360"/>
              <a:chExt cx="619200" cy="752400"/>
            </a:xfrm>
          </p:grpSpPr>
          <p:sp>
            <p:nvSpPr>
              <p:cNvPr id="336" name=""/>
              <p:cNvSpPr/>
              <p:nvPr/>
            </p:nvSpPr>
            <p:spPr>
              <a:xfrm>
                <a:off x="53089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900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613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042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928120" y="3600360"/>
              <a:ext cx="618840" cy="752400"/>
              <a:chOff x="5928120" y="3600360"/>
              <a:chExt cx="618840" cy="752400"/>
            </a:xfrm>
          </p:grpSpPr>
          <p:sp>
            <p:nvSpPr>
              <p:cNvPr id="341" name=""/>
              <p:cNvSpPr/>
              <p:nvPr/>
            </p:nvSpPr>
            <p:spPr>
              <a:xfrm>
                <a:off x="5928120" y="36003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08840" y="38098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8020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23120" y="39146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4070520" y="2847960"/>
            <a:ext cx="618840" cy="752400"/>
            <a:chOff x="4070520" y="2847960"/>
            <a:chExt cx="618840" cy="752400"/>
          </a:xfrm>
        </p:grpSpPr>
        <p:sp>
          <p:nvSpPr>
            <p:cNvPr id="346" name=""/>
            <p:cNvSpPr/>
            <p:nvPr/>
          </p:nvSpPr>
          <p:spPr>
            <a:xfrm>
              <a:off x="4070520" y="2847960"/>
              <a:ext cx="61884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51240" y="3057480"/>
              <a:ext cx="31392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226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65520" y="3162240"/>
              <a:ext cx="12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689360" y="2847960"/>
            <a:ext cx="619200" cy="752400"/>
            <a:chOff x="4689360" y="2847960"/>
            <a:chExt cx="619200" cy="752400"/>
          </a:xfrm>
        </p:grpSpPr>
        <p:sp>
          <p:nvSpPr>
            <p:cNvPr id="351" name=""/>
            <p:cNvSpPr/>
            <p:nvPr/>
          </p:nvSpPr>
          <p:spPr>
            <a:xfrm>
              <a:off x="46893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04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418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47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308560" y="2847960"/>
            <a:ext cx="619200" cy="752400"/>
            <a:chOff x="5308560" y="2847960"/>
            <a:chExt cx="619200" cy="752400"/>
          </a:xfrm>
        </p:grpSpPr>
        <p:sp>
          <p:nvSpPr>
            <p:cNvPr id="356" name=""/>
            <p:cNvSpPr/>
            <p:nvPr/>
          </p:nvSpPr>
          <p:spPr>
            <a:xfrm>
              <a:off x="53085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896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610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039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27760" y="2847960"/>
            <a:ext cx="6192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08840" y="3057480"/>
            <a:ext cx="314280" cy="2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80200" y="2847960"/>
            <a:ext cx="0" cy="20952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23120" y="3162240"/>
            <a:ext cx="1238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070520" y="2095560"/>
            <a:ext cx="2476440" cy="752400"/>
            <a:chOff x="4070520" y="2095560"/>
            <a:chExt cx="2476440" cy="752400"/>
          </a:xfrm>
        </p:grpSpPr>
        <p:grpSp>
          <p:nvGrpSpPr>
            <p:cNvPr id="365" name=""/>
            <p:cNvGrpSpPr/>
            <p:nvPr/>
          </p:nvGrpSpPr>
          <p:grpSpPr>
            <a:xfrm>
              <a:off x="4070520" y="2095560"/>
              <a:ext cx="619200" cy="752400"/>
              <a:chOff x="4070520" y="2095560"/>
              <a:chExt cx="619200" cy="752400"/>
            </a:xfrm>
          </p:grpSpPr>
          <p:sp>
            <p:nvSpPr>
              <p:cNvPr id="366" name=""/>
              <p:cNvSpPr/>
              <p:nvPr/>
            </p:nvSpPr>
            <p:spPr>
              <a:xfrm>
                <a:off x="40705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516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229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658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4689720" y="2095560"/>
              <a:ext cx="619200" cy="752400"/>
              <a:chOff x="4689720" y="2095560"/>
              <a:chExt cx="619200" cy="752400"/>
            </a:xfrm>
          </p:grpSpPr>
          <p:sp>
            <p:nvSpPr>
              <p:cNvPr id="371" name=""/>
              <p:cNvSpPr/>
              <p:nvPr/>
            </p:nvSpPr>
            <p:spPr>
              <a:xfrm>
                <a:off x="46897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708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0421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1850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308920" y="2095560"/>
              <a:ext cx="619200" cy="752400"/>
              <a:chOff x="5308920" y="2095560"/>
              <a:chExt cx="619200" cy="752400"/>
            </a:xfrm>
          </p:grpSpPr>
          <p:sp>
            <p:nvSpPr>
              <p:cNvPr id="376" name=""/>
              <p:cNvSpPr/>
              <p:nvPr/>
            </p:nvSpPr>
            <p:spPr>
              <a:xfrm>
                <a:off x="53089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900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613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042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928120" y="2095560"/>
              <a:ext cx="618840" cy="752400"/>
              <a:chOff x="5928120" y="2095560"/>
              <a:chExt cx="618840" cy="752400"/>
            </a:xfrm>
          </p:grpSpPr>
          <p:sp>
            <p:nvSpPr>
              <p:cNvPr id="381" name=""/>
              <p:cNvSpPr/>
              <p:nvPr/>
            </p:nvSpPr>
            <p:spPr>
              <a:xfrm>
                <a:off x="5928120" y="20955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08840" y="23050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8020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23120" y="24098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242040" y="3114720"/>
            <a:ext cx="7128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0200" y="1905120"/>
            <a:ext cx="0" cy="3200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070520" y="2838600"/>
            <a:ext cx="2628720" cy="9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89400" y="5105520"/>
            <a:ext cx="2524320" cy="657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2269800" y="2952720"/>
            <a:ext cx="2943360" cy="657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94120" y="5100480"/>
            <a:ext cx="3906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70520" y="4753080"/>
            <a:ext cx="0" cy="390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9760" y="181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10040" y="255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19760" y="330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19760" y="4060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38600" y="481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480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05440" y="479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96200" y="4775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898640" y="5495760"/>
            <a:ext cx="1162080" cy="371520"/>
            <a:chOff x="1898640" y="5495760"/>
            <a:chExt cx="1162080" cy="371520"/>
          </a:xfrm>
        </p:grpSpPr>
        <p:sp>
          <p:nvSpPr>
            <p:cNvPr id="401" name=""/>
            <p:cNvSpPr/>
            <p:nvPr/>
          </p:nvSpPr>
          <p:spPr>
            <a:xfrm>
              <a:off x="189864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7968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 flipV="1">
            <a:off x="2762280" y="3355560"/>
            <a:ext cx="0" cy="212724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62280" y="3352680"/>
            <a:ext cx="650880" cy="0"/>
          </a:xfrm>
          <a:prstGeom prst="line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187720" y="5276880"/>
            <a:ext cx="0" cy="2188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45680" y="4923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62920" y="31035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6480" y="130320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Bi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m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327720" y="2724120"/>
            <a:ext cx="8096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37240" y="3600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27880" y="4362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927760" y="195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3085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6893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152280"/>
            <a:ext cx="872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Organisation des 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Haupt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5360" y="1362240"/>
            <a:ext cx="8315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uptspeich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eare Liste von Speicherwo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baut aus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hängt allein von der Art der verwende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austeine 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reite des Arbeitsspeichers entspricht i.A.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ite des Datenbus (8, 16, 32, 64 Bit). Di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icht der maximalen Informationsmeng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ie in einem Buszyklus zugegriffen wer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Organisation des 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rbeits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9680" y="1106640"/>
            <a:ext cx="824688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Prozessoren mit einer Datenbusbreite &gt; 8 Bit kann meist immer noch auf einzelne Bytes 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kapazität wird auch bei breite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sformen in Bytes an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maximale Kapazität des Hauptspeichers ist durch die Breite des Adressbusses 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sche maximale Speicherkapazitä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8-Bit Prozessoren mit 16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-Bit Prozessoren mit 24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-Bit Prozessoren mit 32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 GBy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6-11-14T13:43:00Z</dcterms:modified>
  <cp:revision>904</cp:revision>
  <dc:subject/>
  <dc:title>TI-2</dc:title>
</cp:coreProperties>
</file>