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17F6-1F01-4C1F-8557-E90140AF95A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o sind wir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68400" y="1171440"/>
            <a:ext cx="201600" cy="4937400"/>
          </a:xfrm>
          <a:custGeom>
            <a:avLst/>
            <a:gdLst/>
            <a:ahLst/>
            <a:rect l="l" t="t" r="r" b="b"/>
            <a:pathLst>
              <a:path w="127" h="3110">
                <a:moveTo>
                  <a:pt x="127" y="127"/>
                </a:moveTo>
                <a:lnTo>
                  <a:pt x="127" y="3110"/>
                </a:lnTo>
                <a:lnTo>
                  <a:pt x="0" y="2983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68400" y="1171440"/>
            <a:ext cx="7348680" cy="201600"/>
          </a:xfrm>
          <a:custGeom>
            <a:avLst/>
            <a:gdLst/>
            <a:ahLst/>
            <a:rect l="l" t="t" r="r" b="b"/>
            <a:pathLst>
              <a:path w="4629" h="127">
                <a:moveTo>
                  <a:pt x="4629" y="127"/>
                </a:moveTo>
                <a:lnTo>
                  <a:pt x="127" y="127"/>
                </a:lnTo>
                <a:lnTo>
                  <a:pt x="0" y="0"/>
                </a:lnTo>
                <a:lnTo>
                  <a:pt x="4502" y="0"/>
                </a:lnTo>
                <a:lnTo>
                  <a:pt x="4629" y="127"/>
                </a:lnTo>
                <a:close/>
              </a:path>
            </a:pathLst>
          </a:cu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70000" y="1373040"/>
            <a:ext cx="7147080" cy="4735800"/>
          </a:xfrm>
          <a:custGeom>
            <a:avLst/>
            <a:gdLst/>
            <a:ahLst/>
            <a:rect l="l" t="t" r="r" b="b"/>
            <a:pathLst>
              <a:path w="4502" h="2983">
                <a:moveTo>
                  <a:pt x="0" y="0"/>
                </a:moveTo>
                <a:lnTo>
                  <a:pt x="0" y="2983"/>
                </a:lnTo>
                <a:lnTo>
                  <a:pt x="4502" y="2983"/>
                </a:lnTo>
                <a:lnTo>
                  <a:pt x="450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70000" y="1373040"/>
            <a:ext cx="1440" cy="4719960"/>
          </a:xfrm>
          <a:prstGeom prst="line">
            <a:avLst/>
          </a:prstGeom>
          <a:ln w="15840">
            <a:solidFill>
              <a:srgbClr val="d6d6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70000" y="6093000"/>
            <a:ext cx="7130880" cy="1440"/>
          </a:xfrm>
          <a:prstGeom prst="line">
            <a:avLst/>
          </a:prstGeom>
          <a:ln w="1584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8300880" y="1372680"/>
            <a:ext cx="1800" cy="4719960"/>
          </a:xfrm>
          <a:prstGeom prst="line">
            <a:avLst/>
          </a:prstGeom>
          <a:ln w="15840">
            <a:solidFill>
              <a:srgbClr val="c3c3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170000" y="1373040"/>
            <a:ext cx="7130880" cy="1800"/>
          </a:xfrm>
          <a:prstGeom prst="line">
            <a:avLst/>
          </a:prstGeom>
          <a:ln w="1584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65720" y="3755880"/>
            <a:ext cx="201600" cy="1594080"/>
          </a:xfrm>
          <a:custGeom>
            <a:avLst/>
            <a:gdLst/>
            <a:ahLst/>
            <a:rect l="l" t="t" r="r" b="b"/>
            <a:pathLst>
              <a:path w="127" h="1004">
                <a:moveTo>
                  <a:pt x="127" y="127"/>
                </a:moveTo>
                <a:lnTo>
                  <a:pt x="127" y="1004"/>
                </a:lnTo>
                <a:lnTo>
                  <a:pt x="0" y="878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65720" y="3755880"/>
            <a:ext cx="1687680" cy="201600"/>
          </a:xfrm>
          <a:custGeom>
            <a:avLst/>
            <a:gdLst/>
            <a:ahLst/>
            <a:rect l="l" t="t" r="r" b="b"/>
            <a:pathLst>
              <a:path w="1063" h="127">
                <a:moveTo>
                  <a:pt x="1063" y="127"/>
                </a:moveTo>
                <a:lnTo>
                  <a:pt x="127" y="127"/>
                </a:lnTo>
                <a:lnTo>
                  <a:pt x="0" y="0"/>
                </a:lnTo>
                <a:lnTo>
                  <a:pt x="936" y="0"/>
                </a:lnTo>
                <a:lnTo>
                  <a:pt x="1063" y="127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67320" y="3957480"/>
            <a:ext cx="1486080" cy="1392480"/>
          </a:xfrm>
          <a:custGeom>
            <a:avLst/>
            <a:gdLst/>
            <a:ahLst/>
            <a:rect l="l" t="t" r="r" b="b"/>
            <a:pathLst>
              <a:path w="936" h="877">
                <a:moveTo>
                  <a:pt x="0" y="0"/>
                </a:moveTo>
                <a:lnTo>
                  <a:pt x="0" y="877"/>
                </a:lnTo>
                <a:lnTo>
                  <a:pt x="936" y="877"/>
                </a:lnTo>
                <a:lnTo>
                  <a:pt x="93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67320" y="3941640"/>
            <a:ext cx="1800" cy="139392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67320" y="5335560"/>
            <a:ext cx="1486080" cy="144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853400" y="3941640"/>
            <a:ext cx="1440" cy="139392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367320" y="3941640"/>
            <a:ext cx="148608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34800" y="449892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13600" y="1744560"/>
            <a:ext cx="199800" cy="1594080"/>
          </a:xfrm>
          <a:custGeom>
            <a:avLst/>
            <a:gdLst/>
            <a:ahLst/>
            <a:rect l="l" t="t" r="r" b="b"/>
            <a:pathLst>
              <a:path w="126" h="1004">
                <a:moveTo>
                  <a:pt x="126" y="126"/>
                </a:moveTo>
                <a:lnTo>
                  <a:pt x="126" y="1004"/>
                </a:lnTo>
                <a:lnTo>
                  <a:pt x="0" y="877"/>
                </a:lnTo>
                <a:lnTo>
                  <a:pt x="0" y="0"/>
                </a:lnTo>
                <a:lnTo>
                  <a:pt x="126" y="126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3600" y="1744560"/>
            <a:ext cx="1685880" cy="200160"/>
          </a:xfrm>
          <a:custGeom>
            <a:avLst/>
            <a:gdLst/>
            <a:ahLst/>
            <a:rect l="l" t="t" r="r" b="b"/>
            <a:pathLst>
              <a:path w="1062" h="126">
                <a:moveTo>
                  <a:pt x="1062" y="126"/>
                </a:moveTo>
                <a:lnTo>
                  <a:pt x="126" y="126"/>
                </a:lnTo>
                <a:lnTo>
                  <a:pt x="0" y="0"/>
                </a:lnTo>
                <a:lnTo>
                  <a:pt x="935" y="0"/>
                </a:lnTo>
                <a:lnTo>
                  <a:pt x="1062" y="126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13400" y="1944720"/>
            <a:ext cx="1486080" cy="1393920"/>
          </a:xfrm>
          <a:custGeom>
            <a:avLst/>
            <a:gdLst/>
            <a:ahLst/>
            <a:rect l="l" t="t" r="r" b="b"/>
            <a:pathLst>
              <a:path w="936" h="878">
                <a:moveTo>
                  <a:pt x="0" y="0"/>
                </a:moveTo>
                <a:lnTo>
                  <a:pt x="0" y="878"/>
                </a:lnTo>
                <a:lnTo>
                  <a:pt x="936" y="878"/>
                </a:lnTo>
                <a:lnTo>
                  <a:pt x="93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99360" y="1930320"/>
            <a:ext cx="1440" cy="139248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99360" y="3322800"/>
            <a:ext cx="1484280" cy="144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883640" y="1930320"/>
            <a:ext cx="1440" cy="139248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399000" y="1930320"/>
            <a:ext cx="148428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15440" y="2487600"/>
            <a:ext cx="989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78560" y="2440080"/>
            <a:ext cx="77760" cy="233280"/>
          </a:xfrm>
          <a:custGeom>
            <a:avLst/>
            <a:gdLst/>
            <a:ahLst/>
            <a:rect l="l" t="t" r="r" b="b"/>
            <a:pathLst>
              <a:path w="49" h="147">
                <a:moveTo>
                  <a:pt x="49" y="49"/>
                </a:moveTo>
                <a:lnTo>
                  <a:pt x="49" y="147"/>
                </a:lnTo>
                <a:lnTo>
                  <a:pt x="0" y="108"/>
                </a:lnTo>
                <a:lnTo>
                  <a:pt x="0" y="0"/>
                </a:lnTo>
                <a:lnTo>
                  <a:pt x="49" y="49"/>
                </a:lnTo>
                <a:close/>
              </a:path>
            </a:pathLst>
          </a:custGeom>
          <a:solidFill>
            <a:srgbClr val="e04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78560" y="2440080"/>
            <a:ext cx="772920" cy="77760"/>
          </a:xfrm>
          <a:custGeom>
            <a:avLst/>
            <a:gdLst/>
            <a:ahLst/>
            <a:rect l="l" t="t" r="r" b="b"/>
            <a:pathLst>
              <a:path w="487" h="49">
                <a:moveTo>
                  <a:pt x="487" y="49"/>
                </a:moveTo>
                <a:lnTo>
                  <a:pt x="49" y="49"/>
                </a:lnTo>
                <a:lnTo>
                  <a:pt x="0" y="0"/>
                </a:lnTo>
                <a:lnTo>
                  <a:pt x="448" y="0"/>
                </a:lnTo>
                <a:lnTo>
                  <a:pt x="487" y="49"/>
                </a:lnTo>
                <a:close/>
              </a:path>
            </a:pathLst>
          </a:custGeom>
          <a:solidFill>
            <a:srgbClr val="97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56320" y="2517840"/>
            <a:ext cx="695160" cy="155520"/>
          </a:xfrm>
          <a:custGeom>
            <a:avLst/>
            <a:gdLst/>
            <a:ahLst/>
            <a:rect l="l" t="t" r="r" b="b"/>
            <a:pathLst>
              <a:path w="438" h="98">
                <a:moveTo>
                  <a:pt x="0" y="0"/>
                </a:moveTo>
                <a:lnTo>
                  <a:pt x="0" y="98"/>
                </a:lnTo>
                <a:lnTo>
                  <a:pt x="438" y="98"/>
                </a:lnTo>
                <a:lnTo>
                  <a:pt x="43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3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40480" y="2502000"/>
            <a:ext cx="1440" cy="171360"/>
          </a:xfrm>
          <a:prstGeom prst="line">
            <a:avLst/>
          </a:prstGeom>
          <a:ln w="15840">
            <a:solidFill>
              <a:srgbClr val="e9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40480" y="2673360"/>
            <a:ext cx="711000" cy="144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351480" y="2502000"/>
            <a:ext cx="1800" cy="171360"/>
          </a:xfrm>
          <a:prstGeom prst="line">
            <a:avLst/>
          </a:prstGeom>
          <a:ln w="15840">
            <a:solidFill>
              <a:srgbClr val="d54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640120" y="2502000"/>
            <a:ext cx="711000" cy="144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32480" y="4452840"/>
            <a:ext cx="61920" cy="247680"/>
          </a:xfrm>
          <a:custGeom>
            <a:avLst/>
            <a:gdLst/>
            <a:ahLst/>
            <a:rect l="l" t="t" r="r" b="b"/>
            <a:pathLst>
              <a:path w="39" h="156">
                <a:moveTo>
                  <a:pt x="39" y="39"/>
                </a:moveTo>
                <a:lnTo>
                  <a:pt x="39" y="156"/>
                </a:lnTo>
                <a:lnTo>
                  <a:pt x="0" y="117"/>
                </a:lnTo>
                <a:lnTo>
                  <a:pt x="0" y="0"/>
                </a:lnTo>
                <a:lnTo>
                  <a:pt x="39" y="39"/>
                </a:lnTo>
                <a:close/>
              </a:path>
            </a:pathLst>
          </a:custGeom>
          <a:solidFill>
            <a:srgbClr val="e04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32480" y="4452840"/>
            <a:ext cx="772920" cy="61920"/>
          </a:xfrm>
          <a:custGeom>
            <a:avLst/>
            <a:gdLst/>
            <a:ahLst/>
            <a:rect l="l" t="t" r="r" b="b"/>
            <a:pathLst>
              <a:path w="487" h="39">
                <a:moveTo>
                  <a:pt x="487" y="39"/>
                </a:moveTo>
                <a:lnTo>
                  <a:pt x="39" y="39"/>
                </a:lnTo>
                <a:lnTo>
                  <a:pt x="0" y="0"/>
                </a:lnTo>
                <a:lnTo>
                  <a:pt x="448" y="0"/>
                </a:lnTo>
                <a:lnTo>
                  <a:pt x="487" y="39"/>
                </a:lnTo>
                <a:close/>
              </a:path>
            </a:pathLst>
          </a:custGeom>
          <a:solidFill>
            <a:srgbClr val="97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94400" y="4514760"/>
            <a:ext cx="711000" cy="185760"/>
          </a:xfrm>
          <a:custGeom>
            <a:avLst/>
            <a:gdLst/>
            <a:ahLst/>
            <a:rect l="l" t="t" r="r" b="b"/>
            <a:pathLst>
              <a:path w="448" h="117">
                <a:moveTo>
                  <a:pt x="0" y="0"/>
                </a:moveTo>
                <a:lnTo>
                  <a:pt x="0" y="117"/>
                </a:lnTo>
                <a:lnTo>
                  <a:pt x="448" y="117"/>
                </a:lnTo>
                <a:lnTo>
                  <a:pt x="44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3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94400" y="4514760"/>
            <a:ext cx="1440" cy="185760"/>
          </a:xfrm>
          <a:prstGeom prst="line">
            <a:avLst/>
          </a:prstGeom>
          <a:ln w="15840">
            <a:solidFill>
              <a:srgbClr val="e9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94400" y="4700520"/>
            <a:ext cx="69516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289560" y="4514760"/>
            <a:ext cx="1800" cy="185760"/>
          </a:xfrm>
          <a:prstGeom prst="line">
            <a:avLst/>
          </a:prstGeom>
          <a:ln w="15840">
            <a:solidFill>
              <a:srgbClr val="d54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594040" y="4514760"/>
            <a:ext cx="69516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92680" y="1728720"/>
            <a:ext cx="201600" cy="3637080"/>
          </a:xfrm>
          <a:custGeom>
            <a:avLst/>
            <a:gdLst/>
            <a:ahLst/>
            <a:rect l="l" t="t" r="r" b="b"/>
            <a:pathLst>
              <a:path w="127" h="2291">
                <a:moveTo>
                  <a:pt x="127" y="127"/>
                </a:moveTo>
                <a:lnTo>
                  <a:pt x="127" y="2291"/>
                </a:lnTo>
                <a:lnTo>
                  <a:pt x="0" y="2164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5ee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92680" y="1728720"/>
            <a:ext cx="1825560" cy="201600"/>
          </a:xfrm>
          <a:custGeom>
            <a:avLst/>
            <a:gdLst/>
            <a:ahLst/>
            <a:rect l="l" t="t" r="r" b="b"/>
            <a:pathLst>
              <a:path w="1150" h="127">
                <a:moveTo>
                  <a:pt x="1150" y="127"/>
                </a:moveTo>
                <a:lnTo>
                  <a:pt x="127" y="127"/>
                </a:lnTo>
                <a:lnTo>
                  <a:pt x="0" y="0"/>
                </a:lnTo>
                <a:lnTo>
                  <a:pt x="1033" y="0"/>
                </a:lnTo>
                <a:lnTo>
                  <a:pt x="1150" y="127"/>
                </a:lnTo>
                <a:close/>
              </a:path>
            </a:pathLst>
          </a:custGeom>
          <a:solidFill>
            <a:srgbClr val="3f97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94280" y="1930320"/>
            <a:ext cx="1623960" cy="3435480"/>
          </a:xfrm>
          <a:custGeom>
            <a:avLst/>
            <a:gdLst/>
            <a:ahLst/>
            <a:rect l="l" t="t" r="r" b="b"/>
            <a:pathLst>
              <a:path w="1023" h="2164">
                <a:moveTo>
                  <a:pt x="0" y="0"/>
                </a:moveTo>
                <a:lnTo>
                  <a:pt x="0" y="2164"/>
                </a:lnTo>
                <a:lnTo>
                  <a:pt x="1023" y="2164"/>
                </a:lnTo>
                <a:lnTo>
                  <a:pt x="102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1c3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8440" y="1930320"/>
            <a:ext cx="1440" cy="3419640"/>
          </a:xfrm>
          <a:prstGeom prst="line">
            <a:avLst/>
          </a:prstGeom>
          <a:ln w="15840">
            <a:solidFill>
              <a:srgbClr val="62e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78440" y="5349960"/>
            <a:ext cx="1639800" cy="1440"/>
          </a:xfrm>
          <a:prstGeom prst="line">
            <a:avLst/>
          </a:prstGeom>
          <a:ln w="15840">
            <a:solidFill>
              <a:srgbClr val="4cb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718240" y="1929960"/>
            <a:ext cx="1440" cy="3419640"/>
          </a:xfrm>
          <a:prstGeom prst="line">
            <a:avLst/>
          </a:prstGeom>
          <a:ln w="15840">
            <a:solidFill>
              <a:srgbClr val="59d5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078080" y="1930320"/>
            <a:ext cx="1639800" cy="1800"/>
          </a:xfrm>
          <a:prstGeom prst="line">
            <a:avLst/>
          </a:prstGeom>
          <a:ln w="15840">
            <a:solidFill>
              <a:srgbClr val="4cb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70400" y="34624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51400" y="3446640"/>
            <a:ext cx="61920" cy="247320"/>
          </a:xfrm>
          <a:custGeom>
            <a:avLst/>
            <a:gdLst/>
            <a:ahLst/>
            <a:rect l="l" t="t" r="r" b="b"/>
            <a:pathLst>
              <a:path w="39" h="156">
                <a:moveTo>
                  <a:pt x="39" y="39"/>
                </a:moveTo>
                <a:lnTo>
                  <a:pt x="39" y="156"/>
                </a:lnTo>
                <a:lnTo>
                  <a:pt x="0" y="107"/>
                </a:lnTo>
                <a:lnTo>
                  <a:pt x="0" y="0"/>
                </a:lnTo>
                <a:lnTo>
                  <a:pt x="39" y="39"/>
                </a:lnTo>
                <a:close/>
              </a:path>
            </a:pathLst>
          </a:custGeom>
          <a:solidFill>
            <a:srgbClr val="e04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51400" y="3446640"/>
            <a:ext cx="480960" cy="61560"/>
          </a:xfrm>
          <a:custGeom>
            <a:avLst/>
            <a:gdLst/>
            <a:ahLst/>
            <a:rect l="l" t="t" r="r" b="b"/>
            <a:pathLst>
              <a:path w="303" h="39">
                <a:moveTo>
                  <a:pt x="303" y="39"/>
                </a:moveTo>
                <a:lnTo>
                  <a:pt x="39" y="39"/>
                </a:lnTo>
                <a:lnTo>
                  <a:pt x="0" y="0"/>
                </a:lnTo>
                <a:lnTo>
                  <a:pt x="264" y="0"/>
                </a:lnTo>
                <a:lnTo>
                  <a:pt x="303" y="39"/>
                </a:lnTo>
                <a:close/>
              </a:path>
            </a:pathLst>
          </a:custGeom>
          <a:solidFill>
            <a:srgbClr val="97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13320" y="3508200"/>
            <a:ext cx="419040" cy="185760"/>
          </a:xfrm>
          <a:custGeom>
            <a:avLst/>
            <a:gdLst/>
            <a:ahLst/>
            <a:rect l="l" t="t" r="r" b="b"/>
            <a:pathLst>
              <a:path w="264" h="117">
                <a:moveTo>
                  <a:pt x="0" y="0"/>
                </a:moveTo>
                <a:lnTo>
                  <a:pt x="0" y="117"/>
                </a:lnTo>
                <a:lnTo>
                  <a:pt x="264" y="117"/>
                </a:lnTo>
                <a:lnTo>
                  <a:pt x="26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3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13320" y="3508200"/>
            <a:ext cx="1440" cy="169920"/>
          </a:xfrm>
          <a:prstGeom prst="line">
            <a:avLst/>
          </a:prstGeom>
          <a:ln w="15840">
            <a:solidFill>
              <a:srgbClr val="e9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13320" y="3678120"/>
            <a:ext cx="40320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016520" y="3508200"/>
            <a:ext cx="1440" cy="169920"/>
          </a:xfrm>
          <a:prstGeom prst="line">
            <a:avLst/>
          </a:prstGeom>
          <a:ln w="15840">
            <a:solidFill>
              <a:srgbClr val="d54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613320" y="3508200"/>
            <a:ext cx="40320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68400" y="1171440"/>
            <a:ext cx="201600" cy="4937400"/>
          </a:xfrm>
          <a:custGeom>
            <a:avLst/>
            <a:gdLst/>
            <a:ahLst/>
            <a:rect l="l" t="t" r="r" b="b"/>
            <a:pathLst>
              <a:path w="127" h="3110">
                <a:moveTo>
                  <a:pt x="127" y="127"/>
                </a:moveTo>
                <a:lnTo>
                  <a:pt x="127" y="3110"/>
                </a:lnTo>
                <a:lnTo>
                  <a:pt x="0" y="2983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bf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68400" y="1171440"/>
            <a:ext cx="2614680" cy="201600"/>
          </a:xfrm>
          <a:custGeom>
            <a:avLst/>
            <a:gdLst/>
            <a:ahLst/>
            <a:rect l="l" t="t" r="r" b="b"/>
            <a:pathLst>
              <a:path w="1647" h="127">
                <a:moveTo>
                  <a:pt x="1647" y="127"/>
                </a:moveTo>
                <a:lnTo>
                  <a:pt x="127" y="127"/>
                </a:lnTo>
                <a:lnTo>
                  <a:pt x="0" y="0"/>
                </a:lnTo>
                <a:lnTo>
                  <a:pt x="1520" y="0"/>
                </a:lnTo>
                <a:lnTo>
                  <a:pt x="1647" y="127"/>
                </a:lnTo>
                <a:close/>
              </a:path>
            </a:pathLst>
          </a:custGeom>
          <a:solidFill>
            <a:srgbClr val="8197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70000" y="1373040"/>
            <a:ext cx="2413080" cy="4735800"/>
          </a:xfrm>
          <a:custGeom>
            <a:avLst/>
            <a:gdLst/>
            <a:ahLst/>
            <a:rect l="l" t="t" r="r" b="b"/>
            <a:pathLst>
              <a:path w="1520" h="2983">
                <a:moveTo>
                  <a:pt x="0" y="0"/>
                </a:moveTo>
                <a:lnTo>
                  <a:pt x="0" y="2983"/>
                </a:lnTo>
                <a:lnTo>
                  <a:pt x="1520" y="2983"/>
                </a:lnTo>
                <a:lnTo>
                  <a:pt x="152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6c3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70000" y="1373040"/>
            <a:ext cx="1440" cy="4719960"/>
          </a:xfrm>
          <a:prstGeom prst="line">
            <a:avLst/>
          </a:prstGeom>
          <a:ln w="15840">
            <a:solidFill>
              <a:srgbClr val="c7e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70000" y="6093000"/>
            <a:ext cx="2397240" cy="1440"/>
          </a:xfrm>
          <a:prstGeom prst="line">
            <a:avLst/>
          </a:prstGeom>
          <a:ln w="15840">
            <a:solidFill>
              <a:srgbClr val="9cb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567240" y="1372680"/>
            <a:ext cx="1440" cy="4719960"/>
          </a:xfrm>
          <a:prstGeom prst="line">
            <a:avLst/>
          </a:prstGeom>
          <a:ln w="15840">
            <a:solidFill>
              <a:srgbClr val="b6d5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169640" y="1373040"/>
            <a:ext cx="2397240" cy="1800"/>
          </a:xfrm>
          <a:prstGeom prst="line">
            <a:avLst/>
          </a:prstGeom>
          <a:ln w="15840">
            <a:solidFill>
              <a:srgbClr val="9cb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01840" y="1728720"/>
            <a:ext cx="201600" cy="1594080"/>
          </a:xfrm>
          <a:custGeom>
            <a:avLst/>
            <a:gdLst/>
            <a:ahLst/>
            <a:rect l="l" t="t" r="r" b="b"/>
            <a:pathLst>
              <a:path w="127" h="1004">
                <a:moveTo>
                  <a:pt x="127" y="127"/>
                </a:moveTo>
                <a:lnTo>
                  <a:pt x="127" y="1004"/>
                </a:lnTo>
                <a:lnTo>
                  <a:pt x="0" y="877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01840" y="1728720"/>
            <a:ext cx="1903320" cy="201600"/>
          </a:xfrm>
          <a:custGeom>
            <a:avLst/>
            <a:gdLst/>
            <a:ahLst/>
            <a:rect l="l" t="t" r="r" b="b"/>
            <a:pathLst>
              <a:path w="1199" h="127">
                <a:moveTo>
                  <a:pt x="1199" y="127"/>
                </a:moveTo>
                <a:lnTo>
                  <a:pt x="127" y="127"/>
                </a:lnTo>
                <a:lnTo>
                  <a:pt x="0" y="0"/>
                </a:lnTo>
                <a:lnTo>
                  <a:pt x="1082" y="0"/>
                </a:lnTo>
                <a:lnTo>
                  <a:pt x="1199" y="127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3440" y="1930320"/>
            <a:ext cx="1701720" cy="1392480"/>
          </a:xfrm>
          <a:custGeom>
            <a:avLst/>
            <a:gdLst/>
            <a:ahLst/>
            <a:rect l="l" t="t" r="r" b="b"/>
            <a:pathLst>
              <a:path w="1072" h="877">
                <a:moveTo>
                  <a:pt x="0" y="0"/>
                </a:moveTo>
                <a:lnTo>
                  <a:pt x="0" y="877"/>
                </a:lnTo>
                <a:lnTo>
                  <a:pt x="1072" y="877"/>
                </a:lnTo>
                <a:lnTo>
                  <a:pt x="107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1930320"/>
            <a:ext cx="1440" cy="137628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87600" y="3306600"/>
            <a:ext cx="171756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305160" y="1929960"/>
            <a:ext cx="1440" cy="137628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87240" y="1930320"/>
            <a:ext cx="171756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5640" y="2487600"/>
            <a:ext cx="137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32080" y="3772080"/>
            <a:ext cx="201600" cy="1593720"/>
          </a:xfrm>
          <a:custGeom>
            <a:avLst/>
            <a:gdLst/>
            <a:ahLst/>
            <a:rect l="l" t="t" r="r" b="b"/>
            <a:pathLst>
              <a:path w="127" h="1004">
                <a:moveTo>
                  <a:pt x="127" y="127"/>
                </a:moveTo>
                <a:lnTo>
                  <a:pt x="127" y="1004"/>
                </a:lnTo>
                <a:lnTo>
                  <a:pt x="0" y="877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32080" y="3772080"/>
            <a:ext cx="1873080" cy="201600"/>
          </a:xfrm>
          <a:custGeom>
            <a:avLst/>
            <a:gdLst/>
            <a:ahLst/>
            <a:rect l="l" t="t" r="r" b="b"/>
            <a:pathLst>
              <a:path w="1180" h="127">
                <a:moveTo>
                  <a:pt x="1180" y="127"/>
                </a:moveTo>
                <a:lnTo>
                  <a:pt x="127" y="127"/>
                </a:lnTo>
                <a:lnTo>
                  <a:pt x="0" y="0"/>
                </a:lnTo>
                <a:lnTo>
                  <a:pt x="1063" y="0"/>
                </a:lnTo>
                <a:lnTo>
                  <a:pt x="1180" y="127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33680" y="3973680"/>
            <a:ext cx="1671480" cy="1392120"/>
          </a:xfrm>
          <a:custGeom>
            <a:avLst/>
            <a:gdLst/>
            <a:ahLst/>
            <a:rect l="l" t="t" r="r" b="b"/>
            <a:pathLst>
              <a:path w="1053" h="877">
                <a:moveTo>
                  <a:pt x="0" y="0"/>
                </a:moveTo>
                <a:lnTo>
                  <a:pt x="0" y="877"/>
                </a:lnTo>
                <a:lnTo>
                  <a:pt x="1053" y="877"/>
                </a:lnTo>
                <a:lnTo>
                  <a:pt x="105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3680" y="3957480"/>
            <a:ext cx="1440" cy="139248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33680" y="5349960"/>
            <a:ext cx="1671480" cy="144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305160" y="3957480"/>
            <a:ext cx="1440" cy="139248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633320" y="3957480"/>
            <a:ext cx="167148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5320" y="4514760"/>
            <a:ext cx="150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99920" y="5505480"/>
            <a:ext cx="17852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Zugriffszeit / Zykluszei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7600" y="3606840"/>
            <a:ext cx="3383280" cy="304920"/>
          </a:xfrm>
          <a:prstGeom prst="hexagon">
            <a:avLst>
              <a:gd name="adj" fmla="val 36985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92400" y="2647800"/>
            <a:ext cx="6594480" cy="304920"/>
            <a:chOff x="1292400" y="2647800"/>
            <a:chExt cx="6594480" cy="304920"/>
          </a:xfrm>
        </p:grpSpPr>
        <p:sp>
          <p:nvSpPr>
            <p:cNvPr id="139" name=""/>
            <p:cNvSpPr/>
            <p:nvPr/>
          </p:nvSpPr>
          <p:spPr>
            <a:xfrm>
              <a:off x="1292400" y="2647800"/>
              <a:ext cx="1311120" cy="304920"/>
            </a:xfrm>
            <a:prstGeom prst="hexagon">
              <a:avLst>
                <a:gd name="adj" fmla="val 31214"/>
                <a:gd name="vf" fmla="val 11547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75400" y="2647800"/>
              <a:ext cx="1311480" cy="304920"/>
            </a:xfrm>
            <a:prstGeom prst="hexagon">
              <a:avLst>
                <a:gd name="adj" fmla="val 31223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584440" y="2647800"/>
              <a:ext cx="3992760" cy="304560"/>
              <a:chOff x="2584440" y="2647800"/>
              <a:chExt cx="3992760" cy="304560"/>
            </a:xfrm>
          </p:grpSpPr>
          <p:sp>
            <p:nvSpPr>
              <p:cNvPr id="142" name=""/>
              <p:cNvSpPr/>
              <p:nvPr/>
            </p:nvSpPr>
            <p:spPr>
              <a:xfrm>
                <a:off x="3194280" y="2647800"/>
                <a:ext cx="3382920" cy="304560"/>
              </a:xfrm>
              <a:prstGeom prst="hexagon">
                <a:avLst>
                  <a:gd name="adj" fmla="val 37025"/>
                  <a:gd name="vf" fmla="val 11547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84440" y="2647800"/>
                <a:ext cx="3141720" cy="304560"/>
              </a:xfrm>
              <a:prstGeom prst="hexagon">
                <a:avLst>
                  <a:gd name="adj" fmla="val 34385"/>
                  <a:gd name="vf" fmla="val 11547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4413240" y="3606840"/>
            <a:ext cx="3992400" cy="304920"/>
            <a:chOff x="4413240" y="3606840"/>
            <a:chExt cx="3992400" cy="304920"/>
          </a:xfrm>
        </p:grpSpPr>
        <p:sp>
          <p:nvSpPr>
            <p:cNvPr id="145" name=""/>
            <p:cNvSpPr/>
            <p:nvPr/>
          </p:nvSpPr>
          <p:spPr>
            <a:xfrm>
              <a:off x="5022720" y="3606840"/>
              <a:ext cx="3382920" cy="304920"/>
            </a:xfrm>
            <a:prstGeom prst="hexagon">
              <a:avLst>
                <a:gd name="adj" fmla="val 36981"/>
                <a:gd name="vf" fmla="val 11547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13240" y="3606840"/>
              <a:ext cx="1300320" cy="304920"/>
            </a:xfrm>
            <a:prstGeom prst="hexagon">
              <a:avLst>
                <a:gd name="adj" fmla="val 34886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521240" y="1644480"/>
            <a:ext cx="0" cy="279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92440" y="1644480"/>
            <a:ext cx="0" cy="3276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80160" y="1644480"/>
            <a:ext cx="0" cy="3175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6560" y="2031840"/>
            <a:ext cx="1130400" cy="208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40760" y="2070000"/>
            <a:ext cx="1130040" cy="208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3680" y="249228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3480" y="3460680"/>
            <a:ext cx="12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60800" y="3844800"/>
            <a:ext cx="10969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Zugr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95320" y="4680000"/>
            <a:ext cx="1305000" cy="0"/>
          </a:xfrm>
          <a:prstGeom prst="line">
            <a:avLst/>
          </a:prstGeom>
          <a:ln w="19080">
            <a:solidFill>
              <a:srgbClr val="454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53040" y="4680000"/>
            <a:ext cx="1514520" cy="0"/>
          </a:xfrm>
          <a:prstGeom prst="line">
            <a:avLst/>
          </a:prstGeom>
          <a:ln w="19080">
            <a:solidFill>
              <a:srgbClr val="454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65480" y="4330800"/>
            <a:ext cx="10969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0" lang="de-DE" sz="2800" spc="-1" strike="noStrike" baseline="-25000">
                <a:solidFill>
                  <a:srgbClr val="3333cc"/>
                </a:solidFill>
                <a:latin typeface="Arial"/>
              </a:rPr>
              <a:t>Zyk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685960" y="4203720"/>
            <a:ext cx="425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43240" y="4203720"/>
            <a:ext cx="366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Zugriffszeit / Zykluszei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6560" y="1305000"/>
            <a:ext cx="8039160" cy="55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Zykluszeit kann erheblich länger als die Zugriffszei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Grü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zelle muß sich nach einem Zugriff “erhol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 einigen Speicherarten wird die Information durch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Auslesen zerstört und muß erst wie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geschrieben werden (refresh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Idealfal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ykluszeit = Zugriffs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Realität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eist Zykluszeit  &gt;  Zugriffszeit ( bis zu 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3.2  Klassifizierung von Halbleiterspeicher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650680" y="1743120"/>
            <a:ext cx="1063800" cy="48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1743120"/>
            <a:ext cx="1219320" cy="48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247400" y="2781360"/>
            <a:ext cx="577800" cy="45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27480" y="2790720"/>
            <a:ext cx="460440" cy="4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90960" y="2774880"/>
            <a:ext cx="45396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02400" y="2765520"/>
            <a:ext cx="451080" cy="48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22080" y="3772080"/>
            <a:ext cx="384120" cy="61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1440" y="3768840"/>
            <a:ext cx="326880" cy="59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978280" y="3809880"/>
            <a:ext cx="441360" cy="57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28960" y="3800520"/>
            <a:ext cx="470160" cy="55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56360" y="3740040"/>
            <a:ext cx="787320" cy="62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365600" y="3746520"/>
            <a:ext cx="692280" cy="62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05240" y="4873680"/>
            <a:ext cx="959040" cy="60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543640" y="3708360"/>
            <a:ext cx="403200" cy="179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84600" y="1241280"/>
            <a:ext cx="32511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lbleiter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62600" y="2246400"/>
            <a:ext cx="36957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Schreib-/Lese-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54080" y="2246400"/>
            <a:ext cx="32511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Festwer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3243240"/>
            <a:ext cx="17049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irreversi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81160" y="3262320"/>
            <a:ext cx="1447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reversi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68720" y="3244680"/>
            <a:ext cx="1933560" cy="51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Statisches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78600" y="3240000"/>
            <a:ext cx="2098800" cy="5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Dynamisches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75280" y="4321080"/>
            <a:ext cx="233676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quasi-statisches</a:t>
            </a:r>
            <a:br>
              <a:rPr sz="1800"/>
            </a:b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4280" y="4371840"/>
            <a:ext cx="7272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20840" y="4371840"/>
            <a:ext cx="853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P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59120" y="4371840"/>
            <a:ext cx="11430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EP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23960" y="4371840"/>
            <a:ext cx="10573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P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4200" y="5429160"/>
            <a:ext cx="26096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cccc"/>
                </a:solidFill>
                <a:latin typeface="Arial"/>
              </a:rPr>
              <a:t>Nichtflüchtiges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99"/>
                </a:solidFill>
                <a:latin typeface="Arial"/>
              </a:rPr>
              <a:t>Festwertspeicher (ROM, </a:t>
            </a:r>
            <a:r>
              <a:rPr b="1" i="1" sz="2800" spc="-1" strike="noStrike">
                <a:solidFill>
                  <a:srgbClr val="000099"/>
                </a:solidFill>
                <a:latin typeface="Arial"/>
              </a:rPr>
              <a:t>Read Only Memory</a:t>
            </a:r>
            <a:r>
              <a:rPr b="1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9680" y="1104840"/>
            <a:ext cx="8324640" cy="50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halt ist während des Normalbetriebs nur lesb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halt ist nicht flüchtig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(non volatile),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.h. er geht bei Abschaltung der Versorgungsspannung nicht verl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cc"/>
                </a:solidFill>
                <a:latin typeface="Arial"/>
              </a:rPr>
              <a:t>irreversible Festwertspeicher:</a:t>
            </a:r>
            <a:r>
              <a:rPr b="0" lang="de-DE" sz="2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s Einschreiben einer Information kann nicht wieder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rückgängig gemach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askenprogrammierten Festwertspeicher (ROM)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rogrammierung bei der Herstellung, nur bei großer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ückzah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grammierbare Festwertspeicher (PROM)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einmaliges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rogrammieren durch den Anwender mit Programmiergerät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(Durchbrennen von Verbindungen, fusable link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99"/>
                </a:solidFill>
                <a:latin typeface="Arial"/>
              </a:rPr>
              <a:t>Festwertspeicher (ROM, </a:t>
            </a:r>
            <a:r>
              <a:rPr b="1" i="1" sz="2800" spc="-1" strike="noStrike">
                <a:solidFill>
                  <a:srgbClr val="000099"/>
                </a:solidFill>
                <a:latin typeface="Arial"/>
              </a:rPr>
              <a:t>Read Only Memory</a:t>
            </a:r>
            <a:r>
              <a:rPr b="1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7840" y="1066680"/>
            <a:ext cx="8324640" cy="52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cc"/>
                </a:solidFill>
                <a:latin typeface="Arial"/>
              </a:rPr>
              <a:t>reversible Festwertspeicher:</a:t>
            </a:r>
            <a:r>
              <a:rPr b="1" lang="de-DE" sz="2200" spc="-1" strike="noStrike">
                <a:solidFill>
                  <a:srgbClr val="00b600"/>
                </a:solidFill>
                <a:latin typeface="Arial"/>
              </a:rPr>
              <a:t>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s Einschreiben der Informationen kann wieder rückgängig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mach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V-löschbaren Festwertspeicher (EPROM)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öschen durch UV-L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lektrisch löschbare Festwertspeicher (EEPROM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önnen im </a:t>
            </a:r>
            <a:r>
              <a:rPr b="0" lang="de-DE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-System selbst elektrisch gelöscht werden.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ser Vorgang ist jedoch sehr langsam und nur begrenzt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ft möglich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lash-ROM: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rden genauso wie EEPROMs elektrisch programmiert.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Daten werden nicht byteweise sondern blockweise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sgelesen und geschrieb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98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Schreib/Lese-Speicher (RAM, </a:t>
            </a:r>
            <a:r>
              <a:rPr b="1" i="1" sz="2400" spc="-1" strike="noStrike">
                <a:solidFill>
                  <a:srgbClr val="000099"/>
                </a:solidFill>
                <a:latin typeface="Arial"/>
              </a:rPr>
              <a:t>Random Access Memory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8120" y="1305000"/>
            <a:ext cx="844884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ist  jeder Zeit lesbar und schreib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ist flüchtig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volatile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, d.h. er geht bei Abschalten der Versorgungsspannung verl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Statische Schreib/Lese-Speicher (SRA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Dynamische Schreib/Lese-Speicher (D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Quasi-statische Schreib/Lese-Speicher (iRAM,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integrated 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Schreib/Lese-Speicher (RAM, </a:t>
            </a:r>
            <a:r>
              <a:rPr b="1" i="1" sz="2400" spc="-1" strike="noStrike">
                <a:solidFill>
                  <a:srgbClr val="000099"/>
                </a:solidFill>
                <a:latin typeface="Arial"/>
              </a:rPr>
              <a:t>Random Access Memory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9680" y="1190520"/>
            <a:ext cx="84484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Statische Schreib/Lese-Speicher (SRAM) </a:t>
            </a:r>
            <a:br>
              <a:rPr sz="2400"/>
            </a:b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ipflops als Speicherzellen, Inhalt stabil, solang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orgungsspannung vorhanden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Dynamische Schreib/Lese-Speicher (DRAM)</a:t>
            </a:r>
            <a:br>
              <a:rPr sz="2400"/>
            </a:b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wird als elektrische Ladung in eine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densator gespeiche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Lesen bewirkt meist Entladung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destructive read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ch dem Lesen muss wieder eingeschrieb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Ladung geht nach einiger Zeit auch durch Leckström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loren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eriodische Auffrischung erforderlich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refre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Schreib/Lese-Speicher (RAM, </a:t>
            </a:r>
            <a:r>
              <a:rPr b="1" i="1" sz="2400" spc="-1" strike="noStrike">
                <a:solidFill>
                  <a:srgbClr val="000099"/>
                </a:solidFill>
                <a:latin typeface="Arial"/>
              </a:rPr>
              <a:t>Random Access Memory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9960" y="1184400"/>
            <a:ext cx="821376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Quasi-statische Schreib/Lese-Speicher (iRAM,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integrated RAM)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ynamische Speicher, welche die Schaltung für da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derauffrischen mit auf dem Chip hab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sehen nach außen wie statische Spe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, sind jedoch im inneren dynam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084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99"/>
                </a:solidFill>
                <a:latin typeface="Arial"/>
              </a:rPr>
              <a:t>Nicht-flüchtige RAM's (NVRAM, </a:t>
            </a:r>
            <a:r>
              <a:rPr b="1" i="1" sz="2800" spc="-1" strike="noStrike">
                <a:solidFill>
                  <a:srgbClr val="000099"/>
                </a:solidFill>
                <a:latin typeface="Arial"/>
              </a:rPr>
              <a:t>non volatile RAM</a:t>
            </a:r>
            <a:r>
              <a:rPr b="1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760" y="1409760"/>
            <a:ext cx="8267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bination aus Festwertspeicher und Schreib/Lese-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 auf einem Baustei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Jede Speicherzelle ist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oppel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ausgelegt, einmal als 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Arial"/>
              </a:rPr>
              <a:t>statische RAM-Zell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und einmal als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EEPROM-Zell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Normalbetrieb werden die RAM-Zellen benutz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spezielle Steuerschaltu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erlaubt jedoch da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Kopieren des RAM-Inhalts in das EEPRO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3.3 Grundlagen über Halbleiter-Bauelemen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1480" y="2104920"/>
            <a:ext cx="815364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ba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Di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ba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ipolar Transi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ba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MOS-Transi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urden in TI-1 behandelt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19040" y="2057400"/>
            <a:ext cx="76773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cc"/>
                </a:solidFill>
                <a:latin typeface="Arial"/>
              </a:rPr>
              <a:t>3.  Aufbau und Organisation </a:t>
            </a:r>
            <a:br>
              <a:rPr sz="4400"/>
            </a:br>
            <a:r>
              <a:rPr b="1" sz="4400" spc="-1" strike="noStrike">
                <a:solidFill>
                  <a:srgbClr val="0000cc"/>
                </a:solidFill>
                <a:latin typeface="Arial"/>
              </a:rPr>
              <a:t>des Arbeitsspei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3.4  Aufbau von Speicherzell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0120" y="1152360"/>
            <a:ext cx="82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. Festwertspeicherz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1. Speicherzellen für maskenprogrammierte R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988920" y="2084400"/>
            <a:ext cx="6700680" cy="4017600"/>
            <a:chOff x="988920" y="2084400"/>
            <a:chExt cx="6700680" cy="4017600"/>
          </a:xfrm>
        </p:grpSpPr>
        <p:pic>
          <p:nvPicPr>
            <p:cNvPr id="207" name="3.4-1" descr=""/>
            <p:cNvPicPr/>
            <p:nvPr/>
          </p:nvPicPr>
          <p:blipFill>
            <a:blip r:embed="rId1">
              <a:lum contrast="20000"/>
            </a:blip>
            <a:srcRect l="1077" t="983" r="0" b="2959"/>
            <a:stretch/>
          </p:blipFill>
          <p:spPr>
            <a:xfrm>
              <a:off x="1035360" y="2084400"/>
              <a:ext cx="6654240" cy="40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988920" y="2157840"/>
              <a:ext cx="289800" cy="2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55360" y="2106360"/>
              <a:ext cx="289800" cy="2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01040" y="2106360"/>
              <a:ext cx="289800" cy="2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3040" y="228240"/>
            <a:ext cx="869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A1. Speicherzellen für maskenprogrammierte RO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360" y="1333440"/>
            <a:ext cx="828684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3 Typen, jeweils mit Diode, Bipolar-Transistor und MOS-Transi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 solche Speicherzelle liegt immer im Kreuzungsbereich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r Zellauswahlleitunge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eilen-Auswahlleitungen A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(Ausgänge de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dekoders, 1 aus n Code)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r Daten/Bit-Leitung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das jeweilige Bauelement wird dann entweder eine Verbindung geschaffen oder n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6680" y="152280"/>
            <a:ext cx="870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99"/>
                </a:solidFill>
                <a:latin typeface="Arial"/>
              </a:rPr>
              <a:t>A2. Speicherzellen für programmierbare ROMs (PROMs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280" y="1114560"/>
            <a:ext cx="84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b600"/>
                </a:solidFill>
                <a:latin typeface="Arial"/>
              </a:rPr>
              <a:t>Speicherzellen mit Schmelzsicherungen (</a:t>
            </a:r>
            <a:r>
              <a:rPr b="1" i="1" sz="2400" spc="-1" strike="noStrike">
                <a:solidFill>
                  <a:srgbClr val="00b600"/>
                </a:solidFill>
                <a:latin typeface="Arial"/>
              </a:rPr>
              <a:t>fusable links</a:t>
            </a:r>
            <a:r>
              <a:rPr b="1" sz="2400" spc="-1" strike="noStrike">
                <a:solidFill>
                  <a:srgbClr val="00b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3.4-2" descr=""/>
          <p:cNvPicPr/>
          <p:nvPr/>
        </p:nvPicPr>
        <p:blipFill>
          <a:blip r:embed="rId1">
            <a:lum contrast="20000"/>
          </a:blip>
          <a:srcRect l="786" t="652" r="1371" b="652"/>
          <a:stretch/>
        </p:blipFill>
        <p:spPr>
          <a:xfrm>
            <a:off x="1914480" y="1781280"/>
            <a:ext cx="47530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0720" y="152280"/>
            <a:ext cx="875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A2. Speicherzellen für programmierbare ROMs (PROMs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6560" y="1104840"/>
            <a:ext cx="830592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Koppelelement aus einer feinen Nickel-Chrom-Legierung wird durch Einprägen eines Stromimpulses zum Schmelzen geb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cherung in Reihe mit einer Diode (Diode verhindert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s der Strom über andere Auswahlleitungen wie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fließt)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om durch den Abschlusswiderstand mus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m Adressdekoder geliefer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cherung in der Emitterleitung eines 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om durch den Abschlusswiderstand kann direkt 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annungsversorgung entnomm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720" y="1522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A2. Speicherzellen für programmierbare ROMs (PROMs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6560" y="111456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b600"/>
                </a:solidFill>
                <a:latin typeface="Arial"/>
              </a:rPr>
              <a:t>Speicherzellen in AIM-Technik (</a:t>
            </a:r>
            <a:r>
              <a:rPr b="1" i="1" sz="2400" spc="-1" strike="noStrike">
                <a:solidFill>
                  <a:srgbClr val="00b600"/>
                </a:solidFill>
                <a:latin typeface="Arial"/>
              </a:rPr>
              <a:t>avalange induced </a:t>
            </a:r>
            <a:r>
              <a:rPr b="1" i="1" sz="24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1" i="1" sz="2400" spc="-1" strike="noStrike">
                <a:solidFill>
                  <a:srgbClr val="00b600"/>
                </a:solidFill>
                <a:latin typeface="Arial"/>
              </a:rPr>
              <a:t>migration</a:t>
            </a:r>
            <a:r>
              <a:rPr b="1" sz="2400" spc="-1" strike="noStrike">
                <a:solidFill>
                  <a:srgbClr val="00b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3.4-3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314360" y="2081160"/>
            <a:ext cx="64976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5760" y="152280"/>
            <a:ext cx="848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A2. Speicherzellen für programmierbare ROMs (PROMs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9040" y="1085760"/>
            <a:ext cx="832500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 hohe Stromimpulse kann eine Halbleiterdiode zu einem niederohmigen Widerstand umgewandelt werden (AI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verlässiger al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usable lin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echnik, da dort durch Transport von Aluminium-Atomen bereits geschmolzene Sicherungen wieder zuwachsen kön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 Varian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geneinander geschaltete Dioden als Koppelelement, durch di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ierung wird die untere zerstö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polar-Transistor als Koppelelement, durch die Programmi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die Basis-Emitter-Diode zerstö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ei entgegengeschaltete Dioden, von denen eine zerstört wi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3. EPROM-Speicherzell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4" name="3.4-4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790560" y="1262160"/>
            <a:ext cx="7743960" cy="2923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90560" y="1311120"/>
            <a:ext cx="39384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25920" y="1347840"/>
            <a:ext cx="39240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8760" y="4181400"/>
            <a:ext cx="830556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 Koppelelement wird ein spezieller MOS-Transistor benutzt, der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FAMOS-</a:t>
            </a: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Transist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floating gate avalange M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ser besitzt neben dem normalen Gate noch ein völlig isoliertes Gate (floating gate). Je nachdem, wieviel Ladung sich auf dem floating gate befindet, verändert sich die Schwellspannung U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s Tran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3. EPROM-Speicherzell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360" y="1123920"/>
            <a:ext cx="63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rogrammieren und Le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3.4-5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90400" y="1949400"/>
            <a:ext cx="8029800" cy="3598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33520" y="1996920"/>
            <a:ext cx="3934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29240" y="2035080"/>
            <a:ext cx="3934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3. EEPROM-Speicherzell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34" name="3.4-6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76440" y="1114560"/>
            <a:ext cx="7864200" cy="2682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47840" y="3905280"/>
            <a:ext cx="828648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Neben dem Speichertransistor wird ein Schalttransistor zur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Zellenselektion benöti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 Speichertransistor wird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FLOTOX-Transisto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floating gate tunnel </a:t>
            </a:r>
            <a:br>
              <a:rPr sz="2000"/>
            </a:b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oxid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 genan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Unterschied zum FAMOS-Transistor: anders geformte Gates, die über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und sehr nahe an den Drain-Anschluß heranr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3. EEPROM-Speicherzell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8760" y="1143000"/>
            <a:ext cx="83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3.4-7" descr=""/>
          <p:cNvPicPr/>
          <p:nvPr/>
        </p:nvPicPr>
        <p:blipFill>
          <a:blip r:embed="rId1">
            <a:lum contrast="20000"/>
          </a:blip>
          <a:srcRect l="0" t="3284" r="0" b="0"/>
          <a:stretch/>
        </p:blipFill>
        <p:spPr>
          <a:xfrm>
            <a:off x="1281240" y="1542960"/>
            <a:ext cx="6753240" cy="22478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66560" y="3876840"/>
            <a:ext cx="8143920" cy="23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 die Auswahlleitung A wird eine positive Spannung (+5V) an das Gate des Schalttransistors und des Speichertransistors gebrac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Schalttransistor leitet in jedem Fa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Speichertransistor leitet, wenn keine Ladungsträger auf dem floating gate sind </a:t>
            </a:r>
            <a:r>
              <a:rPr b="0" lang="de-DE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 = 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sonsten sperrt der Speichertransistor </a:t>
            </a:r>
            <a:r>
              <a:rPr b="0" lang="de-DE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3.1  Einl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3800" y="1295280"/>
            <a:ext cx="789624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2 Arten von Speicher in einem Rechn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Arial"/>
              </a:rPr>
              <a:t>Arbeitsspeicher und Peripherie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er soll der Arbeitsspeicher näher betrachte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rbeitsspeicher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edächtnis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 des Rech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s werden dort Programme und Da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peichert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“jeder Zeit sofort”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ur Verfügung stehen mü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3. EEPROM-Speicherzell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41" name="3.4-8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781200" y="2081160"/>
            <a:ext cx="7619760" cy="2627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66560" y="1324080"/>
            <a:ext cx="83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ösche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(Löschen heißt hier: Ladung auf das floating gate bring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3360" y="5180040"/>
            <a:ext cx="786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nlegen einer hohen Spannung (+21V) an Auswahlleitung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und Gate des Speichertransistors sowie von Masse an die Bitl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3. EEPROM-Speicherzell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1520" y="1104840"/>
            <a:ext cx="837252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rogrammieren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Vor dem Programmieren muß die Zelle gelöscht, d.h. es müss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Ladugnsträger auf dem Floating Gate gespeichert s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8760" y="5429160"/>
            <a:ext cx="837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uswahlleitung wird auf hohe Spannung (21 V) gelegt (leitender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chalttransistor), das Gate des Speichertransistors auf M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3.4-9" descr=""/>
          <p:cNvPicPr/>
          <p:nvPr/>
        </p:nvPicPr>
        <p:blipFill>
          <a:blip r:embed="rId1">
            <a:lum contrast="20000"/>
          </a:blip>
          <a:srcRect l="-622" t="2554" r="502" b="2236"/>
          <a:stretch/>
        </p:blipFill>
        <p:spPr>
          <a:xfrm>
            <a:off x="905040" y="2443320"/>
            <a:ext cx="70578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. Schreib-/Lese-Speicherzell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6560" y="1257480"/>
            <a:ext cx="834408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Statische Speicherzellen enthalten Flipflops </a:t>
            </a:r>
            <a:br>
              <a:rPr sz="2400"/>
            </a:b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als Speicherle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fba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Bipolar-Transistoren 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schneller, aber großer Flächenbedarf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MOS-Transistor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langsamer, aber kleinerer Flächenbedar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Dynamische Speicherzellen enthalten Kondensatoren </a:t>
            </a: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als Speicherle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ausschliesslich mit MOS-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1. Statische bipolare Speicherzell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9960" y="1295280"/>
            <a:ext cx="410544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lipflop aus rückgekoppelten Multi-Emitter-Transis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 ein Emitter ist mit der Zellen-Auswahlleitung A verbun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anderen Emitter sind mit zwei parallelen Bitleitungen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erbun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se werden durch einen Schreib/Leseverstärke zu einer bidirektionalen Datenleitung verknüp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70800" y="1585800"/>
            <a:ext cx="0" cy="380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26080" y="1585800"/>
            <a:ext cx="0" cy="380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62440" y="4997520"/>
            <a:ext cx="372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26080" y="542124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470800" y="544500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80160" y="5410080"/>
            <a:ext cx="685800" cy="4953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26080" y="573084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7365600" y="5730840"/>
            <a:ext cx="11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46640" y="2198520"/>
            <a:ext cx="241560" cy="48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1960" y="2198520"/>
            <a:ext cx="241200" cy="48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3720" y="1773360"/>
            <a:ext cx="146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61120" y="1785960"/>
            <a:ext cx="0" cy="41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09040" y="1785960"/>
            <a:ext cx="0" cy="41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97680" y="1459080"/>
            <a:ext cx="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61120" y="2682720"/>
            <a:ext cx="0" cy="87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9040" y="2682720"/>
            <a:ext cx="0" cy="87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7696080" y="433080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4240" y="433080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02600" y="358632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67560" y="358632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67560" y="38876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99200" y="38876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61120" y="311940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89640" y="3119400"/>
            <a:ext cx="4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80160" y="3130560"/>
            <a:ext cx="419040" cy="7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6832080" y="3119400"/>
            <a:ext cx="444600" cy="7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7302240" y="3519360"/>
            <a:ext cx="40644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61120" y="3530520"/>
            <a:ext cx="406440" cy="21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02600" y="3894120"/>
            <a:ext cx="419040" cy="43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273720" y="3882960"/>
            <a:ext cx="39384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86680" y="4537080"/>
            <a:ext cx="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83480" y="4537080"/>
            <a:ext cx="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02600" y="4149720"/>
            <a:ext cx="380880" cy="38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286680" y="4137120"/>
            <a:ext cx="380880" cy="39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32720" y="4948200"/>
            <a:ext cx="88920" cy="85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4948200"/>
            <a:ext cx="88920" cy="85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432640" y="4282920"/>
            <a:ext cx="88920" cy="84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87920" y="4282920"/>
            <a:ext cx="88920" cy="84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22960" y="3083040"/>
            <a:ext cx="88920" cy="83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70880" y="3070080"/>
            <a:ext cx="88920" cy="86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46920" y="1725480"/>
            <a:ext cx="88920" cy="84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80240" y="507852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se-/Schreib-Verstä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97640" y="4632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95640" y="1093680"/>
            <a:ext cx="61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99280" y="2257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73800" y="2257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26640" y="572940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33200" y="572940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204320" y="45594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40680" y="45594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26080" y="128268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470800" y="128268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95880" y="5856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59520" y="590544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496360" y="4997520"/>
            <a:ext cx="279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Funktionsweis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1076400"/>
            <a:ext cx="8277120" cy="52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eicher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nichtangesprochener Zustand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nichtangesprochenen Zustand liegt A auf Masse. Unabhängig des Wertes von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leitet dann einer der beiden Transistor, während der andere durch die Rückkopplung sper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aktuelle von zwei möglichen Zuständen bleibt er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m Zustand kann willkürlich die logische 1, dem anderen die logische 0 zugesprochen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s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de Bitleitungen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erden auf Masse gelegt. Das Potential der Auswahlleitung A wird auf U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ngeho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m leitenden Transistor übernimmt der zweite Emitter 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rom und speist ihn in die Bitleitung ein. Dies wird vo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severstärker ausgewer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Funktionsweis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1152360"/>
            <a:ext cx="827712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reib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r der Transistoren wird gezielt gesper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erzu wird die Auswahlleitung A und die Bitleitung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s zu sperrenden Transistor auf U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ele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Transistor sper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 die Rückkopplung wird der andere Transistor in 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itenden Zustand versetz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Koinzidente Zellenauswah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12" name="3.4-11" descr=""/>
          <p:cNvPicPr/>
          <p:nvPr/>
        </p:nvPicPr>
        <p:blipFill>
          <a:blip r:embed="rId1">
            <a:lum contrast="20000"/>
          </a:blip>
          <a:srcRect l="880" t="1445" r="1766" b="828"/>
          <a:stretch/>
        </p:blipFill>
        <p:spPr>
          <a:xfrm>
            <a:off x="4514760" y="1695600"/>
            <a:ext cx="4424400" cy="37908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80880" y="1165320"/>
            <a:ext cx="4391280" cy="47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Zellenauswahl in einer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Zellenauswahl geschieht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durch zwei Leitungen, A und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Nur wenn beide Leitungen aktiviert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ind, ist die Zelle angespro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Realisierung durch dritten E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urch Aktivierung genau eine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Leitung A und S in einer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atrix wird genau eine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peicherzelle angespro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2. Statische MOS-Speicherzell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15" name="3.4-1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704880" y="1322280"/>
            <a:ext cx="768672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2. Statische MOS-Speicherzell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95360" y="1181160"/>
            <a:ext cx="8086680" cy="57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 Statische CMOS-Speicherzelle besteht a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2 kreuzweise rückgekoppelten Invertern (T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bzw. T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2 Transistoren T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und T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zur Ankopplung an die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itleitu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</a:t>
            </a:r>
            <a:r>
              <a:rPr b="1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cc0000"/>
                </a:solidFill>
                <a:latin typeface="Arial"/>
              </a:rPr>
              <a:t>6 Transistor Z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Vorteil der CMOS-Zelle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nur zum Umschaltzeitpunkt fließt St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25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NMOS-Zel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Inverter aus n-Kanal-Transistor und Widerstand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ird benutzt (Varianten b,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Koinzidente Zellenauswah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52600" y="4857840"/>
            <a:ext cx="8191440" cy="8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kooinzidente Ansteuerung in einer Matrix wird durch Hinzufügen zweier Koppeltransistoren T’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und T’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erre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3.4-13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38120" y="1886040"/>
            <a:ext cx="80964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3.1  Einl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6280" y="1270080"/>
            <a:ext cx="82994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an unterscheidet zwisc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ermanenter Ablage von Dat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angzeitgedächt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Festwertspeicher (ROM), nicht flüchtig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.B. Betriebssystemkern, Systemtab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orübergehender Ablage von Dat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Kurzzeitgedächt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/Lesespeicher (RAM), flüchti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.B. Anwender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7620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3. NVRAM-Speicherzell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22" name="3.4-14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119240" y="1128600"/>
            <a:ext cx="6973920" cy="4167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609480" y="5334120"/>
            <a:ext cx="799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Bestehen aus einer statischen CMOS-Speicherzelle (RAM-Zelle) und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er EEPROM-Zelle (FLOTOX-Transis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3. NVRAM-Speicherzell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04720" y="1104840"/>
            <a:ext cx="799164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m Normalbetrieb wird die CMOS-Speicherzelle wird benutz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n besonderen Situationen (drohender Spannungsausfall,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schalten der Betriebsspannung) wird Inhalt in die EEPROM-Zelle übertragen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(store)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bzw. von dort gelesen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(reca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Beide Zellen sind durch einen CMOS-Transistor T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verbindet beid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Zellen miteinander und erlaubt den Austausch von Informatio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zwischen ih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Vor jeder Übertragung der Information in die EEPROM-Zelle muß diese gelöscht werden. Dazu dient der Transistor T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Von allen bisher beschriebenen Speicherzellen benötigt die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NVRAM-Zelle den größten Aufw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4. Dynamische MOS-Speicherzell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27" name="3.4-15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181160" y="1143000"/>
            <a:ext cx="6762600" cy="27846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85640" y="3857760"/>
            <a:ext cx="82011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1 Transistorzelle, kleinster Aufwand von allen betrachteten Zell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(1/4 Platzbedarf einer SRAM-Zel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Information wird in einem Kondensator gespeiche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ser Kondensator wird durch eine vergrößerte Drain-Zone gebildet, die durch eine dünne Isolierschicht vom Drain-Kontakt getrennt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Kapazität ca. 0,1 - 0,5 pF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speichert 100 000 - 150 000 Elektr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4. Dynamische MOS-Speicherzell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0880" y="1104840"/>
            <a:ext cx="8391600" cy="51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Les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 Speicherkapazität hat ungefähr die gleiche Größe wi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arasitäre Leitungskapazität der Bitleit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as Lesen erfolgt durch Ladungsvergleich zwisch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Leitungskapazität und Speicherkapazitä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blauf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unächst wird die Leitungskapazität vorgeladen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precharg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,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indem die Bitleitung kurz über T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mit +U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verbunden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um Lesen wird dann über A eine positive Spannung an das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ate des Speichertransistors gele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t die Speicherkapazität geladen, so findet ein Ausgleich mit de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Ladungsträgern der Bitleitung sta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severstärker am Ende der Bitleitung mißt diesen St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4. Dynamische MOS-Speicherzell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1104840"/>
            <a:ext cx="839160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chreib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urch Anlegen einer positiven Spannung U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wird der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peichertransistor lei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Liegt nun die Bitleitung B auf Mas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lektronen werden auf die Drain-Zone aufgebracht, der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peicherkondensator gela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Liegt die Bitleitung B auf U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lektronen werden von der Drain-Zone abgesaugt, der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peicherkondensator entla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7621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(Zuordnung log. 0 / log. 1 zu Ladung / keine Ladung ist rein willkürli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3.5 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68560" y="1104840"/>
            <a:ext cx="6680160" cy="50040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74640" y="1260360"/>
            <a:ext cx="812880" cy="2019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22560" y="1266840"/>
            <a:ext cx="812880" cy="200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448240" y="1257480"/>
            <a:ext cx="2082960" cy="2145960"/>
            <a:chOff x="5448240" y="1257480"/>
            <a:chExt cx="2082960" cy="2145960"/>
          </a:xfrm>
        </p:grpSpPr>
        <p:sp>
          <p:nvSpPr>
            <p:cNvPr id="338" name=""/>
            <p:cNvSpPr/>
            <p:nvPr/>
          </p:nvSpPr>
          <p:spPr>
            <a:xfrm>
              <a:off x="5448240" y="1257480"/>
              <a:ext cx="2082960" cy="2145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48240" y="1257480"/>
              <a:ext cx="2082960" cy="20062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00880" y="12636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91320" y="12636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75520" y="12636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65960" y="12762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48240" y="144144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48240" y="165744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48240" y="292716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48240" y="313056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5530680" y="1371600"/>
              <a:ext cx="317160" cy="342000"/>
              <a:chOff x="5530680" y="1371600"/>
              <a:chExt cx="317160" cy="342000"/>
            </a:xfrm>
          </p:grpSpPr>
          <p:sp>
            <p:nvSpPr>
              <p:cNvPr id="349" name=""/>
              <p:cNvSpPr/>
              <p:nvPr/>
            </p:nvSpPr>
            <p:spPr>
              <a:xfrm>
                <a:off x="553068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53068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2112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2112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30680" y="2844720"/>
              <a:ext cx="317160" cy="342720"/>
              <a:chOff x="5530680" y="2844720"/>
              <a:chExt cx="317160" cy="342720"/>
            </a:xfrm>
          </p:grpSpPr>
          <p:sp>
            <p:nvSpPr>
              <p:cNvPr id="354" name=""/>
              <p:cNvSpPr/>
              <p:nvPr/>
            </p:nvSpPr>
            <p:spPr>
              <a:xfrm>
                <a:off x="553068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3068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72112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72112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112160" y="1371600"/>
              <a:ext cx="317160" cy="342000"/>
              <a:chOff x="7112160" y="1371600"/>
              <a:chExt cx="317160" cy="342000"/>
            </a:xfrm>
          </p:grpSpPr>
          <p:sp>
            <p:nvSpPr>
              <p:cNvPr id="359" name=""/>
              <p:cNvSpPr/>
              <p:nvPr/>
            </p:nvSpPr>
            <p:spPr>
              <a:xfrm>
                <a:off x="711216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1216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30260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0260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7112160" y="2844720"/>
              <a:ext cx="317160" cy="342720"/>
              <a:chOff x="7112160" y="2844720"/>
              <a:chExt cx="317160" cy="342720"/>
            </a:xfrm>
          </p:grpSpPr>
          <p:sp>
            <p:nvSpPr>
              <p:cNvPr id="364" name=""/>
              <p:cNvSpPr/>
              <p:nvPr/>
            </p:nvSpPr>
            <p:spPr>
              <a:xfrm>
                <a:off x="711216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11216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0260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30260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5829840" y="1896840"/>
              <a:ext cx="1340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peicher-</a:t>
              </a:r>
              <a:br>
                <a:rPr sz="2000"/>
              </a:b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574640" y="3479760"/>
            <a:ext cx="800280" cy="102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09960" y="3429000"/>
            <a:ext cx="799920" cy="11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851040" y="1295280"/>
            <a:ext cx="2171520" cy="190440"/>
            <a:chOff x="851040" y="1295280"/>
            <a:chExt cx="2171520" cy="190440"/>
          </a:xfrm>
        </p:grpSpPr>
        <p:sp>
          <p:nvSpPr>
            <p:cNvPr id="372" name=""/>
            <p:cNvSpPr/>
            <p:nvPr/>
          </p:nvSpPr>
          <p:spPr>
            <a:xfrm>
              <a:off x="851040" y="138420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5400000">
              <a:off x="1815840" y="13078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851040" y="1486080"/>
            <a:ext cx="2171520" cy="190440"/>
            <a:chOff x="851040" y="1486080"/>
            <a:chExt cx="2171520" cy="190440"/>
          </a:xfrm>
        </p:grpSpPr>
        <p:sp>
          <p:nvSpPr>
            <p:cNvPr id="375" name=""/>
            <p:cNvSpPr/>
            <p:nvPr/>
          </p:nvSpPr>
          <p:spPr>
            <a:xfrm>
              <a:off x="851040" y="157500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5400000">
              <a:off x="1815840" y="14986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851040" y="2768760"/>
            <a:ext cx="2171520" cy="190440"/>
            <a:chOff x="851040" y="2768760"/>
            <a:chExt cx="2171520" cy="190440"/>
          </a:xfrm>
        </p:grpSpPr>
        <p:sp>
          <p:nvSpPr>
            <p:cNvPr id="378" name=""/>
            <p:cNvSpPr/>
            <p:nvPr/>
          </p:nvSpPr>
          <p:spPr>
            <a:xfrm>
              <a:off x="851040" y="28576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5400000">
              <a:off x="1815840" y="27813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851040" y="2959200"/>
            <a:ext cx="2171520" cy="190440"/>
            <a:chOff x="851040" y="2959200"/>
            <a:chExt cx="2171520" cy="190440"/>
          </a:xfrm>
        </p:grpSpPr>
        <p:sp>
          <p:nvSpPr>
            <p:cNvPr id="381" name=""/>
            <p:cNvSpPr/>
            <p:nvPr/>
          </p:nvSpPr>
          <p:spPr>
            <a:xfrm>
              <a:off x="851040" y="304812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00000">
              <a:off x="1815840" y="297180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838080" y="3683160"/>
            <a:ext cx="2171520" cy="190440"/>
            <a:chOff x="838080" y="3683160"/>
            <a:chExt cx="2171520" cy="190440"/>
          </a:xfrm>
        </p:grpSpPr>
        <p:sp>
          <p:nvSpPr>
            <p:cNvPr id="384" name=""/>
            <p:cNvSpPr/>
            <p:nvPr/>
          </p:nvSpPr>
          <p:spPr>
            <a:xfrm>
              <a:off x="838080" y="37720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5400000">
              <a:off x="1802880" y="36957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838080" y="3492360"/>
            <a:ext cx="2171520" cy="190440"/>
            <a:chOff x="838080" y="3492360"/>
            <a:chExt cx="2171520" cy="190440"/>
          </a:xfrm>
        </p:grpSpPr>
        <p:sp>
          <p:nvSpPr>
            <p:cNvPr id="387" name=""/>
            <p:cNvSpPr/>
            <p:nvPr/>
          </p:nvSpPr>
          <p:spPr>
            <a:xfrm>
              <a:off x="838080" y="35812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5400000">
              <a:off x="1802880" y="35049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838080" y="4140360"/>
            <a:ext cx="2171520" cy="190440"/>
            <a:chOff x="838080" y="4140360"/>
            <a:chExt cx="2171520" cy="190440"/>
          </a:xfrm>
        </p:grpSpPr>
        <p:sp>
          <p:nvSpPr>
            <p:cNvPr id="390" name=""/>
            <p:cNvSpPr/>
            <p:nvPr/>
          </p:nvSpPr>
          <p:spPr>
            <a:xfrm>
              <a:off x="838080" y="42292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1802880" y="41529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 flipH="1">
            <a:off x="3835080" y="14479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835080" y="166356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835080" y="293364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835080" y="313704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97560" y="203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203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54280" y="203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03320" y="38163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05040" y="38163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09680" y="4788000"/>
            <a:ext cx="1333800" cy="1155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euerlogik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ustei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w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84880" y="3809880"/>
            <a:ext cx="21207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altenauswahl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a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84880" y="4952880"/>
            <a:ext cx="2120760" cy="673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0088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913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755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6596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6286680" y="36133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8080" y="4406760"/>
            <a:ext cx="217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5400000">
            <a:off x="1803240" y="4330800"/>
            <a:ext cx="190800" cy="164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09880" y="3556080"/>
            <a:ext cx="158760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09880" y="3733920"/>
            <a:ext cx="157500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9880" y="443232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09880" y="421632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2158920" y="4508640"/>
            <a:ext cx="152640" cy="279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2374560" y="3276720"/>
            <a:ext cx="444600" cy="1511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543480" y="3390840"/>
            <a:ext cx="1892160" cy="1409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543480" y="4483080"/>
            <a:ext cx="1841400" cy="49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43480" y="5334120"/>
            <a:ext cx="1841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626080" y="4483080"/>
            <a:ext cx="329760" cy="1752480"/>
            <a:chOff x="5626080" y="4483080"/>
            <a:chExt cx="329760" cy="1752480"/>
          </a:xfrm>
        </p:grpSpPr>
        <p:sp>
          <p:nvSpPr>
            <p:cNvPr id="421" name=""/>
            <p:cNvSpPr/>
            <p:nvPr/>
          </p:nvSpPr>
          <p:spPr>
            <a:xfrm>
              <a:off x="5715000" y="44830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26080" y="51940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10800000">
              <a:off x="5765400" y="5207040"/>
              <a:ext cx="190440" cy="164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15000" y="5079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15000" y="54990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54680" y="5384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42080" y="5079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981760" y="4483080"/>
            <a:ext cx="329760" cy="1752480"/>
            <a:chOff x="5981760" y="4483080"/>
            <a:chExt cx="329760" cy="1752480"/>
          </a:xfrm>
        </p:grpSpPr>
        <p:sp>
          <p:nvSpPr>
            <p:cNvPr id="429" name=""/>
            <p:cNvSpPr/>
            <p:nvPr/>
          </p:nvSpPr>
          <p:spPr>
            <a:xfrm>
              <a:off x="6070680" y="44830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81760" y="51940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0800000">
              <a:off x="6121080" y="5207040"/>
              <a:ext cx="190440" cy="164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70680" y="5079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70680" y="54990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10360" y="5384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197760" y="5079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7112160" y="4483080"/>
            <a:ext cx="329760" cy="1752480"/>
            <a:chOff x="7112160" y="4483080"/>
            <a:chExt cx="329760" cy="1752480"/>
          </a:xfrm>
        </p:grpSpPr>
        <p:sp>
          <p:nvSpPr>
            <p:cNvPr id="437" name=""/>
            <p:cNvSpPr/>
            <p:nvPr/>
          </p:nvSpPr>
          <p:spPr>
            <a:xfrm>
              <a:off x="7201080" y="44830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12160" y="51940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0800000">
              <a:off x="7251480" y="5207040"/>
              <a:ext cx="190440" cy="164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201080" y="5079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201080" y="54990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0760" y="5384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28160" y="5079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7788240" y="3135240"/>
            <a:ext cx="124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e/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reib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tä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800840" y="139536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7530840" y="3314880"/>
            <a:ext cx="266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7429320" y="1422360"/>
            <a:ext cx="431640" cy="1396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51160" y="592452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41680" y="5931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14600" y="5931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374920" y="5931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71640" y="487692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71640" y="520704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71640" y="554976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71640" y="584208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2680" y="11858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2680" y="14018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0640" y="2671920"/>
            <a:ext cx="43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39840" y="286236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7320" y="3382920"/>
            <a:ext cx="45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7320" y="3573360"/>
            <a:ext cx="45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+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20040" y="4017960"/>
            <a:ext cx="49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79440" y="422100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17920" y="11034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384800" y="31478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248800" y="344016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15560" y="34401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2360" y="4697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5720" y="50148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9520" y="5357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2560" y="5662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1680" y="4743360"/>
            <a:ext cx="26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31640" y="5067360"/>
            <a:ext cx="29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1040" y="5391000"/>
            <a:ext cx="50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31640" y="5702400"/>
            <a:ext cx="27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3.5 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" y="1228680"/>
            <a:ext cx="8325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peichermatrix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atrixförmige Anordnung der Speicherz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wahl einer Zelle du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eilenauswahlleitungen Z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.. Z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altenauswahlleitungen 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.. 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inimierung der Anzahl Auswahlleitungen durch eine quadratische Matrix, d.h. l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3.5 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6560" y="1095480"/>
            <a:ext cx="805824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Auswahlmöglichke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Arial"/>
              </a:rPr>
              <a:t>a)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eilenauswahlleitung / Bitleitung als Z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/ 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Arial"/>
              </a:rPr>
              <a:t>b)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eilenauswahlleitung / Bitleitung, jedoch zwei Bitleitung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u einer bidirektionalen Leseleitung zusammengefaß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Arial"/>
              </a:rPr>
              <a:t>c)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Koinzidente Ansteu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3.5-2" descr=""/>
          <p:cNvPicPr/>
          <p:nvPr/>
        </p:nvPicPr>
        <p:blipFill>
          <a:blip r:embed="rId1">
            <a:lum contrast="20000"/>
          </a:blip>
          <a:srcRect l="525" t="2703" r="916" b="1684"/>
          <a:stretch/>
        </p:blipFill>
        <p:spPr>
          <a:xfrm>
            <a:off x="1095480" y="3324240"/>
            <a:ext cx="716256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3.5 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38120" y="1095480"/>
            <a:ext cx="842004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steigt die Anzahl der Speicherzellen pro Auswahl-leitung einen bestimmten Wert  </a:t>
            </a: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elektrische Probleme (Kapazitä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diesem Fall: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Aufteilen der Matrix in Untermatri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nnung der Zeilen- und Spaltenauswahlleitungen aus den Adressleit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ederwertige Adressbits bilden über Interfacetreiber (Treiberleistung, Pegelanpassung, Adresslatch) und einen1 aus n Decoder die Zeilenauswahllei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wählen eine Zeile der Speichermatrix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3.5 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09680" y="1057320"/>
            <a:ext cx="82962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nnung der Zeilen- und Spaltenauswahlleitungen aus den Adressleit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 die Auswahl einer ganzen Zeile in einer möglichst quadratischen Matrix werden i.A. erheblich mehr Speicherzellen angesprochen als aktuell ausgelesen werden müss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anzusprechenden bzw. auszulesen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alten durch einen Spaltenauswahl-Scha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r wird über Treiber und Decoder von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öherwertigen Adressbits gesteu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3.1  Einl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3800" y="1276200"/>
            <a:ext cx="76392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ls Arbeitsspeicher wird verwend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heute: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schließlich Halbleiter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nell, klein, zuverlässig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eisgünstig (&lt; 1 DM / M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rüher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ingkernspeicher (Magnetspeicher)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öhren, Rel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angsam, groß, te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.B. ¼ Mbyte Speichererweiterung einer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BM / 360-75 kostete 1967 1 Million D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3.5 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09680" y="1076400"/>
            <a:ext cx="839160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teuerlogik &amp; Bausteinauswah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CS (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chip select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) oder CE (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chip enable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Bausteinauswahl,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ird meist durch Adressdekoder aus den höchstwertigst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bits erzeug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R/W (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read/write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Auswahl Lesen oder Schreiben, nur bei RAMs,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teuert die Richtung der Schreib/Leseverstärker und die Art de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ellenansteu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OE (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output enable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Aktiviert die Ausgangstreiber an de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busschnittstelle (schaltet den Speicherbaustein als Quell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f den Datenbus, Tristate Trei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PGM (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Neuprogrammieren des Bausteins, nur EPROMs,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EPROMs, NVRAMs, über U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muß dann die Programmierspannung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12..21V) zugeführ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00280" y="1685880"/>
            <a:ext cx="314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28720" y="4010040"/>
            <a:ext cx="314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38080" y="5143680"/>
            <a:ext cx="48600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76400" y="28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880" y="16524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Beispiel: Selektieren einer Speicherzelle aufgrund </a:t>
            </a:r>
            <a:br>
              <a:rPr sz="2400"/>
            </a:b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der gegebenen Speicher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187720" y="5276880"/>
            <a:ext cx="2101680" cy="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608520" y="366552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 Wortleitun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hier: n=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993720" y="2446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vier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z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4070520" y="4352760"/>
            <a:ext cx="2476440" cy="752400"/>
            <a:chOff x="4070520" y="4352760"/>
            <a:chExt cx="2476440" cy="752400"/>
          </a:xfrm>
        </p:grpSpPr>
        <p:grpSp>
          <p:nvGrpSpPr>
            <p:cNvPr id="496" name=""/>
            <p:cNvGrpSpPr/>
            <p:nvPr/>
          </p:nvGrpSpPr>
          <p:grpSpPr>
            <a:xfrm>
              <a:off x="4070520" y="4352760"/>
              <a:ext cx="619200" cy="752400"/>
              <a:chOff x="4070520" y="4352760"/>
              <a:chExt cx="619200" cy="752400"/>
            </a:xfrm>
          </p:grpSpPr>
          <p:sp>
            <p:nvSpPr>
              <p:cNvPr id="497" name=""/>
              <p:cNvSpPr/>
              <p:nvPr/>
            </p:nvSpPr>
            <p:spPr>
              <a:xfrm>
                <a:off x="4070520" y="43527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251600" y="45622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42296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65880" y="46670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689720" y="4352760"/>
              <a:ext cx="619200" cy="752400"/>
              <a:chOff x="4689720" y="4352760"/>
              <a:chExt cx="619200" cy="752400"/>
            </a:xfrm>
          </p:grpSpPr>
          <p:sp>
            <p:nvSpPr>
              <p:cNvPr id="502" name=""/>
              <p:cNvSpPr/>
              <p:nvPr/>
            </p:nvSpPr>
            <p:spPr>
              <a:xfrm>
                <a:off x="4689720" y="43527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870800" y="45622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04216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185080" y="46670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5308920" y="4352760"/>
              <a:ext cx="619200" cy="752400"/>
              <a:chOff x="5308920" y="4352760"/>
              <a:chExt cx="619200" cy="752400"/>
            </a:xfrm>
          </p:grpSpPr>
          <p:sp>
            <p:nvSpPr>
              <p:cNvPr id="507" name=""/>
              <p:cNvSpPr/>
              <p:nvPr/>
            </p:nvSpPr>
            <p:spPr>
              <a:xfrm>
                <a:off x="5308920" y="43527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490000" y="45622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66136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804280" y="46670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5928120" y="4352760"/>
              <a:ext cx="618840" cy="752400"/>
              <a:chOff x="5928120" y="4352760"/>
              <a:chExt cx="618840" cy="752400"/>
            </a:xfrm>
          </p:grpSpPr>
          <p:sp>
            <p:nvSpPr>
              <p:cNvPr id="512" name=""/>
              <p:cNvSpPr/>
              <p:nvPr/>
            </p:nvSpPr>
            <p:spPr>
              <a:xfrm>
                <a:off x="5928120" y="4352760"/>
                <a:ext cx="61884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08840" y="4562280"/>
                <a:ext cx="31392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8020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423120" y="466704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6" name=""/>
          <p:cNvGrpSpPr/>
          <p:nvPr/>
        </p:nvGrpSpPr>
        <p:grpSpPr>
          <a:xfrm>
            <a:off x="4070520" y="3600360"/>
            <a:ext cx="2476440" cy="752400"/>
            <a:chOff x="4070520" y="3600360"/>
            <a:chExt cx="2476440" cy="752400"/>
          </a:xfrm>
        </p:grpSpPr>
        <p:grpSp>
          <p:nvGrpSpPr>
            <p:cNvPr id="517" name=""/>
            <p:cNvGrpSpPr/>
            <p:nvPr/>
          </p:nvGrpSpPr>
          <p:grpSpPr>
            <a:xfrm>
              <a:off x="4070520" y="3600360"/>
              <a:ext cx="619200" cy="752400"/>
              <a:chOff x="4070520" y="3600360"/>
              <a:chExt cx="619200" cy="752400"/>
            </a:xfrm>
          </p:grpSpPr>
          <p:sp>
            <p:nvSpPr>
              <p:cNvPr id="518" name=""/>
              <p:cNvSpPr/>
              <p:nvPr/>
            </p:nvSpPr>
            <p:spPr>
              <a:xfrm>
                <a:off x="4070520" y="36003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251600" y="38098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42296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65880" y="39146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4689720" y="3600360"/>
              <a:ext cx="619200" cy="752400"/>
              <a:chOff x="4689720" y="3600360"/>
              <a:chExt cx="619200" cy="752400"/>
            </a:xfrm>
          </p:grpSpPr>
          <p:sp>
            <p:nvSpPr>
              <p:cNvPr id="523" name=""/>
              <p:cNvSpPr/>
              <p:nvPr/>
            </p:nvSpPr>
            <p:spPr>
              <a:xfrm>
                <a:off x="4689720" y="36003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870800" y="38098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04216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185080" y="39146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5308920" y="3600360"/>
              <a:ext cx="619200" cy="752400"/>
              <a:chOff x="5308920" y="3600360"/>
              <a:chExt cx="619200" cy="752400"/>
            </a:xfrm>
          </p:grpSpPr>
          <p:sp>
            <p:nvSpPr>
              <p:cNvPr id="528" name=""/>
              <p:cNvSpPr/>
              <p:nvPr/>
            </p:nvSpPr>
            <p:spPr>
              <a:xfrm>
                <a:off x="5308920" y="36003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90000" y="38098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66136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804280" y="39146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5928120" y="3600360"/>
              <a:ext cx="618840" cy="752400"/>
              <a:chOff x="5928120" y="3600360"/>
              <a:chExt cx="618840" cy="752400"/>
            </a:xfrm>
          </p:grpSpPr>
          <p:sp>
            <p:nvSpPr>
              <p:cNvPr id="533" name=""/>
              <p:cNvSpPr/>
              <p:nvPr/>
            </p:nvSpPr>
            <p:spPr>
              <a:xfrm>
                <a:off x="5928120" y="3600360"/>
                <a:ext cx="61884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108840" y="3809880"/>
                <a:ext cx="31392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28020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23120" y="391464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7" name=""/>
          <p:cNvGrpSpPr/>
          <p:nvPr/>
        </p:nvGrpSpPr>
        <p:grpSpPr>
          <a:xfrm>
            <a:off x="4070520" y="2847960"/>
            <a:ext cx="618840" cy="752400"/>
            <a:chOff x="4070520" y="2847960"/>
            <a:chExt cx="618840" cy="752400"/>
          </a:xfrm>
        </p:grpSpPr>
        <p:sp>
          <p:nvSpPr>
            <p:cNvPr id="538" name=""/>
            <p:cNvSpPr/>
            <p:nvPr/>
          </p:nvSpPr>
          <p:spPr>
            <a:xfrm>
              <a:off x="4070520" y="2847960"/>
              <a:ext cx="618840" cy="75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251240" y="3057480"/>
              <a:ext cx="313920" cy="257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22600" y="2847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565520" y="3162240"/>
              <a:ext cx="12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4689360" y="2847960"/>
            <a:ext cx="619200" cy="752400"/>
            <a:chOff x="4689360" y="2847960"/>
            <a:chExt cx="619200" cy="752400"/>
          </a:xfrm>
        </p:grpSpPr>
        <p:sp>
          <p:nvSpPr>
            <p:cNvPr id="543" name=""/>
            <p:cNvSpPr/>
            <p:nvPr/>
          </p:nvSpPr>
          <p:spPr>
            <a:xfrm>
              <a:off x="4689360" y="2847960"/>
              <a:ext cx="619200" cy="75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0440" y="3057480"/>
              <a:ext cx="314280" cy="257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041800" y="2847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84720" y="316224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308560" y="2847960"/>
            <a:ext cx="619200" cy="752400"/>
            <a:chOff x="5308560" y="2847960"/>
            <a:chExt cx="619200" cy="752400"/>
          </a:xfrm>
        </p:grpSpPr>
        <p:sp>
          <p:nvSpPr>
            <p:cNvPr id="548" name=""/>
            <p:cNvSpPr/>
            <p:nvPr/>
          </p:nvSpPr>
          <p:spPr>
            <a:xfrm>
              <a:off x="5308560" y="2847960"/>
              <a:ext cx="619200" cy="75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489640" y="3057480"/>
              <a:ext cx="314280" cy="257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61000" y="2847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03920" y="316224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5927760" y="2847960"/>
            <a:ext cx="61920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08840" y="3057480"/>
            <a:ext cx="314280" cy="2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80200" y="2847960"/>
            <a:ext cx="0" cy="209520"/>
          </a:xfrm>
          <a:prstGeom prst="line">
            <a:avLst/>
          </a:prstGeom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423120" y="3162240"/>
            <a:ext cx="12384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4070520" y="2095560"/>
            <a:ext cx="2476440" cy="752400"/>
            <a:chOff x="4070520" y="2095560"/>
            <a:chExt cx="2476440" cy="752400"/>
          </a:xfrm>
        </p:grpSpPr>
        <p:grpSp>
          <p:nvGrpSpPr>
            <p:cNvPr id="557" name=""/>
            <p:cNvGrpSpPr/>
            <p:nvPr/>
          </p:nvGrpSpPr>
          <p:grpSpPr>
            <a:xfrm>
              <a:off x="4070520" y="2095560"/>
              <a:ext cx="619200" cy="752400"/>
              <a:chOff x="4070520" y="2095560"/>
              <a:chExt cx="619200" cy="752400"/>
            </a:xfrm>
          </p:grpSpPr>
          <p:sp>
            <p:nvSpPr>
              <p:cNvPr id="558" name=""/>
              <p:cNvSpPr/>
              <p:nvPr/>
            </p:nvSpPr>
            <p:spPr>
              <a:xfrm>
                <a:off x="4070520" y="20955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51600" y="23050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42296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565880" y="24098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4689720" y="2095560"/>
              <a:ext cx="619200" cy="752400"/>
              <a:chOff x="4689720" y="2095560"/>
              <a:chExt cx="619200" cy="752400"/>
            </a:xfrm>
          </p:grpSpPr>
          <p:sp>
            <p:nvSpPr>
              <p:cNvPr id="563" name=""/>
              <p:cNvSpPr/>
              <p:nvPr/>
            </p:nvSpPr>
            <p:spPr>
              <a:xfrm>
                <a:off x="4689720" y="20955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870800" y="23050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04216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85080" y="24098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5308920" y="2095560"/>
              <a:ext cx="619200" cy="752400"/>
              <a:chOff x="5308920" y="2095560"/>
              <a:chExt cx="619200" cy="752400"/>
            </a:xfrm>
          </p:grpSpPr>
          <p:sp>
            <p:nvSpPr>
              <p:cNvPr id="568" name=""/>
              <p:cNvSpPr/>
              <p:nvPr/>
            </p:nvSpPr>
            <p:spPr>
              <a:xfrm>
                <a:off x="5308920" y="20955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90000" y="23050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66136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804280" y="24098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5928120" y="2095560"/>
              <a:ext cx="618840" cy="752400"/>
              <a:chOff x="5928120" y="2095560"/>
              <a:chExt cx="618840" cy="752400"/>
            </a:xfrm>
          </p:grpSpPr>
          <p:sp>
            <p:nvSpPr>
              <p:cNvPr id="573" name=""/>
              <p:cNvSpPr/>
              <p:nvPr/>
            </p:nvSpPr>
            <p:spPr>
              <a:xfrm>
                <a:off x="5928120" y="2095560"/>
                <a:ext cx="61884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108840" y="2305080"/>
                <a:ext cx="31392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28020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423120" y="240984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7" name=""/>
          <p:cNvSpPr/>
          <p:nvPr/>
        </p:nvSpPr>
        <p:spPr>
          <a:xfrm>
            <a:off x="6242040" y="3114720"/>
            <a:ext cx="7128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550200" y="1905120"/>
            <a:ext cx="0" cy="3200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4070520" y="2838600"/>
            <a:ext cx="2628720" cy="936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89400" y="5105520"/>
            <a:ext cx="2524320" cy="6570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altenadressdekod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1-aus-N-Deko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rot="5400000">
            <a:off x="2269800" y="2952720"/>
            <a:ext cx="2943360" cy="657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lenadressdekod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1-aus-N-Deko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94120" y="5100480"/>
            <a:ext cx="3906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070520" y="4753080"/>
            <a:ext cx="0" cy="3906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019760" y="1812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010040" y="2556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19760" y="3308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019760" y="4060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38600" y="481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803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905440" y="4794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496200" y="4775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1898640" y="5495760"/>
            <a:ext cx="1162080" cy="371520"/>
            <a:chOff x="1898640" y="5495760"/>
            <a:chExt cx="1162080" cy="371520"/>
          </a:xfrm>
        </p:grpSpPr>
        <p:sp>
          <p:nvSpPr>
            <p:cNvPr id="593" name=""/>
            <p:cNvSpPr/>
            <p:nvPr/>
          </p:nvSpPr>
          <p:spPr>
            <a:xfrm>
              <a:off x="1898640" y="5495760"/>
              <a:ext cx="58104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79680" y="5495760"/>
              <a:ext cx="58104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 flipV="1">
            <a:off x="2762280" y="3355560"/>
            <a:ext cx="0" cy="212724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62280" y="3352680"/>
            <a:ext cx="650880" cy="0"/>
          </a:xfrm>
          <a:prstGeom prst="line">
            <a:avLst/>
          </a:prstGeom>
          <a:ln w="1908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187720" y="5276880"/>
            <a:ext cx="0" cy="21888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45680" y="492300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altenadresse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62920" y="31035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lenadresse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6480" y="130320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Bitleitun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hier: m=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6327720" y="2724120"/>
            <a:ext cx="80964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37240" y="3600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527880" y="4362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927760" y="1952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5308560" y="1942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4689360" y="1942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9" name="3.1-1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23800" y="1614600"/>
            <a:ext cx="809640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8120" y="1104840"/>
            <a:ext cx="8239320" cy="50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Speicherelement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: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1 Bit Speic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Speicherzelle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(-platz, -stelle):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feste Anzahl von Speicherelementen, die durch eine einzige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Adresse ausgewählt werden,  z.B. 8, 16, 32 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Speicherwort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: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maximale Anzahl von Speicherelementen, die in einem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Buszyklus zwischen </a:t>
            </a:r>
            <a:r>
              <a:rPr b="0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P und Speicher übertragen werden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können  </a:t>
            </a:r>
            <a:r>
              <a:rPr b="0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Speicherwortbreite = Datenbusbre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wahlfreier Zugriff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: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jede Speicherzelle kann direkt angesprochen werden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(ohne vorher andere Zellen ansprechen zu müsse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ie Selektion erfolgt über einen Adressdekoder.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ie Adresse wird in einen 1-aus-n Code umgeform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8120" y="1104840"/>
            <a:ext cx="8239320" cy="50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Organisation: </a:t>
            </a:r>
            <a:br>
              <a:rPr sz="2200"/>
            </a:br>
            <a:r>
              <a:rPr b="1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ie Organisation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eines Speicherbausteins bzw. eines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Speichers wird durch die Anzahl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seiner Speicherzellen und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ie Anzahl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der Speicherelemente / Zelle defini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Angabe in der Form:   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n x m 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0000"/>
                </a:solidFill>
                <a:latin typeface="Arial"/>
              </a:rPr>
              <a:t>4k x 8 Bi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peicher enthält </a:t>
            </a:r>
            <a:r>
              <a:rPr b="0" sz="2400" spc="-1" strike="noStrike">
                <a:solidFill>
                  <a:srgbClr val="cc0000"/>
                </a:solidFill>
                <a:latin typeface="Arial"/>
              </a:rPr>
              <a:t>4096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peicherzellen je </a:t>
            </a:r>
            <a:r>
              <a:rPr b="0" sz="2400" spc="-1" strike="noStrike">
                <a:solidFill>
                  <a:srgbClr val="cc0000"/>
                </a:solidFill>
                <a:latin typeface="Arial"/>
              </a:rPr>
              <a:t>8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bau aus </a:t>
            </a:r>
            <a:r>
              <a:rPr b="0" sz="2400" spc="-1" strike="noStrike">
                <a:solidFill>
                  <a:srgbClr val="cc0000"/>
                </a:solidFill>
                <a:latin typeface="Arial"/>
              </a:rPr>
              <a:t>acht 4k x 1 Bi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austeinen oder </a:t>
            </a:r>
            <a:r>
              <a:rPr b="0" sz="2400" spc="-1" strike="noStrike">
                <a:solidFill>
                  <a:srgbClr val="cc0000"/>
                </a:solidFill>
                <a:latin typeface="Arial"/>
              </a:rPr>
              <a:t>zwei 4k x 4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austeinen od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16-MBit-DRAM gibt es wahlweise mit ein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ganisation von 4Mx4, 2Mx8 oder 1Mx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8120" y="1104840"/>
            <a:ext cx="8239320" cy="52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Kapazität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: </a:t>
            </a:r>
            <a:br>
              <a:rPr sz="2200"/>
            </a:br>
            <a:r>
              <a:rPr b="0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Informationsmenge (in Anzahl Bit), die im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Speicher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untergebracht werden kann:  </a:t>
            </a:r>
            <a:r>
              <a:rPr b="1" sz="2200" spc="-1" strike="noStrike">
                <a:solidFill>
                  <a:srgbClr val="cc0000"/>
                </a:solidFill>
                <a:latin typeface="Arial"/>
              </a:rPr>
              <a:t>n </a:t>
            </a:r>
            <a:r>
              <a:rPr b="1" sz="2200" spc="-1" strike="noStrike">
                <a:solidFill>
                  <a:srgbClr val="cc0000"/>
                </a:solidFill>
                <a:latin typeface="Symbol"/>
                <a:ea typeface="Symbol"/>
              </a:rPr>
              <a:t></a:t>
            </a:r>
            <a:r>
              <a:rPr b="1" sz="2200" spc="-1" strike="noStrike">
                <a:solidFill>
                  <a:srgbClr val="cc0000"/>
                </a:solidFill>
                <a:latin typeface="Arial"/>
              </a:rPr>
              <a:t> m 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Größen zur Charakterisierung der Arbeitsgeschwindigkeit </a:t>
            </a:r>
            <a:br>
              <a:rPr sz="2200"/>
            </a:br>
            <a:r>
              <a:rPr b="1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eines Speicherbausteins: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2200" spc="-1" strike="noStrike">
                <a:solidFill>
                  <a:srgbClr val="3333cc"/>
                </a:solidFill>
                <a:latin typeface="Arial"/>
              </a:rPr>
              <a:t>Zugriffszeit (</a:t>
            </a:r>
            <a:r>
              <a:rPr b="1" i="1" sz="2200" spc="-1" strike="noStrike">
                <a:solidFill>
                  <a:srgbClr val="3333cc"/>
                </a:solidFill>
                <a:latin typeface="Arial"/>
              </a:rPr>
              <a:t>access time</a:t>
            </a:r>
            <a:r>
              <a:rPr b="1" sz="2200" spc="-1" strike="noStrike">
                <a:solidFill>
                  <a:srgbClr val="3333cc"/>
                </a:solidFill>
                <a:latin typeface="Arial"/>
              </a:rPr>
              <a:t>)</a:t>
            </a:r>
            <a:br>
              <a:rPr sz="2200"/>
            </a:br>
            <a:r>
              <a:rPr b="0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maximale Zeitdauer, die vom Anlegen einer Adresse an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en Speicher bis zur Ausgabe der gewünschten Daten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verge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3333cc"/>
                </a:solidFill>
                <a:latin typeface="Arial"/>
              </a:rPr>
              <a:t>Zykluszeit (</a:t>
            </a:r>
            <a:r>
              <a:rPr b="1" i="1" sz="2200" spc="-1" strike="noStrike">
                <a:solidFill>
                  <a:srgbClr val="3333cc"/>
                </a:solidFill>
                <a:latin typeface="Arial"/>
              </a:rPr>
              <a:t>cycle time</a:t>
            </a:r>
            <a:r>
              <a:rPr b="1" sz="2200" spc="-1" strike="noStrike">
                <a:solidFill>
                  <a:srgbClr val="3333cc"/>
                </a:solidFill>
                <a:latin typeface="Arial"/>
              </a:rPr>
              <a:t>):</a:t>
            </a:r>
            <a:br>
              <a:rPr sz="2200"/>
            </a:br>
            <a:r>
              <a:rPr b="1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minimale Zeitdauer, die zwischen zwei hintereinander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folgenden Aufschaltungen von Adressen an den Speicher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vergehen mu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itarbeiter-Dillmann</cp:lastModifiedBy>
  <cp:lastPrinted>2000-05-02T16:11:13Z</cp:lastPrinted>
  <dcterms:modified xsi:type="dcterms:W3CDTF">2002-03-07T12:11:13Z</dcterms:modified>
  <cp:revision>874</cp:revision>
  <dc:subject/>
  <dc:title>TI-2</dc:title>
</cp:coreProperties>
</file>