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6BBA829-CF82-4EBD-A102-99DABBDD1DD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äufig handelt es sich bei der Adresse um die  Anfangs- oder Endadresse eines Tabellenbereichs im Speicher. Viele Prozessoren stell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Möglichkeit, den Registerinhalt automatisch zu verändern (automatische Modifikation von Indexregiste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13A-437A-48D4-AACE-5B674ECE55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1. 15  Adressier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960" y="1125360"/>
            <a:ext cx="8352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ierungs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verschiedenen Möglichkeiten eines Prozessors die Adresse eines Operanden oder eines Sprungziels im Speicher zu bere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901"/>
              </a:spcBef>
              <a:tabLst>
                <a:tab algn="l" pos="0"/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r Operanden und Sprungziele absolu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Befehl vor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en müssen bereits zur Programmier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 festgelegt we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rogramme sin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geabhängig im 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0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abellenzugriffen im Speicher muß die Adress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Befehl geändert we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Festwert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Programmspeicher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1520" y="1181160"/>
            <a:ext cx="8334360" cy="29336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1717560"/>
            <a:ext cx="111780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3.   Explizite Register-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384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5640" y="4449600"/>
            <a:ext cx="8139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Ri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 (Register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3560" y="1717560"/>
            <a:ext cx="1117800" cy="4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73560" y="1717560"/>
            <a:ext cx="111780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9440" y="1717560"/>
            <a:ext cx="111744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2812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0800" y="1712880"/>
            <a:ext cx="1760760" cy="167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800" y="2009880"/>
            <a:ext cx="176076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800" y="2709720"/>
            <a:ext cx="176076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0800" y="1717560"/>
            <a:ext cx="6860880" cy="987480"/>
            <a:chOff x="550800" y="1717560"/>
            <a:chExt cx="6860880" cy="987480"/>
          </a:xfrm>
        </p:grpSpPr>
        <p:sp>
          <p:nvSpPr>
            <p:cNvPr id="122" name=""/>
            <p:cNvSpPr/>
            <p:nvPr/>
          </p:nvSpPr>
          <p:spPr>
            <a:xfrm>
              <a:off x="6294240" y="1717560"/>
              <a:ext cx="1117440" cy="47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800" y="2346120"/>
              <a:ext cx="1760400" cy="358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04720" y="2200320"/>
              <a:ext cx="4486320" cy="342720"/>
            </a:xfrm>
            <a:custGeom>
              <a:avLst/>
              <a:gdLst/>
              <a:ahLst/>
              <a:rect l="l" t="t" r="r" b="b"/>
              <a:pathLst>
                <a:path w="2076" h="216">
                  <a:moveTo>
                    <a:pt x="2076" y="0"/>
                  </a:moveTo>
                  <a:lnTo>
                    <a:pt x="2076" y="21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180120" y="13381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800" y="3405240"/>
            <a:ext cx="29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- oder Datenregister, Statusregister, ... usw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61000" y="357660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1.   Unmittelbar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120" y="1281240"/>
            <a:ext cx="820260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mmediate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Befehl enthält nicht die Adresse des Operanden oder einen Zeiger darauf, sondern den Operanden sel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und Operand belegen im Speicher hintereinanderfolgende Speicherw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&lt;Mnemo&gt;  #&lt;Operan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   EA = (PC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1.   Unmittelbar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4200" y="4368960"/>
            <a:ext cx="83106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DA   #$A3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ad accum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Lade den Akkumulator A mit dem Hexadezimalwert $A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9800" y="16239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62560" y="2055960"/>
            <a:ext cx="1760760" cy="1679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62560" y="3062160"/>
            <a:ext cx="1760760" cy="35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40" y="1181160"/>
            <a:ext cx="5745240" cy="29718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7480" y="167148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19320" y="12445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6600" y="2068560"/>
            <a:ext cx="1060560" cy="5158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9000" y="2068560"/>
            <a:ext cx="1060200" cy="5158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86080" y="2068560"/>
            <a:ext cx="1060560" cy="5158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1520" y="176364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91040" y="2347920"/>
            <a:ext cx="4000680" cy="1207800"/>
            <a:chOff x="4991040" y="2347920"/>
            <a:chExt cx="4000680" cy="1207800"/>
          </a:xfrm>
        </p:grpSpPr>
        <p:sp>
          <p:nvSpPr>
            <p:cNvPr id="143" name=""/>
            <p:cNvSpPr/>
            <p:nvPr/>
          </p:nvSpPr>
          <p:spPr>
            <a:xfrm>
              <a:off x="6262560" y="2352600"/>
              <a:ext cx="176076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cc"/>
                  </a:solidFill>
                  <a:latin typeface="Arial"/>
                </a:rPr>
                <a:t>Ope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34480" y="2347920"/>
              <a:ext cx="95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PC)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91040" y="2552400"/>
              <a:ext cx="0" cy="10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91040" y="2552760"/>
              <a:ext cx="1270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7520" y="2068560"/>
            <a:ext cx="8661240" cy="1919160"/>
            <a:chOff x="317520" y="2068560"/>
            <a:chExt cx="8661240" cy="1919160"/>
          </a:xfrm>
        </p:grpSpPr>
        <p:grpSp>
          <p:nvGrpSpPr>
            <p:cNvPr id="148" name=""/>
            <p:cNvGrpSpPr/>
            <p:nvPr/>
          </p:nvGrpSpPr>
          <p:grpSpPr>
            <a:xfrm>
              <a:off x="317520" y="2068560"/>
              <a:ext cx="8661240" cy="1919160"/>
              <a:chOff x="317520" y="2068560"/>
              <a:chExt cx="8661240" cy="19191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17520" y="2068560"/>
                <a:ext cx="8661240" cy="1919160"/>
                <a:chOff x="317520" y="2068560"/>
                <a:chExt cx="8661240" cy="1919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262560" y="2708280"/>
                  <a:ext cx="1760760" cy="358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Op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17520" y="2068560"/>
                  <a:ext cx="1060560" cy="515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Op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492360" y="3543480"/>
                  <a:ext cx="2362320" cy="444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Programmzähl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21520" y="2728800"/>
                  <a:ext cx="95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(PC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63640" y="2590920"/>
                  <a:ext cx="0" cy="119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63640" y="3794040"/>
                  <a:ext cx="2628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5010120" y="2886120"/>
                <a:ext cx="1270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 flipV="1">
              <a:off x="4990680" y="2885760"/>
              <a:ext cx="9720" cy="64116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2.   Direk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2480" y="1251000"/>
            <a:ext cx="78663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rect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Befehl enthält im Speicherwort nach dem OpCode die logische Adresse des Operanden, aber keine weiteren Vorschriften zu deren Manipulation, z.B. durch die Addition mit einem Register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&lt;Adres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((PC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 Fälle können unterschieden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2.1  Absolu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960" y="1147680"/>
            <a:ext cx="8142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xtended direct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Befehl enthält im Speicherwort, das dem OpCode folgt, die absolute, d.h. vollständige Adresse des Operanden im (logischen)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360" y="5205240"/>
            <a:ext cx="8093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MP  $07FE   (jump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ringe zur Adresse $07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2862360"/>
            <a:ext cx="12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23120" y="3284640"/>
            <a:ext cx="1942920" cy="1649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23120" y="3924360"/>
            <a:ext cx="1942920" cy="35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23120" y="4272120"/>
            <a:ext cx="1942920" cy="352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8440" y="3187800"/>
            <a:ext cx="5486400" cy="188892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2640" y="324324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360" y="4788000"/>
            <a:ext cx="18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9560" y="3673440"/>
            <a:ext cx="2814480" cy="488520"/>
            <a:chOff x="709560" y="3673440"/>
            <a:chExt cx="2814480" cy="488520"/>
          </a:xfrm>
        </p:grpSpPr>
        <p:sp>
          <p:nvSpPr>
            <p:cNvPr id="171" name=""/>
            <p:cNvSpPr/>
            <p:nvPr/>
          </p:nvSpPr>
          <p:spPr>
            <a:xfrm>
              <a:off x="709560" y="3673440"/>
              <a:ext cx="958320" cy="48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560" y="3673440"/>
              <a:ext cx="958320" cy="48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3680" y="3673440"/>
              <a:ext cx="959760" cy="4885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64280" y="3673440"/>
              <a:ext cx="959760" cy="4885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93760" y="3576600"/>
            <a:ext cx="7172280" cy="1446120"/>
            <a:chOff x="1193760" y="3576600"/>
            <a:chExt cx="7172280" cy="1446120"/>
          </a:xfrm>
        </p:grpSpPr>
        <p:sp>
          <p:nvSpPr>
            <p:cNvPr id="176" name=""/>
            <p:cNvSpPr/>
            <p:nvPr/>
          </p:nvSpPr>
          <p:spPr>
            <a:xfrm>
              <a:off x="6423120" y="3576600"/>
              <a:ext cx="1942920" cy="35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565440" y="4287960"/>
              <a:ext cx="2138040" cy="382680"/>
              <a:chOff x="3565440" y="4287960"/>
              <a:chExt cx="2138040" cy="382680"/>
            </a:xfrm>
          </p:grpSpPr>
          <p:sp>
            <p:nvSpPr>
              <p:cNvPr id="178" name=""/>
              <p:cNvSpPr/>
              <p:nvPr/>
            </p:nvSpPr>
            <p:spPr>
              <a:xfrm>
                <a:off x="3565440" y="4287960"/>
                <a:ext cx="2138040" cy="35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52880" y="4302360"/>
                <a:ext cx="121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dres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193760" y="4159080"/>
              <a:ext cx="0" cy="30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3760" y="4464000"/>
              <a:ext cx="237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43680" y="3755880"/>
              <a:ext cx="0" cy="53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43680" y="37368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65440" y="4654440"/>
              <a:ext cx="22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puffer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2.2  Seiten-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6800" y="1111320"/>
            <a:ext cx="808992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bsolute Adressierung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rect page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Befehl steht als Kurz-Adresse nur der niederwertige Teil der Operandenadres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Low-Adre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b4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ro-page-Adres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ihr wird der höherwertige Adressteil durch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 Anzahl von '0'-Bits ersetzt. Dadurch wir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Adressraum nur die "unterste Seite"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zero pag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spr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b4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Register-Adress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rect“ page regis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ihr wird der höherwertige Adressteil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 des Prozessors (DP-Register, direct pa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) zur Verfügung geste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3.  Register-indirek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4600" y="1332000"/>
            <a:ext cx="823104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register indirect address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enthält das durch seine Nummer im Register-Feld des OpCodes angegebene Adressregister die Adresse des Operan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poin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“Zeiger”, deshalb auch: Zeigeradress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&lt;Mnemo&gt; 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EA = 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92120" y="1219320"/>
            <a:ext cx="5486400" cy="28494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66720" y="1736640"/>
            <a:ext cx="960480" cy="5079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5960" y="2416320"/>
            <a:ext cx="2654280" cy="1533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3.  Register-indirek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040" y="4197240"/>
            <a:ext cx="82580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D   R1, (A0)  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Lade das Register R1 mit dem Inhalt des durch das Adressregister A0 gegebenen Speicherwor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9080" y="1087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46800" y="1701720"/>
            <a:ext cx="2273400" cy="2397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46800" y="2630520"/>
            <a:ext cx="2273400" cy="51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46800" y="3137040"/>
            <a:ext cx="2273400" cy="512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6320" y="13032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9480" y="1371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6200" y="1736640"/>
            <a:ext cx="958680" cy="50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6200" y="1736640"/>
            <a:ext cx="958680" cy="50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0200" y="1736640"/>
            <a:ext cx="960480" cy="5079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41600" y="3162240"/>
            <a:ext cx="2438640" cy="733320"/>
            <a:chOff x="3441600" y="3162240"/>
            <a:chExt cx="2438640" cy="733320"/>
          </a:xfrm>
        </p:grpSpPr>
        <p:sp>
          <p:nvSpPr>
            <p:cNvPr id="204" name=""/>
            <p:cNvSpPr/>
            <p:nvPr/>
          </p:nvSpPr>
          <p:spPr>
            <a:xfrm>
              <a:off x="3441600" y="3213000"/>
              <a:ext cx="59688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+ /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2960" y="3162240"/>
              <a:ext cx="172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ex- oder Basisregister,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tackpoint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69960" y="1736640"/>
            <a:ext cx="7050240" cy="1481040"/>
            <a:chOff x="1569960" y="1736640"/>
            <a:chExt cx="7050240" cy="1481040"/>
          </a:xfrm>
        </p:grpSpPr>
        <p:sp>
          <p:nvSpPr>
            <p:cNvPr id="207" name=""/>
            <p:cNvSpPr/>
            <p:nvPr/>
          </p:nvSpPr>
          <p:spPr>
            <a:xfrm>
              <a:off x="6346800" y="2287440"/>
              <a:ext cx="2273400" cy="51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9960" y="1736640"/>
              <a:ext cx="960480" cy="50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38360" y="2725560"/>
              <a:ext cx="2138400" cy="492120"/>
              <a:chOff x="3438360" y="2725560"/>
              <a:chExt cx="2138400" cy="492120"/>
            </a:xfrm>
          </p:grpSpPr>
          <p:sp>
            <p:nvSpPr>
              <p:cNvPr id="210" name=""/>
              <p:cNvSpPr/>
              <p:nvPr/>
            </p:nvSpPr>
            <p:spPr>
              <a:xfrm>
                <a:off x="3438360" y="2725560"/>
                <a:ext cx="2138400" cy="49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5800" y="2771640"/>
                <a:ext cx="12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dres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067360" y="252108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67360" y="25146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2260440"/>
              <a:ext cx="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68480" y="2921040"/>
              <a:ext cx="14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58720" y="2247840"/>
            <a:ext cx="2908440" cy="1257480"/>
            <a:chOff x="558720" y="2247840"/>
            <a:chExt cx="2908440" cy="1257480"/>
          </a:xfrm>
        </p:grpSpPr>
        <p:sp>
          <p:nvSpPr>
            <p:cNvPr id="217" name=""/>
            <p:cNvSpPr/>
            <p:nvPr/>
          </p:nvSpPr>
          <p:spPr>
            <a:xfrm>
              <a:off x="863640" y="2247840"/>
              <a:ext cx="0" cy="90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1040" y="3137040"/>
              <a:ext cx="2616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720" y="3137040"/>
              <a:ext cx="16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Stackpoin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873600" y="2054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3.  Register-indirek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9680" y="1123920"/>
            <a:ext cx="832464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der im Register stehenden Adresse handelt es sich oft um die Anfangs- oder Endadresse eines Tabellenbereichs im Speicher 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inhalt automatisch modifiz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400"/>
              </a:buClr>
              <a:buSzPct val="75000"/>
              <a:buFont typeface="Monotype Sorts" charset="2"/>
              <a:buChar char="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tincremen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r Ausführung des Befehls wir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halt des Registers (um 1) erhöht und zeigt dana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nachfolgende Speicherz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(Ri)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 (R0)+     (incr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Inkrementiere zunächst den Inhalt des Speicherwortes, das durch das Register R0 adressiert wird, und danach den Inhalt von R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3.  Register-indirek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760" y="1273320"/>
            <a:ext cx="830232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400"/>
              </a:buClr>
              <a:buSzPct val="75000"/>
              <a:buFont typeface="Monotype Sorts" charset="2"/>
              <a:buChar char=""/>
              <a:tabLst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edecremen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r der Ausführung des Befehls wird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des Registers erniedrigt und zeigt danach auf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ergehende Speicherz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-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(Ri)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R -(R0)   (cl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7800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krementiere zuerst den Inhalt des Registers R0 und lösche danach das Speicherwort, das durch R0 adressiert wi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ierungsarte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5200" y="1146240"/>
            <a:ext cx="833904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wird zur Laufzeit berechnet (dynamische Adressberechnung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200" y="2630520"/>
            <a:ext cx="45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blauf der Adressberechnung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6840" y="3267000"/>
            <a:ext cx="3355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im 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55640" y="3487680"/>
            <a:ext cx="7770240" cy="1458360"/>
            <a:chOff x="755640" y="3487680"/>
            <a:chExt cx="7770240" cy="1458360"/>
          </a:xfrm>
        </p:grpSpPr>
        <p:sp>
          <p:nvSpPr>
            <p:cNvPr id="58" name=""/>
            <p:cNvSpPr/>
            <p:nvPr/>
          </p:nvSpPr>
          <p:spPr>
            <a:xfrm>
              <a:off x="2546280" y="3724560"/>
              <a:ext cx="257400" cy="798480"/>
            </a:xfrm>
            <a:prstGeom prst="downArrow">
              <a:avLst>
                <a:gd name="adj1" fmla="val 49463"/>
                <a:gd name="adj2" fmla="val 8961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02680" y="3487680"/>
              <a:ext cx="382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dynamische Adressberechnung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(explizite, durch den Befehl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erlangte Adressrechnu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5640" y="4486320"/>
              <a:ext cx="3838320" cy="4597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ffektive, logische Adr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062720" y="4886280"/>
            <a:ext cx="7180200" cy="1260000"/>
            <a:chOff x="1062720" y="4886280"/>
            <a:chExt cx="7180200" cy="1260000"/>
          </a:xfrm>
        </p:grpSpPr>
        <p:sp>
          <p:nvSpPr>
            <p:cNvPr id="62" name=""/>
            <p:cNvSpPr/>
            <p:nvPr/>
          </p:nvSpPr>
          <p:spPr>
            <a:xfrm>
              <a:off x="2546280" y="4934160"/>
              <a:ext cx="257400" cy="731880"/>
            </a:xfrm>
            <a:prstGeom prst="downArrow">
              <a:avLst>
                <a:gd name="adj1" fmla="val 49463"/>
                <a:gd name="adj2" fmla="val 82141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04840" y="4886280"/>
              <a:ext cx="35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Speicherverwaltungseinheit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(virtuelle Speicherverwaltu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2720" y="5686560"/>
              <a:ext cx="322560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hysikalische Adr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4.  Indizier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1405080"/>
            <a:ext cx="757728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lative Adress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ihr wird die effektive Adresse durch die Addition des Inhalts eines Registers zu einem angegebenen Basiswert berechnet. (Adressdistanz zu einem Basiswert, Tabellenverarbei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dem, in welcher Form der Basiswert vorgegeben wir, kann man unterscheiden zwischen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4. 1 Speicher-relativ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360" y="1463760"/>
            <a:ext cx="845352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mory relative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der Basiswert als absolute Adresse im Befehl vor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&lt;Adresse&gt;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((PC) + 1) +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4.1  Speicher-relativ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4221000"/>
            <a:ext cx="8271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   R1,$A704(R0)  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ichere den Inhalt von R1 in das Speicherwort, dessen Adresse sich durch Addition des Inhaltes von R0 zur Basis $A704 ergib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2120" y="1219320"/>
            <a:ext cx="6197760" cy="28494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9880" y="1300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69240" y="1825560"/>
            <a:ext cx="1892160" cy="2054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69240" y="2622600"/>
            <a:ext cx="1892160" cy="44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69240" y="3056040"/>
            <a:ext cx="18921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6320" y="13240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5280" y="35686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200" y="1736640"/>
            <a:ext cx="939600" cy="39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6200" y="1736640"/>
            <a:ext cx="939600" cy="39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65280" y="1736640"/>
            <a:ext cx="941400" cy="3938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9040" y="1736640"/>
            <a:ext cx="941400" cy="3938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1000" y="1722600"/>
            <a:ext cx="21384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32040" y="132552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puffer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66960" y="2133720"/>
            <a:ext cx="6994440" cy="1899720"/>
            <a:chOff x="1866960" y="2133720"/>
            <a:chExt cx="6994440" cy="1899720"/>
          </a:xfrm>
        </p:grpSpPr>
        <p:sp>
          <p:nvSpPr>
            <p:cNvPr id="245" name=""/>
            <p:cNvSpPr/>
            <p:nvPr/>
          </p:nvSpPr>
          <p:spPr>
            <a:xfrm>
              <a:off x="5587920" y="3390840"/>
              <a:ext cx="119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dex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866960" y="2133720"/>
              <a:ext cx="6994440" cy="1439640"/>
              <a:chOff x="1866960" y="2133720"/>
              <a:chExt cx="6994440" cy="1439640"/>
            </a:xfrm>
          </p:grpSpPr>
          <p:sp>
            <p:nvSpPr>
              <p:cNvPr id="247" name=""/>
              <p:cNvSpPr/>
              <p:nvPr/>
            </p:nvSpPr>
            <p:spPr>
              <a:xfrm>
                <a:off x="372096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69240" y="2189160"/>
                <a:ext cx="1892160" cy="439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pera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76520" y="3081240"/>
                <a:ext cx="2138400" cy="49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79760" y="334008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2096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8924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9568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33920" y="3409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7040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9520" y="309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89240" y="3409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95680" y="3409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89520" y="3409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70400" y="3409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6960" y="2133720"/>
                <a:ext cx="0" cy="10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66960" y="3187800"/>
                <a:ext cx="161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16600" y="2286000"/>
                <a:ext cx="444240" cy="34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00480" y="2463840"/>
                <a:ext cx="80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0200" y="2219400"/>
                <a:ext cx="0" cy="24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245200" y="2616120"/>
                <a:ext cx="0" cy="47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60840" y="2463840"/>
                <a:ext cx="151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1581120" y="1736640"/>
            <a:ext cx="941400" cy="39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-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4.2  Register-relativ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840" y="1471680"/>
            <a:ext cx="83628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gister relative addressing, based mo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Basiswert befindet sich in einem Basisregister, auf das durch das BReg-Feld im OpCode verwiesen wird. Im Befehl wird ein Offset angegeben, der zum Inhalt des Basisregisters addier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&lt;Offset&gt;(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(Bi) + ((PC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4.2  Register-relativ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440" y="4087800"/>
            <a:ext cx="80215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R $A7(B0)   (cl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Lösche das Speicherwort, dessen Adresse sich durch die Addition des hexadezimalen Offsets $A7 zum Inhalt des Basisregisters B0 ergib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2120" y="1092240"/>
            <a:ext cx="6197760" cy="28494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9880" y="1173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69240" y="1698480"/>
            <a:ext cx="1892160" cy="2054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69240" y="2495520"/>
            <a:ext cx="1892160" cy="44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69240" y="2928960"/>
            <a:ext cx="18921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6320" y="11970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5280" y="3441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46200" y="1609560"/>
            <a:ext cx="2760120" cy="393840"/>
            <a:chOff x="646200" y="1609560"/>
            <a:chExt cx="2760120" cy="393840"/>
          </a:xfrm>
        </p:grpSpPr>
        <p:sp>
          <p:nvSpPr>
            <p:cNvPr id="281" name=""/>
            <p:cNvSpPr/>
            <p:nvPr/>
          </p:nvSpPr>
          <p:spPr>
            <a:xfrm>
              <a:off x="646200" y="1609560"/>
              <a:ext cx="93996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200" y="1609560"/>
              <a:ext cx="93996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51960" y="1609560"/>
              <a:ext cx="94176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64560" y="1609560"/>
              <a:ext cx="941760" cy="3938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591000" y="1595520"/>
            <a:ext cx="21384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4680" y="33019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19844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usp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866960" y="2006640"/>
            <a:ext cx="6994440" cy="1054080"/>
            <a:chOff x="1866960" y="2006640"/>
            <a:chExt cx="6994440" cy="1054080"/>
          </a:xfrm>
        </p:grpSpPr>
        <p:sp>
          <p:nvSpPr>
            <p:cNvPr id="289" name=""/>
            <p:cNvSpPr/>
            <p:nvPr/>
          </p:nvSpPr>
          <p:spPr>
            <a:xfrm>
              <a:off x="6969240" y="2062080"/>
              <a:ext cx="189216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66960" y="2006640"/>
              <a:ext cx="0" cy="10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3060720"/>
              <a:ext cx="161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6600" y="2158920"/>
              <a:ext cx="444240" cy="34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00480" y="2336760"/>
              <a:ext cx="8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0200" y="2092320"/>
              <a:ext cx="0" cy="24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245200" y="2489040"/>
              <a:ext cx="0" cy="4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0840" y="2336760"/>
              <a:ext cx="151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92360" y="2892600"/>
            <a:ext cx="222264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94240" y="1600200"/>
            <a:ext cx="25380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204480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/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4.3  Register-relative Adressierung mit Index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9520" y="1290600"/>
            <a:ext cx="8035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sed index mo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der Basiswert in einem Basisregister übergeben. Dazu wird der Inhalt eines Indexregisters addiert. Für dieses Indexregister kann wieder die automatische Veränderung „autoincrement/autodecrement“ gewählt werden. Zusätzlich kann häufig im Befehl ein Offset angegeben werden, der hinzuaddier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&lt;Mnemo&gt; &lt;Offset&gt;(Bi)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  EA = (Bi) + (Ii) + ((PC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4.3  Register-relative Adressierung mit Index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9040" y="4130640"/>
            <a:ext cx="85201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 $A7(B0)(I0)+   (decr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Dekrementiere das Speicherwort, dessen Adresse sich durch Addition der Inhalte der Register I0 und B0 zum Offset $A7 ergibt, und erhöhe danach den Inhalt des Registers I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2120" y="1092240"/>
            <a:ext cx="6197760" cy="28494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19880" y="1173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9240" y="1698480"/>
            <a:ext cx="1892160" cy="2054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69240" y="2495520"/>
            <a:ext cx="1892160" cy="44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9240" y="2928960"/>
            <a:ext cx="18921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6320" y="11970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40" y="360684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200" y="1609560"/>
            <a:ext cx="2788560" cy="393840"/>
            <a:chOff x="646200" y="1609560"/>
            <a:chExt cx="2788560" cy="393840"/>
          </a:xfrm>
        </p:grpSpPr>
        <p:sp>
          <p:nvSpPr>
            <p:cNvPr id="312" name=""/>
            <p:cNvSpPr/>
            <p:nvPr/>
          </p:nvSpPr>
          <p:spPr>
            <a:xfrm>
              <a:off x="646200" y="1609560"/>
              <a:ext cx="95040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6200" y="1609560"/>
              <a:ext cx="95040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0960" y="1609560"/>
              <a:ext cx="95220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2560" y="1609560"/>
              <a:ext cx="952200" cy="39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591000" y="1595520"/>
            <a:ext cx="21384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119844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usp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94240" y="1600200"/>
            <a:ext cx="40644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2360" y="2044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 /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857680"/>
            <a:ext cx="222228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318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13120" y="198756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2606760"/>
            <a:ext cx="18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870360" y="2615760"/>
            <a:ext cx="0" cy="4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0640" y="3086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174840" y="2062080"/>
            <a:ext cx="5686560" cy="897120"/>
            <a:chOff x="3174840" y="2062080"/>
            <a:chExt cx="5686560" cy="897120"/>
          </a:xfrm>
        </p:grpSpPr>
        <p:sp>
          <p:nvSpPr>
            <p:cNvPr id="327" name=""/>
            <p:cNvSpPr/>
            <p:nvPr/>
          </p:nvSpPr>
          <p:spPr>
            <a:xfrm>
              <a:off x="6969240" y="2062080"/>
              <a:ext cx="189216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16600" y="2158920"/>
              <a:ext cx="444240" cy="34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10200" y="2279520"/>
              <a:ext cx="79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10200" y="2092320"/>
              <a:ext cx="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245200" y="2489040"/>
              <a:ext cx="0" cy="4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0840" y="2336760"/>
              <a:ext cx="151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178080" y="24379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74840" y="2438280"/>
              <a:ext cx="189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692440" y="2006640"/>
            <a:ext cx="0" cy="85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33840" y="323532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2911320"/>
            <a:ext cx="222264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50800" y="3187800"/>
            <a:ext cx="393840" cy="21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/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5.   Programmzähler-relative Adressie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200" y="1281240"/>
            <a:ext cx="82598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program counter relative address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iesem Fall entsteht die effektive Adresse durch die Addition eines im Befehl angegebenen Offsets z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ktuellen Programmzähl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Adressierungsart erlaubt es, Programme im Hauptspeicher “frei” zu  verschie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&lt;Mnemo&gt;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&lt;Offset&gt;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oder nur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&lt;Mnemo&gt;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&lt;Offs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EA = (PC) + 2 + ((PC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5.  Programmzähler-relative Adressie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3880" y="4187880"/>
            <a:ext cx="80373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BRA $7FFF  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ng branch al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Verzweige “unbedingt” zu der Speicherzelle, deren Adressdistanz zum aktuellen Programmzähler $7FFF 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2120" y="1092240"/>
            <a:ext cx="6197760" cy="28494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9880" y="1173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69240" y="1698480"/>
            <a:ext cx="1892160" cy="2054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69240" y="2495520"/>
            <a:ext cx="1892160" cy="44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69240" y="2928960"/>
            <a:ext cx="18921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76320" y="11970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0040" y="3556080"/>
            <a:ext cx="15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6200" y="1609560"/>
            <a:ext cx="950760" cy="39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6200" y="1609560"/>
            <a:ext cx="950760" cy="39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60600" y="1609560"/>
            <a:ext cx="952560" cy="393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82920" y="1609560"/>
            <a:ext cx="952560" cy="393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91000" y="1595520"/>
            <a:ext cx="21384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94160" y="32828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19844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usp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200480" y="2062080"/>
            <a:ext cx="4660920" cy="897120"/>
            <a:chOff x="4200480" y="2062080"/>
            <a:chExt cx="4660920" cy="897120"/>
          </a:xfrm>
        </p:grpSpPr>
        <p:sp>
          <p:nvSpPr>
            <p:cNvPr id="358" name=""/>
            <p:cNvSpPr/>
            <p:nvPr/>
          </p:nvSpPr>
          <p:spPr>
            <a:xfrm flipV="1">
              <a:off x="5245200" y="2489040"/>
              <a:ext cx="0" cy="4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4200480" y="2062080"/>
              <a:ext cx="4660920" cy="439920"/>
              <a:chOff x="4200480" y="2062080"/>
              <a:chExt cx="4660920" cy="439920"/>
            </a:xfrm>
          </p:grpSpPr>
          <p:sp>
            <p:nvSpPr>
              <p:cNvPr id="360" name=""/>
              <p:cNvSpPr/>
              <p:nvPr/>
            </p:nvSpPr>
            <p:spPr>
              <a:xfrm>
                <a:off x="6969240" y="2062080"/>
                <a:ext cx="1892160" cy="439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70760" y="2136600"/>
                <a:ext cx="16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3333cc"/>
                    </a:solidFill>
                    <a:latin typeface="Arial"/>
                  </a:rPr>
                  <a:t>Operand/ 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16600" y="2158920"/>
                <a:ext cx="444240" cy="34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00480" y="2336760"/>
                <a:ext cx="80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10200" y="2092320"/>
                <a:ext cx="0" cy="24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60840" y="2336760"/>
                <a:ext cx="151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4203720" y="2959200"/>
            <a:ext cx="222264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94240" y="1600200"/>
            <a:ext cx="40644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92360" y="2044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 /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086280"/>
            <a:ext cx="285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60640" y="3086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03320" y="2031840"/>
            <a:ext cx="0" cy="104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dressierungsar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Die%20gebräuchlisten%20Adressierungsarten" descr=""/>
          <p:cNvPicPr/>
          <p:nvPr/>
        </p:nvPicPr>
        <p:blipFill>
          <a:blip r:embed="rId1">
            <a:lum contrast="20000"/>
          </a:blip>
          <a:srcRect l="2901" t="4445" r="6132" b="5052"/>
          <a:stretch/>
        </p:blipFill>
        <p:spPr>
          <a:xfrm>
            <a:off x="627120" y="1104840"/>
            <a:ext cx="7640640" cy="506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0560" y="1486080"/>
            <a:ext cx="1676520" cy="5997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8720" y="2162160"/>
            <a:ext cx="1676520" cy="8859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dressierungsar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440" y="1093680"/>
            <a:ext cx="84805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Register-Adres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steht bereits im Register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Speicherzugriff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B.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instufige Speicher-Adres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Adressberechnung zur Ermittlung der effektiv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notwendig, d.h. keine mehrfa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ugriffe zur Adressermitt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C.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Zweistufige Speicher-Adressierung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 sequentielle Adressberechnungen un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ugriffe. Ergebnis der ersten Berechnung liefer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einer Speicherzelle, deren Inhalt wieder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oder ein Offset zur weiteren Berechnung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1.  Implizi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4600" y="1228680"/>
            <a:ext cx="835488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inherente Adressierung, implied-, inherent addre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ummer, d.h. die effektive Adresse des angesprochenen Registers is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odiert im Operations-Fel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es OpCodes ent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Assemblerschreibweise:  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&lt;Mnemo&gt; A   (A Akkumulator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b400"/>
                </a:solidFill>
                <a:latin typeface="Arial"/>
              </a:rPr>
              <a:t>EA ist codiert im OpCode ent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71520" y="1181160"/>
            <a:ext cx="8334360" cy="29336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60520" y="1281240"/>
            <a:ext cx="1760400" cy="2111400"/>
            <a:chOff x="560520" y="1281240"/>
            <a:chExt cx="1760400" cy="2111400"/>
          </a:xfrm>
        </p:grpSpPr>
        <p:sp>
          <p:nvSpPr>
            <p:cNvPr id="75" name=""/>
            <p:cNvSpPr/>
            <p:nvPr/>
          </p:nvSpPr>
          <p:spPr>
            <a:xfrm>
              <a:off x="608040" y="1281240"/>
              <a:ext cx="16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egistersat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0520" y="1712880"/>
              <a:ext cx="1760400" cy="167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0520" y="2009880"/>
              <a:ext cx="1760400" cy="35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0520" y="2719440"/>
              <a:ext cx="1760400" cy="35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1.  Implizite 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800" y="4381560"/>
            <a:ext cx="81727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SRA  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gical shift right accumulat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Verschiebe den Inhalt des Akkumulators A eine Bitposition nach rech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3560" y="1717560"/>
            <a:ext cx="1117800" cy="4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3560" y="1717560"/>
            <a:ext cx="1117800" cy="473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97480" y="1717560"/>
            <a:ext cx="111780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12040" y="1717560"/>
            <a:ext cx="111744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80120" y="13381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60520" y="2219400"/>
            <a:ext cx="5126040" cy="504720"/>
            <a:chOff x="560520" y="2219400"/>
            <a:chExt cx="5126040" cy="504720"/>
          </a:xfrm>
        </p:grpSpPr>
        <p:sp>
          <p:nvSpPr>
            <p:cNvPr id="87" name=""/>
            <p:cNvSpPr/>
            <p:nvPr/>
          </p:nvSpPr>
          <p:spPr>
            <a:xfrm>
              <a:off x="2314440" y="2219400"/>
              <a:ext cx="3372120" cy="342720"/>
            </a:xfrm>
            <a:custGeom>
              <a:avLst/>
              <a:gdLst/>
              <a:ahLst/>
              <a:rect l="l" t="t" r="r" b="b"/>
              <a:pathLst>
                <a:path w="2076" h="216">
                  <a:moveTo>
                    <a:pt x="2076" y="0"/>
                  </a:moveTo>
                  <a:lnTo>
                    <a:pt x="2076" y="21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0520" y="2365200"/>
              <a:ext cx="1760400" cy="358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8800" y="3405240"/>
            <a:ext cx="29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- oder Datenregister, Statusregister, ... usw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61000" y="357660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2.   Flag-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5720" y="1320840"/>
            <a:ext cx="8209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ist ein Spezialfall der impliziten Adressierung. Bei ihr wird nicht ein ganzes Register angesprochen, sondern nur ein einzelnes Bit (Flag) in einem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E &lt;flag&gt;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Flag set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CL &lt;flag&gt;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Flag rückset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  EA ist codiert im OpCode ent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2.   Flag-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2880" y="3745080"/>
            <a:ext cx="774072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/CL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t / clear  interrupt flag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/CLC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t / clear carry fl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etzen / Zurücksetzen des Interrupt Enable Flags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zw. des Carry Flags.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1520" y="1343160"/>
            <a:ext cx="8334360" cy="199368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3560" y="1879560"/>
            <a:ext cx="1117800" cy="4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3560" y="1879560"/>
            <a:ext cx="1117800" cy="473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480" y="1879560"/>
            <a:ext cx="111780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12040" y="1879560"/>
            <a:ext cx="1117440" cy="4730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8680" y="1481040"/>
            <a:ext cx="37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rtatusregister, Maschinenstatus-W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520" y="1892160"/>
            <a:ext cx="2877840" cy="511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0120" y="15001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fehl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4720" y="2798640"/>
            <a:ext cx="19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47760" y="1892160"/>
            <a:ext cx="3538800" cy="965520"/>
            <a:chOff x="2147760" y="1892160"/>
            <a:chExt cx="3538800" cy="965520"/>
          </a:xfrm>
        </p:grpSpPr>
        <p:sp>
          <p:nvSpPr>
            <p:cNvPr id="105" name=""/>
            <p:cNvSpPr/>
            <p:nvPr/>
          </p:nvSpPr>
          <p:spPr>
            <a:xfrm>
              <a:off x="2362320" y="2362320"/>
              <a:ext cx="3324240" cy="495360"/>
            </a:xfrm>
            <a:custGeom>
              <a:avLst/>
              <a:gdLst/>
              <a:ahLst/>
              <a:rect l="l" t="t" r="r" b="b"/>
              <a:pathLst>
                <a:path w="2094" h="312">
                  <a:moveTo>
                    <a:pt x="2094" y="0"/>
                  </a:moveTo>
                  <a:lnTo>
                    <a:pt x="2094" y="312"/>
                  </a:lnTo>
                  <a:lnTo>
                    <a:pt x="0" y="306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47760" y="1892160"/>
              <a:ext cx="414360" cy="511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3.   Explizite Register-Adress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760" y="1170000"/>
            <a:ext cx="8075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gister operand address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dresse (Nummer) des Registers wird im Operandenfeld des Befehl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ssemblerschreibweise: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&lt;Mnemo&gt; Ri     (Register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400"/>
                </a:solidFill>
                <a:latin typeface="Arial"/>
              </a:rPr>
              <a:t>Effektive Adresse: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400"/>
                </a:solidFill>
                <a:latin typeface="Arial"/>
              </a:rPr>
              <a:t>EA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 R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Dekrementiere den Inhalt des Registers R0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7:33Z</dcterms:modified>
  <cp:revision>665</cp:revision>
  <dc:subject/>
  <dc:title>TI-2</dc:title>
</cp:coreProperties>
</file>