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2AB-5C1A-4B08-9718-545ACE5459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tomatische Modifikation von Indexregister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137360" cy="229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3800" y="3562200"/>
            <a:ext cx="8029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a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ost-In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höh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b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re-De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niedrig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c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Auto-Inkrement / Auto-Dekremen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Register mit 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476600"/>
            <a:ext cx="79722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Ausnutzung der Registerbreite, da das Register selbst nur noch um 1 inkrementiert bzw. dekrementiert werden mu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79840" y="2409840"/>
            <a:ext cx="4030560" cy="212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440" y="1114560"/>
            <a:ext cx="79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Indexregister wird vor der Auswertung je nach aktueller Datenlänge (1 Byte, 2 Byte, 4 Byte, 8 Byte) mit dem Faktor 1, 2, 4 oder 8 multipli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er (Laufzeit-)Stack “Kellerspeicher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760" y="1104840"/>
            <a:ext cx="83246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besonderer Speicherbereich der normalerweise im Arbeitsspeicher angelegt ist (software sta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er na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 Kellerprinzip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F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Last-in-first-ou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peichern des Prozessorstatus und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s beim Unterprogrammaufruf un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ruf von Unterbrechungs-Rout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zeitige Lagerung von Daten bei der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i modernen Prozessoren häufig mehrere getrennte Stackspeicher: System Stack, User Stack, Data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Hardware-Unterstützung des Stack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1352520"/>
            <a:ext cx="8134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Stapelzeiger, Stack Pointer SP)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zuletzt in den Stack eingetragenen Dat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Befehle zur Datenübertragung in den bzw. aus de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in den Stack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OP (PULL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vom Stack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1.5.3.Verwaltung des Stackregis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7440" y="573408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3836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19432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228600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7440" y="26290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298116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33242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36766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40291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7440" y="43624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57440" y="50482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7440" y="47149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57440" y="53816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9760" y="11714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2840" y="26290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52840" y="29811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2840" y="33148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2840" y="36669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2840" y="40194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10080" y="1171440"/>
            <a:ext cx="3733920" cy="4922640"/>
            <a:chOff x="5410080" y="1171440"/>
            <a:chExt cx="3733920" cy="4922640"/>
          </a:xfrm>
        </p:grpSpPr>
        <p:sp>
          <p:nvSpPr>
            <p:cNvPr id="166" name=""/>
            <p:cNvSpPr/>
            <p:nvPr/>
          </p:nvSpPr>
          <p:spPr>
            <a:xfrm>
              <a:off x="6477120" y="48229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410080" y="1171440"/>
              <a:ext cx="3610080" cy="4922640"/>
              <a:chOff x="5410080" y="1171440"/>
              <a:chExt cx="3610080" cy="492264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7120" y="5513400"/>
                <a:ext cx="2390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ach Ausführung des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efeh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7280" y="50022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7280" y="57276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410080" y="350532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410080" y="3076560"/>
                <a:ext cx="107640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3324240"/>
                <a:ext cx="1952640" cy="363600"/>
              </a:xfrm>
              <a:prstGeom prst="rect">
                <a:avLst/>
              </a:prstGeom>
              <a:solidFill>
                <a:srgbClr val="ffe67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8160" y="3314880"/>
                <a:ext cx="77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29240" y="1171440"/>
                <a:ext cx="259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Operand au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peichezelle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91240" y="2057400"/>
                <a:ext cx="183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ost-ink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77120" y="2857680"/>
                <a:ext cx="192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tackpoin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67320" y="2448000"/>
                <a:ext cx="9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cc66"/>
                    </a:solidFill>
                    <a:latin typeface="Arial"/>
                  </a:rPr>
                  <a:t>P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5896080" y="2885760"/>
                <a:ext cx="0" cy="5619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45744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171440"/>
            <a:ext cx="3114360" cy="4933800"/>
            <a:chOff x="343080" y="1171440"/>
            <a:chExt cx="3114360" cy="4933800"/>
          </a:xfrm>
        </p:grpSpPr>
        <p:sp>
          <p:nvSpPr>
            <p:cNvPr id="182" name=""/>
            <p:cNvSpPr/>
            <p:nvPr/>
          </p:nvSpPr>
          <p:spPr>
            <a:xfrm>
              <a:off x="409680" y="2981160"/>
              <a:ext cx="1952640" cy="363600"/>
            </a:xfrm>
            <a:prstGeom prst="rect">
              <a:avLst/>
            </a:prstGeom>
            <a:solidFill>
              <a:srgbClr val="ffe6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9811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n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6240" y="480996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5524560"/>
              <a:ext cx="250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800" y="5002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080" y="572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2600" y="3905280"/>
              <a:ext cx="10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cc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8880" y="3228840"/>
              <a:ext cx="0" cy="648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2600" y="3343320"/>
              <a:ext cx="11048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680" y="3362400"/>
              <a:ext cx="19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1680" y="3162240"/>
              <a:ext cx="1085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600" y="255276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ack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1171440"/>
              <a:ext cx="20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erand in Speicherzelle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574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-dek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Adress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1066680"/>
            <a:ext cx="852480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dresswerk hat die Aufgabe, nach den Vorgaben des Steuerwerks aus den Inhalten bestimmter Speicherzellen und Register die Adresse eines Operanden zu bi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erechnung durch di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gene Adress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erechnung findet parallel (im Pipelining-Verfahren)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n Aktivitäten des Operationswerks stat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 neben einfacher Adressrechnung auch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rechnung zur virtuellen Speicherverwaltung dur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üher oft seperater Baustein, heute in den Prozessor integr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xe Adresswerke zur virtuellen 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äter!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einfachen Adress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960" y="1076400"/>
            <a:ext cx="8429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-Addierer mit 2 Eing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A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satz (Adresse aus Basis- oder Index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uspuffer (absolute Adresse im Befehl 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distanz zu einem Basis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Adresse des aktuellen Befeh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(Adresse des aktuellen Opera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sgang kann über den Adresspuffer oder den Programmzähler auf Eingang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ückgekopp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und Programmzähler als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23920"/>
            <a:ext cx="806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kali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 mit 1,2,4,8,...  multipl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ßberechung für sukzesive Zugriff auf Byte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e, Doppelworte, Vierfachworte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ultiplikation mit positiver Zah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 nach links mit nachrückenden N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lisierung durch Schaltnetz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arrel-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Barrel-Shifter erlaubt die Verschiebung um n Bits parallel (d.h in einem einzigen Taktzyk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4 Bit Barrel-Shif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03480" y="1225440"/>
            <a:ext cx="6813360" cy="4135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448240"/>
            <a:ext cx="80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jede Aus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je nach Wert 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leitungen die Ein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cha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6236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3886200"/>
            <a:ext cx="790560" cy="304920"/>
          </a:xfrm>
          <a:custGeom>
            <a:avLst/>
            <a:gdLst/>
            <a:ahLst/>
            <a:rect l="l" t="t" r="r" b="b"/>
            <a:pathLst>
              <a:path w="498" h="192">
                <a:moveTo>
                  <a:pt x="498" y="0"/>
                </a:moveTo>
                <a:lnTo>
                  <a:pt x="0" y="7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0" y="3971880"/>
            <a:ext cx="790560" cy="2383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0640" y="4067280"/>
            <a:ext cx="780840" cy="1429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9800" y="402588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93696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30920" y="3841920"/>
            <a:ext cx="8892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2320" y="1384200"/>
            <a:ext cx="7977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1254240"/>
            <a:ext cx="82962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Steuerbus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heterogene Einzelleitungen, funktional n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usammenhängend, werden der Übersichtlichkei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egen jedoch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ls Bus dargest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Adressb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rsprung im Adresswerk (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wischenspeichern von Adressen im  Programmzähler (PC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efehlsadressen) und Adresspuffer (AP, Operandenadres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Adressbustreiber mit externem Adress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Datenbus: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bindet alle übrigen Komponenten (Rechenwerk, Adresswerk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euerwerk, Registersatz) zwecks Daten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Datenbuspuffer mit externem Daten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2880" y="1295280"/>
            <a:ext cx="791532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Problem bei dieser Datenbus-Architekt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öchstens ein Datentransfer gleichzeitig zwischen zwei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en Prozessor-Komponen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ur geringe Parallelitä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ei der Befehlsbearbeitung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99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spalten des internen Datenbus in mehrere Teilbuss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höherer Parallelität, höhere 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Aber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se erfordern ein erhebliches Maß an Chip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bau des internen Bussystems nicht beliebig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095480"/>
            <a:ext cx="4219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b0bff"/>
                </a:solidFill>
                <a:latin typeface="Arial"/>
              </a:rPr>
              <a:t>1. 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zufügen eines zweiten, getrennten Datenbusses zum Adress- und Steuer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 zu Aktion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/Registersat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as Befehl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em nächs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code Prefetch in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- Queu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64160" y="1204920"/>
            <a:ext cx="4327560" cy="4686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93000" y="2789280"/>
            <a:ext cx="162000" cy="2143080"/>
          </a:xfrm>
          <a:prstGeom prst="downArrow">
            <a:avLst>
              <a:gd name="adj1" fmla="val 42861"/>
              <a:gd name="adj2" fmla="val 114650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7588080" y="2199960"/>
            <a:ext cx="150840" cy="1239840"/>
          </a:xfrm>
          <a:prstGeom prst="downArrow">
            <a:avLst>
              <a:gd name="adj1" fmla="val 34620"/>
              <a:gd name="adj2" fmla="val 11027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095480"/>
            <a:ext cx="444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000"/>
                </a:solidFill>
                <a:latin typeface="Arial"/>
              </a:rPr>
              <a:t>2. Ergebnis-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r Bus, der die Ergebnisse des Rechenwerks in den Registersatz transpor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sierung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as Rechenwerk ein Ergebnis in den Registersatz transportiert, können die Hilfsregister mit dem nächsten Operanden gelad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326120" cy="4711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42320" y="2786040"/>
            <a:ext cx="161640" cy="2139840"/>
          </a:xfrm>
          <a:prstGeom prst="downArrow">
            <a:avLst>
              <a:gd name="adj1" fmla="val 42306"/>
              <a:gd name="adj2" fmla="val 13287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6200000">
            <a:off x="7607160" y="2220120"/>
            <a:ext cx="228600" cy="1220760"/>
          </a:xfrm>
          <a:prstGeom prst="downArrow">
            <a:avLst>
              <a:gd name="adj1" fmla="val 34620"/>
              <a:gd name="adj2" fmla="val 71647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4400" y="2835360"/>
            <a:ext cx="161640" cy="285840"/>
          </a:xfrm>
          <a:prstGeom prst="upArrow">
            <a:avLst>
              <a:gd name="adj1" fmla="val 45074"/>
              <a:gd name="adj2" fmla="val 10985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057280" y="1834920"/>
            <a:ext cx="168480" cy="244440"/>
          </a:xfrm>
          <a:prstGeom prst="upArrow">
            <a:avLst>
              <a:gd name="adj1" fmla="val 49056"/>
              <a:gd name="adj2" fmla="val 85734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78440" y="1917720"/>
            <a:ext cx="74520" cy="9460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445720" y="2367720"/>
            <a:ext cx="74520" cy="10033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095480"/>
            <a:ext cx="4552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6600"/>
                </a:solidFill>
                <a:latin typeface="Arial"/>
              </a:rPr>
              <a:t>3. Zweiter Operandenbus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de Operanden parallel an die ALU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e Parallelisierung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2 stammt immer aus dem Registersatz  (Bus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1 wahlweise aus dem Registersatz oder dem Datenbuspuffer (B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00760" y="1290600"/>
            <a:ext cx="3976560" cy="4257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61040" y="1962000"/>
            <a:ext cx="71280" cy="227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503680" y="3916440"/>
            <a:ext cx="88920" cy="58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0840" y="3676680"/>
            <a:ext cx="174600" cy="561960"/>
          </a:xfrm>
          <a:prstGeom prst="upArrow">
            <a:avLst>
              <a:gd name="adj1" fmla="val 50000"/>
              <a:gd name="adj2" fmla="val 8046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1040" y="1870200"/>
            <a:ext cx="291960" cy="187200"/>
          </a:xfrm>
          <a:prstGeom prst="rightArrow">
            <a:avLst>
              <a:gd name="adj1" fmla="val 50000"/>
              <a:gd name="adj2" fmla="val 3899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5080" y="57355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Hilfsregister entkoppelt Operand 1 vom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Rechenwerk-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9840" y="1238400"/>
            <a:ext cx="161640" cy="1571400"/>
          </a:xfrm>
          <a:custGeom>
            <a:avLst/>
            <a:gdLst>
              <a:gd name="textAreaLeft" fmla="*/ 0 w 161640"/>
              <a:gd name="textAreaRight" fmla="*/ 58320 w 16164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67160" y="179064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istersatz – Erweiterung des 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05000" y="3000240"/>
            <a:ext cx="4552920" cy="2971800"/>
          </a:xfrm>
          <a:prstGeom prst="rect">
            <a:avLst/>
          </a:prstGeom>
          <a:solidFill>
            <a:srgbClr val="a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1720" y="41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8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38600" y="4478400"/>
            <a:ext cx="1790640" cy="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33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4920" y="123660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04920" y="1778040"/>
            <a:ext cx="2743200" cy="1021680"/>
            <a:chOff x="2104920" y="1778040"/>
            <a:chExt cx="2743200" cy="1021680"/>
          </a:xfrm>
        </p:grpSpPr>
        <p:sp>
          <p:nvSpPr>
            <p:cNvPr id="58" name=""/>
            <p:cNvSpPr/>
            <p:nvPr/>
          </p:nvSpPr>
          <p:spPr>
            <a:xfrm>
              <a:off x="2104920" y="17780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19638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4920" y="216396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920" y="23666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920" y="25830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328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3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8240" y="3371760"/>
            <a:ext cx="199044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371760"/>
            <a:ext cx="199080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4610160"/>
            <a:ext cx="199800" cy="571320"/>
          </a:xfrm>
          <a:prstGeom prst="downArrow">
            <a:avLst>
              <a:gd name="adj1" fmla="val 50000"/>
              <a:gd name="adj2" fmla="val 71486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2400" y="5572080"/>
            <a:ext cx="190440" cy="657360"/>
          </a:xfrm>
          <a:prstGeom prst="downArrow">
            <a:avLst>
              <a:gd name="adj1" fmla="val 50000"/>
              <a:gd name="adj2" fmla="val 86295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25560" y="4005360"/>
            <a:ext cx="3279600" cy="861480"/>
            <a:chOff x="1825560" y="4005360"/>
            <a:chExt cx="3279600" cy="861480"/>
          </a:xfrm>
        </p:grpSpPr>
        <p:sp>
          <p:nvSpPr>
            <p:cNvPr id="70" name=""/>
            <p:cNvSpPr/>
            <p:nvPr/>
          </p:nvSpPr>
          <p:spPr>
            <a:xfrm>
              <a:off x="1825560" y="4009680"/>
              <a:ext cx="3279600" cy="857160"/>
            </a:xfrm>
            <a:custGeom>
              <a:avLst/>
              <a:gdLst>
                <a:gd name="textAreaLeft" fmla="*/ 721080 w 3279600"/>
                <a:gd name="textAreaRight" fmla="*/ 2558520 w 3279600"/>
                <a:gd name="textAreaTop" fmla="*/ 188280 h 857160"/>
                <a:gd name="textAreaBottom" fmla="*/ 66888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1800" y="4009680"/>
              <a:ext cx="1568520" cy="342720"/>
            </a:xfrm>
            <a:custGeom>
              <a:avLst/>
              <a:gdLst>
                <a:gd name="textAreaLeft" fmla="*/ 344880 w 1568520"/>
                <a:gd name="textAreaRight" fmla="*/ 1223640 w 15685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bff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23760" y="4005360"/>
              <a:ext cx="1525680" cy="4320"/>
            </a:xfrm>
            <a:prstGeom prst="line">
              <a:avLst/>
            </a:prstGeom>
            <a:ln w="28440">
              <a:solidFill>
                <a:srgbClr val="abf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280" y="440028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76440" y="5186520"/>
            <a:ext cx="1990800" cy="3902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28640"/>
            <a:ext cx="1238400" cy="2857680"/>
          </a:xfrm>
          <a:custGeom>
            <a:avLst/>
            <a:gdLst/>
            <a:ahLst/>
            <a:rect l="l" t="t" r="r" b="b"/>
            <a:pathLst>
              <a:path w="780" h="1830">
                <a:moveTo>
                  <a:pt x="780" y="1830"/>
                </a:moveTo>
                <a:lnTo>
                  <a:pt x="0" y="1830"/>
                </a:lnTo>
                <a:lnTo>
                  <a:pt x="0" y="0"/>
                </a:lnTo>
                <a:lnTo>
                  <a:pt x="672" y="6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2040" y="121752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1340640" y="1618200"/>
            <a:ext cx="201600" cy="1314720"/>
          </a:xfrm>
          <a:prstGeom prst="downArrow">
            <a:avLst>
              <a:gd name="adj1" fmla="val 43315"/>
              <a:gd name="adj2" fmla="val 56640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2238480"/>
            <a:ext cx="95400" cy="361944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4920" y="150192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62040" y="146520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95200" y="4457880"/>
            <a:ext cx="104760" cy="26953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537480" y="3931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95480"/>
            <a:ext cx="4353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4.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Zweiter Operandenbus /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Kombination der </a:t>
            </a:r>
            <a:r>
              <a:rPr b="0" sz="2200" spc="-1" strike="noStrike">
                <a:solidFill>
                  <a:srgbClr val="0b0bff"/>
                </a:solidFill>
                <a:latin typeface="Arial"/>
              </a:rPr>
              <a:t>Varianten 1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Variant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cc99"/>
                </a:solidFill>
                <a:latin typeface="Arial"/>
              </a:rPr>
              <a:t>Zusätzliche Verbindung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s Operanden/ Ergebnis Busses (Bus 1) zum Adress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Prefetch-Bus 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Parallele Rechenwerk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irekter Zugriff des Adresswerks auf Adressregister im Registersatzes ohne Umweg über Daten- oder Prefetch-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53160" y="1281240"/>
            <a:ext cx="3979800" cy="4324320"/>
            <a:chOff x="4853160" y="1281240"/>
            <a:chExt cx="3979800" cy="43243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853160" y="1281240"/>
              <a:ext cx="39798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18120" y="1971720"/>
              <a:ext cx="93240" cy="207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5379480" y="3716640"/>
              <a:ext cx="88560" cy="583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97640" y="3733920"/>
              <a:ext cx="183600" cy="304920"/>
            </a:xfrm>
            <a:prstGeom prst="upArrow">
              <a:avLst>
                <a:gd name="adj1" fmla="val 48509"/>
                <a:gd name="adj2" fmla="val 822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5205240" y="1858320"/>
              <a:ext cx="98640" cy="28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46920" y="2786400"/>
              <a:ext cx="213840" cy="1977840"/>
            </a:xfrm>
            <a:prstGeom prst="downArrow">
              <a:avLst>
                <a:gd name="adj1" fmla="val 33333"/>
                <a:gd name="adj2" fmla="val 79774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7468560" y="2253960"/>
              <a:ext cx="228600" cy="1115640"/>
            </a:xfrm>
            <a:prstGeom prst="downArrow">
              <a:avLst>
                <a:gd name="adj1" fmla="val 34620"/>
                <a:gd name="adj2" fmla="val 65477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042520" y="5602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us-Architektur des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0480" y="3228840"/>
            <a:ext cx="933480" cy="182520"/>
          </a:xfrm>
          <a:prstGeom prst="leftRightArrow">
            <a:avLst>
              <a:gd name="adj1" fmla="val 49565"/>
              <a:gd name="adj2" fmla="val 9568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1520" y="1209600"/>
            <a:ext cx="3790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xtrembeispiel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Bus (Bus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Operandenbuss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us 1 u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Ergebnisbus (Bu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register wird nu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em Operanden-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Ergebni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786" t="638" r="978" b="0"/>
          <a:stretch/>
        </p:blipFill>
        <p:spPr>
          <a:xfrm>
            <a:off x="4210200" y="1428840"/>
            <a:ext cx="4771800" cy="4429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6468480" y="1819440"/>
            <a:ext cx="74520" cy="252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16200000">
            <a:off x="6037200" y="3854160"/>
            <a:ext cx="83880" cy="90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05600" y="2957400"/>
            <a:ext cx="195480" cy="1978200"/>
          </a:xfrm>
          <a:prstGeom prst="downArrow">
            <a:avLst>
              <a:gd name="adj1" fmla="val 42222"/>
              <a:gd name="adj2" fmla="val 7716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16200000">
            <a:off x="7538040" y="2405520"/>
            <a:ext cx="228600" cy="1116000"/>
          </a:xfrm>
          <a:prstGeom prst="downArrow">
            <a:avLst>
              <a:gd name="adj1" fmla="val 34620"/>
              <a:gd name="adj2" fmla="val 6549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83360" y="3301920"/>
            <a:ext cx="196560" cy="324000"/>
          </a:xfrm>
          <a:prstGeom prst="upArrow">
            <a:avLst>
              <a:gd name="adj1" fmla="val 37093"/>
              <a:gd name="adj2" fmla="val 5898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23760" y="2016000"/>
            <a:ext cx="206640" cy="244440"/>
          </a:xfrm>
          <a:prstGeom prst="upArrow">
            <a:avLst>
              <a:gd name="adj1" fmla="val 41611"/>
              <a:gd name="adj2" fmla="val 66057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720" y="2098800"/>
            <a:ext cx="74520" cy="86976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907520" y="2467440"/>
            <a:ext cx="74520" cy="9367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0880" y="2898720"/>
            <a:ext cx="74520" cy="1936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546880" y="3879720"/>
            <a:ext cx="179280" cy="460440"/>
          </a:xfrm>
          <a:prstGeom prst="upArrow">
            <a:avLst>
              <a:gd name="adj1" fmla="val 39824"/>
              <a:gd name="adj2" fmla="val 7916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65840" y="3889440"/>
            <a:ext cx="217440" cy="669960"/>
          </a:xfrm>
          <a:prstGeom prst="upArrow">
            <a:avLst>
              <a:gd name="adj1" fmla="val 32852"/>
              <a:gd name="adj2" fmla="val 6352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5908680" y="3630600"/>
            <a:ext cx="83880" cy="180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1647720"/>
            <a:ext cx="162000" cy="3305160"/>
          </a:xfrm>
          <a:prstGeom prst="downArrow">
            <a:avLst>
              <a:gd name="adj1" fmla="val 42426"/>
              <a:gd name="adj2" fmla="val 10578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Die Systembus-Schnittstell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040" y="1305000"/>
            <a:ext cx="8048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ystembus-Schnittstelle (Bus Interface Unit, BIU) stellt die Verbindung des Mikroprozessors zu seiner Umwelt (Komponenten des Mikrorechnersystems)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fristiges Zwischenspeichern (Puffern) v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n und 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lektrische Anpassung der Signal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71880" y="2695680"/>
            <a:ext cx="49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4772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puffer (D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alle Daten von und zum Proz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langsam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gf. den Zugriff auf externen 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usgänge ggf. hochohmig (Tris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 (PC /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 der Speicherzelle des nächs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zuführend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nach jedem Befehl inkrementiert (auße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üngen und Unterprogrammaufrufen, dort wir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grammzähler gela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5360" y="1440000"/>
            <a:ext cx="7843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puffer (A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vom Adresswerk erzeu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adr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treib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wahlweise PC oder AP auf Adressbus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dressen ggf. hochohmig (Tri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040" y="1171440"/>
            <a:ext cx="8286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ter, die neben den Pegelzustän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high) u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w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dritten hochohmigen Zustand besitz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Zustand ist der Ausgang hochohmig gegen beide Betriebsspann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Gatter ermöglichen es, mehrere Gatterausgänge auf eine gemeinsame Leitung zusammenzuschalten (Bus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en auch durch Ausgangstreiber zur elektrischen Anpassung der Prozessorsignale an die Signal-spezifikationen, die von anderen Systemkomponenten verlan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28720" y="2257560"/>
            <a:ext cx="6924600" cy="2143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00200" y="3476520"/>
            <a:ext cx="809640" cy="1543320"/>
            <a:chOff x="1600200" y="3476520"/>
            <a:chExt cx="809640" cy="1543320"/>
          </a:xfrm>
        </p:grpSpPr>
        <p:sp>
          <p:nvSpPr>
            <p:cNvPr id="295" name=""/>
            <p:cNvSpPr/>
            <p:nvPr/>
          </p:nvSpPr>
          <p:spPr>
            <a:xfrm>
              <a:off x="176184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60020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3812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76480" y="383868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057560" y="3476520"/>
            <a:ext cx="333360" cy="1543320"/>
            <a:chOff x="4057560" y="3476520"/>
            <a:chExt cx="333360" cy="1543320"/>
          </a:xfrm>
        </p:grpSpPr>
        <p:sp>
          <p:nvSpPr>
            <p:cNvPr id="300" name=""/>
            <p:cNvSpPr/>
            <p:nvPr/>
          </p:nvSpPr>
          <p:spPr>
            <a:xfrm>
              <a:off x="421920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05756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900760" y="3114720"/>
            <a:ext cx="885600" cy="1905120"/>
            <a:chOff x="5900760" y="3114720"/>
            <a:chExt cx="885600" cy="1905120"/>
          </a:xfrm>
        </p:grpSpPr>
        <p:sp>
          <p:nvSpPr>
            <p:cNvPr id="303" name=""/>
            <p:cNvSpPr/>
            <p:nvPr/>
          </p:nvSpPr>
          <p:spPr>
            <a:xfrm>
              <a:off x="6615000" y="3476520"/>
              <a:ext cx="0" cy="8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45300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62760" y="3486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62760" y="3486240"/>
              <a:ext cx="0" cy="81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0076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62760" y="429588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8880" y="3114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38880" y="4305240"/>
              <a:ext cx="0" cy="7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150560" y="508968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0440" y="5089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ress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22400" y="50896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5752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098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440" y="389268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96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48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00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49320" y="22874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ystembus-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82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34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86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171440"/>
            <a:ext cx="8001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Regist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n mit kleiner Zugriffszeit (wenige 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zelner Register durch individu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 Regsiter-Anzahl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Adressdec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 der Adreßdecodierung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sind auf dem Prozessorchip untergebracht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raubendes Umschalten auf externe Daten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und Adresswege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8880" y="1438200"/>
            <a:ext cx="82868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trennte Ein-/Ausgäng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ual Port Speicher, zwis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 eines Registers und gleichzeitiges Les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4 allgemeine Register schreiben und bis zu 8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llgemeine Register le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dynamische Speicherz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mit Zusatzfunktionen: In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Null se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halt 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42840" y="1457280"/>
            <a:ext cx="1828800" cy="14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145728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2840" y="1676520"/>
            <a:ext cx="18288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840" y="272412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62800" y="1514520"/>
            <a:ext cx="380880" cy="3409920"/>
          </a:xfrm>
          <a:custGeom>
            <a:avLst/>
            <a:gdLst>
              <a:gd name="textAreaLeft" fmla="*/ 0 w 380880"/>
              <a:gd name="textAreaRight" fmla="*/ 137520 w 380880"/>
              <a:gd name="textAreaTop" fmla="*/ 88920 h 3409920"/>
              <a:gd name="textAreaBottom" fmla="*/ 3321000 h 34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4610160"/>
            <a:ext cx="1828800" cy="2188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1343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400" y="1571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0400" y="2629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2400" y="1611360"/>
            <a:ext cx="401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iverselle, allgemeine Register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general purpose regist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- und Adres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895400"/>
            <a:ext cx="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2840" y="189540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329256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60" y="324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2840" y="351144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680" y="3468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373392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160" y="3691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2840" y="395280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160" y="3909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2840" y="416880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640" y="4125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4344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42840" y="4387680"/>
            <a:ext cx="1828800" cy="2192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3480" y="437184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grammszä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3480" y="328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480" y="3495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viso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3480" y="3743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m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39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s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3480" y="41338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ctorbase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2840" y="458136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63920" y="2954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6880" y="3678120"/>
            <a:ext cx="40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alregister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cial purpose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2840" y="4829040"/>
            <a:ext cx="1828800" cy="219240"/>
          </a:xfrm>
          <a:prstGeom prst="rect">
            <a:avLst/>
          </a:prstGeom>
          <a:solidFill>
            <a:srgbClr val="e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3480" y="4800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euer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Daten- und Adress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90520"/>
            <a:ext cx="81057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modernen Prozessoren sind mehrere      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von Adressen (oder Teile davon) eines 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1.5.3.Spezialregister 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(special purpose register)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560" y="1181160"/>
            <a:ext cx="81439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zur speziellen Ver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für den Start von Interrupt-Behandlun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tack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Funktion von Basis- und Index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5640" y="1452600"/>
            <a:ext cx="5148360" cy="298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6280" y="48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dexregister enthält eine Distanz (Offset, Displacement) zu einer Basisadresse und dient zur Auswahl eines bestimmten Datums d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4840"/>
            <a:ext cx="35528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asisregister enthält die  Anfangsadresse ein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iese bleibt während der Bearbeitung des Speicherbereichs unver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3486240"/>
            <a:ext cx="1781280" cy="314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4600" y="1847880"/>
            <a:ext cx="177192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5-10-11T12:37:03Z</dcterms:modified>
  <cp:revision>528</cp:revision>
  <dc:subject/>
  <dc:title>TI2-Vl4</dc:title>
</cp:coreProperties>
</file>