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EEAA-096C-4B13-A4E3-A5E440C31D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1" lang="en-US" sz="24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Automatische Modifikation von Indexregister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62160"/>
            <a:ext cx="7137360" cy="2292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3800" y="3562200"/>
            <a:ext cx="802980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a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Post-Inkr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tomatische Erhöhung des Registerwerts um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nach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ierung einer Speicherz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b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Pre-Dekr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tomatische Erniedrigung des Registerwerts um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vo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ierung einer Speicherz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c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Auto-Inkrement / Auto-Dekrement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Register mit Skalier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476600"/>
            <a:ext cx="79722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sere Ausnutzung der Registerbreite, da das Register selbst nur noch um 1 inkrementiert bzw. dekrementiert werden muß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679840" y="2409840"/>
            <a:ext cx="4030560" cy="2124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4440" y="1114560"/>
            <a:ext cx="79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Indexregister wird vor der Auswertung je nach aktueller Datenlänge (1 Byte, 2 Byte, 4 Byte, 8 Byte) mit dem Faktor 1, 2, 4 oder 8 multipliz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er (Laufzeit-)Stack “Kellerspeicher”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760" y="1104840"/>
            <a:ext cx="832464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besonderer Speicherbereich der normalerweise im Arbeitsspeicher angelegt ist (software stack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er nach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m Kellerprinzip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IF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Last-in-first-ou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 organis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bspeichern des Prozessorstatus und d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s beim Unterprogrammaufruf un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ruf von Unterbrechungs-Rout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arameterüber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urzzeitige Lagerung von Daten bei der Ausfüh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ei modernen Prozessoren häufig mehrere getrennte Stackspeicher: System Stack, User Stack, Data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Hardware-Unterstützung des Stacks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760" y="1352520"/>
            <a:ext cx="81342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af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tackregister (Stapelzeiger, Stack Pointer SP):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hält di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des zuletzt in den Stack eingetragenen Datu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af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 Befehle zur Datenübertragung in den bzw. aus de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eines Registers wird in den Stack über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OP (PULL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eines Registers wird vom Stack ge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1.5.3.Verwaltung des Stackregiste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7440" y="5734080"/>
            <a:ext cx="1952640" cy="36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57440" y="1638360"/>
            <a:ext cx="1952640" cy="36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57440" y="1943280"/>
            <a:ext cx="1952640" cy="36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57440" y="228600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57440" y="2629080"/>
            <a:ext cx="1952640" cy="36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57440" y="298116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332424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36766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7440" y="402912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57440" y="43624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57440" y="50482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57440" y="471492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57440" y="538164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9760" y="117144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s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52840" y="262908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52840" y="298116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52840" y="331488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2840" y="366696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2840" y="40194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-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1614600"/>
            <a:ext cx="0" cy="45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410080" y="1171440"/>
            <a:ext cx="3733920" cy="4922640"/>
            <a:chOff x="5410080" y="1171440"/>
            <a:chExt cx="3733920" cy="4922640"/>
          </a:xfrm>
        </p:grpSpPr>
        <p:sp>
          <p:nvSpPr>
            <p:cNvPr id="166" name=""/>
            <p:cNvSpPr/>
            <p:nvPr/>
          </p:nvSpPr>
          <p:spPr>
            <a:xfrm>
              <a:off x="6477120" y="482292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dem Befehl und nach </a:t>
              </a:r>
              <a:r>
                <a:rPr b="0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usführung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des Befeh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410080" y="1171440"/>
              <a:ext cx="3610080" cy="4922640"/>
              <a:chOff x="5410080" y="1171440"/>
              <a:chExt cx="3610080" cy="492264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7120" y="5513400"/>
                <a:ext cx="2390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nach Ausführung des</a:t>
                </a:r>
                <a:br>
                  <a:rPr sz="1600"/>
                </a:b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Befeh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67280" y="5002200"/>
                <a:ext cx="524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67280" y="5727600"/>
                <a:ext cx="524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5410080" y="3505320"/>
                <a:ext cx="106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5410080" y="3076560"/>
                <a:ext cx="1076400" cy="257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7120" y="3324240"/>
                <a:ext cx="1952640" cy="363600"/>
              </a:xfrm>
              <a:prstGeom prst="rect">
                <a:avLst/>
              </a:prstGeom>
              <a:solidFill>
                <a:srgbClr val="ffe67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058160" y="3314880"/>
                <a:ext cx="77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429240" y="1171440"/>
                <a:ext cx="2590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Operand aus</a:t>
                </a:r>
                <a:br>
                  <a:rPr sz="1800"/>
                </a:b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Speichezelle 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91240" y="2057400"/>
                <a:ext cx="183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post-inkr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77120" y="2857680"/>
                <a:ext cx="192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Stackpoin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67320" y="2448000"/>
                <a:ext cx="96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cc66"/>
                    </a:solidFill>
                    <a:latin typeface="Arial"/>
                  </a:rPr>
                  <a:t>PU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5896080" y="2885760"/>
                <a:ext cx="0" cy="56196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3457440" y="1614600"/>
            <a:ext cx="0" cy="45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43080" y="1171440"/>
            <a:ext cx="3114360" cy="4933800"/>
            <a:chOff x="343080" y="1171440"/>
            <a:chExt cx="3114360" cy="4933800"/>
          </a:xfrm>
        </p:grpSpPr>
        <p:sp>
          <p:nvSpPr>
            <p:cNvPr id="182" name=""/>
            <p:cNvSpPr/>
            <p:nvPr/>
          </p:nvSpPr>
          <p:spPr>
            <a:xfrm>
              <a:off x="409680" y="2981160"/>
              <a:ext cx="1952640" cy="363600"/>
            </a:xfrm>
            <a:prstGeom prst="rect">
              <a:avLst/>
            </a:prstGeom>
            <a:solidFill>
              <a:srgbClr val="ffe6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0720" y="298116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n +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76240" y="480996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dem Befeh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14400" y="5524560"/>
              <a:ext cx="2505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und nach </a:t>
              </a:r>
              <a:r>
                <a:rPr b="0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usführung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des Befeh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800" y="50022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3080" y="572760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52600" y="3905280"/>
              <a:ext cx="105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cc"/>
                  </a:solidFill>
                  <a:latin typeface="Arial"/>
                </a:rPr>
                <a:t>PU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28880" y="3228840"/>
              <a:ext cx="0" cy="6480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52600" y="3343320"/>
              <a:ext cx="110484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9680" y="3362400"/>
              <a:ext cx="192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or dem Befeh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1680" y="3162240"/>
              <a:ext cx="10857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0600" y="2552760"/>
              <a:ext cx="20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tack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360" y="1171440"/>
              <a:ext cx="207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perand in Speicherzelle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205740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e-dek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as Adress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2440" y="1066680"/>
            <a:ext cx="8524800" cy="56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Adresswerk hat die Aufgabe, nach den Vorgaben des Steuerwerks aus den Inhalten bestimmter Speicherzellen und Register die Adresse eines Operanden zu bil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rüher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berechnung durch die 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Heut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gene Adresswerk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berechnung findet parallel (im Pipelining-Verfahren) zu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en Aktivitäten des Operationswerks stat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ührt neben einfacher Adressrechnung auch die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rechnung zur virtuellen Speicherverwaltung durch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rüher oft seperater Baustein, heute in den Prozessor integri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Komplexe Adresswerke zur virtuellen Speicherverwalt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äter!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Aufbau eines einfachen Adress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30400" y="1600200"/>
            <a:ext cx="688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Funktionswei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960" y="1076400"/>
            <a:ext cx="8429760" cy="50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-Addierer mit 2 Eingä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ingang A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satz (Adresse aus Basis- oder Index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enbuspuffer (absolute Adresse im Befehl od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bsolute Adressdistanz zu einem Basis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ingang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 (Adresse des aktuellen Befeh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puffer (Adresse des aktuellen Opera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Ausgang kann über den Adresspuffer oder den Programmzähler auf Eingang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rückgekoppe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puffer und Programmzähler als Akkumul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1" lang="en-US" sz="24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Skalier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123920"/>
            <a:ext cx="80676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kalierung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en mit 1,2,4,8,...  multiplizier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ßberechung für sukzesive Zugriff auf Bytes,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orte, Doppelworte, Vierfachworte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Multiplikation mit positiver Zah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schieben nach links mit nachrückenden Nu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alisierung durch Schaltnetz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arrel-Shi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Barrel-Shifter erlaubt die Verschiebung um n Bits parallel (d.h in einem einzigen Taktzykl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Aufbau eines 4 Bit Barrel-Shif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03480" y="1225440"/>
            <a:ext cx="6813360" cy="4135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3520" y="5448240"/>
            <a:ext cx="8057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 jede Ausgangsleitung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ird je nach Wert de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teuerleitungen die Eingangsleitung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2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3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schal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376236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91120" y="3886200"/>
            <a:ext cx="790560" cy="304920"/>
          </a:xfrm>
          <a:custGeom>
            <a:avLst/>
            <a:gdLst/>
            <a:ahLst/>
            <a:rect l="l" t="t" r="r" b="b"/>
            <a:pathLst>
              <a:path w="498" h="192">
                <a:moveTo>
                  <a:pt x="498" y="0"/>
                </a:moveTo>
                <a:lnTo>
                  <a:pt x="0" y="7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91200" y="3971880"/>
            <a:ext cx="790560" cy="238320"/>
          </a:xfrm>
          <a:custGeom>
            <a:avLst/>
            <a:gdLst/>
            <a:ahLst/>
            <a:rect l="l" t="t" r="r" b="b"/>
            <a:pathLst>
              <a:path w="498" h="186">
                <a:moveTo>
                  <a:pt x="498" y="0"/>
                </a:moveTo>
                <a:lnTo>
                  <a:pt x="0" y="6"/>
                </a:lnTo>
                <a:lnTo>
                  <a:pt x="6" y="1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00640" y="4067280"/>
            <a:ext cx="780840" cy="142920"/>
          </a:xfrm>
          <a:custGeom>
            <a:avLst/>
            <a:gdLst/>
            <a:ahLst/>
            <a:rect l="l" t="t" r="r" b="b"/>
            <a:pathLst>
              <a:path w="498" h="186">
                <a:moveTo>
                  <a:pt x="498" y="0"/>
                </a:moveTo>
                <a:lnTo>
                  <a:pt x="0" y="6"/>
                </a:lnTo>
                <a:lnTo>
                  <a:pt x="6" y="1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49800" y="4025880"/>
            <a:ext cx="88920" cy="88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936960"/>
            <a:ext cx="88920" cy="88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30920" y="3841920"/>
            <a:ext cx="88920" cy="885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2320" y="1384200"/>
            <a:ext cx="797724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0600" y="1254240"/>
            <a:ext cx="829620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Arial"/>
              </a:rPr>
              <a:t>Steuerbus: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heterogene Einzelleitungen, funktional nich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zusammenhängend, werden der Übersichtlichkei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wegen jedoch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ls Bus dargestel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Arial"/>
              </a:rPr>
              <a:t>Adressb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cc"/>
              </a:buClr>
              <a:buSzPct val="70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rsprung im Adresswerk (A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cc"/>
              </a:buClr>
              <a:buSzPct val="70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Zwischenspeichern von Adressen im  Programmzähler (PC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Befehlsadressen) und Adresspuffer (AP, Operandenadress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Über Adressbustreiber mit externem Adressbus verb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3333cc"/>
                </a:solidFill>
                <a:latin typeface="Arial"/>
              </a:rPr>
              <a:t>Datenbus: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verbindet alle übrigen Komponenten (Rechenwerk, Adresswerk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teuerwerk, Registersatz) zwecks Datentran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Über Datenbuspuffer mit externem Datenbus verb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2880" y="1295280"/>
            <a:ext cx="7915320" cy="46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cc3300"/>
                </a:solidFill>
                <a:latin typeface="Arial"/>
              </a:rPr>
              <a:t>Problem bei dieser Datenbus-Architektu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Höchstens ein Datentransfer gleichzeitig zwischen zwei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bestimmten Prozessor-Komponent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nur geringe Parallelitä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bei der Befehlsbearbeitung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cc99"/>
                </a:solidFill>
                <a:latin typeface="Arial"/>
              </a:rPr>
              <a:t>Lös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spalten des internen Datenbus in mehrere Teilbuss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höherer Parallelität, höhere Geschwind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Aber: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Busse erfordern ein erhebliches Maß an Chipflä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sbau des internen Bussystems nicht beliebig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095480"/>
            <a:ext cx="42195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b0bff"/>
                </a:solidFill>
                <a:latin typeface="Arial"/>
              </a:rPr>
              <a:t>1. Prefetch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zufügen eines zweiten, getrennten Datenbusses zum Adress- und Steuer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arallel zu Aktionen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enwerk/Registersatz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ann das Befehlsregist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 dem nächsten Befehl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laden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code Prefetch in ein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fetch- Queue wir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64160" y="1204920"/>
            <a:ext cx="4327560" cy="4686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993000" y="2789280"/>
            <a:ext cx="162000" cy="2143080"/>
          </a:xfrm>
          <a:prstGeom prst="downArrow">
            <a:avLst>
              <a:gd name="adj1" fmla="val 42861"/>
              <a:gd name="adj2" fmla="val 114650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rot="16200000">
            <a:off x="7588080" y="2199960"/>
            <a:ext cx="150840" cy="1239840"/>
          </a:xfrm>
          <a:prstGeom prst="downArrow">
            <a:avLst>
              <a:gd name="adj1" fmla="val 34620"/>
              <a:gd name="adj2" fmla="val 110279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095480"/>
            <a:ext cx="44481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000"/>
                </a:solidFill>
                <a:latin typeface="Arial"/>
              </a:rPr>
              <a:t>2. Ergebnis-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r Bus, der die Ergebnisse des Rechenwerks in den Registersatz transporti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allelisierung i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ährend das Rechenwerk ein Ergebnis in den Registersatz transportiert, können die Hilfsregister mit dem nächsten Operanden gelad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326120" cy="4711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042320" y="2786040"/>
            <a:ext cx="161640" cy="2139840"/>
          </a:xfrm>
          <a:prstGeom prst="downArrow">
            <a:avLst>
              <a:gd name="adj1" fmla="val 42306"/>
              <a:gd name="adj2" fmla="val 132873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rot="16200000">
            <a:off x="7607160" y="2220120"/>
            <a:ext cx="228600" cy="1220760"/>
          </a:xfrm>
          <a:prstGeom prst="downArrow">
            <a:avLst>
              <a:gd name="adj1" fmla="val 34620"/>
              <a:gd name="adj2" fmla="val 71647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4400" y="2835360"/>
            <a:ext cx="161640" cy="285840"/>
          </a:xfrm>
          <a:prstGeom prst="upArrow">
            <a:avLst>
              <a:gd name="adj1" fmla="val 45074"/>
              <a:gd name="adj2" fmla="val 109852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5057280" y="1834920"/>
            <a:ext cx="168480" cy="244440"/>
          </a:xfrm>
          <a:prstGeom prst="upArrow">
            <a:avLst>
              <a:gd name="adj1" fmla="val 49056"/>
              <a:gd name="adj2" fmla="val 85734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78440" y="1917720"/>
            <a:ext cx="74520" cy="94608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5445720" y="2367720"/>
            <a:ext cx="74520" cy="100332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1095480"/>
            <a:ext cx="45529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6600"/>
                </a:solidFill>
                <a:latin typeface="Arial"/>
              </a:rPr>
              <a:t>3. Zweiter Operandenbus</a:t>
            </a:r>
            <a:r>
              <a:rPr b="1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de Operanden parallel an die ALU 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ternative Parallelisierung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 2 stammt immer aus dem Registersatz  (Bus 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 1 wahlweise aus dem Registersatz oder dem Datenbuspuffer (Bu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00760" y="1290600"/>
            <a:ext cx="3976560" cy="4257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261040" y="1962000"/>
            <a:ext cx="71280" cy="227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5503680" y="3916440"/>
            <a:ext cx="88920" cy="583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0840" y="3676680"/>
            <a:ext cx="174600" cy="561960"/>
          </a:xfrm>
          <a:prstGeom prst="upArrow">
            <a:avLst>
              <a:gd name="adj1" fmla="val 50000"/>
              <a:gd name="adj2" fmla="val 8046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61040" y="1870200"/>
            <a:ext cx="291960" cy="187200"/>
          </a:xfrm>
          <a:prstGeom prst="rightArrow">
            <a:avLst>
              <a:gd name="adj1" fmla="val 50000"/>
              <a:gd name="adj2" fmla="val 3899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5080" y="573552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Hilfsregister entkoppelt Operand 1 vom Ergeb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Rechenwerk-Registersatz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19840" y="1238400"/>
            <a:ext cx="161640" cy="1571400"/>
          </a:xfrm>
          <a:custGeom>
            <a:avLst/>
            <a:gdLst>
              <a:gd name="textAreaLeft" fmla="*/ 0 w 161640"/>
              <a:gd name="textAreaRight" fmla="*/ 58320 w 161640"/>
              <a:gd name="textAreaTop" fmla="*/ 40680 h 1571400"/>
              <a:gd name="textAreaBottom" fmla="*/ 153072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67160" y="1790640"/>
            <a:ext cx="33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gistersatz – Erweiterung des Rechenwe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05000" y="3000240"/>
            <a:ext cx="4552920" cy="2971800"/>
          </a:xfrm>
          <a:prstGeom prst="rect">
            <a:avLst/>
          </a:prstGeom>
          <a:solidFill>
            <a:srgbClr val="a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81720" y="4162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m Steuerwe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28840" y="279072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638600" y="4478400"/>
            <a:ext cx="1790640" cy="7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33840" y="279072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04920" y="1236600"/>
            <a:ext cx="2743200" cy="27612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104920" y="1778040"/>
            <a:ext cx="2743200" cy="1021680"/>
            <a:chOff x="2104920" y="1778040"/>
            <a:chExt cx="2743200" cy="1021680"/>
          </a:xfrm>
        </p:grpSpPr>
        <p:sp>
          <p:nvSpPr>
            <p:cNvPr id="58" name=""/>
            <p:cNvSpPr/>
            <p:nvPr/>
          </p:nvSpPr>
          <p:spPr>
            <a:xfrm>
              <a:off x="2104920" y="1778040"/>
              <a:ext cx="2743200" cy="21636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4920" y="196380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04920" y="216396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04920" y="2366640"/>
              <a:ext cx="2743200" cy="21636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4920" y="258300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328840" y="345744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33840" y="345744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48240" y="3371760"/>
            <a:ext cx="1990440" cy="39060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erandenregist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19120" y="3371760"/>
            <a:ext cx="1990800" cy="39060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erandenregiste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62400" y="4610160"/>
            <a:ext cx="199800" cy="571320"/>
          </a:xfrm>
          <a:prstGeom prst="downArrow">
            <a:avLst>
              <a:gd name="adj1" fmla="val 50000"/>
              <a:gd name="adj2" fmla="val 71486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62400" y="5572080"/>
            <a:ext cx="190440" cy="657360"/>
          </a:xfrm>
          <a:prstGeom prst="downArrow">
            <a:avLst>
              <a:gd name="adj1" fmla="val 50000"/>
              <a:gd name="adj2" fmla="val 86295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825560" y="4005360"/>
            <a:ext cx="3279600" cy="861480"/>
            <a:chOff x="1825560" y="4005360"/>
            <a:chExt cx="3279600" cy="861480"/>
          </a:xfrm>
        </p:grpSpPr>
        <p:sp>
          <p:nvSpPr>
            <p:cNvPr id="70" name=""/>
            <p:cNvSpPr/>
            <p:nvPr/>
          </p:nvSpPr>
          <p:spPr>
            <a:xfrm>
              <a:off x="1825560" y="4009680"/>
              <a:ext cx="3279600" cy="857160"/>
            </a:xfrm>
            <a:custGeom>
              <a:avLst/>
              <a:gdLst>
                <a:gd name="textAreaLeft" fmla="*/ 721080 w 3279600"/>
                <a:gd name="textAreaRight" fmla="*/ 2558520 w 3279600"/>
                <a:gd name="textAreaTop" fmla="*/ 188280 h 857160"/>
                <a:gd name="textAreaBottom" fmla="*/ 66888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01800" y="4009680"/>
              <a:ext cx="1568520" cy="342720"/>
            </a:xfrm>
            <a:custGeom>
              <a:avLst/>
              <a:gdLst>
                <a:gd name="textAreaLeft" fmla="*/ 344880 w 1568520"/>
                <a:gd name="textAreaRight" fmla="*/ 1223640 w 15685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abff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23760" y="4005360"/>
              <a:ext cx="1525680" cy="4320"/>
            </a:xfrm>
            <a:prstGeom prst="line">
              <a:avLst/>
            </a:prstGeom>
            <a:ln w="28440">
              <a:solidFill>
                <a:srgbClr val="abff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22280" y="4400280"/>
              <a:ext cx="13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Arial"/>
                </a:rPr>
                <a:t>A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476440" y="5186520"/>
            <a:ext cx="1990800" cy="3902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ebnisregi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628640"/>
            <a:ext cx="1238400" cy="2857680"/>
          </a:xfrm>
          <a:custGeom>
            <a:avLst/>
            <a:gdLst/>
            <a:ahLst/>
            <a:rect l="l" t="t" r="r" b="b"/>
            <a:pathLst>
              <a:path w="780" h="1830">
                <a:moveTo>
                  <a:pt x="780" y="1830"/>
                </a:moveTo>
                <a:lnTo>
                  <a:pt x="0" y="1830"/>
                </a:lnTo>
                <a:lnTo>
                  <a:pt x="0" y="0"/>
                </a:lnTo>
                <a:lnTo>
                  <a:pt x="672" y="6"/>
                </a:lnTo>
              </a:path>
            </a:pathLst>
          </a:custGeom>
          <a:noFill/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62040" y="121752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zäh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16200000">
            <a:off x="1340640" y="1618200"/>
            <a:ext cx="201600" cy="1314720"/>
          </a:xfrm>
          <a:prstGeom prst="downArrow">
            <a:avLst>
              <a:gd name="adj1" fmla="val 43315"/>
              <a:gd name="adj2" fmla="val 56640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1480" y="2238480"/>
            <a:ext cx="95400" cy="3619440"/>
          </a:xfrm>
          <a:prstGeom prst="rect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04920" y="1501920"/>
            <a:ext cx="2743200" cy="27612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62040" y="1465200"/>
            <a:ext cx="16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us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2095200" y="4457880"/>
            <a:ext cx="104760" cy="2695320"/>
          </a:xfrm>
          <a:prstGeom prst="rect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537480" y="393192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r Daten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095480"/>
            <a:ext cx="435312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cc3300"/>
                </a:solidFill>
                <a:latin typeface="Arial"/>
              </a:rPr>
              <a:t>4. 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Zweiter Operandenbus / 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Prefetch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Kombination der </a:t>
            </a:r>
            <a:r>
              <a:rPr b="0" sz="2200" spc="-1" strike="noStrike">
                <a:solidFill>
                  <a:srgbClr val="0b0bff"/>
                </a:solidFill>
                <a:latin typeface="Arial"/>
              </a:rPr>
              <a:t>Varianten 1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Variant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cc99"/>
                </a:solidFill>
                <a:latin typeface="Arial"/>
              </a:rPr>
              <a:t>Zusätzliche Verbindung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des Operanden/ Ergebnis Busses (Bus 1) zum Adress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Prefetch-Bus  </a:t>
            </a:r>
            <a:r>
              <a:rPr b="0" lang="de-DE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Parallele Rechenwerk-Operatio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Direkter Zugriff des Adresswerks auf Adressregister im Registersatzes ohne Umweg über Daten- oder Prefetch-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853160" y="1281240"/>
            <a:ext cx="3979800" cy="4324320"/>
            <a:chOff x="4853160" y="1281240"/>
            <a:chExt cx="3979800" cy="432432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4853160" y="1281240"/>
              <a:ext cx="3979800" cy="43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118120" y="1971720"/>
              <a:ext cx="93240" cy="2079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5379480" y="3716640"/>
              <a:ext cx="88560" cy="583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97640" y="3733920"/>
              <a:ext cx="183600" cy="304920"/>
            </a:xfrm>
            <a:prstGeom prst="upArrow">
              <a:avLst>
                <a:gd name="adj1" fmla="val 48509"/>
                <a:gd name="adj2" fmla="val 8223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5205240" y="1858320"/>
              <a:ext cx="98640" cy="286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46920" y="2786400"/>
              <a:ext cx="213840" cy="1977840"/>
            </a:xfrm>
            <a:prstGeom prst="downArrow">
              <a:avLst>
                <a:gd name="adj1" fmla="val 33333"/>
                <a:gd name="adj2" fmla="val 79774"/>
              </a:avLst>
            </a:prstGeom>
            <a:solidFill>
              <a:srgbClr val="0b0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rot="16200000">
              <a:off x="7468560" y="2253960"/>
              <a:ext cx="228600" cy="1115640"/>
            </a:xfrm>
            <a:prstGeom prst="downArrow">
              <a:avLst>
                <a:gd name="adj1" fmla="val 34620"/>
                <a:gd name="adj2" fmla="val 65477"/>
              </a:avLst>
            </a:prstGeom>
            <a:solidFill>
              <a:srgbClr val="0b0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042520" y="560232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us-Architektur des 80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10480" y="3228840"/>
            <a:ext cx="933480" cy="182520"/>
          </a:xfrm>
          <a:prstGeom prst="leftRightArrow">
            <a:avLst>
              <a:gd name="adj1" fmla="val 49565"/>
              <a:gd name="adj2" fmla="val 9568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1520" y="1209600"/>
            <a:ext cx="37908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Arial"/>
              </a:rPr>
              <a:t>5.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Extrembeispiel</a:t>
            </a:r>
            <a:r>
              <a:rPr b="1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199"/>
              </a:spcBef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bination a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fetch Bus (Bus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wei Operandenbuss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Bus 1 un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Ergebnisbus (Bus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lfsregister wird nur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leichem Operanden-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Ergebnisregist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786" t="638" r="978" b="0"/>
          <a:stretch/>
        </p:blipFill>
        <p:spPr>
          <a:xfrm>
            <a:off x="4210200" y="1428840"/>
            <a:ext cx="4771800" cy="4429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H="1">
            <a:off x="6468480" y="1819440"/>
            <a:ext cx="74520" cy="252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rot="16200000">
            <a:off x="6037200" y="3854160"/>
            <a:ext cx="83880" cy="903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05600" y="2957400"/>
            <a:ext cx="195480" cy="1978200"/>
          </a:xfrm>
          <a:prstGeom prst="downArrow">
            <a:avLst>
              <a:gd name="adj1" fmla="val 42222"/>
              <a:gd name="adj2" fmla="val 77163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rot="16200000">
            <a:off x="7538040" y="2405520"/>
            <a:ext cx="228600" cy="1116000"/>
          </a:xfrm>
          <a:prstGeom prst="downArrow">
            <a:avLst>
              <a:gd name="adj1" fmla="val 34620"/>
              <a:gd name="adj2" fmla="val 65499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83360" y="3301920"/>
            <a:ext cx="196560" cy="324000"/>
          </a:xfrm>
          <a:prstGeom prst="upArrow">
            <a:avLst>
              <a:gd name="adj1" fmla="val 37093"/>
              <a:gd name="adj2" fmla="val 58982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523760" y="2016000"/>
            <a:ext cx="206640" cy="244440"/>
          </a:xfrm>
          <a:prstGeom prst="upArrow">
            <a:avLst>
              <a:gd name="adj1" fmla="val 41611"/>
              <a:gd name="adj2" fmla="val 66057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73720" y="2098800"/>
            <a:ext cx="74520" cy="86976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4907520" y="2467440"/>
            <a:ext cx="74520" cy="93672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0880" y="2898720"/>
            <a:ext cx="74520" cy="19368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546880" y="3879720"/>
            <a:ext cx="179280" cy="460440"/>
          </a:xfrm>
          <a:prstGeom prst="upArrow">
            <a:avLst>
              <a:gd name="adj1" fmla="val 39824"/>
              <a:gd name="adj2" fmla="val 7916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65840" y="3889440"/>
            <a:ext cx="217440" cy="669960"/>
          </a:xfrm>
          <a:prstGeom prst="upArrow">
            <a:avLst>
              <a:gd name="adj1" fmla="val 32852"/>
              <a:gd name="adj2" fmla="val 6352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rot="16200000">
            <a:off x="5908680" y="3630600"/>
            <a:ext cx="83880" cy="1807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1647720"/>
            <a:ext cx="162000" cy="3305160"/>
          </a:xfrm>
          <a:prstGeom prst="downArrow">
            <a:avLst>
              <a:gd name="adj1" fmla="val 42426"/>
              <a:gd name="adj2" fmla="val 10578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171440"/>
            <a:ext cx="8001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Arial"/>
              </a:rPr>
              <a:t>Regist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zellen mit kleiner Zugriffszeit (wenige n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wahl einzelner Register durch individuell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leine Regsiter-Anzahl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e Adressdeco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forderlich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eit der Adreßdecodierung entfä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sind auf dem Prozessorchip untergebracht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eitraubendes Umschalten auf externe Daten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und Adresswege entfä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8880" y="1438200"/>
            <a:ext cx="82868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trennte Ein-/Ausgäng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ual Port Speicher, zwisch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gangs- und Ausgangsbus gehän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en eines Registers und gleichzeitiges Les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s anderen Registers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66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Heutige superskalar-Prozessoren: pro 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4 allgemeine Register schreiben und bis zu 8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allgemeine Register les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dynamische Speicherzell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Refresh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mit Zusatzfunktionen: Inkrementie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krementie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Null se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halt versch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42840" y="1457280"/>
            <a:ext cx="1828800" cy="148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2840" y="1457280"/>
            <a:ext cx="1828800" cy="219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42840" y="1676520"/>
            <a:ext cx="1828800" cy="218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840" y="2724120"/>
            <a:ext cx="1828800" cy="219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62800" y="1514520"/>
            <a:ext cx="380880" cy="3409920"/>
          </a:xfrm>
          <a:custGeom>
            <a:avLst/>
            <a:gdLst>
              <a:gd name="textAreaLeft" fmla="*/ 0 w 380880"/>
              <a:gd name="textAreaRight" fmla="*/ 137520 w 380880"/>
              <a:gd name="textAreaTop" fmla="*/ 88920 h 3409920"/>
              <a:gd name="textAreaBottom" fmla="*/ 3321000 h 340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2840" y="4610160"/>
            <a:ext cx="1828800" cy="21888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0400" y="134316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0400" y="157176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0400" y="26290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22400" y="1611360"/>
            <a:ext cx="401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universelle, allgemeine Register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general purpose registe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- und Adress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1895400"/>
            <a:ext cx="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42840" y="1895400"/>
            <a:ext cx="0" cy="87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840" y="329256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2160" y="324972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42840" y="3511440"/>
            <a:ext cx="1828800" cy="21924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1680" y="3468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42840" y="373392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0160" y="36910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42840" y="3952800"/>
            <a:ext cx="1828800" cy="21924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160" y="39099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42840" y="416880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0640" y="41259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0160" y="4344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42840" y="4387680"/>
            <a:ext cx="1828800" cy="2192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33480" y="437184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grammszä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33480" y="328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r-Stackpo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3480" y="3495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ervisor-Stackpo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33480" y="37432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ame-Pointer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3480" y="3933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se-Pointer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33480" y="41338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ctorbase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42840" y="458136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tus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63920" y="2954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6880" y="3678120"/>
            <a:ext cx="401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alregister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special purpose regi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42840" y="4829040"/>
            <a:ext cx="1828800" cy="219240"/>
          </a:xfrm>
          <a:prstGeom prst="rect">
            <a:avLst/>
          </a:prstGeom>
          <a:solidFill>
            <a:srgbClr val="e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33480" y="480060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euer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Daten- und Adressregis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190520"/>
            <a:ext cx="810576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regist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speichern von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 Zugriff auf häufig benutzte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modernen Prozessoren sind mehrere      Datenregister als Akkumulator nutz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ressregist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n von Adressen (oder Teile davon) eines Operanden im 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si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ex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1.5.3.Spezialregister 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(special purpose register)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6560" y="1181160"/>
            <a:ext cx="814392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zur speziellen Verwendu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 (instruction 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regi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atu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für den Start von Interrupt-Behandlung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interrupt vector base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Stackregist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user und supervisor Stack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Funktion von Basis- und Indexregis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95640" y="1452600"/>
            <a:ext cx="5148360" cy="2982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76280" y="4848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Indexregister enthält eine Distanz (Offset, Displacement) zu einer Basisadresse und dient zur Auswahl eines bestimmten Datums des Speicherbereic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374840"/>
            <a:ext cx="355284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Basisregister enthält die  Anfangsadresse eines Speicherbereic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Diese bleibt während der Bearbeitung des Speicherbereichs unveränd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65520" y="3486240"/>
            <a:ext cx="1781280" cy="3142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84600" y="1847880"/>
            <a:ext cx="177192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Mladen Milushev</dc:creator>
  <dc:description/>
  <dc:language>en-US</dc:language>
  <cp:lastModifiedBy>Mladen Milushev</cp:lastModifiedBy>
  <cp:lastPrinted>2000-05-02T16:11:13Z</cp:lastPrinted>
  <dcterms:modified xsi:type="dcterms:W3CDTF">2005-10-11T12:41:37Z</dcterms:modified>
  <cp:revision>529</cp:revision>
  <dc:subject/>
  <dc:title>TI2-Vl4</dc:title>
</cp:coreProperties>
</file>