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016E-72C5-4382-8451-A995C1D878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eistungssteigerung in Rechner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8320" y="1541520"/>
            <a:ext cx="7990200" cy="39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lche Möglichkeiten hat man prinzipiell zur Leistungssteigerung in Rechnersystemen?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Technologische Maßnahm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schnellerer Technologien, Redesign is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ö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rukturelle Maßna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Zahl der Transistoren erhöh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rallelarb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99"/>
                </a:solidFill>
                <a:latin typeface="Arial"/>
              </a:rPr>
              <a:t>Pipeline-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6240" y="1160640"/>
            <a:ext cx="77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von 3 gleichartigen Verarbeitungsaufträ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4  Teilverarbeitungs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314640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1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27808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35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8973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3556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2760" y="21337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lle 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38800" y="314640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9705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101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04980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58800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00960" y="3147840"/>
            <a:ext cx="2152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13268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67232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21196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748720" y="3057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2068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924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118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2560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5964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592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4880" y="385776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e-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9680" y="480384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74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20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28140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82104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67000" y="5767560"/>
            <a:ext cx="2152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79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33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87836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415120" y="567684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30040" y="46465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1240" y="5618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9640" y="446076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25680" y="5423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33840" y="526104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6556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80520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484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63560" y="5122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49760" y="4937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7352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880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3545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268800" y="567540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-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" y="1163520"/>
            <a:ext cx="82692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ablaufende Operationen werden in eine Folge von Teilprozessen zerlegt. Für jeden Teilprozeß wird ein spezieller Prozessor vorgese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ypischer Fall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verarbeitung wird aufgeteil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interpretieren (decodie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(en)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 spe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fünfstufige Befehls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8" name="p0-1" descr=""/>
          <p:cNvPicPr/>
          <p:nvPr/>
        </p:nvPicPr>
        <p:blipFill>
          <a:blip r:embed="rId1"/>
          <a:stretch/>
        </p:blipFill>
        <p:spPr>
          <a:xfrm>
            <a:off x="203040" y="2593800"/>
            <a:ext cx="1519560" cy="2522880"/>
          </a:xfrm>
          <a:prstGeom prst="rect">
            <a:avLst/>
          </a:prstGeom>
          <a:ln w="0">
            <a:noFill/>
          </a:ln>
        </p:spPr>
      </p:pic>
      <p:pic>
        <p:nvPicPr>
          <p:cNvPr id="369" name="p0-2" descr=""/>
          <p:cNvPicPr/>
          <p:nvPr/>
        </p:nvPicPr>
        <p:blipFill>
          <a:blip r:embed="rId2"/>
          <a:stretch/>
        </p:blipFill>
        <p:spPr>
          <a:xfrm>
            <a:off x="2087640" y="2600280"/>
            <a:ext cx="1519200" cy="2511360"/>
          </a:xfrm>
          <a:prstGeom prst="rect">
            <a:avLst/>
          </a:prstGeom>
          <a:ln w="0">
            <a:noFill/>
          </a:ln>
        </p:spPr>
      </p:pic>
      <p:pic>
        <p:nvPicPr>
          <p:cNvPr id="370" name="p0-3" descr=""/>
          <p:cNvPicPr/>
          <p:nvPr/>
        </p:nvPicPr>
        <p:blipFill>
          <a:blip r:embed="rId3"/>
          <a:stretch/>
        </p:blipFill>
        <p:spPr>
          <a:xfrm>
            <a:off x="3870360" y="2622600"/>
            <a:ext cx="1519200" cy="2449440"/>
          </a:xfrm>
          <a:prstGeom prst="rect">
            <a:avLst/>
          </a:prstGeom>
          <a:ln w="0">
            <a:noFill/>
          </a:ln>
        </p:spPr>
      </p:pic>
      <p:pic>
        <p:nvPicPr>
          <p:cNvPr id="371" name="p0-4" descr=""/>
          <p:cNvPicPr/>
          <p:nvPr/>
        </p:nvPicPr>
        <p:blipFill>
          <a:blip r:embed="rId4"/>
          <a:stretch/>
        </p:blipFill>
        <p:spPr>
          <a:xfrm>
            <a:off x="5594400" y="2608200"/>
            <a:ext cx="1519200" cy="2495520"/>
          </a:xfrm>
          <a:prstGeom prst="rect">
            <a:avLst/>
          </a:prstGeom>
          <a:ln w="0">
            <a:noFill/>
          </a:ln>
        </p:spPr>
      </p:pic>
      <p:pic>
        <p:nvPicPr>
          <p:cNvPr id="372" name="p0-5" descr=""/>
          <p:cNvPicPr/>
          <p:nvPr/>
        </p:nvPicPr>
        <p:blipFill>
          <a:blip r:embed="rId5"/>
          <a:stretch/>
        </p:blipFill>
        <p:spPr>
          <a:xfrm>
            <a:off x="7318440" y="2608200"/>
            <a:ext cx="1519200" cy="24940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62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48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dekod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2896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nde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53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tio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ausfü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77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Ergebnis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0680" y="1201680"/>
            <a:ext cx="73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usführung eines Maschinenbefehls besteht a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n Teil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52480" y="19717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74800" y="2246400"/>
            <a:ext cx="4974840" cy="527040"/>
            <a:chOff x="874800" y="2246400"/>
            <a:chExt cx="4974840" cy="527040"/>
          </a:xfrm>
        </p:grpSpPr>
        <p:sp>
          <p:nvSpPr>
            <p:cNvPr id="382" name=""/>
            <p:cNvSpPr/>
            <p:nvPr/>
          </p:nvSpPr>
          <p:spPr>
            <a:xfrm>
              <a:off x="874800" y="22464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66040" y="22464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3240" y="22464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72000" y="22464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68840" y="22464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918040" y="2246400"/>
            <a:ext cx="987480" cy="527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15240" y="2246400"/>
            <a:ext cx="987480" cy="5270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kod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912080" y="2246400"/>
            <a:ext cx="987480" cy="5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771560" y="4137120"/>
            <a:ext cx="4974840" cy="527040"/>
            <a:chOff x="1771560" y="4137120"/>
            <a:chExt cx="4974840" cy="527040"/>
          </a:xfrm>
        </p:grpSpPr>
        <p:sp>
          <p:nvSpPr>
            <p:cNvPr id="391" name=""/>
            <p:cNvSpPr/>
            <p:nvPr/>
          </p:nvSpPr>
          <p:spPr>
            <a:xfrm>
              <a:off x="1771560" y="413712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62800" y="413712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60000" y="413712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68760" y="413712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65600" y="413712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5854680" y="195264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3560" y="421020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4520" y="140004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quentielle Ausfüh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696160" y="2143080"/>
            <a:ext cx="27648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4520" y="338148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772080" y="5203800"/>
            <a:ext cx="4974840" cy="527040"/>
            <a:chOff x="3772080" y="5203800"/>
            <a:chExt cx="4974840" cy="527040"/>
          </a:xfrm>
        </p:grpSpPr>
        <p:sp>
          <p:nvSpPr>
            <p:cNvPr id="402" name=""/>
            <p:cNvSpPr/>
            <p:nvPr/>
          </p:nvSpPr>
          <p:spPr>
            <a:xfrm>
              <a:off x="3772080" y="52038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63320" y="52038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60520" y="52038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69280" y="52038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6120" y="52038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771640" y="4670280"/>
            <a:ext cx="4974840" cy="527040"/>
            <a:chOff x="2771640" y="4670280"/>
            <a:chExt cx="4974840" cy="527040"/>
          </a:xfrm>
        </p:grpSpPr>
        <p:sp>
          <p:nvSpPr>
            <p:cNvPr id="408" name=""/>
            <p:cNvSpPr/>
            <p:nvPr/>
          </p:nvSpPr>
          <p:spPr>
            <a:xfrm>
              <a:off x="2771640" y="467028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62880" y="467028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0080" y="467028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8840" y="467028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65680" y="467028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697040" y="475308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49600" y="53341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3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99"/>
                </a:solidFill>
                <a:latin typeface="Arial"/>
              </a:rPr>
              <a:t>Eine einfache fünfstufige Befehlspipeline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04640" y="1366920"/>
            <a:ext cx="83822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 dem Begriff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steht man die Zerlegung einer Maschinenoperation in mehrere Phasen oder Suboperationen, die dann von hintereinander geschalteten Verarbeitungseinheiten taktsynchron bearbeitet werden, wobei jede Verarbeitungseinheit genau eine spezielle Teiloperation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Gesamtheit dieser Verarbeitungseinheiten nennt man ein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Befehlspipel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Instruction Pipeline) wird die Ausführung eines Maschinenbefehls in verschiedene Phasen unterteilt, aufeinanderfolgende Maschinenbefehle werden jeweils um einen Taktzyklus versetzt ausge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eline-Stufen und Pipeline-Regis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33360" y="1095480"/>
            <a:ext cx="8601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eline-Stufen und Pipeline-Regis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57120" y="1081080"/>
            <a:ext cx="838224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echnologie-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technogloie_C" descr=""/>
          <p:cNvPicPr/>
          <p:nvPr/>
        </p:nvPicPr>
        <p:blipFill>
          <a:blip r:embed="rId1"/>
          <a:srcRect l="1844" t="0" r="5952" b="0"/>
          <a:stretch/>
        </p:blipFill>
        <p:spPr>
          <a:xfrm>
            <a:off x="372960" y="1655640"/>
            <a:ext cx="4673880" cy="381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60960" y="2351160"/>
            <a:ext cx="37749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mall Scale Integ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edium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y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ltra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iga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1173240"/>
            <a:ext cx="8416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lassifikation von Rechnerstrukturen nach Fly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 bezüglich der gleichzeitig bearbeite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- und Datenström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SD (Sing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Datenstrom wird entsprechend einer seri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folge verarbeitet (von-Neumann-Rech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8680" y="4286160"/>
            <a:ext cx="1476360" cy="1609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681440"/>
            <a:ext cx="819000" cy="86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95680" y="533412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04680" y="4838760"/>
            <a:ext cx="150516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3400" y="5027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10960" y="4522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71000" y="4562640"/>
            <a:ext cx="29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-PC, IBM 37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cro-VAX von 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2960" y="11970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MD (Sing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ieselben Befeh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 (Array-Prozessor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71640" y="5705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81000" y="2800440"/>
            <a:ext cx="19717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91680" y="5351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11120" y="2484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771640" y="4400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762280" y="3390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1680" y="4065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91680" y="3056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43360" y="2809800"/>
            <a:ext cx="0" cy="2476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43360" y="3685680"/>
            <a:ext cx="0" cy="3524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734000" y="5067360"/>
            <a:ext cx="0" cy="2570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30337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6800" y="400536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75480" y="3000240"/>
            <a:ext cx="3277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ld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o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ein Bildausschnit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14920" y="489276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4920" y="498780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9320" y="130176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MD (Multip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Befeh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71640" y="588636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91680" y="5532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771640" y="457200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762280" y="3552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1680" y="4237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1680" y="3218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192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9481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62280" y="549576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82320" y="5141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71640" y="414324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9204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62280" y="311472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82320" y="2760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4920" y="495000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4920" y="510228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05640" y="29908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prozessor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 3084, Cray-2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7160" y="1301760"/>
            <a:ext cx="868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SD (Multip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nur ein Datenstrom bearbeitet. Bestimm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seinheiten übernehmen die Ausführ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er Teile einer Operation (Pipeline-Verarbeitung)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tät auf Befehlsebene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Moderne“ Prozessoren: ab Intel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800" y="1138320"/>
            <a:ext cx="84204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Mehrprozessorsystem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ehrere Prozessoren m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abhängigen Programmen arbeiten mit ein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n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Feldrechn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ehrere Prozessoren arbeiten a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en Programm, aber mit verschiedenen  Da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Bsp: Bildverarbei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mit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funktionsspezialisier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zessoren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 Spezialprozessoren arbeiten unter einer CP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mit eine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Fliessbandverarbeitung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(Pipeline-Struktur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tte von Prozessoren übernimmt jeder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bestimmter Teile einer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4720" y="1362240"/>
            <a:ext cx="8372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Wäsche-Vorgang kann in 4 Teilvorgänge unterteilt werd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mutzige Wäsche in die Waschmas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sse Wäsche in den Trock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ten, Bügel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der in den Sch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360" y="1332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080" y="1782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080" y="2116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2080" y="248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20200" y="1193760"/>
            <a:ext cx="69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7:00        8:00       9:00      10:00     11:00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2080" y="2840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46040" y="1708200"/>
            <a:ext cx="0" cy="160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680" y="1596960"/>
            <a:ext cx="708012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384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655640" y="1784520"/>
            <a:ext cx="1409760" cy="412560"/>
            <a:chOff x="1655640" y="1784520"/>
            <a:chExt cx="1409760" cy="412560"/>
          </a:xfrm>
        </p:grpSpPr>
        <p:grpSp>
          <p:nvGrpSpPr>
            <p:cNvPr id="118" name=""/>
            <p:cNvGrpSpPr/>
            <p:nvPr/>
          </p:nvGrpSpPr>
          <p:grpSpPr>
            <a:xfrm>
              <a:off x="1655640" y="1864800"/>
              <a:ext cx="211320" cy="252360"/>
              <a:chOff x="1655640" y="1864800"/>
              <a:chExt cx="211320" cy="252360"/>
            </a:xfrm>
          </p:grpSpPr>
          <p:sp>
            <p:nvSpPr>
              <p:cNvPr id="119" name=""/>
              <p:cNvSpPr/>
              <p:nvPr/>
            </p:nvSpPr>
            <p:spPr>
              <a:xfrm>
                <a:off x="1655640" y="186480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657080" y="18669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689840" y="193500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32760" y="18734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02880" y="18734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754000" y="1784520"/>
              <a:ext cx="311400" cy="412560"/>
              <a:chOff x="2754000" y="1784520"/>
              <a:chExt cx="311400" cy="412560"/>
            </a:xfrm>
          </p:grpSpPr>
          <p:sp>
            <p:nvSpPr>
              <p:cNvPr id="125" name=""/>
              <p:cNvSpPr/>
              <p:nvPr/>
            </p:nvSpPr>
            <p:spPr>
              <a:xfrm>
                <a:off x="2754000" y="178452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7092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1456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1888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7856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023920" y="1864800"/>
              <a:ext cx="211320" cy="252360"/>
              <a:chOff x="2023920" y="1864800"/>
              <a:chExt cx="211320" cy="252360"/>
            </a:xfrm>
          </p:grpSpPr>
          <p:sp>
            <p:nvSpPr>
              <p:cNvPr id="131" name=""/>
              <p:cNvSpPr/>
              <p:nvPr/>
            </p:nvSpPr>
            <p:spPr>
              <a:xfrm>
                <a:off x="2023920" y="186480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25360" y="18669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58120" y="193500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01040" y="18734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71160" y="18734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405880" y="190008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44680" y="2144880"/>
            <a:ext cx="1409760" cy="412560"/>
            <a:chOff x="3244680" y="2144880"/>
            <a:chExt cx="1409760" cy="412560"/>
          </a:xfrm>
        </p:grpSpPr>
        <p:grpSp>
          <p:nvGrpSpPr>
            <p:cNvPr id="138" name=""/>
            <p:cNvGrpSpPr/>
            <p:nvPr/>
          </p:nvGrpSpPr>
          <p:grpSpPr>
            <a:xfrm>
              <a:off x="3244680" y="2225160"/>
              <a:ext cx="211320" cy="252360"/>
              <a:chOff x="3244680" y="2225160"/>
              <a:chExt cx="211320" cy="252360"/>
            </a:xfrm>
          </p:grpSpPr>
          <p:sp>
            <p:nvSpPr>
              <p:cNvPr id="139" name=""/>
              <p:cNvSpPr/>
              <p:nvPr/>
            </p:nvSpPr>
            <p:spPr>
              <a:xfrm>
                <a:off x="3244680" y="222516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46120" y="22273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78880" y="229536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21800" y="22338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91920" y="22338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343040" y="2144880"/>
              <a:ext cx="311400" cy="412560"/>
              <a:chOff x="4343040" y="2144880"/>
              <a:chExt cx="311400" cy="412560"/>
            </a:xfrm>
          </p:grpSpPr>
          <p:sp>
            <p:nvSpPr>
              <p:cNvPr id="145" name=""/>
              <p:cNvSpPr/>
              <p:nvPr/>
            </p:nvSpPr>
            <p:spPr>
              <a:xfrm>
                <a:off x="4343040" y="214488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5996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0360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0792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6760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612960" y="2225160"/>
              <a:ext cx="211320" cy="252360"/>
              <a:chOff x="3612960" y="2225160"/>
              <a:chExt cx="211320" cy="252360"/>
            </a:xfrm>
          </p:grpSpPr>
          <p:sp>
            <p:nvSpPr>
              <p:cNvPr id="151" name=""/>
              <p:cNvSpPr/>
              <p:nvPr/>
            </p:nvSpPr>
            <p:spPr>
              <a:xfrm>
                <a:off x="3612960" y="222516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14400" y="22273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47160" y="229536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90080" y="22338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60200" y="22338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3994920" y="226044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79800" y="2502000"/>
            <a:ext cx="1407960" cy="412560"/>
            <a:chOff x="4879800" y="2502000"/>
            <a:chExt cx="1407960" cy="412560"/>
          </a:xfrm>
        </p:grpSpPr>
        <p:grpSp>
          <p:nvGrpSpPr>
            <p:cNvPr id="158" name=""/>
            <p:cNvGrpSpPr/>
            <p:nvPr/>
          </p:nvGrpSpPr>
          <p:grpSpPr>
            <a:xfrm>
              <a:off x="4879800" y="2582280"/>
              <a:ext cx="210960" cy="252360"/>
              <a:chOff x="4879800" y="2582280"/>
              <a:chExt cx="210960" cy="252360"/>
            </a:xfrm>
          </p:grpSpPr>
          <p:sp>
            <p:nvSpPr>
              <p:cNvPr id="159" name=""/>
              <p:cNvSpPr/>
              <p:nvPr/>
            </p:nvSpPr>
            <p:spPr>
              <a:xfrm>
                <a:off x="4879800" y="25822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81240" y="25844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13640" y="26524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56560" y="25909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26680" y="25909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976720" y="2502000"/>
              <a:ext cx="311040" cy="412560"/>
              <a:chOff x="5976720" y="2502000"/>
              <a:chExt cx="311040" cy="412560"/>
            </a:xfrm>
          </p:grpSpPr>
          <p:sp>
            <p:nvSpPr>
              <p:cNvPr id="165" name=""/>
              <p:cNvSpPr/>
              <p:nvPr/>
            </p:nvSpPr>
            <p:spPr>
              <a:xfrm>
                <a:off x="5976720" y="25020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9364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3692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14160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0092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247720" y="2582280"/>
              <a:ext cx="210960" cy="252360"/>
              <a:chOff x="5247720" y="2582280"/>
              <a:chExt cx="210960" cy="252360"/>
            </a:xfrm>
          </p:grpSpPr>
          <p:sp>
            <p:nvSpPr>
              <p:cNvPr id="171" name=""/>
              <p:cNvSpPr/>
              <p:nvPr/>
            </p:nvSpPr>
            <p:spPr>
              <a:xfrm>
                <a:off x="5247720" y="25822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249160" y="25844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81560" y="26524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24480" y="25909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394600" y="25909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5629320" y="26175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31120" y="2887560"/>
            <a:ext cx="1409040" cy="412920"/>
            <a:chOff x="6531120" y="2887560"/>
            <a:chExt cx="1409040" cy="412920"/>
          </a:xfrm>
        </p:grpSpPr>
        <p:grpSp>
          <p:nvGrpSpPr>
            <p:cNvPr id="178" name=""/>
            <p:cNvGrpSpPr/>
            <p:nvPr/>
          </p:nvGrpSpPr>
          <p:grpSpPr>
            <a:xfrm>
              <a:off x="6531120" y="2967840"/>
              <a:ext cx="211320" cy="252720"/>
              <a:chOff x="6531120" y="2967840"/>
              <a:chExt cx="211320" cy="252720"/>
            </a:xfrm>
          </p:grpSpPr>
          <p:sp>
            <p:nvSpPr>
              <p:cNvPr id="179" name=""/>
              <p:cNvSpPr/>
              <p:nvPr/>
            </p:nvSpPr>
            <p:spPr>
              <a:xfrm>
                <a:off x="6531120" y="296784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532560" y="297000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65320" y="303840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708240" y="297648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678360" y="297648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629120" y="2887560"/>
              <a:ext cx="311040" cy="412920"/>
              <a:chOff x="7629120" y="2887560"/>
              <a:chExt cx="311040" cy="412920"/>
            </a:xfrm>
          </p:grpSpPr>
          <p:sp>
            <p:nvSpPr>
              <p:cNvPr id="185" name=""/>
              <p:cNvSpPr/>
              <p:nvPr/>
            </p:nvSpPr>
            <p:spPr>
              <a:xfrm>
                <a:off x="7629120" y="288756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64604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8932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9400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75332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899400" y="2967840"/>
              <a:ext cx="211320" cy="252720"/>
              <a:chOff x="6899400" y="2967840"/>
              <a:chExt cx="211320" cy="252720"/>
            </a:xfrm>
          </p:grpSpPr>
          <p:sp>
            <p:nvSpPr>
              <p:cNvPr id="191" name=""/>
              <p:cNvSpPr/>
              <p:nvPr/>
            </p:nvSpPr>
            <p:spPr>
              <a:xfrm>
                <a:off x="6899400" y="296784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00840" y="297000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933600" y="303840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76520" y="297648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046640" y="297648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281360" y="300312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771048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7360" y="1552680"/>
            <a:ext cx="4078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6200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70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8276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924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9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204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08480" y="1552680"/>
            <a:ext cx="40824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3480" y="1552680"/>
            <a:ext cx="4078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812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3120" y="1552680"/>
            <a:ext cx="40932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2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2760" y="1552680"/>
            <a:ext cx="40932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20920" y="4159080"/>
            <a:ext cx="0" cy="160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598760" y="3671640"/>
            <a:ext cx="700380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728720" y="4149720"/>
            <a:ext cx="1409760" cy="412920"/>
            <a:chOff x="1728720" y="4149720"/>
            <a:chExt cx="1409760" cy="412920"/>
          </a:xfrm>
        </p:grpSpPr>
        <p:grpSp>
          <p:nvGrpSpPr>
            <p:cNvPr id="217" name=""/>
            <p:cNvGrpSpPr/>
            <p:nvPr/>
          </p:nvGrpSpPr>
          <p:grpSpPr>
            <a:xfrm>
              <a:off x="1728720" y="4230000"/>
              <a:ext cx="211320" cy="252720"/>
              <a:chOff x="1728720" y="4230000"/>
              <a:chExt cx="211320" cy="252720"/>
            </a:xfrm>
          </p:grpSpPr>
          <p:sp>
            <p:nvSpPr>
              <p:cNvPr id="218" name=""/>
              <p:cNvSpPr/>
              <p:nvPr/>
            </p:nvSpPr>
            <p:spPr>
              <a:xfrm>
                <a:off x="1728720" y="423000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0160" y="42321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62920" y="430056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05840" y="42386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75960" y="42386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827080" y="4149720"/>
              <a:ext cx="311400" cy="412920"/>
              <a:chOff x="2827080" y="4149720"/>
              <a:chExt cx="311400" cy="412920"/>
            </a:xfrm>
          </p:grpSpPr>
          <p:sp>
            <p:nvSpPr>
              <p:cNvPr id="224" name=""/>
              <p:cNvSpPr/>
              <p:nvPr/>
            </p:nvSpPr>
            <p:spPr>
              <a:xfrm>
                <a:off x="2827080" y="4149720"/>
                <a:ext cx="31140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4400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8764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9196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5164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097000" y="4230000"/>
              <a:ext cx="211320" cy="252720"/>
              <a:chOff x="2097000" y="4230000"/>
              <a:chExt cx="211320" cy="252720"/>
            </a:xfrm>
          </p:grpSpPr>
          <p:sp>
            <p:nvSpPr>
              <p:cNvPr id="230" name=""/>
              <p:cNvSpPr/>
              <p:nvPr/>
            </p:nvSpPr>
            <p:spPr>
              <a:xfrm>
                <a:off x="2097000" y="423000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98440" y="42321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31200" y="430056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74120" y="42386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44240" y="42386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478960" y="426528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157480" y="4533840"/>
            <a:ext cx="1409760" cy="411120"/>
            <a:chOff x="2157480" y="4533840"/>
            <a:chExt cx="1409760" cy="411120"/>
          </a:xfrm>
        </p:grpSpPr>
        <p:grpSp>
          <p:nvGrpSpPr>
            <p:cNvPr id="237" name=""/>
            <p:cNvGrpSpPr/>
            <p:nvPr/>
          </p:nvGrpSpPr>
          <p:grpSpPr>
            <a:xfrm>
              <a:off x="2157480" y="4613760"/>
              <a:ext cx="211320" cy="251640"/>
              <a:chOff x="2157480" y="4613760"/>
              <a:chExt cx="211320" cy="251640"/>
            </a:xfrm>
          </p:grpSpPr>
          <p:sp>
            <p:nvSpPr>
              <p:cNvPr id="238" name=""/>
              <p:cNvSpPr/>
              <p:nvPr/>
            </p:nvSpPr>
            <p:spPr>
              <a:xfrm>
                <a:off x="2157480" y="4613760"/>
                <a:ext cx="211320" cy="251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158920" y="46159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1680" y="4683960"/>
                <a:ext cx="153720" cy="12780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34600" y="46224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04720" y="46224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255840" y="4533840"/>
              <a:ext cx="311400" cy="411120"/>
              <a:chOff x="3255840" y="4533840"/>
              <a:chExt cx="311400" cy="411120"/>
            </a:xfrm>
          </p:grpSpPr>
          <p:sp>
            <p:nvSpPr>
              <p:cNvPr id="244" name=""/>
              <p:cNvSpPr/>
              <p:nvPr/>
            </p:nvSpPr>
            <p:spPr>
              <a:xfrm>
                <a:off x="3255840" y="4533840"/>
                <a:ext cx="311400" cy="4111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7276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1640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2072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8040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2525760" y="4613760"/>
              <a:ext cx="211320" cy="251640"/>
              <a:chOff x="2525760" y="4613760"/>
              <a:chExt cx="211320" cy="251640"/>
            </a:xfrm>
          </p:grpSpPr>
          <p:sp>
            <p:nvSpPr>
              <p:cNvPr id="250" name=""/>
              <p:cNvSpPr/>
              <p:nvPr/>
            </p:nvSpPr>
            <p:spPr>
              <a:xfrm>
                <a:off x="2525760" y="4613760"/>
                <a:ext cx="211320" cy="25164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27200" y="46159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559960" y="4683960"/>
                <a:ext cx="153720" cy="12780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2880" y="46224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000" y="46224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907720" y="4649040"/>
              <a:ext cx="286200" cy="18036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583000" y="4937040"/>
            <a:ext cx="1409040" cy="412920"/>
            <a:chOff x="2583000" y="4937040"/>
            <a:chExt cx="1409040" cy="412920"/>
          </a:xfrm>
        </p:grpSpPr>
        <p:grpSp>
          <p:nvGrpSpPr>
            <p:cNvPr id="257" name=""/>
            <p:cNvGrpSpPr/>
            <p:nvPr/>
          </p:nvGrpSpPr>
          <p:grpSpPr>
            <a:xfrm>
              <a:off x="2583000" y="5017320"/>
              <a:ext cx="211320" cy="252720"/>
              <a:chOff x="2583000" y="5017320"/>
              <a:chExt cx="211320" cy="252720"/>
            </a:xfrm>
          </p:grpSpPr>
          <p:sp>
            <p:nvSpPr>
              <p:cNvPr id="258" name=""/>
              <p:cNvSpPr/>
              <p:nvPr/>
            </p:nvSpPr>
            <p:spPr>
              <a:xfrm>
                <a:off x="2583000" y="501732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84440" y="501948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17200" y="508788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60120" y="502596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30240" y="502596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681000" y="4937040"/>
              <a:ext cx="311040" cy="412920"/>
              <a:chOff x="3681000" y="4937040"/>
              <a:chExt cx="311040" cy="412920"/>
            </a:xfrm>
          </p:grpSpPr>
          <p:sp>
            <p:nvSpPr>
              <p:cNvPr id="264" name=""/>
              <p:cNvSpPr/>
              <p:nvPr/>
            </p:nvSpPr>
            <p:spPr>
              <a:xfrm>
                <a:off x="3681000" y="493704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9792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4120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4588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0520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2951280" y="5017320"/>
              <a:ext cx="211320" cy="252720"/>
              <a:chOff x="2951280" y="5017320"/>
              <a:chExt cx="211320" cy="252720"/>
            </a:xfrm>
          </p:grpSpPr>
          <p:sp>
            <p:nvSpPr>
              <p:cNvPr id="270" name=""/>
              <p:cNvSpPr/>
              <p:nvPr/>
            </p:nvSpPr>
            <p:spPr>
              <a:xfrm>
                <a:off x="2951280" y="501732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52720" y="501948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85480" y="508788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128400" y="502596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98520" y="502596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3333240" y="505260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419120" y="3360600"/>
            <a:ext cx="70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 7:00        8:00       9:00      10:00     11:00 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948040" y="5338800"/>
            <a:ext cx="1407960" cy="412560"/>
            <a:chOff x="2948040" y="5338800"/>
            <a:chExt cx="1407960" cy="412560"/>
          </a:xfrm>
        </p:grpSpPr>
        <p:grpSp>
          <p:nvGrpSpPr>
            <p:cNvPr id="278" name=""/>
            <p:cNvGrpSpPr/>
            <p:nvPr/>
          </p:nvGrpSpPr>
          <p:grpSpPr>
            <a:xfrm>
              <a:off x="2948040" y="5419080"/>
              <a:ext cx="210960" cy="252360"/>
              <a:chOff x="2948040" y="5419080"/>
              <a:chExt cx="210960" cy="252360"/>
            </a:xfrm>
          </p:grpSpPr>
          <p:sp>
            <p:nvSpPr>
              <p:cNvPr id="279" name=""/>
              <p:cNvSpPr/>
              <p:nvPr/>
            </p:nvSpPr>
            <p:spPr>
              <a:xfrm>
                <a:off x="2948040" y="54190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949480" y="54212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81880" y="54892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24800" y="54277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94920" y="54277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044960" y="5338800"/>
              <a:ext cx="311040" cy="412560"/>
              <a:chOff x="4044960" y="5338800"/>
              <a:chExt cx="311040" cy="412560"/>
            </a:xfrm>
          </p:grpSpPr>
          <p:sp>
            <p:nvSpPr>
              <p:cNvPr id="285" name=""/>
              <p:cNvSpPr/>
              <p:nvPr/>
            </p:nvSpPr>
            <p:spPr>
              <a:xfrm>
                <a:off x="4044960" y="53388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6188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0516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0984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6916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315960" y="5419080"/>
              <a:ext cx="210960" cy="252360"/>
              <a:chOff x="3315960" y="5419080"/>
              <a:chExt cx="210960" cy="252360"/>
            </a:xfrm>
          </p:grpSpPr>
          <p:sp>
            <p:nvSpPr>
              <p:cNvPr id="291" name=""/>
              <p:cNvSpPr/>
              <p:nvPr/>
            </p:nvSpPr>
            <p:spPr>
              <a:xfrm>
                <a:off x="3315960" y="54190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17400" y="54212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349800" y="54892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92720" y="54277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62840" y="54277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697560" y="54543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630440" y="3679920"/>
            <a:ext cx="1616040" cy="81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68520" y="3836880"/>
            <a:ext cx="1590840" cy="79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32120" y="3914640"/>
            <a:ext cx="1592280" cy="8100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82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26360" y="15667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73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479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6576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91160" y="365436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225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51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24840" y="36241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46240" y="3757680"/>
            <a:ext cx="1592280" cy="81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240" y="41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240" y="4449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240" y="482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2240" y="517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3-11-05T12:33:17Z</dcterms:modified>
  <cp:revision>804</cp:revision>
  <dc:subject/>
  <dc:title>ti2-vl6</dc:title>
</cp:coreProperties>
</file>