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05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68724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dustrielle Anwendungen der Informatik und Mikrosystemtechni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f. Dr. R. Dillman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371520" y="6400800"/>
          <a:ext cx="360360" cy="360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1520" y="6400800"/>
                    <a:ext cx="3603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8305920" y="64008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BBF52-0717-44F1-A122-2D5E43E730C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990720"/>
            <a:ext cx="8305920" cy="75960"/>
          </a:xfrm>
          <a:prstGeom prst="rect">
            <a:avLst/>
          </a:prstGeom>
          <a:gradFill rotWithShape="0">
            <a:gsLst>
              <a:gs pos="0">
                <a:srgbClr val="d5ffd5"/>
              </a:gs>
              <a:gs pos="50000">
                <a:srgbClr val="336600"/>
              </a:gs>
              <a:gs pos="100000">
                <a:srgbClr val="d5ff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248520"/>
            <a:ext cx="8305920" cy="759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50000">
                <a:srgbClr val="d5ffd5"/>
              </a:gs>
              <a:gs pos="100000">
                <a:srgbClr val="33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5 Interner Aufbau eines einfachen</a:t>
            </a:r>
            <a:r>
              <a:rPr b="1" lang="de-DE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0" t="6035" r="29831" b="1572"/>
          <a:stretch/>
        </p:blipFill>
        <p:spPr>
          <a:xfrm>
            <a:off x="1596960" y="1087560"/>
            <a:ext cx="6321600" cy="50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Steuerwerk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0600" y="1733400"/>
            <a:ext cx="834372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85716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SzPct val="75000"/>
              <a:buFont typeface="Wingdings" charset="2"/>
              <a:buChar char=""/>
              <a:tabLst>
                <a:tab algn="l" pos="380880"/>
                <a:tab algn="l" pos="85716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unterschiedlich lange Befehlsformate: </a:t>
            </a:r>
            <a:br>
              <a:rPr sz="2400"/>
            </a:b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verschiedene Befehle sind unterschiedlich lang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1-Wort-Befehle, 2-Wort-Befehle, 3-Wort-Befehle,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SzPct val="75000"/>
              <a:buFont typeface="Wingdings" charset="2"/>
              <a:buChar char=""/>
              <a:tabLst>
                <a:tab algn="l" pos="380880"/>
                <a:tab algn="l" pos="85716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Vorabladen von Befehlen (</a:t>
            </a:r>
            <a:r>
              <a:rPr b="0" i="1" lang="de-DE" sz="2400" spc="-1" strike="noStrike">
                <a:solidFill>
                  <a:srgbClr val="0000ff"/>
                </a:solidFill>
                <a:latin typeface="Tahoma"/>
              </a:rPr>
              <a:t>Opcode-Prefetching</a:t>
            </a: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):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zur Steigerung der Verarbeitungsgeschwindigkeit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erden bereits mehrere folgende Befehle in das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efehlsregister geladen, während der aktuelle Befehl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gerade dekodiert wird 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Tahoma"/>
              </a:rPr>
              <a:t>Opcode prefetch queue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Warteschlange, Pipel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6280" y="1108080"/>
            <a:ext cx="819144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as Befehlsregister besteht aus mehreren Register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Grün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Ein-/Ausgabesignale des Steuerwerk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61800" y="1104840"/>
            <a:ext cx="8344080" cy="50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8"/>
                </a:solidFill>
                <a:latin typeface="Tahoma"/>
              </a:rPr>
              <a:t>1. Systembus-Zuteilung:</a:t>
            </a:r>
            <a:r>
              <a:rPr b="1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2599"/>
              </a:lnSpc>
              <a:spcBef>
                <a:spcPts val="901"/>
              </a:spcBef>
              <a:tabLst>
                <a:tab algn="l" pos="0"/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meist müssen mehrer Komponenten eines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Mikroprozessor-Systems aktiv auf den Systembus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zugreifen </a:t>
            </a:r>
            <a:r>
              <a:rPr b="0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Systembuszuteilung (Bus Arbitration) ist erforderli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ahoma"/>
              </a:rPr>
              <a:t>Quittierungsbetrieb mit 3-Leitungs-Handshake: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a0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sz="2400" spc="-1" strike="noStrike">
                <a:solidFill>
                  <a:srgbClr val="00a500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a500"/>
                </a:solidFill>
                <a:latin typeface="Tahoma"/>
              </a:rPr>
              <a:t>Busanforderu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00a500"/>
                </a:solidFill>
                <a:latin typeface="Tahoma"/>
              </a:rPr>
              <a:t>	</a:t>
            </a:r>
            <a:r>
              <a:rPr b="0" i="1" sz="2400" spc="-1" strike="noStrike">
                <a:solidFill>
                  <a:srgbClr val="00a500"/>
                </a:solidFill>
                <a:latin typeface="Tahoma"/>
              </a:rPr>
              <a:t>(bus request </a:t>
            </a:r>
            <a:r>
              <a:rPr b="0" sz="2400" spc="-1" strike="noStrike">
                <a:solidFill>
                  <a:srgbClr val="00a500"/>
                </a:solidFill>
                <a:latin typeface="Tahoma"/>
              </a:rPr>
              <a:t>HOLD, BR oder BREQ</a:t>
            </a:r>
            <a:r>
              <a:rPr b="0" i="1" sz="2400" spc="-1" strike="noStrike">
                <a:solidFill>
                  <a:srgbClr val="00a500"/>
                </a:solidFill>
                <a:latin typeface="Tahoma"/>
              </a:rPr>
              <a:t>)</a:t>
            </a:r>
            <a:r>
              <a:rPr b="0" i="1" sz="2400" spc="-1" strike="noStrike">
                <a:solidFill>
                  <a:srgbClr val="00a5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Dieses Signal teilt dem Prozessor mit, dass eine andere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Systemkomponente den Systembus belegen wi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Ein-/Ausgabesignale des Steuerwerk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1800" y="1141560"/>
            <a:ext cx="8344080" cy="58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2400" spc="-1" strike="noStrike">
                <a:solidFill>
                  <a:srgbClr val="00a500"/>
                </a:solidFill>
                <a:latin typeface="Tahoma"/>
              </a:rPr>
              <a:t>Busfreigabe </a:t>
            </a:r>
            <a:r>
              <a:rPr b="0" i="1" lang="de-DE" sz="2400" spc="-1" strike="noStrike">
                <a:solidFill>
                  <a:srgbClr val="00a500"/>
                </a:solidFill>
                <a:latin typeface="Tahoma"/>
              </a:rPr>
              <a:t>(bus gra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a5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a500"/>
                </a:solidFill>
                <a:latin typeface="Tahoma"/>
              </a:rPr>
              <a:t>	</a:t>
            </a:r>
            <a:r>
              <a:rPr b="1" lang="de-DE" sz="2400" spc="-1" strike="noStrike">
                <a:solidFill>
                  <a:srgbClr val="00a500"/>
                </a:solidFill>
                <a:latin typeface="Tahoma"/>
              </a:rPr>
              <a:t>HOLDA</a:t>
            </a:r>
            <a:r>
              <a:rPr b="0" lang="de-DE" sz="2400" spc="-1" strike="noStrike">
                <a:solidFill>
                  <a:srgbClr val="00a500"/>
                </a:solidFill>
                <a:latin typeface="Tahoma"/>
              </a:rPr>
              <a:t> (Hold acknowledge), BG oder BGRT</a:t>
            </a:r>
            <a:r>
              <a:rPr b="0" lang="de-DE" sz="2400" spc="-1" strike="noStrike">
                <a:solidFill>
                  <a:srgbClr val="0099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it diesem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Signal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teilt der Prozessor mit, dass der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ystembus nun zur Verfügung steht. Alle Prozessor-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usgänge werden vorher auf hochohmig geschalt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a500"/>
                </a:solidFill>
                <a:latin typeface="Tahoma"/>
              </a:rPr>
              <a:t>Busübernahme-Bestätigung </a:t>
            </a:r>
            <a:r>
              <a:rPr b="0" i="1" sz="2000" spc="-1" strike="noStrike">
                <a:solidFill>
                  <a:srgbClr val="00a500"/>
                </a:solidFill>
                <a:latin typeface="Tahoma"/>
              </a:rPr>
              <a:t>(Bus grant </a:t>
            </a:r>
            <a:r>
              <a:rPr b="0" sz="2000" spc="-1" strike="noStrike">
                <a:solidFill>
                  <a:srgbClr val="00a500"/>
                </a:solidFill>
                <a:latin typeface="Tahoma"/>
              </a:rPr>
              <a:t>acknowledge </a:t>
            </a:r>
            <a:r>
              <a:rPr b="1" sz="2000" spc="-1" strike="noStrike">
                <a:solidFill>
                  <a:srgbClr val="00a500"/>
                </a:solidFill>
                <a:latin typeface="Tahoma"/>
              </a:rPr>
              <a:t>BGA</a:t>
            </a:r>
            <a:r>
              <a:rPr b="0" sz="2000" spc="-1" strike="noStrike">
                <a:solidFill>
                  <a:srgbClr val="00a500"/>
                </a:solidFill>
                <a:latin typeface="Tahoma"/>
              </a:rPr>
              <a:t> )</a:t>
            </a:r>
            <a:r>
              <a:rPr b="0" sz="2000" spc="-1" strike="noStrike">
                <a:solidFill>
                  <a:srgbClr val="00a5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Mit diesem Signal bestätigt eine Komponente dem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Prozessor, dass sie nun den Bus übernommen hat (neuer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Bus-Maste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049"/>
              </a:spcBef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Bewerben sich mehrer Komponenten gleichzeitig um d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Bus, so muß der Bus-Arbiter eine hiervon auswäh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Ein-/Ausgabesignale des Steuerwerk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1800" y="1266840"/>
            <a:ext cx="862992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8"/>
                </a:solidFill>
                <a:latin typeface="Tahoma"/>
              </a:rPr>
              <a:t>2. Unterbrechungsanforderungen:</a:t>
            </a:r>
            <a:r>
              <a:rPr b="1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Unterbrechungen (Interrupts) sind erforderlich, um auf besondere äußere Ereignisse reagieren zu kön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Das laufende Programm wird unterbrochen, eine Unterbrechungsbehandlungsroutine (Interrupt Service Routine) angestoßen und nach deren Abarbeitung zum laufenden Programm zurückgekehrt</a:t>
            </a:r>
            <a:r>
              <a:rPr b="1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sz="2400" spc="-1" strike="noStrike">
                <a:solidFill>
                  <a:srgbClr val="0099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Ein-/Ausgabesignale des Steuerwerk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19040" y="1266840"/>
            <a:ext cx="842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1152360"/>
            <a:ext cx="84582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ahoma"/>
              </a:rPr>
              <a:t>Interrupt-Eingä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380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a00"/>
              </a:buClr>
              <a:buSzPct val="75000"/>
              <a:buFont typeface="Monotype Sorts" charset="2"/>
              <a:buChar char="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a500"/>
                </a:solidFill>
                <a:latin typeface="Tahoma"/>
              </a:rPr>
              <a:t>IRQ</a:t>
            </a:r>
            <a:r>
              <a:rPr b="0" sz="2400" spc="-1" strike="noStrike">
                <a:solidFill>
                  <a:srgbClr val="00a500"/>
                </a:solidFill>
                <a:latin typeface="Tahoma"/>
              </a:rPr>
              <a:t> (Interrupt request), INT oder INT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löst eine maskierbare Unterbrechungsbehandlung a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90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a00"/>
              </a:buClr>
              <a:buSzPct val="75000"/>
              <a:buFont typeface="Monotype Sorts" charset="2"/>
              <a:buChar char="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a500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a500"/>
                </a:solidFill>
                <a:latin typeface="Tahoma"/>
              </a:rPr>
              <a:t>NMI</a:t>
            </a:r>
            <a:r>
              <a:rPr b="0" sz="2400" spc="-1" strike="noStrike">
                <a:solidFill>
                  <a:srgbClr val="00a500"/>
                </a:solidFill>
                <a:latin typeface="Tahoma"/>
              </a:rPr>
              <a:t> (Non maskable interrup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löst eine nicht maskierbare Unterbrechungsbehandlung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90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a00"/>
              </a:buClr>
              <a:buSzPct val="75000"/>
              <a:buFont typeface="Monotype Sorts" charset="2"/>
              <a:buChar char="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a500"/>
                </a:solidFill>
                <a:latin typeface="Tahoma"/>
              </a:rPr>
              <a:t>HALT</a:t>
            </a:r>
            <a:r>
              <a:rPr b="0" sz="2400" spc="-1" strike="noStrike">
                <a:solidFill>
                  <a:srgbClr val="00a500"/>
                </a:solidFill>
                <a:latin typeface="Tahoma"/>
              </a:rPr>
              <a:t>-Leitu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Aufforderung zum Stoppen des Prozessors, durch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Interrupt oder RESET wieder aufweckbar, meist bei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schweren Systemfehlern eingesetz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Ein-/Ausgabesignale des Steuerwerk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1104840"/>
            <a:ext cx="8086680" cy="43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c8"/>
                </a:solidFill>
                <a:latin typeface="Tahoma"/>
              </a:rPr>
              <a:t>3. Fehlermeldungen: </a:t>
            </a:r>
            <a:r>
              <a:rPr b="1" lang="de-DE" sz="24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9900"/>
              </a:buClr>
              <a:buFont typeface="Wingdings" charset="2"/>
              <a:buChar char="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Fehlermeldung </a:t>
            </a:r>
            <a:r>
              <a:rPr b="1" lang="de-DE" sz="2000" spc="-1" strike="noStrike">
                <a:solidFill>
                  <a:srgbClr val="00a500"/>
                </a:solidFill>
                <a:latin typeface="Tahoma"/>
              </a:rPr>
              <a:t>BERR</a:t>
            </a:r>
            <a:r>
              <a:rPr b="0" lang="de-DE" sz="2000" spc="-1" strike="noStrike">
                <a:solidFill>
                  <a:srgbClr val="00a500"/>
                </a:solidFill>
                <a:latin typeface="Tahoma"/>
              </a:rPr>
              <a:t> (Bus error)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kann von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Systemkomponenten erzeugt werden, die gerade den Systembus benutz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9900"/>
              </a:buClr>
              <a:buFont typeface="Wingdings" charset="2"/>
              <a:buChar char="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Das Signal 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BERR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zeigt dem Prozessor an, das bei der auf dem Systembus gerade laufenden Aktion ein Fehler aufgetreten ist, z.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- ausbleibendes Quittungssignal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- Zugriff auf einen geschützten Speicherbereich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- Datenübertragungsfehler auf dem Bus, ... us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spcAft>
                <a:spcPts val="601"/>
              </a:spcAft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Das Signal BERR löst in der Regel eine Unterbrechungs-behandlung a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Ein-/Ausgabesignale des Steuerwerk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1104840"/>
            <a:ext cx="8340840" cy="43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c8"/>
                </a:solidFill>
                <a:latin typeface="Tahoma"/>
              </a:rPr>
              <a:t>4. Statusinformationen: </a:t>
            </a:r>
            <a:r>
              <a:rPr b="1" lang="de-DE" sz="24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Durch eine Reihe Statussignale, w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ahoma"/>
              </a:rPr>
              <a:t>FCi,...,FC0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(Function code)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ahoma"/>
              </a:rPr>
              <a:t>STi,...,ST0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(Statu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Tahoma"/>
              </a:rPr>
              <a:t>kann der Prozessor angeschlossenen Komponenten seinen Zustand und den Typ der gerade ausgeführten Operation mitteilen, z.B. Benutzerprogramm/Systemprogramm; Halt-Zustand;  Zugriff auf Arbeitsspeicher oder Peripherie, … usw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Ein-/Ausgabesignale des Steuerwerk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171440"/>
            <a:ext cx="8325000" cy="48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62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8"/>
                </a:solidFill>
                <a:latin typeface="Tahoma"/>
              </a:rPr>
              <a:t>5. </a:t>
            </a:r>
            <a:r>
              <a:rPr b="1" sz="2400" spc="-1" strike="noStrike">
                <a:solidFill>
                  <a:srgbClr val="0000c8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c8"/>
                </a:solidFill>
                <a:latin typeface="Tahoma"/>
              </a:rPr>
              <a:t>Kommunikation mit Coprozessor:</a:t>
            </a:r>
            <a:r>
              <a:rPr b="1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762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Eine Reihe von Signalen ist hierfür vorgesehen (späte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762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762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8"/>
                </a:solidFill>
                <a:latin typeface="Tahoma"/>
              </a:rPr>
              <a:t>6. </a:t>
            </a:r>
            <a:r>
              <a:rPr b="1" sz="2400" spc="-1" strike="noStrike">
                <a:solidFill>
                  <a:srgbClr val="0000c8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c8"/>
                </a:solidFill>
                <a:latin typeface="Tahoma"/>
              </a:rPr>
              <a:t>Systembus-Steuersignale:</a:t>
            </a:r>
            <a:r>
              <a:rPr b="1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762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Bestimmen im wesentlic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4762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Art und Richtung des Datentransports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(lesen/schreiben, Byte/Word/Double-Word-Zugriff,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4762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Art der selektierten Komponente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(Arbeitsspeicher/Peripheri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Das Steuerregister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5200" y="1152360"/>
            <a:ext cx="8105760" cy="52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Mit Hilfe des </a:t>
            </a:r>
            <a:r>
              <a:rPr b="1" sz="2400" spc="-1" strike="noStrike">
                <a:solidFill>
                  <a:srgbClr val="000000"/>
                </a:solidFill>
                <a:latin typeface="Tahoma"/>
              </a:rPr>
              <a:t>Steuerregisters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kann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Tahoma"/>
              </a:rPr>
              <a:t>die aktuelle Arbeitsweise des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Tahoma"/>
              </a:rPr>
              <a:t>Steuerwerks beeinflußt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Die Bedeutung der Bits des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Tahoma"/>
              </a:rPr>
              <a:t>Steuerregisters hängen vom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Tahoma"/>
              </a:rPr>
              <a:t>jeweiligen Prozessor 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Tahoma"/>
              </a:rPr>
              <a:t>Beispiele für die Bedeutung von Bits de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Steuerregist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50000"/>
              </a:lnSpc>
              <a:tabLst>
                <a:tab algn="l" pos="0"/>
                <a:tab algn="l" pos="380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Tahoma"/>
              </a:rPr>
              <a:t>Interrupt enable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bestimmt, ob auf eine Unterbrechungs-Anforderung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am INT-Eingang reagiert wi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227560" y="1144440"/>
            <a:ext cx="377352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Das Steuerregister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4720" y="1181160"/>
            <a:ext cx="7801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Tahoma"/>
              </a:rPr>
              <a:t>User/System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bestimmt ob der Prozessor im User-Modus (nur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beschränkter Teil des Befehlsvorrats nutzbar) oder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im Systemmodus (alle Befehle verfügbar, i.A. für das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Betriebsystem reserviert) arbeit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Tahoma"/>
              </a:rPr>
              <a:t>Trace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erlaubt Befehlsabarbeitung im Einzelschritt (Single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Step Mode), d.h. nach jeder Befehlsausführung wird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eine Unterbrechungsroutine gestartet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Debug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Tahoma"/>
              </a:rPr>
              <a:t>Decimal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entscheidet, ob Dual oder BCD gerechnet wi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5 Interner Aufbau eines einfachen</a:t>
            </a:r>
            <a:r>
              <a:rPr b="1" lang="de-DE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15920" y="1244520"/>
            <a:ext cx="61470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teuer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Rechen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Registersa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Adress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Systembusschnitt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Interne Bu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Steuerwerk: Zusammenfassung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9960" y="1305000"/>
            <a:ext cx="825840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b0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as Steuerwerk interpretiert die Maschinenbefehle und setzt sie unter Berücksichtigung der Statusinformation in Steuerkommandos für andere Komponenten 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b0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b0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as Befehlsregister enthält die Speicheradresse des als nächstes auszuführenden Maschinenbefehls, sofern der vergangene Befehl kein Sprungbefehl is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b0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b0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as Steuerregister beeinflusst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die aktuelle Arbeitsweise des Steuerwe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b"/>
                </a:solidFill>
                <a:latin typeface="Tahoma"/>
              </a:rPr>
              <a:t>1.5 Interner Aufbau eines einfachen</a:t>
            </a:r>
            <a:r>
              <a:rPr b="1" lang="en-US" sz="2400" spc="-1" strike="noStrike">
                <a:solidFill>
                  <a:srgbClr val="00339b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9b"/>
                </a:solidFill>
                <a:latin typeface="Tahoma;Symbol"/>
              </a:rPr>
              <a:t>µ</a:t>
            </a:r>
            <a:r>
              <a:rPr b="1" lang="en-US" sz="2400" spc="-1" strike="noStrike">
                <a:solidFill>
                  <a:srgbClr val="00339b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15920" y="1244520"/>
            <a:ext cx="61470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Steuer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chen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Registersa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Adress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Systembusschnitt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Interne Bu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1.5 Interner Aufbau eines einfachen </a:t>
            </a:r>
            <a:r>
              <a:rPr b="1" lang="en-US" sz="2400" spc="-1" strike="noStrike">
                <a:solidFill>
                  <a:srgbClr val="00339b"/>
                </a:solidFill>
                <a:latin typeface="Tahoma;Symbol"/>
              </a:rPr>
              <a:t>µ</a:t>
            </a:r>
            <a:r>
              <a:rPr b="1" lang="en-US" sz="2400" spc="-1" strike="noStrike">
                <a:solidFill>
                  <a:srgbClr val="00339b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50840" y="1114560"/>
            <a:ext cx="747864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1.5.2 Rechenwerk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7640" y="1422360"/>
            <a:ext cx="474984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d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ührt die vom Steuerwe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erlangten logischen u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ithmetischen Operationen a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d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Tahoma"/>
              </a:rPr>
              <a:t>Statusregister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formiert 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euerwerk über den Ablau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s Ergebnisses (z. B. Carry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verflow, Zero, Sign, ..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d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Zum Zwischenspeichern v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peranden und Ergebniss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n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Hilfregister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Tahoma"/>
              </a:rPr>
              <a:t>Akkumulatoren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orhan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00800" y="2098800"/>
            <a:ext cx="320364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1.5.2 Rechenwerk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95360" y="1422360"/>
            <a:ext cx="844560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89"/>
              </a:spcAft>
              <a:buClr>
                <a:srgbClr val="0000c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9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 Eingangsbusse ( 2 Operanden) und 1 Ausgangsb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Ergebnis). Sie entsprechen in der Breite dem inter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zessor-Bus und sind mit diesem verbun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89"/>
              </a:spcAft>
              <a:buClr>
                <a:srgbClr val="0000c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9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e ALU selbst ist ein reines Schaltnet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89"/>
              </a:spcAft>
              <a:buClr>
                <a:srgbClr val="0000c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9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or die ALU sind Hilfsregister zur Zwischenspeicher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on Operanden geschalt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89"/>
              </a:spcAft>
              <a:buClr>
                <a:srgbClr val="0000c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9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e Ergebnisse werden entweder in Prozessor-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gistern gespeichert, auf die Eingangsregister 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U zurückgeführt oder über den externen Datenb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andere Systemkomponenten übertra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89"/>
              </a:spcAft>
              <a:buClr>
                <a:srgbClr val="0000c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9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ingänge zur Steuerung der ALU-Operatio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Statusregister (Zustandsregister, Condition Code Register CCR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1800" y="1152360"/>
            <a:ext cx="878220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Einzelne Bits, die das Ergebnis einer arithmetischen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Operation wiederspiegeln werden im Statusregister gespeich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Das Statusregister enthält meist folgende Bits (Flag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Übertragsbit (Carry Flag C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Hilfsübertragsbit (Auxiliary Carry A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Nullbit (Zero Flag Z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Vorzeichenbit (Sign Flag S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Überlaufbit (Overflow Flag O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Even Flag E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Paritätsbit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(Parity Flag P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009880" y="2247840"/>
            <a:ext cx="4343400" cy="612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rcRect l="3472" t="2761" r="9882" b="2761"/>
          <a:stretch/>
        </p:blipFill>
        <p:spPr>
          <a:xfrm>
            <a:off x="5757840" y="3890880"/>
            <a:ext cx="2611440" cy="2205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883120" y="4251240"/>
            <a:ext cx="1810080" cy="38124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4857840" y="2952720"/>
            <a:ext cx="1288800" cy="135576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3399"/>
                </a:solidFill>
                <a:latin typeface="Arial"/>
              </a:rPr>
              <a:t>Bedeutung der Statusflag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5360" y="1209600"/>
            <a:ext cx="8648640" cy="50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a0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Tahoma"/>
              </a:rPr>
              <a:t>Carry Flag(CF):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 Übertrag aus dem höchstwertigsten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Bit bei Addition oder Subtraktion (Borrow) </a:t>
            </a:r>
            <a:r>
              <a:rPr b="0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 sequentielle Addition und Subtraktion mit größerer Wortbreite ist mögli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a0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Tahoma"/>
              </a:rPr>
              <a:t>Aux Carry (AF):</a:t>
            </a:r>
            <a:r>
              <a:rPr b="0" sz="2000" spc="-1" strike="noStrike">
                <a:solidFill>
                  <a:srgbClr val="00a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 Übertrag von Bit 3 in Bit 4 des Ergebnisses (BCD-Arithmeti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a0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Tahoma"/>
              </a:rPr>
              <a:t>Zero Flag (ZF):</a:t>
            </a:r>
            <a:r>
              <a:rPr b="1" sz="2000" spc="-1" strike="noStrike">
                <a:solidFill>
                  <a:srgbClr val="00a000"/>
                </a:solidFill>
                <a:latin typeface="Tahoma"/>
              </a:rPr>
              <a:t> 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Zeigt an, ob das Ergebnis der letzten Operation   gleich 0 war. (bedingte Programmverzweigungen, Zählschleif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Tahoma"/>
              </a:rPr>
              <a:t>Sign Flag (SF):</a:t>
            </a:r>
            <a:r>
              <a:rPr b="1" sz="2000" spc="-1" strike="noStrike">
                <a:solidFill>
                  <a:srgbClr val="00a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 Zeigt an, dass das Ergebnis negativ ist (Most Significant Bit = 1). Spiegelt das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höchstwertige Bit eines Operanden  wieder (bedingte Programmverzweigung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Tahoma"/>
              </a:rPr>
              <a:t>Overflow Flag:</a:t>
            </a:r>
            <a:r>
              <a:rPr b="1" sz="2000" spc="-1" strike="noStrike">
                <a:solidFill>
                  <a:srgbClr val="00a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Bereichsüberschreitung im Zweierkomp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sz="2000" spc="-1" strike="noStrike">
                <a:solidFill>
                  <a:srgbClr val="000000"/>
                </a:solidFill>
                <a:latin typeface="Tahoma"/>
              </a:rPr>
              <a:t>Even Flag (EV):</a:t>
            </a:r>
            <a:r>
              <a:rPr b="1" sz="2000" spc="-1" strike="noStrike">
                <a:solidFill>
                  <a:srgbClr val="00a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Zeigt an, ob das Ergebnis eine gerade Zahl 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sz="2000" spc="-1" strike="noStrike">
                <a:solidFill>
                  <a:srgbClr val="000000"/>
                </a:solidFill>
                <a:latin typeface="Tahoma"/>
              </a:rPr>
              <a:t>Parity Flag (PF):</a:t>
            </a:r>
            <a:r>
              <a:rPr b="1" sz="2000" spc="-1" strike="noStrike">
                <a:solidFill>
                  <a:srgbClr val="00a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Signalisiert ungerade Parität des Ergebnis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0476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ahoma"/>
              </a:rPr>
              <a:t>Statusregister</a:t>
            </a:r>
            <a:r>
              <a:rPr b="0" lang="de-DE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3399"/>
                </a:solidFill>
                <a:latin typeface="Tahoma"/>
              </a:rPr>
              <a:t>(Zustandsregister, Condition Code Register CCR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7840" y="1300320"/>
            <a:ext cx="8151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Werte von Statusbits können direkt Einfluß auf die Ausführung des Mikroprogramms hab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bedingte Programmverzweig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b000"/>
                </a:solidFill>
                <a:latin typeface="Tahoma"/>
              </a:rPr>
              <a:t>Statusregister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und </a:t>
            </a:r>
            <a:r>
              <a:rPr b="0" sz="2400" spc="-1" strike="noStrike">
                <a:solidFill>
                  <a:srgbClr val="ff0000"/>
                </a:solidFill>
                <a:latin typeface="Tahoma"/>
              </a:rPr>
              <a:t>Steuerregister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werden häufig zur Erleichterung der Adressierung zusammengefaßt betrachten und manipuliert, und meist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sz="2400" spc="-1" strike="noStrike">
                <a:solidFill>
                  <a:srgbClr val="0000c8"/>
                </a:solidFill>
                <a:latin typeface="Tahoma"/>
              </a:rPr>
              <a:t>Prozessorstatuswort (PSW)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genan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1.5.2 Rechenwerk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20560" y="1409760"/>
            <a:ext cx="795024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lde-Ausg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ä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ge für den Status der abgelaufe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(Carry, Overflow, Zero, Sign, ..., us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us wird im Status-Register zwischengespeich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9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kkumulator (spezielles Regis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 8 Bit Mikroprozessoren war das einzige inter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ister, das direkt Ergebnisse der ALU aufnehmen k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e ALU Ergebnisse werden dort abgele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kkumulator “sammelt” die Ergebnisse a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5.2 Rechenwerksvariante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61960" y="1114560"/>
            <a:ext cx="40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8"/>
                </a:solidFill>
                <a:latin typeface="Tahoma"/>
              </a:rPr>
              <a:t>Variante A:</a:t>
            </a:r>
            <a:r>
              <a:rPr b="0" sz="2400" spc="-1" strike="noStrike">
                <a:solidFill>
                  <a:srgbClr val="0000c8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Hilfsregi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des Akkumulators wi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hinter die ALU verle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1200" y="2629080"/>
            <a:ext cx="476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c800"/>
                </a:solidFill>
                <a:latin typeface="Tahoma"/>
              </a:rPr>
              <a:t>Vorteil: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ALU-Operation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ohne Veränderung des Akkumulators si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mögl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5383080"/>
            <a:ext cx="880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Haupsächlich in älteren 8-Bit- Prozessoren, bei denen auch die Adressberechnung in der ALU des Rechenwerkes durchgeführt wi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59480" y="1550880"/>
            <a:ext cx="392724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1.5.1 Steuerwerk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41480" y="1409760"/>
            <a:ext cx="4089240" cy="57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euert die Systemkomponen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d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Befehlsregi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hält den ge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sgeführten Befeh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d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Dekoder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mikroprogrammier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haltwer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d von den Statussigna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influßt und erzeugt d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euersign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d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Taktgenerator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rzeugt 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om externen Quar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estgelegten Systemtak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130720" y="1808280"/>
            <a:ext cx="3363840" cy="2987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818240" y="1870200"/>
            <a:ext cx="338040" cy="387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868640" y="5060880"/>
            <a:ext cx="3893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3399"/>
                </a:solidFill>
                <a:latin typeface="Tahoma"/>
              </a:rPr>
              <a:t>Steuerregister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 beeinfluß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die aktuelle Arbeitsweise des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Steuerwe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57200" y="-9540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6280" y="1152360"/>
            <a:ext cx="801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8"/>
                </a:solidFill>
                <a:latin typeface="Tahoma"/>
              </a:rPr>
              <a:t>Variante B:</a:t>
            </a:r>
            <a:r>
              <a:rPr b="0" sz="2400" spc="-1" strike="noStrike">
                <a:solidFill>
                  <a:srgbClr val="0000c8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Rechen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ohne Akkumulators. D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Akkumulator wird in 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Registersatz des Prozess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Verle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9800" y="3187800"/>
            <a:ext cx="5362560" cy="20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c800"/>
                </a:solidFill>
                <a:latin typeface="Tahoma"/>
              </a:rPr>
              <a:t>Vorteil:</a:t>
            </a:r>
            <a:r>
              <a:rPr b="1" sz="2400" spc="-1" strike="noStrike">
                <a:solidFill>
                  <a:srgbClr val="00c8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Mehrere Regis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des Registersatzes können Akkumulatorfunk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übernehmen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mehrere Akkumulat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23800" y="142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5.2 Rechenwerksvariante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7280" y="5721480"/>
            <a:ext cx="73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alle modernen 16/32-Bit-Prozessoren nutzen dieses Konze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772160" y="1644480"/>
            <a:ext cx="39052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b"/>
                </a:solidFill>
                <a:latin typeface="Tahoma"/>
              </a:rPr>
              <a:t>1.5.2 Aufbau des Rechenwerk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60240" y="2184480"/>
            <a:ext cx="428004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kkumu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ist zweigeteilt, besteh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s dem eigentli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kkumulator-Regist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 einem nachgeschalte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lfsregist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Lat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638600" y="1424160"/>
            <a:ext cx="450540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Zeitverhalten des Rechenwerk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52520" y="1203480"/>
            <a:ext cx="823896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Operationsvorrat der ALU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47840" y="1143000"/>
            <a:ext cx="8153280" cy="49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rithmetische Operation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Addieren ohne/mit Überta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Subtrahieren ohne/mit Überta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Inkrementieren/Dekrementie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Multiplizieren ohne/mit Vorzeic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Dividieren ohen/mit Vorzeic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Komplemntieren (Zweierkomple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Logische bitweise Verknüpfun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Ne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O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Antivalen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Operationsvorrat der ALU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7840" y="1143000"/>
            <a:ext cx="815328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chiebe- und Rotations-Operation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Links-Verschieb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Rechts-Verschieb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Links-Rotieren ohne Übertragsbi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Links-Rotieren durchs Übertrags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Rechts-Rotieren ohne Übertragsbi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Rechts-Rotieren durchs Übertrags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Transport-Operation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Transferier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Schiebeoperatione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1680" y="1305000"/>
            <a:ext cx="430524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Dem logischen Linksschieben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entspricht die Multiplikation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 mit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Dem logischen Rechtschieben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entspricht die Division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durch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Dies gilt jedoch nur für positive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Zahlen.  Bei negativen Zahlen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im Zweierkomplement muß zur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Vorzeichenerhaltung das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höchstwertigste Bit in sich selbst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zurückgeführt wer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2800" y="5602320"/>
            <a:ext cx="82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Unterschied logisches/arithmetisches Rechtsschie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454640" y="1438200"/>
            <a:ext cx="468936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Rotationsoperatione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681440" y="1081080"/>
            <a:ext cx="3284640" cy="50482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590400" y="1685880"/>
            <a:ext cx="383868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Regsiter wird als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geschlossene Bitkette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betracht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Carry-Flag kann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wahlweise mitbenutzt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oder als zusätzliches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Bit einbezogen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566520" y="2747880"/>
            <a:ext cx="145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99"/>
                </a:solidFill>
                <a:latin typeface="Arial"/>
              </a:rPr>
              <a:t>EN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3399"/>
                </a:solidFill>
                <a:latin typeface="Tahoma"/>
              </a:rPr>
              <a:t>Taktgenerator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5960" y="1143000"/>
            <a:ext cx="7981920" cy="51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ahoma"/>
              </a:rPr>
              <a:t>Aufgaben des Taktgen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500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Taktfrequenz herste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500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Erzeugung eines mit dem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Prozessortakt synchronisierte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Rücksetz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Beim Rücksetzen durchläuft das Steuerwerk eine Initialisierungs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Diese wird bei vielen Mikroprozessoren ausgeführt, während das Rücksetzsignal aktiv 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Deshalb mu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ß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das Rücksetzsignal genauen zeitlichen Spezifikationen genüg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-2298" t="3848" r="0" b="0"/>
          <a:stretch/>
        </p:blipFill>
        <p:spPr>
          <a:xfrm>
            <a:off x="5770440" y="1065240"/>
            <a:ext cx="33735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3399"/>
                </a:solidFill>
                <a:latin typeface="Tahoma"/>
              </a:rPr>
              <a:t>Rücksetzen eines Prozessor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>
            <a:lum contrast="10000"/>
          </a:blip>
          <a:srcRect l="3709" t="13671" r="1520" b="979"/>
          <a:stretch/>
        </p:blipFill>
        <p:spPr>
          <a:xfrm>
            <a:off x="760320" y="2517840"/>
            <a:ext cx="7818480" cy="3646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95360" y="1225440"/>
            <a:ext cx="7975440" cy="12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manuelles Rücksetzen über T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automatisches Rücksetzen nach Einschalten der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Betriebsspan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06960" y="3822840"/>
            <a:ext cx="48276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Tahoma"/>
              </a:rPr>
              <a:t>Steuerwerk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4120" y="2511360"/>
            <a:ext cx="808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42840" y="4583160"/>
            <a:ext cx="6951960" cy="5983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71520" y="5261040"/>
            <a:ext cx="8759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Einzelne Bits eines Mikrobefehls </a:t>
            </a:r>
            <a:r>
              <a:rPr b="0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Mikrooperationen </a:t>
            </a:r>
            <a:r>
              <a:rPr b="1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Auswahl- und Freigabesignale für die benötigten Komponen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rcRect l="-1142" t="5558" r="0" b="0"/>
          <a:stretch/>
        </p:blipFill>
        <p:spPr>
          <a:xfrm>
            <a:off x="6275520" y="1089000"/>
            <a:ext cx="2868480" cy="21272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71520" y="1457280"/>
            <a:ext cx="5067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ahoma"/>
              </a:rPr>
              <a:t>Mikroprogrammsteuer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m Festwertspeicher liegt für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Tahoma"/>
              </a:rPr>
              <a:t>jeden Befehl ein Mikroprogr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2320" y="3930480"/>
            <a:ext cx="442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ufbau eines Mikrobefehls: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71520" y="3257640"/>
            <a:ext cx="877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ff"/>
                </a:solidFill>
                <a:latin typeface="Tahoma"/>
              </a:rPr>
              <a:t>Mikroprogramm</a:t>
            </a:r>
            <a:r>
              <a:rPr b="1" lang="de-DE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sz="3200" spc="-1" strike="noStrike">
                <a:solidFill>
                  <a:srgbClr val="0000ff"/>
                </a:solidFill>
                <a:latin typeface="Symbol"/>
                <a:ea typeface="Symbol"/>
              </a:rPr>
              <a:t></a:t>
            </a:r>
            <a:r>
              <a:rPr b="1" lang="de-DE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sz="2400" spc="-1" strike="noStrike">
                <a:solidFill>
                  <a:srgbClr val="0000ff"/>
                </a:solidFill>
                <a:latin typeface="Tahoma"/>
              </a:rPr>
              <a:t>Folge von</a:t>
            </a:r>
            <a:r>
              <a:rPr b="1" lang="de-DE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sz="2400" spc="-1" strike="noStrike">
                <a:solidFill>
                  <a:srgbClr val="0000ff"/>
                </a:solidFill>
                <a:latin typeface="Tahoma"/>
              </a:rPr>
              <a:t>Mikrobefeh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Steuerwerk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3080" y="1143000"/>
            <a:ext cx="833724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285840"/>
                <a:tab algn="l" pos="3808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Für jeden Befehl liegt ein Mikroprogramm im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Festwertspeicher des Steuerwerks v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285840"/>
                <a:tab algn="l" pos="3808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ikroprogramme können vom Benutzer nicht verändert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er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85840"/>
                <a:tab algn="l" pos="3808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c8"/>
                </a:solidFill>
                <a:latin typeface="Wingdings"/>
                <a:ea typeface="Wingdings"/>
              </a:rPr>
              <a:t></a:t>
            </a:r>
            <a:r>
              <a:rPr b="0" sz="2400" spc="-1" strike="noStrike">
                <a:solidFill>
                  <a:srgbClr val="0000c8"/>
                </a:solidFill>
                <a:latin typeface="Tahoma"/>
              </a:rPr>
              <a:t>Das Steuerwerk ist mikroprogrammi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3808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3808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sz="2400" spc="-1" strike="noStrike">
                <a:solidFill>
                  <a:srgbClr val="000000"/>
                </a:solidFill>
                <a:latin typeface="Tahoma"/>
              </a:rPr>
              <a:t>Andere Variant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285840"/>
                <a:tab algn="l" pos="3808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Steuerwerk als festverdrahtetes Schaltwerk (RISC-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Prozessor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Phasen der Befehlsausführung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04920" y="1658880"/>
            <a:ext cx="2601720" cy="3667680"/>
            <a:chOff x="304920" y="1658880"/>
            <a:chExt cx="2601720" cy="3667680"/>
          </a:xfrm>
        </p:grpSpPr>
        <p:pic>
          <p:nvPicPr>
            <p:cNvPr id="72" name="" descr=""/>
            <p:cNvPicPr/>
            <p:nvPr/>
          </p:nvPicPr>
          <p:blipFill>
            <a:blip r:embed="rId1"/>
            <a:srcRect l="0" t="0" r="0" b="26787"/>
            <a:stretch/>
          </p:blipFill>
          <p:spPr>
            <a:xfrm>
              <a:off x="304920" y="1658880"/>
              <a:ext cx="2601720" cy="315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939600" y="4927680"/>
              <a:ext cx="13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ff"/>
                  </a:solidFill>
                  <a:latin typeface="Tahoma"/>
                </a:rPr>
                <a:t>Holph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3281400" y="1660680"/>
            <a:ext cx="2601720" cy="3665880"/>
            <a:chOff x="3281400" y="1660680"/>
            <a:chExt cx="2601720" cy="3665880"/>
          </a:xfrm>
        </p:grpSpPr>
        <p:pic>
          <p:nvPicPr>
            <p:cNvPr id="75" name="" descr=""/>
            <p:cNvPicPr/>
            <p:nvPr/>
          </p:nvPicPr>
          <p:blipFill>
            <a:blip r:embed="rId2"/>
            <a:srcRect l="0" t="0" r="0" b="26261"/>
            <a:stretch/>
          </p:blipFill>
          <p:spPr>
            <a:xfrm>
              <a:off x="3281400" y="1660680"/>
              <a:ext cx="2601720" cy="31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3577320" y="4927680"/>
              <a:ext cx="207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ff"/>
                  </a:solidFill>
                  <a:latin typeface="Tahoma"/>
                </a:rPr>
                <a:t>Decodierph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6326280" y="1628640"/>
            <a:ext cx="2618280" cy="3697920"/>
            <a:chOff x="6326280" y="1628640"/>
            <a:chExt cx="2618280" cy="3697920"/>
          </a:xfrm>
        </p:grpSpPr>
        <p:pic>
          <p:nvPicPr>
            <p:cNvPr id="78" name="" descr=""/>
            <p:cNvPicPr/>
            <p:nvPr/>
          </p:nvPicPr>
          <p:blipFill>
            <a:blip r:embed="rId3"/>
            <a:srcRect l="0" t="0" r="0" b="26153"/>
            <a:stretch/>
          </p:blipFill>
          <p:spPr>
            <a:xfrm>
              <a:off x="6326280" y="1628640"/>
              <a:ext cx="2601720" cy="31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6360480" y="4927680"/>
              <a:ext cx="258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ff"/>
                  </a:solidFill>
                  <a:latin typeface="Tahoma"/>
                </a:rPr>
                <a:t>Ausführungsph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Phasen der Befehlsausführung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38120" y="1162080"/>
            <a:ext cx="8115480" cy="53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e1"/>
                </a:solidFill>
                <a:latin typeface="Tahoma"/>
              </a:rPr>
              <a:t>Hol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der nächste Befehl in das Befehlsregister gela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e1"/>
                </a:solidFill>
                <a:latin typeface="Tahoma"/>
              </a:rPr>
              <a:t>Decodier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der Befehlsdecoder ermittelt die Startadresse des Mikroprogramms, welches den Befehl ausfüh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e1"/>
                </a:solidFill>
                <a:latin typeface="Tahoma"/>
              </a:rPr>
              <a:t>Ausführungsphase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das Mikroprogramm steuert die Befehlsausführung, indem es entsprechende Signalfolgen an die anderen Prozessorkomponenten übermittelt und Meldesignale auswert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6T11:54:09Z</dcterms:created>
  <dc:creator>Tamim Asfour</dc:creator>
  <dc:description/>
  <dc:language>en-US</dc:language>
  <cp:lastModifiedBy>Mladen Milushev</cp:lastModifiedBy>
  <cp:lastPrinted>2000-05-02T16:11:13Z</cp:lastPrinted>
  <dcterms:modified xsi:type="dcterms:W3CDTF">2008-10-20T04:48:45Z</dcterms:modified>
  <cp:revision>428</cp:revision>
  <dc:subject/>
  <dc:title>TI-2</dc:title>
</cp:coreProperties>
</file>