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1BE-CCCB-4EEF-8221-1F2AF94E13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298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21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24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366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396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03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03320" y="1325520"/>
            <a:ext cx="6099120" cy="2637000"/>
            <a:chOff x="1003320" y="1325520"/>
            <a:chExt cx="6099120" cy="2637000"/>
          </a:xfrm>
        </p:grpSpPr>
        <p:sp>
          <p:nvSpPr>
            <p:cNvPr id="427" name=""/>
            <p:cNvSpPr/>
            <p:nvPr/>
          </p:nvSpPr>
          <p:spPr>
            <a:xfrm>
              <a:off x="6918480" y="2894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81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463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481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488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499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06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13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18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22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23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528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531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543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554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564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571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576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583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400" y="1365120"/>
            <a:ext cx="802980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ehr lange Zykluszeit von 1 ms reicht für gebräuchliche Halbleiterspeicher bei weitem aus, die Daten zu übernehmen bzw. das geforderte Datum dem Prozessor zu üb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Vorgänge synchron zum Takt nach einem starren Muster ablau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04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155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161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167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24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25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38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42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66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64200" y="35910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46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54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Buszyklus wird nur abgeschlossen, wenn rechtzeitig vor Ende von der Takthälfte (Tb)  READY 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4-10-28T04:57:52Z</dcterms:modified>
  <cp:revision>579</cp:revision>
  <dc:subject/>
  <dc:title>TI2-Vl5</dc:title>
</cp:coreProperties>
</file>