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A1CD-795C-49D8-8797-62EB60FC9C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4545ff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aten-, Struktur- und Steuerfluss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read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read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gen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 Tritt dan auf, wenn in einer Pipeline die Schreibestufe der Lesestufe  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gabe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Tritt in Pipelines auf, die mehr als in einer Stufe schreiben, oder es erlauben, dass die Ausführung eines Befehls fortgesetzt werden darf, wenn ein vorhergehender Befehl angehalten wor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AR und WA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1252440"/>
            <a:ext cx="823104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stes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 ist in der Regel viel langsamer als der Prozess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ht ein für einen LOAD-Befehl benötigtes Datu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m Cache, sondern muss aus d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 geholt werden, werden 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zyklen für den Speicherzugriff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atum steht zur Ausführphase nicht zu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halten der Pipeline (Hardware-Interlocking), bis die  Daten verfügbar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ispiel: vierstufige Befehlspipeli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120" y="12096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 Inter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25560" y="1822320"/>
            <a:ext cx="5070600" cy="463680"/>
            <a:chOff x="1825560" y="1822320"/>
            <a:chExt cx="5070600" cy="463680"/>
          </a:xfrm>
        </p:grpSpPr>
        <p:sp>
          <p:nvSpPr>
            <p:cNvPr id="51" name=""/>
            <p:cNvSpPr/>
            <p:nvPr/>
          </p:nvSpPr>
          <p:spPr>
            <a:xfrm>
              <a:off x="1825560" y="1822320"/>
              <a:ext cx="125748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39040" y="1822320"/>
              <a:ext cx="125712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7440" y="1822320"/>
              <a:ext cx="125712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67160" y="1822320"/>
              <a:ext cx="125892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35280" y="2443320"/>
            <a:ext cx="6400080" cy="3382920"/>
            <a:chOff x="1835280" y="2443320"/>
            <a:chExt cx="6400080" cy="3382920"/>
          </a:xfrm>
        </p:grpSpPr>
        <p:grpSp>
          <p:nvGrpSpPr>
            <p:cNvPr id="56" name=""/>
            <p:cNvGrpSpPr/>
            <p:nvPr/>
          </p:nvGrpSpPr>
          <p:grpSpPr>
            <a:xfrm>
              <a:off x="1835280" y="2443320"/>
              <a:ext cx="5070240" cy="367920"/>
              <a:chOff x="1835280" y="2443320"/>
              <a:chExt cx="5070240" cy="367920"/>
            </a:xfrm>
          </p:grpSpPr>
          <p:sp>
            <p:nvSpPr>
              <p:cNvPr id="57" name=""/>
              <p:cNvSpPr/>
              <p:nvPr/>
            </p:nvSpPr>
            <p:spPr>
              <a:xfrm>
                <a:off x="1835280" y="2443320"/>
                <a:ext cx="1257120" cy="367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48400" y="2443320"/>
                <a:ext cx="1257120" cy="3679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106800" y="2443320"/>
                <a:ext cx="1257120" cy="36792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76520" y="2443320"/>
                <a:ext cx="1258920" cy="36792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835280" y="2865600"/>
              <a:ext cx="5069880" cy="369360"/>
              <a:chOff x="1835280" y="2865600"/>
              <a:chExt cx="5069880" cy="369360"/>
            </a:xfrm>
          </p:grpSpPr>
          <p:sp>
            <p:nvSpPr>
              <p:cNvPr id="62" name=""/>
              <p:cNvSpPr/>
              <p:nvPr/>
            </p:nvSpPr>
            <p:spPr>
              <a:xfrm>
                <a:off x="1835280" y="2865600"/>
                <a:ext cx="125676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48040" y="286560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06440" y="286560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76520" y="2865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835280" y="3288960"/>
              <a:ext cx="5069880" cy="368280"/>
              <a:chOff x="1835280" y="3288960"/>
              <a:chExt cx="5069880" cy="368280"/>
            </a:xfrm>
          </p:grpSpPr>
          <p:sp>
            <p:nvSpPr>
              <p:cNvPr id="67" name=""/>
              <p:cNvSpPr/>
              <p:nvPr/>
            </p:nvSpPr>
            <p:spPr>
              <a:xfrm>
                <a:off x="1835280" y="3288960"/>
                <a:ext cx="125676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48040" y="3288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06440" y="3288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76520" y="3288960"/>
                <a:ext cx="125856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835280" y="3720600"/>
              <a:ext cx="5069880" cy="369360"/>
              <a:chOff x="1835280" y="3720600"/>
              <a:chExt cx="5069880" cy="369360"/>
            </a:xfrm>
          </p:grpSpPr>
          <p:sp>
            <p:nvSpPr>
              <p:cNvPr id="72" name=""/>
              <p:cNvSpPr/>
              <p:nvPr/>
            </p:nvSpPr>
            <p:spPr>
              <a:xfrm>
                <a:off x="1835280" y="372060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48400" y="3720600"/>
                <a:ext cx="125676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06800" y="3720600"/>
                <a:ext cx="125676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76520" y="3720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835280" y="4150080"/>
              <a:ext cx="5070240" cy="369360"/>
              <a:chOff x="1835280" y="4150080"/>
              <a:chExt cx="5070240" cy="369360"/>
            </a:xfrm>
          </p:grpSpPr>
          <p:sp>
            <p:nvSpPr>
              <p:cNvPr id="77" name=""/>
              <p:cNvSpPr/>
              <p:nvPr/>
            </p:nvSpPr>
            <p:spPr>
              <a:xfrm>
                <a:off x="1835280" y="415008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48400" y="415008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06800" y="415008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76880" y="4150080"/>
                <a:ext cx="125892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835280" y="4580280"/>
              <a:ext cx="1257120" cy="3682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48400" y="4580280"/>
              <a:ext cx="1257120" cy="36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06800" y="4580280"/>
              <a:ext cx="1257120" cy="368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76880" y="4580280"/>
              <a:ext cx="1258920" cy="3682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5280" y="5019120"/>
              <a:ext cx="1257120" cy="367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8400" y="5019120"/>
              <a:ext cx="1257120" cy="367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06800" y="5019120"/>
              <a:ext cx="1257120" cy="3679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76880" y="5019120"/>
              <a:ext cx="1258920" cy="3679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0440" y="3906720"/>
              <a:ext cx="10249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Pipeline</a:t>
              </a:r>
              <a:br>
                <a:rPr sz="1600"/>
              </a:b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blocki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835280" y="5457960"/>
              <a:ext cx="5070240" cy="368280"/>
              <a:chOff x="1835280" y="5457960"/>
              <a:chExt cx="5070240" cy="368280"/>
            </a:xfrm>
          </p:grpSpPr>
          <p:sp>
            <p:nvSpPr>
              <p:cNvPr id="91" name=""/>
              <p:cNvSpPr/>
              <p:nvPr/>
            </p:nvSpPr>
            <p:spPr>
              <a:xfrm>
                <a:off x="1835280" y="5457960"/>
                <a:ext cx="125712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8400" y="5457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06800" y="5457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76880" y="5457960"/>
                <a:ext cx="125892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943680" y="3717720"/>
              <a:ext cx="228600" cy="801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1720"/>
                <a:gd name="textAreaBottom" fmla="*/ 78084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592"/>
                  </a:lnTo>
                  <a:cubicBezTo>
                    <a:pt x="10800" y="9492"/>
                    <a:pt x="16200" y="10392"/>
                    <a:pt x="21600" y="10392"/>
                  </a:cubicBezTo>
                  <a:cubicBezTo>
                    <a:pt x="16200" y="10392"/>
                    <a:pt x="10800" y="11292"/>
                    <a:pt x="10800" y="1219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line-Hemmnisse durch Datenkonflik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6560" y="1295280"/>
            <a:ext cx="793296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einem Ladebefehl kann der geladene Wert ni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direkt darauffolgenden Befehl im nächs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 zur Verfügung stehen (voriges Beispiel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ein Befehl das Resultat des direk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gängerbefehls benötigt, muss gewa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1,R2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:=R1+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3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3:=R3+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440" y="1081080"/>
            <a:ext cx="8666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,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,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3-11-05T10:43:46Z</dcterms:modified>
  <cp:revision>792</cp:revision>
  <dc:subject/>
  <dc:title>TI-2</dc:title>
</cp:coreProperties>
</file>