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3.xml.rels" ContentType="application/vnd.openxmlformats-package.relationships+xml"/>
  <Override PartName="/ppt/notesSlides/_rels/notesSlide40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36520" y="0"/>
            <a:ext cx="29322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09720" y="74412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56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9410760"/>
            <a:ext cx="29322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36520" y="9410760"/>
            <a:ext cx="29322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B4F0ECCF-34BF-443E-8C6C-27FAA138E3C4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09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01440" y="4704840"/>
            <a:ext cx="49654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Die Frequenzen der Einstiegsmodelle liegen bei 1,4 und 1,5 GHz. Tatsächlich sollen Taktraten von bis zu 5 GHz möglich sein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Der Pentium 4 hat mit seinem Vorgänger, dem Pentium 3, der auf den PentiumPro basiert, nur noch wenig gemeinsam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Schaut man sich die innere Struktur des Pentium 4 genauer an, so wurde hier einiges umgekrempel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Aber nicht nur Intern sieht es anders aus. Auch um den Prozessor herum hat sich einiges verändert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Der Pentium 4 ist zwar ein gewöhnlicher Sockel-Prozessor. Aber dafür braucht er ein neues Motherboard nebst Prozessorsockel(Sockel 423).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Dazukommt ein riesiger Kühlkörper mit Lüfter. Das zusammen ist direkt mit dem PC-Gehäuse verschraubt. Somit ist auch ein neues Gehäuse notwendig,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das die entsprechenden Verschraubungen hat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Das Gehäuse, sowie das Netzteil, müssen der ATX-Spezifikation Version 2.03 zugrunde liegen, da das Netzteil auch über zwei zusätzliche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Stecker mit dem Motherboard verbunden werden muß. Diese Maßnahmen hat Intel Aufgrund des hohen Strombedarfs seiner Prozessoren getroffen.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Und somit Probleme durch die Stromversorgung, wie es bei den Athlon-Systemen ist, auszuschließen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5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3920" bIns="4392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Aus der Computer-Zeitung 40/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 sinkenden Strukturgrößen stoßen an die Grenzen der Physi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 Chipentwicklung, wie sie sich in den nächsten Jahren aus der Sicht der Semiconductor Industry Association (SIA) darstellt: Es ist absehbar, daß die Industrie die Vorhersage übertrifft. Mit der 0,25 -Mikron-Technik senkt Intel beispielsweise die Betriebsspannung auf 1,8 Vol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elle Anwendungen der Informatik und Mikrosystemtechn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f. Dr. R. Dillman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C551-B151-40E7-9925-F01F5C88F7E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4720" y="1181160"/>
            <a:ext cx="819144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b"/>
                </a:solidFill>
                <a:latin typeface="Arial"/>
              </a:rPr>
              <a:t>Vorlesu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b"/>
                </a:solidFill>
                <a:latin typeface="Arial"/>
              </a:rPr>
              <a:t>Technische Informatik 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b"/>
                </a:solidFill>
                <a:latin typeface="Arial"/>
              </a:rPr>
              <a:t>WS 200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b"/>
                </a:solidFill>
                <a:latin typeface="Arial"/>
              </a:rPr>
              <a:t>FDIB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b"/>
                </a:solidFill>
                <a:latin typeface="Arial"/>
              </a:rPr>
              <a:t>Institut für Rechnerentwurf und Fehlertoleranz (IR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b"/>
                </a:solidFill>
                <a:latin typeface="Arial"/>
              </a:rPr>
              <a:t>Industrielle Anwendungen der Informatik und Mikrosystemtechnik (IAI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Literatu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6880" y="103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3080" y="1260360"/>
            <a:ext cx="78418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9.Speic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127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32, 137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41, 161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62, 169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74, 178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89, 193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96, 201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2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0.Speicherhierarchie, Cache-Speic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224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2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U.B.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. 321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323, 332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34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1.Virtuelle Speicherverwal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289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307, 314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317, 325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326, 329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3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T.F.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. 408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410, 413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4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2.Direkter Speicherzugri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236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249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3.Systemsteuer- und Schnittstellenbausteine. Grundl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211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2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4.Behandlung von Ausnahmesituation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44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5.Interrupt-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222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225, 229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2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6.Digitale Signalprozessoren (DS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361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369, 373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378, 380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38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7.Mikro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U.B.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. 72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81, 118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23, 126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30, 133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34, 137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99"/>
                </a:solidFill>
                <a:latin typeface="Tahoma"/>
              </a:rPr>
              <a:t>Gliederung der Steuerungsebenen im Rechnersysem</a:t>
            </a:r>
            <a:endParaRPr b="0" lang="en-US" sz="27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79360" y="1182600"/>
            <a:ext cx="85168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1  Historische Entwicklung der Rechenmaschin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68280" y="1320840"/>
            <a:ext cx="858528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642: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Pas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Erste funktionierende Rechenmaschine (Addition und Subtrak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Rein mechanisch, Betrieben mit einer Handkur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99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672: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G. W. Leibn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4 Grundrechenar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Mechanik nicht voll funktionsfäh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722-74:  M. Ha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Mechanische Problem weitgehend gelöst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8280" y="1320840"/>
            <a:ext cx="858528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Charles Babbage (1792-187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sz="2000" spc="-1" strike="noStrike">
                <a:solidFill>
                  <a:srgbClr val="0000cc"/>
                </a:solidFill>
                <a:latin typeface="Tahoma"/>
              </a:rPr>
              <a:t>Difference Engine:</a:t>
            </a:r>
            <a:r>
              <a:rPr b="1" sz="20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Addition und Subtrak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Diente der Berechnung von Zahlentabellen für die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Schiffnavi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Führte nur ein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n einzigen Algorithmus (Methode der finiten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Differenzen mit Hilfe von Polynome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Ergebnisse wurden auf einer Kupferplatte gestanz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8280" y="1197000"/>
            <a:ext cx="84805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Charles Babbage (1792-187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sz="2000" spc="-1" strike="noStrike">
                <a:solidFill>
                  <a:srgbClr val="0000cc"/>
                </a:solidFill>
                <a:latin typeface="Tahoma"/>
              </a:rPr>
              <a:t>Analytical Engine:</a:t>
            </a:r>
            <a:r>
              <a:rPr b="1" sz="20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Erster Rechenautomat aus Speicher (Säulen), Recheneinheit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(Mühle), Eingabeeinheit (Kartenleser) und Ausga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Erstmals Programmsteuerung über Lochkart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Möglichkeit im Programm zu sprin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Ergebnisse wurden auf einer Kupferplatte gestanz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Enhält bereits die meitsen Funktionsbaugruppen moderner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Rechenautom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Software: einfache Assemblerspr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8280" y="1197000"/>
            <a:ext cx="8585280" cy="47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36:  Konrad Zu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Baute Eine Reihe von programmgesteuerte Rechenmaschinen mittels elektromagnetischer Rel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Speicher, Eingabewerk, Rechenwerk, Plansteuerwerk und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Ausgabewer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Anwendung des Dualsystems und der halblogarithm.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Zahlendarstellung (Gleitkommadarstellung) sowie des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Aussagenkakü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Gebaute Maschinen (Z1, Z2, Z3 und Z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Die Maschinen wurden 1944 zerstört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Nachbau der Z3 steht im Deutschen Museum in Mün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Tahoma"/>
              </a:rPr>
              <a:t>Z1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47640" y="1087560"/>
            <a:ext cx="5443560" cy="50893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8080" y="275112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ingabef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90560" y="3152880"/>
            <a:ext cx="828720" cy="2476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47760" y="1733400"/>
            <a:ext cx="905040" cy="9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7120" y="145584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ur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076720" y="1333440"/>
            <a:ext cx="22003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99800" y="11034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stä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90560" y="3143160"/>
            <a:ext cx="1800360" cy="11620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47760" y="1752480"/>
            <a:ext cx="2305080" cy="8096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333680" y="1343160"/>
            <a:ext cx="2933640" cy="1285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24000" y="18748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esegerä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733800" y="2066760"/>
            <a:ext cx="6858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495760" y="2085840"/>
            <a:ext cx="1905120" cy="6192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723440" y="417024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6981480" y="3466800"/>
            <a:ext cx="771480" cy="7808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6191280" y="4295880"/>
            <a:ext cx="1504800" cy="9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5562720" y="3124080"/>
            <a:ext cx="2133360" cy="11620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5771880" y="3619440"/>
            <a:ext cx="1895400" cy="6667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705640" y="5448240"/>
            <a:ext cx="1419120" cy="9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12600" y="524664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eichenstraß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3762360" y="4076640"/>
            <a:ext cx="3324240" cy="13622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Tahoma"/>
              </a:rPr>
              <a:t>Z3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52640" y="1109520"/>
            <a:ext cx="4830840" cy="5027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609560" y="1828800"/>
            <a:ext cx="2019600" cy="8478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8520" y="158904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171840" y="3076560"/>
            <a:ext cx="971640" cy="9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89480" y="2741760"/>
            <a:ext cx="16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lais des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chenwe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3247920"/>
            <a:ext cx="1133640" cy="4478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1440" y="275112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ochstreifen-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e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8280" y="1197000"/>
            <a:ext cx="8346960" cy="50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38:  Howard A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Erster programmgesteuerter Rechenautomat der USA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(Havard Mark 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Dezimales Zählrad-Prinz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hr große Mas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Relativ schn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Addition von 23-stelligen Dezimalzahlen in 0,3 sec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Multiplikation in 65 sec und Division in 115 s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Zur Ein- und Ausgabe wurden gelochte Paperbänder benutz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Mark II: Aikens Nachfolgermod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8280" y="1225440"/>
            <a:ext cx="834696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43-1949:  P. Eckert, J.W. Mauch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Bau des Rechenautomaten </a:t>
            </a:r>
            <a:r>
              <a:rPr b="1" sz="2000" spc="-1" strike="noStrike">
                <a:solidFill>
                  <a:srgbClr val="0000cc"/>
                </a:solidFill>
                <a:latin typeface="Tahoma"/>
              </a:rPr>
              <a:t>ENIAC (Electronic Numerical </a:t>
            </a:r>
            <a:r>
              <a:rPr b="1" sz="20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sz="2000" spc="-1" strike="noStrike">
                <a:solidFill>
                  <a:srgbClr val="0000cc"/>
                </a:solidFill>
                <a:latin typeface="Tahoma"/>
              </a:rPr>
              <a:t>Integrator And Compu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Erstmals Anwendung elektronischer Schaltele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17468 Elektronenröhren, 1500 Rel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Gewicht: 30 Ton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en, Leistungsverbrauch: 174 K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Addition von 10-stelligen Zahlen in 0,2 msec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Multiplikation in 2,8 mse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Programmierung durch Verschalten von Schalttafeln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(Sehr umständlich und fehleranfälli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1520" y="1362240"/>
            <a:ext cx="8429760" cy="43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99"/>
                </a:solidFill>
                <a:latin typeface="Arial"/>
              </a:rPr>
              <a:t>In der Vorlesung TI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sz="3200" spc="-1" strike="noStrike">
                <a:solidFill>
                  <a:srgbClr val="003399"/>
                </a:solidFill>
                <a:latin typeface="Arial"/>
              </a:rPr>
              <a:t>vor allem </a:t>
            </a:r>
            <a:r>
              <a:rPr b="1" lang="de-DE" sz="3200" spc="-1" strike="noStrike">
                <a:solidFill>
                  <a:srgbClr val="003399"/>
                </a:solidFill>
                <a:latin typeface="Arial"/>
              </a:rPr>
              <a:t>Prozessor- und </a:t>
            </a:r>
            <a:r>
              <a:rPr b="1" sz="3200" spc="-1" strike="noStrike">
                <a:solidFill>
                  <a:srgbClr val="003399"/>
                </a:solidFill>
                <a:latin typeface="Arial"/>
              </a:rPr>
              <a:t>Rechner-</a:t>
            </a:r>
            <a:r>
              <a:rPr b="1" lang="de-DE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sz="3200" spc="-1" strike="noStrike">
                <a:solidFill>
                  <a:srgbClr val="003399"/>
                </a:solidFill>
                <a:latin typeface="Arial"/>
              </a:rPr>
              <a:t>Hard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3399"/>
                </a:solidFill>
                <a:latin typeface="Arial"/>
              </a:rPr>
              <a:t>Software-Aspekte nur auf der niedrigsten Ebene </a:t>
            </a:r>
            <a:r>
              <a:rPr b="0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3399"/>
                </a:solidFill>
                <a:latin typeface="Arial"/>
              </a:rPr>
              <a:t>(Befehlssätze, maschinennahe Programmierung, </a:t>
            </a:r>
            <a:r>
              <a:rPr b="0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3399"/>
                </a:solidFill>
                <a:latin typeface="Arial"/>
              </a:rPr>
              <a:t>Speicherverwaltu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8280" y="1225440"/>
            <a:ext cx="83469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44-1946:  Von Neumann, A.W. Burcks, H.H. Golds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Bau des Rechenautomaten </a:t>
            </a:r>
            <a:r>
              <a:rPr b="1" sz="2000" spc="-1" strike="noStrike">
                <a:solidFill>
                  <a:srgbClr val="0000cc"/>
                </a:solidFill>
                <a:latin typeface="Tahoma"/>
              </a:rPr>
              <a:t>EDVAC (Electronic Discrete </a:t>
            </a:r>
            <a:r>
              <a:rPr b="1" sz="20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sz="2000" spc="-1" strike="noStrike">
                <a:solidFill>
                  <a:srgbClr val="0000cc"/>
                </a:solidFill>
                <a:latin typeface="Tahoma"/>
              </a:rPr>
              <a:t>Variable Automatic Compu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Erster Anwendung elektronischer Schaltele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Programm mit Befehlen und Adressen wurde erstmals intern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gespeichert und in der gleichen Art kodiert und gespeiche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Adressen und Befehle konnten von der Maschine selbst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verändert we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Aufgrund bedingter Befehle war die Maschine in der Lage, den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Programmablauf in Abhängigkeit von Zwischenergebnissen zu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änd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3399"/>
                </a:solidFill>
                <a:latin typeface="Tahoma"/>
              </a:rPr>
              <a:t>Von Neumann, A.W. Burcks, H.H. Goldstine: EDVAC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04920" y="1082520"/>
            <a:ext cx="60055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40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99"/>
                </a:solidFill>
                <a:latin typeface="Tahoma"/>
              </a:rPr>
              <a:t>1.1  Historische Entwicklung von Mikrorechner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9960" y="1123920"/>
            <a:ext cx="827424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1.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Jap. Firma Busicom beauftragt die gerade 3 Jahre alte Firma Intel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einen Chipsatz für Tischrechner zu entwicke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Da Intel bisher Speicher entwickelt (erstes EPROM 1701 im Jahr 196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wurde hierfür als Konzept keine festverdrahtete Logik, sondern e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programmierbare Logik gewäh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Intel entwickelt einen Chipsatz bestehend aus 3 Chips mit je c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2000 MOS-Transistor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cc"/>
                </a:solidFill>
                <a:latin typeface="Tahoma"/>
              </a:rPr>
              <a:t>Komponente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Festwertspeicher, RAM,  Zentraleinheit (CPU), 4 Bit BCD ALU, 4 Bit Datenbus, 12 Bit Adressbus, 45 Befeh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Aft>
                <a:spcPts val="601"/>
              </a:spcAft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Entwicklungszeit ca. 9 Mannmon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Tahoma"/>
              </a:rPr>
              <a:t>Die erste</a:t>
            </a: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0" lang="de-DE" sz="3600" spc="-1" strike="noStrike">
                <a:solidFill>
                  <a:srgbClr val="003399"/>
                </a:solidFill>
                <a:latin typeface="Tahoma"/>
              </a:rPr>
              <a:t>P-Anzeige (15. Nov. 1971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33360" y="1216080"/>
            <a:ext cx="6753240" cy="437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968480" y="5587920"/>
            <a:ext cx="52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chzeitschrift: 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lectronics N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3840" y="1143000"/>
            <a:ext cx="8318520" cy="56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Fast gleichzeitig beauftragte die Firma Datapoint Corporation die Fi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Intel und Texas Instruments mit der Entwicklung eines Bausteins zur Steuerung eines Termin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Intel hatte Erfolg, der Baustein war jedoch um Faktor 10 zu langs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Dieser Baustein wurde von Intel 1972 unter der Bezeichnung </a:t>
            </a:r>
            <a:r>
              <a:rPr b="1" sz="2000" spc="-1" strike="noStrike">
                <a:solidFill>
                  <a:srgbClr val="0000be"/>
                </a:solidFill>
                <a:latin typeface="Tahoma"/>
              </a:rPr>
              <a:t>8008</a:t>
            </a:r>
            <a:r>
              <a:rPr b="1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als universelle 8-Bit CPU vertrieb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cc"/>
                </a:solidFill>
                <a:latin typeface="Tahoma"/>
              </a:rPr>
              <a:t>Kenndaten: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ca. 3000 Transisto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PMOS Technologie (2 Versorgungsspannung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8 Bit Datenbus, 14 Bit Adressbus (16 kBy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6 Register (8 Bit), 45 Befeh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Instruktionszeit ca. 30 Mikrosek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18 Anschlüs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9040" y="1168560"/>
            <a:ext cx="839484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2.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72: Intel 80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Aft>
                <a:spcPts val="601"/>
              </a:spcAft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8 Bit Prozessor mit erhöhter Rechengeschwindigk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Aft>
                <a:spcPts val="601"/>
              </a:spcAft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Instruktionszeit ca. 2 Mikrosek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Aft>
                <a:spcPts val="601"/>
              </a:spcAft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ca. 5000 Transisto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Aft>
                <a:spcPts val="601"/>
              </a:spcAft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ab 1974 in NMOS-Technologie (einfache 5 Volt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Versorgungsspannun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Aft>
                <a:spcPts val="601"/>
              </a:spcAft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ca. 75 Befehle (dazu Unterstützung externer Unterbrechungen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und Unterprogrammsprün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Aft>
                <a:spcPts val="601"/>
              </a:spcAft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8 Bit Datenbus, 16 Bit Adressbus (64kBy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In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ustrie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9040" y="1168560"/>
            <a:ext cx="839484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2.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74: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Motorola 68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8 Bit Prozessor in NMOS-Techn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ca.5000 Transis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74: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Erste Spezialprozess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z.B. zur Floppy-Disk oder Bildschirmsteueru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ff3300"/>
                </a:solidFill>
                <a:latin typeface="Tahoma"/>
              </a:rPr>
              <a:t>Erster CMOS-Prozessor</a:t>
            </a:r>
            <a:r>
              <a:rPr b="0" sz="2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Tahoma"/>
              </a:rPr>
              <a:t>von Rockwell (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RCA1802</a:t>
            </a:r>
            <a:r>
              <a:rPr b="0" sz="2400" spc="-1" strike="noStrike">
                <a:solidFill>
                  <a:srgbClr val="0000c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8280" y="1130400"/>
            <a:ext cx="8585280" cy="50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ahoma"/>
              </a:rPr>
              <a:t>3.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00000"/>
              </a:lnSpc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74: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Erster 16 Bit Prozessor PACE von National 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Semicon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PMOS Technologie, Instruktionszeit 10 Mikrosek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(Als SUPER-PACE in Bipolartechnolgie erheblich schnelle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aber auch wesentlich höherer Stromverbrau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00000"/>
              </a:lnSpc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76: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TMS 9000 von Texas Instr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16 Bit Prozessor, verwaltete seine Register i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Schreib-Lesespeich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cc"/>
                </a:solidFill>
                <a:latin typeface="Wingdings"/>
                <a:ea typeface="Wingdings"/>
              </a:rPr>
              <a:t>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rascher Programmwechsel, aber langsame Verarbeitungsz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9800" y="1346040"/>
            <a:ext cx="7836120" cy="46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3.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00000"/>
              </a:lnSpc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76: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Z80 der Firma Zi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8 Bit Prozessor, aufwärtskompatibel zu 8080, aber mit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höherer Leistungsfähigkeit und mehr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fehlen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76: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8085 von In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Erweiterung des 8080 mit verbesserter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Unterbrechungsverwaltung, verbesserter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Peripheriesteu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6120" y="1346040"/>
            <a:ext cx="7988400" cy="40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3.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1978:  8086 von Intel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800"/>
              </a:spcBef>
              <a:spcAft>
                <a:spcPts val="601"/>
              </a:spcAft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rster 16 Bit Prozessor von In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Aft>
                <a:spcPts val="601"/>
              </a:spcAft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HMOS Technologie (High Density M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Aft>
                <a:spcPts val="601"/>
              </a:spcAft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a. 27000 Transistoren (aber 30% mehr Fläche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ls ein 80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Aft>
                <a:spcPts val="601"/>
              </a:spcAft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irtuelle Speicherverwal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Aft>
                <a:spcPts val="601"/>
              </a:spcAft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16 Bit Datenbus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, 20 Bit Adressbus (1MBy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Vorlesungsinhal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3320" y="1015920"/>
            <a:ext cx="7728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b"/>
              </a:buClr>
              <a:buSzPct val="7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b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b"/>
                </a:solidFill>
                <a:latin typeface="Tahoma"/>
              </a:rPr>
              <a:t>Prinzipieller Aufbau eines Prozes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Steuer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Operations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Der Registers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Das Adress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Das interne Bus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Die Systembus-Schnittst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b"/>
              </a:buClr>
              <a:buSzPct val="7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b"/>
                </a:solidFill>
                <a:latin typeface="Tahoma"/>
              </a:rPr>
              <a:t>RISC vs. CISC Prozess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Von-Neumann- vs. Harvard-Architekt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b"/>
              </a:buClr>
              <a:buSzPct val="7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b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b"/>
                </a:solidFill>
                <a:latin typeface="Tahoma"/>
              </a:rPr>
              <a:t>Befehls-Pipel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Prinzip und Funktionswe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Daten- und Kontrollkonflikte und deren Beheb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6120" y="1117440"/>
            <a:ext cx="7988400" cy="50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3.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1979: </a:t>
            </a: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68000 von Motorola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16 Bit Prozessor, intern jedoch 32 Bit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Registers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HMOS Techn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a. 68000 Transis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24 Bit Adressbus (16 MBy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orthogonaler Befehlsatz wie bei Minicomputern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üb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1979: </a:t>
            </a: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Z8000 von Zi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16 Bit Prozessor, Nachfolger des Z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168560"/>
            <a:ext cx="7988040" cy="23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3.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79: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Erste Signalprozessoren, z.B. 2929 von In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spezialisiert auf die Verarbeitung von analogen Signalen, die durch interne AD/DA-Wandler digitalisiert we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58720" y="3835440"/>
            <a:ext cx="7962840" cy="2247840"/>
            <a:chOff x="558720" y="3835440"/>
            <a:chExt cx="7962840" cy="2247840"/>
          </a:xfrm>
        </p:grpSpPr>
        <p:sp>
          <p:nvSpPr>
            <p:cNvPr id="144" name=""/>
            <p:cNvSpPr/>
            <p:nvPr/>
          </p:nvSpPr>
          <p:spPr>
            <a:xfrm>
              <a:off x="558720" y="3835440"/>
              <a:ext cx="7962840" cy="224784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90440" y="3994200"/>
              <a:ext cx="6899400" cy="19278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800" spc="-1" strike="noStrike">
                  <a:solidFill>
                    <a:srgbClr val="000000"/>
                  </a:solidFill>
                  <a:latin typeface="Tahoma"/>
                </a:rPr>
                <a:t>1979 existierten ca. 80 verschieden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800" spc="-1" strike="noStrike">
                  <a:solidFill>
                    <a:srgbClr val="000000"/>
                  </a:solidFill>
                  <a:latin typeface="Tahoma"/>
                </a:rPr>
                <a:t>Mikroprozessoren, es wurden bis dahin ca. 75 Millionen Mikroprozessoren  verkauf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8280" y="1244520"/>
            <a:ext cx="840744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244520"/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3.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52560"/>
                <a:tab algn="l" pos="1244520"/>
                <a:tab algn="l" pos="788688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52560"/>
                <a:tab algn="l" pos="1244520"/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82: 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80286 von In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Nach dem 80186 der zweite Nachfolger des 80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ca. 130000 Transis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erhöhter Adressraum (16 Mby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virtuelle Betriebsarten für Multitasking-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Umgeb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Jahrelang in vielen Personal Compute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952560"/>
                <a:tab algn="l" pos="1244520"/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z.B. IBM AT) eingeset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8280" y="1244520"/>
            <a:ext cx="840744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4.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81: 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32 Bit Prozessor iAPX432 von Int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3 Bausteine, insgesamt ca. 219000 Transis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HMOS Techn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16 Mbyte Adressra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ca. 100 Mannjahre Entwicklungsaufw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konnte sich auf dem Markt jedoch nicht durchset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Herstellung eingestellt.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2880" y="1168560"/>
            <a:ext cx="8788680" cy="53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4.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85: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80386 von In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32 Bit Proz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CMOS Techn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275 000 Transis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virtuelle Speicherverwaltung, Segmentierung, P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86: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68020 von Motor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32 Bit Proz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ca. 200 000 Transis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linearer Adressra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8280" y="1168560"/>
            <a:ext cx="8407440" cy="49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4.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1989:</a:t>
            </a: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80486 von In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rweiterung des 80386 um integrierten Cache und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tegrierten numerischen Coproz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a. 1 200 000 Transis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Unterstützung mehrerer Prozess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1990:</a:t>
            </a: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68040 von Motor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Nach 68030 zweiter Nachfolger des 6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a. 1 200 000 Transis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8280" y="1168560"/>
            <a:ext cx="8775720" cy="53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4.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92: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Pentium von In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Nachfolger des 804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ca. 3 100 000 Transis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intern teilweise 64 Bit Architekt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2 fach Superskalar, Code und Daten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92-95: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Power PC’s MPC601, MPC603, MPC604, 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MPC620 von Motorola/IBM/Ap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RISC Architektur, teilweise 64 Bit Architektur (Date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uperska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ca. 4 000 000 Transistoren (MPC6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8280" y="1168560"/>
            <a:ext cx="840744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4.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95: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Pentium Pro von In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Nachfolger des Pent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ganz anderer interner Aufb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3-5 fach Superska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ca. 14 stufige Befehls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5 500 000 Transis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Zwei eingebaute Cache-Speicher-Eb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peculative execution, dynamic branch pre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68280" y="1168560"/>
            <a:ext cx="8407440" cy="53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4.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96: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Pentium I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Nachfolger vom Pentium Pro mit speziellen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Multimedia-Erweiterungen (MM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3-5 fach Superska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ca. 14 stufige Befehls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7 500 000 Transis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peculative execution, dynamic branch pre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8280" y="1168560"/>
            <a:ext cx="8407440" cy="53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4.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98: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Pentium II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Nachfolger vom Pentium II mit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ternet Streaming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IMD Extension (IS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Tahoma"/>
              </a:rPr>
              <a:t>(S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IMD = Single Instruction, Multiple Data)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16 KByte Daten- und Befehls-Cache mit vollem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rozessortak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2nd-Level-Cache mit halbem Prozessortak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nbindung an die Außenwelt über einen mit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100 - 133 MHz arbeitenden Systemb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Vorlesungsinhal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50400" y="1306440"/>
            <a:ext cx="7390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9b"/>
              </a:buClr>
              <a:buSzPct val="7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b"/>
                </a:solidFill>
                <a:latin typeface="Tahoma"/>
              </a:rPr>
              <a:t>Einf</a:t>
            </a:r>
            <a:r>
              <a:rPr b="1" lang="de-DE" sz="2400" spc="-1" strike="noStrike">
                <a:solidFill>
                  <a:srgbClr val="00009b"/>
                </a:solidFill>
                <a:latin typeface="Tahoma"/>
              </a:rPr>
              <a:t>ü</a:t>
            </a:r>
            <a:r>
              <a:rPr b="1" lang="en-US" sz="2400" spc="-1" strike="noStrike">
                <a:solidFill>
                  <a:srgbClr val="00009b"/>
                </a:solidFill>
                <a:latin typeface="Tahoma"/>
              </a:rPr>
              <a:t>hrung in die Assemblerprogramm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Programmiertechn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MIPS-Assemb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b"/>
              </a:buClr>
              <a:buSzPct val="7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9b"/>
                </a:solidFill>
                <a:latin typeface="Tahoma"/>
              </a:rPr>
              <a:t>Organisation des Arbeitsspei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Aufbau von Speicherz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Organisation von Speicherbauste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b"/>
              </a:buClr>
              <a:buSzPct val="7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9b"/>
                </a:solidFill>
                <a:latin typeface="Tahoma"/>
              </a:rPr>
              <a:t>Speicherhierarch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Cache-Speicher (Prinzip, Techni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Virtuelle Speicherverwal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1520" y="1150920"/>
            <a:ext cx="877248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4.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2000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:</a:t>
            </a: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Pentium </a:t>
            </a: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4: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komplette Neuentwicklung von In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500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tel® NetBurst™ micro-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500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Nachfolger vom Pentium II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mit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ternet Streaming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IMD Extension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500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nhanced floating point/multi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500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dvanced dynamic 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500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Hyper-pipelined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500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xecution trace cache and advanced transfer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500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400MHz System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90520" y="1127160"/>
            <a:ext cx="863748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Die Leistungssteigerung bei Mikroprozessoren ist durch folgende Fortschritte erreicht worde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1600" y="3676680"/>
            <a:ext cx="8683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urch Steigerung der Gatterzahl auf dem Chip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urch Steigerung der Taktrate 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urch Fortschritte beim Hardware-Entwurf (Architektur, Mikroarchitektur, Entwurfswerkzeu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85089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3038d"/>
                </a:solidFill>
                <a:latin typeface="Tahoma"/>
              </a:rPr>
              <a:t>Exponentialgesetz der Mikroelektronik „Mooresches Gesetz“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31640" y="1111320"/>
            <a:ext cx="8448840" cy="50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004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003399"/>
                </a:solidFill>
                <a:latin typeface="Arial"/>
              </a:rPr>
              <a:t>Mehr Leistung bei weniger Stromverbrauch</a:t>
            </a:r>
            <a:endParaRPr b="0" lang="en-US" sz="3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51240" y="139716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kturgröß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841320" y="2144880"/>
            <a:ext cx="7232040" cy="3572640"/>
            <a:chOff x="841320" y="2144880"/>
            <a:chExt cx="7232040" cy="3572640"/>
          </a:xfrm>
        </p:grpSpPr>
        <p:grpSp>
          <p:nvGrpSpPr>
            <p:cNvPr id="173" name=""/>
            <p:cNvGrpSpPr/>
            <p:nvPr/>
          </p:nvGrpSpPr>
          <p:grpSpPr>
            <a:xfrm>
              <a:off x="922320" y="5625720"/>
              <a:ext cx="7068240" cy="79920"/>
              <a:chOff x="922320" y="5625720"/>
              <a:chExt cx="7068240" cy="79920"/>
            </a:xfrm>
          </p:grpSpPr>
          <p:sp>
            <p:nvSpPr>
              <p:cNvPr id="174" name=""/>
              <p:cNvSpPr/>
              <p:nvPr/>
            </p:nvSpPr>
            <p:spPr>
              <a:xfrm>
                <a:off x="922320" y="5625720"/>
                <a:ext cx="7068240" cy="8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2121480" y="5625720"/>
                <a:ext cx="4777560" cy="79920"/>
                <a:chOff x="2121480" y="5625720"/>
                <a:chExt cx="4777560" cy="799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2121480" y="562572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329640" y="562572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528800" y="562572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709240" y="562572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6899040" y="562572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841320" y="2224440"/>
              <a:ext cx="75240" cy="3493080"/>
              <a:chOff x="841320" y="2224440"/>
              <a:chExt cx="75240" cy="3493080"/>
            </a:xfrm>
          </p:grpSpPr>
          <p:sp>
            <p:nvSpPr>
              <p:cNvPr id="182" name=""/>
              <p:cNvSpPr/>
              <p:nvPr/>
            </p:nvSpPr>
            <p:spPr>
              <a:xfrm flipV="1">
                <a:off x="916560" y="2224440"/>
                <a:ext cx="0" cy="349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841320" y="2554560"/>
                <a:ext cx="72000" cy="2625480"/>
                <a:chOff x="841320" y="2554560"/>
                <a:chExt cx="72000" cy="26254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841320" y="5180040"/>
                  <a:ext cx="72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841320" y="4301280"/>
                  <a:ext cx="72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841320" y="3427920"/>
                  <a:ext cx="72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841320" y="2554560"/>
                  <a:ext cx="72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8" name=""/>
            <p:cNvGrpSpPr/>
            <p:nvPr/>
          </p:nvGrpSpPr>
          <p:grpSpPr>
            <a:xfrm>
              <a:off x="907200" y="2144880"/>
              <a:ext cx="7068240" cy="79920"/>
              <a:chOff x="907200" y="2144880"/>
              <a:chExt cx="7068240" cy="79920"/>
            </a:xfrm>
          </p:grpSpPr>
          <p:sp>
            <p:nvSpPr>
              <p:cNvPr id="189" name=""/>
              <p:cNvSpPr/>
              <p:nvPr/>
            </p:nvSpPr>
            <p:spPr>
              <a:xfrm flipV="1">
                <a:off x="907200" y="2216520"/>
                <a:ext cx="7068240" cy="8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0" name=""/>
              <p:cNvGrpSpPr/>
              <p:nvPr/>
            </p:nvGrpSpPr>
            <p:grpSpPr>
              <a:xfrm>
                <a:off x="2106360" y="2144880"/>
                <a:ext cx="4777560" cy="79920"/>
                <a:chOff x="2106360" y="2144880"/>
                <a:chExt cx="4777560" cy="79920"/>
              </a:xfrm>
            </p:grpSpPr>
            <p:sp>
              <p:nvSpPr>
                <p:cNvPr id="191" name=""/>
                <p:cNvSpPr/>
                <p:nvPr/>
              </p:nvSpPr>
              <p:spPr>
                <a:xfrm flipV="1">
                  <a:off x="2106360" y="214488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V="1">
                  <a:off x="3314520" y="214488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flipV="1">
                  <a:off x="4513680" y="214488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V="1">
                  <a:off x="5694120" y="214488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V="1">
                  <a:off x="6883920" y="214488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6" name=""/>
            <p:cNvGrpSpPr/>
            <p:nvPr/>
          </p:nvGrpSpPr>
          <p:grpSpPr>
            <a:xfrm>
              <a:off x="7998120" y="2211840"/>
              <a:ext cx="75240" cy="3493440"/>
              <a:chOff x="7998120" y="2211840"/>
              <a:chExt cx="75240" cy="3493440"/>
            </a:xfrm>
          </p:grpSpPr>
          <p:sp>
            <p:nvSpPr>
              <p:cNvPr id="197" name=""/>
              <p:cNvSpPr/>
              <p:nvPr/>
            </p:nvSpPr>
            <p:spPr>
              <a:xfrm flipV="1">
                <a:off x="7998120" y="2211840"/>
                <a:ext cx="0" cy="3493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8001360" y="2541600"/>
                <a:ext cx="72000" cy="2625840"/>
                <a:chOff x="8001360" y="2541600"/>
                <a:chExt cx="72000" cy="2625840"/>
              </a:xfrm>
            </p:grpSpPr>
            <p:sp>
              <p:nvSpPr>
                <p:cNvPr id="199" name=""/>
                <p:cNvSpPr/>
                <p:nvPr/>
              </p:nvSpPr>
              <p:spPr>
                <a:xfrm flipH="1">
                  <a:off x="8001360" y="5167440"/>
                  <a:ext cx="72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H="1">
                  <a:off x="8001360" y="4288320"/>
                  <a:ext cx="72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>
                  <a:off x="8001360" y="3414960"/>
                  <a:ext cx="72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H="1">
                  <a:off x="8001360" y="2541600"/>
                  <a:ext cx="72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3" name=""/>
          <p:cNvSpPr/>
          <p:nvPr/>
        </p:nvSpPr>
        <p:spPr>
          <a:xfrm>
            <a:off x="599400" y="183348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,35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728000" y="183204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,25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37840" y="183348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,13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4320" y="183348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,10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98360" y="183204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,07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39400" y="183348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,18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1680" y="5008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1680" y="4102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1680" y="324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1680" y="2360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7440" y="567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79120" y="567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71440" y="567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81040" y="567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60400" y="567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544800" y="567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49960" y="2349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049600" y="3224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049240" y="4110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048880" y="497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917640" y="2536920"/>
            <a:ext cx="6956280" cy="263664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925560" y="3444840"/>
            <a:ext cx="6970680" cy="172728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925560" y="4275000"/>
            <a:ext cx="6958080" cy="903600"/>
          </a:xfrm>
          <a:prstGeom prst="line">
            <a:avLst/>
          </a:prstGeom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933480" y="4471560"/>
            <a:ext cx="6927840" cy="72396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66960" y="2516040"/>
            <a:ext cx="6991200" cy="2695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1270800">
            <a:off x="1936080" y="2940120"/>
            <a:ext cx="22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triebsspan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20299800">
            <a:off x="5304960" y="279540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Bits pro C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20775000">
            <a:off x="4935960" y="3433680"/>
            <a:ext cx="29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Logikfunktionen pro C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046400">
            <a:off x="5473440" y="4303440"/>
            <a:ext cx="579240" cy="160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21137400">
            <a:off x="4806360" y="4097160"/>
            <a:ext cx="28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Größe der Speicherchi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21309600">
            <a:off x="3934440" y="4763880"/>
            <a:ext cx="24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Anschlüsse pro C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Leistungsentwickl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155600" y="1138320"/>
            <a:ext cx="674712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b"/>
                </a:solidFill>
                <a:latin typeface="Tahoma"/>
              </a:rPr>
              <a:t>Beispiele von Mikroprozessor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892680" y="1333440"/>
            <a:ext cx="4730760" cy="46497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30120" y="2247840"/>
            <a:ext cx="344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3080" y="1805040"/>
            <a:ext cx="3192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Arial"/>
              </a:rPr>
              <a:t>174 Mio Transis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Arial"/>
              </a:rPr>
              <a:t>400 m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Arial"/>
              </a:rPr>
              <a:t>0.18 µ in Kupfe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Arial"/>
              </a:rPr>
              <a:t>Techn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Arial"/>
              </a:rPr>
              <a:t>Zwei unabhängige 64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Arial"/>
              </a:rPr>
              <a:t>Bit Kerne mit eig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Arial"/>
              </a:rPr>
              <a:t>L1-Caches (32 K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Arial"/>
              </a:rPr>
              <a:t>Instruktionen 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Arial"/>
              </a:rPr>
              <a:t>64 KByte Date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0920" y="1133640"/>
            <a:ext cx="25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b"/>
                </a:solidFill>
                <a:latin typeface="Arial"/>
              </a:rPr>
              <a:t>IBM Power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Moderne Entwicklung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81520" y="1252440"/>
            <a:ext cx="862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IBM und XILINX bereiten sich f</a:t>
            </a:r>
            <a:r>
              <a:rPr b="0" lang="de-DE" sz="2400" spc="-1" strike="noStrike">
                <a:solidFill>
                  <a:srgbClr val="00009b"/>
                </a:solidFill>
                <a:latin typeface="Tahoma"/>
              </a:rPr>
              <a:t>ü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r die Produktion der er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90-Nanometer-Chips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auf 300 -mm-Wafern v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27080" y="2279520"/>
            <a:ext cx="6977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b"/>
                </a:solidFill>
                <a:latin typeface="Tahoma"/>
              </a:rPr>
              <a:t>Chips mit mehreren Hundert Millionen Transisto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b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9b"/>
                </a:solidFill>
                <a:latin typeface="Tahoma"/>
              </a:rPr>
              <a:t>und bis zu 72 Millionen Logik-Gat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b"/>
                </a:solidFill>
                <a:latin typeface="Tahoma"/>
              </a:rPr>
              <a:t>Versorgungsspannung von unter 1 Vo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b"/>
                </a:solidFill>
                <a:latin typeface="Tahoma"/>
              </a:rPr>
              <a:t>Bis zu acht Kuper-Metalllagen sind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b"/>
                </a:solidFill>
                <a:latin typeface="Tahoma"/>
              </a:rPr>
              <a:t>kapazitätsarme Low-K-Dielektrika als Isolator 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b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9b"/>
                </a:solidFill>
                <a:latin typeface="Tahoma"/>
              </a:rPr>
              <a:t>Diffusionsbarriere zum Siliz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b"/>
                </a:solidFill>
                <a:latin typeface="Tahoma"/>
              </a:rPr>
              <a:t>In die neue Fabrik hat IBM rund 2,5 Milliarden USDol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b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9b"/>
                </a:solidFill>
                <a:latin typeface="Tahoma"/>
              </a:rPr>
              <a:t>investie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3038d"/>
                </a:solidFill>
                <a:latin typeface="Tahoma"/>
              </a:rPr>
              <a:t>Zukünftige Entwicklung in Schlagworten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25520" y="1247760"/>
            <a:ext cx="8165880" cy="44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66cc"/>
                </a:solidFill>
                <a:latin typeface="Tahoma"/>
              </a:rPr>
              <a:t>Quanten-Computer:</a:t>
            </a:r>
            <a:r>
              <a:rPr b="0" lang="de-DE" sz="2800" spc="-1" strike="noStrike">
                <a:solidFill>
                  <a:srgbClr val="003399"/>
                </a:solidFill>
                <a:latin typeface="Tahoma"/>
              </a:rPr>
              <a:t>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xistieren bisher nur in der Theorie und sind so exotisch wie die Quantenmechanik selbst. 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ls Speicher für Information in einem Quanten-Computer könnten Wasserstoffatome diene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66cc"/>
                </a:solidFill>
                <a:latin typeface="Tahoma"/>
              </a:rPr>
              <a:t>Molekulare Computer (DNA-Computer):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önnen Moleküle sich gegenseitig beeinflussen und dadurch Berechnungen anstellen?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Vorlesungsinhal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1880" y="1316160"/>
            <a:ext cx="730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9b"/>
              </a:buClr>
              <a:buSzPct val="7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b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b"/>
                </a:solidFill>
                <a:latin typeface="Tahoma"/>
              </a:rPr>
              <a:t>System-Steuer- und Schnittstellen-Baust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Bus-Arbiter, Interrupt-Controller, Schnittstellen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Baust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b"/>
              </a:buClr>
              <a:buSzPct val="7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9b"/>
                </a:solidFill>
                <a:latin typeface="Tahoma"/>
              </a:rPr>
              <a:t>Mikrocontroller &amp; Digitale Signalprozess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Kompone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Eingabe-/Ausgabeeinh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Zeitgeber/Zähler-Baust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Speicherorgan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Unterbrechungssteu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DMA (direct Memory Acc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Literatu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720" y="1085760"/>
            <a:ext cx="77731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• </a:t>
            </a:r>
            <a:r>
              <a:rPr b="1" lang="en-US" sz="2200" spc="-1" strike="noStrike">
                <a:solidFill>
                  <a:srgbClr val="0000ff"/>
                </a:solidFill>
                <a:latin typeface="Tahoma"/>
              </a:rPr>
              <a:t>U. Brinkschulte und Th. Unger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6600"/>
                </a:solidFill>
                <a:latin typeface="Tahoma"/>
              </a:rPr>
              <a:t>Mikrocontroller und Mikroprozess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Springer-Verlag, September 200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• </a:t>
            </a:r>
            <a:r>
              <a:rPr b="1" lang="en-US" sz="2200" spc="-1" strike="noStrike">
                <a:solidFill>
                  <a:srgbClr val="0000ff"/>
                </a:solidFill>
                <a:latin typeface="Tahoma"/>
              </a:rPr>
              <a:t>H. Bähring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6600"/>
                </a:solidFill>
                <a:latin typeface="Tahoma"/>
              </a:rPr>
              <a:t>Mikrorechner-Systeme,</a:t>
            </a: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 Springer-Lehrbuch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3. Auflage 2002 (Band I/I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• </a:t>
            </a:r>
            <a:r>
              <a:rPr b="1" lang="en-US" sz="2200" spc="-1" strike="noStrike">
                <a:solidFill>
                  <a:srgbClr val="0000ff"/>
                </a:solidFill>
                <a:latin typeface="Tahoma"/>
              </a:rPr>
              <a:t>Th. Flick, H. Liebig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6600"/>
                </a:solidFill>
                <a:latin typeface="Tahoma"/>
              </a:rPr>
              <a:t>Mikroprozessortechnik;</a:t>
            </a: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 Springer-Lehrbuch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5. Auflage 199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• </a:t>
            </a:r>
            <a:r>
              <a:rPr b="1" lang="en-US" sz="2200" spc="-1" strike="noStrike">
                <a:solidFill>
                  <a:srgbClr val="0000ff"/>
                </a:solidFill>
                <a:latin typeface="Tahoma"/>
              </a:rPr>
              <a:t>W. Oberschelp, G. Voss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Rechneraufbau und Rechnerstrukturen, 8. Auflage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Oldenbourg 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Literatu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3640" y="1150920"/>
            <a:ext cx="8541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d"/>
                </a:solidFill>
                <a:latin typeface="Tahoma"/>
              </a:rPr>
              <a:t>•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D. Patterson, J. Henness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Computer Organisation &amp;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Morgan Kaufmann Publ. 3. Auflage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•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J. Silic, B. Robic and Th. Unger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Processor architecture : from dataflow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superscalar and beyond; Springer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•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Th. Unger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Mikroprozessortechnik, Thomson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•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A.S. Tanenbau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Structured Computer Organization, 4. Auflage,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Literatu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2880" y="1224000"/>
            <a:ext cx="798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0600" y="1109520"/>
            <a:ext cx="82868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ähring, Helmu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Mikrorechner-Techn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pringer-Verlag, 3.Auflage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nd I – ISBN 3-540-41648-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H.B.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ikroprozessoren und Digitale Signalprozesso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and II – ISBN 3-540-43693-6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H.B.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usse, Speicher, Peripherie und Mikrocontroll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rinkschulte, Uwe und Theo Ungerer: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U.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Mikrocontroller und Mikroprozessor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pringer-Verlag, 200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SBN 3-540-43095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lik, Thomas und Hans Liebig: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T.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Mikroprozessortechni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pringer-Verlag, 5.Auflage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SBN 3-540-64019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Literatu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1360" y="1325520"/>
            <a:ext cx="822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3000" y="1344600"/>
            <a:ext cx="6048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Times New Roman"/>
              </a:rPr>
              <a:t>Themen TI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.Grundlagen, Definitionen und Erklärungen. Historische Entwicklu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1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8, 13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U.B.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. 1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5, 40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2.Steuerwerk, Steuerreg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31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3.Rechenwerk (Operationswer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67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7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4.Registersatz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88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5.Adreßwe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63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65, 78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6.Systembusschnittste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110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12, 115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19, 127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7.Pipeline-Verarb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U.B.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. 45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63, 67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6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8.CISK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R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U.B.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. 8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2, 33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104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Tamim Asfour</dc:creator>
  <dc:description/>
  <dc:language>en-US</dc:language>
  <cp:lastModifiedBy>Mladen Milushev</cp:lastModifiedBy>
  <cp:lastPrinted>2000-05-02T16:11:13Z</cp:lastPrinted>
  <dcterms:modified xsi:type="dcterms:W3CDTF">2005-09-20T07:54:54Z</dcterms:modified>
  <cp:revision>370</cp:revision>
  <dc:subject/>
  <dc:title>TI-2</dc:title>
</cp:coreProperties>
</file>