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DD6A355-5ADF-469F-84BD-EACA3D47070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CD58-82AD-4B13-922B-C3078481F5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rten von Pipeline- Konflik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440" y="1081080"/>
            <a:ext cx="8666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66cc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1320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085760"/>
            <a:ext cx="8277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67760" cy="5124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96200" cy="5124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0600" y="1128600"/>
            <a:ext cx="8277120" cy="511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258400" cy="5114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720" y="1733400"/>
            <a:ext cx="801864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4640" y="1100160"/>
            <a:ext cx="8277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8400" y="1335240"/>
            <a:ext cx="77979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ZapfDingbats"/>
                <a:ea typeface="ZapfDingbats"/>
              </a:rPr>
              <a:t>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Lösungen (Hardwar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Monotype Sorts"/>
                <a:ea typeface="Monotype Sorts"/>
              </a:rPr>
              <a:t>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Arbitrierung mit Interlo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ierungslogik hält den Befehl, der 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flikt verursacht - Verzögerung d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Monotype Sorts"/>
                <a:ea typeface="Monotype Sorts"/>
              </a:rPr>
              <a:t>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Übertak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ssource, die den Konflikt hervorru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neller als die übrigen Pipeline-Stufen ta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Monotype Sorts"/>
                <a:ea typeface="Monotype Sorts"/>
              </a:rPr>
              <a:t>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Ressourcenreplizieru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ielfa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Res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rungss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6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0600" y="1071720"/>
            <a:ext cx="82580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6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4-11-18T06:00:33Z</dcterms:modified>
  <cp:revision>370</cp:revision>
  <dc:subject/>
  <dc:title>TI-2</dc:title>
</cp:coreProperties>
</file>