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docx" ContentType="application/vnd.openxmlformats-officedocument.wordprocessingml.document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80880" y="228240"/>
            <a:ext cx="83059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package" Target="../embeddings/oleObject1.docx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38080" y="6324480"/>
            <a:ext cx="687240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3572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stitut für Prozessrechentechnik, Automation und Robotik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33572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rof. rer.nat. U. Brinkschul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" name=""/>
          <p:cNvGraphicFramePr/>
          <p:nvPr/>
        </p:nvGraphicFramePr>
        <p:xfrm>
          <a:off x="371520" y="6400800"/>
          <a:ext cx="360360" cy="3603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71520" y="6400800"/>
                    <a:ext cx="36036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"/>
          <p:cNvSpPr/>
          <p:nvPr/>
        </p:nvSpPr>
        <p:spPr>
          <a:xfrm>
            <a:off x="8305920" y="6400800"/>
            <a:ext cx="533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E2F23-D08C-4D6B-B1FD-16DFB8655327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990720"/>
            <a:ext cx="8305920" cy="75960"/>
          </a:xfrm>
          <a:prstGeom prst="rect">
            <a:avLst/>
          </a:prstGeom>
          <a:gradFill rotWithShape="0">
            <a:gsLst>
              <a:gs pos="0">
                <a:srgbClr val="d5ffd5"/>
              </a:gs>
              <a:gs pos="50000">
                <a:srgbClr val="336600"/>
              </a:gs>
              <a:gs pos="100000">
                <a:srgbClr val="d5ffd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80880" y="6248520"/>
            <a:ext cx="8305920" cy="75960"/>
          </a:xfrm>
          <a:prstGeom prst="rect">
            <a:avLst/>
          </a:prstGeom>
          <a:gradFill rotWithShape="0">
            <a:gsLst>
              <a:gs pos="0">
                <a:srgbClr val="336600"/>
              </a:gs>
              <a:gs pos="50000">
                <a:srgbClr val="d5ffd5"/>
              </a:gs>
              <a:gs pos="100000">
                <a:srgbClr val="3366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ahoma"/>
              </a:rPr>
              <a:t>Interner Aufbau eines einfachen </a:t>
            </a:r>
            <a:r>
              <a:rPr b="1" lang="en-US" sz="2400" spc="-1" strike="noStrike">
                <a:solidFill>
                  <a:srgbClr val="00339b"/>
                </a:solidFill>
                <a:latin typeface="Tahoma;Symbol"/>
              </a:rPr>
              <a:t>µ</a:t>
            </a:r>
            <a:r>
              <a:rPr b="1" lang="en-US" sz="2400" spc="-1" strike="noStrike">
                <a:solidFill>
                  <a:srgbClr val="00339b"/>
                </a:solidFill>
                <a:latin typeface="Tahoma"/>
              </a:rPr>
              <a:t>P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050840" y="1114560"/>
            <a:ext cx="7478640" cy="512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1.5.3.</a:t>
            </a:r>
            <a:r>
              <a:rPr b="1" sz="2400" spc="-1" strike="noStrike">
                <a:solidFill>
                  <a:srgbClr val="000099"/>
                </a:solidFill>
                <a:latin typeface="Arial"/>
              </a:rPr>
              <a:t>Automatische Modifikation von Indexregistern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914400" y="1262160"/>
            <a:ext cx="7137360" cy="229212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523800" y="3562200"/>
            <a:ext cx="8029800" cy="26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3333cc"/>
                </a:solidFill>
                <a:latin typeface="Arial"/>
              </a:rPr>
              <a:t>a) </a:t>
            </a:r>
            <a:r>
              <a:rPr b="0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3333cc"/>
                </a:solidFill>
                <a:latin typeface="Arial"/>
              </a:rPr>
              <a:t>Post-Inkreme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automatische Erhöhung des Registerwerts um </a:t>
            </a:r>
            <a:r>
              <a:rPr b="0" i="1" sz="2000" spc="-1" strike="noStrike">
                <a:solidFill>
                  <a:srgbClr val="000000"/>
                </a:solidFill>
                <a:latin typeface="Arial"/>
              </a:rPr>
              <a:t>+n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 nach 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Adressierung einer Speicherzel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3333cc"/>
                </a:solidFill>
                <a:latin typeface="Arial"/>
              </a:rPr>
              <a:t>b) </a:t>
            </a:r>
            <a:r>
              <a:rPr b="0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3333cc"/>
                </a:solidFill>
                <a:latin typeface="Arial"/>
              </a:rPr>
              <a:t>Pre-Dekreme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automatische Erniedrigung des Registerwerts um </a:t>
            </a:r>
            <a:r>
              <a:rPr b="0" i="1" sz="2000" spc="-1" strike="noStrike">
                <a:solidFill>
                  <a:srgbClr val="000000"/>
                </a:solidFill>
                <a:latin typeface="Arial"/>
              </a:rPr>
              <a:t>-n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 vor 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Adressierung einer Speicherzel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3333cc"/>
                </a:solidFill>
                <a:latin typeface="Arial"/>
              </a:rPr>
              <a:t>c) </a:t>
            </a:r>
            <a:r>
              <a:rPr b="0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3333cc"/>
                </a:solidFill>
                <a:latin typeface="Arial"/>
              </a:rPr>
              <a:t>Auto-Inkrement / Auto-Dekrement Regi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99"/>
                </a:solidFill>
                <a:latin typeface="Arial"/>
              </a:rPr>
              <a:t>1.5.3.Register mit Skalierung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33520" y="4476600"/>
            <a:ext cx="7972200" cy="169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cc66"/>
                </a:solidFill>
                <a:latin typeface="Arial"/>
              </a:rPr>
              <a:t>Vorte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bessere Ausnutzung der Registerbreite, da das Register selbst nur noch um 1 inkrementiert bzw. dekrementiert werden muß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2679840" y="2409840"/>
            <a:ext cx="4030560" cy="212400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514440" y="1114560"/>
            <a:ext cx="7905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Das Indexregister wird vor der Auswertung je nach aktueller Datenlänge (1 Byte, 2 Byte, 4 Byte, 8 Byte) mit dem Faktor 1, 2, 4 oder 8 multiplizier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1.5.3.</a:t>
            </a:r>
            <a:r>
              <a:rPr b="1" sz="2400" spc="-1" strike="noStrike">
                <a:solidFill>
                  <a:srgbClr val="000099"/>
                </a:solidFill>
                <a:latin typeface="Arial"/>
              </a:rPr>
              <a:t>Der (Laufzeit-)Stack “Kellerspeicher”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28760" y="1104840"/>
            <a:ext cx="8324640" cy="494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28584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in besonderer Speicherbereich der normalerweise im Arbeitsspeicher angelegt ist (software stack)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, der nach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dem Kellerprinzip (</a:t>
            </a:r>
            <a:r>
              <a:rPr b="0" i="1" sz="2400" spc="-1" strike="noStrike">
                <a:solidFill>
                  <a:srgbClr val="000000"/>
                </a:solidFill>
                <a:latin typeface="Arial"/>
              </a:rPr>
              <a:t>LIFO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 Last-in-first-out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) organisie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28584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Arial"/>
              </a:rPr>
              <a:t>Funk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99"/>
              </a:spcBef>
              <a:buClr>
                <a:srgbClr val="0000cc"/>
              </a:buClr>
              <a:buSzPct val="75000"/>
              <a:buFont typeface="Wingdings" charset="2"/>
              <a:buChar char=""/>
              <a:tabLst>
                <a:tab algn="l" pos="28584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Abspeichern des Prozessorstatus und des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Programmzählers beim Unterprogrammaufruf und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Aufruf von Unterbrechungs-Routin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901"/>
              </a:spcBef>
              <a:buClr>
                <a:srgbClr val="0000cc"/>
              </a:buClr>
              <a:buSzPct val="75000"/>
              <a:buFont typeface="Wingdings" charset="2"/>
              <a:buChar char=""/>
              <a:tabLst>
                <a:tab algn="l" pos="28584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Parameterüberga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901"/>
              </a:spcBef>
              <a:buClr>
                <a:srgbClr val="0000cc"/>
              </a:buClr>
              <a:buSzPct val="75000"/>
              <a:buFont typeface="Wingdings" charset="2"/>
              <a:buChar char=""/>
              <a:tabLst>
                <a:tab algn="l" pos="28584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kurzzeitige Lagerung von Daten bei der Ausführ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28584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ei modernen Prozessoren häufig mehrere getrennte Stackspeicher: System Stack, User Stack, Data St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99"/>
                </a:solidFill>
                <a:latin typeface="Arial"/>
              </a:rPr>
              <a:t>1.5.3.Hardware-Unterstützung des Stacks</a:t>
            </a:r>
            <a:r>
              <a:rPr b="0" lang="de-DE" sz="32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8760" y="1352520"/>
            <a:ext cx="8134200" cy="38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af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Stackregister (Stapelzeiger, Stack Pointer SP): 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nthält die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Adresse des zuletzt in den Stack eingetragenen Datum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199"/>
              </a:spcBef>
              <a:buClr>
                <a:srgbClr val="00af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pezielle Befehle zur Datenübertragung in den bzw. aus dem St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85840">
              <a:lnSpc>
                <a:spcPct val="100000"/>
              </a:lnSpc>
              <a:spcBef>
                <a:spcPts val="1199"/>
              </a:spcBef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Arial"/>
              </a:rPr>
              <a:t>PUSH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: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halt eines Registers wird in den Stack übertra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85840">
              <a:lnSpc>
                <a:spcPct val="100000"/>
              </a:lnSpc>
              <a:spcBef>
                <a:spcPts val="1199"/>
              </a:spcBef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Arial"/>
              </a:rPr>
              <a:t>POP (PULL)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: 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halt eines Registers wird vom Stack gela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399"/>
                </a:solidFill>
                <a:latin typeface="Arial"/>
              </a:rPr>
              <a:t>1.5.3.Verwaltung des Stackregisters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457440" y="5734080"/>
            <a:ext cx="1952640" cy="363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57440" y="1638360"/>
            <a:ext cx="1952640" cy="363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457440" y="1943280"/>
            <a:ext cx="1952640" cy="36324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457440" y="2286000"/>
            <a:ext cx="1952640" cy="3636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457440" y="2629080"/>
            <a:ext cx="1952640" cy="36324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57440" y="2981160"/>
            <a:ext cx="1952640" cy="3636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57440" y="3324240"/>
            <a:ext cx="1952640" cy="3636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57440" y="3676680"/>
            <a:ext cx="1952640" cy="3636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457440" y="4029120"/>
            <a:ext cx="1952640" cy="3636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457440" y="4362480"/>
            <a:ext cx="1952640" cy="3636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457440" y="5048280"/>
            <a:ext cx="1952640" cy="3636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457440" y="4714920"/>
            <a:ext cx="1952640" cy="3636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457440" y="5381640"/>
            <a:ext cx="1952640" cy="3636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209760" y="1171440"/>
            <a:ext cx="241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rbeitsspei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552840" y="2629080"/>
            <a:ext cx="77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n +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552840" y="2981160"/>
            <a:ext cx="77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n +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552840" y="3314880"/>
            <a:ext cx="77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552840" y="3666960"/>
            <a:ext cx="77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n -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552840" y="4019400"/>
            <a:ext cx="77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n -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410080" y="1614600"/>
            <a:ext cx="0" cy="4505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5410080" y="1171440"/>
            <a:ext cx="3733920" cy="4922640"/>
            <a:chOff x="5410080" y="1171440"/>
            <a:chExt cx="3733920" cy="4922640"/>
          </a:xfrm>
        </p:grpSpPr>
        <p:sp>
          <p:nvSpPr>
            <p:cNvPr id="166" name=""/>
            <p:cNvSpPr/>
            <p:nvPr/>
          </p:nvSpPr>
          <p:spPr>
            <a:xfrm>
              <a:off x="6477120" y="4822920"/>
              <a:ext cx="26668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vor dem Befehl und nach </a:t>
              </a:r>
              <a:r>
                <a:rPr b="0" lang="de-DE" sz="1600" spc="-1" strike="noStrike" u="sng">
                  <a:solidFill>
                    <a:srgbClr val="000000"/>
                  </a:solidFill>
                  <a:uFillTx/>
                  <a:latin typeface="Arial"/>
                </a:rPr>
                <a:t>Ausführung</a:t>
              </a: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 des Befeh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7" name=""/>
            <p:cNvGrpSpPr/>
            <p:nvPr/>
          </p:nvGrpSpPr>
          <p:grpSpPr>
            <a:xfrm>
              <a:off x="5410080" y="1171440"/>
              <a:ext cx="3610080" cy="4922640"/>
              <a:chOff x="5410080" y="1171440"/>
              <a:chExt cx="3610080" cy="4922640"/>
            </a:xfrm>
          </p:grpSpPr>
          <p:sp>
            <p:nvSpPr>
              <p:cNvPr id="168" name=""/>
              <p:cNvSpPr/>
              <p:nvPr/>
            </p:nvSpPr>
            <p:spPr>
              <a:xfrm>
                <a:off x="6477120" y="5513400"/>
                <a:ext cx="239076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600" spc="-1" strike="noStrike">
                    <a:solidFill>
                      <a:srgbClr val="000000"/>
                    </a:solidFill>
                    <a:latin typeface="Arial"/>
                  </a:rPr>
                  <a:t>nach Ausführung des</a:t>
                </a:r>
                <a:br>
                  <a:rPr sz="1600"/>
                </a:br>
                <a:r>
                  <a:rPr b="0" lang="de-DE" sz="1600" spc="-1" strike="noStrike">
                    <a:solidFill>
                      <a:srgbClr val="000000"/>
                    </a:solidFill>
                    <a:latin typeface="Arial"/>
                  </a:rPr>
                  <a:t>Befehl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5867280" y="5002200"/>
                <a:ext cx="5241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5867280" y="5727600"/>
                <a:ext cx="5241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lg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 flipH="1">
                <a:off x="5410080" y="3505320"/>
                <a:ext cx="10670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 flipH="1" flipV="1">
                <a:off x="5410080" y="3076560"/>
                <a:ext cx="1076400" cy="25704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lg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6477120" y="3324240"/>
                <a:ext cx="1952640" cy="363600"/>
              </a:xfrm>
              <a:prstGeom prst="rect">
                <a:avLst/>
              </a:prstGeom>
              <a:solidFill>
                <a:srgbClr val="ffe67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7058160" y="3314880"/>
                <a:ext cx="771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de-DE" sz="1800" spc="-1" strike="noStrike">
                    <a:solidFill>
                      <a:srgbClr val="000000"/>
                    </a:solidFill>
                    <a:latin typeface="Times New Roman"/>
                  </a:rPr>
                  <a:t>n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6429240" y="1171440"/>
                <a:ext cx="25909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800" spc="-1" strike="noStrike">
                    <a:solidFill>
                      <a:srgbClr val="000000"/>
                    </a:solidFill>
                    <a:latin typeface="Arial"/>
                  </a:rPr>
                  <a:t>Operand aus</a:t>
                </a:r>
                <a:br>
                  <a:rPr sz="1800"/>
                </a:br>
                <a:r>
                  <a:rPr b="1" lang="de-DE" sz="1800" spc="-1" strike="noStrike">
                    <a:solidFill>
                      <a:srgbClr val="000000"/>
                    </a:solidFill>
                    <a:latin typeface="Arial"/>
                  </a:rPr>
                  <a:t>Speichezelle 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6591240" y="2057400"/>
                <a:ext cx="1838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de-DE" sz="1800" spc="-1" strike="noStrike">
                    <a:solidFill>
                      <a:srgbClr val="000000"/>
                    </a:solidFill>
                    <a:latin typeface="Arial"/>
                  </a:rPr>
                  <a:t>post-inkr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6477120" y="2857680"/>
                <a:ext cx="1925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400" spc="-1" strike="noStrike">
                    <a:solidFill>
                      <a:srgbClr val="000000"/>
                    </a:solidFill>
                    <a:latin typeface="Arial"/>
                  </a:rPr>
                  <a:t>Stackpointe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5467320" y="2448000"/>
                <a:ext cx="961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400" spc="-1" strike="noStrike">
                    <a:solidFill>
                      <a:srgbClr val="00cc66"/>
                    </a:solidFill>
                    <a:latin typeface="Arial"/>
                  </a:rPr>
                  <a:t>PULL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 flipV="1">
                <a:off x="5896080" y="2885760"/>
                <a:ext cx="0" cy="561960"/>
              </a:xfrm>
              <a:prstGeom prst="line">
                <a:avLst/>
              </a:prstGeom>
              <a:ln w="38160">
                <a:solidFill>
                  <a:srgbClr val="00cc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0" name=""/>
          <p:cNvSpPr/>
          <p:nvPr/>
        </p:nvSpPr>
        <p:spPr>
          <a:xfrm>
            <a:off x="3457440" y="1614600"/>
            <a:ext cx="0" cy="4505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343080" y="1171440"/>
            <a:ext cx="3114360" cy="4933800"/>
            <a:chOff x="343080" y="1171440"/>
            <a:chExt cx="3114360" cy="4933800"/>
          </a:xfrm>
        </p:grpSpPr>
        <p:sp>
          <p:nvSpPr>
            <p:cNvPr id="182" name=""/>
            <p:cNvSpPr/>
            <p:nvPr/>
          </p:nvSpPr>
          <p:spPr>
            <a:xfrm>
              <a:off x="409680" y="2981160"/>
              <a:ext cx="1952640" cy="363600"/>
            </a:xfrm>
            <a:prstGeom prst="rect">
              <a:avLst/>
            </a:prstGeom>
            <a:solidFill>
              <a:srgbClr val="ffe67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990720" y="2981160"/>
              <a:ext cx="771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de-DE" sz="1800" spc="-1" strike="noStrike">
                  <a:solidFill>
                    <a:srgbClr val="000000"/>
                  </a:solidFill>
                  <a:latin typeface="Times New Roman"/>
                </a:rPr>
                <a:t>n + 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876240" y="4809960"/>
              <a:ext cx="1905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vor dem Befeh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914400" y="5524560"/>
              <a:ext cx="25052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vor und nach </a:t>
              </a:r>
              <a:r>
                <a:rPr b="0" lang="de-DE" sz="1600" spc="-1" strike="noStrike" u="sng">
                  <a:solidFill>
                    <a:srgbClr val="000000"/>
                  </a:solidFill>
                  <a:uFillTx/>
                  <a:latin typeface="Arial"/>
                </a:rPr>
                <a:t>Ausführung</a:t>
              </a: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 des Befeh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61800" y="5002200"/>
              <a:ext cx="53352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43080" y="5727600"/>
              <a:ext cx="533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2352600" y="3905280"/>
              <a:ext cx="1057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cc"/>
                  </a:solidFill>
                  <a:latin typeface="Arial"/>
                </a:rPr>
                <a:t>PUS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828880" y="3228840"/>
              <a:ext cx="0" cy="648000"/>
            </a:xfrm>
            <a:prstGeom prst="line">
              <a:avLst/>
            </a:prstGeom>
            <a:ln w="381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352600" y="3343320"/>
              <a:ext cx="1104840" cy="190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09680" y="3362400"/>
              <a:ext cx="1923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vor dem Befeh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371680" y="3162240"/>
              <a:ext cx="108576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90600" y="2552760"/>
              <a:ext cx="2009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Arial"/>
                </a:rPr>
                <a:t>Stackpoint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95360" y="1171440"/>
              <a:ext cx="2076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Operand in Speicherzelle 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57200" y="2057400"/>
              <a:ext cx="1809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pre-dekr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Interner Aufbau eines einfachen </a:t>
            </a:r>
            <a:r>
              <a:rPr b="0" lang="en-US" sz="4000" spc="-1" strike="noStrike">
                <a:solidFill>
                  <a:srgbClr val="00339b"/>
                </a:solidFill>
                <a:latin typeface="Tahoma;Symbol"/>
              </a:rPr>
              <a:t>µ</a:t>
            </a:r>
            <a:r>
              <a:rPr b="0" lang="en-US" sz="4000" spc="-1" strike="noStrike">
                <a:solidFill>
                  <a:srgbClr val="00339b"/>
                </a:solidFill>
                <a:latin typeface="Tahoma"/>
              </a:rPr>
              <a:t>P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1050840" y="1114560"/>
            <a:ext cx="7478640" cy="512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b"/>
                </a:solidFill>
                <a:latin typeface="Tahoma"/>
              </a:rPr>
              <a:t>Interner Aufbau eines einfachen</a:t>
            </a:r>
            <a:r>
              <a:rPr b="0" lang="en-US" sz="4000" spc="-1" strike="noStrike">
                <a:solidFill>
                  <a:srgbClr val="00339b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339b"/>
                </a:solidFill>
                <a:latin typeface="Tahoma;Symbol"/>
              </a:rPr>
              <a:t>µ</a:t>
            </a:r>
            <a:r>
              <a:rPr b="0" lang="en-US" sz="4000" spc="-1" strike="noStrike">
                <a:solidFill>
                  <a:srgbClr val="00339b"/>
                </a:solidFill>
                <a:latin typeface="Tahoma"/>
              </a:rPr>
              <a:t>P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015920" y="1244520"/>
            <a:ext cx="614700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0000ff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Tahoma"/>
              </a:rPr>
              <a:t>Steuerwe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ff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Tahoma"/>
              </a:rPr>
              <a:t>Rechenwe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ff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Tahoma"/>
              </a:rPr>
              <a:t>Registersat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dresswe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Tahoma"/>
              </a:rPr>
              <a:t>Interne Bus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Tahoma"/>
              </a:rPr>
              <a:t>Systembusschnittstel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1.5.4.</a:t>
            </a:r>
            <a:r>
              <a:rPr b="1" sz="2400" spc="-1" strike="noStrike">
                <a:solidFill>
                  <a:srgbClr val="000099"/>
                </a:solidFill>
                <a:latin typeface="Arial"/>
              </a:rPr>
              <a:t>Das Adresswerk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52440" y="1066680"/>
            <a:ext cx="8524800" cy="56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238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Das Adresswerk hat die Aufgabe, nach den Vorgaben des Steuerwerks aus den Inhalten bestimmter Speicherzellen und Register die Adresse eines Operanden zu bild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238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238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Arial"/>
              </a:rPr>
              <a:t>Früher: 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Adressberechnung durch die AL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762120"/>
                <a:tab algn="l" pos="1238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Arial"/>
              </a:rPr>
              <a:t>Heute: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Eigene Adresswerk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24"/>
              </a:spcBef>
              <a:buClr>
                <a:srgbClr val="0000cc"/>
              </a:buClr>
              <a:buSzPct val="75000"/>
              <a:buFont typeface="Wingdings" charset="2"/>
              <a:buChar char=""/>
              <a:tabLst>
                <a:tab algn="l" pos="762120"/>
                <a:tab algn="l" pos="1238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Adressberechnung findet parallel (im Pipelining-Verfahren) zu 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den Aktivitäten des Operationswerks stat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24"/>
              </a:spcBef>
              <a:buClr>
                <a:srgbClr val="0000cc"/>
              </a:buClr>
              <a:buSzPct val="75000"/>
              <a:buFont typeface="Wingdings" charset="2"/>
              <a:buChar char=""/>
              <a:tabLst>
                <a:tab algn="l" pos="762120"/>
                <a:tab algn="l" pos="1238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Führt neben einfacher Adressrechnung auch die 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Adressrechnung zur virtuellen Speicherverwaltung durch 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24"/>
              </a:spcBef>
              <a:buClr>
                <a:srgbClr val="0000cc"/>
              </a:buClr>
              <a:buSzPct val="75000"/>
              <a:buFont typeface="Wingdings" charset="2"/>
              <a:buChar char=""/>
              <a:tabLst>
                <a:tab algn="l" pos="762120"/>
                <a:tab algn="l" pos="1238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Früher oft seperater Baustein, heute in den Prozessor integriert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24"/>
              </a:spcBef>
              <a:buClr>
                <a:srgbClr val="0000cc"/>
              </a:buClr>
              <a:buSzPct val="75000"/>
              <a:buFont typeface="Wingdings" charset="2"/>
              <a:buChar char=""/>
              <a:tabLst>
                <a:tab algn="l" pos="762120"/>
                <a:tab algn="l" pos="1238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Komplexe Adresswerke zur virtuellen Speicherverwaltung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später!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1.5.4.</a:t>
            </a:r>
            <a:r>
              <a:rPr b="1" sz="2400" spc="-1" strike="noStrike">
                <a:solidFill>
                  <a:srgbClr val="000099"/>
                </a:solidFill>
                <a:latin typeface="Arial"/>
              </a:rPr>
              <a:t>Aufbau eines einfachen Adresswerks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1130400" y="1600200"/>
            <a:ext cx="6881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1.5.4.</a:t>
            </a:r>
            <a:r>
              <a:rPr b="1" sz="2400" spc="-1" strike="noStrike">
                <a:solidFill>
                  <a:srgbClr val="000099"/>
                </a:solidFill>
                <a:latin typeface="Arial"/>
              </a:rPr>
              <a:t>Funktionsweise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99960" y="1076400"/>
            <a:ext cx="8429760" cy="50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Arial"/>
              </a:rPr>
              <a:t>Adress-Addierer mit 2 Eingä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Arial"/>
              </a:rPr>
              <a:t>Eingang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(HR0)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0000cc"/>
              </a:buClr>
              <a:buSzPct val="75000"/>
              <a:buFont typeface="Wingdings" charset="2"/>
              <a:buChar char="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Registersatz (Adresse aus Basis- oder Indexregist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0000cc"/>
              </a:buClr>
              <a:buSzPct val="75000"/>
              <a:buFont typeface="Wingdings" charset="2"/>
              <a:buChar char="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Datenbuspuffer (absolute Adresse im Befehl oder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absolute Adressdistanz zu einem Basisregist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Arial"/>
              </a:rPr>
              <a:t>Eingang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(HR1)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0000cc"/>
              </a:buClr>
              <a:buSzPct val="75000"/>
              <a:buFont typeface="Wingdings" charset="2"/>
              <a:buChar char="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Programmzähler (Adresse des aktuellen Befehl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0000cc"/>
              </a:buClr>
              <a:buSzPct val="75000"/>
              <a:buFont typeface="Wingdings" charset="2"/>
              <a:buChar char="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Adresspuffer (Adresse des aktuellen Operand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60000"/>
              </a:lnSpc>
              <a:tabLst>
                <a:tab algn="l" pos="0"/>
                <a:tab algn="l" pos="762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Der Ausgang kann über den Adresspuffer oder den Programmzähler auf Eingang 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rückgekoppelt wer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49"/>
              </a:spcBef>
              <a:buClr>
                <a:srgbClr val="3333cc"/>
              </a:buClr>
              <a:buFont typeface="Wingdings" charset="2"/>
              <a:buChar char="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Adresspuffer und Programmzähler als Akkumulato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b"/>
                </a:solidFill>
                <a:latin typeface="Tahoma"/>
              </a:rPr>
              <a:t>Interner Aufbau eines einfachen</a:t>
            </a:r>
            <a:r>
              <a:rPr b="1" lang="en-US" sz="2400" spc="-1" strike="noStrike">
                <a:solidFill>
                  <a:srgbClr val="00339b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339b"/>
                </a:solidFill>
                <a:latin typeface="Tahoma;Symbol"/>
              </a:rPr>
              <a:t>µ</a:t>
            </a:r>
            <a:r>
              <a:rPr b="1" lang="en-US" sz="2400" spc="-1" strike="noStrike">
                <a:solidFill>
                  <a:srgbClr val="00339b"/>
                </a:solidFill>
                <a:latin typeface="Tahoma"/>
              </a:rPr>
              <a:t>P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015920" y="1244520"/>
            <a:ext cx="614700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0000ff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Tahoma"/>
              </a:rPr>
              <a:t>Steuerwe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ff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Tahoma"/>
              </a:rPr>
              <a:t>Rechenwe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gistersat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Tahoma"/>
              </a:rPr>
              <a:t>Adresswe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Tahoma"/>
              </a:rPr>
              <a:t>Interne Bus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Tahoma"/>
              </a:rPr>
              <a:t>Systembusschnittstel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1.5.4.</a:t>
            </a:r>
            <a:r>
              <a:rPr b="1" sz="2400" spc="-1" strike="noStrike">
                <a:solidFill>
                  <a:srgbClr val="000099"/>
                </a:solidFill>
                <a:latin typeface="Arial"/>
              </a:rPr>
              <a:t>Skalierung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57200" y="1123920"/>
            <a:ext cx="8067600" cy="48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Arial"/>
              </a:rPr>
              <a:t>Skalierung: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49"/>
              </a:spcBef>
              <a:buClr>
                <a:srgbClr val="0000cc"/>
              </a:buClr>
              <a:buSzPct val="75000"/>
              <a:buFont typeface="Wingdings" charset="2"/>
              <a:buChar char="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Operanden mit 1,2,4,8,...  multiplizieren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49"/>
              </a:spcBef>
              <a:buClr>
                <a:srgbClr val="0000cc"/>
              </a:buClr>
              <a:buSzPct val="75000"/>
              <a:buFont typeface="Wingdings" charset="2"/>
              <a:buChar char="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Adreßberechung für sukzesive Zugriff auf Bytes,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Worte, Doppelworte, Vierfachworte,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762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Arial"/>
              </a:rPr>
              <a:t>Multiplikation mit positiver Zahl: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Verschieben nach links mit nachrückenden Nul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762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Realisierung durch Schaltnetz: 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Barrel-Shif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762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Ein Barrel-Shifter erlaubt die Verschiebung um n Bits parallel (d.h in einem einzigen Taktzyklu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1.5.4.</a:t>
            </a:r>
            <a:r>
              <a:rPr b="1" sz="2400" spc="-1" strike="noStrike">
                <a:solidFill>
                  <a:srgbClr val="000099"/>
                </a:solidFill>
                <a:latin typeface="Arial"/>
              </a:rPr>
              <a:t>Aufbau eines 4 Bit Barrel-Shifter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1203480" y="1225440"/>
            <a:ext cx="6813360" cy="413568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533520" y="5448240"/>
            <a:ext cx="805788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Auf jede Ausgangsleitung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wird je nach Wert der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Steuerleitungen die Eingangsleitung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D</a:t>
            </a:r>
            <a:r>
              <a:rPr b="0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, D</a:t>
            </a:r>
            <a:r>
              <a:rPr b="0" sz="2000" spc="-1" strike="noStrike" baseline="-25000">
                <a:solidFill>
                  <a:srgbClr val="000000"/>
                </a:solidFill>
                <a:latin typeface="Times New Roman"/>
              </a:rPr>
              <a:t>i-1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, D</a:t>
            </a:r>
            <a:r>
              <a:rPr b="0" sz="2000" spc="-1" strike="noStrike" baseline="-25000">
                <a:solidFill>
                  <a:srgbClr val="000000"/>
                </a:solidFill>
                <a:latin typeface="Times New Roman"/>
              </a:rPr>
              <a:t>i-2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oder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D</a:t>
            </a:r>
            <a:r>
              <a:rPr b="0" sz="2000" spc="-1" strike="noStrike" baseline="-25000">
                <a:solidFill>
                  <a:srgbClr val="000000"/>
                </a:solidFill>
                <a:latin typeface="Times New Roman"/>
              </a:rPr>
              <a:t>i-3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geschalt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781680" y="3762360"/>
            <a:ext cx="0" cy="45720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991120" y="3886200"/>
            <a:ext cx="790560" cy="304920"/>
          </a:xfrm>
          <a:custGeom>
            <a:avLst/>
            <a:gdLst/>
            <a:ahLst/>
            <a:rect l="l" t="t" r="r" b="b"/>
            <a:pathLst>
              <a:path w="498" h="192">
                <a:moveTo>
                  <a:pt x="498" y="0"/>
                </a:moveTo>
                <a:lnTo>
                  <a:pt x="0" y="7"/>
                </a:lnTo>
                <a:lnTo>
                  <a:pt x="0" y="192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191200" y="3971880"/>
            <a:ext cx="790560" cy="238320"/>
          </a:xfrm>
          <a:custGeom>
            <a:avLst/>
            <a:gdLst/>
            <a:ahLst/>
            <a:rect l="l" t="t" r="r" b="b"/>
            <a:pathLst>
              <a:path w="498" h="186">
                <a:moveTo>
                  <a:pt x="498" y="0"/>
                </a:moveTo>
                <a:lnTo>
                  <a:pt x="0" y="6"/>
                </a:lnTo>
                <a:lnTo>
                  <a:pt x="6" y="186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400640" y="4067280"/>
            <a:ext cx="780840" cy="142920"/>
          </a:xfrm>
          <a:custGeom>
            <a:avLst/>
            <a:gdLst/>
            <a:ahLst/>
            <a:rect l="l" t="t" r="r" b="b"/>
            <a:pathLst>
              <a:path w="498" h="186">
                <a:moveTo>
                  <a:pt x="498" y="0"/>
                </a:moveTo>
                <a:lnTo>
                  <a:pt x="0" y="6"/>
                </a:lnTo>
                <a:lnTo>
                  <a:pt x="6" y="186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149800" y="4025880"/>
            <a:ext cx="88920" cy="8892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943600" y="3936960"/>
            <a:ext cx="88920" cy="8892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730920" y="3841920"/>
            <a:ext cx="88920" cy="8856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Interner Aufbau eines einfachen </a:t>
            </a:r>
            <a:r>
              <a:rPr b="0" lang="en-US" sz="4000" spc="-1" strike="noStrike">
                <a:solidFill>
                  <a:srgbClr val="00339b"/>
                </a:solidFill>
                <a:latin typeface="Tahoma;Symbol"/>
              </a:rPr>
              <a:t>µ</a:t>
            </a:r>
            <a:r>
              <a:rPr b="0" lang="en-US" sz="4000" spc="-1" strike="noStrike">
                <a:solidFill>
                  <a:srgbClr val="00339b"/>
                </a:solidFill>
                <a:latin typeface="Tahoma"/>
              </a:rPr>
              <a:t>P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1050840" y="1114560"/>
            <a:ext cx="7478640" cy="512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b"/>
                </a:solidFill>
                <a:latin typeface="Tahoma"/>
              </a:rPr>
              <a:t>Interner Aufbau eines einfachen</a:t>
            </a:r>
            <a:r>
              <a:rPr b="0" lang="en-US" sz="4000" spc="-1" strike="noStrike">
                <a:solidFill>
                  <a:srgbClr val="00339b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339b"/>
                </a:solidFill>
                <a:latin typeface="Tahoma;Symbol"/>
              </a:rPr>
              <a:t>µ</a:t>
            </a:r>
            <a:r>
              <a:rPr b="0" lang="en-US" sz="4000" spc="-1" strike="noStrike">
                <a:solidFill>
                  <a:srgbClr val="00339b"/>
                </a:solidFill>
                <a:latin typeface="Tahoma"/>
              </a:rPr>
              <a:t>P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015920" y="1244520"/>
            <a:ext cx="614700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0000ff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Tahoma"/>
              </a:rPr>
              <a:t>Steuerwe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ff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Tahoma"/>
              </a:rPr>
              <a:t>Rechenwe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ff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Tahoma"/>
              </a:rPr>
              <a:t>Registersat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ff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Tahoma"/>
              </a:rPr>
              <a:t>Adresswe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ne Bus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Tahoma"/>
              </a:rPr>
              <a:t>Systembusschnittstel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1.5.5.</a:t>
            </a:r>
            <a:r>
              <a:rPr b="1" sz="2400" spc="-1" strike="noStrike">
                <a:solidFill>
                  <a:srgbClr val="000099"/>
                </a:solidFill>
                <a:latin typeface="Arial"/>
              </a:rPr>
              <a:t>Das interne Bussystem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52320" y="1384200"/>
            <a:ext cx="797724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1.5.5.</a:t>
            </a:r>
            <a:r>
              <a:rPr b="1" sz="2400" spc="-1" strike="noStrike">
                <a:solidFill>
                  <a:srgbClr val="000099"/>
                </a:solidFill>
                <a:latin typeface="Arial"/>
              </a:rPr>
              <a:t>Das interne Bussystem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90600" y="1254240"/>
            <a:ext cx="8296200" cy="56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1800" spc="-1" strike="noStrike">
                <a:solidFill>
                  <a:srgbClr val="3333cc"/>
                </a:solidFill>
                <a:latin typeface="Arial"/>
              </a:rPr>
              <a:t>Steuerbus: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56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heterogene Einzelleitungen, funktional nicht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zusammenhängend, werden der Übersichtlichkeit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wegen jedoch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als Bus dargestell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1800" spc="-1" strike="noStrike">
                <a:solidFill>
                  <a:srgbClr val="3333cc"/>
                </a:solidFill>
                <a:latin typeface="Arial"/>
              </a:rPr>
              <a:t>Adressbu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561"/>
              </a:spcBef>
              <a:buClr>
                <a:srgbClr val="0000cc"/>
              </a:buClr>
              <a:buSzPct val="70000"/>
              <a:buFont typeface="Wingdings" charset="2"/>
              <a:buChar char="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Ursprung im Adresswerk (AU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561"/>
              </a:spcBef>
              <a:buClr>
                <a:srgbClr val="0000cc"/>
              </a:buClr>
              <a:buSzPct val="70000"/>
              <a:buFont typeface="Wingdings" charset="2"/>
              <a:buChar char="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Zwischenspeichern von Adressen im  Programmzähler (PC,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Befehlsadressen) und Adresspuffer (AP, Operandenadresse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cc"/>
              </a:buClr>
              <a:buSzPct val="70000"/>
              <a:buFont typeface="Wingdings" charset="2"/>
              <a:buChar char="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Über Adressbustreiber mit externem Adressbus verbund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sz="1800" spc="-1" strike="noStrike">
                <a:solidFill>
                  <a:srgbClr val="3333cc"/>
                </a:solidFill>
                <a:latin typeface="Arial"/>
              </a:rPr>
              <a:t>Datenbus:</a:t>
            </a:r>
            <a:r>
              <a:rPr b="1" lang="de-DE" sz="18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verbindet alle übrigen Komponenten (Rechenwerk, Adresswerk,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Steuerwerk, Registersatz) zwecks Datentranspor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Über Datenbuspuffer mit externem Datenbus verbund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1.5.5.</a:t>
            </a:r>
            <a:r>
              <a:rPr b="1" sz="2400" spc="-1" strike="noStrike">
                <a:solidFill>
                  <a:srgbClr val="000099"/>
                </a:solidFill>
                <a:latin typeface="Arial"/>
              </a:rPr>
              <a:t>Das interne Bussystem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42880" y="1295280"/>
            <a:ext cx="7915320" cy="46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cc3300"/>
                </a:solidFill>
                <a:latin typeface="Arial"/>
              </a:rPr>
              <a:t>Problem bei dieser Datenbus-Architektu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Höchstens ein Datentransfer gleichzeitig zwischen zwei </a:t>
            </a:r>
            <a:br>
              <a:rPr sz="2000"/>
            </a:br>
            <a:r>
              <a:rPr b="0" sz="2000" spc="-1" strike="noStrike">
                <a:solidFill>
                  <a:srgbClr val="000000"/>
                </a:solidFill>
                <a:latin typeface="Arial"/>
              </a:rPr>
              <a:t>bestimmten Prozessor-Komponenten </a:t>
            </a:r>
            <a:r>
              <a:rPr b="0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sz="2000" spc="-1" strike="noStrike">
                <a:solidFill>
                  <a:srgbClr val="000000"/>
                </a:solidFill>
                <a:latin typeface="Arial"/>
              </a:rPr>
              <a:t>nur geringe Parallelität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 bei der Befehlsbearbeitung mögli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cc99"/>
                </a:solidFill>
                <a:latin typeface="Arial"/>
              </a:rPr>
              <a:t>Lösung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Aufspalten des internen Datenbus in mehrere Teilbusse </a:t>
            </a:r>
            <a:r>
              <a:rPr b="0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 höherer Parallelität, höhere Geschwindigke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3333cc"/>
                </a:solidFill>
                <a:latin typeface="Arial"/>
              </a:rPr>
              <a:t>Aber:</a:t>
            </a:r>
            <a:r>
              <a:rPr b="1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Busse erfordern ein erhebliches Maß an Chipflä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Ausbau des internen Bussystems nicht beliebig  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mögli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1.5.5.</a:t>
            </a:r>
            <a:r>
              <a:rPr b="1" sz="2400" spc="-1" strike="noStrike">
                <a:solidFill>
                  <a:srgbClr val="000099"/>
                </a:solidFill>
                <a:latin typeface="Arial"/>
              </a:rPr>
              <a:t>Varianten des internen Bussystems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80880" y="1095480"/>
            <a:ext cx="4219560" cy="50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b0bff"/>
                </a:solidFill>
                <a:latin typeface="Arial"/>
              </a:rPr>
              <a:t>1. Prefetch B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Hinzufügen eines zweiten, getrennten Datenbusses zum Adress- und Steuerwer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Parallel zu Aktionen im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Rechenwerk/Registersatz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kann das Befehlsregister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mit dem nächsten Befehl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geladen werd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Opcode Prefetch in eine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Prefetch- Queue wird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mögli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4664160" y="1204920"/>
            <a:ext cx="4327560" cy="468612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6993000" y="2789280"/>
            <a:ext cx="162000" cy="2143080"/>
          </a:xfrm>
          <a:prstGeom prst="downArrow">
            <a:avLst>
              <a:gd name="adj1" fmla="val 42861"/>
              <a:gd name="adj2" fmla="val 114650"/>
            </a:avLst>
          </a:prstGeom>
          <a:solidFill>
            <a:srgbClr val="0b0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H="1" rot="16200000">
            <a:off x="7588080" y="2199960"/>
            <a:ext cx="150840" cy="1239840"/>
          </a:xfrm>
          <a:prstGeom prst="downArrow">
            <a:avLst>
              <a:gd name="adj1" fmla="val 34620"/>
              <a:gd name="adj2" fmla="val 110279"/>
            </a:avLst>
          </a:prstGeom>
          <a:solidFill>
            <a:srgbClr val="0b0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1.5.5.</a:t>
            </a:r>
            <a:r>
              <a:rPr b="1" sz="2400" spc="-1" strike="noStrike">
                <a:solidFill>
                  <a:srgbClr val="000099"/>
                </a:solidFill>
                <a:latin typeface="Arial"/>
              </a:rPr>
              <a:t>Varianten des internen Bussystems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80880" y="1095480"/>
            <a:ext cx="4448160" cy="50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f000"/>
                </a:solidFill>
                <a:latin typeface="Arial"/>
              </a:rPr>
              <a:t>2. Ergebnis-B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Zusätzlicher Bus, der die Ergebnisse des Rechenwerks in den Registersatz transportier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arallelisierung im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echenwer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ährend das Rechenwerk ein Ergebnis in den Registersatz transportiert, können die Hilfsregister mit dem nächsten Operanden geladen wer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4724280" y="1219320"/>
            <a:ext cx="4326120" cy="471168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7042320" y="2786040"/>
            <a:ext cx="161640" cy="2139840"/>
          </a:xfrm>
          <a:prstGeom prst="downArrow">
            <a:avLst>
              <a:gd name="adj1" fmla="val 42306"/>
              <a:gd name="adj2" fmla="val 132873"/>
            </a:avLst>
          </a:prstGeom>
          <a:solidFill>
            <a:srgbClr val="0b0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H="1" rot="16200000">
            <a:off x="7607160" y="2220120"/>
            <a:ext cx="228600" cy="1220760"/>
          </a:xfrm>
          <a:prstGeom prst="downArrow">
            <a:avLst>
              <a:gd name="adj1" fmla="val 34620"/>
              <a:gd name="adj2" fmla="val 71647"/>
            </a:avLst>
          </a:prstGeom>
          <a:solidFill>
            <a:srgbClr val="0b0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864400" y="2835360"/>
            <a:ext cx="161640" cy="285840"/>
          </a:xfrm>
          <a:prstGeom prst="upArrow">
            <a:avLst>
              <a:gd name="adj1" fmla="val 45074"/>
              <a:gd name="adj2" fmla="val 109852"/>
            </a:avLst>
          </a:prstGeom>
          <a:solidFill>
            <a:srgbClr val="00f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rot="5400000">
            <a:off x="5057280" y="1834920"/>
            <a:ext cx="168480" cy="244440"/>
          </a:xfrm>
          <a:prstGeom prst="upArrow">
            <a:avLst>
              <a:gd name="adj1" fmla="val 49056"/>
              <a:gd name="adj2" fmla="val 85734"/>
            </a:avLst>
          </a:prstGeom>
          <a:solidFill>
            <a:srgbClr val="00f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978440" y="1917720"/>
            <a:ext cx="74520" cy="946080"/>
          </a:xfrm>
          <a:prstGeom prst="rect">
            <a:avLst/>
          </a:prstGeom>
          <a:solidFill>
            <a:srgbClr val="00f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5400000">
            <a:off x="5445720" y="2367720"/>
            <a:ext cx="74520" cy="1003320"/>
          </a:xfrm>
          <a:prstGeom prst="rect">
            <a:avLst/>
          </a:prstGeom>
          <a:solidFill>
            <a:srgbClr val="00f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1.5.5.</a:t>
            </a:r>
            <a:r>
              <a:rPr b="1" sz="2400" spc="-1" strike="noStrike">
                <a:solidFill>
                  <a:srgbClr val="000099"/>
                </a:solidFill>
                <a:latin typeface="Arial"/>
              </a:rPr>
              <a:t>Varianten des internen Bussystems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80880" y="1095480"/>
            <a:ext cx="455292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ff6600"/>
                </a:solidFill>
                <a:latin typeface="Arial"/>
              </a:rPr>
              <a:t>3. Zweiter Operandenbus</a:t>
            </a:r>
            <a:r>
              <a:rPr b="1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beide Operanden parallel an die ALU füh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alternative Parallelisierung im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Rechenwe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Operand 2 stammt immer aus dem Registersatz  (Bus 2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Operand 1 wahlweise aus dem Registersatz oder dem Datenbuspuffer (Bus 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5000760" y="1290600"/>
            <a:ext cx="3976560" cy="4257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5261040" y="1962000"/>
            <a:ext cx="71280" cy="22798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rot="5400000">
            <a:off x="5503680" y="3916440"/>
            <a:ext cx="88920" cy="58392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730840" y="3676680"/>
            <a:ext cx="174600" cy="561960"/>
          </a:xfrm>
          <a:prstGeom prst="upArrow">
            <a:avLst>
              <a:gd name="adj1" fmla="val 50000"/>
              <a:gd name="adj2" fmla="val 80464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261040" y="1870200"/>
            <a:ext cx="291960" cy="187200"/>
          </a:xfrm>
          <a:prstGeom prst="rightArrow">
            <a:avLst>
              <a:gd name="adj1" fmla="val 50000"/>
              <a:gd name="adj2" fmla="val 38990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5080" y="5735520"/>
            <a:ext cx="737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Das Hilfsregister entkoppelt Operand 1 vom Ergebn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003399"/>
                </a:solidFill>
                <a:latin typeface="Arial"/>
              </a:rPr>
              <a:t>Rechenwerk-Registersatz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019840" y="1238400"/>
            <a:ext cx="161640" cy="1571400"/>
          </a:xfrm>
          <a:custGeom>
            <a:avLst/>
            <a:gdLst>
              <a:gd name="textAreaLeft" fmla="*/ 0 w 161640"/>
              <a:gd name="textAreaRight" fmla="*/ 58320 w 161640"/>
              <a:gd name="textAreaTop" fmla="*/ 40680 h 1571400"/>
              <a:gd name="textAreaBottom" fmla="*/ 1530720 h 1571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267160" y="1790640"/>
            <a:ext cx="335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Registersatz – Erweiterung des Rechenwer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305000" y="3000240"/>
            <a:ext cx="4552920" cy="2971800"/>
          </a:xfrm>
          <a:prstGeom prst="rect">
            <a:avLst/>
          </a:prstGeom>
          <a:solidFill>
            <a:srgbClr val="abffd5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381720" y="416232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euerleitungen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om Steuerwe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328840" y="2790720"/>
            <a:ext cx="200160" cy="571680"/>
          </a:xfrm>
          <a:prstGeom prst="downArrow">
            <a:avLst>
              <a:gd name="adj1" fmla="val 50000"/>
              <a:gd name="adj2" fmla="val 71403"/>
            </a:avLst>
          </a:prstGeom>
          <a:solidFill>
            <a:srgbClr val="333333"/>
          </a:solidFill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H="1" flipV="1">
            <a:off x="4638600" y="4478400"/>
            <a:ext cx="1790640" cy="7920"/>
          </a:xfrm>
          <a:prstGeom prst="line">
            <a:avLst/>
          </a:prstGeom>
          <a:ln w="381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33840" y="2790720"/>
            <a:ext cx="200160" cy="571680"/>
          </a:xfrm>
          <a:prstGeom prst="downArrow">
            <a:avLst>
              <a:gd name="adj1" fmla="val 50000"/>
              <a:gd name="adj2" fmla="val 71403"/>
            </a:avLst>
          </a:prstGeom>
          <a:solidFill>
            <a:srgbClr val="333333"/>
          </a:solidFill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104920" y="1236600"/>
            <a:ext cx="2743200" cy="276120"/>
          </a:xfrm>
          <a:prstGeom prst="rect">
            <a:avLst/>
          </a:prstGeom>
          <a:solidFill>
            <a:srgbClr val="ffe57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2104920" y="1778040"/>
            <a:ext cx="2743200" cy="1021680"/>
            <a:chOff x="2104920" y="1778040"/>
            <a:chExt cx="2743200" cy="1021680"/>
          </a:xfrm>
        </p:grpSpPr>
        <p:sp>
          <p:nvSpPr>
            <p:cNvPr id="58" name=""/>
            <p:cNvSpPr/>
            <p:nvPr/>
          </p:nvSpPr>
          <p:spPr>
            <a:xfrm>
              <a:off x="2104920" y="1778040"/>
              <a:ext cx="2743200" cy="216360"/>
            </a:xfrm>
            <a:prstGeom prst="rect">
              <a:avLst/>
            </a:prstGeom>
            <a:solidFill>
              <a:srgbClr val="ffe57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104920" y="1963800"/>
              <a:ext cx="2743200" cy="216720"/>
            </a:xfrm>
            <a:prstGeom prst="rect">
              <a:avLst/>
            </a:prstGeom>
            <a:solidFill>
              <a:srgbClr val="ffe57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104920" y="2163960"/>
              <a:ext cx="2743200" cy="216720"/>
            </a:xfrm>
            <a:prstGeom prst="rect">
              <a:avLst/>
            </a:prstGeom>
            <a:solidFill>
              <a:srgbClr val="ffe57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104920" y="2366640"/>
              <a:ext cx="2743200" cy="216360"/>
            </a:xfrm>
            <a:prstGeom prst="rect">
              <a:avLst/>
            </a:prstGeom>
            <a:solidFill>
              <a:srgbClr val="ffe57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104920" y="2583000"/>
              <a:ext cx="2743200" cy="216720"/>
            </a:xfrm>
            <a:prstGeom prst="rect">
              <a:avLst/>
            </a:prstGeom>
            <a:solidFill>
              <a:srgbClr val="ffe57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328840" y="3457440"/>
            <a:ext cx="200160" cy="571680"/>
          </a:xfrm>
          <a:prstGeom prst="downArrow">
            <a:avLst>
              <a:gd name="adj1" fmla="val 50000"/>
              <a:gd name="adj2" fmla="val 71403"/>
            </a:avLst>
          </a:prstGeom>
          <a:solidFill>
            <a:srgbClr val="333333"/>
          </a:solidFill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533840" y="3457440"/>
            <a:ext cx="200160" cy="571680"/>
          </a:xfrm>
          <a:prstGeom prst="downArrow">
            <a:avLst>
              <a:gd name="adj1" fmla="val 50000"/>
              <a:gd name="adj2" fmla="val 71403"/>
            </a:avLst>
          </a:prstGeom>
          <a:solidFill>
            <a:srgbClr val="333333"/>
          </a:solidFill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648240" y="3371760"/>
            <a:ext cx="1990440" cy="390600"/>
          </a:xfrm>
          <a:prstGeom prst="rect">
            <a:avLst/>
          </a:prstGeom>
          <a:solidFill>
            <a:srgbClr val="f2e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Operandenregister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419120" y="3371760"/>
            <a:ext cx="1990800" cy="390600"/>
          </a:xfrm>
          <a:prstGeom prst="rect">
            <a:avLst/>
          </a:prstGeom>
          <a:solidFill>
            <a:srgbClr val="f2e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Operandenregister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362400" y="4610160"/>
            <a:ext cx="199800" cy="571320"/>
          </a:xfrm>
          <a:prstGeom prst="downArrow">
            <a:avLst>
              <a:gd name="adj1" fmla="val 50000"/>
              <a:gd name="adj2" fmla="val 71486"/>
            </a:avLst>
          </a:prstGeom>
          <a:solidFill>
            <a:srgbClr val="333333"/>
          </a:solidFill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362400" y="5572080"/>
            <a:ext cx="190440" cy="657360"/>
          </a:xfrm>
          <a:prstGeom prst="downArrow">
            <a:avLst>
              <a:gd name="adj1" fmla="val 50000"/>
              <a:gd name="adj2" fmla="val 86295"/>
            </a:avLst>
          </a:prstGeom>
          <a:solidFill>
            <a:srgbClr val="333333"/>
          </a:solidFill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1825560" y="4005360"/>
            <a:ext cx="3279600" cy="861480"/>
            <a:chOff x="1825560" y="4005360"/>
            <a:chExt cx="3279600" cy="861480"/>
          </a:xfrm>
        </p:grpSpPr>
        <p:sp>
          <p:nvSpPr>
            <p:cNvPr id="70" name=""/>
            <p:cNvSpPr/>
            <p:nvPr/>
          </p:nvSpPr>
          <p:spPr>
            <a:xfrm>
              <a:off x="1825560" y="4009680"/>
              <a:ext cx="3279600" cy="857160"/>
            </a:xfrm>
            <a:custGeom>
              <a:avLst/>
              <a:gdLst>
                <a:gd name="textAreaLeft" fmla="*/ 721080 w 3279600"/>
                <a:gd name="textAreaRight" fmla="*/ 2558520 w 3279600"/>
                <a:gd name="textAreaTop" fmla="*/ 188280 h 857160"/>
                <a:gd name="textAreaBottom" fmla="*/ 668880 h 857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701800" y="4009680"/>
              <a:ext cx="1568520" cy="342720"/>
            </a:xfrm>
            <a:custGeom>
              <a:avLst/>
              <a:gdLst>
                <a:gd name="textAreaLeft" fmla="*/ 344880 w 1568520"/>
                <a:gd name="textAreaRight" fmla="*/ 1223640 w 1568520"/>
                <a:gd name="textAreaTop" fmla="*/ 75240 h 342720"/>
                <a:gd name="textAreaBottom" fmla="*/ 267480 h 34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abff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23760" y="4005360"/>
              <a:ext cx="1525680" cy="4320"/>
            </a:xfrm>
            <a:prstGeom prst="line">
              <a:avLst/>
            </a:prstGeom>
            <a:ln w="28440">
              <a:solidFill>
                <a:srgbClr val="abff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122280" y="4400280"/>
              <a:ext cx="1381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ffffff"/>
                  </a:solidFill>
                  <a:latin typeface="Arial"/>
                </a:rPr>
                <a:t>AL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" name=""/>
          <p:cNvSpPr/>
          <p:nvPr/>
        </p:nvSpPr>
        <p:spPr>
          <a:xfrm>
            <a:off x="2476440" y="5186520"/>
            <a:ext cx="1990800" cy="390240"/>
          </a:xfrm>
          <a:prstGeom prst="rect">
            <a:avLst/>
          </a:prstGeom>
          <a:solidFill>
            <a:srgbClr val="f2e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rgebnisregist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066680" y="1628640"/>
            <a:ext cx="1238400" cy="2857680"/>
          </a:xfrm>
          <a:custGeom>
            <a:avLst/>
            <a:gdLst/>
            <a:ahLst/>
            <a:rect l="l" t="t" r="r" b="b"/>
            <a:pathLst>
              <a:path w="780" h="1830">
                <a:moveTo>
                  <a:pt x="780" y="1830"/>
                </a:moveTo>
                <a:lnTo>
                  <a:pt x="0" y="1830"/>
                </a:lnTo>
                <a:lnTo>
                  <a:pt x="0" y="0"/>
                </a:lnTo>
                <a:lnTo>
                  <a:pt x="672" y="6"/>
                </a:lnTo>
              </a:path>
            </a:pathLst>
          </a:custGeom>
          <a:noFill/>
          <a:ln w="38160">
            <a:solidFill>
              <a:srgbClr val="3333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462040" y="1217520"/>
            <a:ext cx="184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rogrammzäh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 rot="16200000">
            <a:off x="1340640" y="1618200"/>
            <a:ext cx="201600" cy="1314720"/>
          </a:xfrm>
          <a:prstGeom prst="downArrow">
            <a:avLst>
              <a:gd name="adj1" fmla="val 43315"/>
              <a:gd name="adj2" fmla="val 56640"/>
            </a:avLst>
          </a:prstGeom>
          <a:solidFill>
            <a:srgbClr val="333333"/>
          </a:solidFill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71480" y="2238480"/>
            <a:ext cx="95400" cy="3619440"/>
          </a:xfrm>
          <a:prstGeom prst="rect">
            <a:avLst/>
          </a:prstGeom>
          <a:solidFill>
            <a:srgbClr val="333333"/>
          </a:solidFill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04920" y="1501920"/>
            <a:ext cx="2743200" cy="276120"/>
          </a:xfrm>
          <a:prstGeom prst="rect">
            <a:avLst/>
          </a:prstGeom>
          <a:solidFill>
            <a:srgbClr val="ffe57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462040" y="1465200"/>
            <a:ext cx="164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atusregis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5400000">
            <a:off x="2095200" y="4457880"/>
            <a:ext cx="104760" cy="2695320"/>
          </a:xfrm>
          <a:prstGeom prst="rect">
            <a:avLst/>
          </a:prstGeom>
          <a:solidFill>
            <a:srgbClr val="333333"/>
          </a:solidFill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rot="16200000">
            <a:off x="-537480" y="3931920"/>
            <a:ext cx="213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Interner Datenb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1.5.5.</a:t>
            </a:r>
            <a:r>
              <a:rPr b="1" sz="2400" spc="-1" strike="noStrike">
                <a:solidFill>
                  <a:srgbClr val="000099"/>
                </a:solidFill>
                <a:latin typeface="Arial"/>
              </a:rPr>
              <a:t>Varianten des internen Bussystems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0880" y="1095480"/>
            <a:ext cx="4353120" cy="506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cc3300"/>
                </a:solidFill>
                <a:latin typeface="Arial"/>
              </a:rPr>
              <a:t>4. </a:t>
            </a:r>
            <a:r>
              <a:rPr b="1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sz="2400" spc="-1" strike="noStrike">
                <a:solidFill>
                  <a:srgbClr val="cc3300"/>
                </a:solidFill>
                <a:latin typeface="Arial"/>
              </a:rPr>
              <a:t>Zweiter Operandenbus / </a:t>
            </a:r>
            <a:r>
              <a:rPr b="1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sz="2400" spc="-1" strike="noStrike">
                <a:solidFill>
                  <a:srgbClr val="cc3300"/>
                </a:solidFill>
                <a:latin typeface="Arial"/>
              </a:rPr>
              <a:t>Prefetch B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200" spc="-1" strike="noStrike">
                <a:solidFill>
                  <a:srgbClr val="000000"/>
                </a:solidFill>
                <a:latin typeface="Arial"/>
              </a:rPr>
              <a:t>Kombination der </a:t>
            </a:r>
            <a:r>
              <a:rPr b="0" sz="2200" spc="-1" strike="noStrike">
                <a:solidFill>
                  <a:srgbClr val="0b0bff"/>
                </a:solidFill>
                <a:latin typeface="Arial"/>
              </a:rPr>
              <a:t>Varianten 1</a:t>
            </a:r>
            <a:r>
              <a:rPr b="0" sz="2200" spc="-1" strike="noStrike">
                <a:solidFill>
                  <a:srgbClr val="000000"/>
                </a:solidFill>
                <a:latin typeface="Arial"/>
              </a:rPr>
              <a:t> und </a:t>
            </a:r>
            <a:r>
              <a:rPr b="0" sz="2200" spc="-1" strike="noStrike">
                <a:solidFill>
                  <a:srgbClr val="ff0000"/>
                </a:solidFill>
                <a:latin typeface="Arial"/>
              </a:rPr>
              <a:t>Variante 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200" spc="-1" strike="noStrike">
                <a:solidFill>
                  <a:srgbClr val="00cc99"/>
                </a:solidFill>
                <a:latin typeface="Arial"/>
              </a:rPr>
              <a:t>Zusätzliche Verbindung</a:t>
            </a:r>
            <a:r>
              <a:rPr b="0" sz="2200" spc="-1" strike="noStrike">
                <a:solidFill>
                  <a:srgbClr val="000000"/>
                </a:solidFill>
                <a:latin typeface="Arial"/>
              </a:rPr>
              <a:t> des Operanden/ Ergebnis Busses (Bus 1) zum Adresswer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200" spc="-1" strike="noStrike">
                <a:solidFill>
                  <a:srgbClr val="000000"/>
                </a:solidFill>
                <a:latin typeface="Arial"/>
              </a:rPr>
              <a:t>Prefetch-Bus  </a:t>
            </a:r>
            <a:r>
              <a:rPr b="0" lang="de-DE" sz="22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0" sz="2200" spc="-1" strike="noStrike">
                <a:solidFill>
                  <a:srgbClr val="000000"/>
                </a:solidFill>
                <a:latin typeface="Arial"/>
              </a:rPr>
              <a:t> Parallele Rechenwerk-Operation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200" spc="-1" strike="noStrike">
                <a:solidFill>
                  <a:srgbClr val="000000"/>
                </a:solidFill>
                <a:latin typeface="Arial"/>
              </a:rPr>
              <a:t>Direkter Zugriff des Adresswerks auf Adressregister im Registersatzes ohne Umweg über Daten- oder Prefetch-Bu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4853160" y="1281240"/>
            <a:ext cx="3979800" cy="4324320"/>
            <a:chOff x="4853160" y="1281240"/>
            <a:chExt cx="3979800" cy="4324320"/>
          </a:xfrm>
        </p:grpSpPr>
        <p:pic>
          <p:nvPicPr>
            <p:cNvPr id="253" name="" descr=""/>
            <p:cNvPicPr/>
            <p:nvPr/>
          </p:nvPicPr>
          <p:blipFill>
            <a:blip r:embed="rId1"/>
            <a:stretch/>
          </p:blipFill>
          <p:spPr>
            <a:xfrm>
              <a:off x="4853160" y="1281240"/>
              <a:ext cx="3979800" cy="432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4" name=""/>
            <p:cNvSpPr/>
            <p:nvPr/>
          </p:nvSpPr>
          <p:spPr>
            <a:xfrm>
              <a:off x="5118120" y="1971720"/>
              <a:ext cx="93240" cy="207972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 rot="5400000">
              <a:off x="5379480" y="3716640"/>
              <a:ext cx="88560" cy="58356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597640" y="3733920"/>
              <a:ext cx="183600" cy="304920"/>
            </a:xfrm>
            <a:prstGeom prst="upArrow">
              <a:avLst>
                <a:gd name="adj1" fmla="val 48509"/>
                <a:gd name="adj2" fmla="val 82239"/>
              </a:avLst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 rot="5400000">
              <a:off x="5205240" y="1858320"/>
              <a:ext cx="98640" cy="28692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946920" y="2786400"/>
              <a:ext cx="213840" cy="1977840"/>
            </a:xfrm>
            <a:prstGeom prst="downArrow">
              <a:avLst>
                <a:gd name="adj1" fmla="val 33333"/>
                <a:gd name="adj2" fmla="val 79774"/>
              </a:avLst>
            </a:prstGeom>
            <a:solidFill>
              <a:srgbClr val="0b0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 flipH="1" rot="16200000">
              <a:off x="7468560" y="2253960"/>
              <a:ext cx="228600" cy="1115640"/>
            </a:xfrm>
            <a:prstGeom prst="downArrow">
              <a:avLst>
                <a:gd name="adj1" fmla="val 34620"/>
                <a:gd name="adj2" fmla="val 65477"/>
              </a:avLst>
            </a:prstGeom>
            <a:solidFill>
              <a:srgbClr val="0b0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0" name=""/>
          <p:cNvSpPr/>
          <p:nvPr/>
        </p:nvSpPr>
        <p:spPr>
          <a:xfrm>
            <a:off x="5042520" y="5602320"/>
            <a:ext cx="40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Arial"/>
              </a:rPr>
              <a:t>Bus-Architektur des 8028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810480" y="3228840"/>
            <a:ext cx="933480" cy="182520"/>
          </a:xfrm>
          <a:prstGeom prst="leftRightArrow">
            <a:avLst>
              <a:gd name="adj1" fmla="val 49565"/>
              <a:gd name="adj2" fmla="val 95682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1.5.5.</a:t>
            </a:r>
            <a:r>
              <a:rPr b="1" sz="2400" spc="-1" strike="noStrike">
                <a:solidFill>
                  <a:srgbClr val="000099"/>
                </a:solidFill>
                <a:latin typeface="Arial"/>
              </a:rPr>
              <a:t>Varianten des internen Bussystems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71520" y="1209600"/>
            <a:ext cx="37908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858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cc"/>
                </a:solidFill>
                <a:latin typeface="Arial"/>
              </a:rPr>
              <a:t>5. </a:t>
            </a:r>
            <a:r>
              <a:rPr b="1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sz="2400" spc="-1" strike="noStrike">
                <a:solidFill>
                  <a:srgbClr val="0000cc"/>
                </a:solidFill>
                <a:latin typeface="Arial"/>
              </a:rPr>
              <a:t>Extrembeispiel</a:t>
            </a:r>
            <a:r>
              <a:rPr b="1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0"/>
              </a:lnSpc>
              <a:spcBef>
                <a:spcPts val="1199"/>
              </a:spcBef>
              <a:tabLst>
                <a:tab algn="l" pos="0"/>
                <a:tab algn="l" pos="2858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2858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Kombination au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49"/>
              </a:spcBef>
              <a:buClr>
                <a:srgbClr val="0b0bff"/>
              </a:buClr>
              <a:buSzPct val="75000"/>
              <a:buFont typeface="Monotype Sorts" charset="2"/>
              <a:buChar char=""/>
              <a:tabLst>
                <a:tab algn="l" pos="2858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Prefetch Bus (Bus 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50"/>
              </a:spcBef>
              <a:buClr>
                <a:srgbClr val="0b0bff"/>
              </a:buClr>
              <a:buSzPct val="75000"/>
              <a:buFont typeface="Monotype Sorts" charset="2"/>
              <a:buChar char=""/>
              <a:tabLst>
                <a:tab algn="l" pos="2858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zwei Operandenbussen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(Bus 1 und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50"/>
              </a:spcBef>
              <a:buClr>
                <a:srgbClr val="0b0bff"/>
              </a:buClr>
              <a:buSzPct val="75000"/>
              <a:buFont typeface="Monotype Sorts" charset="2"/>
              <a:buChar char=""/>
              <a:tabLst>
                <a:tab algn="l" pos="2858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ein Ergebnisbus (Bus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50"/>
              </a:spcBef>
              <a:buClr>
                <a:srgbClr val="0b0bff"/>
              </a:buClr>
              <a:buSzPct val="75000"/>
              <a:buFont typeface="Monotype Sorts" charset="2"/>
              <a:buChar char=""/>
              <a:tabLst>
                <a:tab algn="l" pos="2858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Hilfsregister wird nur bei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gleichem Operanden-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und Ergebnisregister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benötig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rcRect l="786" t="638" r="978" b="0"/>
          <a:stretch/>
        </p:blipFill>
        <p:spPr>
          <a:xfrm>
            <a:off x="4210200" y="1428840"/>
            <a:ext cx="4771800" cy="442908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 flipH="1">
            <a:off x="6468480" y="1819440"/>
            <a:ext cx="74520" cy="25272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flipH="1" rot="16200000">
            <a:off x="6037200" y="3854160"/>
            <a:ext cx="83880" cy="9036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7005600" y="2957400"/>
            <a:ext cx="195480" cy="1978200"/>
          </a:xfrm>
          <a:prstGeom prst="downArrow">
            <a:avLst>
              <a:gd name="adj1" fmla="val 42222"/>
              <a:gd name="adj2" fmla="val 77163"/>
            </a:avLst>
          </a:prstGeom>
          <a:solidFill>
            <a:srgbClr val="0b0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 flipH="1" rot="16200000">
            <a:off x="7538040" y="2405520"/>
            <a:ext cx="228600" cy="1116000"/>
          </a:xfrm>
          <a:prstGeom prst="downArrow">
            <a:avLst>
              <a:gd name="adj1" fmla="val 34620"/>
              <a:gd name="adj2" fmla="val 65499"/>
            </a:avLst>
          </a:prstGeom>
          <a:solidFill>
            <a:srgbClr val="0b0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83360" y="3301920"/>
            <a:ext cx="196560" cy="324000"/>
          </a:xfrm>
          <a:prstGeom prst="upArrow">
            <a:avLst>
              <a:gd name="adj1" fmla="val 37093"/>
              <a:gd name="adj2" fmla="val 58982"/>
            </a:avLst>
          </a:prstGeom>
          <a:solidFill>
            <a:srgbClr val="00f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rot="5400000">
            <a:off x="4523760" y="2016000"/>
            <a:ext cx="206640" cy="244440"/>
          </a:xfrm>
          <a:prstGeom prst="upArrow">
            <a:avLst>
              <a:gd name="adj1" fmla="val 41611"/>
              <a:gd name="adj2" fmla="val 66057"/>
            </a:avLst>
          </a:prstGeom>
          <a:solidFill>
            <a:srgbClr val="00f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473720" y="2098800"/>
            <a:ext cx="74520" cy="869760"/>
          </a:xfrm>
          <a:prstGeom prst="rect">
            <a:avLst/>
          </a:prstGeom>
          <a:solidFill>
            <a:srgbClr val="00f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rot="5400000">
            <a:off x="4907520" y="2467440"/>
            <a:ext cx="74520" cy="936720"/>
          </a:xfrm>
          <a:prstGeom prst="rect">
            <a:avLst/>
          </a:prstGeom>
          <a:solidFill>
            <a:srgbClr val="00f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30880" y="2898720"/>
            <a:ext cx="74520" cy="193680"/>
          </a:xfrm>
          <a:prstGeom prst="rect">
            <a:avLst/>
          </a:prstGeom>
          <a:solidFill>
            <a:srgbClr val="00f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5546880" y="3879720"/>
            <a:ext cx="179280" cy="460440"/>
          </a:xfrm>
          <a:prstGeom prst="upArrow">
            <a:avLst>
              <a:gd name="adj1" fmla="val 39824"/>
              <a:gd name="adj2" fmla="val 79165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H="1">
            <a:off x="4965840" y="3889440"/>
            <a:ext cx="217440" cy="669960"/>
          </a:xfrm>
          <a:prstGeom prst="upArrow">
            <a:avLst>
              <a:gd name="adj1" fmla="val 32852"/>
              <a:gd name="adj2" fmla="val 63520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H="1" rot="16200000">
            <a:off x="5908680" y="3630600"/>
            <a:ext cx="83880" cy="180792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1647720"/>
            <a:ext cx="162000" cy="3305160"/>
          </a:xfrm>
          <a:prstGeom prst="downArrow">
            <a:avLst>
              <a:gd name="adj1" fmla="val 42426"/>
              <a:gd name="adj2" fmla="val 105789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99"/>
                </a:solidFill>
                <a:latin typeface="Arial"/>
              </a:rPr>
              <a:t>ENDE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000099"/>
                </a:solidFill>
                <a:latin typeface="Arial"/>
              </a:rPr>
              <a:t>1.5.3.</a:t>
            </a:r>
            <a:r>
              <a:rPr b="1" sz="2400" spc="-1" strike="noStrike">
                <a:solidFill>
                  <a:srgbClr val="000099"/>
                </a:solidFill>
                <a:latin typeface="Arial"/>
              </a:rPr>
              <a:t>Registersatz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57200" y="1171440"/>
            <a:ext cx="8001000" cy="53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cc"/>
                </a:solidFill>
                <a:latin typeface="Arial"/>
              </a:rPr>
              <a:t>Register: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Speicherzellen mit kleiner Zugriffszeit (wenige ns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Auswahl einzelner Register durch individuelle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Steuerleitung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kleine Regsiter-Anzahl </a:t>
            </a:r>
            <a:r>
              <a:rPr b="0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keine Adressdecoder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erforderlich </a:t>
            </a:r>
            <a:r>
              <a:rPr b="0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Zeit der Adreßdecodierung entfäl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Register sind auf dem Prozessorchip untergebracht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zeitraubendes Umschalten auf externe Daten-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 und Adresswege entfäl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762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000099"/>
                </a:solidFill>
                <a:latin typeface="Arial"/>
              </a:rPr>
              <a:t>1.5.3.</a:t>
            </a:r>
            <a:r>
              <a:rPr b="1" sz="2400" spc="-1" strike="noStrike">
                <a:solidFill>
                  <a:srgbClr val="000099"/>
                </a:solidFill>
                <a:latin typeface="Arial"/>
              </a:rPr>
              <a:t>Registersatz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88880" y="1438200"/>
            <a:ext cx="828684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28584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getrennte Ein-/Ausgänge </a:t>
            </a:r>
            <a:r>
              <a:rPr b="0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Dual Port Speicher, zwischen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Eingangs- und Ausgangsbus gehäng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28584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Schreiben eines Registers und gleichzeitiges Lesen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eines anderen Registers mögli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285840"/>
                <a:tab algn="l" pos="666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cc"/>
                </a:solidFill>
                <a:latin typeface="Arial"/>
              </a:rPr>
              <a:t>Heutige superskalar-Prozessoren: pro Tak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28584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cc"/>
                </a:solidFill>
                <a:latin typeface="Arial"/>
              </a:rPr>
              <a:t>4 allgemeine Register schreiben und bis zu 8 </a:t>
            </a:r>
            <a:r>
              <a:rPr b="0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cc"/>
                </a:solidFill>
                <a:latin typeface="Arial"/>
              </a:rPr>
              <a:t>allgemeine Register lese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28584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oft dynamische Speicherzellen </a:t>
            </a:r>
            <a:r>
              <a:rPr b="0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Refresh erforderli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28584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Register mit Zusatzfunktionen: Inkrementieren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Dekrementieren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auf Null setzen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Inhalt verschieb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942840" y="1457280"/>
            <a:ext cx="1828800" cy="14860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99"/>
                </a:solidFill>
                <a:latin typeface="Arial"/>
              </a:rPr>
              <a:t>1.5.3.</a:t>
            </a:r>
            <a:r>
              <a:rPr b="1" sz="2400" spc="-1" strike="noStrike">
                <a:solidFill>
                  <a:srgbClr val="000099"/>
                </a:solidFill>
                <a:latin typeface="Arial"/>
              </a:rPr>
              <a:t>Registersatz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42840" y="1457280"/>
            <a:ext cx="1828800" cy="21924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42840" y="1676520"/>
            <a:ext cx="1828800" cy="21888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840" y="2724120"/>
            <a:ext cx="1828800" cy="21924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562800" y="1514520"/>
            <a:ext cx="380880" cy="3409920"/>
          </a:xfrm>
          <a:custGeom>
            <a:avLst/>
            <a:gdLst>
              <a:gd name="textAreaLeft" fmla="*/ 0 w 380880"/>
              <a:gd name="textAreaRight" fmla="*/ 137520 w 380880"/>
              <a:gd name="textAreaTop" fmla="*/ 88920 h 3409920"/>
              <a:gd name="textAreaBottom" fmla="*/ 3321000 h 3409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942840" y="4610160"/>
            <a:ext cx="1828800" cy="218880"/>
          </a:xfrm>
          <a:prstGeom prst="rect">
            <a:avLst/>
          </a:prstGeom>
          <a:solidFill>
            <a:srgbClr val="00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90400" y="1343160"/>
            <a:ext cx="399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90400" y="1571760"/>
            <a:ext cx="399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90400" y="2629080"/>
            <a:ext cx="399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22400" y="1611360"/>
            <a:ext cx="401328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universelle, allgemeine Register (</a:t>
            </a:r>
            <a:r>
              <a:rPr b="0" i="1" sz="2000" spc="-1" strike="noStrike">
                <a:solidFill>
                  <a:srgbClr val="000000"/>
                </a:solidFill>
                <a:latin typeface="Arial"/>
              </a:rPr>
              <a:t>general purpose register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aten- und Adressregis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771640" y="1895400"/>
            <a:ext cx="0" cy="847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942840" y="1895400"/>
            <a:ext cx="0" cy="876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942840" y="3292560"/>
            <a:ext cx="1828800" cy="218880"/>
          </a:xfrm>
          <a:prstGeom prst="rect">
            <a:avLst/>
          </a:prstGeom>
          <a:solidFill>
            <a:srgbClr val="ffead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52160" y="324972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U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942840" y="3511440"/>
            <a:ext cx="1828800" cy="219240"/>
          </a:xfrm>
          <a:prstGeom prst="rect">
            <a:avLst/>
          </a:prstGeom>
          <a:solidFill>
            <a:srgbClr val="ffead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81680" y="3468600"/>
            <a:ext cx="47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S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942840" y="3733920"/>
            <a:ext cx="1828800" cy="218880"/>
          </a:xfrm>
          <a:prstGeom prst="rect">
            <a:avLst/>
          </a:prstGeom>
          <a:solidFill>
            <a:srgbClr val="ffead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60160" y="3691080"/>
            <a:ext cx="39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F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942840" y="3952800"/>
            <a:ext cx="1828800" cy="219240"/>
          </a:xfrm>
          <a:prstGeom prst="rect">
            <a:avLst/>
          </a:prstGeom>
          <a:solidFill>
            <a:srgbClr val="ffead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60160" y="3909960"/>
            <a:ext cx="39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B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42840" y="4168800"/>
            <a:ext cx="1828800" cy="218880"/>
          </a:xfrm>
          <a:prstGeom prst="rect">
            <a:avLst/>
          </a:prstGeom>
          <a:solidFill>
            <a:srgbClr val="ffead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30640" y="4125960"/>
            <a:ext cx="42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V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60160" y="4344840"/>
            <a:ext cx="39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P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942840" y="4387680"/>
            <a:ext cx="1828800" cy="219240"/>
          </a:xfrm>
          <a:prstGeom prst="rect">
            <a:avLst/>
          </a:prstGeom>
          <a:solidFill>
            <a:srgbClr val="3366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933480" y="4371840"/>
            <a:ext cx="154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Programmszäh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933480" y="3286080"/>
            <a:ext cx="180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User-Stackpoi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933480" y="34956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upervisor-Stackpoi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933480" y="3743280"/>
            <a:ext cx="180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Frame-Pointer-Reg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933480" y="3933720"/>
            <a:ext cx="180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Base-Pointer-Reg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933480" y="4133880"/>
            <a:ext cx="180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Vectorbase-Reg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942840" y="4581360"/>
            <a:ext cx="2152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Statusreg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063920" y="2954160"/>
            <a:ext cx="187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egistersat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936880" y="3678120"/>
            <a:ext cx="4013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pezialregister</a:t>
            </a:r>
            <a:br>
              <a:rPr sz="2000"/>
            </a:b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(special purpose regist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42840" y="4829040"/>
            <a:ext cx="1828800" cy="219240"/>
          </a:xfrm>
          <a:prstGeom prst="rect">
            <a:avLst/>
          </a:prstGeom>
          <a:solidFill>
            <a:srgbClr val="ec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933480" y="4800600"/>
            <a:ext cx="2152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Steuerreg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99"/>
                </a:solidFill>
                <a:latin typeface="Arial"/>
              </a:rPr>
              <a:t>1.5.3.Daten- und Adressregister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1190520"/>
            <a:ext cx="8105760" cy="478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Datenregister: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0000cc"/>
              </a:buClr>
              <a:buSzPct val="75000"/>
              <a:buFont typeface="Wingdings" charset="2"/>
              <a:buChar char="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Zwischenspeichern von Operan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0000cc"/>
              </a:buClr>
              <a:buSzPct val="75000"/>
              <a:buFont typeface="Wingdings" charset="2"/>
              <a:buChar char="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chneller Zugriff auf häufig benutzte Operan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0000cc"/>
              </a:buClr>
              <a:buSzPct val="75000"/>
              <a:buFont typeface="Wingdings" charset="2"/>
              <a:buChar char="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i modernen Prozessoren sind mehrere      Datenregister als Akkumulator nutzb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0000cc"/>
              </a:buClr>
              <a:buSzPct val="75000"/>
              <a:buFont typeface="Monotype Sorts" charset="2"/>
              <a:buChar char="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Adressregister: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peichern von Adressen (oder Teile davon) eines Operanden im Hauptspei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0000cc"/>
              </a:buClr>
              <a:buSzPct val="75000"/>
              <a:buFont typeface="Wingdings" charset="2"/>
              <a:buChar char="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asisregi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0000cc"/>
              </a:buClr>
              <a:buSzPct val="75000"/>
              <a:buFont typeface="Wingdings" charset="2"/>
              <a:buChar char="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dexregi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99"/>
                </a:solidFill>
                <a:latin typeface="Arial"/>
              </a:rPr>
              <a:t>1.5.3.Spezialregister </a:t>
            </a:r>
            <a:r>
              <a:rPr b="1" sz="2800" spc="-1" strike="noStrike">
                <a:solidFill>
                  <a:srgbClr val="000099"/>
                </a:solidFill>
                <a:latin typeface="Arial"/>
              </a:rPr>
              <a:t>(special purpose register)</a:t>
            </a:r>
            <a:r>
              <a:rPr b="0" sz="36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66560" y="1181160"/>
            <a:ext cx="8143920" cy="38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Register zur speziellen Verwendung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901"/>
              </a:spcBef>
              <a:buClr>
                <a:srgbClr val="00ab00"/>
              </a:buClr>
              <a:buSzPct val="75000"/>
              <a:buFont typeface="Wingdings" charset="2"/>
              <a:buChar char="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Programmzähler (instruction point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901"/>
              </a:spcBef>
              <a:buClr>
                <a:srgbClr val="00ab00"/>
              </a:buClr>
              <a:buSzPct val="75000"/>
              <a:buFont typeface="Wingdings" charset="2"/>
              <a:buChar char="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Steuerregist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901"/>
              </a:spcBef>
              <a:buClr>
                <a:srgbClr val="00ab00"/>
              </a:buClr>
              <a:buSzPct val="75000"/>
              <a:buFont typeface="Wingdings" charset="2"/>
              <a:buChar char="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Statusregi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901"/>
              </a:spcBef>
              <a:buClr>
                <a:srgbClr val="00ab00"/>
              </a:buClr>
              <a:buSzPct val="75000"/>
              <a:buFont typeface="Wingdings" charset="2"/>
              <a:buChar char="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Register für den Start von Interrupt-Behandlungen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(interrupt vector base regist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901"/>
              </a:spcBef>
              <a:buClr>
                <a:srgbClr val="00ab00"/>
              </a:buClr>
              <a:buSzPct val="75000"/>
              <a:buFont typeface="Wingdings" charset="2"/>
              <a:buChar char="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901"/>
              </a:spcBef>
              <a:buClr>
                <a:srgbClr val="00ab00"/>
              </a:buClr>
              <a:buSzPct val="75000"/>
              <a:buFont typeface="Wingdings" charset="2"/>
              <a:buChar char="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sz="2400" spc="-1" strike="noStrike">
                <a:solidFill>
                  <a:srgbClr val="3333cc"/>
                </a:solidFill>
                <a:latin typeface="Arial"/>
              </a:rPr>
              <a:t>Stackregister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(user und supervisor Stackpoint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99"/>
                </a:solidFill>
                <a:latin typeface="Arial"/>
              </a:rPr>
              <a:t>1.5.3.Funktion von Basis- und Indexregister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995640" y="1452600"/>
            <a:ext cx="5148360" cy="298296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476280" y="4848120"/>
            <a:ext cx="815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Arial"/>
              </a:rPr>
              <a:t>Indexregister enthält eine Distanz (Offset, Displacement) zu einer Basisadresse und dient zur Auswahl eines bestimmten Datums des Speicherbereich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33520" y="1374840"/>
            <a:ext cx="3552840" cy="29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cc"/>
                </a:solidFill>
                <a:latin typeface="Arial"/>
              </a:rPr>
              <a:t>Basisregister enthält die  Anfangsadresse eines Speicherbereich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cc"/>
                </a:solidFill>
                <a:latin typeface="Arial"/>
              </a:rPr>
              <a:t>Diese bleibt während der Bearbeitung des Speicherbereichs unveränder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565520" y="3486240"/>
            <a:ext cx="1781280" cy="314280"/>
          </a:xfrm>
          <a:prstGeom prst="rect">
            <a:avLst/>
          </a:prstGeom>
          <a:noFill/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584600" y="1847880"/>
            <a:ext cx="1771920" cy="324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26T11:54:09Z</dcterms:created>
  <dc:creator>Mladen Milushev</dc:creator>
  <dc:description/>
  <dc:language>en-US</dc:language>
  <cp:lastModifiedBy>Mladen Milushev</cp:lastModifiedBy>
  <cp:lastPrinted>2000-05-02T16:11:13Z</cp:lastPrinted>
  <dcterms:modified xsi:type="dcterms:W3CDTF">2006-10-10T10:43:48Z</dcterms:modified>
  <cp:revision>531</cp:revision>
  <dc:subject/>
  <dc:title>TI2-Vl4</dc:title>
</cp:coreProperties>
</file>