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F4FB-8F0F-47A7-8E13-1F9B314C11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. Festwert-Speicher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8880" y="1163520"/>
            <a:ext cx="8379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1. ROM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ist byteweise organisiert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paltenauswahl durch ach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-auf-1 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 nur lesender Zugriff 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idirektionale Datenbustre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des Bausteins durch CE, oft mit OE verknüp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wer-down-Schaltung“ zur Reduktion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istungsaufnahme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ie internen Komponenten wer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mit +5V versorgt, wenn der Baustein über C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gesprochen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15040" y="3343320"/>
            <a:ext cx="35244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00760" y="3343320"/>
            <a:ext cx="35244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4760" y="4743360"/>
            <a:ext cx="35244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2. NV-RA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7960" y="1093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6280" y="1352520"/>
            <a:ext cx="8048520" cy="48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ppelte Speicher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ches, paralleles Übertragen der Da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RAM und EEPROM beim Ein-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chalten der Betriebsspann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trix-Steuerung: EEPROM löschen, Laden, Speic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Kenndaten:</a:t>
            </a:r>
            <a:r>
              <a:rPr b="0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Kapazitä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16 k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Organisation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2k x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ugriffzei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150 - 30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Leistungsaufnahme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tand-by 150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häuse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P 24 - 28 Anschlü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3. Dynamische RA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1104840"/>
            <a:ext cx="6680160" cy="5004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739880" y="4343400"/>
            <a:ext cx="207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1346040" y="4520880"/>
            <a:ext cx="24638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197080" y="3632040"/>
            <a:ext cx="161280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018880" y="3784680"/>
            <a:ext cx="17924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32385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87720" y="32004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88840" y="2362320"/>
            <a:ext cx="292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88840" y="2616120"/>
            <a:ext cx="292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51040" y="1689120"/>
            <a:ext cx="4597200" cy="1440"/>
          </a:xfrm>
          <a:custGeom>
            <a:avLst/>
            <a:gdLst/>
            <a:ahLst/>
            <a:rect l="l" t="t" r="r" b="b"/>
            <a:pathLst>
              <a:path w="2896" h="1">
                <a:moveTo>
                  <a:pt x="289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1040" y="1473120"/>
            <a:ext cx="4597200" cy="1800"/>
          </a:xfrm>
          <a:custGeom>
            <a:avLst/>
            <a:gdLst/>
            <a:ahLst/>
            <a:rect l="l" t="t" r="r" b="b"/>
            <a:pathLst>
              <a:path w="2896" h="1">
                <a:moveTo>
                  <a:pt x="289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02000" y="1289160"/>
            <a:ext cx="812880" cy="2019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l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ß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1295280"/>
            <a:ext cx="812880" cy="20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3517920"/>
            <a:ext cx="800280" cy="1028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palte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dreß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3479760"/>
            <a:ext cx="800280" cy="11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16600" y="212076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28880" y="1803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30520" y="387972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22640" y="4915080"/>
            <a:ext cx="1333440" cy="1155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ogik &amp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ustei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w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84880" y="3809880"/>
            <a:ext cx="21207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altenauswahl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0088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913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755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6596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286680" y="3613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88240" y="2043000"/>
            <a:ext cx="135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se/ Schreib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stä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7530840" y="2222640"/>
            <a:ext cx="266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71640" y="584208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9400" y="1287360"/>
            <a:ext cx="727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48800" y="34401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15560" y="34401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2560" y="5637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1640" y="5702400"/>
            <a:ext cx="27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43480" y="1803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448240" y="1285920"/>
            <a:ext cx="2095560" cy="2025360"/>
            <a:chOff x="5448240" y="1285920"/>
            <a:chExt cx="2095560" cy="2025360"/>
          </a:xfrm>
        </p:grpSpPr>
        <p:sp>
          <p:nvSpPr>
            <p:cNvPr id="348" name=""/>
            <p:cNvSpPr/>
            <p:nvPr/>
          </p:nvSpPr>
          <p:spPr>
            <a:xfrm>
              <a:off x="5448240" y="1285920"/>
              <a:ext cx="2082960" cy="20062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00880" y="12920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1320" y="12920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75520" y="12920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65960" y="13046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48240" y="146988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48240" y="168588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48240" y="29559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48240" y="315900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5530680" y="1400040"/>
              <a:ext cx="317160" cy="342720"/>
              <a:chOff x="5530680" y="1400040"/>
              <a:chExt cx="317160" cy="342720"/>
            </a:xfrm>
          </p:grpSpPr>
          <p:sp>
            <p:nvSpPr>
              <p:cNvPr id="358" name=""/>
              <p:cNvSpPr/>
              <p:nvPr/>
            </p:nvSpPr>
            <p:spPr>
              <a:xfrm>
                <a:off x="553068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53068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2112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2112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530680" y="2873160"/>
              <a:ext cx="317160" cy="342720"/>
              <a:chOff x="5530680" y="2873160"/>
              <a:chExt cx="317160" cy="342720"/>
            </a:xfrm>
          </p:grpSpPr>
          <p:sp>
            <p:nvSpPr>
              <p:cNvPr id="363" name=""/>
              <p:cNvSpPr/>
              <p:nvPr/>
            </p:nvSpPr>
            <p:spPr>
              <a:xfrm>
                <a:off x="553068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53068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72112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2112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7112160" y="1400040"/>
              <a:ext cx="317160" cy="342720"/>
              <a:chOff x="7112160" y="1400040"/>
              <a:chExt cx="317160" cy="342720"/>
            </a:xfrm>
          </p:grpSpPr>
          <p:sp>
            <p:nvSpPr>
              <p:cNvPr id="368" name=""/>
              <p:cNvSpPr/>
              <p:nvPr/>
            </p:nvSpPr>
            <p:spPr>
              <a:xfrm>
                <a:off x="711216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1216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0260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0260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7112160" y="2873160"/>
              <a:ext cx="317160" cy="342720"/>
              <a:chOff x="7112160" y="2873160"/>
              <a:chExt cx="317160" cy="342720"/>
            </a:xfrm>
          </p:grpSpPr>
          <p:sp>
            <p:nvSpPr>
              <p:cNvPr id="373" name=""/>
              <p:cNvSpPr/>
              <p:nvPr/>
            </p:nvSpPr>
            <p:spPr>
              <a:xfrm>
                <a:off x="711216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11216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0260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30260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5448240" y="2327040"/>
              <a:ext cx="20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48240" y="2187360"/>
              <a:ext cx="20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36800" y="1503360"/>
            <a:ext cx="727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4622400" y="295920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635000" y="316224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019240" y="1689120"/>
            <a:ext cx="0" cy="21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209680" y="1472760"/>
            <a:ext cx="0" cy="21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71880" y="143496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81080" y="16509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752480" y="23619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371600" y="261612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20840" y="25779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01720" y="23241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11560" y="3867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97560" y="3619440"/>
            <a:ext cx="77472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10160" y="3809880"/>
            <a:ext cx="7747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622760" y="4368960"/>
            <a:ext cx="77472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610160" y="4229280"/>
            <a:ext cx="77472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18040" y="4699080"/>
            <a:ext cx="990720" cy="8254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515280" y="5092560"/>
            <a:ext cx="190440" cy="165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0800000">
            <a:off x="6082920" y="5092200"/>
            <a:ext cx="190440" cy="165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72200" y="49402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72200" y="4940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03840" y="4940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388200" y="44704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50040" y="48895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03840" y="525780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59600" y="525780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92560" y="518148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079960" y="51814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79960" y="5638680"/>
            <a:ext cx="134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13400" y="51688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26360" y="51688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41800" y="5600880"/>
            <a:ext cx="88920" cy="88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38080" y="4800600"/>
            <a:ext cx="508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38680" y="44830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00880" y="474984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00880" y="444492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80240" y="4749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895480" y="4546440"/>
            <a:ext cx="1296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57680" y="472428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12880" y="5283360"/>
            <a:ext cx="139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87600" y="2997360"/>
            <a:ext cx="0" cy="17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00200" y="299736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49440" y="47372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49440" y="1803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43480" y="5003640"/>
            <a:ext cx="132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863960" y="3238200"/>
            <a:ext cx="0" cy="176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63960" y="3251160"/>
            <a:ext cx="559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5640" y="2176560"/>
            <a:ext cx="766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120" y="243036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1520" y="460836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8920" y="50785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3040" y="46353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3040" y="51181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31080" y="4995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ei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85960" y="583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06920" y="578952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74680" y="57992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9960" y="58863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3. Dynamische RA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76280" y="1133640"/>
            <a:ext cx="8048520" cy="51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te Integrationsdichte aller 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tweise organisiert, getrennter Datenein- und -aus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adressen gemultiplext (spart Anschlüße)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Spalten- bzw. Zeilenadresse über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gnale RAS und 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Kenndaten:</a:t>
            </a:r>
            <a:r>
              <a:rPr b="0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Kapazitä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is 256 M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Organisation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n x 1 oder n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ugriffzei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150 - 25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ykluszei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200 - 35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Leistungsaufn.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ktiv 200 - 300 mW, stand-by 30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häuse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P 16 - 18 Anschlü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90800" y="3019320"/>
            <a:ext cx="52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14880" y="3029040"/>
            <a:ext cx="52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  <a:ea typeface="Arial"/>
              </a:rPr>
              <a:t>16 MBit DRAM in 2Mx8 Organis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2" name="16M-DRAM" descr=""/>
          <p:cNvPicPr/>
          <p:nvPr/>
        </p:nvPicPr>
        <p:blipFill>
          <a:blip r:embed="rId1"/>
          <a:stretch/>
        </p:blipFill>
        <p:spPr>
          <a:xfrm>
            <a:off x="1519200" y="1314360"/>
            <a:ext cx="61038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6524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  <a:ea typeface="Arial"/>
              </a:rPr>
              <a:t>Pin-Belegung DRAM-ICs mit 2Mx8 Organisation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4" name="16M-DRAM-Pin" descr=""/>
          <p:cNvPicPr/>
          <p:nvPr/>
        </p:nvPicPr>
        <p:blipFill>
          <a:blip r:embed="rId1"/>
          <a:stretch/>
        </p:blipFill>
        <p:spPr>
          <a:xfrm>
            <a:off x="817560" y="1225440"/>
            <a:ext cx="72230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700" spc="-1" strike="noStrike">
                <a:solidFill>
                  <a:srgbClr val="000099"/>
                </a:solidFill>
                <a:latin typeface="Arial"/>
              </a:rPr>
              <a:t>Adressierung eines dynamischen RAM-Bausteins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6" name="3.5-1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81080" y="1150920"/>
            <a:ext cx="662940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700" spc="-1" strike="noStrike">
                <a:solidFill>
                  <a:srgbClr val="000099"/>
                </a:solidFill>
                <a:latin typeface="Arial"/>
              </a:rPr>
              <a:t>Adressierung eines dynamischen RAM-Bausteins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9960" y="1104840"/>
            <a:ext cx="8487000" cy="51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ressier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gative RAS-Flanke übernimmt die Zeilenadresse ins Adressregister, negative CAS-Flanke die Spalten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s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 erscheinen eine gewisse Zeit nach der  negativen CAS-Flanke am Ausgang, Zyklus wird durch CAS = 1 wieder been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reib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zu schreibende Datum muß gleichzeitig mit Spaltenadresse am Dateneingang anliegen.  Datenübernahme geschieht mit negativer CAS-Flan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90600" y="160956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34040" y="199080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0280" y="355284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09800" y="356220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10320" y="581976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Seitenzugriff bei DRAM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47840" y="1181160"/>
            <a:ext cx="819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tragung vom Daten zum bzw. zum Speicher-Baustein kann wesentlich beschleunigt werden, wenn alle zu lesenden oder schreibenden Speicherzellen in einer Zeile (Seite) lie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iesem Fall muß die Zeilenadresse nur einmal angelegt werden (wird im Register gespeich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nn werden in schneller Folge die Spaltenadressen angeleg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page mode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heblich beschleunigter Zug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Seitenzugriff bei DRAM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7" name="3.5-13" descr=""/>
          <p:cNvPicPr/>
          <p:nvPr/>
        </p:nvPicPr>
        <p:blipFill>
          <a:blip r:embed="rId1">
            <a:lum bright="10000"/>
          </a:blip>
          <a:srcRect l="587" t="1385" r="0" b="0"/>
          <a:stretch/>
        </p:blipFill>
        <p:spPr>
          <a:xfrm>
            <a:off x="561960" y="1252440"/>
            <a:ext cx="804852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EDO-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191280" y="197172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9800" y="1192320"/>
            <a:ext cx="8359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EDO-RAM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(Extended Data Output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Datenausgabe wird beim Lesen vom CAS-Signal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tels interner Pufferung entkopp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Daten stehen länger am Ausgang zur Verfü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sere Verschachtelungsmöglichkeiten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esezugri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1. RO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2400" y="4016520"/>
            <a:ext cx="774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Kennda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Kapazitä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is zu 16 Mbi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Organisation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128k x 8 oder 64k x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ugriffzei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200 - 350 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Leistungsaufnahme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ktiv 75 - 300 mW, stand-by 2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häuse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P 28 Anschlü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86080" y="1181160"/>
            <a:ext cx="5956200" cy="24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1854360"/>
            <a:ext cx="163836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794040" y="154944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52760" y="2400480"/>
            <a:ext cx="685800" cy="647640"/>
            <a:chOff x="2552760" y="2400480"/>
            <a:chExt cx="685800" cy="647640"/>
          </a:xfrm>
        </p:grpSpPr>
        <p:sp>
          <p:nvSpPr>
            <p:cNvPr id="55" name=""/>
            <p:cNvSpPr/>
            <p:nvPr/>
          </p:nvSpPr>
          <p:spPr>
            <a:xfrm>
              <a:off x="2793960" y="253980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52760" y="2400480"/>
              <a:ext cx="469800" cy="647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438280" y="2070000"/>
            <a:ext cx="86364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35160" y="25401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44520" y="2577960"/>
            <a:ext cx="17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44520" y="2844720"/>
            <a:ext cx="17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21040" y="224784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2158920"/>
            <a:ext cx="3301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35240" y="215892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5240" y="22860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30600" y="21970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79840" y="25401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13000" y="2679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22760" y="2451240"/>
            <a:ext cx="2235240" cy="72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35360" y="1371600"/>
            <a:ext cx="2235240" cy="72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altenauswahl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8 : (n-1) M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915080" y="2095560"/>
            <a:ext cx="203040" cy="1765080"/>
            <a:chOff x="4915080" y="2095560"/>
            <a:chExt cx="203040" cy="1765080"/>
          </a:xfrm>
        </p:grpSpPr>
        <p:sp>
          <p:nvSpPr>
            <p:cNvPr id="71" name=""/>
            <p:cNvSpPr/>
            <p:nvPr/>
          </p:nvSpPr>
          <p:spPr>
            <a:xfrm>
              <a:off x="5016600" y="2095560"/>
              <a:ext cx="0" cy="17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800000">
              <a:off x="4915080" y="2666520"/>
              <a:ext cx="203040" cy="241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270400" y="2095560"/>
            <a:ext cx="203040" cy="1765080"/>
            <a:chOff x="5270400" y="2095560"/>
            <a:chExt cx="203040" cy="1765080"/>
          </a:xfrm>
        </p:grpSpPr>
        <p:sp>
          <p:nvSpPr>
            <p:cNvPr id="74" name=""/>
            <p:cNvSpPr/>
            <p:nvPr/>
          </p:nvSpPr>
          <p:spPr>
            <a:xfrm>
              <a:off x="5371920" y="2095560"/>
              <a:ext cx="0" cy="17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0800000">
              <a:off x="5270400" y="2666520"/>
              <a:ext cx="203040" cy="241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375240" y="2095560"/>
            <a:ext cx="203040" cy="1765080"/>
            <a:chOff x="6375240" y="2095560"/>
            <a:chExt cx="203040" cy="1765080"/>
          </a:xfrm>
        </p:grpSpPr>
        <p:sp>
          <p:nvSpPr>
            <p:cNvPr id="77" name=""/>
            <p:cNvSpPr/>
            <p:nvPr/>
          </p:nvSpPr>
          <p:spPr>
            <a:xfrm>
              <a:off x="6476760" y="2095560"/>
              <a:ext cx="0" cy="17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0800000">
              <a:off x="6375240" y="2666520"/>
              <a:ext cx="203040" cy="241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301920" y="2730600"/>
            <a:ext cx="165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49840" y="2933640"/>
            <a:ext cx="154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49840" y="274320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286680" y="2755800"/>
            <a:ext cx="126720" cy="190440"/>
            <a:chOff x="6286680" y="2755800"/>
            <a:chExt cx="126720" cy="190440"/>
          </a:xfrm>
        </p:grpSpPr>
        <p:sp>
          <p:nvSpPr>
            <p:cNvPr id="83" name=""/>
            <p:cNvSpPr/>
            <p:nvPr/>
          </p:nvSpPr>
          <p:spPr>
            <a:xfrm>
              <a:off x="6286680" y="275580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6680" y="2755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181480" y="2755800"/>
            <a:ext cx="126720" cy="190440"/>
            <a:chOff x="5181480" y="2755800"/>
            <a:chExt cx="126720" cy="190440"/>
          </a:xfrm>
        </p:grpSpPr>
        <p:sp>
          <p:nvSpPr>
            <p:cNvPr id="86" name=""/>
            <p:cNvSpPr/>
            <p:nvPr/>
          </p:nvSpPr>
          <p:spPr>
            <a:xfrm>
              <a:off x="5181480" y="275580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81480" y="2755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11680" y="2679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43680" y="288288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0922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26360" y="10796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03840" y="10796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79960" y="10796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82640" y="1204920"/>
            <a:ext cx="6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2373480"/>
            <a:ext cx="6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3320" y="2639880"/>
            <a:ext cx="6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74800" y="1992240"/>
            <a:ext cx="6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+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5560" y="21574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34160" y="31352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uerlog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08640" y="3814920"/>
            <a:ext cx="46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16400" y="3801960"/>
            <a:ext cx="46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48120" y="3801960"/>
            <a:ext cx="46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63640" y="2387520"/>
            <a:ext cx="266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63640" y="2705040"/>
            <a:ext cx="266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51120" y="15224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wer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9800" y="1116000"/>
            <a:ext cx="83599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DRAMs (Synchrone Dynamische RAM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SDRAM-Technik können gleichzeitig zwei Speicherseiten geöffne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ird auf die Flankensteuerung verzichtet. Der Speicherverwalter übermittelt die Steuerbefehle als 4 Bit-Muster, die in einer 4-stufigen Pipeline (Warteschlange) verarbeit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DRAMs können die immer aktueller werdenden Busgeschwindigkeiten von bis zu 100 MHz bearb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DRAMs sind synchron mit dem System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DR-S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5480" y="1182600"/>
            <a:ext cx="807408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DR-SDRAM (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Double-Data-Rate-S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DDR-SDRAMs entsprechen in Bauform und Funktionsweise den "normalen" SDRAM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ulen, jedoch werden im Gegensatz zu diesen d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zellen zweimal pro Takt ausgelesen bzw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rieben. Dadurch erreichen die DDR-SDRA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ule den doppelten Datendurch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LDRAM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Sync Link R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ntwicklung der SDRAM Technologie, die höhere Busfrequenzen erlaubt und damit eine höhere Leistung ermögl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RDRAM/ Concurrent - RDRAM / Direct RDRA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24680" y="1487520"/>
            <a:ext cx="808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DRAM/ Concurrent - RDRAM / Direct RDRAM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RDRAM- Technologie gibt es seit 1995 und hat si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vielen Workstations und Spielekonsolen bewäh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spezielle Bus (Rambus Channel) setzt jedoch ei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prechendes Design der Hauptplatine vor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Variant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urrent RDRA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rect RDRA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en sich hinsichtlich 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ximalen Taktrate und der eingesetzten Protoko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frischen dynamischer RAM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6560" y="1228680"/>
            <a:ext cx="82584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ieht zeilenweise, jede Zeile muss ca. alle 2 - 4 m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efrisch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die Zeilenadresse wird an den Baustein angelegt,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S= 0 und CAS konstant auf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3.5-1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185840" y="3452760"/>
            <a:ext cx="67723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der Auffrischlogi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1" name="3.5-15" descr=""/>
          <p:cNvPicPr/>
          <p:nvPr/>
        </p:nvPicPr>
        <p:blipFill>
          <a:blip r:embed="rId1"/>
          <a:stretch/>
        </p:blipFill>
        <p:spPr>
          <a:xfrm>
            <a:off x="1243080" y="1222200"/>
            <a:ext cx="6229440" cy="48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frischen dynamischer RAM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38120" y="1324080"/>
            <a:ext cx="805824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Zeileninhalt wird zunächst, gesteuert vom Takt 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 die Leseverstärker ausgel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 eine kleine Verzögerung V wird dieser Inhalt dan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tels der Schreibverstärker gesteuert vom Takt 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ückgeschr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die Leitungskapazitäten besser zu verteilen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bei hochintegrierten Bausteinen die Schreib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/Lese-Verstärker auch oft in die Mitte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ltenleitungen verlegt (statt am Ende wie im Bil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rgestel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RAM-Controll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5" name="3.5-17" descr=""/>
          <p:cNvPicPr/>
          <p:nvPr/>
        </p:nvPicPr>
        <p:blipFill>
          <a:blip r:embed="rId1"/>
          <a:srcRect l="1119" t="1521" r="0" b="939"/>
          <a:stretch/>
        </p:blipFill>
        <p:spPr>
          <a:xfrm>
            <a:off x="4062240" y="1069920"/>
            <a:ext cx="4724640" cy="51451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419040" y="1238400"/>
            <a:ext cx="3390840" cy="50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ga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teuerung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M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en der RAS-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CAS-Sig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plexen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-Refr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 8207, 8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33640" y="2600280"/>
            <a:ext cx="55260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9560" y="2981160"/>
            <a:ext cx="55260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RAM-Controll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52600" y="1133640"/>
            <a:ext cx="807696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s zu 4 getrennte RAS- / CAS-Ausgänge bei DRAM-Controll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von bis zu 4 Speicherbä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Zyklusüberlappun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interleaving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ann der Zugriff verkürz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Auswahl der Speicherbank (BS) wird z.B. mit 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al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tlaufende Speicheradressen liegen i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iedlichen  Speicherbä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91040" y="1190520"/>
            <a:ext cx="55224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72040" y="1181160"/>
            <a:ext cx="55224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Zykluszeit bei Bankadressie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4" name="3.5-18" descr=""/>
          <p:cNvPicPr/>
          <p:nvPr/>
        </p:nvPicPr>
        <p:blipFill>
          <a:blip r:embed="rId1">
            <a:lum contrast="40000"/>
          </a:blip>
          <a:srcRect l="564" t="706" r="0" b="0"/>
          <a:stretch/>
        </p:blipFill>
        <p:spPr>
          <a:xfrm>
            <a:off x="825480" y="1357200"/>
            <a:ext cx="74088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4. Pseudo-statische RAM-Baustein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4720" y="1190520"/>
            <a:ext cx="8105760" cy="47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ynamisches RAM mit integrierter Refresh-Logik (i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multiplexer, Register und Auffrisch-Schalt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auf dem Chip integriert, freilaufender Takt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chronisation über RDY-Aus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Kenndaten:</a:t>
            </a:r>
            <a:r>
              <a:rPr b="0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Kapazitä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is 1 M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Organisation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n x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ugriffzei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60 - 20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ykluszei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65 - 30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Leistungsaufnahme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ktiv 175 mW, stand-by 10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häuse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P 28 Anschlü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2. PROM- und EPRO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3840" y="1517760"/>
            <a:ext cx="8294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benfalls byteweise organis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die Möglichkeit, sie neu zu programmieren, ist ih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ener Aufbau komplexer als der der ROM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direktionale Datenbustre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ung der Datenbustreiber durch CE und OE. Bei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ieren wird PGM aktiv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m Programmieren wird die Programmierspannung auf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Speichermatrix geschal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86360" y="3905280"/>
            <a:ext cx="35244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81840" y="3914640"/>
            <a:ext cx="35244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9440" y="4305240"/>
            <a:ext cx="66672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4. Pseudo-statische RAM-Baustein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8" name="3.5-19" descr=""/>
          <p:cNvPicPr/>
          <p:nvPr/>
        </p:nvPicPr>
        <p:blipFill>
          <a:blip r:embed="rId1"/>
          <a:srcRect l="0" t="1462" r="1919" b="1462"/>
          <a:stretch/>
        </p:blipFill>
        <p:spPr>
          <a:xfrm>
            <a:off x="1395360" y="1116000"/>
            <a:ext cx="54100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peichermodu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9440" y="1233360"/>
            <a:ext cx="87620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rbeitsspeicher von modernen Computer werden scho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lange nicht mehr wie zu Urzeiten der ersten IBM-PCs mi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nzelnen DRAM-ICs bestückt. Seit längerem hat si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on die Zusammenfassung der einzelnen ICs auf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eichermodulen durchgesetz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orteil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nfache Realisierung von großen Datenbreiten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pazitäten durch Zusammenschaltung der einzelnen 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ät beim Handling des Speichers durch einfache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früsten, Wechseln oder Weiterverwenden der Modu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peichermodule-Typ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47840" y="1093680"/>
            <a:ext cx="8668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Single Inline Pin Package (SIPP): Veralte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Single Inline Memory Module (SIMM): PS/2-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SIPP" descr=""/>
          <p:cNvPicPr/>
          <p:nvPr/>
        </p:nvPicPr>
        <p:blipFill>
          <a:blip r:embed="rId1"/>
          <a:stretch/>
        </p:blipFill>
        <p:spPr>
          <a:xfrm>
            <a:off x="1100160" y="1790640"/>
            <a:ext cx="47703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494" name=""/>
          <p:cNvGrpSpPr/>
          <p:nvPr/>
        </p:nvGrpSpPr>
        <p:grpSpPr>
          <a:xfrm>
            <a:off x="2373480" y="4046400"/>
            <a:ext cx="4371840" cy="762120"/>
            <a:chOff x="2373480" y="4046400"/>
            <a:chExt cx="4371840" cy="762120"/>
          </a:xfrm>
        </p:grpSpPr>
        <p:sp>
          <p:nvSpPr>
            <p:cNvPr id="495" name=""/>
            <p:cNvSpPr/>
            <p:nvPr/>
          </p:nvSpPr>
          <p:spPr>
            <a:xfrm>
              <a:off x="2373480" y="4046400"/>
              <a:ext cx="4371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373480" y="4046400"/>
              <a:ext cx="4037040" cy="762120"/>
              <a:chOff x="2373480" y="4046400"/>
              <a:chExt cx="4037040" cy="762120"/>
            </a:xfrm>
          </p:grpSpPr>
          <p:sp>
            <p:nvSpPr>
              <p:cNvPr id="497" name=""/>
              <p:cNvSpPr/>
              <p:nvPr/>
            </p:nvSpPr>
            <p:spPr>
              <a:xfrm>
                <a:off x="2373480" y="4046400"/>
                <a:ext cx="4037040" cy="214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2373480" y="4046400"/>
                <a:ext cx="4037040" cy="762120"/>
                <a:chOff x="2373480" y="4046400"/>
                <a:chExt cx="4037040" cy="7621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2373480" y="4046400"/>
                  <a:ext cx="31291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0" name=""/>
                <p:cNvGrpSpPr/>
                <p:nvPr/>
              </p:nvGrpSpPr>
              <p:grpSpPr>
                <a:xfrm>
                  <a:off x="2373480" y="4046400"/>
                  <a:ext cx="4037040" cy="762120"/>
                  <a:chOff x="2373480" y="4046400"/>
                  <a:chExt cx="4037040" cy="76212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>
                    <a:off x="2373480" y="4046400"/>
                    <a:ext cx="214308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2373480" y="4046400"/>
                    <a:ext cx="4037040" cy="762120"/>
                    <a:chOff x="2373480" y="4046400"/>
                    <a:chExt cx="4037040" cy="76212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2373480" y="4046400"/>
                      <a:ext cx="2143080" cy="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04" name=""/>
                    <p:cNvGrpSpPr/>
                    <p:nvPr/>
                  </p:nvGrpSpPr>
                  <p:grpSpPr>
                    <a:xfrm>
                      <a:off x="2373480" y="4046400"/>
                      <a:ext cx="4037040" cy="762120"/>
                      <a:chOff x="2373480" y="4046400"/>
                      <a:chExt cx="4037040" cy="762120"/>
                    </a:xfrm>
                  </p:grpSpPr>
                  <p:sp>
                    <p:nvSpPr>
                      <p:cNvPr id="505" name=""/>
                      <p:cNvSpPr/>
                      <p:nvPr/>
                    </p:nvSpPr>
                    <p:spPr>
                      <a:xfrm>
                        <a:off x="2373480" y="4046400"/>
                        <a:ext cx="360" cy="3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6" name=""/>
                      <p:cNvSpPr/>
                      <p:nvPr/>
                    </p:nvSpPr>
                    <p:spPr>
                      <a:xfrm>
                        <a:off x="2373480" y="4046400"/>
                        <a:ext cx="4037040" cy="7621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507" name=""/>
          <p:cNvSpPr/>
          <p:nvPr/>
        </p:nvSpPr>
        <p:spPr>
          <a:xfrm>
            <a:off x="6067440" y="1940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IPP-Modul mit seinen 30 pin-förmigen Anschlüssen und einer Datenbreite von 8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SIMM" descr=""/>
          <p:cNvPicPr/>
          <p:nvPr/>
        </p:nvPicPr>
        <p:blipFill>
          <a:blip r:embed="rId2"/>
          <a:stretch/>
        </p:blipFill>
        <p:spPr>
          <a:xfrm>
            <a:off x="1163520" y="4287960"/>
            <a:ext cx="3919680" cy="17589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800680" y="4510080"/>
            <a:ext cx="29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IMM-Module in der 30- und 72-poligen Ausführung mit Datenbreiten von 8 und 32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peichermodule-Typ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7480" y="1093680"/>
            <a:ext cx="6483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Dual Inline Memory Module (DIMM)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Rambus Inline Memory Modul (RIM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DIMM" descr=""/>
          <p:cNvPicPr/>
          <p:nvPr/>
        </p:nvPicPr>
        <p:blipFill>
          <a:blip r:embed="rId1"/>
          <a:stretch/>
        </p:blipFill>
        <p:spPr>
          <a:xfrm>
            <a:off x="782640" y="1827360"/>
            <a:ext cx="5583240" cy="13111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610320" y="1852560"/>
            <a:ext cx="25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168-poligen DIMMs besitzen eine Datenbusbreite von 64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RIMM" descr=""/>
          <p:cNvPicPr/>
          <p:nvPr/>
        </p:nvPicPr>
        <p:blipFill>
          <a:blip r:embed="rId2"/>
          <a:stretch/>
        </p:blipFill>
        <p:spPr>
          <a:xfrm>
            <a:off x="934920" y="4384800"/>
            <a:ext cx="5451480" cy="13906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6613560" y="4417920"/>
            <a:ext cx="253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peichertechnologie von Intel.  400 bis 800 MHz sind möglich. Metallabdeckung  zur Kühlung der Rambus-D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18880" y="152280"/>
            <a:ext cx="872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3.6 Organisation des Arbeitsspeiche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95360" y="1362240"/>
            <a:ext cx="8315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speich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eare Liste von Speicherwo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ebaut aus Speicherbaust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szeit hängt allein von der Art der verwende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bausteine 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reite des Arbeitsspeichers entspricht i.A.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eite des Datenbus (8, 16, 32, 64 Bit). Di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pricht der maximalen Informationsmenge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ie in einem Buszyklus zugegriffen werd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3.6 Organisation des Arbeitsspeiche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09680" y="1106640"/>
            <a:ext cx="824688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Prozessoren mit einer Datenbusbreite &gt; 8 Bit kann meist immer noch auf einzelne Bytes zugegriff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kapazität wird auch bei breiter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ganisationsformen in Bytes ange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maximale Kapazität des Arbeistspeichers ist durch die Breite des Adressbusses ge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ische maximale Speicherkapazitä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8-Bit Prozessoren mit 16-Bit Adressbu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4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-Bit Prozessoren mit 24-Bit Adressbu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2-Bit Prozessoren mit 32-Bit Adressbu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 GBy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-Belegungsplan (</a:t>
            </a:r>
            <a:r>
              <a:rPr b="0" i="1" sz="3600" spc="-1" strike="noStrike">
                <a:solidFill>
                  <a:srgbClr val="000099"/>
                </a:solidFill>
                <a:latin typeface="Arial"/>
              </a:rPr>
              <a:t>memory map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41520" y="1127160"/>
            <a:ext cx="77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ibt an, welche Speicherbausteine für welche Bereiche des Arbeitsspeichers verwendet w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3.6-1" descr=""/>
          <p:cNvPicPr/>
          <p:nvPr/>
        </p:nvPicPr>
        <p:blipFill>
          <a:blip r:embed="rId1"/>
          <a:stretch/>
        </p:blipFill>
        <p:spPr>
          <a:xfrm>
            <a:off x="1967040" y="1925640"/>
            <a:ext cx="490536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-Belegungsplan (</a:t>
            </a:r>
            <a:r>
              <a:rPr b="0" i="1" sz="3600" spc="-1" strike="noStrike">
                <a:solidFill>
                  <a:srgbClr val="000099"/>
                </a:solidFill>
                <a:latin typeface="Arial"/>
              </a:rPr>
              <a:t>memory map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76280" y="1123920"/>
            <a:ext cx="843912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 Beispi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ere Adress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M, z.B. für nicht-flüchtige Teile 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riebsystems (Bootstrap, B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O-Bereich (Prozessor mit memory-mapped 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ist dynamische RAM-Bausteine, da dies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ße Kapazität besitzen und billig s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Sie sind auch langs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diesem Grund werden manchmal in klein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bereichen auch statische RAM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esetzt, auf die ohne Wartezyklen zugegriff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k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-Belegungsplan (</a:t>
            </a:r>
            <a:r>
              <a:rPr b="0" i="1" sz="3600" spc="-1" strike="noStrike">
                <a:solidFill>
                  <a:srgbClr val="000099"/>
                </a:solidFill>
                <a:latin typeface="Arial"/>
              </a:rPr>
              <a:t>memory map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400" y="1193760"/>
            <a:ext cx="80931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Speicherbreite kann über den Speicherbereich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arii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Byte- und Breiten-Auswahl eines Speicherzugriff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rfolgt in der Regel über die niederwertigsten Adressbit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z.B. A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i 32 Bit Speicherbreite) sowie spezieller Wortbreite-Signale vom Mikro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belegungspläne werden häufiger noch feiner untergliedert, indem z.B. die genaue Lage von Betriebsystemtabellen im ROM-Bereich oder von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räten im IO-Bereich angegeben w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dress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09680" y="1257480"/>
            <a:ext cx="82771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höherwertige Teil der Adresse dient über ei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auswahllogik zur Speicherbaustein-Aus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S-Signale der Speicherbauste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 wird i.A. auch die Zugriffsrichtung, Speicher- bzw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O-Zugriffe sowie eventuelle Wartezyklen ermitt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mittlere Teil der Adresse geht direkt an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ingänge der 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niederwertige Teil der Adresse dient zusammen mi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tbreiten-Signalen zur Wortauswahl innerhalb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br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81160" y="2219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2. PROM- und EPRO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2" name="3.5-6" descr=""/>
          <p:cNvPicPr/>
          <p:nvPr/>
        </p:nvPicPr>
        <p:blipFill>
          <a:blip r:embed="rId1">
            <a:lum bright="10000"/>
          </a:blip>
          <a:srcRect l="1413" t="2336" r="0" b="0"/>
          <a:stretch/>
        </p:blipFill>
        <p:spPr>
          <a:xfrm>
            <a:off x="2058840" y="1100160"/>
            <a:ext cx="5133960" cy="3076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24440" y="3759120"/>
            <a:ext cx="7396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dat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pazitä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 zu 4 Mbi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ganisa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28k x 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griffzei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PROM 150-450 ns, PROM &gt; 35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stungs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v 100mW, stand-by 5mW (CM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nahm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v 600mW, stand-by 200mW(NM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häus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 24 - 32 Anschlü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dress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5360" y="1152360"/>
            <a:ext cx="810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wahl eines Bytes, Worts oder Doppelworts in einem Speicherw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3.6-2" descr=""/>
          <p:cNvPicPr/>
          <p:nvPr/>
        </p:nvPicPr>
        <p:blipFill>
          <a:blip r:embed="rId1"/>
          <a:stretch/>
        </p:blipFill>
        <p:spPr>
          <a:xfrm>
            <a:off x="1300320" y="2090880"/>
            <a:ext cx="6257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dress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23800" y="1165320"/>
            <a:ext cx="804888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m 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eres Wort: 32-Bit Wort, al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0 [Startbyte 0], 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0 [Wortbreite 32 B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tleres Wort: 16-Bit Wort, unal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1 [Startbyte 1], 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1 [Wortbreite 16 B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es Wort: 32-Bit Wort, unaligned (2 Speicherzugriffe nöti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1 [Startbyte 1], 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00 [Wortbreite 32 B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Modularer Speicheraufbau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71680" y="1133640"/>
            <a:ext cx="80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 wird oft auf mehrere Steckkarten verteil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über eine Grundplatine mit dem Systembus verbun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ind 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Erweiterbar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2280" y="5335560"/>
            <a:ext cx="81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stelle einer zentralen Adressauswahllogik ist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zentrale Adressauswahllogik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3.6-3" descr=""/>
          <p:cNvPicPr/>
          <p:nvPr/>
        </p:nvPicPr>
        <p:blipFill>
          <a:blip r:embed="rId1"/>
          <a:stretch/>
        </p:blipFill>
        <p:spPr>
          <a:xfrm>
            <a:off x="1795320" y="2443320"/>
            <a:ext cx="5648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Modularer Speicheraufbau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66560" y="1266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Unterteilung der Bits einer Speicheradresse zur Auswahl einer Speicherzelle ergibt sich dann wie fol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81000" y="3129120"/>
            <a:ext cx="7486560" cy="62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76840" y="3133800"/>
            <a:ext cx="0" cy="61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8040" y="3133800"/>
            <a:ext cx="0" cy="61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24000" y="3133800"/>
            <a:ext cx="0" cy="61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56240" y="3214800"/>
            <a:ext cx="69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8400"/>
                <a:tab algn="l" pos="304812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r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u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ustei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z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7040" y="282096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l" pos="1619280"/>
                <a:tab algn="l" pos="3333600"/>
                <a:tab algn="l" pos="5143680"/>
                <a:tab algn="l" pos="80010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Bit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Typischer Aufbau einer Steckkar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8" name="3.6-5" descr=""/>
          <p:cNvPicPr/>
          <p:nvPr/>
        </p:nvPicPr>
        <p:blipFill>
          <a:blip r:embed="rId1"/>
          <a:srcRect l="-1033" t="1706" r="1779" b="948"/>
          <a:stretch/>
        </p:blipFill>
        <p:spPr>
          <a:xfrm>
            <a:off x="1109520" y="1160640"/>
            <a:ext cx="6548760" cy="50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Typischer Aufbau einer Steckkar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37040" y="129708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artenadresse meist über Schalter (DIP-Schalter)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stell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Vergleich der Adressbits erfolgt über ein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pa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odulasuwahl (z.B. SIMMs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single inline memory modul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)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über einen Moduldek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austeinauswahl über einen Bausteindekoder auf d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mod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ispiel eines Speichermodul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52" name="3.6-6" descr=""/>
          <p:cNvPicPr/>
          <p:nvPr/>
        </p:nvPicPr>
        <p:blipFill>
          <a:blip r:embed="rId1"/>
          <a:stretch/>
        </p:blipFill>
        <p:spPr>
          <a:xfrm>
            <a:off x="662040" y="1200240"/>
            <a:ext cx="76597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ispiel eines Speichermodul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0320" y="1306440"/>
            <a:ext cx="7970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32 Bit breites Speichermodul, Speicher in 4 Banks zu j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cht n x 1 dynamischen Speicherbausteinen organis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RAM-Controller übernimmt Byte- und Bausteinauswahl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Read/Write-Steuerung, Refresh sowie ggf. Wartezykl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READY-Sig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3. EEPRO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3840" y="1517760"/>
            <a:ext cx="82944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Speicherzelle muss vor dem Programmier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löscht werd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tomatische Löschsch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ieren einer Zelle dauert lange (ca. 10 ms)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 speichern Adressen und Daten solang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das Programmieren zu beschleunig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m pag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 werden die Daten einer ganzen Zeile zunächst i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fferregister zwischengespeichert und dann paralle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3. EEPRO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7" name="3.5-8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924200" y="1147680"/>
            <a:ext cx="5513400" cy="3449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16880" y="4168800"/>
            <a:ext cx="737712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dat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Kapazitä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is zu 256 kbi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Organisation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32k x 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ugriffzei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50-45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Leistungsaufnahme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ktiv 300mW, stand-by 125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häuse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P 24 - 28 Anschlü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. Schreib-/Lese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3840" y="1203480"/>
            <a:ext cx="8294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1. Statische RAM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busschnittstelle bidirek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des Bausteins durch 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Übertragungsrichtung durch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wer down: Reduzierung der Versorgungsspannung auf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. 2V (gerade noch sichere Datenhaltung in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matri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2886120"/>
            <a:ext cx="35244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91440" y="3429000"/>
            <a:ext cx="43812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1. Statische RA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040" y="4105440"/>
            <a:ext cx="818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dat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pazitä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4 kBit bis 1 M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ganisa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x 1, n x 4, n x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griffzei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- 15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stungsaufnahm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v 300mW - 1 W, stand-by 10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häus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 20 - 28 Anschlü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3.5-9" descr=""/>
          <p:cNvPicPr/>
          <p:nvPr/>
        </p:nvPicPr>
        <p:blipFill>
          <a:blip r:embed="rId1">
            <a:lum bright="10000"/>
          </a:blip>
          <a:srcRect l="0" t="7688" r="0" b="0"/>
          <a:stretch/>
        </p:blipFill>
        <p:spPr>
          <a:xfrm>
            <a:off x="1843200" y="1204920"/>
            <a:ext cx="54007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55800" y="1193760"/>
            <a:ext cx="7769160" cy="46641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108840" y="3060360"/>
            <a:ext cx="2476440" cy="4827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432320" y="3034800"/>
            <a:ext cx="2476440" cy="4827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2. NV-RA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49280" y="1744560"/>
            <a:ext cx="649440" cy="1710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06680" y="1749600"/>
            <a:ext cx="649440" cy="169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448160" y="1741320"/>
            <a:ext cx="1663200" cy="1817640"/>
            <a:chOff x="4448160" y="1741320"/>
            <a:chExt cx="1663200" cy="1817640"/>
          </a:xfrm>
        </p:grpSpPr>
        <p:sp>
          <p:nvSpPr>
            <p:cNvPr id="133" name=""/>
            <p:cNvSpPr/>
            <p:nvPr/>
          </p:nvSpPr>
          <p:spPr>
            <a:xfrm>
              <a:off x="4448160" y="1741320"/>
              <a:ext cx="1663200" cy="18176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448160" y="1741320"/>
              <a:ext cx="1662840" cy="1714320"/>
              <a:chOff x="4448160" y="1741320"/>
              <a:chExt cx="1662840" cy="1714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48160" y="1741320"/>
                <a:ext cx="1662840" cy="169884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70560" y="1746360"/>
                <a:ext cx="0" cy="169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2120" y="1746360"/>
                <a:ext cx="0" cy="169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26240" y="1746360"/>
                <a:ext cx="0" cy="169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979960" y="1756800"/>
                <a:ext cx="0" cy="169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48160" y="1896840"/>
                <a:ext cx="166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48160" y="2080440"/>
                <a:ext cx="166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448160" y="3155760"/>
                <a:ext cx="166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448160" y="3327120"/>
                <a:ext cx="166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4514040" y="1838520"/>
                <a:ext cx="253080" cy="289080"/>
                <a:chOff x="4514040" y="1838520"/>
                <a:chExt cx="253080" cy="2890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514040" y="1838520"/>
                  <a:ext cx="101160" cy="1177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514040" y="2009880"/>
                  <a:ext cx="101160" cy="1177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665960" y="2009880"/>
                  <a:ext cx="101160" cy="1177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665960" y="1838520"/>
                  <a:ext cx="101160" cy="1177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514040" y="3085920"/>
                <a:ext cx="253080" cy="288720"/>
                <a:chOff x="4514040" y="3085920"/>
                <a:chExt cx="253080" cy="2887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514040" y="3085920"/>
                  <a:ext cx="101160" cy="1177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514040" y="3256920"/>
                  <a:ext cx="101160" cy="1177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665960" y="3256920"/>
                  <a:ext cx="101160" cy="1177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665960" y="3085920"/>
                  <a:ext cx="101160" cy="1177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775480" y="1838520"/>
                <a:ext cx="254520" cy="289080"/>
                <a:chOff x="5775480" y="1838520"/>
                <a:chExt cx="254520" cy="2890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775480" y="1838520"/>
                  <a:ext cx="101520" cy="1177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775480" y="2009880"/>
                  <a:ext cx="101520" cy="1177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928480" y="2009880"/>
                  <a:ext cx="101520" cy="1177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928480" y="1838520"/>
                  <a:ext cx="101520" cy="1177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775480" y="3085920"/>
                <a:ext cx="254520" cy="288720"/>
                <a:chOff x="5775480" y="3085920"/>
                <a:chExt cx="254520" cy="2887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775480" y="3085920"/>
                  <a:ext cx="101520" cy="1177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775480" y="3256920"/>
                  <a:ext cx="101520" cy="1177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928480" y="3256920"/>
                  <a:ext cx="101520" cy="1177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928480" y="3085920"/>
                  <a:ext cx="101520" cy="1177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4702320" y="2333880"/>
                <a:ext cx="1171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peicher-</a:t>
                </a:r>
                <a:br>
                  <a:rPr sz="1600"/>
                </a:b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Matrix</a:t>
                </a:r>
                <a:br>
                  <a:rPr sz="1600"/>
                </a:b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tatisches</a:t>
                </a:r>
                <a:br>
                  <a:rPr sz="1600"/>
                </a:b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RA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1349280" y="3624120"/>
            <a:ext cx="638280" cy="870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95520" y="3579840"/>
            <a:ext cx="642960" cy="93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co-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68240" y="1773360"/>
            <a:ext cx="1738440" cy="161640"/>
            <a:chOff x="768240" y="1773360"/>
            <a:chExt cx="1738440" cy="161640"/>
          </a:xfrm>
        </p:grpSpPr>
        <p:sp>
          <p:nvSpPr>
            <p:cNvPr id="168" name=""/>
            <p:cNvSpPr/>
            <p:nvPr/>
          </p:nvSpPr>
          <p:spPr>
            <a:xfrm>
              <a:off x="768240" y="1848600"/>
              <a:ext cx="17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1535760" y="1788120"/>
              <a:ext cx="161640" cy="13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68240" y="1935000"/>
            <a:ext cx="1738440" cy="162000"/>
            <a:chOff x="768240" y="1935000"/>
            <a:chExt cx="1738440" cy="162000"/>
          </a:xfrm>
        </p:grpSpPr>
        <p:sp>
          <p:nvSpPr>
            <p:cNvPr id="171" name=""/>
            <p:cNvSpPr/>
            <p:nvPr/>
          </p:nvSpPr>
          <p:spPr>
            <a:xfrm>
              <a:off x="768240" y="2010600"/>
              <a:ext cx="17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1535400" y="1949760"/>
              <a:ext cx="162000" cy="13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68240" y="3021120"/>
            <a:ext cx="1738440" cy="161640"/>
            <a:chOff x="768240" y="3021120"/>
            <a:chExt cx="1738440" cy="161640"/>
          </a:xfrm>
        </p:grpSpPr>
        <p:sp>
          <p:nvSpPr>
            <p:cNvPr id="174" name=""/>
            <p:cNvSpPr/>
            <p:nvPr/>
          </p:nvSpPr>
          <p:spPr>
            <a:xfrm>
              <a:off x="768240" y="3096360"/>
              <a:ext cx="17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1535760" y="3035880"/>
              <a:ext cx="161640" cy="13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68240" y="3182760"/>
            <a:ext cx="1738440" cy="162000"/>
            <a:chOff x="768240" y="3182760"/>
            <a:chExt cx="1738440" cy="162000"/>
          </a:xfrm>
        </p:grpSpPr>
        <p:sp>
          <p:nvSpPr>
            <p:cNvPr id="177" name=""/>
            <p:cNvSpPr/>
            <p:nvPr/>
          </p:nvSpPr>
          <p:spPr>
            <a:xfrm>
              <a:off x="768240" y="3258360"/>
              <a:ext cx="17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1535400" y="3197520"/>
              <a:ext cx="162000" cy="13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58880" y="3794040"/>
            <a:ext cx="1736640" cy="163440"/>
            <a:chOff x="758880" y="3794040"/>
            <a:chExt cx="1736640" cy="163440"/>
          </a:xfrm>
        </p:grpSpPr>
        <p:sp>
          <p:nvSpPr>
            <p:cNvPr id="180" name=""/>
            <p:cNvSpPr/>
            <p:nvPr/>
          </p:nvSpPr>
          <p:spPr>
            <a:xfrm>
              <a:off x="758880" y="3870360"/>
              <a:ext cx="173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1524600" y="3809520"/>
              <a:ext cx="163440" cy="13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58880" y="3633840"/>
            <a:ext cx="1736640" cy="160200"/>
            <a:chOff x="758880" y="3633840"/>
            <a:chExt cx="1736640" cy="160200"/>
          </a:xfrm>
        </p:grpSpPr>
        <p:sp>
          <p:nvSpPr>
            <p:cNvPr id="183" name=""/>
            <p:cNvSpPr/>
            <p:nvPr/>
          </p:nvSpPr>
          <p:spPr>
            <a:xfrm>
              <a:off x="758880" y="3708360"/>
              <a:ext cx="173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1526400" y="3647880"/>
              <a:ext cx="160200" cy="13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58880" y="4181400"/>
            <a:ext cx="1736640" cy="162000"/>
            <a:chOff x="758880" y="4181400"/>
            <a:chExt cx="1736640" cy="162000"/>
          </a:xfrm>
        </p:grpSpPr>
        <p:sp>
          <p:nvSpPr>
            <p:cNvPr id="186" name=""/>
            <p:cNvSpPr/>
            <p:nvPr/>
          </p:nvSpPr>
          <p:spPr>
            <a:xfrm>
              <a:off x="758880" y="4257000"/>
              <a:ext cx="173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1525320" y="4196160"/>
              <a:ext cx="162000" cy="13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 flipH="1">
            <a:off x="3156120" y="1901880"/>
            <a:ext cx="12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56120" y="2085840"/>
            <a:ext cx="12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156120" y="3160800"/>
            <a:ext cx="12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156120" y="3332160"/>
            <a:ext cx="12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67040" y="2401920"/>
            <a:ext cx="0" cy="322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80920" y="2401920"/>
            <a:ext cx="0" cy="322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12920" y="2401920"/>
            <a:ext cx="0" cy="322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0640" y="3908520"/>
            <a:ext cx="0" cy="323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3908520"/>
            <a:ext cx="0" cy="323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55800" y="4729320"/>
            <a:ext cx="1066680" cy="979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ogik &amp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ustei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w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68760" y="3430440"/>
            <a:ext cx="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1400" y="3430440"/>
            <a:ext cx="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9480" y="3430440"/>
            <a:ext cx="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79960" y="3430440"/>
            <a:ext cx="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17760" y="3736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8880" y="4408560"/>
            <a:ext cx="173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527120" y="4346640"/>
            <a:ext cx="162000" cy="133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38480" y="3689280"/>
            <a:ext cx="126684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38480" y="3838680"/>
            <a:ext cx="125892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38480" y="4430880"/>
            <a:ext cx="125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8480" y="4246560"/>
            <a:ext cx="125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1815840" y="4493880"/>
            <a:ext cx="120600" cy="235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1987560" y="3451320"/>
            <a:ext cx="355680" cy="1278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22480" y="5599080"/>
            <a:ext cx="147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97400" y="3902040"/>
            <a:ext cx="1693800" cy="681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altenauswahl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97400" y="5056200"/>
            <a:ext cx="1693800" cy="677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60920" y="4583160"/>
            <a:ext cx="0" cy="13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89640" y="5300640"/>
            <a:ext cx="152280" cy="166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4700520" y="5312880"/>
            <a:ext cx="152640" cy="166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60920" y="518472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920" y="560700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72160" y="549288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62440" y="51847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44960" y="4583160"/>
            <a:ext cx="0" cy="13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5120" y="5300640"/>
            <a:ext cx="150840" cy="166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0800000">
            <a:off x="4986000" y="5312880"/>
            <a:ext cx="150840" cy="166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44960" y="518472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44960" y="560700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56200" y="549288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46840" y="51847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50000" y="4583160"/>
            <a:ext cx="0" cy="13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78360" y="5300640"/>
            <a:ext cx="152640" cy="166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5889240" y="5312880"/>
            <a:ext cx="152280" cy="166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50000" y="518472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50000" y="560700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1240" y="549288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51520" y="51847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66880" y="4805280"/>
            <a:ext cx="99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66880" y="5237280"/>
            <a:ext cx="99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66880" y="5621400"/>
            <a:ext cx="99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360" y="1704960"/>
            <a:ext cx="33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360" y="1889280"/>
            <a:ext cx="33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1880" y="2962440"/>
            <a:ext cx="392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0720" y="3125880"/>
            <a:ext cx="315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2160" y="3564000"/>
            <a:ext cx="41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2160" y="3726000"/>
            <a:ext cx="41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i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9920" y="4103640"/>
            <a:ext cx="444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360" y="4276800"/>
            <a:ext cx="343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800" y="46324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1280" y="50515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7040" y="54500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4680" y="4676760"/>
            <a:ext cx="214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3440" y="5086440"/>
            <a:ext cx="23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3440" y="5504040"/>
            <a:ext cx="222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921360" y="1274760"/>
            <a:ext cx="1661760" cy="1817280"/>
            <a:chOff x="6921360" y="1274760"/>
            <a:chExt cx="1661760" cy="1817280"/>
          </a:xfrm>
        </p:grpSpPr>
        <p:sp>
          <p:nvSpPr>
            <p:cNvPr id="253" name=""/>
            <p:cNvSpPr/>
            <p:nvPr/>
          </p:nvSpPr>
          <p:spPr>
            <a:xfrm>
              <a:off x="6921360" y="1274760"/>
              <a:ext cx="1661760" cy="18010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43400" y="1279800"/>
              <a:ext cx="0" cy="180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5320" y="1279800"/>
              <a:ext cx="0" cy="180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98720" y="1279800"/>
              <a:ext cx="0" cy="180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52080" y="129096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21360" y="1439640"/>
              <a:ext cx="1661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21360" y="1634040"/>
              <a:ext cx="1661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21360" y="2774160"/>
              <a:ext cx="1661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21360" y="2955960"/>
              <a:ext cx="1661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6987240" y="1378080"/>
              <a:ext cx="252720" cy="306720"/>
              <a:chOff x="6987240" y="1378080"/>
              <a:chExt cx="252720" cy="306720"/>
            </a:xfrm>
          </p:grpSpPr>
          <p:sp>
            <p:nvSpPr>
              <p:cNvPr id="263" name=""/>
              <p:cNvSpPr/>
              <p:nvPr/>
            </p:nvSpPr>
            <p:spPr>
              <a:xfrm>
                <a:off x="6987240" y="1378080"/>
                <a:ext cx="100800" cy="12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987240" y="1559880"/>
                <a:ext cx="100800" cy="12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139160" y="1559880"/>
                <a:ext cx="100800" cy="12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139160" y="1378080"/>
                <a:ext cx="100800" cy="12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6987240" y="2700000"/>
              <a:ext cx="252720" cy="306360"/>
              <a:chOff x="6987240" y="2700000"/>
              <a:chExt cx="252720" cy="306360"/>
            </a:xfrm>
          </p:grpSpPr>
          <p:sp>
            <p:nvSpPr>
              <p:cNvPr id="268" name=""/>
              <p:cNvSpPr/>
              <p:nvPr/>
            </p:nvSpPr>
            <p:spPr>
              <a:xfrm>
                <a:off x="6987240" y="2700000"/>
                <a:ext cx="100800" cy="12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987240" y="2881440"/>
                <a:ext cx="100800" cy="12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139160" y="2881440"/>
                <a:ext cx="100800" cy="12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39160" y="2700000"/>
                <a:ext cx="100800" cy="12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8247960" y="1378080"/>
              <a:ext cx="254520" cy="306720"/>
              <a:chOff x="8247960" y="1378080"/>
              <a:chExt cx="254520" cy="306720"/>
            </a:xfrm>
          </p:grpSpPr>
          <p:sp>
            <p:nvSpPr>
              <p:cNvPr id="273" name=""/>
              <p:cNvSpPr/>
              <p:nvPr/>
            </p:nvSpPr>
            <p:spPr>
              <a:xfrm>
                <a:off x="8247960" y="1378080"/>
                <a:ext cx="101520" cy="12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247960" y="1559880"/>
                <a:ext cx="101520" cy="12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400960" y="1559880"/>
                <a:ext cx="101520" cy="12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400960" y="1378080"/>
                <a:ext cx="101520" cy="12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8247960" y="2700000"/>
              <a:ext cx="254520" cy="306360"/>
              <a:chOff x="8247960" y="2700000"/>
              <a:chExt cx="254520" cy="306360"/>
            </a:xfrm>
          </p:grpSpPr>
          <p:sp>
            <p:nvSpPr>
              <p:cNvPr id="278" name=""/>
              <p:cNvSpPr/>
              <p:nvPr/>
            </p:nvSpPr>
            <p:spPr>
              <a:xfrm>
                <a:off x="8247960" y="2700000"/>
                <a:ext cx="101520" cy="12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247960" y="2881440"/>
                <a:ext cx="101520" cy="12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400960" y="2881440"/>
                <a:ext cx="101520" cy="12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400960" y="2700000"/>
                <a:ext cx="101520" cy="12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7174800" y="1877400"/>
              <a:ext cx="117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peicher-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EPR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553080" y="3314880"/>
            <a:ext cx="196848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rixsteu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3733920"/>
            <a:ext cx="196848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, Spei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ern, La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819520" y="3568680"/>
            <a:ext cx="1600200" cy="116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908440" y="4483080"/>
            <a:ext cx="148572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21040" y="4838760"/>
            <a:ext cx="3886200" cy="1440"/>
          </a:xfrm>
          <a:custGeom>
            <a:avLst/>
            <a:gdLst/>
            <a:ahLst/>
            <a:rect l="l" t="t" r="r" b="b"/>
            <a:pathLst>
              <a:path w="2448" h="1">
                <a:moveTo>
                  <a:pt x="0" y="0"/>
                </a:moveTo>
                <a:lnTo>
                  <a:pt x="244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794640" y="45338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772400" y="4533480"/>
            <a:ext cx="0" cy="138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21040" y="5003640"/>
            <a:ext cx="105408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grammier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pan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16400" y="483876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444920" y="1257480"/>
            <a:ext cx="2476440" cy="48240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095880" y="1282680"/>
            <a:ext cx="2489400" cy="45720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137360" y="3060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543800" y="3060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8001000" y="30477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08840" y="2933640"/>
            <a:ext cx="44424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21440" y="3124080"/>
            <a:ext cx="43164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08840" y="3276720"/>
            <a:ext cx="444240" cy="58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344160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581800" y="1368000"/>
            <a:ext cx="1330200" cy="35244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02920" y="13446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re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07760" y="1116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04200" y="59421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94560" y="596916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98920" y="58784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91240" y="58784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10320" y="5878440"/>
            <a:ext cx="52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itarbeiter-Dillmann</cp:lastModifiedBy>
  <cp:lastPrinted>2000-05-02T16:11:13Z</cp:lastPrinted>
  <dcterms:modified xsi:type="dcterms:W3CDTF">2002-03-07T12:10:37Z</dcterms:modified>
  <cp:revision>875</cp:revision>
  <dc:subject/>
  <dc:title>TI-2</dc:title>
</cp:coreProperties>
</file>