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98560" y="4694040"/>
            <a:ext cx="4944960" cy="4446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3884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21040" y="93884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3CE572-FBC8-4D71-BABB-3C019C97C3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98560" y="4694040"/>
            <a:ext cx="4944960" cy="4446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QS-Signal dient dem Chipsatz und dem Speicher als Referenz, um korrespondierende Daten zu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8FFA-AC17-491C-A43D-247EAE3770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RAM-Speicher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143000"/>
            <a:ext cx="83599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volutionäre Schritte im Speicherdesign bleiben aus. Durch ein bewährtes und über die Jahre verfeinertes Prinzip behauptet sich DRAM als Arbeitsspeicher Nr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2. August 1981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r IBM PC (Model 5150 mit Intel 8086 Prozessor)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 KByte Arbeitsspeicher auf 8 einzelne Chips, die jeweils eine Kapazität von 16 KBit hat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RAM-Menge von damals verschwindet im L1-Cache des Proz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600" y="1150920"/>
            <a:ext cx="860724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ypische EDO-DRAM-Zugriffszeit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50 bis 70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-Zugriffszeit (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bei einem 60 ns EDO-DRAM-Baustein  auf 25 ns  (gegenüber 40 ns bei FPM-D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C mit 66 MHz Bustakt (Taktperiode = 15 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kann im EDO-Mode bei 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jedem zweiten Ta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ei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le im Speicher zugreif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ung eines Lesevorgangs mit dem Anlegen von Zeilen- und Spaltenadresse dauert, wie bei FPM-DRAM fünf 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ximale Datentransferra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300 MByte/sec (bei 64-Bit Daten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Steigerung von 50 %. In der Praxis fallen die Geschwindigkeitsgewinne wesentlich geringer aus (wenige Prozent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usammenfassung: FPM, EDO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0120" y="1201680"/>
            <a:ext cx="8217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600" y="1131840"/>
            <a:ext cx="86072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arbeiten asynchron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Datenübertragung ist ein Handshaking-Verfahren notwendig. Ein Lesevorgang läuft wie 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signalisiert der Speichersteuerung (ADS-Signal), dass eine Adresse an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die Daten am Ausgang des DRAMs bereitliegen, teilt die Speichersteuerung dem Prozessor dies mit (BRDY-Signal). Erst dann liest der Prozessor die Daten e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zwischen ist die CPU im Leerlauf und führt Wartezyklen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nten von EDO-DRAM (BEDO-DRAM) können die Daten ohne Wartezyklen liefern, aber nur bis zu einem Bustakt von 66 MH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600" y="1093680"/>
            <a:ext cx="86072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-Technologie hat sich (durch intensive Unterstützung von Intel) schnell durchgesetzt und beherrscht heute den Speich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in- und Ausgangssignale sind synchron zum Systemta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, Chipsatz und Speicher kommunizieren über ein Bussystem, das synchron mit der gleichen Frequenz getaktet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 sind SDRAMs aus zwei unabhängigen Speicherbänken aufgebaut (auch bis zu 4 Speicherbänk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dem Anlegen der Zeilen- und Spaltenadresse, generiert die Speichersteuerung die nachfolgenden Adressen und führt einen alternierenden und überlappenden Zugriff auf die beiden Speicherbänke selbstständig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S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SDRAM" descr=""/>
          <p:cNvPicPr/>
          <p:nvPr/>
        </p:nvPicPr>
        <p:blipFill>
          <a:blip r:embed="rId1"/>
          <a:srcRect l="7694" t="0" r="0" b="3979"/>
          <a:stretch/>
        </p:blipFill>
        <p:spPr>
          <a:xfrm>
            <a:off x="154080" y="1152360"/>
            <a:ext cx="6168960" cy="4832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811840" y="1617840"/>
            <a:ext cx="3332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00 MHz-SDRAM können alle 10 ns Daten lief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transferrat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0 Mbyte/sec (66 MH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00 M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00-Mod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06 G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33-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axis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 % Leistungssteigerung bei gleichem Prozessortakt und 100 MHz statt 6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0" y="1093680"/>
            <a:ext cx="86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600" y="1093680"/>
            <a:ext cx="8607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ächste Stufe der SDRAM-Entwicklung (SDRAM I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en intern aus vier unabhängigen Speicherbänken, die parallel „Instruktionen“ bearbeit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rinzip der DDR-DRAM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weiterung der Bandbreite durch Nutzung beider Taktflanken. Daten werden bei steigender und fallender Taktflanke übertrag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pelter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fzeitverzögerungen sind sehr kritisch, deshalb wird zur Synchronisation nicht nur der Systemtakt, sondern auch ein bidirektionales Strobe-Signal (DQS) benu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9800" y="133524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technologisch einheitlicher Speicher mit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urzer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Zugriffsz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roßer Kapazitä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aus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grü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.a. nicht realis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chichtenweise Anordnung verschiedener 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peicher und Verschiebung der Information 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zwischen den Schichten (Speicherhierarch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0200" y="1278000"/>
            <a:ext cx="82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hierarchie zum Ausgleich der unterschiedlich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en der CPU und des Hauptspeic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680" y="2351160"/>
            <a:ext cx="825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 Strategi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ache-Speicher: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Kurze Zugriffszeiten </a:t>
            </a: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Beschleunigung des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ozessorzug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00" y="4246560"/>
            <a:ext cx="825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Arial"/>
              </a:rPr>
              <a:t>Virtuller Speicher: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Vergrößerung des tatsächlich vorhandenen 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Hauptspeichers (z.B. bei gleichzeitiger Bearbeitung 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ehrerer Proz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7640" y="1163520"/>
            <a:ext cx="789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rkung:  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und schneller Speicher, we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kalitätsverhalten der Programmverarbeit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lagerung der Information rechtzeiti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mlagerungsstrategie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omogenität des Speichersystems fü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sichtbar ist (Virtueller 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stungsfähigkeit der Hierarchie ist bestimmt durch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schaften der Speichertechnologien (Zugriffsar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en, ...), Adressierung  der Speicherplätz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 des Betri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0880" y="1228680"/>
            <a:ext cx="362160" cy="4896000"/>
          </a:xfrm>
          <a:prstGeom prst="upArrow">
            <a:avLst>
              <a:gd name="adj1" fmla="val 46491"/>
              <a:gd name="adj2" fmla="val 104771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4040" y="2666880"/>
            <a:ext cx="2886120" cy="1486080"/>
          </a:xfrm>
          <a:prstGeom prst="flowChartProcess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nehmende Kosten/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nehmende Kapaz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nehmende Zugriffs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5720" y="1217520"/>
            <a:ext cx="6481440" cy="4876920"/>
            <a:chOff x="315720" y="1217520"/>
            <a:chExt cx="6481440" cy="4876920"/>
          </a:xfrm>
        </p:grpSpPr>
        <p:sp>
          <p:nvSpPr>
            <p:cNvPr id="241" name=""/>
            <p:cNvSpPr/>
            <p:nvPr/>
          </p:nvSpPr>
          <p:spPr>
            <a:xfrm>
              <a:off x="2774880" y="1227240"/>
              <a:ext cx="1572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17520" y="6079680"/>
              <a:ext cx="64796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11240" y="1352520"/>
              <a:ext cx="5033160" cy="47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c800"/>
                  </a:solidFill>
                  <a:latin typeface="Arial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On-Chip-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cc3300"/>
                  </a:solidFill>
                  <a:latin typeface="Arial"/>
                </a:rPr>
                <a:t>Secondary level Cache</a:t>
              </a:r>
              <a:br>
                <a:rPr sz="2000"/>
              </a:br>
              <a:r>
                <a:rPr b="1" lang="de-DE" sz="2000" spc="-1" strike="noStrike">
                  <a:solidFill>
                    <a:srgbClr val="cc3300"/>
                  </a:solidFill>
                  <a:latin typeface="Arial"/>
                </a:rPr>
                <a:t>(SRA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cc3300"/>
                  </a:solidFill>
                  <a:latin typeface="Arial"/>
                </a:rPr>
                <a:t>Arbeitsspeicher</a:t>
              </a:r>
              <a:br>
                <a:rPr sz="2000"/>
              </a:br>
              <a:r>
                <a:rPr b="1" lang="de-DE" sz="2000" spc="-1" strike="noStrike">
                  <a:solidFill>
                    <a:srgbClr val="cc3300"/>
                  </a:solidFill>
                  <a:latin typeface="Arial"/>
                </a:rPr>
                <a:t>(DRA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b0ac00"/>
                  </a:solidFill>
                  <a:latin typeface="Arial"/>
                </a:rPr>
                <a:t>Sekundärspeicher</a:t>
              </a:r>
              <a:br>
                <a:rPr sz="2000"/>
              </a:br>
              <a:r>
                <a:rPr b="1" lang="de-DE" sz="2000" spc="-1" strike="noStrike">
                  <a:solidFill>
                    <a:srgbClr val="b0ac00"/>
                  </a:solidFill>
                  <a:latin typeface="Arial"/>
                </a:rPr>
                <a:t>(Platten, elektronische Massenspeich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6699"/>
                  </a:solidFill>
                  <a:latin typeface="Arial"/>
                </a:rPr>
                <a:t>Archivespeicher</a:t>
              </a:r>
              <a:br>
                <a:rPr sz="2000"/>
              </a:br>
              <a:r>
                <a:rPr b="1" lang="de-DE" sz="2000" spc="-1" strike="noStrike">
                  <a:solidFill>
                    <a:srgbClr val="336699"/>
                  </a:solidFill>
                  <a:latin typeface="Arial"/>
                </a:rPr>
                <a:t>(Platten, Bänder, optische Platte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15720" y="1217520"/>
              <a:ext cx="2447640" cy="487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35480" y="1227240"/>
              <a:ext cx="2447280" cy="48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7880" y="1808280"/>
              <a:ext cx="21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54240" y="2465280"/>
              <a:ext cx="279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6400" y="3360600"/>
              <a:ext cx="36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39840" y="4313160"/>
              <a:ext cx="46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2920" y="5199120"/>
              <a:ext cx="556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  <a:ea typeface="Arial"/>
              </a:rPr>
              <a:t>Pin-Belegung DRAM-ICs mit 2Mx8 Organis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16M-DRAM-Pin" descr=""/>
          <p:cNvPicPr/>
          <p:nvPr/>
        </p:nvPicPr>
        <p:blipFill>
          <a:blip r:embed="rId1"/>
          <a:stretch/>
        </p:blipFill>
        <p:spPr>
          <a:xfrm>
            <a:off x="817560" y="1225440"/>
            <a:ext cx="72230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7920" y="1228680"/>
            <a:ext cx="15732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230560" y="6081840"/>
            <a:ext cx="6480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24640" y="1353960"/>
            <a:ext cx="503316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8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On-Chip-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Secondary level Cache</a:t>
            </a:r>
            <a:br>
              <a:rPr sz="2000"/>
            </a:b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(S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Arbeitsspeicher</a:t>
            </a:r>
            <a:br>
              <a:rPr sz="2000"/>
            </a:b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(D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Sekundärspeicher</a:t>
            </a:r>
            <a:br>
              <a:rPr sz="2000"/>
            </a:b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(Platten, elektronische Massenspeic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Archivespeicher</a:t>
            </a:r>
            <a:br>
              <a:rPr sz="2000"/>
            </a:b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(Platten, Bänder, optische Plat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28760" y="1219320"/>
            <a:ext cx="244800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1228680"/>
            <a:ext cx="2447640" cy="485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90920" y="180972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67280" y="2467080"/>
            <a:ext cx="280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19440" y="3362400"/>
            <a:ext cx="36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52880" y="4314960"/>
            <a:ext cx="46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5960" y="520056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6840" y="1373040"/>
            <a:ext cx="3121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800"/>
                </a:solidFill>
                <a:latin typeface="Arial"/>
              </a:rPr>
              <a:t>Arbeits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Schreibtisch-Umgeb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Reg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Magaz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Fernlei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Organisationsformen einer Speicherhierarch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95240" y="2400480"/>
            <a:ext cx="2371680" cy="3619080"/>
            <a:chOff x="795240" y="2400480"/>
            <a:chExt cx="2371680" cy="3619080"/>
          </a:xfrm>
        </p:grpSpPr>
        <p:sp>
          <p:nvSpPr>
            <p:cNvPr id="265" name=""/>
            <p:cNvSpPr/>
            <p:nvPr/>
          </p:nvSpPr>
          <p:spPr>
            <a:xfrm>
              <a:off x="1386000" y="2903760"/>
              <a:ext cx="1190160" cy="437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54080" y="3861000"/>
              <a:ext cx="1853640" cy="495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5240" y="4883760"/>
              <a:ext cx="2371680" cy="624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81080" y="333360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43642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24004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1080" y="550836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014880" y="3054240"/>
            <a:ext cx="1309680" cy="56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49920" y="3613320"/>
            <a:ext cx="3240" cy="661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49920" y="2419200"/>
            <a:ext cx="3240" cy="662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1000" y="4282920"/>
            <a:ext cx="1523880" cy="50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7640" y="3622680"/>
            <a:ext cx="939960" cy="660240"/>
          </a:xfrm>
          <a:custGeom>
            <a:avLst/>
            <a:gdLst/>
            <a:ahLst/>
            <a:rect l="l" t="t" r="r" b="b"/>
            <a:pathLst>
              <a:path w="660" h="492">
                <a:moveTo>
                  <a:pt x="660" y="0"/>
                </a:moveTo>
                <a:lnTo>
                  <a:pt x="660" y="306"/>
                </a:lnTo>
                <a:lnTo>
                  <a:pt x="0" y="306"/>
                </a:lnTo>
                <a:lnTo>
                  <a:pt x="0" y="4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17480" y="3630600"/>
            <a:ext cx="1158840" cy="652320"/>
          </a:xfrm>
          <a:custGeom>
            <a:avLst/>
            <a:gdLst/>
            <a:ahLst/>
            <a:rect l="l" t="t" r="r" b="b"/>
            <a:pathLst>
              <a:path w="660" h="492">
                <a:moveTo>
                  <a:pt x="660" y="0"/>
                </a:moveTo>
                <a:lnTo>
                  <a:pt x="660" y="306"/>
                </a:lnTo>
                <a:lnTo>
                  <a:pt x="0" y="306"/>
                </a:lnTo>
                <a:lnTo>
                  <a:pt x="0" y="4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1040" y="20509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72120" y="20509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" y="1303200"/>
            <a:ext cx="78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neare Speicherhierarchi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ntralisierte Speicherhierarch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81840" y="4273560"/>
            <a:ext cx="1342800" cy="50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00960" y="4282920"/>
            <a:ext cx="1523880" cy="50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ypische lineare 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84" name="Hierarchie_Eigenschaften_C" descr=""/>
          <p:cNvPicPr/>
          <p:nvPr/>
        </p:nvPicPr>
        <p:blipFill>
          <a:blip r:embed="rId1"/>
          <a:srcRect l="0" t="4424" r="0" b="1842"/>
          <a:stretch/>
        </p:blipFill>
        <p:spPr>
          <a:xfrm>
            <a:off x="723960" y="1217520"/>
            <a:ext cx="772488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9960" y="1249200"/>
            <a:ext cx="8145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uszykluszeit moderner Prozessoren ist erheblich kürzer als die Zykluszeit preiswerter, großer D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 zwingt zum Einfügen von Wartezykl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RAM-Bausteine hingegen, die ohne Wartezykl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können, sind jedoch klein, teuer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eistungsintensi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kleine Speicher können so aufgebau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1238400"/>
            <a:ext cx="8124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Lösung des Problems:</a:t>
            </a:r>
            <a:r>
              <a:rPr b="1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 den Prozessor und den relativ langsamen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er billigen Arbeitsspeicher aus DRAM-Baustei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legt man einen kleinen, schnellen Speicher aus SRAM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austeinen, den sogenannten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-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ersteht man allgemein einen kleinen, schnellen Pufferspeicher, der vor einen langsamen, größeren Speicher geschaltet wird, um dessen Zugriffszeit zu verbesser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3840" y="1211400"/>
            <a:ext cx="81072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esserung der Zugriffszeit des Hauptspeicher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Prozessors durch einen Cache zur Vermeidung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on Wartezyklen (CPU-Cache, Befehls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ch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besserung der Zugriffszeit von Plattenspeicher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einen Cache (Plattencache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soll im wesentlichen der erste Fall näher betrachte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360" y="1116000"/>
            <a:ext cx="829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PU-Cache-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ersteht man ei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n, schnellen Pufferspeicher, in dem Kopien derjenigen Teile des Arbeitsspeichers bereitgehal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auf die aller Wahrscheinlichkeit nach von der CPU als nächstes zugegriffen wir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65160" y="3249720"/>
            <a:ext cx="6566040" cy="3027960"/>
            <a:chOff x="965160" y="3249720"/>
            <a:chExt cx="6566040" cy="3027960"/>
          </a:xfrm>
        </p:grpSpPr>
        <p:sp>
          <p:nvSpPr>
            <p:cNvPr id="294" name=""/>
            <p:cNvSpPr/>
            <p:nvPr/>
          </p:nvSpPr>
          <p:spPr>
            <a:xfrm>
              <a:off x="965160" y="3308400"/>
              <a:ext cx="1117800" cy="285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3400" y="3308400"/>
              <a:ext cx="1117800" cy="285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0840" y="4013280"/>
              <a:ext cx="180360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16680" y="41007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52960" y="4686480"/>
              <a:ext cx="1041480" cy="139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52960" y="4978440"/>
              <a:ext cx="1041480" cy="139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3206520" y="4210200"/>
              <a:ext cx="1168200" cy="78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eu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13400" y="3848400"/>
              <a:ext cx="1117800" cy="164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13400" y="5220000"/>
              <a:ext cx="1117800" cy="164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82960" y="3632400"/>
              <a:ext cx="433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84600" y="3632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82960" y="5905800"/>
              <a:ext cx="433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73520" y="5168880"/>
              <a:ext cx="0" cy="74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70000" y="4356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94440" y="4330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02000" y="5384880"/>
              <a:ext cx="1828800" cy="292320"/>
            </a:xfrm>
            <a:custGeom>
              <a:avLst/>
              <a:gdLst/>
              <a:ahLst/>
              <a:rect l="l" t="t" r="r" b="b"/>
              <a:pathLst>
                <a:path w="1152" h="184">
                  <a:moveTo>
                    <a:pt x="0" y="184"/>
                  </a:moveTo>
                  <a:lnTo>
                    <a:pt x="1152" y="184"/>
                  </a:lnTo>
                  <a:lnTo>
                    <a:pt x="11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38760" y="5257800"/>
              <a:ext cx="1523880" cy="432000"/>
            </a:xfrm>
            <a:custGeom>
              <a:avLst/>
              <a:gdLst/>
              <a:ahLst/>
              <a:rect l="l" t="t" r="r" b="b"/>
              <a:pathLst>
                <a:path w="704" h="184">
                  <a:moveTo>
                    <a:pt x="0" y="0"/>
                  </a:moveTo>
                  <a:lnTo>
                    <a:pt x="0" y="184"/>
                  </a:lnTo>
                  <a:lnTo>
                    <a:pt x="704" y="1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2800" y="324972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87920" y="587880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en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50640" y="40118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eue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22320" y="53326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erarbei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6000" y="5332680"/>
              <a:ext cx="16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-/auslag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9960" y="1305000"/>
            <a:ext cx="819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r Cache-Speicher ist zwischen CPU und Arbeitsspeicher plaz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en Cache-Speicher soll der Prozessor fast so schnell wie auf seine Register zugreifen könn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 ist entweder direkt auf dem Prozessorchip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tegrier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on-chip-Cache)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der in der schnells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uerst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RAM-Technologie realis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Off-Chip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4600" y="1125360"/>
            <a:ext cx="8443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Steuerung) sorgt dafür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ß die am häufigst benötigten Daten sich im Ca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die CPU kann mit hoher Wahrscheinlichkeit das </a:t>
            </a: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nächste Datum aus dem schnellen Cache und nicht </a:t>
            </a: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us dem langsamen Arbeitsspeicher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 wird erreicht, indem automatisch durch eine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Hardware-Steuer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-Controll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alle Da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n Cache kopiert werden, auf die der Prozessor zugreif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 benötigte Da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de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trategien aus dem Cache verdrän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 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1520" y="1076400"/>
            <a:ext cx="8523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CPU-Cache-Speicher bezieht seine Effiziens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aus der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Lokalitätseigenschaf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o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cality of referenc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, d.h. es wer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te Speicherzellen bevorzugt und wiederhol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ngesprochen (z.B. Programmschlei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Zeitliche Lokalität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Information, die in naher Zukunft angesprochen wird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mit großer Wahrscheinlichkeit schon früher einma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gesprochen worden (Schleife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Örtliche Lokalität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zukunftiger Zugriff wird mit großer Wahrscheinlichk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r Nähe des bisherigen Zugriffs lie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2480" y="3807000"/>
            <a:ext cx="500040" cy="614160"/>
          </a:xfrm>
          <a:custGeom>
            <a:avLst/>
            <a:gdLst/>
            <a:ahLst/>
            <a:rect l="l" t="t" r="r" b="b"/>
            <a:pathLst>
              <a:path w="315" h="387">
                <a:moveTo>
                  <a:pt x="5" y="386"/>
                </a:moveTo>
                <a:lnTo>
                  <a:pt x="148" y="387"/>
                </a:lnTo>
                <a:lnTo>
                  <a:pt x="315" y="0"/>
                </a:lnTo>
                <a:lnTo>
                  <a:pt x="0" y="2"/>
                </a:lnTo>
                <a:lnTo>
                  <a:pt x="5" y="38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000680" y="198900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27800" y="1379520"/>
            <a:ext cx="0" cy="33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9160" y="228240"/>
            <a:ext cx="875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  <a:ea typeface="Arial"/>
              </a:rPr>
              <a:t>DRAM Timing-Paramet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0880" y="3036960"/>
            <a:ext cx="6865920" cy="544320"/>
          </a:xfrm>
          <a:custGeom>
            <a:avLst/>
            <a:gdLst/>
            <a:ahLst/>
            <a:rect l="l" t="t" r="r" b="b"/>
            <a:pathLst>
              <a:path w="4325" h="343">
                <a:moveTo>
                  <a:pt x="0" y="0"/>
                </a:moveTo>
                <a:lnTo>
                  <a:pt x="233" y="0"/>
                </a:lnTo>
                <a:lnTo>
                  <a:pt x="437" y="343"/>
                </a:lnTo>
                <a:lnTo>
                  <a:pt x="1589" y="343"/>
                </a:lnTo>
                <a:lnTo>
                  <a:pt x="1753" y="0"/>
                </a:lnTo>
                <a:lnTo>
                  <a:pt x="2300" y="0"/>
                </a:lnTo>
                <a:lnTo>
                  <a:pt x="2460" y="340"/>
                </a:lnTo>
                <a:lnTo>
                  <a:pt x="3701" y="343"/>
                </a:lnTo>
                <a:lnTo>
                  <a:pt x="3845" y="7"/>
                </a:lnTo>
                <a:lnTo>
                  <a:pt x="4325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809880"/>
            <a:ext cx="6934320" cy="614520"/>
          </a:xfrm>
          <a:custGeom>
            <a:avLst/>
            <a:gdLst/>
            <a:ahLst/>
            <a:rect l="l" t="t" r="r" b="b"/>
            <a:pathLst>
              <a:path w="4368" h="387">
                <a:moveTo>
                  <a:pt x="0" y="384"/>
                </a:moveTo>
                <a:lnTo>
                  <a:pt x="149" y="387"/>
                </a:lnTo>
                <a:lnTo>
                  <a:pt x="163" y="360"/>
                </a:lnTo>
                <a:lnTo>
                  <a:pt x="309" y="0"/>
                </a:lnTo>
                <a:lnTo>
                  <a:pt x="909" y="0"/>
                </a:lnTo>
                <a:lnTo>
                  <a:pt x="1056" y="384"/>
                </a:lnTo>
                <a:lnTo>
                  <a:pt x="1920" y="384"/>
                </a:lnTo>
                <a:lnTo>
                  <a:pt x="2064" y="48"/>
                </a:lnTo>
                <a:lnTo>
                  <a:pt x="2976" y="48"/>
                </a:lnTo>
                <a:lnTo>
                  <a:pt x="3120" y="384"/>
                </a:lnTo>
                <a:lnTo>
                  <a:pt x="4032" y="384"/>
                </a:lnTo>
                <a:lnTo>
                  <a:pt x="4176" y="48"/>
                </a:lnTo>
                <a:lnTo>
                  <a:pt x="436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676760"/>
            <a:ext cx="60948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33840" y="4676760"/>
            <a:ext cx="39348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4720" y="467676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22720" y="4676760"/>
            <a:ext cx="1287360" cy="539640"/>
          </a:xfrm>
          <a:prstGeom prst="hexagon">
            <a:avLst>
              <a:gd name="adj" fmla="val 19913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27720" y="4676760"/>
            <a:ext cx="55872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08760" y="4676760"/>
            <a:ext cx="36972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83160" y="4676760"/>
            <a:ext cx="1008360" cy="539640"/>
          </a:xfrm>
          <a:prstGeom prst="hexagon">
            <a:avLst>
              <a:gd name="adj" fmla="val 1559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04120" y="4676760"/>
            <a:ext cx="1282680" cy="539640"/>
          </a:xfrm>
          <a:prstGeom prst="hexagon">
            <a:avLst>
              <a:gd name="adj" fmla="val 19841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6880" y="5746680"/>
            <a:ext cx="69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43440" y="5495760"/>
            <a:ext cx="1008000" cy="540000"/>
          </a:xfrm>
          <a:prstGeom prst="hexagon">
            <a:avLst>
              <a:gd name="adj" fmla="val 1558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3840" y="548964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65480" y="1440000"/>
            <a:ext cx="0" cy="32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274920" y="2301480"/>
            <a:ext cx="0" cy="17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38520" y="1968120"/>
            <a:ext cx="0" cy="11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1650960"/>
            <a:ext cx="3249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90680" y="2066760"/>
            <a:ext cx="17146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40320" y="2071800"/>
            <a:ext cx="9730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590920"/>
            <a:ext cx="99540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68800" y="258444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960" y="30272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960" y="3941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00" y="47149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832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20040" y="4753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09120" y="47577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8720" y="4756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61720" y="4773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64840" y="55227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1880" y="554832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1760" y="31320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9240" y="39736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33720" y="55436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13320" y="31352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57960" y="311940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48920" y="127476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6552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1960" y="220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17760" y="21924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80080" y="1700280"/>
            <a:ext cx="456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2680" y="4676760"/>
            <a:ext cx="58896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7960" y="4613400"/>
            <a:ext cx="34956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5640" y="1155600"/>
            <a:ext cx="3032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yklu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C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CAS-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Precharg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04920" y="3259080"/>
            <a:ext cx="287280" cy="141912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8640" y="407844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7000" y="3211560"/>
            <a:ext cx="287640" cy="149220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53280" y="407196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2920" y="30686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8120" y="39718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2840" y="1325520"/>
            <a:ext cx="784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Lesezugrif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 jedem Lesezugriff prüft d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, ob das Datum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 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800"/>
                </a:solidFill>
                <a:latin typeface="Arial"/>
              </a:rPr>
              <a:t>Wenn ja:</a:t>
            </a:r>
            <a:r>
              <a:rPr b="0" sz="2400" spc="-1" strike="noStrike">
                <a:solidFill>
                  <a:srgbClr val="00c8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c800"/>
                </a:solidFill>
                <a:latin typeface="Arial"/>
              </a:rPr>
              <a:t>Treffer (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Cache Hit</a:t>
            </a:r>
            <a:r>
              <a:rPr b="0" sz="2400" spc="-1" strike="noStrike">
                <a:solidFill>
                  <a:srgbClr val="00c800"/>
                </a:solidFill>
                <a:latin typeface="Arial"/>
              </a:rPr>
              <a:t>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Datum kann ohne Wartezyklen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 entnommen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3300"/>
                </a:solidFill>
                <a:latin typeface="Arial"/>
              </a:rPr>
              <a:t>Wenn nein:</a:t>
            </a:r>
            <a:r>
              <a:rPr b="0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cc3300"/>
                </a:solidFill>
                <a:latin typeface="Arial"/>
              </a:rPr>
              <a:t>kein Treffer (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Cache Miss</a:t>
            </a:r>
            <a:r>
              <a:rPr b="0" sz="2400" spc="-1" strike="noStrike">
                <a:solidFill>
                  <a:srgbClr val="cc3300"/>
                </a:solidFill>
                <a:latin typeface="Arial"/>
              </a:rPr>
              <a:t>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Datum wird mit Wartezyklen aus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gelesen und gleichzeitig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n Cache eingefü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17440" y="1600200"/>
            <a:ext cx="121932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77120" y="160020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207000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36760" y="1778040"/>
            <a:ext cx="1790640" cy="291960"/>
          </a:xfrm>
          <a:custGeom>
            <a:avLst/>
            <a:gdLst/>
            <a:ahLst/>
            <a:rect l="l" t="t" r="r" b="b"/>
            <a:pathLst>
              <a:path w="1128" h="184">
                <a:moveTo>
                  <a:pt x="0" y="0"/>
                </a:moveTo>
                <a:lnTo>
                  <a:pt x="1128" y="0"/>
                </a:lnTo>
                <a:lnTo>
                  <a:pt x="1128" y="1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36760" y="2717640"/>
            <a:ext cx="1816200" cy="330480"/>
          </a:xfrm>
          <a:custGeom>
            <a:avLst/>
            <a:gdLst/>
            <a:ahLst/>
            <a:rect l="l" t="t" r="r" b="b"/>
            <a:pathLst>
              <a:path w="1160" h="144">
                <a:moveTo>
                  <a:pt x="0" y="144"/>
                </a:moveTo>
                <a:lnTo>
                  <a:pt x="1160" y="144"/>
                </a:lnTo>
                <a:lnTo>
                  <a:pt x="11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68560" y="411480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27880" y="411480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08360" y="458460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419112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74920" y="556272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75080" y="4178160"/>
            <a:ext cx="0" cy="40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375080" y="523224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83000" y="1382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94080" y="380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10360" y="3021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35920" y="55357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5640" y="2211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00"/>
                </a:solidFill>
                <a:latin typeface="Arial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200" y="4599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280" y="1096920"/>
            <a:ext cx="77886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it-Rat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zeichnet die Trefferquote im 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Hit-Rate = Anzahl Treffer / Anzahl Zu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mittlere Zugriffsze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rechnet sich annähernd 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Access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 = (Hit-Rate) * 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Hi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 + (1 - Hit-Rate) * 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H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iffszeit des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iffszeit ohne den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3840" y="1325520"/>
            <a:ext cx="827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chreibzugrif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iegt beim Schreiben ein Ca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ss vor, wird das Datum sowohl in den Arbeitsspeicher wie in den Cache geschri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iegt beim Schreiben jedoch ein Ca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t vor, d.h. ein im Cache stehendes Datum wird durch den Prozessor verändert, so existieren verschiedene Organisationsformen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0440" y="1289160"/>
            <a:ext cx="8224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urchschreibverfahren: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through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Datum wird von der CPU immer gleichzeitig in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 und in den Arbeitsspeicher geschrieb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27880" y="379728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08360" y="4267080"/>
            <a:ext cx="1320840" cy="648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387360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374920" y="524520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75080" y="3860640"/>
            <a:ext cx="0" cy="40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375080" y="4914720"/>
            <a:ext cx="0" cy="31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94080" y="3490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35920" y="5218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68560" y="379728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0440" y="1488960"/>
            <a:ext cx="8246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00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arantierte Konsistenz zwischen Cache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zugriffe benötigen immer die langsam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des Hauptspeichers und belasten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b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0440" y="1289160"/>
            <a:ext cx="822492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epuffertes Durchschreibverfahren: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buffere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through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nte des Durchschreibverfah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r Milderung des Nachteils beim Durchschreibverfahre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ein kleiner Schreib-Puffer verwendet, der die z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den Daten temporär aufnimm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Daten werden dann automatisch vom Cache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ntroller in den Hauptspeicher übertragen, währe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zessor parallel dazu mit weiteren Operatio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ortfäh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0440" y="1289160"/>
            <a:ext cx="822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Rückschreib-Verfahren: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back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atum wird von der CPU nur in den Cache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chrieben und durch ein spezielles Bit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altered bit, </a:t>
            </a:r>
            <a:br>
              <a:rPr sz="2400"/>
            </a:b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modified bit, </a:t>
            </a: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dirty bit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kennzeichne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rbeitsspeicher wird nur geändert, wenn ein so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kennzeichnetes Datum aus dem Cache verdräng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8800" y="11365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inzip des Rückschreib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43280" y="186696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02600" y="186696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3080" y="233676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62240" y="2044800"/>
            <a:ext cx="1790640" cy="291960"/>
          </a:xfrm>
          <a:custGeom>
            <a:avLst/>
            <a:gdLst/>
            <a:ahLst/>
            <a:rect l="l" t="t" r="r" b="b"/>
            <a:pathLst>
              <a:path w="1128" h="184">
                <a:moveTo>
                  <a:pt x="0" y="0"/>
                </a:moveTo>
                <a:lnTo>
                  <a:pt x="1128" y="0"/>
                </a:lnTo>
                <a:lnTo>
                  <a:pt x="1128" y="1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62240" y="2984400"/>
            <a:ext cx="1816200" cy="330480"/>
          </a:xfrm>
          <a:custGeom>
            <a:avLst/>
            <a:gdLst/>
            <a:ahLst/>
            <a:rect l="l" t="t" r="r" b="b"/>
            <a:pathLst>
              <a:path w="1160" h="144">
                <a:moveTo>
                  <a:pt x="0" y="144"/>
                </a:moveTo>
                <a:lnTo>
                  <a:pt x="1160" y="144"/>
                </a:lnTo>
                <a:lnTo>
                  <a:pt x="11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94040" y="438156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53360" y="4381560"/>
            <a:ext cx="121932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33840" y="485136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08480" y="16495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61240" y="41133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35840" y="32878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53840" y="58532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56280" y="4508640"/>
            <a:ext cx="2197080" cy="342720"/>
          </a:xfrm>
          <a:custGeom>
            <a:avLst/>
            <a:gdLst/>
            <a:ahLst/>
            <a:rect l="l" t="t" r="r" b="b"/>
            <a:pathLst>
              <a:path w="1384" h="216">
                <a:moveTo>
                  <a:pt x="0" y="216"/>
                </a:moveTo>
                <a:lnTo>
                  <a:pt x="0" y="0"/>
                </a:lnTo>
                <a:lnTo>
                  <a:pt x="138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5499000"/>
            <a:ext cx="2171880" cy="368280"/>
          </a:xfrm>
          <a:custGeom>
            <a:avLst/>
            <a:gdLst/>
            <a:ahLst/>
            <a:rect l="l" t="t" r="r" b="b"/>
            <a:pathLst>
              <a:path w="1368" h="232">
                <a:moveTo>
                  <a:pt x="0" y="0"/>
                </a:moveTo>
                <a:lnTo>
                  <a:pt x="0" y="232"/>
                </a:lnTo>
                <a:lnTo>
                  <a:pt x="1368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2800" y="208116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peich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720" y="463392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ückschrei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0440" y="1488960"/>
            <a:ext cx="82468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00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ch Schreibzugriffe können mit der schn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Zykluszeit abgewick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nsistenzprobleme zwischen Cache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RAM Timinig-Paramet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1106640"/>
            <a:ext cx="85662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RA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, die zwischen der fallenden Flanke von RAS bis zur Ausgabe der gewünschten Daten verge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0 ns (bei einem 4 MB D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R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 von Beginn eines Zeilenzugriff bis zum nächsten (Zyklusze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= 110 ns bei einem 4Mbit DRAM mit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6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CA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, die zwischen der fallenden Flanke von CAS bi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Ausgabe der gewünschten Daten vergeht.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= 15 ns bei einem 4Mbit DRAM mit 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60 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RC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nimale Zeitdauer vom Beginn eines  Spaltenzugriff bis zum nächs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35 ns bei einem 4Mbit DRAM mit 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6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e für Konsistenzproblem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6880" y="1154160"/>
            <a:ext cx="84294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ere Systemkomponenten, z.B. DMA-Controller, fi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n unter Umständen „veraltete Daten“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, die von der CPU längst geändert, jedoch noch nicht 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Arbeitsspeicher übertragen wu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benfalls können andere Systemkomponenten Daten i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 ändern, während die CPU noch mit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n Daten im Cachespeicher arbei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endige Verfahren bei der Cache-Steuerung z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hinderung solcher Inkonsistenzen sind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z.B. muss die Cache-Steuerung über je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änderung im Hauptspeicher informiert werd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1739880"/>
            <a:ext cx="6756120" cy="3809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16200" y="2482920"/>
            <a:ext cx="1866960" cy="22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23040" y="2482920"/>
            <a:ext cx="1866600" cy="22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16200" y="3683160"/>
            <a:ext cx="1866960" cy="380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23040" y="3683160"/>
            <a:ext cx="1866600" cy="380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16200" y="1917720"/>
            <a:ext cx="1866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69680" y="481824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-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0160" y="205884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-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63760" y="44704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63760" y="27748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63760" y="30862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51160" y="33847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16200" y="2774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16200" y="3086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16200" y="33847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16200" y="44704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70600" y="4457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70600" y="2762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0600" y="30733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70600" y="33717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23040" y="4457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5640" y="2762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23040" y="30733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23040" y="33717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83160" y="3873600"/>
            <a:ext cx="1739880" cy="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76680" y="26542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76680" y="297180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76680" y="32637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76680" y="35434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76680" y="42544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76680" y="464832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88840" y="1482840"/>
            <a:ext cx="7442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660760" y="2298600"/>
            <a:ext cx="0" cy="138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60760" y="1467000"/>
            <a:ext cx="0" cy="45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88840" y="6006960"/>
            <a:ext cx="7442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37440" y="4064040"/>
            <a:ext cx="0" cy="1955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81200" y="56116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8840" y="10969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880" y="1144440"/>
            <a:ext cx="837720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Cache-Speicher besteht aus zwei Speicher-Einh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speic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im Cache abgelegten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speic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n dieser Daten im 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älteren Mikrorechner-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r Dateneintrag besteht aus genau einem Wort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2280" y="1222200"/>
            <a:ext cx="834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r Dateneintrag besteht aus einem ganz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lock (line, bis 64 Byte). </a:t>
            </a:r>
            <a:br>
              <a:rPr sz="2400"/>
            </a:b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jedem Datum, auf das der Prozessor zugreift, wird die Umgebung miteingelagert (Hoffnung auf Lokalität von Programme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Adressspeicher wird die Basisadresse je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lock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440" y="1268280"/>
            <a:ext cx="767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Komparator ermittelt, ob das zu einer auf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us liegende Adresse gehörende Datum au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Cache abgelegt worden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vergleich mit den Adressen im Adres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r Adressvergleich m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ehr schnell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he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möglichst in einem Taktzyklus)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a sons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speicher effektiv langsamer wäre als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ast Page Mode DRAM (FPM-DRAM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600" y="1093680"/>
            <a:ext cx="86072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liegen aufeinander folgende Speicherzugriffe in der gleichen Zeile des DRAMs. Das wird bei FPM-DRAMs ausgenutz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nitialisieren des ersten Lesezugriffs läuft wie bei normalem DRAM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ach dem ersten Lesezyklus lässt die Speichersteuerung das RAS-Signal einfach auf aktiv </a:t>
            </a:r>
            <a:r>
              <a:rPr b="0" lang="de-DE" sz="2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Zeile (page) bleibt aktiv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i den folgenden Lesezugriffen übergibt die Speichersteuerung nur noch jeweils eine neue Spaltenadresse an das DRAM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AS-Precharge-Zeit  (t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) und die RAS-CAS-Delay (t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) fallen bei den Folgezugriffen weg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2785680" y="440064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g-Diagramm eines 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8520" y="489744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reduziert sich erheblich.  Erst wenn der Speicherzugriff des Prozessors auf eine andere Zeile erfolgt, muss der Chipsatz einen normalen Lesevorgang initialis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51120" y="1389240"/>
            <a:ext cx="3875040" cy="21888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84600" y="2448000"/>
            <a:ext cx="3819240" cy="26172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2680" y="3490920"/>
            <a:ext cx="411120" cy="2858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909960" y="243828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1944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2280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75200" y="243936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81200" y="244728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1176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908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576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75520" y="3502080"/>
            <a:ext cx="457200" cy="270000"/>
          </a:xfrm>
          <a:prstGeom prst="hexagon">
            <a:avLst>
              <a:gd name="adj" fmla="val 29398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44920" y="4276800"/>
            <a:ext cx="380880" cy="269640"/>
          </a:xfrm>
          <a:prstGeom prst="hexagon">
            <a:avLst>
              <a:gd name="adj" fmla="val 2452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5780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27480" y="4267080"/>
            <a:ext cx="381240" cy="270000"/>
          </a:xfrm>
          <a:prstGeom prst="hexagon">
            <a:avLst>
              <a:gd name="adj" fmla="val 24514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0724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22560" y="15922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38360" y="1295280"/>
            <a:ext cx="255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3440" y="12366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89280" y="23288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89280" y="34052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9280" y="4192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803680" y="45482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20600" y="377820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788920" y="27003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795760" y="16016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5120" y="1303200"/>
            <a:ext cx="25524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5160" y="195408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7240" y="1552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50760" y="347328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32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5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9240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72160" y="3463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73360" y="1803240"/>
            <a:ext cx="0" cy="257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38440" y="4259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484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840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312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3560" y="1268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43560" y="2389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9800" y="3425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0960" y="4157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28880" y="130644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3560" y="2432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600" y="1150920"/>
            <a:ext cx="860724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ypische FPM-DRAM-Zugriffszeit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60 oder 70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-Zugriffszeit (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bei einem 60 ns Baustein im FPM-Mode  beträgt ca. 40 ns 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ten können im Abstand von 40 ns gelesen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C mit 66 MHz Bustakt (Taktperiode = 15 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kann im FPM-Mode 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nur bei jedem dritten Ta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eine Zeile im Speicher zugreif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itialisierung eines Lesevorgangs mit dem Anlegen von Zeilen- und Spaltenadresse dauert dagegen mit ganzen fünf Takten 75 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ximale Datentransferra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200 Mbyte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en ab Intel Pentium führen durch ihren 64-Bit breiten Datenbus Speicherzugriffe mit 8 Byte durch. Bei einer CAS-Zykluszeit von 40 ns lassen sich 64 Bit in diesem Zeitraum übertra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600" y="1093680"/>
            <a:ext cx="86072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der FPM-DRAMs. Durch eine einfache Modifikation der Steuerung wird eine Geschwindigkeitssteigerung erre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DO-DRAMs sind um einen Latch-Speicher am Ausgang erweit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lesenen Daten bleiben bis zum nächsten Aktivieren des CAS-Signal gül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Prozessor kann Daten auslesen, während die Speichersteuerung eine neue Spaltenadresse an das DRAM übergib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ses „Pipelining“ verkürzt sich die Wartezeit zwischen zwei aufeinander folgenden CAS-Impuls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öherer Datendurch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zugriffe bleiben wie bei FPM-Speicher unbeschleunigt und entsprechen von der Performance her den normalen Standard-D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H="1">
            <a:off x="2385720" y="44877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972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8136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8480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EDO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720" y="523548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neuer Lesevorgang kann beginnen, bevor der alte abgeschlossen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51160" y="1465200"/>
            <a:ext cx="3875040" cy="21924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84280" y="2523960"/>
            <a:ext cx="3819600" cy="26208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22360" y="3567240"/>
            <a:ext cx="411480" cy="28548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510000" y="251460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1948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72284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475240" y="251604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81240" y="252396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3204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11440" y="357660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9912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9580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5200" y="3578400"/>
            <a:ext cx="457200" cy="269640"/>
          </a:xfrm>
          <a:prstGeom prst="hexagon">
            <a:avLst>
              <a:gd name="adj" fmla="val 2943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808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22600" y="16686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8400" y="137160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73480" y="13129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89320" y="24051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89320" y="34815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9320" y="426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403000" y="46245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420640" y="385452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388960" y="277668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395080" y="16779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84800" y="137952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35200" y="203040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62864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50440" y="35496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32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05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244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71840" y="3540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3400" y="187956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35400" y="4335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561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57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160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3600" y="1344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3600" y="2465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39840" y="35020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31000" y="423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8920" y="13827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3600" y="250812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30T19:51:59Z</cp:lastPrinted>
  <dcterms:modified xsi:type="dcterms:W3CDTF">2002-03-07T12:10:28Z</dcterms:modified>
  <cp:revision>1242</cp:revision>
  <dc:subject/>
  <dc:title>TI-2</dc:title>
</cp:coreProperties>
</file>