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3B765B9-9F93-4208-9A6B-45E817E707C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763B-4924-49D8-B997-EFF70748C0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1133640"/>
            <a:ext cx="804852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Integrationsdichte aller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tweise organisiert, getrennter Dateneingang 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Daten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adressen gemultiplext (spart Anschlüß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eil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R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w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Spalt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C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lumn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3840" y="41241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8640" y="32097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1324080"/>
            <a:ext cx="80582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eileninhalt wird zunächst,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die Leseverstärker aus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eine kleine Verzögerung V wird dieser Inhalt dan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Schreibverstärker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geschr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die Leitungskapazitäten besser zu verteil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bei hochintegrierten Bausteinen die Schreib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Lese-Verstärker auch oft in die Mitte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leitungen verlegt (statt am Ende wie im Bi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gestel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RAM-Controll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1119" t="1521" r="0" b="939"/>
          <a:stretch/>
        </p:blipFill>
        <p:spPr>
          <a:xfrm>
            <a:off x="4062240" y="1069920"/>
            <a:ext cx="4724640" cy="5145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19040" y="1238400"/>
            <a:ext cx="33908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euer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n der RAS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CAS-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exe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-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33640" y="260028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9560" y="298116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echniken zur Zugriffbeschleun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0600" y="1076400"/>
            <a:ext cx="85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39840" y="1117440"/>
            <a:ext cx="81468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6200" y="1335240"/>
            <a:ext cx="86076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fallen bei den Folgezugriffen weg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5120" y="1278000"/>
            <a:ext cx="25524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DO-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91280" y="197172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800" y="1192320"/>
            <a:ext cx="8359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DO-RAM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(Extended Data Output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ausgabe wird beim Lesen vom CAS-Sig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els interner Pufferung entkopp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 stehen länger am Ausgang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Verschachtelungsmöglichkeiten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esezugr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1160" y="1104840"/>
            <a:ext cx="6680160" cy="5004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9880" y="434340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46040" y="4520880"/>
            <a:ext cx="2463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97080" y="3632040"/>
            <a:ext cx="1612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18880" y="3784680"/>
            <a:ext cx="17924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385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8772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8840" y="23623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8840" y="26161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1040" y="1689120"/>
            <a:ext cx="4597200" cy="144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1473120"/>
            <a:ext cx="4597200" cy="180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2000" y="12891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517920"/>
            <a:ext cx="800280" cy="1028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lt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3479760"/>
            <a:ext cx="800280" cy="11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16600" y="212076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88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30520" y="387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22640" y="4915080"/>
            <a:ext cx="133344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88240" y="2043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se/ Schreib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30840" y="222264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9400" y="1287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560" y="5637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48240" y="1285920"/>
            <a:ext cx="2095560" cy="2025360"/>
            <a:chOff x="5448240" y="1285920"/>
            <a:chExt cx="2095560" cy="2025360"/>
          </a:xfrm>
        </p:grpSpPr>
        <p:sp>
          <p:nvSpPr>
            <p:cNvPr id="91" name=""/>
            <p:cNvSpPr/>
            <p:nvPr/>
          </p:nvSpPr>
          <p:spPr>
            <a:xfrm>
              <a:off x="5448240" y="128592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0088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55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65960" y="13046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240" y="1469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240" y="1685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240" y="29559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240" y="315900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530680" y="1400040"/>
              <a:ext cx="317160" cy="342720"/>
              <a:chOff x="5530680" y="1400040"/>
              <a:chExt cx="317160" cy="34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553068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3068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2112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112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530680" y="2873160"/>
              <a:ext cx="317160" cy="342720"/>
              <a:chOff x="5530680" y="2873160"/>
              <a:chExt cx="317160" cy="34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553068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3068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2112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2112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112160" y="1400040"/>
              <a:ext cx="317160" cy="342720"/>
              <a:chOff x="7112160" y="1400040"/>
              <a:chExt cx="317160" cy="342720"/>
            </a:xfrm>
          </p:grpSpPr>
          <p:sp>
            <p:nvSpPr>
              <p:cNvPr id="111" name=""/>
              <p:cNvSpPr/>
              <p:nvPr/>
            </p:nvSpPr>
            <p:spPr>
              <a:xfrm>
                <a:off x="711216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1216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0260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0260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112160" y="2873160"/>
              <a:ext cx="317160" cy="342720"/>
              <a:chOff x="7112160" y="2873160"/>
              <a:chExt cx="317160" cy="342720"/>
            </a:xfrm>
          </p:grpSpPr>
          <p:sp>
            <p:nvSpPr>
              <p:cNvPr id="116" name=""/>
              <p:cNvSpPr/>
              <p:nvPr/>
            </p:nvSpPr>
            <p:spPr>
              <a:xfrm>
                <a:off x="711216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216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0260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0260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448240" y="232704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8240" y="218736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800" y="1503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22400" y="295920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635000" y="3162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19240" y="1689120"/>
            <a:ext cx="0" cy="21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1472760"/>
            <a:ext cx="0" cy="21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1880" y="143496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1650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752480" y="23619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71600" y="2616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0840" y="257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1720" y="2324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3867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7560" y="3619440"/>
            <a:ext cx="7747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3809880"/>
            <a:ext cx="7747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22760" y="436896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10160" y="422928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18040" y="4699080"/>
            <a:ext cx="99072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509256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82920" y="509220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40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384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8200" y="44704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0040" y="4889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3840" y="525780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9600" y="5257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2560" y="51814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960" y="5181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960" y="56386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51688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26360" y="51688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41800" y="560088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00600"/>
            <a:ext cx="508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483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0880" y="474984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00880" y="444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74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4546440"/>
            <a:ext cx="129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57680" y="47242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2880" y="5283360"/>
            <a:ext cx="139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0" y="2997360"/>
            <a:ext cx="0" cy="17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973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9440" y="473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944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3480" y="500364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863960" y="32382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3251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640" y="2176560"/>
            <a:ext cx="76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120" y="243036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20" y="4608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920" y="5078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3040" y="4635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511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1080" y="4995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5960" y="583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6920" y="57895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4680" y="579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996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9800" y="1116000"/>
            <a:ext cx="8359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DRAMs (Synchrone Dynamische RA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SDRAM-Technik können gleichzeitig zwei Speicherseiten geöffn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auf die Flankensteuerung verzichtet. Der Speicherverwalter übermittelt die Steuerbefehle als 4 Bit-Muster, die in einer 4-stufigen Pipeline (Warteschlange) verarbei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können die immer aktueller werdenden Busgeschwindigkeiten von bis zu 100 MHz be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sind synchron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3600" y="1093680"/>
            <a:ext cx="860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480" y="1182600"/>
            <a:ext cx="80740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DR-SDRAM (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ouble-Data-Rate-S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DR-SDRAMs entsprechen in Bauform und Funktionsweise den "normalen" SDRAM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n, jedoch werden im Gegensatz zu diese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 zweimal pro Takt ausgelesen bzw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rieben. Dadurch erreichen die DDR-SDRA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 den doppelten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DRA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ync Link RDRAM 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Rambus Dynamic RAM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der SDRAM Technologie, die höhere Busfrequenzen erlaubt und damit eine höhere Leistung ermög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RDRAM/ Concurrent - RDRAM / Direct RDR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6120" y="1487520"/>
            <a:ext cx="816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DRAM/ Concurrent - RDRAM / Direct RDRAM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DRAM- Technologie gibt es seit 1995 und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vielen Workstations und Spielekonsolen bewäh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zielle Bus (Rambus Channel) setzt jedoch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s Design der Hauptplatine vo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arian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urrent RDRAM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600MHz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 RDRAM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800MHz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 sich hinsicht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aximalen Taktrate und der eingesetzten Protok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43080" y="2951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Times New Roman"/>
              </a:rPr>
              <a:t>DRAM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`S -E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0840" y="1173240"/>
            <a:ext cx="82216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960" y="1104840"/>
            <a:ext cx="84870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ie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ve RAS-Flanke übernimmt die Zeilenadresse ins Adressregister, negative CAS-Flanke die Spalten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erscheinen eine gewisse Zeit nach der  negativen CAS-Flanke am Ausgang, Zyklus wird durch CAS = 1 wieder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zu schreibende Datum muß gleichzeitig mit Spaltenadresse am Dateneingang anliegen.  Datenübernahme geschieht mit negativer CAS-Fla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0600" y="16095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34040" y="19908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355284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09800" y="356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0320" y="58197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  <a:ea typeface="Arial"/>
              </a:rPr>
              <a:t>16 MBit DRAM in 2Mx8 Organis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19200" y="1314360"/>
            <a:ext cx="61038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6560" y="1228680"/>
            <a:ext cx="8258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ieht zeilenweise, jede Zeile muss ca. alle 2 - 4 m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fri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ie Zeilenadresse wird an den Baustein angelegt,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= 0 und CAS konstant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5840" y="3452760"/>
            <a:ext cx="6772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der Auffrischlogi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5480" y="1297080"/>
            <a:ext cx="79059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1-21T13:23:52Z</dcterms:modified>
  <cp:revision>910</cp:revision>
  <dc:subject/>
  <dc:title>TI-2</dc:title>
</cp:coreProperties>
</file>