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E07798-CD3A-431B-B9CF-F6ED12B32A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8FA-9C92-4D13-A365-9BC7B87586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2. Pipeline-Verarbei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prozessen zerlegt. Für jeden Teilprozess wird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ünfstufige Befehls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387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396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07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13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04640" y="1366920"/>
            <a:ext cx="8382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33360" y="1095480"/>
            <a:ext cx="8601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25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296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0464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Grundlegendes Befehls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65040" y="1135080"/>
            <a:ext cx="8460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5440" y="1081080"/>
            <a:ext cx="86662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4545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Befehlsbereitstellungs-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F-Phase: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F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durch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szäh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ressierte Befehl wird aus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rbeitsspeicher (bzw. dem Befehlscache) in einen Befehlspuff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aden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ecodier-und Operandenbereitstellungs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D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Decode &amp;Register 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Die Operanden werden        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(Universal)-Register bereit gestellt (2.Takthälf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Ausführungsphase/ Berechnung der effektiven Adres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X-Pha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Execution/Effective Address Calcula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wird auf den Operanden ausgeführt.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und Speicherbefehl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Verzweigungen berechnet die ALU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6560" y="1306440"/>
            <a:ext cx="83394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peicherzugriffsphas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MEM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memory access)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zugriff (bei Lade- und Speicherbefehlen) wird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Resultatspeicherphase (</a:t>
            </a:r>
            <a:r>
              <a:rPr b="1" lang="de-DE" sz="2300" spc="-1" strike="noStrike">
                <a:solidFill>
                  <a:srgbClr val="ff0000"/>
                </a:solidFill>
                <a:latin typeface="Arial"/>
              </a:rPr>
              <a:t>WB- Phase: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write back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gebnis wird in einem (Universal)-Register geschrie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.Takthälfte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ohne Ergebnis durchlaufen diese Phas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Konflikt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4545ff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aten-, Struktur- und Steuerfluss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5440" y="1081080"/>
            <a:ext cx="866628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6560" y="1295280"/>
            <a:ext cx="7932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abhängigkeit und Ausgabeabhängigkeiten werden häufig auch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falsche Datenabhängigk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entsprechend dem englischen Begriff – “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ame Dependency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Namens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nan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read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read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gen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 Tritt dan auf, wenn in einer Pipeline die Schreibestufe der Lesestufe  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gabe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Tritt in Pipelines auf, die mehr als in einer Stufe schreiben, oder es erlauben, dass die Ausführung eines Befehls fortgesetzt werden darf, wenn ein vorhergehender Befehl angehalten wor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AR und WA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296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hlzuweisung durch einen Datenkonflik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9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5920" y="1076400"/>
            <a:ext cx="8286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71440" y="1076400"/>
            <a:ext cx="8572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80880" y="108108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</a:t>
            </a:r>
            <a:r>
              <a:rPr b="0" i="1" lang="de-DE" sz="3200" spc="-1" strike="noStrike">
                <a:solidFill>
                  <a:srgbClr val="000099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5920" y="1085760"/>
            <a:ext cx="8296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99"/>
                </a:solidFill>
                <a:latin typeface="Arial"/>
              </a:rPr>
              <a:t>Forwarding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-Technik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Forwarding Techniken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1080" y="1488960"/>
            <a:ext cx="73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 – 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ing – Logik und zusätzliche Datenpf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93840" y="3162240"/>
            <a:ext cx="8229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04640" y="1100160"/>
            <a:ext cx="8277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8400" y="1335240"/>
            <a:ext cx="77979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ZapfDingbats"/>
                <a:ea typeface="ZapfDingbats"/>
              </a:rPr>
              <a:t>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Lösungen (Hardwar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Arbitrierung mit Interlo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ierungslogik hält den Befehl, der 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flikt verursacht - Verzögerung d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Übertak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ssource, die den Konflikt hervorru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neller als die übrigen Pipeline-Stufen ta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Ressourcenreplizieru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ielfa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Res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rungss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6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90600" y="1071720"/>
            <a:ext cx="82580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6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8040" y="1320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95280" y="1085760"/>
            <a:ext cx="8277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677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962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90600" y="1128600"/>
            <a:ext cx="8277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25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23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24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43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44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163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170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176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183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184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190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196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22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23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29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42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43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49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255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262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263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269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275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283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284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290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296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7-10-24T06:04:42Z</dcterms:modified>
  <cp:revision>820</cp:revision>
  <dc:subject/>
  <dc:title>ti2-vl6</dc:title>
</cp:coreProperties>
</file>