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ustrielle Anwendungen der Informatik und Mikosystemtechn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766E-0CA5-49FA-A5B7-13B0DD52EA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Kapitel 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5360" y="2136600"/>
            <a:ext cx="754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Prinzipieller Aufbau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eines Prozessors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1266840"/>
            <a:ext cx="796284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Adreß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jenigen Leitungen, auf denen die Adreß-information transportiert wird (un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Daten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portieren Daten und Befehle von/zum Prozessor (b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Steuer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ben Steuerinformationen von/zum Prozessor (uni- oder b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040" y="1266840"/>
            <a:ext cx="79628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Bus (Sammelschi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bindung mehrere Komponenten eines Rechners über dieselben Leitungen; dabei darf zu einem Zeitpunkt immer nur eine Komponente Informationen auf die Leitungen l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Adreßbus, Datenbus, Steuerbus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s Gesamtheit: 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90520"/>
            <a:ext cx="796284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Ein-/Ausgabe-Einheiten</a:t>
            </a:r>
            <a:r>
              <a:rPr b="0" sz="2400" spc="-1" strike="noStrike">
                <a:solidFill>
                  <a:srgbClr val="0000dc"/>
                </a:solidFill>
                <a:latin typeface="Tahoma"/>
              </a:rPr>
              <a:t> (Peripheriegerä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räte zur Eingabe von Daten und Programmen und zur Ausgabe der verarbeiteten Daten.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Bildschirme, Drucker, Terminals, ..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 Geräte sind über Ein-/Ausgabe-Schnittstellen mit dem Rechner verbu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Verbindung der Schnittstellen mit dem Prozessor (und zu den Peripheriegeräten) geschieht durch Adreß-, Daten- und Steuerleit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1123920"/>
            <a:ext cx="834372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dc"/>
                </a:solidFill>
                <a:latin typeface="Tahoma"/>
              </a:rPr>
              <a:t>Mikroprozessor (</a:t>
            </a:r>
            <a:r>
              <a:rPr b="1" sz="2400" spc="-1" strike="noStrike">
                <a:solidFill>
                  <a:srgbClr val="0000d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P):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Zentraleinheit eines Digitalrechner, die auf einem oder wenigen Chips untergebracht 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esteht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nittstell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ft zusätzl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n-Chip-Cache-Speicher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icherverwaltungs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1152360"/>
            <a:ext cx="812484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: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hält ein 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gramme sind vom Hersteller in einem Festwertspeicher untergebracht und vom Benutzer nicht änder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80x86, Pentium, 680x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9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barer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: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gramme sind vom Benutzer änder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it-Slice-Prozessoren (heute sel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1343160"/>
            <a:ext cx="77054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t festverdrahtetem 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chaltwerk:</a:t>
            </a: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ISC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n-bit-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(n=8, 16, 32, 64)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n ist Breite des Datenbusses 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od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reite der allgemeinen Register (die Breite der Information, die in einem Schritt von der ALU des Operationswerks verarbeitet werden ka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600" y="1590840"/>
            <a:ext cx="77724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Neben Universal-Mikroprozessoren (Standard-Mikroprozessoren) existieren auch Mikroprozessoren für spezielle Anwend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Micro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Co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2880" y="1438200"/>
            <a:ext cx="803916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Mikroprozessor-System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:</a:t>
            </a:r>
            <a:r>
              <a:rPr b="0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gitales System, das einen Mikroprozessor als zentrale Steuer- und/oder Recheneinheit besi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Mikrorechner (Mikrocomput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hält einen Mikroprozessor, der über den Systembus mit Speicher, Cotrollern und Schnittstellen für Peripherie-Geräte verbun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8440" y="1008000"/>
            <a:ext cx="8076960" cy="53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Speziallfälle von Mikrorechn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-Chip-Mikro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le Komponenten des Mikrocomputers befind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ch auf einem einzige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-Platinen-Mikro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le Komponenten des Mikrocomputers sind auf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r Platine auf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3300"/>
                </a:solidFill>
                <a:latin typeface="Tahoma"/>
              </a:rPr>
              <a:t>Mikrorechner-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3300"/>
                </a:solidFill>
                <a:latin typeface="Tahoma"/>
              </a:rPr>
              <a:t>Mikrorechner mit angeschlossenen Peripheriegerä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3300"/>
                </a:solidFill>
                <a:latin typeface="Tahoma"/>
              </a:rPr>
              <a:t>(Bildschirm, Tastatur, Mause, Drucker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 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und 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600" y="120636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 Chip muß zur Erhöhung der mechanischen Stabilitä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zur Herausführung der Anschlüße sowie zur Ableitung der Wärme (bis 4 Watt) in ein Gehäuse unter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materialien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Plastik oder Keram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bräuchlichste Gehäusety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00640" y="3292560"/>
            <a:ext cx="327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von-Neumann-Konnzep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8280" y="1120680"/>
            <a:ext cx="7991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von-Neumann-Konzept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st die Grundlage der in dieser Vorlesung vorgestellten Hardware-Architektur eines Digitalrech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s besteht aus den Kompone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348440" y="3129120"/>
            <a:ext cx="4410000" cy="3078000"/>
            <a:chOff x="4348440" y="3129120"/>
            <a:chExt cx="4410000" cy="307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rcRect l="1875" t="0" r="7562" b="15587"/>
            <a:stretch/>
          </p:blipFill>
          <p:spPr>
            <a:xfrm>
              <a:off x="4552920" y="3129120"/>
              <a:ext cx="393876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48440" y="5838840"/>
              <a:ext cx="44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ahoma"/>
                </a:rPr>
                <a:t>Ursprüngliche von-Neumann-Mas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09680" y="3357720"/>
            <a:ext cx="457200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Ein-/Ausgabe-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52058"/>
          <a:stretch/>
        </p:blipFill>
        <p:spPr>
          <a:xfrm>
            <a:off x="4440240" y="1333440"/>
            <a:ext cx="448632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0560" y="1371600"/>
            <a:ext cx="8229600" cy="52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A und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ual Inline Packages (DIP)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o benannt wegen d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wei parallelen Reih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nschlußstifte (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zahl von 8 bis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hip in der Mitte des Gehäuses (z.B. in Bild A unter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tallplat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62050" r="63745" b="0"/>
          <a:stretch/>
        </p:blipFill>
        <p:spPr>
          <a:xfrm>
            <a:off x="6242040" y="1201680"/>
            <a:ext cx="2556000" cy="2274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0560" y="1193760"/>
            <a:ext cx="8204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uad-Pack-Gehä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benannt wegen der einreihi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chlüße an jeder Gehäuse-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chlußvarianten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CC (Leadless Carrier Chip): einfache Kontakte an d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häuseseiten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zielle Sockel mit Federkontakten zu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ntage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ins: konventionelle Pins an jeder Gehäuses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MD (Surface Mounted Device): Lötfahnen zur direkt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berflächenmontage an jeder Gehäuses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4280" y="571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Anordnung und Anschlusskontakte bei verschiedenen Gehäusef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79680" y="1243080"/>
            <a:ext cx="58816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8961" t="28440" r="0" b="-2952"/>
          <a:stretch/>
        </p:blipFill>
        <p:spPr>
          <a:xfrm>
            <a:off x="5506920" y="1243080"/>
            <a:ext cx="2721240" cy="242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0560" y="1371600"/>
            <a:ext cx="82296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D und 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 Grid Arrays (P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atrixförmige Pin-Anordnung in Form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eines Nagelbrett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bed of na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s ca. 19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 Form der Ball Grid Array Technik (BGA) bis zu 625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4854" t="3220" r="3504" b="1463"/>
          <a:stretch/>
        </p:blipFill>
        <p:spPr>
          <a:xfrm>
            <a:off x="2684520" y="1773360"/>
            <a:ext cx="3849480" cy="369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1206360"/>
            <a:ext cx="74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Tahoma"/>
              </a:rPr>
              <a:t>Pin Grid Gehäuse mit 132 Anschlüssen, 100 mm</a:t>
            </a:r>
            <a:r>
              <a:rPr b="0" sz="2000" spc="-1" strike="noStrike" baseline="30000">
                <a:solidFill>
                  <a:srgbClr val="0000cc"/>
                </a:solidFill>
                <a:latin typeface="Tahoma"/>
              </a:rPr>
              <a:t>2</a:t>
            </a:r>
            <a:r>
              <a:rPr b="0" sz="2000" spc="-1" strike="noStrike">
                <a:solidFill>
                  <a:srgbClr val="0000cc"/>
                </a:solidFill>
                <a:latin typeface="Tahoma"/>
              </a:rPr>
              <a:t> großer Ch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499000"/>
            <a:ext cx="798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Tahoma"/>
              </a:rPr>
              <a:t>Die Verbindungen der Chip-Anschlüsse an die Pins erfolgt mittels Golddrähten (bo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8880" y="1695600"/>
            <a:ext cx="81853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400040"/>
            <a:ext cx="811548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tromversor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sorgt den Prozessor mit St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m Extremfall nur 1 Anschluß für GND (Masse) un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spannung (z.B. 5 Vol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 Pin-Grids oft bis zu 20 Anschlüsse für jed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sorgung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gang für den Taktgenerator oder Qu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362240"/>
            <a:ext cx="811548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dresssignale (Adress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en Quelle und Ziel eines Daten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Quelle und Ziel können Speicher, Peripheriegeräte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der Register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ine Ausgangs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on 16 bis 34 Leitungen (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dressraum 16 kBy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s 16 G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8280" y="1181160"/>
            <a:ext cx="8115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Datensignale (Daten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ten- und Befehlstransport zwischen Prozesso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d anderen Komponenten de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direktionale Signale von 4 bis 64 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teuersignale (Steuer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gnale zum Steuern von Systemkomponenten durch den Prozessor und zum Melden von Systemzuständen an den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idirektionale 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den vom Steuerwerk des Prozessors kontroll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295280"/>
            <a:ext cx="8343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Daten-/Adressbus-Steuersignal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Gültigkeit der Adressen, Richtung des Datentransports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des Datentransport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-Steuer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Steuerung der Systemkomponenten, z.B. Reset a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mponenten, Bus-Acknowledge für Komponen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rozessor-Status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Meldungen an den Prozessor, z.B. Busrequest, Error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Unterbrechungs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Unterbrechung der normalen Programmbearbeitung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nahmebehandlung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n-Neumann-Rechn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50920" y="1346040"/>
            <a:ext cx="63594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9680" y="1123920"/>
            <a:ext cx="761976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binären (logischen) Zustände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0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”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”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üssen an den Prozessor-Eingängen bzw. Ausgängen Spannungswerten entspre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national durchge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at sich der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TTL-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(TTL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istor Transistor Log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105" t="4500" r="4631" b="4677"/>
          <a:stretch/>
        </p:blipFill>
        <p:spPr>
          <a:xfrm>
            <a:off x="4619520" y="2400480"/>
            <a:ext cx="4133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181160"/>
            <a:ext cx="743904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ültige Spannungsinterva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Eingang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ow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0 - 0,8V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H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gh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,0 - 5,5V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usg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ow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0 - 0,4V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H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gh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,4 - 5,0V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0600" y="1228680"/>
            <a:ext cx="820080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ktivierungssignale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itzen einen aktiven und einen passiven Zust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lösen einer bestimmten Aktion bzw. Anzeig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r bestimmten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Überstreichen des Signalnamens kennzeichnet d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 als aktiven Signalzu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ese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 löst das Rücksetzen des System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Ack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-Pegel zeigt die Bestätigung empfangen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te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33480" y="4334040"/>
            <a:ext cx="819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9680" y="1314360"/>
            <a:ext cx="8210520" cy="50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uswahl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ktieren zwischen zwei möglichen Zustä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reibweise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A1/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Überstreichung zeigt die durch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bestimmte Alternative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/W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esezugriff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reibzug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1440" y="2762280"/>
            <a:ext cx="324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7480" y="4905360"/>
            <a:ext cx="3236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360" y="1276200"/>
            <a:ext cx="807732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echner aus Hardware-Sicht: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gitales, elektronisches System, in dem Daten als binärcodierte Information eingegeben, dort gespeichert und verarbeitet werd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Verarbeitung der Daten erfolgt nach einem vorgegebenen Programm aus Maschinenbefehlen, welche die jeweils nächste Operation und die benötigten Operanden bestim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73480" y="1165320"/>
            <a:ext cx="213372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1166760"/>
            <a:ext cx="213336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3040" y="2227320"/>
            <a:ext cx="2438640" cy="72396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640" y="2227320"/>
            <a:ext cx="2438280" cy="723960"/>
          </a:xfrm>
          <a:prstGeom prst="rect">
            <a:avLst/>
          </a:prstGeom>
          <a:solidFill>
            <a:srgbClr val="33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Digitalrechner nach dem von-Neumann Konzep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2680" y="120024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iebssystem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er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360" y="2298600"/>
            <a:ext cx="236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rogramme und Da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43320" y="2298600"/>
            <a:ext cx="191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-/Ausgabe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198440"/>
            <a:ext cx="22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ipheriegerä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, Bildschrim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7320" y="4141800"/>
            <a:ext cx="6553440" cy="19908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4920" y="4465800"/>
            <a:ext cx="243864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5080" y="4467240"/>
            <a:ext cx="243828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3480" y="4483080"/>
            <a:ext cx="1721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04760" y="4483080"/>
            <a:ext cx="2518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s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371400" y="471492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390480" y="522936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71560" y="2952720"/>
            <a:ext cx="0" cy="150516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1440" y="2933640"/>
            <a:ext cx="0" cy="151452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3560" y="1819440"/>
            <a:ext cx="0" cy="409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143000" y="3476520"/>
            <a:ext cx="407664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2914560"/>
            <a:ext cx="0" cy="552600"/>
          </a:xfrm>
          <a:prstGeom prst="line">
            <a:avLst/>
          </a:prstGeom>
          <a:ln w="381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771200" y="3610080"/>
            <a:ext cx="38768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8400" y="2933640"/>
            <a:ext cx="0" cy="67644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3860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19160" y="3772080"/>
            <a:ext cx="40575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67440" y="1809720"/>
            <a:ext cx="0" cy="4190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61440" y="5457960"/>
            <a:ext cx="3724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entraleinheit 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4480" y="1841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280" y="382284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66"/>
                </a:solidFill>
                <a:latin typeface="Arial"/>
              </a:rPr>
              <a:t>Adr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20600" y="382284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67800" y="3822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68840" y="299880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 und 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5868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8640" y="44132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560" y="4889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104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8120" y="4865760"/>
            <a:ext cx="159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SS: Status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MS: Melde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6280" y="1152360"/>
            <a:ext cx="8172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central processing unit, CPU, Prozes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arbeitet Daten gemäß eines Programms, besteht aus Leitwerk und Rechenwe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Lei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Steuerwerk, control unit,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olt die Befehle eines Programms aus dem Speicher, entschlüsselt sie und steuert ihre Ausführung in der verlangten Reihenfolge durch Steuer- und Synchronisier-Sig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760" y="1200240"/>
            <a:ext cx="81723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Operationswerk, Ausführungseinheit, A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Führt arithmetisch/logische Operationen aus, wird durch Steuersignale des Leitwerks beeinflußt und liefert seinerseits Meldesignale an das Leitwerk zurü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Speicher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ort werden Programme und Daten aufbewah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von-Neumann-Konz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ternativ: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Harvard-Architektu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t getrenntem Programm- und Datenspeic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6560" y="1143000"/>
            <a:ext cx="81727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Speicher läßt sich unterteilen in Peripherie- und Arbeits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Peripheriespeicher (Massenspei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icher zur permanenten Aufbewahrung und Archivierung großer Datenmengen, langsamer Datenzugr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Arbeitsspeicher (Hauptspeicher)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Linear geordnete Liste von Speicherzellen zur Aufnahme von Befehlen und Operanden, schneller Datenzugriff, Inhalt nach Abschaltung des Rechners flüch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1200240"/>
            <a:ext cx="79725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de Speicherzelle ist eindeutig durch ihre Nummer (Adresse) identifizierb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närcodierte Information zur eindeutigen Auswahl (Adressierung) eines bestimmten Speicherwortes, Registers oder einer Schnittstelle als Quelle oder Ziel eines Datentransportes (memory mapp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n einzelnen Speicherzellen ist nicht anzusehen, welchen Typ von Information sie enthält (beim von-Neumann-Konzep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ternativ: Typenkennung, tagged archite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7-09-26T02:36:40Z</dcterms:modified>
  <cp:revision>381</cp:revision>
  <dc:subject/>
  <dc:title>TI-2</dc:title>
</cp:coreProperties>
</file>