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7D81-A9FB-4C22-9F7A-40B3F7763C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 (Instruction fetch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400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hasen der Befehlsausfüh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5920" y="1071720"/>
            <a:ext cx="8324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line-(Instruction Decode &amp; Register Fetch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2771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77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960" y="1104840"/>
            <a:ext cx="82774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960" y="1095480"/>
            <a:ext cx="82584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1520" y="1081080"/>
            <a:ext cx="8296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152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Phasen der Befehlsaufüh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91000" y="2557440"/>
          <a:ext cx="19638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1000" y="2557440"/>
                    <a:ext cx="19638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060560" y="3003480"/>
            <a:ext cx="1422360" cy="4064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0560" y="3409920"/>
            <a:ext cx="1422360" cy="698400"/>
          </a:xfrm>
          <a:prstGeom prst="rect">
            <a:avLst/>
          </a:pr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0560" y="4102200"/>
            <a:ext cx="1422360" cy="698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0560" y="4565520"/>
            <a:ext cx="1422360" cy="6987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0560" y="5270400"/>
            <a:ext cx="1422360" cy="444600"/>
          </a:xfrm>
          <a:prstGeom prst="rect">
            <a:avLst/>
          </a:pr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90400" y="3038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9680" y="1076400"/>
            <a:ext cx="8258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296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464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Grundlegendes Befehls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040" y="1135080"/>
            <a:ext cx="8460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1081080"/>
            <a:ext cx="86662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4545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Befehlsbereitstellungs-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F-Phase: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F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durch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fehlszäh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ressierte Befehl wird aus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rbeitsspeicher (bzw. dem Befehlscache) in einen Befehlspuff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aden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Befehlszähler wird weitergeschal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ecodier-und Operandenbereitstellungs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D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Decode &amp;Register 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dem Operationscode des Maschinenbefehls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zessorinterne Steuersignale erzeugt. Die Operanden werden                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(Universal)-Register bereit gestellt (2.Takthälf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Ausführungsphase/ Berechnung der effektiven Adres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X-Pha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Execution/Effective Address Calcula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wird auf den Operanden ausgeführt.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Lade-und Speicherbefehl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Verzweigungen berechnet die ALU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e Adr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6560" y="1306440"/>
            <a:ext cx="83394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peicherzugriffsphase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MEM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memory access)</a:t>
            </a: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peicherzugriff (bei Lade- und Speicherbefehlen) wird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Resultatspeicherphase (</a:t>
            </a:r>
            <a:r>
              <a:rPr b="1" lang="de-DE" sz="2300" spc="-1" strike="noStrike">
                <a:solidFill>
                  <a:srgbClr val="ff0000"/>
                </a:solidFill>
                <a:latin typeface="Arial"/>
              </a:rPr>
              <a:t>WB- Phase: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write back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Ergebnis wird in einem (Universal)-Register geschrieb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.Takthälfte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e ohne Ergebnis durchlaufen diese Phase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 -Übersich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0600" y="1138320"/>
            <a:ext cx="8267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hasen der Befehlsausfüh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8680" y="1052640"/>
            <a:ext cx="85341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4-11-27T14:29:34Z</dcterms:modified>
  <cp:revision>803</cp:revision>
  <dc:subject/>
  <dc:title>ti2-vl6</dc:title>
</cp:coreProperties>
</file>