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.gif" ContentType="image/gif"/>
  <Override PartName="/ppt/media/image28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6.png" ContentType="image/png"/>
  <Override PartName="/ppt/media/image26.jpeg" ContentType="image/jpeg"/>
  <Override PartName="/ppt/media/image19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3C85-97CE-4352-8BDE-26173633D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09FE-F97F-4E32-BD10-810981941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92CC-1E6A-4599-BE15-4D82893C6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8422-D874-4D53-8DB6-D4D906FDF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E01AF-007C-4866-B297-0601013309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92B94-5833-4AC4-9DD3-E4AD812C69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AABE-DA69-4591-A3FE-3B1F2CA70C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C144-5F2D-4A01-A6ED-17712D2543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DBAC-20CB-4F0B-B88F-25834A9F4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B00AF-70DB-45A8-ACC3-F0087D5B3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BCB2-D193-429B-BE4F-6ADE0374F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5D1A-A71F-44F6-A4CA-CC481779B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2DB68-A08F-490E-BAA2-9834079712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860F4-3190-40BC-B1EC-6C97CAFBF4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958C1-2B5E-4359-B57A-B08CEA51C2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254F9-ACBF-4354-89F8-16AA36B0D4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BCB7C-3D59-45F1-9CAC-C5A611BCB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2E3E-C86E-44CC-A7BE-58DB80D78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D142-556F-4E6D-935F-87C2E2351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39E0-F2A4-4BE9-A28F-0208B7F5C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293B-5BF1-4C8A-9A8C-2881C82DE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2A34-A3BE-428D-9A7C-6B29E2651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FE5E-B525-441D-AACC-018901729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5B40-5FB0-46B5-BCF2-B1A517FA5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roje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4615-A503-444A-AD91-3827626AF6D8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B0F0-3408-48F3-B12B-90DD9400EFDC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 Projec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6019D-8B00-4703-A24A-80EF555FE7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lique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8077320" cy="328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95400" y="1219320"/>
            <a:ext cx="742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object face of interest lies in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, i.e., parallel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z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OP =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rection of Proj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PN =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lane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3375-18B0-4648-8EDC-5471ECE82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pective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f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drawings for architecture, industrial design,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 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a realistic view and feeling for three dimensional form of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preserve shape of object or scale (except where object intersects projection pla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69B5-3E3F-4CAF-A91D-900EF6324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pective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from a parallel projection be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 lines not parallel to the projection plane conve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the object is diminished with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hortening is not uni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47920" y="3276720"/>
            <a:ext cx="617220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2CD5-5054-4A3C-91BC-52C06036D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right-angled forms whose face normals are perpendicular to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, y, z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ax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umber of vanishing 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number of principal coordinate axes intersected by projection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780000" y="3284640"/>
            <a:ext cx="4267080" cy="32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808E-D1DB-41DD-B8C1-3A8F0C6FC7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600200" y="1143000"/>
            <a:ext cx="5638680" cy="5257800"/>
            <a:chOff x="1600200" y="1143000"/>
            <a:chExt cx="5638680" cy="52578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1600200" y="1143000"/>
              <a:ext cx="56386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1600200" y="1143000"/>
              <a:ext cx="56386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ABC8-6ED0-4444-A4EE-A14FC5E2C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547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AAEE-5148-4C40-9A50-E98EBF079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first ever painting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inity with the Virgin, St. John and Don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done in perspective by Masaccio, in 1427. The image on the right shows that it is indeed a one-point perspective drawing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7584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819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7720" y="40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masaccio" descr="masaccio.jpg (320191 bytes)"/>
          <p:cNvPicPr/>
          <p:nvPr/>
        </p:nvPicPr>
        <p:blipFill>
          <a:blip r:embed="rId1"/>
          <a:stretch/>
        </p:blipFill>
        <p:spPr>
          <a:xfrm>
            <a:off x="4572000" y="981000"/>
            <a:ext cx="317196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D086-5A44-4C9C-A2ED-5DBF90B8B2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4822560"/>
            <a:ext cx="7778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otto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nciscan Rule Appro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ssisi, Upper Basilica, c.1295-1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ystematic—lines do not converge to single vanishing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7584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819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97720" y="40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36720" y="907920"/>
            <a:ext cx="51116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7AE5-249E-46AE-B190-06D3336936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5084640"/>
            <a:ext cx="38102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nardo da Vinci The Last Supper (14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e plays very large role in this pai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04000" cy="4276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47584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819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97720" y="40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003640" y="5143680"/>
            <a:ext cx="280044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AAEA-69C5-4B81-B6E7-9BF2F12BCE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8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intin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iazza of St. Mark, Ve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done by Canaletto in 1735-45 in one-point perspectiv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7584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26160" y="436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canaletto" descr="canaletto.JPG (278830 bytes)"/>
          <p:cNvPicPr/>
          <p:nvPr/>
        </p:nvPicPr>
        <p:blipFill>
          <a:blip r:embed="rId1"/>
          <a:stretch/>
        </p:blipFill>
        <p:spPr>
          <a:xfrm>
            <a:off x="1476360" y="1989000"/>
            <a:ext cx="6767640" cy="434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54AA-5CB6-4533-B07A-D5BB4009FE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do we use proj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orm from 3D space into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ion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ors (projection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: determined by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r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pective: determined by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A9CC-ECA6-481A-B75F-A6AAE3FBB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990720"/>
            <a:ext cx="8496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ing in two point perspective by Edward Hop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Mansard Ro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23 (240 Kb); Watercolor on paper, 13 3/4 x 19 inches; The Brooklyn Museum, New Y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7584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920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hopper" descr="hopper.jpg (65929 bytes)"/>
          <p:cNvPicPr/>
          <p:nvPr/>
        </p:nvPicPr>
        <p:blipFill>
          <a:blip r:embed="rId1"/>
          <a:stretch/>
        </p:blipFill>
        <p:spPr>
          <a:xfrm>
            <a:off x="1979640" y="2421000"/>
            <a:ext cx="561672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D5FF-9990-4B66-8BC8-ED1ED41BE6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nishing Points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a paintin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ty 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926) by Georgia O'Keefe, that is approximately in three-point perspective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7584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okeefe" descr="okeefe.jpg (5613 bytes)"/>
          <p:cNvPicPr/>
          <p:nvPr/>
        </p:nvPicPr>
        <p:blipFill>
          <a:blip r:embed="rId1"/>
          <a:stretch/>
        </p:blipFill>
        <p:spPr>
          <a:xfrm>
            <a:off x="4356000" y="981000"/>
            <a:ext cx="3340080" cy="53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C0A2-FA0C-4E90-8139-527573245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hematics of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plane -&gt; x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ewing direction || axis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p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rver (Look point) -&gt; at the positive axis Z, at Distance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651A-D458-453B-8FC1-55C7E2A581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hematics of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’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’ =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’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C34E-C0B9-433D-9116-1D28B29C0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hematics of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’ = D/(D-z)*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’ = D/(D-z)*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’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serve the  depth inform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’ = D/(D-z)*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hidden lines and surfaces removal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2780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4176720" cy="28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4299-CFC8-4816-90F1-0FBEA33509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4114800" cy="2865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114800" cy="2531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7120" y="1676520"/>
            <a:ext cx="1890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910F-0DE9-4976-A52B-0F12B9E8E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5589720"/>
            <a:ext cx="564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lle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2000" y="1557360"/>
          <a:ext cx="5472000" cy="37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57360"/>
                    <a:ext cx="547200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6433-8172-4EBE-9744-32CE6B188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5589720"/>
            <a:ext cx="56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734080" cy="352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AF65-4F98-43DC-AE21-DE33FDFAEE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Proj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6B8F-DC5E-4F2D-94C5-8403CE1FD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Proj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jections used for engineering and architecture because they can be used for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p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itates our eyes or a camera and looks more na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3382920" cy="2424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003640" y="1052640"/>
            <a:ext cx="3456000" cy="2498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003640" y="1052640"/>
            <a:ext cx="3529080" cy="2549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5003640" y="3789360"/>
            <a:ext cx="35276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5D04-5C85-41B4-A9CB-D73745C873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-view Orthograph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need multiple views to get a three-dimensional feeling fo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181840" cy="422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D7B4-C193-46AD-9D8C-DC680BF2F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xonometric Proj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8077320" cy="328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5400" y="1219320"/>
            <a:ext cx="742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object face of interest lies in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, i.e., parallel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z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OP =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rection of Proj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PN =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lane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F771-BBE2-48D7-BB87-15E8A5B01A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</cp:lastModifiedBy>
  <dcterms:modified xsi:type="dcterms:W3CDTF">2006-10-23T06:44:39Z</dcterms:modified>
  <cp:revision>79</cp:revision>
  <dc:subject/>
  <dc:title>PowerPoint Presentation</dc:title>
</cp:coreProperties>
</file>