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804F-3578-4531-9516-8B9B5CAAB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0163-97AD-48B1-ACDA-E8EA24E05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03EE-0180-4FD0-ACF2-985368FCD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4F83-1378-448D-AD1F-E28F341A1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BD499-01B0-4450-8DB8-4A3B84B49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1382B-025B-4B9A-A7D6-59805A866C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3E51D-8CDC-4139-B0B0-87B0BF15E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C7DDA-744F-44CB-BBEC-0B95C0D476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95791-D30C-4E80-BF75-12D8F437D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2D84D-BA37-439C-A4D8-ECECC7A541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49AE1-0B07-42FF-A125-ACAE0376C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C90B-546A-498E-AA56-782699D7E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FF87E-B8E2-4926-B2AA-5BEB44E0E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ADCC2-1936-41BD-BACA-7ECF9EE262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42BBA-36BE-469E-8D7F-59638AAA89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96FC6-ED24-4BA8-B883-ACABC0759A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29B6-B305-4AB8-BA21-17BF8D35F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74A9-69BA-49B0-B282-C40C1A3B1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A0FE-6563-4B0D-B4EF-D85054903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3B45-4213-43CA-B815-4108677BA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2FC4-E66D-425C-AE52-A7FD6D383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A618-42DB-432F-86F6-D0B6BB3A6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F346-2C6D-4A88-B75A-31100D930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B116-79BB-4ABF-81D9-37B771949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Illumin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7EB6-B8BF-4413-A34F-9F513754AC40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FD72-A840-4806-84BC-B15E1A65F9EA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 Illumin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34054-31B0-467D-8E35-3EB19BDCC1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use (Lambertian)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ull, matte surfaces (e.g. carp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of viewer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on light source position (in this case a point source, again a non-physical abstra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1625-2375-4118-9CCC-B9F621DE70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use (Lambertian)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1219320"/>
            <a:ext cx="7010640" cy="4879800"/>
            <a:chOff x="1066680" y="1219320"/>
            <a:chExt cx="7010640" cy="48798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7010640" cy="48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066680" y="1219320"/>
              <a:ext cx="701064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FB86-5A74-44C4-84CD-1934E7B29C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mbert’s cosine law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495680" cy="312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362320" y="1066680"/>
            <a:ext cx="4343400" cy="22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EBA7-CE9B-4E89-8442-E51128D079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ular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7086600" cy="4181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4200" y="1066680"/>
            <a:ext cx="73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reflection from shiny su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bright, shiny surfaces, e.g. mi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B0ED-CF02-49B1-A9F2-20805D6B48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ular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066680"/>
            <a:ext cx="6705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on light source position and viewer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model by Phong neglected effect of material color on specular highlight -&gt; made all surfaces look pla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erfect reflector we see reflected light if angle alpha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real reflector, reflected light falls off as angle alpha increases. Relationshi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pha =0 -&gt; reflected value =1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pha =90 -&gt; reflected value =0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ine again?   … Not exa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706D-9D88-4861-87E0-5C4816A5A2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ular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1066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ng Approx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, highlight is more concentrated, surface appears gloss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1708200"/>
            <a:ext cx="1349280" cy="712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145040" cy="30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48AE-2A8E-4DF0-9C14-C3245A7C2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Simple Illumination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Physical Lighting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from a single light reflected by a single surface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ultiple point lights, simply sum con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2C49-A91A-4829-BB38-49E664920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210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 approaches to illu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8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t shad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as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Nonrealis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uraud sh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ong sh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y tra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di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y tracing + radios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low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Realis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2276640"/>
            <a:ext cx="0" cy="2232000"/>
          </a:xfrm>
          <a:prstGeom prst="line">
            <a:avLst/>
          </a:prstGeom>
          <a:ln w="255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2276640"/>
            <a:ext cx="0" cy="2232000"/>
          </a:xfrm>
          <a:prstGeom prst="line">
            <a:avLst/>
          </a:prstGeom>
          <a:ln w="255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08C5-806F-4A8F-A1E0-498F11FB0A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llu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rays coming from the rest of the scene strike that surface element, and head out in different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calculate the color of the light that goes in the direction of the viewer from that surface element (if the viewer moves, that color will chan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efined as the “illumination” of that surface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F0C0-3335-45E4-917E-2897CE63DB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bal Illu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ng what happens when other objects effect the light reaching a surface element is “global illumin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 to Comp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other objects in the scene that might affect the light reaching our surface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0F3DF-35EA-429E-AE90-4FDEAA790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Global Illu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e on light from light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ore the effects of all other objects in the scene when considering a particular surface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: scene can be rendered much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: pay a price in lost realism; lose  interesting effects of light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67A0-FAA4-46A0-818D-ECDEE2842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Global Illu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ose effects of global illu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object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on, i.e. the bending of light at translucent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tric effects of participating media such as air, water, and f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154320" cy="25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07CC-D073-4561-8330-BCA8F5350E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mple  Illumination Mode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characteristics of surfa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ent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e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r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418F-FAB5-4998-9BF4-5DE7B4CF5F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mple  Illumination Mode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ysically-based, and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tempt to accurately calculate global illu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 attempt to simulate some of the most important observable effects of common light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computed quickly and efficiently, so it is still in use today in graphics software and especially in hardware render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2F03-F736-43FD-AABA-8E11889ED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bient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of object position and viewer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s in most environ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ght hits surface from all directions -&gt; an approximation of indirect lighting/global illu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hack, but images without some form of ambient lighting look stark, they have too much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92FA-4385-4627-ADF2-D2E2C50CE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mbient ref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66880" y="1600200"/>
            <a:ext cx="1113120" cy="776160"/>
            <a:chOff x="2666880" y="1600200"/>
            <a:chExt cx="1113120" cy="7761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666880" y="1600200"/>
              <a:ext cx="111312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 txBox="1"/>
            <p:nvPr/>
          </p:nvSpPr>
          <p:spPr>
            <a:xfrm>
              <a:off x="2666880" y="1600200"/>
              <a:ext cx="111312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5145120" cy="10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D1B7-774D-4243-98C1-937AD48D63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</cp:lastModifiedBy>
  <dcterms:modified xsi:type="dcterms:W3CDTF">2006-10-08T15:12:37Z</dcterms:modified>
  <cp:revision>81</cp:revision>
  <dc:subject/>
  <dc:title>PowerPoint Presentation</dc:title>
</cp:coreProperties>
</file>