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2.gif" ContentType="image/gif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E068F-E415-4363-9BA4-8748BAD522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09480" y="38167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EB799-60A4-4825-A744-A5D85B9FF9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81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92160" y="381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03F32-67A8-40DD-BAB7-297DB32702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7480" y="990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65120" y="990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09480" y="3816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7480" y="3816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65120" y="3816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BC1E8-46BC-455C-882F-FB0E6CF72C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11A26F-9ADC-41FF-8F6A-151D1C5180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DD1A6-058C-4F29-9EA9-8285D38518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7C2C6-0A08-4A8A-8BF6-09B32FF698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11D0D-534C-422A-8015-7E88E95EFE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BDF33-B7CA-49FA-AF52-FB14E36B33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7724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67E625-D3E0-4813-B5F2-1D8A081FED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9480" y="381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F26CC-ED6D-4344-98FB-14C49D4F57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4B9B3-E92D-4D4D-94A9-48E6DAF2E3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92160" y="381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C0464-B46C-4E43-98E8-3C8C741DD9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38167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1CB310-F075-46C9-9B2C-AE7EDACB04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09480" y="38167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855DC8-155E-4BFD-8428-6A6ECA9A24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9480" y="381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92160" y="381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3F895B-0522-486C-BB60-C76364390D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7480" y="990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865120" y="990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09480" y="3816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7480" y="3816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865120" y="3816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2ADD8-1D7B-4F06-B06C-EA2378F1DD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062EC-2DD6-4899-9F1E-93C0675A35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C5CE4-B1F7-4C50-A87C-15A73FFB61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CD869-E658-4247-A1B7-B96AAA2588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7724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52575-0245-4623-A81A-E7A6972B3E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480" y="381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A122C-1B65-4C21-AC3A-CF629A980D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92160" y="381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14BD3-6D45-481F-886C-4F586BEC74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9480" y="38167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AFFBB-4D1E-4DFD-9B5C-D14BD3E61E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621800" y="0"/>
            <a:ext cx="10765800" cy="7736760"/>
            <a:chOff x="-1621800" y="0"/>
            <a:chExt cx="10765800" cy="7736760"/>
          </a:xfrm>
        </p:grpSpPr>
        <p:sp>
          <p:nvSpPr>
            <p:cNvPr id="1" name=""/>
            <p:cNvSpPr/>
            <p:nvPr/>
          </p:nvSpPr>
          <p:spPr>
            <a:xfrm>
              <a:off x="2590920" y="6480"/>
              <a:ext cx="2757240" cy="717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40"/>
              <a:ext cx="2757600" cy="71683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920"/>
              <a:ext cx="2760840" cy="716976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71600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75680"/>
              <a:ext cx="5562720" cy="2543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198080" y="1317600"/>
              <a:ext cx="4212720" cy="16005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6120"/>
              <a:ext cx="5562720" cy="2543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681920" y="1790640"/>
              <a:ext cx="58021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480" y="1526400"/>
              <a:ext cx="5705640" cy="2872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446480"/>
              <a:ext cx="5562360" cy="25434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3240"/>
              <a:ext cx="1729080" cy="378324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89360"/>
              <a:ext cx="9144000" cy="71532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565680"/>
              <a:ext cx="2757240" cy="632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565680"/>
              <a:ext cx="2757600" cy="6307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565680"/>
              <a:ext cx="2760840" cy="63216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565680"/>
              <a:ext cx="3301920" cy="6307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481080"/>
              <a:ext cx="9144000" cy="71532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502320"/>
              <a:ext cx="1644840" cy="6951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22720" y="6465600"/>
              <a:ext cx="175536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179720" y="6465600"/>
              <a:ext cx="175536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12960" y="6413760"/>
              <a:ext cx="171216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488640"/>
              <a:ext cx="5638680" cy="7153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488640"/>
              <a:ext cx="2438640" cy="7153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568200"/>
              <a:ext cx="2114640" cy="6339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488640"/>
              <a:ext cx="2438640" cy="7153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488640"/>
              <a:ext cx="3657600" cy="7153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524280"/>
              <a:ext cx="9144000" cy="2268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ftr" idx="1"/>
          </p:nvPr>
        </p:nvSpPr>
        <p:spPr>
          <a:xfrm>
            <a:off x="609120" y="649872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99ff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99"/>
                </a:solidFill>
                <a:latin typeface="Arial"/>
              </a:rPr>
              <a:t>Introduction to CG</a:t>
            </a:r>
            <a:r>
              <a:rPr b="1" lang="bg-BG" sz="1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Drawing Li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2"/>
          </p:nvPr>
        </p:nvSpPr>
        <p:spPr>
          <a:xfrm>
            <a:off x="7848360" y="6497280"/>
            <a:ext cx="1066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1359-E3AF-4D21-9957-C7834E5D99CE}" type="slidenum">
              <a:rPr b="0" lang="en-US" sz="1400" spc="-1" strike="noStrike">
                <a:solidFill>
                  <a:srgbClr val="99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-1542240" y="141120"/>
            <a:ext cx="10697400" cy="6896160"/>
            <a:chOff x="-1542240" y="141120"/>
            <a:chExt cx="10697400" cy="6896160"/>
          </a:xfrm>
        </p:grpSpPr>
        <p:sp>
          <p:nvSpPr>
            <p:cNvPr id="69" name=""/>
            <p:cNvSpPr/>
            <p:nvPr/>
          </p:nvSpPr>
          <p:spPr>
            <a:xfrm>
              <a:off x="2590920" y="15876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15552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943600" y="16020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48120" y="15228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5760" y="320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2703000">
              <a:off x="1285920" y="138240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31760" y="24444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8703800">
              <a:off x="-1562400" y="1819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9294800">
              <a:off x="2112840" y="161568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2085000">
              <a:off x="2950920" y="153936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746760" y="15552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404172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590920" y="411480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411480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43600" y="411480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48120" y="411480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160" y="406548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00400" y="405432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rot="18897000">
              <a:off x="2358720" y="400356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1215720" y="400356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47160" y="395352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913680" y="404100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380520" y="404100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4819680" y="411732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6324480" y="404100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5486400" y="404100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07520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473868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557676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1247760" y="278604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ftr" idx="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4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CF33-2D76-4C9D-A1E1-C79377DF626C}" type="slidenum">
              <a:rPr b="0" lang="en-US" sz="1400" spc="-1" strike="noStrike">
                <a:solidFill>
                  <a:srgbClr val="99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83055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edf2"/>
                </a:solidFill>
                <a:latin typeface="Arial"/>
              </a:rPr>
              <a:t>Faculty of German Engineering and Industrial Management Education - FDIBA </a:t>
            </a:r>
            <a:br>
              <a:rPr sz="3200"/>
            </a:br>
            <a:br>
              <a:rPr sz="3200"/>
            </a:br>
            <a:r>
              <a:rPr b="1" lang="en-US" sz="3800" spc="-1" strike="noStrike">
                <a:solidFill>
                  <a:srgbClr val="99ff99"/>
                </a:solidFill>
                <a:latin typeface="Arial"/>
              </a:rPr>
              <a:t>Introduction to Computer Graphics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98d43"/>
                </a:solidFill>
                <a:latin typeface="Arial"/>
              </a:rPr>
              <a:t>Drawing Lin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oc. Prof. Stoyan Maleshk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chnical University of Sof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F70C7B-A150-4156-BA11-B887949C5E0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468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imple Line Algorithm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blic void lineSimple(int x0, int y0, int x1, int y1, Color color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{ int pix = color.getRGB(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 dx = x1 - x0; int dy = y1 - y0; raster.setPixel(pix, x0, y0)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(dx != 0) {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oat m = (float) dy / (float) dx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oat b = y0 - m*x0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x = (x1 &gt; x0) ? 1 : -1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ile (x0 != x1) 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0 += dx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0 = Math.round(m*x0 + b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ster.setPixel(pix, x0, y0); } } 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8EC24-9CB5-4C27-B457-12A5FEBFE5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imple Line Algorith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n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BEBE6-2A59-4D84-AE24-53152998F3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mproved Line Algorith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4419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lem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eSimple( ) does not give satisfactory results for slopes &gt; 1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914400"/>
            <a:ext cx="2925720" cy="546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0A287-599E-4F8B-8FB8-D2B1E557CD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lution: symmetry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(Math.abs(dx) &gt; Math.abs(dy)) { // slope &lt; 1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// Draw the line incrementing x0 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} else if (dy != 0) { // slope &gt;= 1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oat m = (float) dx / (float) dy; // compute slop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oat b = x0 - m*y0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y = (dy &lt; 0) ? -1 : 1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ile (y0 != y1) {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0 += dy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ster.setPixel(pix, Math.round(m*y0 + b), y0)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}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EEAD2-076A-4989-B465-958412CC52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mproved Line Algorith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n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814D8-BB33-45BF-A9FC-F3CB98D723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ptimized Line Algorith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form all calculations with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write the algorithm, that it us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n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dd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ult: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Bresenham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gorith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9A35B-FFD5-4D3F-9294-9F0FB126AB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Bresenham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gorith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010280" cy="533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3EA05-5E94-4E58-9A7F-44B8E4C2BB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enchmark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n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DBD59-C607-4990-BE60-11F1E5FB59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rawing Filled Polyg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666880" y="3124080"/>
            <a:ext cx="4724640" cy="32878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762120" y="938160"/>
            <a:ext cx="7467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Find intersection of scanline with polygon ed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Sort intersections by increasing 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Fill the polygon between pairs 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sections (span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3E0D0-D8C6-4C66-A6EF-3C1AC0C17B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rawing Circles and Ellips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810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symme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851280" y="1125360"/>
            <a:ext cx="4114800" cy="28641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3851280" y="4076640"/>
            <a:ext cx="4105440" cy="228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407E3-DEF0-4CD7-A353-881745AC01A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ine Draw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 a line on a raster screen between tw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’s wrong with the statement of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doesn’t say anything about which points are allowed as endpo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doesn’t give a clear meaning to “draw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doesn’t say what constitutes a “line” in the raster wor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doesn’t say how to measure the success of a proposed algorith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E7D55-500F-4C6C-8673-E418348AC3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ickness Attribut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676520" y="2209680"/>
            <a:ext cx="5638680" cy="3733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524960" y="1090440"/>
            <a:ext cx="707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ck circle drawn by tracing a rectangu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72064-C554-4B22-9D26-4308FC6408B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ine Draw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lem Stat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n two points P and Q in the plane, both with integer coordinates, determine which pixels on a raster screen should be on in order to make a picture of a unit-width line segment starting at P and ending at Q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657BB-6F33-4728-8247-8EE4CBBD95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ic Probl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n Conversion or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asteriz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e to the scanning nature of raster display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forming the continuous into this discrete (sampl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gorithms are fundamental to both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-D and 3-D computer graphic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st of the early scan-conversion algorithms developed for plotters can be attributed to one man,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Jack Bresenha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6656F-EF99-41B3-A18A-0FDFCD1FA4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rawing Lin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657600" y="3733920"/>
            <a:ext cx="3886200" cy="2703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914400" y="1143000"/>
            <a:ext cx="6292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horizontal, vertical and diagonal lines 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xels lie on the ideal line: special c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lines at arbitrary angle, pick pixels closest to the ideal line (Bresenham’s = midpoint “scan conversion” algorith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2F29B-C6E2-454D-BA37-5D090DBB08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rawing Lines (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ick lines, use multiple pixels in each column or fill a rotated rectang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219320" y="2514600"/>
            <a:ext cx="6476760" cy="302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3EA3E-841A-42AD-869C-E7BA235DF6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Quest for the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deal Lin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best we can do is a discrete approximation of an ideal lin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ortant line qualiti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ous appearan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form thickness and brightnes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rn on the pixels nearest the ideal li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fast is the line generat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4876920" cy="24447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1523880" y="1828800"/>
            <a:ext cx="4876920" cy="238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BD5DC-131A-472E-9E8E-BA85FA7CC2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imple Line 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ased on the simple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slope-intercept algorithm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from algebra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 = m x +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895480" y="2590920"/>
            <a:ext cx="3908520" cy="380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29EAD-A52B-40B8-B3F8-88A6247F7A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Basic Algorithm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the equation of the line that connects the two points P and Q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with the leftmost point P, increment x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y 1 to calculate y 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Ax 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B,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A = slope, B = y intercep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nsify the pixel at (x 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Round(y 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),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Round(y 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= Floor(0.5 + y 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PPen1"/>
          <p:cNvSpPr/>
          <p:nvPr/>
        </p:nvSpPr>
        <p:spPr>
          <a:xfrm>
            <a:off x="5367240" y="2625840"/>
            <a:ext cx="36720" cy="1440"/>
          </a:xfrm>
          <a:custGeom>
            <a:avLst/>
            <a:gdLst/>
            <a:ahLst/>
            <a:rect l="l" t="t" r="r" b="b"/>
            <a:pathLst>
              <a:path w="23" h="1">
                <a:moveTo>
                  <a:pt x="0" y="0"/>
                </a:moveTo>
                <a:lnTo>
                  <a:pt x="22" y="0"/>
                </a:lnTo>
              </a:path>
            </a:pathLst>
          </a:custGeom>
          <a:noFill/>
          <a:ln w="35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-44280" bIns="-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56954-F62E-4ECA-BE03-1E82FC5418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M</cp:lastModifiedBy>
  <dcterms:modified xsi:type="dcterms:W3CDTF">2006-10-08T15:04:19Z</dcterms:modified>
  <cp:revision>72</cp:revision>
  <dc:subject/>
  <dc:title>PowerPoint Presentation</dc:title>
</cp:coreProperties>
</file>