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5.wmf" ContentType="image/x-wmf"/>
  <Override PartName="/ppt/media/image23.png" ContentType="image/png"/>
  <Override PartName="/ppt/media/image22.png" ContentType="image/png"/>
  <Override PartName="/ppt/media/image27.png" ContentType="image/png"/>
  <Override PartName="/ppt/media/image4.png" ContentType="image/png"/>
  <Override PartName="/ppt/media/image28.png" ContentType="image/png"/>
  <Override PartName="/ppt/media/image2.gif" ContentType="image/gif"/>
  <Override PartName="/ppt/media/image5.png" ContentType="image/png"/>
  <Override PartName="/ppt/media/image30.png" ContentType="image/png"/>
  <Override PartName="/ppt/media/image10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11.png" ContentType="image/png"/>
  <Override PartName="/ppt/media/image6.png" ContentType="image/png"/>
  <Override PartName="/ppt/media/image29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A443CE-9006-479A-BDC1-4D1848B374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480" y="9907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09480" y="38167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FC6F6A-6FB9-4512-80E8-F2217E5825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9907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92160" y="9907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9480" y="38167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92160" y="38167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73B94D-B478-438A-BCC7-9AC370FDF9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9907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237480" y="9907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865120" y="9907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09480" y="38167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237480" y="38167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865120" y="38167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7F8E8C-BD87-4B41-BD5B-DEF24BED7E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434B9F-7D38-403C-91E4-6AC227AF47E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609480" y="9907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4340C4-F9A0-444B-BBE6-0927D1EDCC4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9480" y="9907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4509DC-529A-4508-A43F-8EF57DDE22C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09480" y="990720"/>
            <a:ext cx="3792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92160" y="990720"/>
            <a:ext cx="3792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ED0992-DDF6-44E4-ABE5-F444D8545AC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1473FB-6FF0-4219-9766-92F57FE083E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609480" y="228240"/>
            <a:ext cx="7772400" cy="29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C5585C-A48F-4A5A-BE2C-E3C5EA01B83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480" y="9907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92160" y="990720"/>
            <a:ext cx="3792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9480" y="38167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E38137-A35F-4D9A-8FF4-0BECC1BDB74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09480" y="9907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835564-7EAA-4F25-9BC7-FC0AF77A9A3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480" y="990720"/>
            <a:ext cx="3792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92160" y="9907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92160" y="38167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BB1F43-23CE-4911-9192-57582ABBB15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9907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92160" y="9907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9480" y="38167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38FFED-6EF9-4F4B-A595-F14D3A6C248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9907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609480" y="38167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FE511E-930F-49FD-916A-35144CA022F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09480" y="9907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592160" y="9907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09480" y="38167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592160" y="38167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26226D-D9C6-4495-880A-2EBE1D3331B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09480" y="9907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237480" y="9907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5865120" y="9907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609480" y="38167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237480" y="38167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5865120" y="38167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EF28BE-E124-42FE-9BDA-5EDA6D77988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9907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83F856-1422-4939-8180-738AC02A61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09480" y="990720"/>
            <a:ext cx="3792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92160" y="990720"/>
            <a:ext cx="3792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283516-FAAF-4522-9FD2-4EC93D838D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BC8105-7C9D-4FA7-ACA9-6E106A70D1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09480" y="228240"/>
            <a:ext cx="7772400" cy="29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8A9881-7DEA-4BF3-81DD-5962012EC1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09480" y="9907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592160" y="990720"/>
            <a:ext cx="3792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9480" y="38167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097528-AE40-404E-8EE1-4A0CAC5FAD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990720"/>
            <a:ext cx="3792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92160" y="9907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92160" y="38167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991F9C-251E-47A7-849B-C7C73E939C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09480" y="9907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592160" y="9907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09480" y="38167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BCB701-CD84-4AB9-B532-94BEA33E70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621800" y="0"/>
            <a:ext cx="10765800" cy="7736760"/>
            <a:chOff x="-1621800" y="0"/>
            <a:chExt cx="10765800" cy="7736760"/>
          </a:xfrm>
        </p:grpSpPr>
        <p:sp>
          <p:nvSpPr>
            <p:cNvPr id="1" name=""/>
            <p:cNvSpPr/>
            <p:nvPr/>
          </p:nvSpPr>
          <p:spPr>
            <a:xfrm>
              <a:off x="2590920" y="6480"/>
              <a:ext cx="2757240" cy="717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240"/>
              <a:ext cx="2757600" cy="71683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920"/>
              <a:ext cx="2760840" cy="716976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71600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75680"/>
              <a:ext cx="5562720" cy="2543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198080" y="1317600"/>
              <a:ext cx="4212720" cy="16005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6120"/>
              <a:ext cx="5562720" cy="2543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681920" y="1790640"/>
              <a:ext cx="58021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480" y="1526400"/>
              <a:ext cx="5705640" cy="2872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446480"/>
              <a:ext cx="5562360" cy="25434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3240"/>
              <a:ext cx="1729080" cy="378324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89360"/>
              <a:ext cx="9144000" cy="71532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565680"/>
              <a:ext cx="2757240" cy="632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565680"/>
              <a:ext cx="2757600" cy="6307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565680"/>
              <a:ext cx="2760840" cy="63216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565680"/>
              <a:ext cx="3301920" cy="6307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481080"/>
              <a:ext cx="9144000" cy="71532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502320"/>
              <a:ext cx="1644840" cy="6951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22720" y="6465600"/>
              <a:ext cx="175536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179720" y="6465600"/>
              <a:ext cx="175536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12960" y="6413760"/>
              <a:ext cx="171216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488640"/>
              <a:ext cx="5638680" cy="7153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488640"/>
              <a:ext cx="2438640" cy="7153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568200"/>
              <a:ext cx="2114640" cy="6339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488640"/>
              <a:ext cx="2438640" cy="7153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488640"/>
              <a:ext cx="3657600" cy="7153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524280"/>
              <a:ext cx="9144000" cy="2268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09480" y="9907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ftr" idx="1"/>
          </p:nvPr>
        </p:nvSpPr>
        <p:spPr>
          <a:xfrm>
            <a:off x="609120" y="6498720"/>
            <a:ext cx="70866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99ff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ff99"/>
                </a:solidFill>
                <a:latin typeface="Arial"/>
              </a:rPr>
              <a:t>Introduction to CG</a:t>
            </a:r>
            <a:r>
              <a:rPr b="1" lang="bg-BG" sz="14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bg-BG" sz="14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bg-BG" sz="1400" spc="-1" strike="noStrike">
                <a:solidFill>
                  <a:srgbClr val="ff9900"/>
                </a:solidFill>
                <a:latin typeface="Arial"/>
              </a:rPr>
              <a:t>Transformation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sldNum" idx="2"/>
          </p:nvPr>
        </p:nvSpPr>
        <p:spPr>
          <a:xfrm>
            <a:off x="7848360" y="6497280"/>
            <a:ext cx="10666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ff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7B2EA-7156-4126-A320-8489088B15A0}" type="slidenum">
              <a:rPr b="0" lang="en-US" sz="1400" spc="-1" strike="noStrike">
                <a:solidFill>
                  <a:srgbClr val="99ff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-1542240" y="141120"/>
            <a:ext cx="10697400" cy="6896160"/>
            <a:chOff x="-1542240" y="141120"/>
            <a:chExt cx="10697400" cy="6896160"/>
          </a:xfrm>
        </p:grpSpPr>
        <p:sp>
          <p:nvSpPr>
            <p:cNvPr id="69" name=""/>
            <p:cNvSpPr/>
            <p:nvPr/>
          </p:nvSpPr>
          <p:spPr>
            <a:xfrm>
              <a:off x="2590920" y="15876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0" y="15552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943600" y="16020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048120" y="15228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5760" y="320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 rot="2703000">
              <a:off x="1285920" y="138240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31760" y="24444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rot="18703800">
              <a:off x="-1562400" y="1819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9294800">
              <a:off x="2112840" y="161568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rot="2085000">
              <a:off x="2950920" y="153936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746760" y="15552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0" y="404172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590920" y="411480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0" y="411480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43600" y="411480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048120" y="411480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1160" y="406548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100400" y="405432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 rot="18897000">
              <a:off x="2358720" y="400356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18897000">
              <a:off x="1215720" y="400356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rot="18897000">
              <a:off x="47160" y="395352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flipV="1">
              <a:off x="913680" y="404100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380520" y="404100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4819680" y="411732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6324480" y="404100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5486400" y="404100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07520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473868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557676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8" name="" descr=""/>
            <p:cNvPicPr/>
            <p:nvPr/>
          </p:nvPicPr>
          <p:blipFill>
            <a:blip r:embed="rId2"/>
            <a:stretch/>
          </p:blipFill>
          <p:spPr>
            <a:xfrm>
              <a:off x="1247760" y="278604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0"/>
            <a:ext cx="72388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ftr" idx="3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Num" idx="4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ff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087B9-620D-4A00-A981-E79C583E27B4}" type="slidenum">
              <a:rPr b="0" lang="en-US" sz="1400" spc="-1" strike="noStrike">
                <a:solidFill>
                  <a:srgbClr val="99ff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3160" y="914400"/>
            <a:ext cx="830556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4edf2"/>
                </a:solidFill>
                <a:latin typeface="Arial"/>
              </a:rPr>
              <a:t>Faculty of German Engineering and Industrial Management Education - FDIBA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800" spc="-1" strike="noStrike">
                <a:solidFill>
                  <a:srgbClr val="99ff99"/>
                </a:solidFill>
                <a:latin typeface="Arial"/>
              </a:rPr>
              <a:t>Introduction to Computer Graphics</a:t>
            </a:r>
            <a:br>
              <a:rPr sz="4800"/>
            </a:b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98d43"/>
                </a:solidFill>
                <a:latin typeface="Arial"/>
              </a:rPr>
              <a:t> Transformat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1676520" y="4571640"/>
            <a:ext cx="6400800" cy="167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soc. Prof. Stoyan Maleshkov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chnical University of Sof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357ED7-12B2-49D7-B19D-4F10E9D5EB6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omposite Transform. - Scal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09480" y="990720"/>
            <a:ext cx="8283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we scale a line between (0,0) &amp; (2,0) to twice its length, the left-hand endpoint does not mov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0,0) is known as a 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fixed point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r the basic scaling transforma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 can use 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composite transformation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o create a scale transformation with different fixed poin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971640" y="2027160"/>
            <a:ext cx="7921440" cy="2554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DF43DD-2860-4D67-BDB9-45213B42C44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omposite Transform . – Scale (2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09480" y="990720"/>
            <a:ext cx="79948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cale by 2 with 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fixed poin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= (2,1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nslate the point (2,1) to the orig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cale by 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nslate origin to point (2,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1258920" y="2924280"/>
            <a:ext cx="5184720" cy="327024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3"/>
          <a:stretch/>
        </p:blipFill>
        <p:spPr>
          <a:xfrm>
            <a:off x="6516720" y="1916280"/>
            <a:ext cx="2484360" cy="424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7A3880-9176-4426-99FE-585FE04976C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omposite Transform. - Rotat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990720"/>
            <a:ext cx="77788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otation of θ Degrees About Point (x,y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nslate (x,y) to orig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ot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nslate origin to (x,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1116000" y="3860640"/>
            <a:ext cx="7416720" cy="224172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3"/>
          <a:stretch/>
        </p:blipFill>
        <p:spPr>
          <a:xfrm>
            <a:off x="4788000" y="1557360"/>
            <a:ext cx="4356000" cy="2147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3EE9E9-1CC9-422D-8307-A7ADBE73FB5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Reflection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09120" y="990720"/>
            <a:ext cx="83552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flection about the y-axis     Reflection about the x-ax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1476360" y="1989000"/>
            <a:ext cx="2602080" cy="439272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5219640" y="2060640"/>
            <a:ext cx="2527200" cy="4321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6149DA-2E6D-4295-9D77-6141036F765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Reflections (2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09120" y="990720"/>
            <a:ext cx="83552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flection about the origin   Reflection about the line y=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1476360" y="1989000"/>
            <a:ext cx="2602080" cy="439272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5219640" y="2060640"/>
            <a:ext cx="2527200" cy="4321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82AE29-7F80-430F-8667-608F50706635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ransformation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90720"/>
            <a:ext cx="806616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neral Form of matrix 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Affine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nsformations: preserve the proportions and the parallelism of li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Eucli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ransformations: preserve the distances and the angles of lines -&gt; </a:t>
            </a: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rigid bod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ransformations: R, 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4B4D8F-DFE4-4B4B-8531-8ADCCC49C1C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ransformation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990720"/>
            <a:ext cx="79232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order of transformations is important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1187280" y="1844640"/>
            <a:ext cx="7272360" cy="345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D86271-867E-43A5-BB2C-7218903EF2A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3D Basic Transformation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1676520" y="838080"/>
            <a:ext cx="2971800" cy="20685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1676520" y="3048120"/>
            <a:ext cx="4190760" cy="164916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1676520" y="4724280"/>
            <a:ext cx="4190760" cy="1708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674852-2953-4FEB-9CC5-778C0FAC2CA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3D Basic Transformation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4952880" y="1219320"/>
            <a:ext cx="3962520" cy="209232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4952880" y="4038480"/>
            <a:ext cx="3962520" cy="191628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3"/>
          <a:stretch/>
        </p:blipFill>
        <p:spPr>
          <a:xfrm>
            <a:off x="380880" y="1219320"/>
            <a:ext cx="4191120" cy="2095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E52675-2E60-4D86-9356-C613E409561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hange the coordinate syste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480" y="9907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wo approach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nsform objects according to one coordinate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ave objects unchanged and change the coordinate system -&gt; the reference of the descrip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F734EC-9FF9-4D2C-9DAB-C59EF0D08AF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ransformation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9907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asic Transform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nsl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ca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o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mpound Transform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1A0EE0-6D7F-4D74-A6AE-82E2FBF32FF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hange the coordinate syste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09480" y="990720"/>
            <a:ext cx="38102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am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1403280" y="1628640"/>
            <a:ext cx="5113440" cy="46418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835280" y="5805360"/>
            <a:ext cx="4105080" cy="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1763280" y="2420640"/>
            <a:ext cx="71640" cy="338436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995640" y="3860640"/>
            <a:ext cx="71640" cy="73080"/>
          </a:xfrm>
          <a:prstGeom prst="ellipse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067280" y="350028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44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A9131D-7662-4AD0-8DC6-33D9B3684CD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hange the coordinate syste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09480" y="990720"/>
            <a:ext cx="38102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am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1403280" y="1628640"/>
            <a:ext cx="5113440" cy="464184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1835280" y="5805360"/>
            <a:ext cx="4105080" cy="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 flipV="1">
            <a:off x="1763280" y="2420640"/>
            <a:ext cx="71640" cy="338436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995640" y="4651200"/>
            <a:ext cx="71640" cy="73080"/>
          </a:xfrm>
          <a:prstGeom prst="ellipse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067280" y="426708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44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771640" y="5157720"/>
            <a:ext cx="3600720" cy="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 flipV="1">
            <a:off x="2700360" y="1989000"/>
            <a:ext cx="71280" cy="316872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4A30BE-BA53-4E3A-BB70-880E0AFB00E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hange the coordinate syste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09480" y="990720"/>
            <a:ext cx="38102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am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1403280" y="1628640"/>
            <a:ext cx="5113440" cy="464184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1835280" y="5805360"/>
            <a:ext cx="4105080" cy="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 flipV="1">
            <a:off x="1763280" y="2420640"/>
            <a:ext cx="71640" cy="338436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995640" y="4651200"/>
            <a:ext cx="71640" cy="73080"/>
          </a:xfrm>
          <a:prstGeom prst="ellipse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067280" y="426708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44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771640" y="5157720"/>
            <a:ext cx="3600720" cy="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H="1" flipV="1">
            <a:off x="2700360" y="1989000"/>
            <a:ext cx="71280" cy="316872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482920" y="494172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47640" y="56610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49B9F7-3FA3-4DD6-B4E7-7E51160EA29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ranslatio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990720"/>
            <a:ext cx="79232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x 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new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= x 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old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+ d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x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 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new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= y 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ol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+ d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 translate an object by translating each vertex in the objec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d 2 ve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826920" y="1341360"/>
            <a:ext cx="4104000" cy="283680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4"/>
          <a:stretch/>
        </p:blipFill>
        <p:spPr>
          <a:xfrm>
            <a:off x="3492360" y="5589720"/>
            <a:ext cx="2087640" cy="828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AD9E9E-0A20-46FC-9D16-00B55068850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cal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990720"/>
            <a:ext cx="785016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bout the 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origi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 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x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=w 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new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/w 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ol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;     s 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y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=h 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new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/h 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ol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x 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new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= s 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x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x 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ol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;        y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new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= s 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y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y 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ol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ultiply matrix by vec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5"/>
          <a:stretch/>
        </p:blipFill>
        <p:spPr>
          <a:xfrm>
            <a:off x="1116000" y="1557360"/>
            <a:ext cx="7343640" cy="27255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6"/>
          <a:stretch/>
        </p:blipFill>
        <p:spPr>
          <a:xfrm>
            <a:off x="5148360" y="5300640"/>
            <a:ext cx="2952720" cy="1143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793A93-B43D-48BD-B741-1FA854BC589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Rotatio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990720"/>
            <a:ext cx="85345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bout the 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origi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               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2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= x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co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 θ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-y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1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n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                     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2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= x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sin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θ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+ y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cos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ultiply matrix by vec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3"/>
          <a:stretch/>
        </p:blipFill>
        <p:spPr>
          <a:xfrm>
            <a:off x="1042920" y="1628640"/>
            <a:ext cx="3600360" cy="328320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4"/>
          <a:stretch/>
        </p:blipFill>
        <p:spPr>
          <a:xfrm>
            <a:off x="4932360" y="5516640"/>
            <a:ext cx="4067280" cy="77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C999FA-6FEF-44A4-9615-5B6AC0BCC75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Look for a common operatio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09480" y="9907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scribe T, S, R with operation of the same structure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ltiply matrix with vect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roduce a new artificial coordinat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mogeneous Coordina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int in 2D space --&gt; 3 Coordinat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2096B4-7CE7-4C1F-AE4B-8772DB784EE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Homogeneous Coordinate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2438280" y="1066680"/>
            <a:ext cx="2514600" cy="174960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2209680" y="3048120"/>
            <a:ext cx="4496040" cy="3120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3BA02A-71CA-48B7-8F58-22392926BFE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09480" y="-4680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ransformations in Homogeneous Coordinate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ints in homogeneous coordinat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’ = M . P, where M 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3"/>
          <a:stretch/>
        </p:blipFill>
        <p:spPr>
          <a:xfrm>
            <a:off x="990720" y="3048120"/>
            <a:ext cx="3809880" cy="151740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5029200" y="3048120"/>
            <a:ext cx="3048120" cy="155088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5"/>
          <a:stretch/>
        </p:blipFill>
        <p:spPr>
          <a:xfrm>
            <a:off x="990720" y="4724280"/>
            <a:ext cx="3809880" cy="1414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1EC91B-5F21-450D-B823-E06CA680909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omposite Transformations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09120" y="990720"/>
            <a:ext cx="81392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ample: Scale an object about a given point (not the origi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problem with the scale transformation is that it also moves the object being scal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cale a line between (2, 1) (4,1) to twice its lengt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971640" y="3500280"/>
            <a:ext cx="7921440" cy="2392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2BCD0E-77DE-4632-ACE3-2478F456C06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M</cp:lastModifiedBy>
  <dcterms:modified xsi:type="dcterms:W3CDTF">2006-10-08T15:06:43Z</dcterms:modified>
  <cp:revision>71</cp:revision>
  <dc:subject/>
  <dc:title>PowerPoint Presentation</dc:title>
</cp:coreProperties>
</file>