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B6B1-60AB-44B7-BA36-606AA7E0E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188B-41BD-40D0-ADB6-4ABE5EBAB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57C5-7B63-4471-9CBC-D1B78A21C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CBA8-8905-46B7-8B47-87620C3A9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FCC29-E28C-4C82-8F27-8CED41171E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4ECC9-BAF0-4450-BA6D-290C60CDA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0879-F51B-4663-B173-406147B43E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F3C38-1778-48D3-9E40-9DC30E22DF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8ADD-2C09-425E-960D-8CD199B35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CD3C-504C-4F1B-AB17-E60566549F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9C59E-B0A5-4162-BF77-C41D028CF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0250-9344-4536-A346-B055A49A4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AC93-AC1B-4EAB-9E3F-5D920964A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2C455-FD1D-4801-96EA-08CC37B69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F4863-52F5-4146-B488-763EDD58D9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40C52-6978-487D-8185-7B4F48EC5F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9E524-C4F8-4CCE-9A49-054328150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DC54-D50E-4E36-8267-D95D07A4B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5949-0CA4-4CAC-80F1-44B6DDD5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4D38-1E3A-4CF5-B89E-6FCD3C277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C645-DDE3-4309-A5C4-991D60261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D890-4F33-4222-8CE4-B63038BF3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C38B-BDAA-443B-A26D-E65E11D8A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1CC0-F367-4A57-972A-094B37A41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raphics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9A68-D675-42CB-936B-69E5E339AA9A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640-4BC5-408F-9D94-F37894AB212B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Graphics Syste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6BA3B-A2CF-4299-BE39-0213AADF09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erarchical (Tree) Diagram of Nai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562720" cy="3871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988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itives created in the decomposition process must be assembled to create the final object. This is done with “affine transformations”, T, R, S (as in the example abov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CEBA-6C26-4181-B686-BBFC56926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ordinate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sian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</a:t>
            </a:r>
            <a:r>
              <a:rPr b="1" lang="en-US" sz="2800" spc="-1" strike="noStrike">
                <a:solidFill>
                  <a:srgbClr val="f98d43"/>
                </a:solidFill>
                <a:latin typeface="Arial"/>
              </a:rPr>
              <a:t>mode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is floating point, </a:t>
            </a:r>
            <a:r>
              <a:rPr b="1" lang="en-US" sz="2800" spc="-1" strike="noStrike">
                <a:solidFill>
                  <a:srgbClr val="f98d43"/>
                </a:solidFill>
                <a:latin typeface="Arial"/>
              </a:rPr>
              <a:t>scre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ace i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716292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A9BC-A718-4D58-9F1C-019FD617D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3D Primi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85D9-338D-48B0-9C8D-C532854EA2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3D Primi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842E-B2B8-491F-8515-408D2D475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ual Framework fo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ve Graph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27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s library/package (e.g., OpenGL) is intermediary between application and the display hard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27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lication program maps application objects to views (images) of those objects by calling on graphics libr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27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r interaction results in modification of model and/or im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27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ages are usually means to an end: synthesis, design, manufacturing, visualization,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27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framework is 3 decades old but is still useful, indeed domin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6400800" cy="18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4E66-18CD-473A-A7C5-CFC91D2BD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7543800" cy="2492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ual Framework fo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ve Graph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651640" y="3141720"/>
            <a:ext cx="1272960" cy="102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028000" y="3429000"/>
            <a:ext cx="868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870C-EB34-4870-BDC5-F1BCA7216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ve Graphics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440" y="1447920"/>
            <a:ext cx="8737560" cy="49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3280-F16B-4448-99CF-14DF9D7BEB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ve Graphics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Model – Geometr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s and manipulates the Geometr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rsal f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82920" y="3500280"/>
            <a:ext cx="4861080" cy="2768760"/>
          </a:xfrm>
          <a:prstGeom prst="rect">
            <a:avLst/>
          </a:prstGeom>
          <a:ln w="0">
            <a:noFill/>
          </a:ln>
        </p:spPr>
      </p:pic>
      <p:sp>
        <p:nvSpPr>
          <p:cNvPr id="187" name="PPPen1"/>
          <p:cNvSpPr/>
          <p:nvPr/>
        </p:nvSpPr>
        <p:spPr>
          <a:xfrm>
            <a:off x="5491080" y="484812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5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EAAA-F21C-4B24-BB18-41CF75DEC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ve Graphics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System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619272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C056-3149-4874-A17E-DBE0F4A83A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Libr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ic Fea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 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 properties for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quiries (about state, current attributes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BA24-9D66-4A67-A4C3-D1D1E79F43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 of Computer Graph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Geometric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28191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3B3D-E124-4291-9B72-A826EA095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Library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mode vs. retain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 mode: no stored representation, package holds only attribute state, and application must completely draw each fr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ned mode: library compiles and displays from a “scene graph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40F9-06B6-4414-A1ED-0C4880BF01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ometric Model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Mod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ic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data, describ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metry (Type and spatial location of basic elements – Primiti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ology =&gt; Structure (Links between ele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Information (attrib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6B77-6753-415A-AD32-2A401310D1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Geometric Model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frame (Line)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F294-8053-4DF3-A4CE-8D240F6F8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Geometric Model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mu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6B88-9EEC-4B7E-940E-C143A23ED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Geometric Model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8d43"/>
                </a:solidFill>
                <a:latin typeface="Arial"/>
              </a:rPr>
              <a:t>C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5327640" cy="46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96E8-9580-4014-99E5-5947309F9A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Geometric Model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8d43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4825800" cy="438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2349360"/>
            <a:ext cx="2808360" cy="2664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AE95-B220-49EC-9FE9-B24F9F2554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59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ition of a Geometric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vide and Conqu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erarchy of geometrical compon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duction to primitives (e.g., spheres, cubes,et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e vs. not-so-simple elements (nail vs. screw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362320" y="3733920"/>
            <a:ext cx="624816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C731-40A7-4152-8A09-ED86E50F5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erarchical (Tree) Diagram of Nai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76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bject to be modeled is (visually) analyzed, and then decomposed into collections of primitive shap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76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tree diagram provides a visual method of expressing the “composed of” relationships of the mode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76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ch diagrams are sometimes part of 3D program interfaces (e.g., Alias|Wavefront Studio and May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733920" y="4449600"/>
            <a:ext cx="373356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E664-EC79-4194-A2EF-51C8FEF93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_NOVO</cp:lastModifiedBy>
  <dcterms:modified xsi:type="dcterms:W3CDTF">2009-10-19T05:03:10Z</dcterms:modified>
  <cp:revision>67</cp:revision>
  <dc:subject/>
  <dc:title>PowerPoint Presentation</dc:title>
</cp:coreProperties>
</file>