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1DA0B-4903-442B-B855-48022CCDB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09480" y="381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256DF-F445-4E50-B005-F0A492499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9216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3DB35-566B-4AED-9E05-76852153D6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748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6512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0948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748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6512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079C5-96AC-4138-B1DC-A82E5A2E9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CACC8-52CB-40B6-963A-45854B1074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43C42-385B-479F-B019-D85A36C4BC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F576F-8C64-4041-962B-8479A2D2BC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551AD-DEAD-4672-AC16-A81053D535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F7456-2333-44B7-BE69-51C7E44E60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AFBE9-8D1A-412E-80C9-ADB7D380BE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6A002-B80A-4975-8AA0-618AFBD453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BBEBC-C527-4C2B-9A7C-7BDF2B48BA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9216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B660C-5DE7-447D-B8AC-2503F02E3A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CF9B9-DD02-41AF-AFB4-A9BC0AB00F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09480" y="381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649BD-708D-42FE-B708-AD26E6B552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9216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AE85F-97B3-4DBB-A064-1ED14BB601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748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86512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0948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748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86512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CFE1C-C184-4A60-A6F2-88F53D1B8B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660C5-B499-4DCF-82FB-02FE2FB00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9E910-F415-4ED2-827F-063F82353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B8CAD-F15F-4881-8DF6-F47E8309D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AA589-869D-4D90-90D5-5EFE335FF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3E23D-2722-46F9-99B3-F76CAD542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9216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8C1AD-84C8-456C-9E5F-3AD97821C6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3E21E-26C7-4AC1-929D-65BE20D08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621800" y="0"/>
            <a:ext cx="10765800" cy="7736760"/>
            <a:chOff x="-1621800" y="0"/>
            <a:chExt cx="10765800" cy="7736760"/>
          </a:xfrm>
        </p:grpSpPr>
        <p:sp>
          <p:nvSpPr>
            <p:cNvPr id="1" name=""/>
            <p:cNvSpPr/>
            <p:nvPr/>
          </p:nvSpPr>
          <p:spPr>
            <a:xfrm>
              <a:off x="2590920" y="6480"/>
              <a:ext cx="2757240" cy="717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40"/>
              <a:ext cx="2757600" cy="7168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920"/>
              <a:ext cx="2760840" cy="7169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71600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75680"/>
              <a:ext cx="5562720" cy="2543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198080" y="1317600"/>
              <a:ext cx="4212720" cy="160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6120"/>
              <a:ext cx="5562720" cy="2543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681920" y="1790640"/>
              <a:ext cx="58021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480" y="1526400"/>
              <a:ext cx="5705640" cy="2872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446480"/>
              <a:ext cx="5562360" cy="2543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3240"/>
              <a:ext cx="1729080" cy="378324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89360"/>
              <a:ext cx="9144000" cy="71532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565680"/>
              <a:ext cx="2757240" cy="632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565680"/>
              <a:ext cx="2757600" cy="6307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565680"/>
              <a:ext cx="2760840" cy="6321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565680"/>
              <a:ext cx="3301920" cy="6307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481080"/>
              <a:ext cx="9144000" cy="71532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502320"/>
              <a:ext cx="1644840" cy="6951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22720" y="6465600"/>
              <a:ext cx="175536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179720" y="6465600"/>
              <a:ext cx="175536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12960" y="6413760"/>
              <a:ext cx="171216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488640"/>
              <a:ext cx="5638680" cy="715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488640"/>
              <a:ext cx="2438640" cy="715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568200"/>
              <a:ext cx="2114640" cy="6339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488640"/>
              <a:ext cx="2438640" cy="715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488640"/>
              <a:ext cx="3657600" cy="715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524280"/>
              <a:ext cx="9144000" cy="2268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ftr" idx="1"/>
          </p:nvPr>
        </p:nvSpPr>
        <p:spPr>
          <a:xfrm>
            <a:off x="609120" y="64987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99ff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Introduction to CG</a:t>
            </a:r>
            <a:r>
              <a:rPr b="1" lang="bg-BG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ff9900"/>
                </a:solidFill>
                <a:latin typeface="Arial"/>
              </a:rPr>
              <a:t>The Wirefreame Pipe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7848360" y="6497280"/>
            <a:ext cx="1066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8DF3-60F9-472E-9895-1A5234E37BB6}" type="slidenum">
              <a:rPr b="0" lang="en-US" sz="1400" spc="-1" strike="noStrike">
                <a:solidFill>
                  <a:srgbClr val="99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-1542240" y="141120"/>
            <a:ext cx="10697400" cy="6896160"/>
            <a:chOff x="-1542240" y="141120"/>
            <a:chExt cx="10697400" cy="6896160"/>
          </a:xfrm>
        </p:grpSpPr>
        <p:sp>
          <p:nvSpPr>
            <p:cNvPr id="69" name=""/>
            <p:cNvSpPr/>
            <p:nvPr/>
          </p:nvSpPr>
          <p:spPr>
            <a:xfrm>
              <a:off x="2590920" y="15876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15552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43600" y="16020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8120" y="15228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5760" y="320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2703000">
              <a:off x="1285920" y="138240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1760" y="24444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8703800">
              <a:off x="-1562400" y="1819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9294800">
              <a:off x="2112840" y="161568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2085000">
              <a:off x="2950920" y="153936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46760" y="15552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404172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90920" y="411480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411480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43600" y="411480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8120" y="411480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160" y="406548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00400" y="405432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2358720" y="400356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1215720" y="400356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47160" y="395352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913680" y="404100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380520" y="40410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4819680" y="411732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6324480" y="40410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5486400" y="404100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07520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473868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557676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247760" y="278604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4D11-DBA3-4EB2-8A3A-B19A0D438B74}" type="slidenum">
              <a:rPr b="0" lang="en-US" sz="1400" spc="-1" strike="noStrike">
                <a:solidFill>
                  <a:srgbClr val="99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3055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edf2"/>
                </a:solidFill>
                <a:latin typeface="Arial"/>
              </a:rPr>
              <a:t>Faculty of German Engineering and Industrial Management Education - FDIB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800" spc="-1" strike="noStrike">
                <a:solidFill>
                  <a:srgbClr val="99ff99"/>
                </a:solidFill>
                <a:latin typeface="Arial"/>
              </a:rPr>
              <a:t>Introduction to Computer Graphics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98d43"/>
                </a:solidFill>
                <a:latin typeface="Arial"/>
              </a:rPr>
              <a:t> The Wireframe Pipelin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oc. Prof. Stoyan Maleshk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hnical University of Sof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CF68C-E6F0-446C-B2A8-4571DC8FEC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rmalized Space Trans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6697800" cy="509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7FFFF-E923-4059-AA08-11E6A2F276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ssing Lin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283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Trans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D Viewing Trans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D Cli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 to Viewport Trans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214200" y="4076640"/>
            <a:ext cx="8929800" cy="132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4FCB6-DAE4-440E-8B0B-1E96E31DA4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del Trans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484360" y="907920"/>
            <a:ext cx="3530520" cy="541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654C7-3E33-478B-8497-89773DB16D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D Viewing Trans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547640" y="836640"/>
            <a:ext cx="3888000" cy="2724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547640" y="3727440"/>
            <a:ext cx="3888000" cy="265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F8621-7EE8-4F56-B210-C9290A708A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D Pipeli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1251000"/>
            <a:ext cx="8640720" cy="354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435D1-9361-4F8D-B43C-71E88E094A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D Clipp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Z cli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Projection X-Y Cli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74242-FA7D-4A8F-921F-E1BD7DDCFB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D Clipp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086600" cy="49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38961-3793-4A1A-9916-A87B8C22D7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D Clipp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086600" cy="4932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V="1">
            <a:off x="5364000" y="4005360"/>
            <a:ext cx="648000" cy="5760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4A86C-4310-46C7-9BB4-5A1E762D2E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-468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indow to Viewport Trans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066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ld Coordinat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ice Coordinat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 to Viewport Trans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1042920" y="3500280"/>
            <a:ext cx="7632720" cy="292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29AAD-B381-496B-ACC3-5985636877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M</cp:lastModifiedBy>
  <dcterms:modified xsi:type="dcterms:W3CDTF">2006-10-08T15:11:18Z</dcterms:modified>
  <cp:revision>76</cp:revision>
  <dc:subject/>
  <dc:title>PowerPoint Presentation</dc:title>
</cp:coreProperties>
</file>