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3.png" ContentType="image/png"/>
  <Override PartName="/ppt/media/image27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2.png" ContentType="image/png"/>
  <Override PartName="/ppt/media/image32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33A7-5D7E-42F9-8F94-65B89FE2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7E1A-810A-44ED-96B7-84746CCD5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0A87-A56B-4F84-8D20-51A3C8662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D0C6-6547-4063-980F-A3EFFD4F9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DD473-4E73-45B1-99FF-16209F967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18456-ADB3-419A-BD6D-95E9F3620A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36AF8-3772-4182-8CEF-2F30B90AB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4A99A-AA3C-4A25-A079-6E3D9E0DD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D9B94-D28C-4FB0-AE41-4ACE59729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E8F09-2AB0-45EB-ABC7-3394D86C84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5E7F4-CFC5-4DB6-A0AE-6357A6086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A585-EBDB-4E64-B878-E2820F1B6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A960-3673-4E32-841B-C3175EBB55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D71D-7214-4F8F-9172-4AFA7B2D01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9BE2-6DE1-40A5-9C9C-D403868D57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FAB51-F680-47ED-8215-BAD8786907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48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5120" y="99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09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48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5120" y="381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053B8-1926-4B42-91FA-5484040BC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F045-F217-4F0F-8465-502F16BDF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492B-469C-489B-BE93-C01A035DF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7237-2D90-41C5-A417-D66D92EFB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023B-5782-4411-971B-C91BC0C2F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B76D-191E-40F1-AD9B-8BC55CB2B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92160" y="381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4A16-9783-4724-BA1E-59974FA6F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2160" y="99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1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0A7A-C2BF-4264-BB29-3827F1088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21800" y="0"/>
            <a:ext cx="10765800" cy="7736760"/>
            <a:chOff x="-1621800" y="0"/>
            <a:chExt cx="10765800" cy="773676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717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7168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7169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7160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7568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198080" y="1317600"/>
              <a:ext cx="4212720" cy="160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6120"/>
              <a:ext cx="5562720" cy="2543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681920" y="1790640"/>
              <a:ext cx="58021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480" y="1526400"/>
              <a:ext cx="5705640" cy="2872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446480"/>
              <a:ext cx="5562360" cy="2543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78324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89360"/>
              <a:ext cx="9144000" cy="715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565680"/>
              <a:ext cx="2757240" cy="632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565680"/>
              <a:ext cx="2757600" cy="630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565680"/>
              <a:ext cx="2760840" cy="6321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565680"/>
              <a:ext cx="3301920" cy="6307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481080"/>
              <a:ext cx="9144000" cy="71532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502320"/>
              <a:ext cx="1644840" cy="6951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22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179720" y="6465600"/>
              <a:ext cx="175536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2960" y="6413760"/>
              <a:ext cx="171216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488640"/>
              <a:ext cx="563868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568200"/>
              <a:ext cx="2114640" cy="633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488640"/>
              <a:ext cx="243864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488640"/>
              <a:ext cx="3657600" cy="715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4280"/>
              <a:ext cx="9144000" cy="226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609120" y="6498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Introduction to CG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raphics 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7848360" y="6497280"/>
            <a:ext cx="106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20C3-94F7-432A-A847-849F4F09BC0D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141120"/>
            <a:ext cx="10697400" cy="6896160"/>
            <a:chOff x="-1542240" y="14112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15876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5552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6020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15228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320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38240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24444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819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61568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53936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15552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0417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1148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148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41148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41148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406548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40543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40035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953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40410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41173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40410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40410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0752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73868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57676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78604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B3C-3DF8-40D7-863A-0C111D566C55}" type="slidenum">
              <a:rPr b="0" lang="en-US" sz="1400" spc="-1" strike="noStrike">
                <a:solidFill>
                  <a:srgbClr val="99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edf2"/>
                </a:solidFill>
                <a:latin typeface="Arial"/>
              </a:rPr>
              <a:t>Faculty of German Engineering and Industrial Management Education - FDIB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800" spc="-1" strike="noStrike">
                <a:solidFill>
                  <a:srgbClr val="99ff99"/>
                </a:solidFill>
                <a:latin typeface="Arial"/>
              </a:rPr>
              <a:t>Introduction to Computer Graphic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98d43"/>
                </a:solidFill>
                <a:latin typeface="Arial"/>
              </a:rPr>
              <a:t>Graphics Devis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. Prof. Stoyan Malesh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University of So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0A14F-D6E8-4247-BFE6-69F8E0DD61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Image is gen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7304040" cy="36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9469-EFC5-4E7C-84DF-2C8BF11C3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cto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cture of Vector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275440" cy="493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5732-CA4A-4028-A97C-A6C56C54F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cture of Raster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30960" cy="482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2A66-6B61-4C2A-84B3-9837201A26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bu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chrome Display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e Buffer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М 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2485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E495-78AF-4072-8A2F-099BB11F42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81480"/>
            <a:ext cx="3200400" cy="30492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rma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Digital to Analog Converter – controls the intensity of the electron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6360" y="2165400"/>
            <a:ext cx="79898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881E-5966-4E9E-8BF2-A1F7972CE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CR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re complica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electron gu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bright than monochrome C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represent Color in Graphics System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105E-A27E-4C02-A330-6C0651B379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ments of Col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851800" cy="43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971A-0191-4BBD-BEB0-B29892AF48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sible Spect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erceive electromagnetic energy having wavelengths in the range 400-700 nm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isible light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76520" y="2438280"/>
            <a:ext cx="6705360" cy="40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D23B-7135-4757-89B9-58807BFD20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describe Color – Color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ve Color Model: adding 3 primary col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 for emitting light sources 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pos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opular -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ce157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A050-501B-4C75-B89A-D1638BA617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odel -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ce157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213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1B9B-7813-4B33-A45E-75AC8C030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and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o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ous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2FB8-8C76-4455-BA12-385893CBC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odel -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ce157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789440" cy="481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08DB-85EE-411E-8C12-51E6FE1D5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i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800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BC6E-98D4-4A89-A929-674AB4479E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a Electron Gun Arrangeme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4251600" cy="3714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DEB8-83C2-4CF5-B185-3AC553FADC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line Electron Gun Arran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4572000" cy="3490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514600" cy="227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B428-40F8-46A7-8C2E-FF2F4A25D1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screen-sized memory arr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spatial sampling (pixel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re patterns result when shadow-mask and dot-pitch frequencies are mismatch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(varying angles of approach distance of e-beam across CRT fa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on practical size (&lt; 40 inch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ious X-ray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ies a large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97180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7E8C-41B6-4E1D-A4F0-19CD40B6E7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solids to be display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ages low-cost CRT H/W (TV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Screen is constantly upd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ht light-emitting display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1E63-636D-409D-895A-197F9A4E65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Displa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 Buffer – organized in Bit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lane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М 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6207120" cy="2800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1873440" cy="1835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6084360" y="765000"/>
            <a:ext cx="1366920" cy="14400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51640" y="54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AA3C-D5B1-46CE-9CA4-2DF2DD15BE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50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Display– Video Lookup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c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primary color is represented with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8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* 8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= 2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/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6266160" cy="361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1455480" cy="1425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468360" y="3429000"/>
            <a:ext cx="431640" cy="15127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4869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CB75-B193-453C-984A-4F109680D2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3429000"/>
            <a:ext cx="7189920" cy="2503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1455840" cy="1425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94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 the Col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 Lookup Table: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* 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= 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 buffer 8 Bit plane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=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56 Color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8360" y="4363560"/>
            <a:ext cx="503280" cy="151308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5734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2843-FBC6-4B99-862F-73D255D13A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 the Col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 Lookup Table: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* 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= 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 buffer 8 Bit plane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=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56 Color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6492600" cy="24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7C02-C76A-40EE-A15F-6C156F58E8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 Hardw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 Fea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re’s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/performance improves 2x every 18 months due to doubling of number of transis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xponential in technology except for growth of W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3200400" cy="30456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rma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M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6 - 512 MB,  CPU: Pentium , AMD: 12000 – 3200 MHz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DD: 20 -200 GB, Display: 1600/1200/true co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FDE4-C63A-4827-9616-E35E04F1E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ste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 the Col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 Lookup Table: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* 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= 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 buffer 8 Bit plane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=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56 Color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8229600" cy="28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FEDB-0B90-4A07-A1AF-BF18CBF118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and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o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ous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8E22-D6C0-4903-8008-3E95E429EE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y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g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nn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D,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A3D7-D03D-4130-990A-30E1A41F13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71500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CE53-2F02-49B0-9F88-906C1B22E6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-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71500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C14D-AB57-47E8-8AB1-700689EA1A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G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5715000" cy="37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2C13-F75C-4A2B-8781-68A9C469E1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715000" cy="450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EF21-F695-4D31-8288-2BD2308F1E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nn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571500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EACB-F30B-431B-9AF3-011F194A98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CFF2-8205-493F-9FEE-11DD50E345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or, to indicate a position and/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(select), to select a displayed 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tor, to input a single value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of real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board, to input a character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, to select from a set of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s or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5BD4-A4A0-4105-8B01-E7FDFE449D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play Techn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80920" y="9907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ode Ray Tubes (C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display device to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cuated glass bott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ast remaining vacuum tub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ing element (fila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ttracted to focusing anode cylin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and Horizontal deflection pl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am strikes phosphor coating on front of tu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92360" cy="389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279F-11E8-4B30-B20D-C92355B689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Logical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or Devices: Tablet, Mouse, Trackba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ystick, Touch Panel, Light 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board devices: Alphanumeric 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ded - get single ASCII charact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ncoded - get state of all keys -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tor Devices: Rotary dials (Bounded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bounded), Linear sl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 Devices: Function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4003-DAC2-4763-8868-39D997A17F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0BC9-B989-4B00-850A-ACB3C7ADEC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nt Mo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 initial disp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repeat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able selection of commands and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gram pauses and waits until user a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a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ser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selection to process comm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date model and screen as 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unt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it ( User has selected the quit comma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445A-76D5-423C-BD02-1E79D5175D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play – Basic princi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ode Ray Tub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70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8743-E631-4670-94AC-0DBF336EDA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play Techn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347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when the beam moves to another point of the display surf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4752720" cy="4314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8000" y="6021360"/>
            <a:ext cx="352764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3068640"/>
            <a:ext cx="0" cy="29527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995F-6D1B-4F8B-9D57-7E6EA7E9D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play Techn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y list had to be constantly updated (except for storage tub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esh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1643-7FD3-4179-9CFA-78BC98821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aphics De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of Display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540160" cy="2451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72000" y="3711600"/>
            <a:ext cx="309708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8767-F270-4201-A79A-88634D8F6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ctor Dis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Image is gen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1438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624F-9CF5-47A7-8334-41723536E1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</cp:lastModifiedBy>
  <dcterms:modified xsi:type="dcterms:W3CDTF">2006-10-08T15:03:01Z</dcterms:modified>
  <cp:revision>66</cp:revision>
  <dc:subject/>
  <dc:title>PowerPoint Presentation</dc:title>
</cp:coreProperties>
</file>